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5B25-631E-4D07-873A-8FD96F95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A00-82A7-4F71-BEB6-2D2C739E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CD3-8D5F-48C3-B203-6F3A1D9C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6BF-0FE3-4BF8-AA20-18593DC3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A9E-ABAA-45D0-ACF4-52ED4824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7C19-4FF4-48EC-9E9D-300CB7F0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720-9AFB-4B14-B4E1-BFD4D710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45DE-A7CE-4FE6-AFCF-D1525233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F586-840A-4177-A437-5E8000BD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32B-1497-4A27-8F36-5375A2F8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AA5E-68E4-4608-8430-09962175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9D7-555A-4F2F-882F-A8617ECA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EEBC-F0A9-4688-BFC6-181C31D8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C05D-BD2C-42C2-AE3F-3C7E819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FF0B-11E0-4ECB-A030-9C1899F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C157-E07A-4EB6-A117-2624A13B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333C-C91B-4304-B2BE-B49D7291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840-00AC-438B-B1C9-F3BAD2CB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36D-2193-446D-B8F6-BC802BEB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1FC3-A7EF-43FF-8A38-E24814D2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933-5332-4D0A-8EF8-540294D7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97E-699B-4D38-A8A8-3DCBCDF0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41B-7EE4-4D40-8CB4-223C789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4C9-166A-4F03-8A89-B8B8F03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42B-9319-43C0-B14F-BD7476A397CA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156-5C82-4403-B27E-5505BED499B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1D4F-DAD7-4211-8D03-1D4C706DEDE1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8A3A-EDB7-4DA4-87D8-6E0AFBD92C1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2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541440" y="62028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"/>
              </a:rPr>
              <a:t>第三章    圆 </a:t>
            </a:r>
            <a:br>
              <a:rPr sz="40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 第二节  圆的对称性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</a:t>
            </a: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)</a:t>
            </a:r>
            <a:br>
              <a:rPr sz="6600"/>
            </a:b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5280" y="4869000"/>
            <a:ext cx="5403960" cy="1398600"/>
            <a:chOff x="395280" y="4869000"/>
            <a:chExt cx="5403960" cy="139860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95280" y="5278680"/>
              <a:ext cx="156852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65520" y="4869000"/>
              <a:ext cx="1881360" cy="13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V="1">
              <a:off x="689040" y="6242400"/>
              <a:ext cx="5110200" cy="252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5280" y="3002040"/>
            <a:ext cx="388620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139860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300720" y="3429000"/>
            <a:ext cx="19814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20" name="" descr=""/>
            <p:cNvPicPr/>
            <p:nvPr/>
          </p:nvPicPr>
          <p:blipFill>
            <a:blip r:embed="rId6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935824D-A1E1-4FA5-BEC5-B5E22C14611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10920" y="1915920"/>
            <a:ext cx="756108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练一练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完成课本随堂练习第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题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772DA-8F02-4BB8-96E9-575AAAB7623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Ⅲ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课时小结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205000"/>
            <a:ext cx="7848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本节课我们探索了圆的对称性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利用圆的轴对称性研究了垂径定理及其逆定理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．垂径定理和勾股定理相结合，构造直角三角形，可解决弦长、半径、弦心距等计算问题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6090D-E574-4BFC-85FC-24297018084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Ⅳ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课后作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68480" y="388620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26920" y="2276640"/>
            <a:ext cx="61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课本习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试一试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习课本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9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7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367080" y="4205160"/>
            <a:ext cx="3581280" cy="210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-BY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880DC-C9FC-4DE1-95AE-9CDF70AA03B8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05920" y="545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1844640"/>
            <a:ext cx="6769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问题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面我们已探讨过轴对称图形，哪位同学能叙述一下轴对称图形的定义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们是用什么方法研究轴对称图形的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49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．创设问题情境，引入新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48000" y="4365720"/>
            <a:ext cx="198108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63E25-F46D-462B-ADEF-54D585BBAD8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305920" y="545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Ⅱ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．讲授新课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圆是轴对称图形吗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果是，它的对称轴是什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找到多少条对称轴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讨论：你是用什么方法解决上述问题的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5157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归纳：圆是轴对称图形，其对称轴是任意一条过圆心的直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8360" y="1700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（一）想一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016BA-CAE5-4A85-93C2-B7F0F28771F1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（二）认识弧、弦、直径这些与圆有关的概念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516720" y="476280"/>
            <a:ext cx="2626920" cy="1049400"/>
            <a:chOff x="6516720" y="476280"/>
            <a:chExt cx="2626920" cy="104940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6516720" y="47628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025040" y="893880"/>
              <a:ext cx="1440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2305080" cy="18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321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弦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797360"/>
            <a:ext cx="52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直径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．圆弧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2565360"/>
            <a:ext cx="576360" cy="14436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637000"/>
            <a:ext cx="431640" cy="142560"/>
          </a:xfrm>
          <a:custGeom>
            <a:avLst/>
            <a:gdLst/>
            <a:ahLst/>
            <a:rect l="l" t="t" r="r" b="b"/>
            <a:pathLst>
              <a:path w="363" h="91">
                <a:moveTo>
                  <a:pt x="0" y="91"/>
                </a:moveTo>
                <a:cubicBezTo>
                  <a:pt x="60" y="45"/>
                  <a:pt x="121" y="0"/>
                  <a:pt x="181" y="0"/>
                </a:cubicBezTo>
                <a:cubicBezTo>
                  <a:pt x="241" y="0"/>
                  <a:pt x="348" y="76"/>
                  <a:pt x="363" y="91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263700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 AB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劣弧）、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CD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优弧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3933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弦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弦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5445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图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直径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17478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圆上任意两点间的部分叫做圆弧，简称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31878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连接圆上任意两点的线段叫做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3640" y="477216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经过圆心的弦叫直径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880240" y="269244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F9919-B845-4E01-BB95-CED34D3DC3A1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2,-22,-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（三）探索垂径定理</a:t>
            </a: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在一张纸上任意画一个⊙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沿圆周将圆剪下，把这个圆对折，使圆的两半部分重合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得到一条折痕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在⊙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上任取一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过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折痕 的垂线，得到新的折痕，其中，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两条折痕的交点，即垂足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．将纸打开，新的折痕与圆交于另一点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如图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397400"/>
            <a:ext cx="669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问题：（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右图是轴对称图形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　　　　　　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如果是，其对称轴是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）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你能发现图中有哪些等量关系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</a:rPr>
              <a:t>                      </a:t>
            </a:r>
            <a:r>
              <a:rPr b="1" lang="zh-CN" sz="2400" spc="-1" strike="noStrike" u="sng">
                <a:solidFill>
                  <a:srgbClr val="ffcc00"/>
                </a:solidFill>
                <a:uFillTx/>
                <a:latin typeface="Arial"/>
              </a:rPr>
              <a:t>说一说你的理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784920" y="4076640"/>
            <a:ext cx="2247840" cy="252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00000" y="155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做一做：按下面的步骤做一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A6A0B-C8AB-4AAC-AAF4-5C9E0CDE120C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3715920"/>
            <a:ext cx="7632720" cy="20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推理格式：如图所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⊥A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直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=BM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=B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=B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844640"/>
            <a:ext cx="6553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总结得出</a:t>
            </a:r>
            <a:r>
              <a:rPr b="1" lang="zh-CN" sz="3200" spc="-1" strike="noStrike" u="sng">
                <a:solidFill>
                  <a:srgbClr val="a73737"/>
                </a:solidFill>
                <a:uFillTx/>
                <a:latin typeface="Arial"/>
                <a:ea typeface="楷体_GB2312"/>
              </a:rPr>
              <a:t>垂径定理</a:t>
            </a: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</a:rPr>
              <a:t>　　垂直于弦的直径平分这条弦，并且平分弦所对的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84328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44434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784920" y="4076640"/>
            <a:ext cx="2247840" cy="25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D9048-DF89-4209-9624-92917B48FB6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6516720" cy="31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右图所示，一条公路的转弯处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段圆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即图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圆心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=600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上一点，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E⊥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垂足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=90 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求这段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路的半径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4653000"/>
            <a:ext cx="849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分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要求弯路的半径，连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只要求出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长便可以了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因为已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E⊥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所以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300 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OE-EF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此时得到了一个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Rt△CFO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利用勾股定理便可列出方程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04640"/>
            <a:ext cx="49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隶书"/>
              </a:rPr>
              <a:t>（四）讲例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659640" y="1628640"/>
            <a:ext cx="230508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00360" y="213372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84720" y="2133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924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⌒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8D362-D116-408C-9941-80C252AC46E6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6783480" cy="195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练一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完成课本随堂练习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题．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52578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F1AFD-E753-452B-8C61-E7B7E993797E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Arial"/>
                <a:ea typeface="华文隶书"/>
              </a:rPr>
              <a:t>（五）探索垂径定理的逆定理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想一想：如下图示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是直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作一条平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直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于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同学们利用圆纸片动手做一做，然后回答：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此图是轴对称图形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是，其对称轴是什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你能发现图中有哪些等量关系？说一说你的理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516720" y="76320"/>
            <a:ext cx="2626920" cy="1049400"/>
            <a:chOff x="6516720" y="76320"/>
            <a:chExt cx="2626920" cy="104940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6516720" y="76320"/>
              <a:ext cx="2626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7025040" y="4939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877080" y="4437000"/>
            <a:ext cx="208764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971640" y="3860640"/>
            <a:ext cx="7921440" cy="2377800"/>
            <a:chOff x="971640" y="3860640"/>
            <a:chExt cx="7921440" cy="2377800"/>
          </a:xfrm>
        </p:grpSpPr>
        <p:sp>
          <p:nvSpPr>
            <p:cNvPr id="196" name=""/>
            <p:cNvSpPr/>
            <p:nvPr/>
          </p:nvSpPr>
          <p:spPr>
            <a:xfrm>
              <a:off x="971640" y="3860640"/>
              <a:ext cx="79214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总结得出垂径定理的逆定理：平分弦（不是直径）的直径垂直于弦，并且平分弦所对的弧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推理格式：如图所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M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＝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为⊙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的直径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 ∴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D⊥AB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于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D=BD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C=B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944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6580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95640" y="5524560"/>
              <a:ext cx="93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19640" y="5595840"/>
              <a:ext cx="93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ahoma"/>
                </a:rPr>
                <a:t>⌒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8119C-785A-40B0-AA7B-8304544EA0D1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1:59:04Z</dcterms:created>
  <dc:creator>start</dc:creator>
  <dc:description/>
  <dc:language>en-US</dc:language>
  <cp:lastModifiedBy>User</cp:lastModifiedBy>
  <dcterms:modified xsi:type="dcterms:W3CDTF">2014-02-18T02:48:04Z</dcterms:modified>
  <cp:revision>103</cp:revision>
  <dc:subject/>
  <dc:title>此处是标题</dc:title>
</cp:coreProperties>
</file>