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F92-A39E-41C9-A63D-1048C22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88D-B260-4C9F-A54C-2AF740C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403-BC41-44A0-8A59-CC2C344C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00F-5032-409F-8F8F-47B515A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6F09-1778-49C6-8DB0-7FD0CFEB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EC0-43F6-4549-BD54-CCE37495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928-BF7A-450B-BBBC-10DB0970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90F-8AA4-43AF-A704-6C82C3F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F69-0188-4F8C-A004-F6DF0E44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D521-3F66-4F8D-B989-021BE10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9A2B-4528-4869-B1A1-307618E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5DE-5330-4757-B3D8-4197225B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7D46-A73F-41CA-8362-3A302B6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28B-F85C-4F58-86B0-8C77D67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D3C3-46E4-4529-BF21-436270B9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1124-6456-4E9A-9A10-DC1CEA88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7380-7A36-4243-A107-8DB2D54B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643-D44A-452E-B2C1-387B048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62C-CBC7-46C6-8CDA-BE961E4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4DD-15C2-469A-A4EC-91927A22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827-16B8-41D7-98F7-5CD3513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644-A70C-451E-BBB0-1D00BF0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07B-C2FB-479D-90E6-4F2062C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BD5-961C-4A83-A9C3-5D13D85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59F-4659-42E0-B801-841704AA5E4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4E6-EA88-4B32-BDD2-1928029B9D6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76360" y="3789360"/>
            <a:ext cx="6324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节   圆的对称性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二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81080" y="18288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章   圆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，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两条弦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⊥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F⊥CD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足分别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605560" y="609480"/>
            <a:ext cx="2732760" cy="2438640"/>
            <a:chOff x="5605560" y="609480"/>
            <a:chExt cx="2732760" cy="2438640"/>
          </a:xfrm>
        </p:grpSpPr>
        <p:grpSp>
          <p:nvGrpSpPr>
            <p:cNvPr id="179" name=""/>
            <p:cNvGrpSpPr/>
            <p:nvPr/>
          </p:nvGrpSpPr>
          <p:grpSpPr>
            <a:xfrm>
              <a:off x="5994360" y="888840"/>
              <a:ext cx="2158920" cy="2159280"/>
              <a:chOff x="5994360" y="888840"/>
              <a:chExt cx="2158920" cy="21592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5994360" y="888840"/>
                <a:ext cx="2158920" cy="2159280"/>
                <a:chOff x="5994360" y="888840"/>
                <a:chExt cx="2158920" cy="215928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5994360" y="888840"/>
                  <a:ext cx="2158920" cy="2159280"/>
                  <a:chOff x="5994360" y="888840"/>
                  <a:chExt cx="2158920" cy="2159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994360" y="888840"/>
                    <a:ext cx="2158920" cy="2159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074000" y="1891080"/>
                    <a:ext cx="48600" cy="489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flipV="1">
                  <a:off x="7074000" y="1271520"/>
                  <a:ext cx="834120" cy="646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74000" y="1918440"/>
                  <a:ext cx="883080" cy="671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908120" y="1271520"/>
                  <a:ext cx="48960" cy="1318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6435720" y="1101240"/>
                  <a:ext cx="637920" cy="816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6043320" y="1101240"/>
                  <a:ext cx="392400" cy="1190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043320" y="1917720"/>
                  <a:ext cx="1030320" cy="374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7074000" y="1909080"/>
                  <a:ext cx="834120" cy="8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88480" y="1611720"/>
                  <a:ext cx="785160" cy="3060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257160" y="1664640"/>
                <a:ext cx="105120" cy="91080"/>
                <a:chOff x="6257160" y="1664640"/>
                <a:chExt cx="105120" cy="91080"/>
              </a:xfrm>
            </p:grpSpPr>
            <p:sp>
              <p:nvSpPr>
                <p:cNvPr id="193" name=""/>
                <p:cNvSpPr/>
                <p:nvPr/>
              </p:nvSpPr>
              <p:spPr>
                <a:xfrm flipH="1">
                  <a:off x="6327360" y="1664640"/>
                  <a:ext cx="34920" cy="91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6257160" y="1732680"/>
                  <a:ext cx="70200" cy="22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784640" y="1915920"/>
                <a:ext cx="105120" cy="114120"/>
                <a:chOff x="7784640" y="1915920"/>
                <a:chExt cx="105120" cy="114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784640" y="1915920"/>
                  <a:ext cx="0" cy="97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84640" y="2030040"/>
                  <a:ext cx="105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898400" y="762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9160" y="6094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0080" y="1600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05560" y="20574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32800" y="129528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8960" y="190512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1200" y="243828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9480" y="3429000"/>
            <a:ext cx="731520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OB=∠CO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那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大小有什么关系？为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876920"/>
            <a:ext cx="71024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=O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那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大小有什么关系？为什么？ ∠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∠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O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练一练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3152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完成课本随堂练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590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课时小结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1218960"/>
            <a:ext cx="892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议一议：在得出本节结论的过程中你用到了哪些方法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2760" y="2286000"/>
            <a:ext cx="8626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讨论归纳出：利用折叠法研究了圆是轴对称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形；利用圆的轴对称性研究了垂径定理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其逆定理；利用旋转的方法得到了圆的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转不变性，由圆的旋转不变性，我们探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了圆心角、弧、弦、弦心距之间相等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推理格式：如图所示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B = C D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，       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B = C D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，       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∠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A O B = ∠ C O D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40760" y="240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10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601992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08720" y="981000"/>
            <a:ext cx="1973160" cy="2789640"/>
            <a:chOff x="6408720" y="981000"/>
            <a:chExt cx="1973160" cy="2789640"/>
          </a:xfrm>
        </p:grpSpPr>
        <p:grpSp>
          <p:nvGrpSpPr>
            <p:cNvPr id="221" name=""/>
            <p:cNvGrpSpPr/>
            <p:nvPr/>
          </p:nvGrpSpPr>
          <p:grpSpPr>
            <a:xfrm>
              <a:off x="6408720" y="1438200"/>
              <a:ext cx="1903320" cy="1905120"/>
              <a:chOff x="6408720" y="1438200"/>
              <a:chExt cx="1903320" cy="1905120"/>
            </a:xfrm>
          </p:grpSpPr>
          <p:sp>
            <p:nvSpPr>
              <p:cNvPr id="222" name=""/>
              <p:cNvSpPr/>
              <p:nvPr/>
            </p:nvSpPr>
            <p:spPr>
              <a:xfrm>
                <a:off x="6408720" y="1438200"/>
                <a:ext cx="1903320" cy="1905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60560" y="2322720"/>
                <a:ext cx="42840" cy="4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408720" y="981000"/>
              <a:ext cx="1973160" cy="2789640"/>
              <a:chOff x="6408720" y="981000"/>
              <a:chExt cx="1973160" cy="2789640"/>
            </a:xfrm>
          </p:grpSpPr>
          <p:sp>
            <p:nvSpPr>
              <p:cNvPr id="225" name=""/>
              <p:cNvSpPr/>
              <p:nvPr/>
            </p:nvSpPr>
            <p:spPr>
              <a:xfrm>
                <a:off x="6848280" y="1584360"/>
                <a:ext cx="1073160" cy="156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945120" y="1521000"/>
                <a:ext cx="830160" cy="173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48280" y="1606680"/>
                <a:ext cx="96840" cy="165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80320" y="1532160"/>
                <a:ext cx="145800" cy="1608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08720" y="10558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56280" y="31449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3280" y="31892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04000" y="981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79960" y="2351160"/>
                <a:ext cx="519120" cy="4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383240" y="2323800"/>
                <a:ext cx="468360" cy="3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1600" y="2143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7600" y="23227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24680" y="19288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987640" y="3105000"/>
            <a:ext cx="576360" cy="14472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43280" y="3105000"/>
            <a:ext cx="576000" cy="14472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ffff"/>
                </a:solidFill>
                <a:latin typeface="宋体"/>
              </a:rPr>
              <a:t>创新探究</a:t>
            </a:r>
            <a:r>
              <a:rPr b="0" lang="zh-CN" sz="3600" spc="-1" strike="noStrike">
                <a:solidFill>
                  <a:srgbClr val="e5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763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图，在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，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=C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延长线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延长线相交于点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直线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于点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F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你以为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P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与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P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有什么大小关系？为什么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0" y="3230640"/>
            <a:ext cx="5598000" cy="2684880"/>
            <a:chOff x="3189600" y="3230640"/>
            <a:chExt cx="5598000" cy="2684880"/>
          </a:xfrm>
        </p:grpSpPr>
        <p:grpSp>
          <p:nvGrpSpPr>
            <p:cNvPr id="243" name=""/>
            <p:cNvGrpSpPr/>
            <p:nvPr/>
          </p:nvGrpSpPr>
          <p:grpSpPr>
            <a:xfrm>
              <a:off x="3657600" y="3429000"/>
              <a:ext cx="4876560" cy="2300400"/>
              <a:chOff x="3657600" y="3429000"/>
              <a:chExt cx="4876560" cy="23004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657600" y="3429000"/>
                <a:ext cx="2300400" cy="2300400"/>
                <a:chOff x="3657600" y="3429000"/>
                <a:chExt cx="2300400" cy="2300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657600" y="3429000"/>
                  <a:ext cx="2300400" cy="23004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7800" y="4496760"/>
                  <a:ext cx="51840" cy="5184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118040" y="3667680"/>
                <a:ext cx="4416120" cy="87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7600" y="4545000"/>
                <a:ext cx="4876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024800" y="4545000"/>
                <a:ext cx="4509000" cy="87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852800" y="3827880"/>
                <a:ext cx="92880" cy="676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2800" y="4545000"/>
                <a:ext cx="92880" cy="71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0120" y="3884400"/>
                <a:ext cx="185760" cy="10008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50"/>
                    </a:moveTo>
                    <a:cubicBezTo>
                      <a:pt x="25" y="57"/>
                      <a:pt x="125" y="85"/>
                      <a:pt x="138" y="75"/>
                    </a:cubicBezTo>
                    <a:cubicBezTo>
                      <a:pt x="158" y="60"/>
                      <a:pt x="138" y="25"/>
                      <a:pt x="13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20120" y="5066280"/>
                <a:ext cx="163440" cy="130680"/>
              </a:xfrm>
              <a:custGeom>
                <a:avLst/>
                <a:gdLst/>
                <a:ahLst/>
                <a:rect l="l" t="t" r="r" b="b"/>
                <a:pathLst>
                  <a:path w="139" h="111">
                    <a:moveTo>
                      <a:pt x="0" y="48"/>
                    </a:moveTo>
                    <a:cubicBezTo>
                      <a:pt x="27" y="30"/>
                      <a:pt x="64" y="0"/>
                      <a:pt x="100" y="10"/>
                    </a:cubicBezTo>
                    <a:cubicBezTo>
                      <a:pt x="115" y="14"/>
                      <a:pt x="117" y="35"/>
                      <a:pt x="125" y="48"/>
                    </a:cubicBezTo>
                    <a:cubicBezTo>
                      <a:pt x="139" y="102"/>
                      <a:pt x="138" y="81"/>
                      <a:pt x="138" y="11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14400" y="3230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0" y="434340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7280" y="5334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38680" y="3352680"/>
              <a:ext cx="5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8000" y="5105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57840" y="34290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3440" y="502920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50920" y="449568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160" y="441972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32000" y="2205000"/>
            <a:ext cx="69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作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课本习题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.3       1, 2,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</a:rPr>
              <a:t>谢谢合作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猜一猜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836640"/>
            <a:ext cx="86421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同学们观察屏幕上两个半径相等的圆。请回答：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00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能重合吗？如果能重合，请将它们的圆心固定在一起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00720" y="1916280"/>
            <a:ext cx="1800000" cy="1800000"/>
            <a:chOff x="4500720" y="1916280"/>
            <a:chExt cx="1800000" cy="1800000"/>
          </a:xfrm>
        </p:grpSpPr>
        <p:sp>
          <p:nvSpPr>
            <p:cNvPr id="89" name=""/>
            <p:cNvSpPr/>
            <p:nvPr/>
          </p:nvSpPr>
          <p:spPr>
            <a:xfrm>
              <a:off x="4500720" y="1916280"/>
              <a:ext cx="1800000" cy="1800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3880" y="2679840"/>
              <a:ext cx="8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r>
                <a:rPr b="1" lang="zh-CN" sz="3200" spc="-1" strike="noStrike" baseline="30000">
                  <a:solidFill>
                    <a:srgbClr val="ffffff"/>
                  </a:solidFill>
                  <a:latin typeface="宋体"/>
                </a:rPr>
                <a:t>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4240" y="2744640"/>
              <a:ext cx="41400" cy="39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900000" y="5373720"/>
            <a:ext cx="792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然后将其中一个圆旋转任意一个角度，这时两个圆还重合吗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71640" y="1952640"/>
            <a:ext cx="1800360" cy="1800000"/>
            <a:chOff x="1871640" y="1952640"/>
            <a:chExt cx="1800360" cy="1800000"/>
          </a:xfrm>
        </p:grpSpPr>
        <p:grpSp>
          <p:nvGrpSpPr>
            <p:cNvPr id="94" name=""/>
            <p:cNvGrpSpPr/>
            <p:nvPr/>
          </p:nvGrpSpPr>
          <p:grpSpPr>
            <a:xfrm>
              <a:off x="1871640" y="1952640"/>
              <a:ext cx="1800360" cy="1800000"/>
              <a:chOff x="1871640" y="1952640"/>
              <a:chExt cx="1800360" cy="1800000"/>
            </a:xfrm>
          </p:grpSpPr>
          <p:sp>
            <p:nvSpPr>
              <p:cNvPr id="95" name=""/>
              <p:cNvSpPr/>
              <p:nvPr/>
            </p:nvSpPr>
            <p:spPr>
              <a:xfrm>
                <a:off x="1871640" y="195264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05160" y="2716200"/>
                <a:ext cx="43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765520" y="2781360"/>
              <a:ext cx="41400" cy="39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0.00532 L -0.2875 0.00532 E">
                                      <p:cBhvr>
                                        <p:cTn id="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归纳 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3152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圆具有旋转不变性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即一个圆绕着它的圆心旋转任意一个角度，都能与原来的圆重合。因此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圆是中心对称圆形，对称中心为圆心。圆的中心对称性是其旋转不变性的特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ffff"/>
                </a:solidFill>
                <a:latin typeface="Tahoma"/>
              </a:rPr>
              <a:t>做一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按下面的步骤做一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利用手中已准备的两张半径相等的透明圆胶片，在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分别作相等的圆心角 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O 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′O′B′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然后将两圆的圆心固定在一起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将其中的一个圆旋转一个角度，使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 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′A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合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295960" y="4799160"/>
            <a:ext cx="762120" cy="661680"/>
          </a:xfrm>
          <a:prstGeom prst="rightArrow">
            <a:avLst>
              <a:gd name="adj1" fmla="val 50000"/>
              <a:gd name="adj2" fmla="val 287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4292640"/>
            <a:ext cx="2708280" cy="2197080"/>
            <a:chOff x="539640" y="4292640"/>
            <a:chExt cx="2708280" cy="2197080"/>
          </a:xfrm>
        </p:grpSpPr>
        <p:grpSp>
          <p:nvGrpSpPr>
            <p:cNvPr id="104" name=""/>
            <p:cNvGrpSpPr/>
            <p:nvPr/>
          </p:nvGrpSpPr>
          <p:grpSpPr>
            <a:xfrm>
              <a:off x="539640" y="4473360"/>
              <a:ext cx="2016000" cy="2016360"/>
              <a:chOff x="539640" y="4473360"/>
              <a:chExt cx="2016000" cy="2016360"/>
            </a:xfrm>
          </p:grpSpPr>
          <p:sp>
            <p:nvSpPr>
              <p:cNvPr id="105" name=""/>
              <p:cNvSpPr/>
              <p:nvPr/>
            </p:nvSpPr>
            <p:spPr>
              <a:xfrm>
                <a:off x="539640" y="4473360"/>
                <a:ext cx="2016000" cy="201636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17760" y="4640400"/>
                <a:ext cx="1008000" cy="871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555640" y="533700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3920" y="4292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2440" y="551628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4292640"/>
            <a:ext cx="2708280" cy="2197080"/>
            <a:chOff x="2916360" y="4292640"/>
            <a:chExt cx="2708280" cy="2197080"/>
          </a:xfrm>
        </p:grpSpPr>
        <p:grpSp>
          <p:nvGrpSpPr>
            <p:cNvPr id="111" name=""/>
            <p:cNvGrpSpPr/>
            <p:nvPr/>
          </p:nvGrpSpPr>
          <p:grpSpPr>
            <a:xfrm>
              <a:off x="2916360" y="4473720"/>
              <a:ext cx="2016000" cy="2016000"/>
              <a:chOff x="2916360" y="4473720"/>
              <a:chExt cx="2016000" cy="201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916360" y="4473720"/>
                <a:ext cx="2016000" cy="2016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94480" y="4640760"/>
                <a:ext cx="1008000" cy="871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932360" y="533700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0640" y="4292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29160" y="551664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-2.31214E-006 L 0.41094 -2.31214E-006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2.31214E-006 L 0.66701 -2.31214E-006 E">
                                      <p:cBhvr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3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你能从中发现哪些等量关系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说一说你的理由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63640" y="3320640"/>
            <a:ext cx="75261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定理：在同圆或等圆中，相等的圆心角所对          的弧相等，所对的弦相等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想一想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同圆或等圆中，如果两个圆心角所对的弧相等，那么它们所对的弦相等吗？这两个圆心角相等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是怎么想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同圆或等到圆中，如果两条弦相等，那么它们所对的圆心角相等吗？它们所对的弧相等吗？你是怎么想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0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推理格式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49360"/>
            <a:ext cx="4964040" cy="1923840"/>
            <a:chOff x="2340000" y="1449360"/>
            <a:chExt cx="4964040" cy="1923840"/>
          </a:xfrm>
        </p:grpSpPr>
        <p:sp>
          <p:nvSpPr>
            <p:cNvPr id="123" name=""/>
            <p:cNvSpPr/>
            <p:nvPr/>
          </p:nvSpPr>
          <p:spPr>
            <a:xfrm>
              <a:off x="2340000" y="147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701800" y="1449360"/>
              <a:ext cx="1800360" cy="1800000"/>
              <a:chOff x="2701800" y="1449360"/>
              <a:chExt cx="1800360" cy="1800000"/>
            </a:xfrm>
          </p:grpSpPr>
          <p:sp>
            <p:nvSpPr>
              <p:cNvPr id="125" name=""/>
              <p:cNvSpPr/>
              <p:nvPr/>
            </p:nvSpPr>
            <p:spPr>
              <a:xfrm>
                <a:off x="2701800" y="144936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601800" y="1760760"/>
                <a:ext cx="720000" cy="1092240"/>
                <a:chOff x="3601800" y="1760760"/>
                <a:chExt cx="720000" cy="109224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3601800" y="1760760"/>
                  <a:ext cx="72000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601800" y="2307240"/>
                  <a:ext cx="72000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21800" y="1761120"/>
                  <a:ext cx="0" cy="1091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5140080" y="1449360"/>
              <a:ext cx="1800360" cy="1800000"/>
              <a:chOff x="5140080" y="1449360"/>
              <a:chExt cx="1800360" cy="1800000"/>
            </a:xfrm>
          </p:grpSpPr>
          <p:sp>
            <p:nvSpPr>
              <p:cNvPr id="131" name=""/>
              <p:cNvSpPr/>
              <p:nvPr/>
            </p:nvSpPr>
            <p:spPr>
              <a:xfrm>
                <a:off x="5140080" y="144936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040080" y="1760760"/>
                <a:ext cx="720000" cy="1092240"/>
                <a:chOff x="6040080" y="1760760"/>
                <a:chExt cx="720000" cy="109224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040080" y="1760760"/>
                  <a:ext cx="72000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40080" y="2307240"/>
                  <a:ext cx="72000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760080" y="1761120"/>
                  <a:ext cx="0" cy="1091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4134960" y="3004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8760" y="156492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34600" y="24332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00480" y="1564920"/>
              <a:ext cx="4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6040" y="296676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7200" y="2509560"/>
              <a:ext cx="4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00000" y="3645000"/>
            <a:ext cx="4387320" cy="2311560"/>
            <a:chOff x="900000" y="3645000"/>
            <a:chExt cx="4387320" cy="2311560"/>
          </a:xfrm>
        </p:grpSpPr>
        <p:sp>
          <p:nvSpPr>
            <p:cNvPr id="143" name=""/>
            <p:cNvSpPr/>
            <p:nvPr/>
          </p:nvSpPr>
          <p:spPr>
            <a:xfrm>
              <a:off x="1319400" y="3645000"/>
              <a:ext cx="3967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如图所示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(1)∵⊙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6880" y="5440320"/>
              <a:ext cx="42084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1280" y="5440320"/>
              <a:ext cx="53352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00000" y="4983120"/>
              <a:ext cx="380880" cy="326880"/>
              <a:chOff x="900000" y="4983120"/>
              <a:chExt cx="380880" cy="32688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900000" y="498312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00000" y="53100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500200" y="5005440"/>
              <a:ext cx="380880" cy="326880"/>
              <a:chOff x="2500200" y="5005440"/>
              <a:chExt cx="380880" cy="32688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2500200" y="500544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00200" y="53323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517320" y="1052640"/>
            <a:ext cx="6482880" cy="4513320"/>
            <a:chOff x="517320" y="1052640"/>
            <a:chExt cx="6482880" cy="4513320"/>
          </a:xfrm>
        </p:grpSpPr>
        <p:sp>
          <p:nvSpPr>
            <p:cNvPr id="153" name=""/>
            <p:cNvSpPr/>
            <p:nvPr/>
          </p:nvSpPr>
          <p:spPr>
            <a:xfrm>
              <a:off x="1802520" y="1052640"/>
              <a:ext cx="51976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∵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2880" y="107316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(2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618000" y="2167200"/>
              <a:ext cx="2209320" cy="349200"/>
              <a:chOff x="3618000" y="2167200"/>
              <a:chExt cx="2209320" cy="349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18000" y="2167200"/>
                <a:ext cx="380880" cy="327240"/>
                <a:chOff x="3618000" y="2167200"/>
                <a:chExt cx="380880" cy="327240"/>
              </a:xfrm>
            </p:grpSpPr>
            <p:sp>
              <p:nvSpPr>
                <p:cNvPr id="157" name=""/>
                <p:cNvSpPr/>
                <p:nvPr/>
              </p:nvSpPr>
              <p:spPr>
                <a:xfrm flipH="1">
                  <a:off x="3618000" y="2167200"/>
                  <a:ext cx="357120" cy="327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18000" y="2494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446440" y="2189520"/>
                <a:ext cx="380880" cy="326880"/>
                <a:chOff x="5446440" y="2189520"/>
                <a:chExt cx="380880" cy="326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5446440" y="2189520"/>
                  <a:ext cx="357120" cy="32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46440" y="2516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1467000" y="1557360"/>
              <a:ext cx="4204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22720" y="1557360"/>
              <a:ext cx="71892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4600" y="3595680"/>
              <a:ext cx="51976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∵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694320" y="4681800"/>
              <a:ext cx="380880" cy="326880"/>
              <a:chOff x="3694320" y="4681800"/>
              <a:chExt cx="380880" cy="3268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3694320" y="468180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94320" y="50086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70120" y="4703760"/>
              <a:ext cx="381600" cy="327240"/>
              <a:chOff x="5370120" y="4703760"/>
              <a:chExt cx="381600" cy="32724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5370120" y="4703760"/>
                <a:ext cx="357480" cy="327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70480" y="5031000"/>
                <a:ext cx="381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749600" y="4605480"/>
              <a:ext cx="4204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75000" y="4605480"/>
              <a:ext cx="7192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7320" y="359100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(3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探索总结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61084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理：在同圆或等圆中，如果两个圆心角、两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弧、两条弦中有一组量相等，那么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们所对应的其余各组量都分别相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8T02:48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