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420640"/>
            <a:ext cx="608328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4289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24560" y="10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师大版教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32000" y="3284640"/>
            <a:ext cx="6172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节    圆周角和圆心角的关系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章   圆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下面我们首先考虑同学们列举的一种特殊情况，即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一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08640" y="914400"/>
            <a:ext cx="1739880" cy="2186640"/>
            <a:chOff x="4508640" y="914400"/>
            <a:chExt cx="1739880" cy="2186640"/>
          </a:xfrm>
        </p:grpSpPr>
        <p:sp>
          <p:nvSpPr>
            <p:cNvPr id="216" name=""/>
            <p:cNvSpPr/>
            <p:nvPr/>
          </p:nvSpPr>
          <p:spPr>
            <a:xfrm>
              <a:off x="4508640" y="1193760"/>
              <a:ext cx="1676520" cy="16761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889520" y="1346040"/>
              <a:ext cx="914400" cy="1371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813200" y="1422360"/>
              <a:ext cx="7596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13560" y="1422360"/>
              <a:ext cx="520560" cy="66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35720" y="2641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4960" y="96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83360" y="1904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150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920" y="901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∵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外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3082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=∠ABO+∠BA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120" y="16635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∵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A=O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0120" y="20192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O=∠BA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5680" y="2362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=2∠A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60880" y="504972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2682720"/>
            <a:ext cx="3657600" cy="825480"/>
            <a:chOff x="304920" y="2682720"/>
            <a:chExt cx="3657600" cy="825480"/>
          </a:xfrm>
        </p:grpSpPr>
        <p:sp>
          <p:nvSpPr>
            <p:cNvPr id="233" name=""/>
            <p:cNvSpPr/>
            <p:nvPr/>
          </p:nvSpPr>
          <p:spPr>
            <a:xfrm>
              <a:off x="304920" y="2895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BC=     ∠AOC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906560" y="2682720"/>
              <a:ext cx="333000" cy="825480"/>
              <a:chOff x="1906560" y="2682720"/>
              <a:chExt cx="333000" cy="825480"/>
            </a:xfrm>
          </p:grpSpPr>
          <p:sp>
            <p:nvSpPr>
              <p:cNvPr id="235" name=""/>
              <p:cNvSpPr/>
              <p:nvPr/>
            </p:nvSpPr>
            <p:spPr>
              <a:xfrm>
                <a:off x="1906560" y="26827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20960" y="3098520"/>
                <a:ext cx="3045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 rot="5465400">
            <a:off x="5409360" y="2743200"/>
            <a:ext cx="4419720" cy="2590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我们可以观察到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是△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BO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的外角，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是△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BO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的一个内角，它们两者存在一定关系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下面我们首先考虑同学们列举的一种特殊情况，即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一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08640" y="914400"/>
            <a:ext cx="1739880" cy="2186640"/>
            <a:chOff x="4508640" y="914400"/>
            <a:chExt cx="1739880" cy="2186640"/>
          </a:xfrm>
        </p:grpSpPr>
        <p:sp>
          <p:nvSpPr>
            <p:cNvPr id="241" name=""/>
            <p:cNvSpPr/>
            <p:nvPr/>
          </p:nvSpPr>
          <p:spPr>
            <a:xfrm>
              <a:off x="4508640" y="1193760"/>
              <a:ext cx="1676520" cy="16761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889520" y="1346040"/>
              <a:ext cx="914400" cy="1371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813200" y="1422360"/>
              <a:ext cx="7596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13560" y="1422360"/>
              <a:ext cx="520560" cy="66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35720" y="2641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84960" y="96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83360" y="1904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150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04920" y="901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∵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外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3082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=∠ABO+∠BA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0120" y="16635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∵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A=O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0120" y="20192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O=∠BA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5680" y="2362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 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=2∠A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0880" y="504972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3080" y="2666880"/>
            <a:ext cx="3657600" cy="825480"/>
            <a:chOff x="343080" y="2666880"/>
            <a:chExt cx="3657600" cy="825480"/>
          </a:xfrm>
        </p:grpSpPr>
        <p:sp>
          <p:nvSpPr>
            <p:cNvPr id="258" name=""/>
            <p:cNvSpPr/>
            <p:nvPr/>
          </p:nvSpPr>
          <p:spPr>
            <a:xfrm>
              <a:off x="343080" y="28573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BC=     ∠AOC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906560" y="2666880"/>
              <a:ext cx="333000" cy="825480"/>
              <a:chOff x="1906560" y="2666880"/>
              <a:chExt cx="333000" cy="825480"/>
            </a:xfrm>
          </p:grpSpPr>
          <p:sp>
            <p:nvSpPr>
              <p:cNvPr id="260" name=""/>
              <p:cNvSpPr/>
              <p:nvPr/>
            </p:nvSpPr>
            <p:spPr>
              <a:xfrm>
                <a:off x="1906560" y="266688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20960" y="3082680"/>
                <a:ext cx="3045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0" y="34545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那么当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两边都不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，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又有怎样的大小关系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5800" y="4229280"/>
            <a:ext cx="1905120" cy="2618640"/>
            <a:chOff x="685800" y="4229280"/>
            <a:chExt cx="1905120" cy="2618640"/>
          </a:xfrm>
        </p:grpSpPr>
        <p:sp>
          <p:nvSpPr>
            <p:cNvPr id="264" name=""/>
            <p:cNvSpPr/>
            <p:nvPr/>
          </p:nvSpPr>
          <p:spPr>
            <a:xfrm>
              <a:off x="685800" y="4610160"/>
              <a:ext cx="1828800" cy="18288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4686480"/>
              <a:ext cx="990360" cy="1752480"/>
            </a:xfrm>
            <a:custGeom>
              <a:avLst/>
              <a:gdLst/>
              <a:ahLst/>
              <a:rect l="l" t="t" r="r" b="b"/>
              <a:pathLst>
                <a:path w="624" h="1104">
                  <a:moveTo>
                    <a:pt x="0" y="0"/>
                  </a:moveTo>
                  <a:lnTo>
                    <a:pt x="144" y="1104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19320" y="4686480"/>
              <a:ext cx="990360" cy="83808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0" y="0"/>
                  </a:moveTo>
                  <a:lnTo>
                    <a:pt x="192" y="528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6680" y="4229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4520" y="6388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33720" y="445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71600" y="5448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09880" y="4305240"/>
            <a:ext cx="2286000" cy="2286000"/>
            <a:chOff x="3809880" y="4305240"/>
            <a:chExt cx="2286000" cy="2286000"/>
          </a:xfrm>
        </p:grpSpPr>
        <p:sp>
          <p:nvSpPr>
            <p:cNvPr id="272" name=""/>
            <p:cNvSpPr/>
            <p:nvPr/>
          </p:nvSpPr>
          <p:spPr>
            <a:xfrm>
              <a:off x="3962520" y="4609800"/>
              <a:ext cx="1981080" cy="1981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5680" y="476244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0"/>
                  </a:moveTo>
                  <a:lnTo>
                    <a:pt x="336" y="528"/>
                  </a:lnTo>
                  <a:lnTo>
                    <a:pt x="72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4762440"/>
              <a:ext cx="1523880" cy="13716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240" y="0"/>
                  </a:moveTo>
                  <a:lnTo>
                    <a:pt x="0" y="864"/>
                  </a:lnTo>
                  <a:lnTo>
                    <a:pt x="96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9880" y="6019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4305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62720" y="4533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76920" y="5524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可以考虑把这两种情况分别转化成刚才的特殊情形来考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105520" y="1346040"/>
            <a:ext cx="1904400" cy="2618640"/>
            <a:chOff x="5105520" y="1346040"/>
            <a:chExt cx="1904400" cy="2618640"/>
          </a:xfrm>
        </p:grpSpPr>
        <p:sp>
          <p:nvSpPr>
            <p:cNvPr id="281" name=""/>
            <p:cNvSpPr/>
            <p:nvPr/>
          </p:nvSpPr>
          <p:spPr>
            <a:xfrm>
              <a:off x="5105520" y="1726920"/>
              <a:ext cx="1828440" cy="18288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8680" y="1803240"/>
              <a:ext cx="990000" cy="1752480"/>
            </a:xfrm>
            <a:custGeom>
              <a:avLst/>
              <a:gdLst/>
              <a:ahLst/>
              <a:rect l="l" t="t" r="r" b="b"/>
              <a:pathLst>
                <a:path w="624" h="1104">
                  <a:moveTo>
                    <a:pt x="0" y="0"/>
                  </a:moveTo>
                  <a:lnTo>
                    <a:pt x="144" y="1104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38680" y="1803240"/>
              <a:ext cx="990000" cy="83808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0" y="0"/>
                  </a:moveTo>
                  <a:lnTo>
                    <a:pt x="192" y="528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6040" y="1346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63880" y="3504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3080" y="15746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0960" y="2565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V="1">
            <a:off x="5880240" y="1701720"/>
            <a:ext cx="152280" cy="1828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6476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也就是借用直径，连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延长，与圆相交于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127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160" y="1143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此时我们得到与图①同样的情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91320" y="2031840"/>
            <a:ext cx="304560" cy="453960"/>
            <a:chOff x="5791320" y="2031840"/>
            <a:chExt cx="304560" cy="453960"/>
          </a:xfrm>
        </p:grpSpPr>
        <p:sp>
          <p:nvSpPr>
            <p:cNvPr id="293" name=""/>
            <p:cNvSpPr/>
            <p:nvPr/>
          </p:nvSpPr>
          <p:spPr>
            <a:xfrm flipV="1" rot="13455600">
              <a:off x="5829480" y="230148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20318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32200" y="2021760"/>
            <a:ext cx="412920" cy="1299960"/>
            <a:chOff x="5632200" y="2021760"/>
            <a:chExt cx="412920" cy="1299960"/>
          </a:xfrm>
        </p:grpSpPr>
        <p:grpSp>
          <p:nvGrpSpPr>
            <p:cNvPr id="296" name=""/>
            <p:cNvGrpSpPr/>
            <p:nvPr/>
          </p:nvGrpSpPr>
          <p:grpSpPr>
            <a:xfrm>
              <a:off x="5632200" y="2021760"/>
              <a:ext cx="311400" cy="495000"/>
              <a:chOff x="5632200" y="2021760"/>
              <a:chExt cx="311400" cy="495000"/>
            </a:xfrm>
          </p:grpSpPr>
          <p:sp>
            <p:nvSpPr>
              <p:cNvPr id="297" name=""/>
              <p:cNvSpPr/>
              <p:nvPr/>
            </p:nvSpPr>
            <p:spPr>
              <a:xfrm flipH="1" flipV="1" rot="17534400">
                <a:off x="5654520" y="2044440"/>
                <a:ext cx="15228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760" y="1793"/>
                    </a:moveTo>
                    <a:arcTo wR="10800" hR="10800" stAng="-3390341" swAng="3390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760" y="1793"/>
                    </a:moveTo>
                    <a:arcTo wR="10800" hR="10800" stAng="-3390341" swAng="3390341"/>
                  </a:path>
                </a:pathLst>
              </a:cu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209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740560" y="2844720"/>
              <a:ext cx="304560" cy="477000"/>
              <a:chOff x="5740560" y="2844720"/>
              <a:chExt cx="304560" cy="477000"/>
            </a:xfrm>
          </p:grpSpPr>
          <p:sp>
            <p:nvSpPr>
              <p:cNvPr id="300" name=""/>
              <p:cNvSpPr/>
              <p:nvPr/>
            </p:nvSpPr>
            <p:spPr>
              <a:xfrm>
                <a:off x="5740560" y="28447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 rot="13042200">
                <a:off x="5797800" y="3138480"/>
                <a:ext cx="1512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7251840" y="1600200"/>
            <a:ext cx="1739880" cy="2466360"/>
            <a:chOff x="7251840" y="1600200"/>
            <a:chExt cx="1739880" cy="2466360"/>
          </a:xfrm>
        </p:grpSpPr>
        <p:grpSp>
          <p:nvGrpSpPr>
            <p:cNvPr id="303" name=""/>
            <p:cNvGrpSpPr/>
            <p:nvPr/>
          </p:nvGrpSpPr>
          <p:grpSpPr>
            <a:xfrm>
              <a:off x="7251840" y="1600200"/>
              <a:ext cx="1739880" cy="2186640"/>
              <a:chOff x="7251840" y="1600200"/>
              <a:chExt cx="1739880" cy="2186640"/>
            </a:xfrm>
          </p:grpSpPr>
          <p:sp>
            <p:nvSpPr>
              <p:cNvPr id="304" name=""/>
              <p:cNvSpPr/>
              <p:nvPr/>
            </p:nvSpPr>
            <p:spPr>
              <a:xfrm>
                <a:off x="7251840" y="1879560"/>
                <a:ext cx="1676520" cy="16761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632720" y="2031840"/>
                <a:ext cx="914400" cy="1371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7556400" y="2108160"/>
                <a:ext cx="75960" cy="1295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556760" y="2108160"/>
                <a:ext cx="520560" cy="66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920" y="3327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28160" y="1650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26560" y="25905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5820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8001000" y="3606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920" y="990720"/>
            <a:ext cx="6019560" cy="3926520"/>
            <a:chOff x="304920" y="990720"/>
            <a:chExt cx="6019560" cy="3926520"/>
          </a:xfrm>
        </p:grpSpPr>
        <p:sp>
          <p:nvSpPr>
            <p:cNvPr id="314" name=""/>
            <p:cNvSpPr/>
            <p:nvPr/>
          </p:nvSpPr>
          <p:spPr>
            <a:xfrm>
              <a:off x="304920" y="990720"/>
              <a:ext cx="601956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△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外角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=∠2+∠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A=O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=∠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=2∠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=     ∠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447920" y="4114800"/>
              <a:ext cx="380880" cy="802440"/>
              <a:chOff x="1447920" y="4114800"/>
              <a:chExt cx="380880" cy="802440"/>
            </a:xfrm>
          </p:grpSpPr>
          <p:sp>
            <p:nvSpPr>
              <p:cNvPr id="316" name=""/>
              <p:cNvSpPr/>
              <p:nvPr/>
            </p:nvSpPr>
            <p:spPr>
              <a:xfrm>
                <a:off x="1447920" y="4114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86080" y="449568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47920" y="44575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5715000" y="2082960"/>
            <a:ext cx="596880" cy="1254960"/>
            <a:chOff x="5715000" y="2082960"/>
            <a:chExt cx="596880" cy="1254960"/>
          </a:xfrm>
        </p:grpSpPr>
        <p:grpSp>
          <p:nvGrpSpPr>
            <p:cNvPr id="320" name=""/>
            <p:cNvGrpSpPr/>
            <p:nvPr/>
          </p:nvGrpSpPr>
          <p:grpSpPr>
            <a:xfrm>
              <a:off x="5715000" y="2082960"/>
              <a:ext cx="596880" cy="547560"/>
              <a:chOff x="5715000" y="2082960"/>
              <a:chExt cx="596880" cy="547560"/>
            </a:xfrm>
          </p:grpSpPr>
          <p:sp>
            <p:nvSpPr>
              <p:cNvPr id="321" name=""/>
              <p:cNvSpPr/>
              <p:nvPr/>
            </p:nvSpPr>
            <p:spPr>
              <a:xfrm>
                <a:off x="5715000" y="2325600"/>
                <a:ext cx="45684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1666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166637"/>
                  </a:path>
                </a:pathLst>
              </a:cu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06960" y="208296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740920" y="2844720"/>
              <a:ext cx="507600" cy="493200"/>
              <a:chOff x="5740920" y="2844720"/>
              <a:chExt cx="507600" cy="493200"/>
            </a:xfrm>
          </p:grpSpPr>
          <p:sp>
            <p:nvSpPr>
              <p:cNvPr id="324" name=""/>
              <p:cNvSpPr/>
              <p:nvPr/>
            </p:nvSpPr>
            <p:spPr>
              <a:xfrm rot="20457000">
                <a:off x="5757120" y="3139920"/>
                <a:ext cx="30384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7280" y="2844720"/>
                <a:ext cx="381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52280" y="4686480"/>
            <a:ext cx="4800600" cy="2250000"/>
            <a:chOff x="152280" y="4686480"/>
            <a:chExt cx="4800600" cy="2250000"/>
          </a:xfrm>
        </p:grpSpPr>
        <p:grpSp>
          <p:nvGrpSpPr>
            <p:cNvPr id="327" name=""/>
            <p:cNvGrpSpPr/>
            <p:nvPr/>
          </p:nvGrpSpPr>
          <p:grpSpPr>
            <a:xfrm>
              <a:off x="152280" y="4686480"/>
              <a:ext cx="3352680" cy="802440"/>
              <a:chOff x="152280" y="4686480"/>
              <a:chExt cx="3352680" cy="80244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2171520" y="4686480"/>
                <a:ext cx="380880" cy="802440"/>
                <a:chOff x="2171520" y="4686480"/>
                <a:chExt cx="380880" cy="8024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171520" y="46864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09680" y="506736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171520" y="502920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152280" y="482616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同理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,       ∠4=     ∠5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880" y="5448240"/>
              <a:ext cx="4572000" cy="802440"/>
              <a:chOff x="380880" y="5448240"/>
              <a:chExt cx="4572000" cy="8024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2133720" y="5448240"/>
                <a:ext cx="380880" cy="802440"/>
                <a:chOff x="2133720" y="5448240"/>
                <a:chExt cx="380880" cy="8024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133720" y="54482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171880" y="5829120"/>
                  <a:ext cx="22860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133720" y="579096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380880" y="560052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∴ ∠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2+∠4=  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（ ∠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1+∠5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） 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57200" y="6146640"/>
              <a:ext cx="3809880" cy="789840"/>
              <a:chOff x="457200" y="6146640"/>
              <a:chExt cx="3809880" cy="789840"/>
            </a:xfrm>
          </p:grpSpPr>
          <p:sp>
            <p:nvSpPr>
              <p:cNvPr id="340" name=""/>
              <p:cNvSpPr/>
              <p:nvPr/>
            </p:nvSpPr>
            <p:spPr>
              <a:xfrm>
                <a:off x="457200" y="6298920"/>
                <a:ext cx="380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∴ ∠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ABC=      ∠AOC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2108160" y="6146640"/>
                <a:ext cx="380880" cy="789840"/>
                <a:chOff x="2108160" y="6146640"/>
                <a:chExt cx="380880" cy="7898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108160" y="61466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108160" y="6527520"/>
                  <a:ext cx="30492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108160" y="64767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4800600" y="914400"/>
            <a:ext cx="2286000" cy="2286000"/>
            <a:chOff x="4800600" y="914400"/>
            <a:chExt cx="2286000" cy="2286000"/>
          </a:xfrm>
        </p:grpSpPr>
        <p:sp>
          <p:nvSpPr>
            <p:cNvPr id="346" name=""/>
            <p:cNvSpPr/>
            <p:nvPr/>
          </p:nvSpPr>
          <p:spPr>
            <a:xfrm>
              <a:off x="4953240" y="1218960"/>
              <a:ext cx="1981080" cy="1981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86400" y="137160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0"/>
                  </a:moveTo>
                  <a:lnTo>
                    <a:pt x="336" y="528"/>
                  </a:lnTo>
                  <a:lnTo>
                    <a:pt x="72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05520" y="1371600"/>
              <a:ext cx="1523880" cy="13716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240" y="0"/>
                  </a:moveTo>
                  <a:lnTo>
                    <a:pt x="0" y="864"/>
                  </a:lnTo>
                  <a:lnTo>
                    <a:pt x="96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0600" y="2628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914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44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7640" y="213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5079960" y="1778040"/>
            <a:ext cx="175248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27800" y="990720"/>
            <a:ext cx="1739880" cy="2466360"/>
            <a:chOff x="7327800" y="990720"/>
            <a:chExt cx="1739880" cy="2466360"/>
          </a:xfrm>
        </p:grpSpPr>
        <p:grpSp>
          <p:nvGrpSpPr>
            <p:cNvPr id="355" name=""/>
            <p:cNvGrpSpPr/>
            <p:nvPr/>
          </p:nvGrpSpPr>
          <p:grpSpPr>
            <a:xfrm>
              <a:off x="7327800" y="990720"/>
              <a:ext cx="1739880" cy="2186640"/>
              <a:chOff x="7327800" y="990720"/>
              <a:chExt cx="1739880" cy="2186640"/>
            </a:xfrm>
          </p:grpSpPr>
          <p:sp>
            <p:nvSpPr>
              <p:cNvPr id="356" name=""/>
              <p:cNvSpPr/>
              <p:nvPr/>
            </p:nvSpPr>
            <p:spPr>
              <a:xfrm>
                <a:off x="7327800" y="1270080"/>
                <a:ext cx="1676520" cy="16761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7708680" y="1422360"/>
                <a:ext cx="914400" cy="1371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7632360" y="1498680"/>
                <a:ext cx="75960" cy="1295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632720" y="1498680"/>
                <a:ext cx="520560" cy="66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54880" y="2717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04120" y="1041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0252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3416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8076960" y="2997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6320" y="76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连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延长，与圆相交于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（此时我们得到与图①同样的情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1984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1371600"/>
            <a:ext cx="914400" cy="1371600"/>
          </a:xfrm>
          <a:custGeom>
            <a:avLst/>
            <a:gdLst/>
            <a:ahLst/>
            <a:rect l="l" t="t" r="r" b="b"/>
            <a:pathLst>
              <a:path w="576" h="864">
                <a:moveTo>
                  <a:pt x="240" y="0"/>
                </a:moveTo>
                <a:lnTo>
                  <a:pt x="0" y="864"/>
                </a:lnTo>
                <a:lnTo>
                  <a:pt x="576" y="528"/>
                </a:lnTo>
                <a:lnTo>
                  <a:pt x="240" y="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1371600"/>
            <a:ext cx="1371600" cy="8380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336" y="528"/>
                </a:lnTo>
                <a:lnTo>
                  <a:pt x="864" y="240"/>
                </a:lnTo>
              </a:path>
            </a:pathLst>
          </a:custGeom>
          <a:noFill/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6320" y="990720"/>
            <a:ext cx="5333760" cy="3796920"/>
            <a:chOff x="76320" y="990720"/>
            <a:chExt cx="5333760" cy="3796920"/>
          </a:xfrm>
        </p:grpSpPr>
        <p:sp>
          <p:nvSpPr>
            <p:cNvPr id="370" name=""/>
            <p:cNvSpPr/>
            <p:nvPr/>
          </p:nvSpPr>
          <p:spPr>
            <a:xfrm>
              <a:off x="76320" y="990720"/>
              <a:ext cx="533376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△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外角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=∠A+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A=O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=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=2∠AB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=    ∠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676160" y="3565800"/>
              <a:ext cx="456840" cy="789840"/>
              <a:chOff x="1676160" y="3565800"/>
              <a:chExt cx="456840" cy="789840"/>
            </a:xfrm>
          </p:grpSpPr>
          <p:sp>
            <p:nvSpPr>
              <p:cNvPr id="372" name=""/>
              <p:cNvSpPr/>
              <p:nvPr/>
            </p:nvSpPr>
            <p:spPr>
              <a:xfrm>
                <a:off x="1676160" y="3565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26560" y="3946680"/>
                <a:ext cx="228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01000" y="38959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4800600" y="914400"/>
            <a:ext cx="2286000" cy="2286000"/>
            <a:chOff x="4800600" y="914400"/>
            <a:chExt cx="2286000" cy="2286000"/>
          </a:xfrm>
        </p:grpSpPr>
        <p:sp>
          <p:nvSpPr>
            <p:cNvPr id="376" name=""/>
            <p:cNvSpPr/>
            <p:nvPr/>
          </p:nvSpPr>
          <p:spPr>
            <a:xfrm>
              <a:off x="4953240" y="1218960"/>
              <a:ext cx="1981080" cy="1981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137160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0"/>
                  </a:moveTo>
                  <a:lnTo>
                    <a:pt x="336" y="528"/>
                  </a:lnTo>
                  <a:lnTo>
                    <a:pt x="72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5520" y="1371600"/>
              <a:ext cx="1523880" cy="13716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240" y="0"/>
                  </a:moveTo>
                  <a:lnTo>
                    <a:pt x="0" y="864"/>
                  </a:lnTo>
                  <a:lnTo>
                    <a:pt x="96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00600" y="2628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7800" y="914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5344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640" y="213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5079960" y="1778040"/>
            <a:ext cx="175248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327800" y="990720"/>
            <a:ext cx="1739880" cy="2466360"/>
            <a:chOff x="7327800" y="990720"/>
            <a:chExt cx="1739880" cy="2466360"/>
          </a:xfrm>
        </p:grpSpPr>
        <p:grpSp>
          <p:nvGrpSpPr>
            <p:cNvPr id="385" name=""/>
            <p:cNvGrpSpPr/>
            <p:nvPr/>
          </p:nvGrpSpPr>
          <p:grpSpPr>
            <a:xfrm>
              <a:off x="7327800" y="990720"/>
              <a:ext cx="1739880" cy="2186640"/>
              <a:chOff x="7327800" y="990720"/>
              <a:chExt cx="1739880" cy="2186640"/>
            </a:xfrm>
          </p:grpSpPr>
          <p:sp>
            <p:nvSpPr>
              <p:cNvPr id="386" name=""/>
              <p:cNvSpPr/>
              <p:nvPr/>
            </p:nvSpPr>
            <p:spPr>
              <a:xfrm>
                <a:off x="7327800" y="1270080"/>
                <a:ext cx="1676520" cy="16761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7708680" y="1422360"/>
                <a:ext cx="914400" cy="1371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7632360" y="1498680"/>
                <a:ext cx="75960" cy="1295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32720" y="1498680"/>
                <a:ext cx="520560" cy="66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54880" y="2717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04120" y="1041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10252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53416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8076960" y="2997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6320" y="76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连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延长，与相交于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（此时我们得到与图①同样的情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1984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6320" y="990720"/>
            <a:ext cx="5333760" cy="3796920"/>
            <a:chOff x="76320" y="990720"/>
            <a:chExt cx="5333760" cy="3796920"/>
          </a:xfrm>
        </p:grpSpPr>
        <p:sp>
          <p:nvSpPr>
            <p:cNvPr id="398" name=""/>
            <p:cNvSpPr/>
            <p:nvPr/>
          </p:nvSpPr>
          <p:spPr>
            <a:xfrm>
              <a:off x="76320" y="990720"/>
              <a:ext cx="533376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△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外角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=∠A+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A=O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=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=2∠AB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=    ∠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676160" y="3565800"/>
              <a:ext cx="456840" cy="789840"/>
              <a:chOff x="1676160" y="3565800"/>
              <a:chExt cx="456840" cy="789840"/>
            </a:xfrm>
          </p:grpSpPr>
          <p:sp>
            <p:nvSpPr>
              <p:cNvPr id="400" name=""/>
              <p:cNvSpPr/>
              <p:nvPr/>
            </p:nvSpPr>
            <p:spPr>
              <a:xfrm>
                <a:off x="1676160" y="3565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26560" y="3946680"/>
                <a:ext cx="228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01000" y="38959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76320" y="4267080"/>
            <a:ext cx="4647960" cy="789840"/>
            <a:chOff x="76320" y="4267080"/>
            <a:chExt cx="4647960" cy="789840"/>
          </a:xfrm>
        </p:grpSpPr>
        <p:sp>
          <p:nvSpPr>
            <p:cNvPr id="404" name=""/>
            <p:cNvSpPr/>
            <p:nvPr/>
          </p:nvSpPr>
          <p:spPr>
            <a:xfrm>
              <a:off x="76320" y="44193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同理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,      ∠CBD=     ∠C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590920" y="4267080"/>
              <a:ext cx="457200" cy="789840"/>
              <a:chOff x="2590920" y="4267080"/>
              <a:chExt cx="457200" cy="789840"/>
            </a:xfrm>
          </p:grpSpPr>
          <p:sp>
            <p:nvSpPr>
              <p:cNvPr id="406" name=""/>
              <p:cNvSpPr/>
              <p:nvPr/>
            </p:nvSpPr>
            <p:spPr>
              <a:xfrm>
                <a:off x="259092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41680" y="464796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16120" y="4597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5105520" y="1523880"/>
            <a:ext cx="1523880" cy="1219320"/>
          </a:xfrm>
          <a:custGeom>
            <a:avLst/>
            <a:gdLst/>
            <a:ahLst/>
            <a:rect l="l" t="t" r="r" b="b"/>
            <a:pathLst>
              <a:path w="960" h="768">
                <a:moveTo>
                  <a:pt x="960" y="0"/>
                </a:moveTo>
                <a:lnTo>
                  <a:pt x="0" y="768"/>
                </a:lnTo>
                <a:lnTo>
                  <a:pt x="576" y="432"/>
                </a:lnTo>
                <a:lnTo>
                  <a:pt x="960" y="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5238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384" y="0"/>
                </a:moveTo>
                <a:lnTo>
                  <a:pt x="0" y="432"/>
                </a:lnTo>
                <a:lnTo>
                  <a:pt x="528" y="144"/>
                </a:lnTo>
              </a:path>
            </a:pathLst>
          </a:custGeom>
          <a:noFill/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800600" y="914400"/>
            <a:ext cx="2286000" cy="2286000"/>
            <a:chOff x="4800600" y="914400"/>
            <a:chExt cx="2286000" cy="2286000"/>
          </a:xfrm>
        </p:grpSpPr>
        <p:sp>
          <p:nvSpPr>
            <p:cNvPr id="412" name=""/>
            <p:cNvSpPr/>
            <p:nvPr/>
          </p:nvSpPr>
          <p:spPr>
            <a:xfrm>
              <a:off x="4953240" y="1218960"/>
              <a:ext cx="1981080" cy="1981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86400" y="137160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0"/>
                  </a:moveTo>
                  <a:lnTo>
                    <a:pt x="336" y="528"/>
                  </a:lnTo>
                  <a:lnTo>
                    <a:pt x="72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520" y="1371600"/>
              <a:ext cx="1523880" cy="13716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240" y="0"/>
                  </a:moveTo>
                  <a:lnTo>
                    <a:pt x="0" y="864"/>
                  </a:lnTo>
                  <a:lnTo>
                    <a:pt x="96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00600" y="2628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914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5344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67640" y="213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V="1">
            <a:off x="5079960" y="1778040"/>
            <a:ext cx="175248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327800" y="990720"/>
            <a:ext cx="1739880" cy="2466360"/>
            <a:chOff x="7327800" y="990720"/>
            <a:chExt cx="1739880" cy="2466360"/>
          </a:xfrm>
        </p:grpSpPr>
        <p:grpSp>
          <p:nvGrpSpPr>
            <p:cNvPr id="421" name=""/>
            <p:cNvGrpSpPr/>
            <p:nvPr/>
          </p:nvGrpSpPr>
          <p:grpSpPr>
            <a:xfrm>
              <a:off x="7327800" y="990720"/>
              <a:ext cx="1739880" cy="2186640"/>
              <a:chOff x="7327800" y="990720"/>
              <a:chExt cx="1739880" cy="2186640"/>
            </a:xfrm>
          </p:grpSpPr>
          <p:sp>
            <p:nvSpPr>
              <p:cNvPr id="422" name=""/>
              <p:cNvSpPr/>
              <p:nvPr/>
            </p:nvSpPr>
            <p:spPr>
              <a:xfrm>
                <a:off x="7327800" y="1270080"/>
                <a:ext cx="1676520" cy="16761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708680" y="1422360"/>
                <a:ext cx="914400" cy="1371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7632360" y="1498680"/>
                <a:ext cx="75960" cy="1295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32720" y="1498680"/>
                <a:ext cx="520560" cy="66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54880" y="2717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04120" y="1041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2520" y="198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534160" y="990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076960" y="2997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6320" y="76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连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延长，与相交于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（此时我们得到与图①同样的情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1984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6320" y="990720"/>
            <a:ext cx="5333760" cy="3796920"/>
            <a:chOff x="76320" y="990720"/>
            <a:chExt cx="5333760" cy="3796920"/>
          </a:xfrm>
        </p:grpSpPr>
        <p:sp>
          <p:nvSpPr>
            <p:cNvPr id="434" name=""/>
            <p:cNvSpPr/>
            <p:nvPr/>
          </p:nvSpPr>
          <p:spPr>
            <a:xfrm>
              <a:off x="76320" y="990720"/>
              <a:ext cx="533376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△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外角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=∠A+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∵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A=O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=∠AB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=2∠AB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=    ∠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676160" y="3565800"/>
              <a:ext cx="456840" cy="789840"/>
              <a:chOff x="1676160" y="3565800"/>
              <a:chExt cx="456840" cy="789840"/>
            </a:xfrm>
          </p:grpSpPr>
          <p:sp>
            <p:nvSpPr>
              <p:cNvPr id="436" name=""/>
              <p:cNvSpPr/>
              <p:nvPr/>
            </p:nvSpPr>
            <p:spPr>
              <a:xfrm>
                <a:off x="1676160" y="3565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26560" y="3946680"/>
                <a:ext cx="228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01000" y="38959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6320" y="4267080"/>
            <a:ext cx="4647960" cy="789840"/>
            <a:chOff x="76320" y="4267080"/>
            <a:chExt cx="4647960" cy="789840"/>
          </a:xfrm>
        </p:grpSpPr>
        <p:sp>
          <p:nvSpPr>
            <p:cNvPr id="440" name=""/>
            <p:cNvSpPr/>
            <p:nvPr/>
          </p:nvSpPr>
          <p:spPr>
            <a:xfrm>
              <a:off x="76320" y="44193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同理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,       ∠CBD=     ∠C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590920" y="4267080"/>
              <a:ext cx="457200" cy="789840"/>
              <a:chOff x="2590920" y="4267080"/>
              <a:chExt cx="457200" cy="789840"/>
            </a:xfrm>
          </p:grpSpPr>
          <p:sp>
            <p:nvSpPr>
              <p:cNvPr id="442" name=""/>
              <p:cNvSpPr/>
              <p:nvPr/>
            </p:nvSpPr>
            <p:spPr>
              <a:xfrm>
                <a:off x="259092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41680" y="464796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16120" y="45972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114480" y="4952880"/>
            <a:ext cx="8686800" cy="1920240"/>
            <a:chOff x="114480" y="4952880"/>
            <a:chExt cx="8686800" cy="1920240"/>
          </a:xfrm>
        </p:grpSpPr>
        <p:sp>
          <p:nvSpPr>
            <p:cNvPr id="446" name=""/>
            <p:cNvSpPr/>
            <p:nvPr/>
          </p:nvSpPr>
          <p:spPr>
            <a:xfrm>
              <a:off x="114480" y="5130720"/>
              <a:ext cx="86868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－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BD=     ∠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－    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=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－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O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∴ 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BC=      ∠A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648320" y="4965480"/>
              <a:ext cx="457200" cy="789840"/>
              <a:chOff x="4648320" y="4965480"/>
              <a:chExt cx="457200" cy="789840"/>
            </a:xfrm>
          </p:grpSpPr>
          <p:sp>
            <p:nvSpPr>
              <p:cNvPr id="448" name=""/>
              <p:cNvSpPr/>
              <p:nvPr/>
            </p:nvSpPr>
            <p:spPr>
              <a:xfrm>
                <a:off x="4648320" y="4965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99080" y="534636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73520" y="52956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828800" y="6083280"/>
              <a:ext cx="457200" cy="789840"/>
              <a:chOff x="1828800" y="6083280"/>
              <a:chExt cx="457200" cy="789840"/>
            </a:xfrm>
          </p:grpSpPr>
          <p:sp>
            <p:nvSpPr>
              <p:cNvPr id="452" name=""/>
              <p:cNvSpPr/>
              <p:nvPr/>
            </p:nvSpPr>
            <p:spPr>
              <a:xfrm>
                <a:off x="1828800" y="6083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79560" y="646416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54000" y="6413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48120" y="4952880"/>
              <a:ext cx="457200" cy="789840"/>
              <a:chOff x="3048120" y="4952880"/>
              <a:chExt cx="457200" cy="789840"/>
            </a:xfrm>
          </p:grpSpPr>
          <p:sp>
            <p:nvSpPr>
              <p:cNvPr id="456" name=""/>
              <p:cNvSpPr/>
              <p:nvPr/>
            </p:nvSpPr>
            <p:spPr>
              <a:xfrm>
                <a:off x="30481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8880" y="533376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73320" y="5283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57200" y="5549760"/>
              <a:ext cx="457200" cy="789840"/>
              <a:chOff x="457200" y="5549760"/>
              <a:chExt cx="457200" cy="789840"/>
            </a:xfrm>
          </p:grpSpPr>
          <p:sp>
            <p:nvSpPr>
              <p:cNvPr id="460" name=""/>
              <p:cNvSpPr/>
              <p:nvPr/>
            </p:nvSpPr>
            <p:spPr>
              <a:xfrm>
                <a:off x="457200" y="5549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7960" y="5930640"/>
                <a:ext cx="2286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2400" y="5879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362320" y="1522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认真观察，探求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380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通过对三种情形的证明，同学们再认真观察图形，你会得到什么结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39640" y="1916280"/>
            <a:ext cx="1739880" cy="2186640"/>
            <a:chOff x="539640" y="1916280"/>
            <a:chExt cx="1739880" cy="2186640"/>
          </a:xfrm>
        </p:grpSpPr>
        <p:sp>
          <p:nvSpPr>
            <p:cNvPr id="466" name=""/>
            <p:cNvSpPr/>
            <p:nvPr/>
          </p:nvSpPr>
          <p:spPr>
            <a:xfrm>
              <a:off x="539640" y="2195640"/>
              <a:ext cx="1676520" cy="16761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920520" y="2347920"/>
              <a:ext cx="914400" cy="1371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844200" y="2424240"/>
              <a:ext cx="75960" cy="12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4560" y="2424240"/>
              <a:ext cx="520560" cy="660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6720" y="36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5960" y="1967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14360" y="2906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46000" y="1916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059280" y="1484280"/>
            <a:ext cx="1904400" cy="2618640"/>
            <a:chOff x="3059280" y="1484280"/>
            <a:chExt cx="1904400" cy="2618640"/>
          </a:xfrm>
        </p:grpSpPr>
        <p:sp>
          <p:nvSpPr>
            <p:cNvPr id="475" name=""/>
            <p:cNvSpPr/>
            <p:nvPr/>
          </p:nvSpPr>
          <p:spPr>
            <a:xfrm>
              <a:off x="3059280" y="1865160"/>
              <a:ext cx="1828440" cy="18288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92440" y="1941480"/>
              <a:ext cx="990000" cy="1752480"/>
            </a:xfrm>
            <a:custGeom>
              <a:avLst/>
              <a:gdLst/>
              <a:ahLst/>
              <a:rect l="l" t="t" r="r" b="b"/>
              <a:pathLst>
                <a:path w="624" h="1104">
                  <a:moveTo>
                    <a:pt x="0" y="0"/>
                  </a:moveTo>
                  <a:lnTo>
                    <a:pt x="144" y="1104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2440" y="1941480"/>
              <a:ext cx="990000" cy="83808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0" y="0"/>
                  </a:moveTo>
                  <a:lnTo>
                    <a:pt x="192" y="528"/>
                  </a:lnTo>
                  <a:lnTo>
                    <a:pt x="624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39800" y="148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17640" y="3643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06840" y="1712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44720" y="270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796000" y="1557360"/>
            <a:ext cx="2286000" cy="2286000"/>
            <a:chOff x="5796000" y="1557360"/>
            <a:chExt cx="2286000" cy="2286000"/>
          </a:xfrm>
        </p:grpSpPr>
        <p:sp>
          <p:nvSpPr>
            <p:cNvPr id="483" name=""/>
            <p:cNvSpPr/>
            <p:nvPr/>
          </p:nvSpPr>
          <p:spPr>
            <a:xfrm>
              <a:off x="5948640" y="1861920"/>
              <a:ext cx="1981080" cy="1981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1800" y="2014560"/>
              <a:ext cx="1143000" cy="83808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0"/>
                  </a:moveTo>
                  <a:lnTo>
                    <a:pt x="336" y="528"/>
                  </a:lnTo>
                  <a:lnTo>
                    <a:pt x="72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00920" y="2014560"/>
              <a:ext cx="1523880" cy="1371600"/>
            </a:xfrm>
            <a:custGeom>
              <a:avLst/>
              <a:gdLst/>
              <a:ahLst/>
              <a:rect l="l" t="t" r="r" b="b"/>
              <a:pathLst>
                <a:path w="960" h="864">
                  <a:moveTo>
                    <a:pt x="240" y="0"/>
                  </a:moveTo>
                  <a:lnTo>
                    <a:pt x="0" y="864"/>
                  </a:lnTo>
                  <a:lnTo>
                    <a:pt x="960" y="9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3271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53200" y="1557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840" y="1785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63040" y="2776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0" y="5157720"/>
            <a:ext cx="891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一条弧所对的圆周角等于它所对的圆心角的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93080" y="5157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4067280" y="836640"/>
            <a:ext cx="2031840" cy="1905120"/>
            <a:chOff x="4067280" y="836640"/>
            <a:chExt cx="2031840" cy="1905120"/>
          </a:xfrm>
        </p:grpSpPr>
        <p:sp>
          <p:nvSpPr>
            <p:cNvPr id="493" name=""/>
            <p:cNvSpPr/>
            <p:nvPr/>
          </p:nvSpPr>
          <p:spPr>
            <a:xfrm>
              <a:off x="4371840" y="1217520"/>
              <a:ext cx="1524240" cy="15242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29040" y="1293840"/>
              <a:ext cx="914400" cy="685800"/>
            </a:xfrm>
            <a:custGeom>
              <a:avLst/>
              <a:gdLst/>
              <a:ahLst/>
              <a:rect l="l" t="t" r="r" b="b"/>
              <a:pathLst>
                <a:path w="576" h="432">
                  <a:moveTo>
                    <a:pt x="0" y="0"/>
                  </a:moveTo>
                  <a:lnTo>
                    <a:pt x="192" y="432"/>
                  </a:lnTo>
                  <a:lnTo>
                    <a:pt x="576" y="14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71840" y="1293840"/>
              <a:ext cx="1371600" cy="53352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288" y="0"/>
                  </a:moveTo>
                  <a:lnTo>
                    <a:pt x="0" y="336"/>
                  </a:lnTo>
                  <a:lnTo>
                    <a:pt x="864" y="14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67280" y="159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81680" y="1903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18240" y="1217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0440" y="836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 txBox="1"/>
          <p:nvPr/>
        </p:nvSpPr>
        <p:spPr>
          <a:xfrm rot="1138800">
            <a:off x="7238880" y="29844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00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一题多变</a:t>
            </a:r>
            <a:endParaRPr b="1" lang="en-US" sz="2400" spc="1" strike="noStrike">
              <a:ln w="12600">
                <a:solidFill>
                  <a:srgbClr val="ffcc99"/>
                </a:solidFill>
                <a:miter/>
              </a:ln>
              <a:solidFill>
                <a:srgbClr val="00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13824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在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C=5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AC=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291000" y="1623600"/>
            <a:ext cx="2305800" cy="4582080"/>
            <a:chOff x="6291000" y="1623600"/>
            <a:chExt cx="2305800" cy="4582080"/>
          </a:xfrm>
        </p:grpSpPr>
        <p:sp>
          <p:nvSpPr>
            <p:cNvPr id="504" name=""/>
            <p:cNvSpPr/>
            <p:nvPr/>
          </p:nvSpPr>
          <p:spPr>
            <a:xfrm rot="5415000">
              <a:off x="5157720" y="2771640"/>
              <a:ext cx="4572000" cy="22860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点拨：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此题要选择关键点：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∠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BOC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与∠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BAC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对着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BC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，因此∠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BOC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等于∠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BAC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的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cc0000"/>
                  </a:solidFill>
                  <a:latin typeface="Times New Roman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 rot="12643200">
              <a:off x="6753240" y="4215960"/>
              <a:ext cx="45648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1676520" y="63504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4716360" y="333360"/>
            <a:ext cx="2031840" cy="1905120"/>
            <a:chOff x="4716360" y="333360"/>
            <a:chExt cx="2031840" cy="1905120"/>
          </a:xfrm>
        </p:grpSpPr>
        <p:sp>
          <p:nvSpPr>
            <p:cNvPr id="509" name=""/>
            <p:cNvSpPr/>
            <p:nvPr/>
          </p:nvSpPr>
          <p:spPr>
            <a:xfrm>
              <a:off x="5020920" y="714240"/>
              <a:ext cx="1524240" cy="15242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8120" y="790560"/>
              <a:ext cx="914400" cy="685800"/>
            </a:xfrm>
            <a:custGeom>
              <a:avLst/>
              <a:gdLst/>
              <a:ahLst/>
              <a:rect l="l" t="t" r="r" b="b"/>
              <a:pathLst>
                <a:path w="576" h="432">
                  <a:moveTo>
                    <a:pt x="0" y="0"/>
                  </a:moveTo>
                  <a:lnTo>
                    <a:pt x="192" y="432"/>
                  </a:lnTo>
                  <a:lnTo>
                    <a:pt x="576" y="14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0920" y="790560"/>
              <a:ext cx="1371600" cy="53352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288" y="0"/>
                  </a:moveTo>
                  <a:lnTo>
                    <a:pt x="0" y="336"/>
                  </a:lnTo>
                  <a:lnTo>
                    <a:pt x="864" y="144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16360" y="10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30760" y="1400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67320" y="714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49520" y="333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 txBox="1"/>
          <p:nvPr/>
        </p:nvSpPr>
        <p:spPr>
          <a:xfrm rot="1138800">
            <a:off x="7238880" y="29844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00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一题多变</a:t>
            </a:r>
            <a:endParaRPr b="1" lang="en-US" sz="2400" spc="1" strike="noStrike">
              <a:ln w="12600">
                <a:solidFill>
                  <a:srgbClr val="ffcc99"/>
                </a:solidFill>
                <a:miter/>
              </a:ln>
              <a:solidFill>
                <a:srgbClr val="00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7" name=""/>
          <p:cNvSpPr/>
          <p:nvPr/>
        </p:nvSpPr>
        <p:spPr>
          <a:xfrm>
            <a:off x="76320" y="13824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图，在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OC=50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则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AC=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4419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97836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化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如图，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AC=40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则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BC=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516720" y="2708280"/>
            <a:ext cx="2133720" cy="1831320"/>
            <a:chOff x="6516720" y="2708280"/>
            <a:chExt cx="2133720" cy="1831320"/>
          </a:xfrm>
        </p:grpSpPr>
        <p:sp>
          <p:nvSpPr>
            <p:cNvPr id="521" name=""/>
            <p:cNvSpPr/>
            <p:nvPr/>
          </p:nvSpPr>
          <p:spPr>
            <a:xfrm>
              <a:off x="6516720" y="2708280"/>
              <a:ext cx="1676520" cy="1676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70880" y="3470400"/>
              <a:ext cx="114300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384" y="0"/>
                  </a:moveTo>
                  <a:lnTo>
                    <a:pt x="0" y="432"/>
                  </a:lnTo>
                  <a:lnTo>
                    <a:pt x="720" y="43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45320" y="3241800"/>
              <a:ext cx="1371600" cy="914400"/>
            </a:xfrm>
            <a:custGeom>
              <a:avLst/>
              <a:gdLst/>
              <a:ahLst/>
              <a:rect l="l" t="t" r="r" b="b"/>
              <a:pathLst>
                <a:path w="864" h="576">
                  <a:moveTo>
                    <a:pt x="0" y="576"/>
                  </a:moveTo>
                  <a:lnTo>
                    <a:pt x="864" y="0"/>
                  </a:lnTo>
                  <a:lnTo>
                    <a:pt x="720" y="576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16920" y="2835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6720" y="407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88320" y="402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02520" y="305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6320" y="1860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化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如图，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的三点， 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AC=40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则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OC=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1835280" y="98100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00200" y="431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76520" y="255276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rot="10650000">
            <a:off x="2123640" y="4722480"/>
            <a:ext cx="4726080" cy="2135160"/>
          </a:xfrm>
          <a:prstGeom prst="wedgeEllipseCallout">
            <a:avLst>
              <a:gd name="adj1" fmla="val -43648"/>
              <a:gd name="adj2" fmla="val 6764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由∠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BAC=40</a:t>
            </a:r>
            <a:r>
              <a:rPr b="0" lang="zh-CN" sz="2400" spc="-1" strike="noStrike" baseline="30000">
                <a:solidFill>
                  <a:srgbClr val="ff33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可得∠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BOC=80</a:t>
            </a:r>
            <a:r>
              <a:rPr b="0" lang="zh-CN" sz="2400" spc="-1" strike="noStrike" baseline="30000">
                <a:solidFill>
                  <a:srgbClr val="ff33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，再由△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BOC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是等腰三角形可求得∠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OBC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990720" y="404640"/>
            <a:ext cx="3429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开拓创新 试一试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121932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都是⊙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半径，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B=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BO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大小有什么关系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553080" y="2057400"/>
            <a:ext cx="2438640" cy="2212200"/>
            <a:chOff x="6553080" y="2057400"/>
            <a:chExt cx="2438640" cy="2212200"/>
          </a:xfrm>
        </p:grpSpPr>
        <p:grpSp>
          <p:nvGrpSpPr>
            <p:cNvPr id="537" name=""/>
            <p:cNvGrpSpPr/>
            <p:nvPr/>
          </p:nvGrpSpPr>
          <p:grpSpPr>
            <a:xfrm>
              <a:off x="6553080" y="2057400"/>
              <a:ext cx="2057400" cy="2057400"/>
              <a:chOff x="6553080" y="2057400"/>
              <a:chExt cx="2057400" cy="2057400"/>
            </a:xfrm>
          </p:grpSpPr>
          <p:sp>
            <p:nvSpPr>
              <p:cNvPr id="538" name=""/>
              <p:cNvSpPr/>
              <p:nvPr/>
            </p:nvSpPr>
            <p:spPr>
              <a:xfrm>
                <a:off x="6553080" y="2057400"/>
                <a:ext cx="2057400" cy="205740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58000" y="3048120"/>
                <a:ext cx="1676520" cy="838080"/>
              </a:xfrm>
              <a:custGeom>
                <a:avLst/>
                <a:gdLst/>
                <a:ahLst/>
                <a:rect l="l" t="t" r="r" b="b"/>
                <a:pathLst>
                  <a:path w="1056" h="528">
                    <a:moveTo>
                      <a:pt x="480" y="0"/>
                    </a:moveTo>
                    <a:lnTo>
                      <a:pt x="0" y="480"/>
                    </a:lnTo>
                    <a:lnTo>
                      <a:pt x="864" y="528"/>
                    </a:lnTo>
                    <a:lnTo>
                      <a:pt x="1056" y="240"/>
                    </a:lnTo>
                    <a:lnTo>
                      <a:pt x="480" y="0"/>
                    </a:lnTo>
                    <a:close/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620120" y="3048120"/>
                <a:ext cx="609480" cy="838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6858000" y="3429000"/>
                <a:ext cx="1676520" cy="380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553080" y="2590920"/>
              <a:ext cx="2438640" cy="1678680"/>
              <a:chOff x="6553080" y="2590920"/>
              <a:chExt cx="2438640" cy="1678680"/>
            </a:xfrm>
          </p:grpSpPr>
          <p:sp>
            <p:nvSpPr>
              <p:cNvPr id="543" name=""/>
              <p:cNvSpPr/>
              <p:nvPr/>
            </p:nvSpPr>
            <p:spPr>
              <a:xfrm>
                <a:off x="655308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91440" y="3809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3452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67480" y="2590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7" name=""/>
          <p:cNvSpPr/>
          <p:nvPr/>
        </p:nvSpPr>
        <p:spPr>
          <a:xfrm rot="10918200">
            <a:off x="4492800" y="4417560"/>
            <a:ext cx="4114800" cy="1817640"/>
          </a:xfrm>
          <a:prstGeom prst="wedgeEllipseCallout">
            <a:avLst>
              <a:gd name="adj1" fmla="val -33953"/>
              <a:gd name="adj2" fmla="val 55476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请同学们认真观察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OB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与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ACB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，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OC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与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AC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的关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2362320"/>
            <a:ext cx="43308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CB=2∠BA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理由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∵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OB=2∠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OC=2∠B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OB=2∠B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∠ACB =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∠BA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CB=2∠B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440480" y="2858040"/>
            <a:ext cx="1065600" cy="747360"/>
            <a:chOff x="7440480" y="2858040"/>
            <a:chExt cx="1065600" cy="747360"/>
          </a:xfrm>
        </p:grpSpPr>
        <p:sp>
          <p:nvSpPr>
            <p:cNvPr id="550" name=""/>
            <p:cNvSpPr/>
            <p:nvPr/>
          </p:nvSpPr>
          <p:spPr>
            <a:xfrm rot="9456600">
              <a:off x="7481160" y="2933280"/>
              <a:ext cx="456840" cy="30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12" y="250"/>
                  </a:moveTo>
                  <a:arcTo wR="10800" hR="10800" stAng="-4658231" swAng="46582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12" y="250"/>
                  </a:moveTo>
                  <a:arcTo wR="10800" hR="10800" stAng="-4658231" swAng="4658231"/>
                </a:path>
              </a:pathLst>
            </a:cu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1573400">
              <a:off x="8339040" y="3438720"/>
              <a:ext cx="1519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148160" y="2951280"/>
            <a:ext cx="754560" cy="1080360"/>
            <a:chOff x="7148160" y="2951280"/>
            <a:chExt cx="754560" cy="1080360"/>
          </a:xfrm>
        </p:grpSpPr>
        <p:sp>
          <p:nvSpPr>
            <p:cNvPr id="553" name=""/>
            <p:cNvSpPr/>
            <p:nvPr/>
          </p:nvSpPr>
          <p:spPr>
            <a:xfrm flipH="1" rot="11635800">
              <a:off x="7716240" y="296496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600800">
              <a:off x="7207920" y="3709080"/>
              <a:ext cx="1533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2939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293903"/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54f41"/>
                </a:solidFill>
                <a:latin typeface="Times New Roman"/>
                <a:ea typeface="黑体"/>
              </a:rPr>
              <a:t>回顾与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,∠AO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987800" y="990720"/>
            <a:ext cx="1488960" cy="1376280"/>
            <a:chOff x="4987800" y="990720"/>
            <a:chExt cx="1488960" cy="1376280"/>
          </a:xfrm>
        </p:grpSpPr>
        <p:sp>
          <p:nvSpPr>
            <p:cNvPr id="88" name=""/>
            <p:cNvSpPr/>
            <p:nvPr/>
          </p:nvSpPr>
          <p:spPr>
            <a:xfrm>
              <a:off x="5038560" y="99072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57600" y="1176480"/>
              <a:ext cx="571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560" y="181944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7800" y="1969920"/>
              <a:ext cx="34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10240" y="1584360"/>
              <a:ext cx="40932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248080" y="1584360"/>
              <a:ext cx="362160" cy="42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7200" y="2668680"/>
            <a:ext cx="586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, AB=CD 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O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大小关系是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45720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 rot="5965200">
            <a:off x="2323440" y="2608920"/>
            <a:ext cx="304200" cy="4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29" y="1907"/>
                </a:moveTo>
                <a:arcTo wR="10800" hR="10800" stAng="-3325622" swAng="4903707"/>
                <a:lnTo>
                  <a:pt x="10800" y="10800"/>
                </a:lnTo>
                <a:close/>
              </a:path>
              <a:path fill="none" w="21600" h="21600">
                <a:moveTo>
                  <a:pt x="16929" y="1907"/>
                </a:moveTo>
                <a:arcTo wR="10800" hR="10800" stAng="-3325622" swAng="4903707"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 rot="5965200">
            <a:off x="1712160" y="2621520"/>
            <a:ext cx="304200" cy="4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29" y="1907"/>
                </a:moveTo>
                <a:arcTo wR="10800" hR="10800" stAng="-3325622" swAng="4903707"/>
                <a:lnTo>
                  <a:pt x="10800" y="10800"/>
                </a:lnTo>
                <a:close/>
              </a:path>
              <a:path fill="none" w="21600" h="21600">
                <a:moveTo>
                  <a:pt x="16929" y="1907"/>
                </a:moveTo>
                <a:arcTo wR="10800" hR="10800" stAng="-3325622" swAng="4903707"/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666880"/>
            <a:ext cx="1752480" cy="1752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505320"/>
            <a:ext cx="75960" cy="9144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933960" y="3505320"/>
            <a:ext cx="685800" cy="6094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505320"/>
            <a:ext cx="83808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620120" y="2819160"/>
            <a:ext cx="457200" cy="685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9124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387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6668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3141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172200" y="1600200"/>
            <a:ext cx="2666880" cy="2796480"/>
            <a:chOff x="6172200" y="1600200"/>
            <a:chExt cx="2666880" cy="2796480"/>
          </a:xfrm>
        </p:grpSpPr>
        <p:grpSp>
          <p:nvGrpSpPr>
            <p:cNvPr id="557" name=""/>
            <p:cNvGrpSpPr/>
            <p:nvPr/>
          </p:nvGrpSpPr>
          <p:grpSpPr>
            <a:xfrm>
              <a:off x="6400800" y="2006280"/>
              <a:ext cx="2057400" cy="2057040"/>
              <a:chOff x="6400800" y="2006280"/>
              <a:chExt cx="2057400" cy="2057040"/>
            </a:xfrm>
          </p:grpSpPr>
          <p:sp>
            <p:nvSpPr>
              <p:cNvPr id="558" name=""/>
              <p:cNvSpPr/>
              <p:nvPr/>
            </p:nvSpPr>
            <p:spPr>
              <a:xfrm>
                <a:off x="6400800" y="2006280"/>
                <a:ext cx="2057400" cy="205704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464160" y="2018880"/>
                <a:ext cx="1981080" cy="198072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720" y="0"/>
                    </a:moveTo>
                    <a:lnTo>
                      <a:pt x="0" y="864"/>
                    </a:lnTo>
                    <a:lnTo>
                      <a:pt x="816" y="1248"/>
                    </a:lnTo>
                    <a:lnTo>
                      <a:pt x="1248" y="528"/>
                    </a:lnTo>
                    <a:lnTo>
                      <a:pt x="720" y="0"/>
                    </a:lnTo>
                    <a:close/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451560" y="2996640"/>
                <a:ext cx="1015920" cy="393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7467480" y="2856600"/>
                <a:ext cx="952560" cy="139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172200" y="1600200"/>
              <a:ext cx="2666880" cy="2796480"/>
              <a:chOff x="6172200" y="1600200"/>
              <a:chExt cx="2666880" cy="2796480"/>
            </a:xfrm>
          </p:grpSpPr>
          <p:sp>
            <p:nvSpPr>
              <p:cNvPr id="563" name=""/>
              <p:cNvSpPr/>
              <p:nvPr/>
            </p:nvSpPr>
            <p:spPr>
              <a:xfrm>
                <a:off x="745488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72200" y="3225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19760" y="393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458200" y="2616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15200" y="2552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0" y="1125360"/>
            <a:ext cx="7543800" cy="1188000"/>
            <a:chOff x="0" y="1125360"/>
            <a:chExt cx="7543800" cy="1188000"/>
          </a:xfrm>
        </p:grpSpPr>
        <p:sp>
          <p:nvSpPr>
            <p:cNvPr id="569" name=""/>
            <p:cNvSpPr/>
            <p:nvPr/>
          </p:nvSpPr>
          <p:spPr>
            <a:xfrm>
              <a:off x="0" y="112536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如图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⊙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上的四点，且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CD=100</a:t>
              </a:r>
              <a:r>
                <a:rPr b="0" lang="zh-CN" sz="2400" spc="-1" strike="noStrike" baseline="30000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求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O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C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所对的圆心角）和∠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A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的大小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 rot="11281200">
              <a:off x="1540440" y="2118960"/>
              <a:ext cx="6091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 rot="10786800">
            <a:off x="3428280" y="4188600"/>
            <a:ext cx="4095720" cy="2117880"/>
          </a:xfrm>
          <a:prstGeom prst="wedgeEllipseCallout">
            <a:avLst>
              <a:gd name="adj1" fmla="val -34472"/>
              <a:gd name="adj2" fmla="val 53916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由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CD=100</a:t>
            </a:r>
            <a:r>
              <a:rPr b="0" lang="zh-CN" sz="2400" spc="-1" strike="noStrike" baseline="30000">
                <a:solidFill>
                  <a:srgbClr val="cc00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，我们可求出对应的圆心角∠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200</a:t>
            </a:r>
            <a:r>
              <a:rPr b="0" lang="zh-CN" sz="2400" spc="-1" strike="noStrike" baseline="30000">
                <a:solidFill>
                  <a:srgbClr val="cc0000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，则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OD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就可求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8000" y="252396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∵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CD=1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=2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D=36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16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264080" y="2516040"/>
            <a:ext cx="609840" cy="866520"/>
            <a:chOff x="7264080" y="2516040"/>
            <a:chExt cx="609840" cy="866520"/>
          </a:xfrm>
        </p:grpSpPr>
        <p:sp>
          <p:nvSpPr>
            <p:cNvPr id="574" name=""/>
            <p:cNvSpPr/>
            <p:nvPr/>
          </p:nvSpPr>
          <p:spPr>
            <a:xfrm flipV="1" rot="12203400">
              <a:off x="7336080" y="2853720"/>
              <a:ext cx="456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05" y="1277"/>
                  </a:moveTo>
                  <a:arcTo wR="10800" hR="10800" stAng="-7088890" swAng="708889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05" y="1277"/>
                  </a:moveTo>
                  <a:arcTo wR="10800" hR="10800" stAng="-7088890" swAng="7088890"/>
                </a:path>
              </a:pathLst>
            </a:custGeom>
            <a:noFill/>
            <a:ln cap="sq"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493040" y="2516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539640" y="62064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172200" y="1600200"/>
            <a:ext cx="2666880" cy="2796480"/>
            <a:chOff x="6172200" y="1600200"/>
            <a:chExt cx="2666880" cy="2796480"/>
          </a:xfrm>
        </p:grpSpPr>
        <p:grpSp>
          <p:nvGrpSpPr>
            <p:cNvPr id="578" name=""/>
            <p:cNvGrpSpPr/>
            <p:nvPr/>
          </p:nvGrpSpPr>
          <p:grpSpPr>
            <a:xfrm>
              <a:off x="6400800" y="2006280"/>
              <a:ext cx="2057400" cy="2057040"/>
              <a:chOff x="6400800" y="2006280"/>
              <a:chExt cx="2057400" cy="2057040"/>
            </a:xfrm>
          </p:grpSpPr>
          <p:sp>
            <p:nvSpPr>
              <p:cNvPr id="579" name=""/>
              <p:cNvSpPr/>
              <p:nvPr/>
            </p:nvSpPr>
            <p:spPr>
              <a:xfrm>
                <a:off x="6400800" y="2006280"/>
                <a:ext cx="2057400" cy="205704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64160" y="2018880"/>
                <a:ext cx="1981080" cy="198072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720" y="0"/>
                    </a:moveTo>
                    <a:lnTo>
                      <a:pt x="0" y="864"/>
                    </a:lnTo>
                    <a:lnTo>
                      <a:pt x="816" y="1248"/>
                    </a:lnTo>
                    <a:lnTo>
                      <a:pt x="1248" y="528"/>
                    </a:lnTo>
                    <a:lnTo>
                      <a:pt x="720" y="0"/>
                    </a:lnTo>
                    <a:close/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451560" y="2996640"/>
                <a:ext cx="1015920" cy="393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7467480" y="2856600"/>
                <a:ext cx="952560" cy="139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172200" y="1600200"/>
              <a:ext cx="2666880" cy="2796480"/>
              <a:chOff x="6172200" y="1600200"/>
              <a:chExt cx="2666880" cy="2796480"/>
            </a:xfrm>
          </p:grpSpPr>
          <p:sp>
            <p:nvSpPr>
              <p:cNvPr id="584" name=""/>
              <p:cNvSpPr/>
              <p:nvPr/>
            </p:nvSpPr>
            <p:spPr>
              <a:xfrm>
                <a:off x="745488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200" y="3225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9760" y="393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58200" y="2616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5200" y="25524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"/>
          <p:cNvGrpSpPr/>
          <p:nvPr/>
        </p:nvGrpSpPr>
        <p:grpSpPr>
          <a:xfrm>
            <a:off x="76320" y="1143000"/>
            <a:ext cx="7543800" cy="1215720"/>
            <a:chOff x="76320" y="1143000"/>
            <a:chExt cx="7543800" cy="1215720"/>
          </a:xfrm>
        </p:grpSpPr>
        <p:sp>
          <p:nvSpPr>
            <p:cNvPr id="590" name=""/>
            <p:cNvSpPr/>
            <p:nvPr/>
          </p:nvSpPr>
          <p:spPr>
            <a:xfrm>
              <a:off x="76320" y="114300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如图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是⊙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上的四点，且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CD=100</a:t>
              </a:r>
              <a:r>
                <a:rPr b="0" lang="zh-CN" sz="2400" spc="-1" strike="noStrike" baseline="30000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求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O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C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所对的圆心角）和∠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BAD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的大小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 rot="11566800">
              <a:off x="1587960" y="2140560"/>
              <a:ext cx="6091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04920" y="252396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∵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CD=1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=2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∴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OD=36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16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264080" y="2516040"/>
            <a:ext cx="609840" cy="866520"/>
            <a:chOff x="7264080" y="2516040"/>
            <a:chExt cx="609840" cy="866520"/>
          </a:xfrm>
        </p:grpSpPr>
        <p:sp>
          <p:nvSpPr>
            <p:cNvPr id="594" name=""/>
            <p:cNvSpPr/>
            <p:nvPr/>
          </p:nvSpPr>
          <p:spPr>
            <a:xfrm flipV="1" rot="12203400">
              <a:off x="7336080" y="2853720"/>
              <a:ext cx="456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05" y="1277"/>
                  </a:moveTo>
                  <a:arcTo wR="10800" hR="10800" stAng="-7088890" swAng="708889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05" y="1277"/>
                  </a:moveTo>
                  <a:arcTo wR="10800" hR="10800" stAng="-7088890" swAng="7088890"/>
                </a:path>
              </a:pathLst>
            </a:custGeom>
            <a:noFill/>
            <a:ln cap="sq"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93040" y="2516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rot="10683600">
            <a:off x="4038120" y="4419720"/>
            <a:ext cx="3505320" cy="1752480"/>
          </a:xfrm>
          <a:prstGeom prst="wedgeEllipseCallout">
            <a:avLst>
              <a:gd name="adj1" fmla="val -36560"/>
              <a:gd name="adj2" fmla="val 58671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观察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OD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与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AD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的关系就可以求∠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AD</a:t>
            </a:r>
            <a:r>
              <a:rPr b="0" lang="zh-CN" sz="2400" spc="-1" strike="noStrike">
                <a:solidFill>
                  <a:srgbClr val="cc0000"/>
                </a:solidFill>
                <a:latin typeface="宋体"/>
              </a:rPr>
              <a:t>的大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50920" y="3962520"/>
            <a:ext cx="6019560" cy="764280"/>
            <a:chOff x="250920" y="3962520"/>
            <a:chExt cx="6019560" cy="764280"/>
          </a:xfrm>
        </p:grpSpPr>
        <p:sp>
          <p:nvSpPr>
            <p:cNvPr id="598" name=""/>
            <p:cNvSpPr/>
            <p:nvPr/>
          </p:nvSpPr>
          <p:spPr>
            <a:xfrm>
              <a:off x="250920" y="4114440"/>
              <a:ext cx="60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∴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AD=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OD=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×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60</a:t>
              </a:r>
              <a:r>
                <a:rPr b="0" lang="zh-CN" sz="2400" spc="-1" strike="noStrike" baseline="30000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=80</a:t>
              </a:r>
              <a:r>
                <a:rPr b="0" lang="zh-CN" sz="2400" spc="-1" strike="noStrike" baseline="30000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1850760" y="3962520"/>
              <a:ext cx="380520" cy="764280"/>
              <a:chOff x="1850760" y="3962520"/>
              <a:chExt cx="380520" cy="764280"/>
            </a:xfrm>
          </p:grpSpPr>
          <p:sp>
            <p:nvSpPr>
              <p:cNvPr id="600" name=""/>
              <p:cNvSpPr/>
              <p:nvPr/>
            </p:nvSpPr>
            <p:spPr>
              <a:xfrm>
                <a:off x="1850760" y="39625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75960" y="4343400"/>
                <a:ext cx="278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50760" y="42670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3298680" y="3962520"/>
              <a:ext cx="380520" cy="764280"/>
              <a:chOff x="3298680" y="3962520"/>
              <a:chExt cx="380520" cy="764280"/>
            </a:xfrm>
          </p:grpSpPr>
          <p:sp>
            <p:nvSpPr>
              <p:cNvPr id="604" name=""/>
              <p:cNvSpPr/>
              <p:nvPr/>
            </p:nvSpPr>
            <p:spPr>
              <a:xfrm>
                <a:off x="3298680" y="39625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23880" y="4343400"/>
                <a:ext cx="2786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98680" y="42670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334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课内拓展延伸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320" y="838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目前为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学习到和圆有关的角有几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它们各有什么特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相互之间有什么关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320" y="1600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答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和圆有关的角有圆心角和圆周角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圆心角顶点在圆心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圆周角顶点在圆上，角的两边和圆相交。一条弧所对的圆周角等于它所对的圆心角的一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52280" y="2895480"/>
            <a:ext cx="8458200" cy="3733920"/>
            <a:chOff x="152280" y="2895480"/>
            <a:chExt cx="8458200" cy="3733920"/>
          </a:xfrm>
        </p:grpSpPr>
        <p:sp>
          <p:nvSpPr>
            <p:cNvPr id="611" name=""/>
            <p:cNvSpPr/>
            <p:nvPr/>
          </p:nvSpPr>
          <p:spPr>
            <a:xfrm>
              <a:off x="152280" y="28954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课后思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1"/>
            <a:srcRect l="7412" t="8321" r="12346" b="18541"/>
            <a:stretch/>
          </p:blipFill>
          <p:spPr>
            <a:xfrm>
              <a:off x="380880" y="3454560"/>
              <a:ext cx="541044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6192720" y="3886200"/>
              <a:ext cx="2417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如图，当他站在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，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位置射球时对球门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的张角的大小相等吗？为什么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209680" y="4952880"/>
            <a:ext cx="2019600" cy="507960"/>
            <a:chOff x="2209680" y="4952880"/>
            <a:chExt cx="2019600" cy="507960"/>
          </a:xfrm>
        </p:grpSpPr>
        <p:sp>
          <p:nvSpPr>
            <p:cNvPr id="615" name=""/>
            <p:cNvSpPr/>
            <p:nvPr/>
          </p:nvSpPr>
          <p:spPr>
            <a:xfrm>
              <a:off x="2209680" y="5143680"/>
              <a:ext cx="152640" cy="15228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5308560"/>
              <a:ext cx="152280" cy="15228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76640" y="4952880"/>
              <a:ext cx="152640" cy="152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066680" y="1447920"/>
            <a:ext cx="7391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谢谢合作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22860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981000"/>
            <a:ext cx="7162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射门游戏中，球员射中球门的难易与他所处的位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球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张角（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有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7412" t="4983" r="12346" b="10220"/>
          <a:stretch/>
        </p:blipFill>
        <p:spPr>
          <a:xfrm>
            <a:off x="2050920" y="270828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9880" y="3632040"/>
            <a:ext cx="1524240" cy="635040"/>
          </a:xfrm>
          <a:custGeom>
            <a:avLst/>
            <a:gdLst/>
            <a:ahLst/>
            <a:rect l="l" t="t" r="r" b="b"/>
            <a:pathLst>
              <a:path w="960" h="400">
                <a:moveTo>
                  <a:pt x="0" y="16"/>
                </a:moveTo>
                <a:lnTo>
                  <a:pt x="0" y="400"/>
                </a:lnTo>
                <a:lnTo>
                  <a:pt x="960" y="0"/>
                </a:ln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22860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412" t="8321" r="12346" b="18541"/>
          <a:stretch/>
        </p:blipFill>
        <p:spPr>
          <a:xfrm>
            <a:off x="990720" y="1143000"/>
            <a:ext cx="70102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53355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当他站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位置射球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球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张角的大小相等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666880"/>
            <a:ext cx="2209680" cy="83844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48"/>
                </a:moveTo>
                <a:lnTo>
                  <a:pt x="0" y="528"/>
                </a:lnTo>
                <a:lnTo>
                  <a:pt x="1392" y="0"/>
                </a:ln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666880"/>
            <a:ext cx="2209680" cy="83844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48"/>
                </a:moveTo>
                <a:lnTo>
                  <a:pt x="0" y="528"/>
                </a:lnTo>
                <a:lnTo>
                  <a:pt x="1392" y="0"/>
                </a:lnTo>
              </a:path>
            </a:pathLst>
          </a:custGeom>
          <a:noFill/>
          <a:ln cap="sq"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2666880"/>
            <a:ext cx="2209680" cy="1067040"/>
          </a:xfrm>
          <a:custGeom>
            <a:avLst/>
            <a:gdLst/>
            <a:ahLst/>
            <a:rect l="l" t="t" r="r" b="b"/>
            <a:pathLst>
              <a:path w="1392" h="672">
                <a:moveTo>
                  <a:pt x="0" y="48"/>
                </a:moveTo>
                <a:lnTo>
                  <a:pt x="816" y="672"/>
                </a:lnTo>
                <a:lnTo>
                  <a:pt x="1392" y="0"/>
                </a:ln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666880"/>
            <a:ext cx="2209680" cy="1067040"/>
          </a:xfrm>
          <a:custGeom>
            <a:avLst/>
            <a:gdLst/>
            <a:ahLst/>
            <a:rect l="l" t="t" r="r" b="b"/>
            <a:pathLst>
              <a:path w="1392" h="672">
                <a:moveTo>
                  <a:pt x="0" y="48"/>
                </a:moveTo>
                <a:lnTo>
                  <a:pt x="816" y="672"/>
                </a:lnTo>
                <a:lnTo>
                  <a:pt x="1392" y="0"/>
                </a:ln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666880"/>
            <a:ext cx="2438280" cy="457200"/>
          </a:xfrm>
          <a:custGeom>
            <a:avLst/>
            <a:gdLst/>
            <a:ahLst/>
            <a:rect l="l" t="t" r="r" b="b"/>
            <a:pathLst>
              <a:path w="1536" h="288">
                <a:moveTo>
                  <a:pt x="0" y="48"/>
                </a:moveTo>
                <a:lnTo>
                  <a:pt x="1536" y="288"/>
                </a:lnTo>
                <a:lnTo>
                  <a:pt x="1392" y="0"/>
                </a:lnTo>
              </a:path>
            </a:pathLst>
          </a:cu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62485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你能观察到这三个角有什么共同特征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505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505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286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9907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解决这个问题我们先来研究一种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观察图中的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顶点在什么位置？角的两边有什么特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2209680"/>
            <a:ext cx="2222640" cy="2059920"/>
            <a:chOff x="609480" y="2209680"/>
            <a:chExt cx="2222640" cy="2059920"/>
          </a:xfrm>
        </p:grpSpPr>
        <p:sp>
          <p:nvSpPr>
            <p:cNvPr id="126" name=""/>
            <p:cNvSpPr/>
            <p:nvPr/>
          </p:nvSpPr>
          <p:spPr>
            <a:xfrm>
              <a:off x="851040" y="2514600"/>
              <a:ext cx="1676160" cy="1676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926640" y="2666880"/>
              <a:ext cx="1219320" cy="106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7000" y="3733920"/>
              <a:ext cx="130680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63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9860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2286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观察图中的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可以发现，它的顶点在圆上，它的两边分别与圆还有另一个交点。像这样的角，叫做圆周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1752480"/>
            <a:ext cx="2222640" cy="2059920"/>
            <a:chOff x="609480" y="1752480"/>
            <a:chExt cx="2222640" cy="2059920"/>
          </a:xfrm>
        </p:grpSpPr>
        <p:sp>
          <p:nvSpPr>
            <p:cNvPr id="135" name=""/>
            <p:cNvSpPr/>
            <p:nvPr/>
          </p:nvSpPr>
          <p:spPr>
            <a:xfrm>
              <a:off x="851040" y="2057400"/>
              <a:ext cx="1676160" cy="1676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926640" y="2209680"/>
              <a:ext cx="1219320" cy="106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7000" y="3276720"/>
              <a:ext cx="130680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463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9860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3962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同学们考虑两个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顶点在圆上的角是圆周角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角的两边都和圆相交的角是圆周角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638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解决这个问题，我们先回答下面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04920"/>
            <a:ext cx="76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下列各图形中的角是不是圆周角？请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280" y="1066680"/>
            <a:ext cx="1295640" cy="1905120"/>
            <a:chOff x="152280" y="1066680"/>
            <a:chExt cx="1295640" cy="1905120"/>
          </a:xfrm>
        </p:grpSpPr>
        <p:sp>
          <p:nvSpPr>
            <p:cNvPr id="145" name=""/>
            <p:cNvSpPr/>
            <p:nvPr/>
          </p:nvSpPr>
          <p:spPr>
            <a:xfrm>
              <a:off x="152280" y="1676520"/>
              <a:ext cx="1295640" cy="12952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5240" y="1066680"/>
              <a:ext cx="1282680" cy="139716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912"/>
                  </a:moveTo>
                  <a:lnTo>
                    <a:pt x="432" y="0"/>
                  </a:lnTo>
                  <a:lnTo>
                    <a:pt x="816" y="816"/>
                  </a:lnTo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905120" y="1676520"/>
            <a:ext cx="1295280" cy="1295280"/>
            <a:chOff x="1905120" y="1676520"/>
            <a:chExt cx="1295280" cy="1295280"/>
          </a:xfrm>
        </p:grpSpPr>
        <p:sp>
          <p:nvSpPr>
            <p:cNvPr id="148" name=""/>
            <p:cNvSpPr/>
            <p:nvPr/>
          </p:nvSpPr>
          <p:spPr>
            <a:xfrm>
              <a:off x="1905120" y="1676520"/>
              <a:ext cx="1295280" cy="12952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68480" y="2057400"/>
              <a:ext cx="1155600" cy="546120"/>
            </a:xfrm>
            <a:custGeom>
              <a:avLst/>
              <a:gdLst/>
              <a:ahLst/>
              <a:rect l="l" t="t" r="r" b="b"/>
              <a:pathLst>
                <a:path w="720" h="336">
                  <a:moveTo>
                    <a:pt x="0" y="288"/>
                  </a:moveTo>
                  <a:lnTo>
                    <a:pt x="192" y="0"/>
                  </a:lnTo>
                  <a:lnTo>
                    <a:pt x="720" y="336"/>
                  </a:lnTo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57600" y="1676520"/>
            <a:ext cx="1295280" cy="1295280"/>
            <a:chOff x="3657600" y="1676520"/>
            <a:chExt cx="1295280" cy="1295280"/>
          </a:xfrm>
        </p:grpSpPr>
        <p:sp>
          <p:nvSpPr>
            <p:cNvPr id="151" name=""/>
            <p:cNvSpPr/>
            <p:nvPr/>
          </p:nvSpPr>
          <p:spPr>
            <a:xfrm>
              <a:off x="3657600" y="1676520"/>
              <a:ext cx="1295280" cy="12952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1689120"/>
              <a:ext cx="99036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0" y="720"/>
                  </a:moveTo>
                  <a:lnTo>
                    <a:pt x="240" y="0"/>
                  </a:lnTo>
                  <a:lnTo>
                    <a:pt x="624" y="384"/>
                  </a:lnTo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066680"/>
            <a:ext cx="1295280" cy="1905120"/>
            <a:chOff x="5562720" y="1066680"/>
            <a:chExt cx="1295280" cy="1905120"/>
          </a:xfrm>
        </p:grpSpPr>
        <p:sp>
          <p:nvSpPr>
            <p:cNvPr id="154" name=""/>
            <p:cNvSpPr/>
            <p:nvPr/>
          </p:nvSpPr>
          <p:spPr>
            <a:xfrm>
              <a:off x="5562720" y="1676520"/>
              <a:ext cx="1295280" cy="12952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1066680"/>
              <a:ext cx="762120" cy="609840"/>
            </a:xfrm>
            <a:custGeom>
              <a:avLst/>
              <a:gdLst/>
              <a:ahLst/>
              <a:rect l="l" t="t" r="r" b="b"/>
              <a:pathLst>
                <a:path w="480" h="384">
                  <a:moveTo>
                    <a:pt x="0" y="96"/>
                  </a:moveTo>
                  <a:lnTo>
                    <a:pt x="288" y="384"/>
                  </a:lnTo>
                  <a:lnTo>
                    <a:pt x="480" y="0"/>
                  </a:lnTo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15200" y="1371600"/>
            <a:ext cx="1295280" cy="1600200"/>
            <a:chOff x="7315200" y="1371600"/>
            <a:chExt cx="1295280" cy="1600200"/>
          </a:xfrm>
        </p:grpSpPr>
        <p:sp>
          <p:nvSpPr>
            <p:cNvPr id="157" name=""/>
            <p:cNvSpPr/>
            <p:nvPr/>
          </p:nvSpPr>
          <p:spPr>
            <a:xfrm>
              <a:off x="7315200" y="1676520"/>
              <a:ext cx="1295280" cy="12952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3800" y="1371600"/>
              <a:ext cx="838080" cy="1447920"/>
            </a:xfrm>
            <a:custGeom>
              <a:avLst/>
              <a:gdLst/>
              <a:ahLst/>
              <a:rect l="l" t="t" r="r" b="b"/>
              <a:pathLst>
                <a:path w="528" h="912">
                  <a:moveTo>
                    <a:pt x="0" y="0"/>
                  </a:moveTo>
                  <a:lnTo>
                    <a:pt x="288" y="192"/>
                  </a:lnTo>
                  <a:lnTo>
                    <a:pt x="528" y="912"/>
                  </a:lnTo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黑体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789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圆周角的定义可知，只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圆周角，其它都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你能总结出圆周角的特征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92444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圆周角有两个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角的顶点在圆上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两边在圆内的部分是圆的两条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8366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再来研究圆周角的性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8428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了解决这个问题，我们先研究一条弧所对的圆周角与它所对的圆心角之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34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请同学们在圆上确定一条劣弧，画出它所对的圆心角与圆周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8040" y="3935520"/>
            <a:ext cx="2582640" cy="2582280"/>
            <a:chOff x="1148040" y="3935520"/>
            <a:chExt cx="2582640" cy="2582280"/>
          </a:xfrm>
        </p:grpSpPr>
        <p:sp>
          <p:nvSpPr>
            <p:cNvPr id="172" name=""/>
            <p:cNvSpPr/>
            <p:nvPr/>
          </p:nvSpPr>
          <p:spPr>
            <a:xfrm>
              <a:off x="1476360" y="4310280"/>
              <a:ext cx="1904760" cy="19047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09800">
              <a:off x="1524960" y="4311720"/>
              <a:ext cx="1828440" cy="182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60" y="1206"/>
                  </a:moveTo>
                  <a:arcTo wR="10800" hR="10800" stAng="-3759743" swAng="37597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60" y="1206"/>
                  </a:moveTo>
                  <a:arcTo wR="10800" hR="10800" stAng="-3759743" swAng="3759743"/>
                </a:path>
              </a:pathLst>
            </a:custGeom>
            <a:noFill/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0920" y="40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76560" y="4233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-763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60948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归纳同学们的意见我们得到以下几种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26708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①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一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800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②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两边都不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③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两边都不经过圆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4724280"/>
            <a:ext cx="4419720" cy="1828800"/>
          </a:xfrm>
          <a:prstGeom prst="wedgeEllipseCallout">
            <a:avLst>
              <a:gd name="adj1" fmla="val -48277"/>
              <a:gd name="adj2" fmla="val 86634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问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们的大小有什么关系？说说你的想法，并与同伴进行交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1219320"/>
            <a:ext cx="1739880" cy="2745720"/>
            <a:chOff x="304920" y="1219320"/>
            <a:chExt cx="1739880" cy="2745720"/>
          </a:xfrm>
        </p:grpSpPr>
        <p:grpSp>
          <p:nvGrpSpPr>
            <p:cNvPr id="183" name=""/>
            <p:cNvGrpSpPr/>
            <p:nvPr/>
          </p:nvGrpSpPr>
          <p:grpSpPr>
            <a:xfrm>
              <a:off x="304920" y="1219320"/>
              <a:ext cx="1739880" cy="2186640"/>
              <a:chOff x="304920" y="1219320"/>
              <a:chExt cx="1739880" cy="2186640"/>
            </a:xfrm>
          </p:grpSpPr>
          <p:sp>
            <p:nvSpPr>
              <p:cNvPr id="184" name=""/>
              <p:cNvSpPr/>
              <p:nvPr/>
            </p:nvSpPr>
            <p:spPr>
              <a:xfrm>
                <a:off x="304920" y="1498680"/>
                <a:ext cx="1676520" cy="167616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685800" y="1650960"/>
                <a:ext cx="914400" cy="13716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609480" y="1727280"/>
                <a:ext cx="75960" cy="12952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9840" y="1727280"/>
                <a:ext cx="520560" cy="6602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2000" y="29462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1240" y="1270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79640" y="2209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11280" y="12193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83808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819520" y="1066680"/>
            <a:ext cx="1904400" cy="3050640"/>
            <a:chOff x="2819520" y="1066680"/>
            <a:chExt cx="1904400" cy="3050640"/>
          </a:xfrm>
        </p:grpSpPr>
        <p:grpSp>
          <p:nvGrpSpPr>
            <p:cNvPr id="194" name=""/>
            <p:cNvGrpSpPr/>
            <p:nvPr/>
          </p:nvGrpSpPr>
          <p:grpSpPr>
            <a:xfrm>
              <a:off x="2819520" y="1066680"/>
              <a:ext cx="1904400" cy="2618640"/>
              <a:chOff x="2819520" y="1066680"/>
              <a:chExt cx="1904400" cy="2618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819520" y="1447560"/>
                <a:ext cx="1828440" cy="182880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52680" y="1523880"/>
                <a:ext cx="990000" cy="1752480"/>
              </a:xfrm>
              <a:custGeom>
                <a:avLst/>
                <a:gdLst/>
                <a:ahLst/>
                <a:rect l="l" t="t" r="r" b="b"/>
                <a:pathLst>
                  <a:path w="624" h="1104">
                    <a:moveTo>
                      <a:pt x="0" y="0"/>
                    </a:moveTo>
                    <a:lnTo>
                      <a:pt x="144" y="1104"/>
                    </a:lnTo>
                    <a:lnTo>
                      <a:pt x="624" y="96"/>
                    </a:ln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52680" y="1523880"/>
                <a:ext cx="990000" cy="83808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0" y="0"/>
                    </a:moveTo>
                    <a:lnTo>
                      <a:pt x="192" y="528"/>
                    </a:lnTo>
                    <a:lnTo>
                      <a:pt x="624" y="96"/>
                    </a:ln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0004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77880" y="3225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67080" y="12952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0496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429000" y="3657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86400" y="1143000"/>
            <a:ext cx="2286000" cy="2898000"/>
            <a:chOff x="5486400" y="1143000"/>
            <a:chExt cx="2286000" cy="2898000"/>
          </a:xfrm>
        </p:grpSpPr>
        <p:grpSp>
          <p:nvGrpSpPr>
            <p:cNvPr id="204" name=""/>
            <p:cNvGrpSpPr/>
            <p:nvPr/>
          </p:nvGrpSpPr>
          <p:grpSpPr>
            <a:xfrm>
              <a:off x="5486400" y="1143000"/>
              <a:ext cx="2286000" cy="2286000"/>
              <a:chOff x="5486400" y="1143000"/>
              <a:chExt cx="2286000" cy="2286000"/>
            </a:xfrm>
          </p:grpSpPr>
          <p:sp>
            <p:nvSpPr>
              <p:cNvPr id="205" name=""/>
              <p:cNvSpPr/>
              <p:nvPr/>
            </p:nvSpPr>
            <p:spPr>
              <a:xfrm>
                <a:off x="5639040" y="1447560"/>
                <a:ext cx="1981080" cy="198144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72200" y="1600200"/>
                <a:ext cx="1143000" cy="838080"/>
              </a:xfrm>
              <a:custGeom>
                <a:avLst/>
                <a:gdLst/>
                <a:ahLst/>
                <a:rect l="l" t="t" r="r" b="b"/>
                <a:pathLst>
                  <a:path w="720" h="528">
                    <a:moveTo>
                      <a:pt x="0" y="0"/>
                    </a:moveTo>
                    <a:lnTo>
                      <a:pt x="336" y="528"/>
                    </a:lnTo>
                    <a:lnTo>
                      <a:pt x="720" y="96"/>
                    </a:ln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91320" y="1600200"/>
                <a:ext cx="1523880" cy="1371600"/>
              </a:xfrm>
              <a:custGeom>
                <a:avLst/>
                <a:gdLst/>
                <a:ahLst/>
                <a:rect l="l" t="t" r="r" b="b"/>
                <a:pathLst>
                  <a:path w="960" h="864">
                    <a:moveTo>
                      <a:pt x="240" y="0"/>
                    </a:moveTo>
                    <a:lnTo>
                      <a:pt x="0" y="864"/>
                    </a:lnTo>
                    <a:lnTo>
                      <a:pt x="960" y="96"/>
                    </a:ln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86400" y="28573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43600" y="1143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39240" y="1371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53440" y="23619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400800" y="358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王建波</dc:creator>
  <dc:description/>
  <dc:language>en-US</dc:language>
  <cp:lastModifiedBy>User</cp:lastModifiedBy>
  <dcterms:modified xsi:type="dcterms:W3CDTF">2014-02-18T02:49:44Z</dcterms:modified>
  <cp:revision>238</cp:revision>
  <dc:subject/>
  <dc:title>PowerPoint 演示文稿</dc:title>
</cp:coreProperties>
</file>