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chimes.wav" ContentType="audio/x-wav"/>
  <Override PartName="/ppt/media/image4.gif" ContentType="image/gif"/>
  <Override PartName="/ppt/media/type.wav" ContentType="audio/x-wav"/>
  <Override PartName="/ppt/media/image3.png" ContentType="image/png"/>
  <Override PartName="/ppt/media/image7.png" ContentType="image/png"/>
  <Override PartName="/ppt/media/drive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8B5-4AFF-465A-971E-26FCD32A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616-66AE-47F2-BC51-B5057821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EFB-3DBF-47EF-8DB8-73050F54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C01-F45B-445C-939B-86AD6FF0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5C2D-F9B3-47A4-ACA0-390B570D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4BA3-7AEE-47FB-B3F0-8ED2C04F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042-F2A5-4677-A390-FE57AED7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6DC-7A68-4F25-B5A8-A934F8F0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3D9-E077-4BDD-8F8D-306C99F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10A4-3D15-452A-87DD-5DD3AB3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CD3C-F8FC-4481-BEDD-3AD3C0E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49B-C32E-461C-B87D-6B341642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5DBF-EBB6-4BA3-84AD-F02AA47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CA04-5176-4660-B6F6-D7010E11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7512-4886-4A81-8FDC-90B8090B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2052-7605-4ED7-9715-BB0B19EC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4DA4-5A68-40EC-9D81-7D6C2EA9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A87-B2EF-48A6-BAA8-1972E5E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E9B-C585-4DA1-AB8B-5FC1487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2A2-17AA-4371-B3A4-99EF4238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AF9-9E24-431B-892C-407BA17B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5D0-D62E-4DBD-9A78-6CFE90C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614-6273-4469-AF49-15B2C6C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882-2F3B-4477-954B-186BFB2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AB36-9EA9-4BB4-9F10-6B6CA6E128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EEB9-0146-45C0-901E-45AA2DC995F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25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第三章  圆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280" y="177300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第五节  直线和圆的位置关系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1760" y="1134720"/>
            <a:ext cx="69339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角形与圆的“切”关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以边长为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,4,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的三角形的三个顶点为圆心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分别作圆与对边相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则这三个圆的半径分别是多少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1c1c1c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191120" y="380880"/>
            <a:ext cx="3961800" cy="685800"/>
            <a:chOff x="4191120" y="380880"/>
            <a:chExt cx="3961800" cy="685800"/>
          </a:xfrm>
        </p:grpSpPr>
        <p:grpSp>
          <p:nvGrpSpPr>
            <p:cNvPr id="417" name=""/>
            <p:cNvGrpSpPr/>
            <p:nvPr/>
          </p:nvGrpSpPr>
          <p:grpSpPr>
            <a:xfrm>
              <a:off x="4191120" y="426960"/>
              <a:ext cx="2612880" cy="461880"/>
              <a:chOff x="4191120" y="426960"/>
              <a:chExt cx="2612880" cy="461880"/>
            </a:xfrm>
          </p:grpSpPr>
          <p:sp>
            <p:nvSpPr>
              <p:cNvPr id="418" name=""/>
              <p:cNvSpPr/>
              <p:nvPr/>
            </p:nvSpPr>
            <p:spPr>
              <a:xfrm>
                <a:off x="4191120" y="429120"/>
                <a:ext cx="261288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练一练，你能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70480" y="426960"/>
                <a:ext cx="184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6804000" y="380880"/>
              <a:ext cx="1348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191120" y="533160"/>
              <a:ext cx="5896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"/>
          <p:cNvSpPr/>
          <p:nvPr/>
        </p:nvSpPr>
        <p:spPr>
          <a:xfrm>
            <a:off x="76320" y="4800600"/>
            <a:ext cx="906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别作出锐角三角形、直角三角形、钝角三角形的内切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说明它们内心的位置情况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580536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先确定圆心和半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尺规作图要保留作图痕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57200" y="2590920"/>
            <a:ext cx="2743200" cy="2212200"/>
            <a:chOff x="457200" y="2590920"/>
            <a:chExt cx="2743200" cy="2212200"/>
          </a:xfrm>
        </p:grpSpPr>
        <p:sp>
          <p:nvSpPr>
            <p:cNvPr id="425" name=""/>
            <p:cNvSpPr/>
            <p:nvPr/>
          </p:nvSpPr>
          <p:spPr>
            <a:xfrm>
              <a:off x="205740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720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14400" y="4419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914400" y="3048120"/>
              <a:ext cx="12189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3360" y="3048120"/>
              <a:ext cx="533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29000" y="2895480"/>
            <a:ext cx="2286000" cy="1755000"/>
            <a:chOff x="3429000" y="2895480"/>
            <a:chExt cx="2286000" cy="1755000"/>
          </a:xfrm>
        </p:grpSpPr>
        <p:sp>
          <p:nvSpPr>
            <p:cNvPr id="432" name=""/>
            <p:cNvSpPr/>
            <p:nvPr/>
          </p:nvSpPr>
          <p:spPr>
            <a:xfrm>
              <a:off x="3768840" y="3200040"/>
              <a:ext cx="1601640" cy="1079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34120" y="4190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2900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4190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76680" y="3885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324480" y="2666880"/>
            <a:ext cx="2057400" cy="2136240"/>
            <a:chOff x="6324480" y="2666880"/>
            <a:chExt cx="2057400" cy="2136240"/>
          </a:xfrm>
        </p:grpSpPr>
        <p:sp>
          <p:nvSpPr>
            <p:cNvPr id="438" name=""/>
            <p:cNvSpPr/>
            <p:nvPr/>
          </p:nvSpPr>
          <p:spPr>
            <a:xfrm flipV="1">
              <a:off x="7086600" y="4457160"/>
              <a:ext cx="76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6629400" y="3047760"/>
              <a:ext cx="4572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6647040" y="3084480"/>
              <a:ext cx="120168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01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523880" y="3486240"/>
            <a:ext cx="914400" cy="914400"/>
            <a:chOff x="1523880" y="3486240"/>
            <a:chExt cx="914400" cy="914400"/>
          </a:xfrm>
        </p:grpSpPr>
        <p:sp>
          <p:nvSpPr>
            <p:cNvPr id="445" name=""/>
            <p:cNvSpPr/>
            <p:nvPr/>
          </p:nvSpPr>
          <p:spPr>
            <a:xfrm>
              <a:off x="1523880" y="348624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28800" y="3794040"/>
              <a:ext cx="2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66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790800" y="3562200"/>
            <a:ext cx="704880" cy="704880"/>
            <a:chOff x="3790800" y="3562200"/>
            <a:chExt cx="704880" cy="704880"/>
          </a:xfrm>
        </p:grpSpPr>
        <p:sp>
          <p:nvSpPr>
            <p:cNvPr id="448" name=""/>
            <p:cNvSpPr/>
            <p:nvPr/>
          </p:nvSpPr>
          <p:spPr>
            <a:xfrm>
              <a:off x="3790800" y="3562200"/>
              <a:ext cx="704880" cy="704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81600" y="3794040"/>
              <a:ext cx="20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029360" y="3943440"/>
            <a:ext cx="514440" cy="514440"/>
            <a:chOff x="7029360" y="3943440"/>
            <a:chExt cx="514440" cy="514440"/>
          </a:xfrm>
        </p:grpSpPr>
        <p:sp>
          <p:nvSpPr>
            <p:cNvPr id="451" name=""/>
            <p:cNvSpPr/>
            <p:nvPr/>
          </p:nvSpPr>
          <p:spPr>
            <a:xfrm>
              <a:off x="7029360" y="3943440"/>
              <a:ext cx="514440" cy="514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24760" y="407664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920" y="914400"/>
            <a:ext cx="55548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挑战自我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必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习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8     1,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选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已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直径，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切线，切点为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O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平行于弦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D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．  求证：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DC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⊙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的切线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268000" y="5300640"/>
            <a:ext cx="3311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祝你成功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781680" y="76320"/>
            <a:ext cx="2362320" cy="1834920"/>
            <a:chOff x="6781680" y="76320"/>
            <a:chExt cx="2362320" cy="1834920"/>
          </a:xfrm>
        </p:grpSpPr>
        <p:pic>
          <p:nvPicPr>
            <p:cNvPr id="457" name="" descr=""/>
            <p:cNvPicPr/>
            <p:nvPr/>
          </p:nvPicPr>
          <p:blipFill>
            <a:blip r:embed="rId1"/>
            <a:stretch/>
          </p:blipFill>
          <p:spPr>
            <a:xfrm>
              <a:off x="6781680" y="763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238880" y="806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" name="286a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7064640" cy="5254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600200" y="1371600"/>
            <a:ext cx="3429000" cy="220968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lackadder ITC"/>
                <a:ea typeface="方正舒体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Blackadder ITC"/>
                <a:ea typeface="方正舒体"/>
              </a:rPr>
              <a:t>Bye</a:t>
            </a:r>
            <a:r>
              <a:rPr b="0" lang="zh-CN" sz="6000" spc="-1" strike="noStrike">
                <a:solidFill>
                  <a:srgbClr val="000000"/>
                </a:solidFill>
                <a:latin typeface="Blackadder ITC"/>
                <a:ea typeface="方正舒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040" y="45720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相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52280"/>
            <a:ext cx="4343040" cy="685800"/>
            <a:chOff x="228600" y="152280"/>
            <a:chExt cx="4343040" cy="685800"/>
          </a:xfrm>
        </p:grpSpPr>
        <p:grpSp>
          <p:nvGrpSpPr>
            <p:cNvPr id="103" name=""/>
            <p:cNvGrpSpPr/>
            <p:nvPr/>
          </p:nvGrpSpPr>
          <p:grpSpPr>
            <a:xfrm>
              <a:off x="228600" y="198360"/>
              <a:ext cx="2864520" cy="461880"/>
              <a:chOff x="228600" y="198360"/>
              <a:chExt cx="2864520" cy="461880"/>
            </a:xfrm>
          </p:grpSpPr>
          <p:sp>
            <p:nvSpPr>
              <p:cNvPr id="104" name=""/>
              <p:cNvSpPr/>
              <p:nvPr/>
            </p:nvSpPr>
            <p:spPr>
              <a:xfrm>
                <a:off x="228600" y="200520"/>
                <a:ext cx="28645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打开记忆的闸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09920" y="198360"/>
                <a:ext cx="184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093120" y="152280"/>
              <a:ext cx="14785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28600" y="304560"/>
              <a:ext cx="6465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5105520" y="51814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宋体"/>
              </a:rPr>
              <a:t>d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4495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宋体"/>
              </a:rPr>
              <a:t>d</a:t>
            </a:r>
            <a:r>
              <a:rPr b="1" lang="en-US" sz="2800" spc="-1" strike="noStrike" u="sng">
                <a:solidFill>
                  <a:srgbClr val="1c1c1c"/>
                </a:solidFill>
                <a:uFillTx/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r</a:t>
            </a:r>
            <a:r>
              <a:rPr b="1" lang="en-US" sz="2800" spc="-1" strike="noStrike">
                <a:solidFill>
                  <a:srgbClr val="1c1c1c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51958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相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8672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和圆相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867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宋体"/>
              </a:rPr>
              <a:t>d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9907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直线与圆的位置关系量化揭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4920" y="2057400"/>
            <a:ext cx="8624880" cy="2745720"/>
            <a:chOff x="304920" y="2057400"/>
            <a:chExt cx="8624880" cy="2745720"/>
          </a:xfrm>
        </p:grpSpPr>
        <p:grpSp>
          <p:nvGrpSpPr>
            <p:cNvPr id="115" name=""/>
            <p:cNvGrpSpPr/>
            <p:nvPr/>
          </p:nvGrpSpPr>
          <p:grpSpPr>
            <a:xfrm>
              <a:off x="304920" y="2057400"/>
              <a:ext cx="8624880" cy="2745720"/>
              <a:chOff x="304920" y="2057400"/>
              <a:chExt cx="8624880" cy="27457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3524400" y="2076480"/>
                <a:ext cx="1962000" cy="1962000"/>
                <a:chOff x="3524400" y="2076480"/>
                <a:chExt cx="1962000" cy="1962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524400" y="2076480"/>
                  <a:ext cx="1962000" cy="1962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89480" y="2818080"/>
                  <a:ext cx="74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01480" y="2057400"/>
                <a:ext cx="1962360" cy="1962000"/>
                <a:chOff x="501480" y="2057400"/>
                <a:chExt cx="1962360" cy="19620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01480" y="2057400"/>
                  <a:ext cx="1962360" cy="1962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6560" y="2799000"/>
                  <a:ext cx="74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066680" y="403848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ahoma"/>
                  </a:rPr>
                  <a:t>相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6496200" y="2057400"/>
                <a:ext cx="1962000" cy="1962000"/>
                <a:chOff x="6496200" y="2057400"/>
                <a:chExt cx="1962000" cy="19620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6496200" y="2057400"/>
                  <a:ext cx="1962000" cy="1962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61280" y="2799000"/>
                  <a:ext cx="74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304920" y="3581280"/>
                <a:ext cx="2743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81320" y="4087800"/>
                <a:ext cx="2743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86600" y="4349880"/>
                <a:ext cx="2743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6252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ahoma"/>
                  </a:rPr>
                  <a:t>相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86600" y="4343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ahoma"/>
                  </a:rPr>
                  <a:t>相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77440" y="2514600"/>
              <a:ext cx="933480" cy="592200"/>
              <a:chOff x="577440" y="2514600"/>
              <a:chExt cx="933480" cy="592200"/>
            </a:xfrm>
          </p:grpSpPr>
          <p:sp>
            <p:nvSpPr>
              <p:cNvPr id="132" name=""/>
              <p:cNvSpPr/>
              <p:nvPr/>
            </p:nvSpPr>
            <p:spPr>
              <a:xfrm flipH="1" flipV="1">
                <a:off x="577440" y="2658960"/>
                <a:ext cx="93348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14400" y="2514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580920" y="2514600"/>
              <a:ext cx="933480" cy="592200"/>
              <a:chOff x="3580920" y="2514600"/>
              <a:chExt cx="933480" cy="592200"/>
            </a:xfrm>
          </p:grpSpPr>
          <p:sp>
            <p:nvSpPr>
              <p:cNvPr id="135" name=""/>
              <p:cNvSpPr/>
              <p:nvPr/>
            </p:nvSpPr>
            <p:spPr>
              <a:xfrm flipH="1" flipV="1">
                <a:off x="3580920" y="2658960"/>
                <a:ext cx="93348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17880" y="2514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552720" y="2514600"/>
              <a:ext cx="933480" cy="592200"/>
              <a:chOff x="6552720" y="2514600"/>
              <a:chExt cx="933480" cy="592200"/>
            </a:xfrm>
          </p:grpSpPr>
          <p:sp>
            <p:nvSpPr>
              <p:cNvPr id="138" name=""/>
              <p:cNvSpPr/>
              <p:nvPr/>
            </p:nvSpPr>
            <p:spPr>
              <a:xfrm flipH="1" flipV="1">
                <a:off x="6552720" y="2658960"/>
                <a:ext cx="933480" cy="44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89680" y="2514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447920" y="3124080"/>
              <a:ext cx="761760" cy="496080"/>
              <a:chOff x="1447920" y="3124080"/>
              <a:chExt cx="761760" cy="496080"/>
            </a:xfrm>
          </p:grpSpPr>
          <p:sp>
            <p:nvSpPr>
              <p:cNvPr id="141" name=""/>
              <p:cNvSpPr/>
              <p:nvPr/>
            </p:nvSpPr>
            <p:spPr>
              <a:xfrm>
                <a:off x="1523880" y="3124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7920" y="3160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457880" y="3124080"/>
              <a:ext cx="457200" cy="993240"/>
              <a:chOff x="4457880" y="3124080"/>
              <a:chExt cx="457200" cy="993240"/>
            </a:xfrm>
          </p:grpSpPr>
          <p:sp>
            <p:nvSpPr>
              <p:cNvPr id="144" name=""/>
              <p:cNvSpPr/>
              <p:nvPr/>
            </p:nvSpPr>
            <p:spPr>
              <a:xfrm>
                <a:off x="4532400" y="3124080"/>
                <a:ext cx="1440" cy="95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95680" y="33526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5788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410600" y="3090960"/>
              <a:ext cx="406080" cy="1312200"/>
              <a:chOff x="7410600" y="3090960"/>
              <a:chExt cx="406080" cy="1312200"/>
            </a:xfrm>
          </p:grpSpPr>
          <p:sp>
            <p:nvSpPr>
              <p:cNvPr id="148" name=""/>
              <p:cNvSpPr/>
              <p:nvPr/>
            </p:nvSpPr>
            <p:spPr>
              <a:xfrm>
                <a:off x="7502400" y="3090960"/>
                <a:ext cx="0" cy="121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67480" y="3353040"/>
                <a:ext cx="34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10600" y="3943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3733920" y="4724280"/>
            <a:ext cx="1066680" cy="304920"/>
          </a:xfrm>
          <a:prstGeom prst="leftRightArrow">
            <a:avLst>
              <a:gd name="adj1" fmla="val 50000"/>
              <a:gd name="adj2" fmla="val 696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5334120"/>
            <a:ext cx="1066680" cy="304560"/>
          </a:xfrm>
          <a:prstGeom prst="leftRightArrow">
            <a:avLst>
              <a:gd name="adj1" fmla="val 50000"/>
              <a:gd name="adj2" fmla="val 697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6019920"/>
            <a:ext cx="1066680" cy="304560"/>
          </a:xfrm>
          <a:prstGeom prst="leftRightArrow">
            <a:avLst>
              <a:gd name="adj1" fmla="val 50000"/>
              <a:gd name="adj2" fmla="val 697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572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58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926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直线何时变为切线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80" y="1981080"/>
            <a:ext cx="886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直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经过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,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夹角为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α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绕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旋转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7080" y="5638680"/>
            <a:ext cx="886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写出一个命题来表述这个事实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562720" y="228600"/>
            <a:ext cx="3581280" cy="685800"/>
            <a:chOff x="5562720" y="228600"/>
            <a:chExt cx="3581280" cy="685800"/>
          </a:xfrm>
        </p:grpSpPr>
        <p:grpSp>
          <p:nvGrpSpPr>
            <p:cNvPr id="161" name=""/>
            <p:cNvGrpSpPr/>
            <p:nvPr/>
          </p:nvGrpSpPr>
          <p:grpSpPr>
            <a:xfrm>
              <a:off x="5562720" y="274680"/>
              <a:ext cx="2361960" cy="461880"/>
              <a:chOff x="5562720" y="274680"/>
              <a:chExt cx="2361960" cy="461880"/>
            </a:xfrm>
          </p:grpSpPr>
          <p:sp>
            <p:nvSpPr>
              <p:cNvPr id="162" name=""/>
              <p:cNvSpPr/>
              <p:nvPr/>
            </p:nvSpPr>
            <p:spPr>
              <a:xfrm>
                <a:off x="5562720" y="2768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  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细心想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42280" y="2746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79246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5627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152280" y="2946240"/>
            <a:ext cx="5956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随着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α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变化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距离如何变化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位置关系如何变化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317840"/>
            <a:ext cx="56390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α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等于多少度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距离等于半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此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有怎样的位置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为什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800" y="2590920"/>
            <a:ext cx="1962000" cy="2821680"/>
            <a:chOff x="6400800" y="2590920"/>
            <a:chExt cx="1962000" cy="2821680"/>
          </a:xfrm>
        </p:grpSpPr>
        <p:sp>
          <p:nvSpPr>
            <p:cNvPr id="169" name=""/>
            <p:cNvSpPr/>
            <p:nvPr/>
          </p:nvSpPr>
          <p:spPr>
            <a:xfrm>
              <a:off x="7219800" y="25909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96120" y="380988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400800" y="3067200"/>
              <a:ext cx="1962000" cy="1962000"/>
              <a:chOff x="6400800" y="3067200"/>
              <a:chExt cx="1962000" cy="1962000"/>
            </a:xfrm>
          </p:grpSpPr>
          <p:sp>
            <p:nvSpPr>
              <p:cNvPr id="172" name=""/>
              <p:cNvSpPr/>
              <p:nvPr/>
            </p:nvSpPr>
            <p:spPr>
              <a:xfrm>
                <a:off x="6400800" y="306720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65880" y="3808800"/>
                <a:ext cx="741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448400" y="3049560"/>
              <a:ext cx="1800" cy="1960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96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72200" y="4762440"/>
            <a:ext cx="2743200" cy="609480"/>
            <a:chOff x="6172200" y="4762440"/>
            <a:chExt cx="2743200" cy="609480"/>
          </a:xfrm>
        </p:grpSpPr>
        <p:sp>
          <p:nvSpPr>
            <p:cNvPr id="177" name=""/>
            <p:cNvSpPr/>
            <p:nvPr/>
          </p:nvSpPr>
          <p:spPr>
            <a:xfrm>
              <a:off x="6172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34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77120" y="5048280"/>
              <a:ext cx="2119320" cy="6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9240" y="4762440"/>
              <a:ext cx="45648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162920" y="4114800"/>
            <a:ext cx="609480" cy="993240"/>
            <a:chOff x="7162920" y="4114800"/>
            <a:chExt cx="609480" cy="993240"/>
          </a:xfrm>
        </p:grpSpPr>
        <p:sp>
          <p:nvSpPr>
            <p:cNvPr id="182" name=""/>
            <p:cNvSpPr/>
            <p:nvPr/>
          </p:nvSpPr>
          <p:spPr>
            <a:xfrm>
              <a:off x="739152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411480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48520" y="3352680"/>
            <a:ext cx="1600200" cy="2210040"/>
            <a:chOff x="6248520" y="3352680"/>
            <a:chExt cx="1600200" cy="2210040"/>
          </a:xfrm>
        </p:grpSpPr>
        <p:sp>
          <p:nvSpPr>
            <p:cNvPr id="186" name=""/>
            <p:cNvSpPr/>
            <p:nvPr/>
          </p:nvSpPr>
          <p:spPr>
            <a:xfrm>
              <a:off x="6248520" y="3352680"/>
              <a:ext cx="160020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38880" y="4648320"/>
              <a:ext cx="45648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866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759000" y="3864960"/>
            <a:ext cx="776880" cy="661320"/>
            <a:chOff x="6759000" y="3864960"/>
            <a:chExt cx="776880" cy="661320"/>
          </a:xfrm>
        </p:grpSpPr>
        <p:sp>
          <p:nvSpPr>
            <p:cNvPr id="190" name=""/>
            <p:cNvSpPr/>
            <p:nvPr/>
          </p:nvSpPr>
          <p:spPr>
            <a:xfrm flipH="1">
              <a:off x="7016760" y="4114800"/>
              <a:ext cx="4507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3072600">
              <a:off x="6849720" y="3968640"/>
              <a:ext cx="4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3260400">
              <a:off x="7047360" y="3923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090920" y="4038480"/>
            <a:ext cx="1824120" cy="1260720"/>
            <a:chOff x="7090920" y="4038480"/>
            <a:chExt cx="1824120" cy="1260720"/>
          </a:xfrm>
        </p:grpSpPr>
        <p:sp>
          <p:nvSpPr>
            <p:cNvPr id="194" name=""/>
            <p:cNvSpPr/>
            <p:nvPr/>
          </p:nvSpPr>
          <p:spPr>
            <a:xfrm flipH="1">
              <a:off x="7090920" y="4038480"/>
              <a:ext cx="1824120" cy="12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152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9240" y="4800600"/>
              <a:ext cx="456480" cy="1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93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9360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452720" y="3871440"/>
            <a:ext cx="765360" cy="960480"/>
            <a:chOff x="7452720" y="3871440"/>
            <a:chExt cx="765360" cy="960480"/>
          </a:xfrm>
        </p:grpSpPr>
        <p:sp>
          <p:nvSpPr>
            <p:cNvPr id="198" name=""/>
            <p:cNvSpPr/>
            <p:nvPr/>
          </p:nvSpPr>
          <p:spPr>
            <a:xfrm>
              <a:off x="7467480" y="41148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425600">
              <a:off x="7544160" y="3962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291800">
              <a:off x="7734960" y="4303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943600" y="4343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3886200"/>
            <a:ext cx="198144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314840" y="281952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238880" y="3124080"/>
            <a:ext cx="137160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9264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切线的判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6300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经过直径的一端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并且垂直于这条直径的直线是圆的切线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52280" y="50288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切线的判定是证明一条直线是不是圆的切线的根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;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过切点的半径是常用辅助线之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00600" y="228600"/>
            <a:ext cx="3581280" cy="685800"/>
            <a:chOff x="4800600" y="228600"/>
            <a:chExt cx="3581280" cy="685800"/>
          </a:xfrm>
        </p:grpSpPr>
        <p:grpSp>
          <p:nvGrpSpPr>
            <p:cNvPr id="209" name=""/>
            <p:cNvGrpSpPr/>
            <p:nvPr/>
          </p:nvGrpSpPr>
          <p:grpSpPr>
            <a:xfrm>
              <a:off x="4800600" y="274680"/>
              <a:ext cx="2361960" cy="461880"/>
              <a:chOff x="4800600" y="274680"/>
              <a:chExt cx="2361960" cy="461880"/>
            </a:xfrm>
          </p:grpSpPr>
          <p:sp>
            <p:nvSpPr>
              <p:cNvPr id="210" name=""/>
              <p:cNvSpPr/>
              <p:nvPr/>
            </p:nvSpPr>
            <p:spPr>
              <a:xfrm>
                <a:off x="4800600" y="2768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认真做一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80160" y="2746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716256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80060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6095880" y="2590920"/>
            <a:ext cx="2743200" cy="2821680"/>
            <a:chOff x="6095880" y="2590920"/>
            <a:chExt cx="2743200" cy="2821680"/>
          </a:xfrm>
        </p:grpSpPr>
        <p:sp>
          <p:nvSpPr>
            <p:cNvPr id="215" name=""/>
            <p:cNvSpPr/>
            <p:nvPr/>
          </p:nvSpPr>
          <p:spPr>
            <a:xfrm>
              <a:off x="609588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7840" y="4800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440" y="5048280"/>
              <a:ext cx="2119320" cy="6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62560" y="25909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38880" y="380988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343560" y="3067200"/>
              <a:ext cx="1962000" cy="1962000"/>
              <a:chOff x="6343560" y="3067200"/>
              <a:chExt cx="1962000" cy="1962000"/>
            </a:xfrm>
          </p:grpSpPr>
          <p:sp>
            <p:nvSpPr>
              <p:cNvPr id="221" name=""/>
              <p:cNvSpPr/>
              <p:nvPr/>
            </p:nvSpPr>
            <p:spPr>
              <a:xfrm>
                <a:off x="6343560" y="306720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08640" y="3808800"/>
                <a:ext cx="741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391160" y="3049560"/>
              <a:ext cx="1440" cy="1960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888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52280" y="3124080"/>
            <a:ext cx="6096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半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经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⊥O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∴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切线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57909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切线判定的应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已知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上有一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你能过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出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切线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34120" y="0"/>
            <a:ext cx="3581280" cy="685800"/>
            <a:chOff x="5334120" y="0"/>
            <a:chExt cx="3581280" cy="685800"/>
          </a:xfrm>
        </p:grpSpPr>
        <p:grpSp>
          <p:nvGrpSpPr>
            <p:cNvPr id="229" name=""/>
            <p:cNvGrpSpPr/>
            <p:nvPr/>
          </p:nvGrpSpPr>
          <p:grpSpPr>
            <a:xfrm>
              <a:off x="5334120" y="46080"/>
              <a:ext cx="2361960" cy="461880"/>
              <a:chOff x="5334120" y="46080"/>
              <a:chExt cx="2361960" cy="461880"/>
            </a:xfrm>
          </p:grpSpPr>
          <p:sp>
            <p:nvSpPr>
              <p:cNvPr id="230" name=""/>
              <p:cNvSpPr/>
              <p:nvPr/>
            </p:nvSpPr>
            <p:spPr>
              <a:xfrm>
                <a:off x="5334120" y="482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学以致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13680" y="4608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696080" y="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34120" y="1522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76320" y="5262480"/>
            <a:ext cx="9067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根据“经过直径的一端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且垂直于这条直径的直线是圆的切线”只要连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A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过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垂线即可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480" y="2438280"/>
            <a:ext cx="2085840" cy="2059920"/>
            <a:chOff x="609480" y="2438280"/>
            <a:chExt cx="2085840" cy="2059920"/>
          </a:xfrm>
        </p:grpSpPr>
        <p:grpSp>
          <p:nvGrpSpPr>
            <p:cNvPr id="236" name=""/>
            <p:cNvGrpSpPr/>
            <p:nvPr/>
          </p:nvGrpSpPr>
          <p:grpSpPr>
            <a:xfrm>
              <a:off x="609480" y="2438280"/>
              <a:ext cx="1962000" cy="1962000"/>
              <a:chOff x="609480" y="2438280"/>
              <a:chExt cx="1962000" cy="1962000"/>
            </a:xfrm>
          </p:grpSpPr>
          <p:sp>
            <p:nvSpPr>
              <p:cNvPr id="237" name=""/>
              <p:cNvSpPr/>
              <p:nvPr/>
            </p:nvSpPr>
            <p:spPr>
              <a:xfrm>
                <a:off x="609480" y="243828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74560" y="317988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628640" y="40384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●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622520" y="3479760"/>
            <a:ext cx="279360" cy="878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480" y="3822840"/>
            <a:ext cx="2590920" cy="977760"/>
            <a:chOff x="609480" y="3822840"/>
            <a:chExt cx="2590920" cy="977760"/>
          </a:xfrm>
        </p:grpSpPr>
        <p:sp>
          <p:nvSpPr>
            <p:cNvPr id="242" name=""/>
            <p:cNvSpPr/>
            <p:nvPr/>
          </p:nvSpPr>
          <p:spPr>
            <a:xfrm flipV="1">
              <a:off x="609480" y="3886200"/>
              <a:ext cx="2590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420400">
              <a:off x="17524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6320" y="48006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已知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外有一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P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你还能过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点作出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切线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38640" y="2438280"/>
            <a:ext cx="3762360" cy="1962000"/>
            <a:chOff x="4238640" y="2438280"/>
            <a:chExt cx="3762360" cy="1962000"/>
          </a:xfrm>
        </p:grpSpPr>
        <p:grpSp>
          <p:nvGrpSpPr>
            <p:cNvPr id="246" name=""/>
            <p:cNvGrpSpPr/>
            <p:nvPr/>
          </p:nvGrpSpPr>
          <p:grpSpPr>
            <a:xfrm>
              <a:off x="4238640" y="2438280"/>
              <a:ext cx="1962000" cy="1962000"/>
              <a:chOff x="4238640" y="2438280"/>
              <a:chExt cx="1962000" cy="1962000"/>
            </a:xfrm>
          </p:grpSpPr>
          <p:sp>
            <p:nvSpPr>
              <p:cNvPr id="247" name=""/>
              <p:cNvSpPr/>
              <p:nvPr/>
            </p:nvSpPr>
            <p:spPr>
              <a:xfrm>
                <a:off x="4238640" y="2438280"/>
                <a:ext cx="1962000" cy="196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03720" y="317988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934320" y="3200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●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257800" y="2514600"/>
            <a:ext cx="1943280" cy="19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784480" y="2612520"/>
            <a:ext cx="143676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678640" y="3505320"/>
            <a:ext cx="1560240" cy="79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257800" y="3470400"/>
            <a:ext cx="1958400" cy="934560"/>
            <a:chOff x="5257800" y="3470400"/>
            <a:chExt cx="1958400" cy="934560"/>
          </a:xfrm>
        </p:grpSpPr>
        <p:sp>
          <p:nvSpPr>
            <p:cNvPr id="255" name=""/>
            <p:cNvSpPr/>
            <p:nvPr/>
          </p:nvSpPr>
          <p:spPr>
            <a:xfrm flipH="1">
              <a:off x="5668560" y="3489480"/>
              <a:ext cx="1547640" cy="84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57800" y="3470400"/>
              <a:ext cx="428400" cy="85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097600">
              <a:off x="5481720" y="3885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257800" y="3470400"/>
            <a:ext cx="1958400" cy="934560"/>
            <a:chOff x="5257800" y="3470400"/>
            <a:chExt cx="1958400" cy="934560"/>
          </a:xfrm>
        </p:grpSpPr>
        <p:sp>
          <p:nvSpPr>
            <p:cNvPr id="259" name=""/>
            <p:cNvSpPr/>
            <p:nvPr/>
          </p:nvSpPr>
          <p:spPr>
            <a:xfrm flipH="1">
              <a:off x="5668560" y="3489480"/>
              <a:ext cx="1547640" cy="84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7800" y="3470400"/>
              <a:ext cx="428400" cy="85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097600">
              <a:off x="5481720" y="3885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280120" y="3470400"/>
            <a:ext cx="1958400" cy="934560"/>
            <a:chOff x="5280120" y="3470400"/>
            <a:chExt cx="1958400" cy="934560"/>
          </a:xfrm>
        </p:grpSpPr>
        <p:sp>
          <p:nvSpPr>
            <p:cNvPr id="263" name=""/>
            <p:cNvSpPr/>
            <p:nvPr/>
          </p:nvSpPr>
          <p:spPr>
            <a:xfrm flipH="1">
              <a:off x="5690880" y="3489480"/>
              <a:ext cx="1547640" cy="84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80120" y="3470400"/>
              <a:ext cx="428400" cy="85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097600">
              <a:off x="5504040" y="3885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80120" y="3470400"/>
            <a:ext cx="1958400" cy="934560"/>
            <a:chOff x="5280120" y="3470400"/>
            <a:chExt cx="1958400" cy="934560"/>
          </a:xfrm>
        </p:grpSpPr>
        <p:sp>
          <p:nvSpPr>
            <p:cNvPr id="267" name=""/>
            <p:cNvSpPr/>
            <p:nvPr/>
          </p:nvSpPr>
          <p:spPr>
            <a:xfrm flipH="1">
              <a:off x="5690880" y="3489480"/>
              <a:ext cx="1547640" cy="84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80120" y="3470400"/>
              <a:ext cx="428400" cy="85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097600">
              <a:off x="5504040" y="3885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280120" y="3470400"/>
            <a:ext cx="1958400" cy="934560"/>
            <a:chOff x="5280120" y="3470400"/>
            <a:chExt cx="1958400" cy="934560"/>
          </a:xfrm>
        </p:grpSpPr>
        <p:sp>
          <p:nvSpPr>
            <p:cNvPr id="271" name=""/>
            <p:cNvSpPr/>
            <p:nvPr/>
          </p:nvSpPr>
          <p:spPr>
            <a:xfrm flipH="1">
              <a:off x="5690880" y="3489480"/>
              <a:ext cx="1547640" cy="841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80120" y="3470400"/>
              <a:ext cx="428400" cy="85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097600">
              <a:off x="5504040" y="38858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从一块三角形材料中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能否剪下一个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使其与各边都相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952880" y="304920"/>
            <a:ext cx="3581280" cy="685800"/>
            <a:chOff x="4952880" y="304920"/>
            <a:chExt cx="3581280" cy="685800"/>
          </a:xfrm>
        </p:grpSpPr>
        <p:grpSp>
          <p:nvGrpSpPr>
            <p:cNvPr id="276" name=""/>
            <p:cNvGrpSpPr/>
            <p:nvPr/>
          </p:nvGrpSpPr>
          <p:grpSpPr>
            <a:xfrm>
              <a:off x="4952880" y="351000"/>
              <a:ext cx="2361960" cy="461880"/>
              <a:chOff x="4952880" y="351000"/>
              <a:chExt cx="2361960" cy="461880"/>
            </a:xfrm>
          </p:grpSpPr>
          <p:sp>
            <p:nvSpPr>
              <p:cNvPr id="277" name=""/>
              <p:cNvSpPr/>
              <p:nvPr/>
            </p:nvSpPr>
            <p:spPr>
              <a:xfrm>
                <a:off x="495288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吸纳新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3244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731484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95288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152280" y="4952880"/>
            <a:ext cx="8686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假设符合条件的圆已作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则它的圆心到三边的距离相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因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圆心在这个三角形三个角的平分线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半径为圆心到三边的距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91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角形与圆的位置关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080" y="2286000"/>
            <a:ext cx="3733560" cy="2669400"/>
            <a:chOff x="46080" y="2286000"/>
            <a:chExt cx="3733560" cy="2669400"/>
          </a:xfrm>
        </p:grpSpPr>
        <p:sp>
          <p:nvSpPr>
            <p:cNvPr id="284" name=""/>
            <p:cNvSpPr/>
            <p:nvPr/>
          </p:nvSpPr>
          <p:spPr>
            <a:xfrm flipV="1">
              <a:off x="350640" y="4704840"/>
              <a:ext cx="31035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47760" y="2663640"/>
              <a:ext cx="2054160" cy="20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08040" y="2666880"/>
              <a:ext cx="1036800" cy="20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5576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080" y="4419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9876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0" y="2286000"/>
            <a:ext cx="3733560" cy="2669400"/>
            <a:chOff x="4572000" y="2286000"/>
            <a:chExt cx="3733560" cy="2669400"/>
          </a:xfrm>
        </p:grpSpPr>
        <p:sp>
          <p:nvSpPr>
            <p:cNvPr id="291" name=""/>
            <p:cNvSpPr/>
            <p:nvPr/>
          </p:nvSpPr>
          <p:spPr>
            <a:xfrm flipV="1">
              <a:off x="4876560" y="4704840"/>
              <a:ext cx="310356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873680" y="2663640"/>
              <a:ext cx="2054160" cy="20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3960" y="2666880"/>
              <a:ext cx="1036800" cy="20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168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4419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2468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353240" y="3334320"/>
            <a:ext cx="1848600" cy="1468800"/>
            <a:chOff x="1353240" y="3334320"/>
            <a:chExt cx="1848600" cy="1468800"/>
          </a:xfrm>
        </p:grpSpPr>
        <p:sp>
          <p:nvSpPr>
            <p:cNvPr id="298" name=""/>
            <p:cNvSpPr/>
            <p:nvPr/>
          </p:nvSpPr>
          <p:spPr>
            <a:xfrm>
              <a:off x="2220840" y="3956040"/>
              <a:ext cx="0" cy="72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3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209680" y="3601800"/>
              <a:ext cx="72072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9885200">
              <a:off x="2591280" y="3580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1641240" y="3395520"/>
              <a:ext cx="579240" cy="57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8814800">
              <a:off x="1448640" y="342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flipV="1">
            <a:off x="304920" y="3504960"/>
            <a:ext cx="3228840" cy="12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990360" y="3352680"/>
            <a:ext cx="2328840" cy="138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133720" y="3962520"/>
            <a:ext cx="457200" cy="840600"/>
            <a:chOff x="2133720" y="3962520"/>
            <a:chExt cx="457200" cy="840600"/>
          </a:xfrm>
        </p:grpSpPr>
        <p:sp>
          <p:nvSpPr>
            <p:cNvPr id="307" name=""/>
            <p:cNvSpPr/>
            <p:nvPr/>
          </p:nvSpPr>
          <p:spPr>
            <a:xfrm flipH="1">
              <a:off x="2220840" y="3962520"/>
              <a:ext cx="7920" cy="758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057400" y="3467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523880" y="3200400"/>
            <a:ext cx="1479600" cy="1479240"/>
            <a:chOff x="1523880" y="3200400"/>
            <a:chExt cx="1479600" cy="1479240"/>
          </a:xfrm>
        </p:grpSpPr>
        <p:sp>
          <p:nvSpPr>
            <p:cNvPr id="311" name=""/>
            <p:cNvSpPr/>
            <p:nvPr/>
          </p:nvSpPr>
          <p:spPr>
            <a:xfrm>
              <a:off x="1523880" y="3200400"/>
              <a:ext cx="1479600" cy="147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6720" y="3825720"/>
              <a:ext cx="3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92200" y="3200400"/>
            <a:ext cx="1479600" cy="1479240"/>
            <a:chOff x="1492200" y="3200400"/>
            <a:chExt cx="1479600" cy="1479240"/>
          </a:xfrm>
        </p:grpSpPr>
        <p:sp>
          <p:nvSpPr>
            <p:cNvPr id="314" name=""/>
            <p:cNvSpPr/>
            <p:nvPr/>
          </p:nvSpPr>
          <p:spPr>
            <a:xfrm>
              <a:off x="1492200" y="3200400"/>
              <a:ext cx="1479600" cy="147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75040" y="3825720"/>
              <a:ext cx="3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492200" y="3200400"/>
            <a:ext cx="1479600" cy="1479240"/>
            <a:chOff x="1492200" y="3200400"/>
            <a:chExt cx="1479600" cy="1479240"/>
          </a:xfrm>
        </p:grpSpPr>
        <p:sp>
          <p:nvSpPr>
            <p:cNvPr id="317" name=""/>
            <p:cNvSpPr/>
            <p:nvPr/>
          </p:nvSpPr>
          <p:spPr>
            <a:xfrm>
              <a:off x="1492200" y="3200400"/>
              <a:ext cx="1479600" cy="147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75040" y="3825720"/>
              <a:ext cx="3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447920" y="3200400"/>
            <a:ext cx="1479600" cy="1479240"/>
            <a:chOff x="1447920" y="3200400"/>
            <a:chExt cx="1479600" cy="1479240"/>
          </a:xfrm>
        </p:grpSpPr>
        <p:sp>
          <p:nvSpPr>
            <p:cNvPr id="320" name=""/>
            <p:cNvSpPr/>
            <p:nvPr/>
          </p:nvSpPr>
          <p:spPr>
            <a:xfrm>
              <a:off x="1447920" y="3200400"/>
              <a:ext cx="1479600" cy="1479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30760" y="3825720"/>
              <a:ext cx="3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353240" y="3334320"/>
            <a:ext cx="1848600" cy="1468800"/>
            <a:chOff x="1353240" y="3334320"/>
            <a:chExt cx="1848600" cy="1468800"/>
          </a:xfrm>
        </p:grpSpPr>
        <p:sp>
          <p:nvSpPr>
            <p:cNvPr id="323" name=""/>
            <p:cNvSpPr/>
            <p:nvPr/>
          </p:nvSpPr>
          <p:spPr>
            <a:xfrm>
              <a:off x="2220840" y="3956040"/>
              <a:ext cx="0" cy="72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33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209680" y="3601800"/>
              <a:ext cx="72072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9885200">
              <a:off x="2591280" y="3580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641240" y="3395520"/>
              <a:ext cx="579240" cy="57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8814800">
              <a:off x="1448640" y="342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353240" y="3334320"/>
            <a:ext cx="1848600" cy="1468800"/>
            <a:chOff x="1353240" y="3334320"/>
            <a:chExt cx="1848600" cy="1468800"/>
          </a:xfrm>
        </p:grpSpPr>
        <p:sp>
          <p:nvSpPr>
            <p:cNvPr id="330" name=""/>
            <p:cNvSpPr/>
            <p:nvPr/>
          </p:nvSpPr>
          <p:spPr>
            <a:xfrm>
              <a:off x="2220840" y="3956040"/>
              <a:ext cx="0" cy="72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33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209680" y="3601800"/>
              <a:ext cx="72072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9885200">
              <a:off x="2591280" y="3580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1641240" y="3395520"/>
              <a:ext cx="579240" cy="57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814800">
              <a:off x="1448640" y="342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53240" y="3334320"/>
            <a:ext cx="1848600" cy="1468800"/>
            <a:chOff x="1353240" y="3334320"/>
            <a:chExt cx="1848600" cy="1468800"/>
          </a:xfrm>
        </p:grpSpPr>
        <p:sp>
          <p:nvSpPr>
            <p:cNvPr id="337" name=""/>
            <p:cNvSpPr/>
            <p:nvPr/>
          </p:nvSpPr>
          <p:spPr>
            <a:xfrm>
              <a:off x="2220840" y="3956040"/>
              <a:ext cx="0" cy="728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209680" y="3601800"/>
              <a:ext cx="72072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885200">
              <a:off x="2591280" y="3580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1641240" y="3395520"/>
              <a:ext cx="579240" cy="57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8814800">
              <a:off x="1448640" y="342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 flipV="1">
            <a:off x="4924440" y="3428640"/>
            <a:ext cx="3228840" cy="12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595480" y="3339720"/>
            <a:ext cx="2328840" cy="1384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629400" y="3962520"/>
            <a:ext cx="457200" cy="840600"/>
            <a:chOff x="6629400" y="3962520"/>
            <a:chExt cx="457200" cy="840600"/>
          </a:xfrm>
        </p:grpSpPr>
        <p:sp>
          <p:nvSpPr>
            <p:cNvPr id="347" name=""/>
            <p:cNvSpPr/>
            <p:nvPr/>
          </p:nvSpPr>
          <p:spPr>
            <a:xfrm flipH="1">
              <a:off x="6716520" y="3962520"/>
              <a:ext cx="7920" cy="758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4343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987880" y="3208320"/>
            <a:ext cx="1479600" cy="1479600"/>
            <a:chOff x="5987880" y="3208320"/>
            <a:chExt cx="1479600" cy="1479600"/>
          </a:xfrm>
        </p:grpSpPr>
        <p:sp>
          <p:nvSpPr>
            <p:cNvPr id="350" name=""/>
            <p:cNvSpPr/>
            <p:nvPr/>
          </p:nvSpPr>
          <p:spPr>
            <a:xfrm>
              <a:off x="5987880" y="3208320"/>
              <a:ext cx="1479600" cy="1479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70360" y="3833640"/>
              <a:ext cx="30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ahoma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6192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样的圆可以作出几个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什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3089160"/>
            <a:ext cx="56390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E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只有一个交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且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到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三边的距离相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为什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5127480"/>
            <a:ext cx="868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∴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和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三边都相切的圆可以作出一个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且只能作一个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066320" y="990720"/>
            <a:ext cx="76201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角形与圆的位置关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029200" y="2286000"/>
            <a:ext cx="3733560" cy="2669400"/>
            <a:chOff x="5029200" y="2286000"/>
            <a:chExt cx="3733560" cy="2669400"/>
          </a:xfrm>
        </p:grpSpPr>
        <p:grpSp>
          <p:nvGrpSpPr>
            <p:cNvPr id="357" name=""/>
            <p:cNvGrpSpPr/>
            <p:nvPr/>
          </p:nvGrpSpPr>
          <p:grpSpPr>
            <a:xfrm>
              <a:off x="5029200" y="2286000"/>
              <a:ext cx="3733560" cy="2669400"/>
              <a:chOff x="5029200" y="2286000"/>
              <a:chExt cx="3733560" cy="266940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5029200" y="2286000"/>
                <a:ext cx="3733560" cy="2669400"/>
                <a:chOff x="5029200" y="2286000"/>
                <a:chExt cx="3733560" cy="266940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5333760" y="4704840"/>
                  <a:ext cx="3103560" cy="1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5330880" y="2663640"/>
                  <a:ext cx="2054160" cy="204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91160" y="2666880"/>
                  <a:ext cx="1036800" cy="204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238880" y="22860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29200" y="441972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381880" y="4495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flipV="1">
                <a:off x="5381640" y="3428640"/>
                <a:ext cx="3228840" cy="126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6052680" y="3339720"/>
                <a:ext cx="2328840" cy="13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1028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I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7086600" y="3962520"/>
                <a:ext cx="457200" cy="840600"/>
                <a:chOff x="7086600" y="3962520"/>
                <a:chExt cx="457200" cy="84060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7173720" y="3962520"/>
                  <a:ext cx="7920" cy="7588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086600" y="43434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</a:rPr>
                    <a:t>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445080" y="3208320"/>
                <a:ext cx="1479600" cy="1479600"/>
                <a:chOff x="6445080" y="3208320"/>
                <a:chExt cx="1479600" cy="14796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445080" y="3208320"/>
                  <a:ext cx="1479600" cy="14796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027560" y="3833640"/>
                  <a:ext cx="309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ahoma"/>
                    </a:rPr>
                    <a:t>●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807732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58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52880" y="304920"/>
            <a:ext cx="3581280" cy="685800"/>
            <a:chOff x="4952880" y="304920"/>
            <a:chExt cx="3581280" cy="685800"/>
          </a:xfrm>
        </p:grpSpPr>
        <p:grpSp>
          <p:nvGrpSpPr>
            <p:cNvPr id="377" name=""/>
            <p:cNvGrpSpPr/>
            <p:nvPr/>
          </p:nvGrpSpPr>
          <p:grpSpPr>
            <a:xfrm>
              <a:off x="4952880" y="351000"/>
              <a:ext cx="2361960" cy="461880"/>
              <a:chOff x="4952880" y="351000"/>
              <a:chExt cx="2361960" cy="461880"/>
            </a:xfrm>
          </p:grpSpPr>
          <p:sp>
            <p:nvSpPr>
              <p:cNvPr id="378" name=""/>
              <p:cNvSpPr/>
              <p:nvPr/>
            </p:nvSpPr>
            <p:spPr>
              <a:xfrm>
                <a:off x="495288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</a:rPr>
                  <a:t>好好想一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3244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731484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95288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001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角形与圆的位置关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6096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这圆叫做三角形的内切圆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这个三角形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做圆的外切三角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640" y="393336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内切圆的圆心是三角形三条角平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线的交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叫做三角形的内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572000" y="304920"/>
            <a:ext cx="3581280" cy="685800"/>
            <a:chOff x="4572000" y="304920"/>
            <a:chExt cx="3581280" cy="685800"/>
          </a:xfrm>
        </p:grpSpPr>
        <p:grpSp>
          <p:nvGrpSpPr>
            <p:cNvPr id="386" name=""/>
            <p:cNvGrpSpPr/>
            <p:nvPr/>
          </p:nvGrpSpPr>
          <p:grpSpPr>
            <a:xfrm>
              <a:off x="4572000" y="351000"/>
              <a:ext cx="2361960" cy="461880"/>
              <a:chOff x="4572000" y="351000"/>
              <a:chExt cx="2361960" cy="461880"/>
            </a:xfrm>
          </p:grpSpPr>
          <p:sp>
            <p:nvSpPr>
              <p:cNvPr id="387" name=""/>
              <p:cNvSpPr/>
              <p:nvPr/>
            </p:nvSpPr>
            <p:spPr>
              <a:xfrm>
                <a:off x="4572000" y="353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认真读一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51560" y="35100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693396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57200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5334120" y="2286000"/>
            <a:ext cx="3733560" cy="2669400"/>
            <a:chOff x="5334120" y="2286000"/>
            <a:chExt cx="3733560" cy="2669400"/>
          </a:xfrm>
        </p:grpSpPr>
        <p:grpSp>
          <p:nvGrpSpPr>
            <p:cNvPr id="392" name=""/>
            <p:cNvGrpSpPr/>
            <p:nvPr/>
          </p:nvGrpSpPr>
          <p:grpSpPr>
            <a:xfrm>
              <a:off x="5334120" y="2286000"/>
              <a:ext cx="3733560" cy="2669400"/>
              <a:chOff x="5334120" y="2286000"/>
              <a:chExt cx="3733560" cy="266940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5638680" y="4704840"/>
                <a:ext cx="3103560" cy="1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5635800" y="2663640"/>
                <a:ext cx="2054160" cy="204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96080" y="2666880"/>
                <a:ext cx="1036800" cy="204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3800" y="2286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34120" y="44197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686800" y="4495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749640" y="3208320"/>
              <a:ext cx="1479240" cy="1479600"/>
              <a:chOff x="6749640" y="3208320"/>
              <a:chExt cx="1479240" cy="1479600"/>
            </a:xfrm>
          </p:grpSpPr>
          <p:sp>
            <p:nvSpPr>
              <p:cNvPr id="400" name=""/>
              <p:cNvSpPr/>
              <p:nvPr/>
            </p:nvSpPr>
            <p:spPr>
              <a:xfrm>
                <a:off x="6749640" y="3208320"/>
                <a:ext cx="1479240" cy="1479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31760" y="3833640"/>
                <a:ext cx="309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Tahoma"/>
                  </a:rPr>
                  <a:t>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7391160" y="3505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3048120" y="380880"/>
            <a:ext cx="3581280" cy="685800"/>
            <a:chOff x="3048120" y="380880"/>
            <a:chExt cx="3581280" cy="685800"/>
          </a:xfrm>
        </p:grpSpPr>
        <p:grpSp>
          <p:nvGrpSpPr>
            <p:cNvPr id="404" name=""/>
            <p:cNvGrpSpPr/>
            <p:nvPr/>
          </p:nvGrpSpPr>
          <p:grpSpPr>
            <a:xfrm>
              <a:off x="3048120" y="426960"/>
              <a:ext cx="2361960" cy="461880"/>
              <a:chOff x="3048120" y="426960"/>
              <a:chExt cx="2361960" cy="461880"/>
            </a:xfrm>
          </p:grpSpPr>
          <p:sp>
            <p:nvSpPr>
              <p:cNvPr id="405" name=""/>
              <p:cNvSpPr/>
              <p:nvPr/>
            </p:nvSpPr>
            <p:spPr>
              <a:xfrm>
                <a:off x="3048120" y="42912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你知道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27680" y="4269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410080" y="3808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048120" y="5331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．（补充）例题讲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773360"/>
            <a:ext cx="82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如图，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是⊙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直径，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BT=45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求证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是⊙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的切线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95640" y="5084640"/>
            <a:ext cx="69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285c" descr=""/>
          <p:cNvPicPr/>
          <p:nvPr/>
        </p:nvPicPr>
        <p:blipFill>
          <a:blip r:embed="rId3"/>
          <a:stretch/>
        </p:blipFill>
        <p:spPr>
          <a:xfrm>
            <a:off x="7093080" y="1989000"/>
            <a:ext cx="1780920" cy="1409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68360" y="3716280"/>
            <a:ext cx="867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分析：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经过直径的一端，因此只要证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垂直于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即可，而由已知条件可知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=AB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所以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BT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＝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B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又由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BT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45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所以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B=45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． 由三角形内角和可证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TAB=90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即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AT⊥AB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03:59:16Z</dcterms:created>
  <dc:creator>win</dc:creator>
  <dc:description/>
  <dc:language>en-US</dc:language>
  <cp:lastModifiedBy>User</cp:lastModifiedBy>
  <dcterms:modified xsi:type="dcterms:W3CDTF">2014-02-18T02:52:55Z</dcterms:modified>
  <cp:revision>342</cp:revision>
  <dc:subject/>
  <dc:title>PowerPoint 演示文稿</dc:title>
</cp:coreProperties>
</file>