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gif" ContentType="image/gif"/>
  <Override PartName="/ppt/media/image22.png" ContentType="image/png"/>
  <Override PartName="/ppt/media/image19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20.png" ContentType="image/png"/>
  <Override PartName="/ppt/media/image17.wmf" ContentType="image/x-wmf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614-38C4-4ED6-8A87-27AD87F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00E-8E75-4928-A072-243808E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81D-5F77-4153-9546-783B3948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879-D839-4EBC-A4A2-7C639026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1AE-CF6C-4010-BD4A-D3317D97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82B4-5768-4EA9-A33F-A0E7C78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E0C5-17AF-4F2A-959C-1941C00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378D-1AF4-4294-B4E6-3B3B755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5443-4001-4C52-9712-7C919852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337-CF59-4C6E-A60E-342AD4E0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4ED7-4533-4742-B2F8-4C4A73C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90B-8498-4DC1-99C8-28082C2C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E142-A554-4440-8BDB-2F622A3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4E3-EB4D-4946-8832-ADB2EC9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7F9-4BBF-4245-A24D-F77206C7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141A-A91C-4B01-89F6-64E1FEC5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25B-DE06-47E5-BFB8-4F4D0B71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54AB-921B-4CD6-A1C4-269757BE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5A99-E07B-4FD4-9E85-E469E0F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4311-F6F0-4942-93EE-B5A36588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111A-E1D4-4787-89EC-A71C6D9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5D05-4766-4E53-9790-79A1903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89D-CA4B-42F0-ADB0-EAA820A6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B29D2-67CA-45D1-ACCA-99F2158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607B-54FD-4C2E-B863-81DFA83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170A-F33C-4B3E-80F8-2A176EA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F01E-B671-4CC3-B8F1-A891F5F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C697-02AD-4CE3-8C86-12EE206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4500-5527-4D82-A85D-CA3FAD8E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1F5A-7C8A-4267-B61A-E213BE73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092-A55A-45F7-9FE1-F025138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31B-9AEA-492D-88C1-D6D12FF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B84-CBBB-49E2-AE48-71905EE1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6E9-A5A6-4F7B-86C9-D2ED881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05F6-6323-49AA-9BF9-3D72F508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809-57DD-4868-ABB7-1893044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llqh888@163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A84-B823-481B-82F6-9D3D74CE7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35800" y="649908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lqh888@163.com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华文行楷"/>
              </a:rPr>
              <a:t>李群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763-E813-4F01-B88D-C1C829EE4C7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DFF-BA55-497C-9E9B-9B11E5832D7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32000" y="3284640"/>
            <a:ext cx="6172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节    游戏公平吗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四章   统计与概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360520" y="21600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五、课堂跟进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达成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98100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一题多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某一家庭有两个孩子，请问这两个孩子是一个男孩一个女孩的概率是多少？你是怎样知道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98320" y="2424240"/>
            <a:ext cx="4204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思维入门指导：按事件的概率计算方法得出结果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4360" y="3647520"/>
            <a:ext cx="8137440" cy="1689120"/>
            <a:chOff x="684360" y="3647520"/>
            <a:chExt cx="8137440" cy="1689120"/>
          </a:xfrm>
        </p:grpSpPr>
        <p:sp>
          <p:nvSpPr>
            <p:cNvPr id="295" name=""/>
            <p:cNvSpPr/>
            <p:nvPr/>
          </p:nvSpPr>
          <p:spPr>
            <a:xfrm>
              <a:off x="684360" y="3647520"/>
              <a:ext cx="8137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解法三：合情推理，第一个为男孩，第二个可能男孩，可能女孩．若第一个为女孩，第二个可能男孩，可能女孩，共有四个结果，其中一男一女为两个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即  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3492360" y="4514760"/>
              <a:ext cx="31932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4106880" y="4514760"/>
              <a:ext cx="320760" cy="82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/>
          <p:cNvSpPr/>
          <p:nvPr/>
        </p:nvSpPr>
        <p:spPr>
          <a:xfrm>
            <a:off x="870120" y="5588280"/>
            <a:ext cx="5768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学科内综合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|α|=3,|b|=5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|α+b|=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概率是多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44720" y="1303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六、了解世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开阔视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87560" y="1052640"/>
            <a:ext cx="2009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、生活中的游戏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826920" y="1638360"/>
            <a:ext cx="7201080" cy="5032440"/>
            <a:chOff x="826920" y="1638360"/>
            <a:chExt cx="7201080" cy="503244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826920" y="1638360"/>
              <a:ext cx="7201080" cy="45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3964320" y="6150240"/>
              <a:ext cx="50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他们在玩剪刀、石头、布的游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826920" y="1614600"/>
            <a:ext cx="7454880" cy="5055840"/>
            <a:chOff x="826920" y="1614600"/>
            <a:chExt cx="7454880" cy="5055840"/>
          </a:xfrm>
        </p:grpSpPr>
        <p:sp>
          <p:nvSpPr>
            <p:cNvPr id="305" name=""/>
            <p:cNvSpPr/>
            <p:nvPr/>
          </p:nvSpPr>
          <p:spPr>
            <a:xfrm>
              <a:off x="3060000" y="61498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他们在选择比赛场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26920" y="1614600"/>
              <a:ext cx="7454880" cy="459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844720" y="1303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六、了解世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开阔视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7560" y="1052640"/>
            <a:ext cx="2009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、生活中的游戏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37840" y="5999040"/>
            <a:ext cx="27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是一个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选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游戏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4321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7902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8000" y="727200"/>
            <a:ext cx="8893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李勇的爸爸出差回来，向他讲了这样一件事情，在一个地方有一种“摸彩”活动．一个人手提一个袋子，身边立着一块牌子，边指边说：“我这口袋里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个白球，哪位愿意来摸球做游戏，一次交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元，但不白交．请你不要看，从口袋里摸出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个球，按牌子上的结果安排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都是红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不再送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算你运气不好，不退还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不再送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红球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9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个都是白球退还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外再送你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元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共十一种可能，八种可能让你赢钱，只有一种可能输，这么便宜的事，谁来试试啊？李勇的爸爸亲眼看见有几个青年人掏钱试了试，结果都输了，且谁摸的次数越多，谁就输得越多．爸爸让李勇利用所学的概率统计知识计算一下，这是为什么？请你也计算一下，找出其中的原因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55000" y="115920"/>
            <a:ext cx="15739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二、趣味题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一读、想一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71560" y="836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七、回顾反思，提高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60280" y="2092320"/>
            <a:ext cx="80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在本课的学习中，谈谈你的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95400" y="3173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你还存在哪些需要解决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580000" y="4941720"/>
            <a:ext cx="2305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71560" y="189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八、作业布置，加强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948360" y="49320"/>
            <a:ext cx="2187720" cy="1434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714320" cy="1360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5973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、请你探索闯关游戏的奥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）用列表的方法表示所有可能的闯关情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）求出闯关成功的概率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闯关游戏规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4-3-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所示的面板上，有左右两组开关按钮，每组中的两个按钮均分别控制一个灯泡和一个发音装置．同时按下两组中各一个按钮：当两个灯泡都亮时闯关成功；当按错一个按钮时，发音装置就会发出“闯关失败”的声音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420" descr=""/>
          <p:cNvPicPr/>
          <p:nvPr/>
        </p:nvPicPr>
        <p:blipFill>
          <a:blip r:embed="rId3">
            <a:alphaModFix amt="66000"/>
          </a:blip>
          <a:stretch/>
        </p:blipFill>
        <p:spPr>
          <a:xfrm>
            <a:off x="6659640" y="4508640"/>
            <a:ext cx="2160360" cy="15015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75520" y="4795920"/>
            <a:ext cx="52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、每名学生设计一个游戏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课下互相探讨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戏规则是否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若不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请修改游戏规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124000" y="476280"/>
            <a:ext cx="572760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再见！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6084720" y="3429000"/>
            <a:ext cx="6095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多谢指导！</a:t>
            </a:r>
            <a:endParaRPr b="0" i="1" lang="en-US" sz="96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964720" y="6732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90049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95" name=""/>
          <p:cNvSpPr txBox="1"/>
          <p:nvPr/>
        </p:nvSpPr>
        <p:spPr>
          <a:xfrm rot="5400000">
            <a:off x="6659280" y="263664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华文新魏"/>
              </a:rPr>
              <a:t>演唱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华文新魏"/>
              <a:ea typeface="华文新魏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4237200"/>
            <a:ext cx="320364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900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348000" y="2565360"/>
            <a:ext cx="2303640" cy="3916080"/>
            <a:chOff x="3348000" y="2565360"/>
            <a:chExt cx="2303640" cy="3916080"/>
          </a:xfrm>
        </p:grpSpPr>
        <p:graphicFrame>
          <p:nvGraphicFramePr>
            <p:cNvPr id="198" name=""/>
            <p:cNvGraphicFramePr/>
            <p:nvPr/>
          </p:nvGraphicFramePr>
          <p:xfrm>
            <a:off x="3851280" y="4778280"/>
            <a:ext cx="1025640" cy="170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1280" y="4778280"/>
                      <a:ext cx="102564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3348000" y="2565360"/>
              <a:ext cx="2303640" cy="836280"/>
            </a:xfrm>
            <a:prstGeom prst="cloudCallout">
              <a:avLst>
                <a:gd name="adj1" fmla="val 2171"/>
                <a:gd name="adj2" fmla="val 224912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Arial"/>
                </a:rPr>
                <a:t>反面我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95560" y="620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一、创设情境，激趣引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-51480" y="2046960"/>
            <a:ext cx="3162240" cy="4433040"/>
            <a:chOff x="-51480" y="2046960"/>
            <a:chExt cx="3162240" cy="4433040"/>
          </a:xfrm>
        </p:grpSpPr>
        <p:graphicFrame>
          <p:nvGraphicFramePr>
            <p:cNvPr id="203" name=""/>
            <p:cNvGraphicFramePr/>
            <p:nvPr/>
          </p:nvGraphicFramePr>
          <p:xfrm>
            <a:off x="755640" y="5084640"/>
            <a:ext cx="905040" cy="1395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5084640"/>
                      <a:ext cx="90504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 rot="703800">
              <a:off x="0" y="2349360"/>
              <a:ext cx="3059280" cy="819360"/>
            </a:xfrm>
            <a:prstGeom prst="cloudCallout">
              <a:avLst>
                <a:gd name="adj1" fmla="val 5310"/>
                <a:gd name="adj2" fmla="val 266763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Arial"/>
                </a:rPr>
                <a:t>一正一反我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300720" y="2852640"/>
            <a:ext cx="2452680" cy="3638520"/>
            <a:chOff x="6300720" y="2852640"/>
            <a:chExt cx="2452680" cy="3638520"/>
          </a:xfrm>
        </p:grpSpPr>
        <p:sp>
          <p:nvSpPr>
            <p:cNvPr id="207" name=""/>
            <p:cNvSpPr/>
            <p:nvPr/>
          </p:nvSpPr>
          <p:spPr>
            <a:xfrm>
              <a:off x="6300720" y="2852640"/>
              <a:ext cx="2212920" cy="617760"/>
            </a:xfrm>
            <a:prstGeom prst="cloudCallout">
              <a:avLst>
                <a:gd name="adj1" fmla="val 34569"/>
                <a:gd name="adj2" fmla="val 27042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99"/>
                  </a:solidFill>
                  <a:latin typeface="Arial"/>
                </a:rPr>
                <a:t>正面我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7308720" y="4869000"/>
            <a:ext cx="1444680" cy="16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08720" y="4869000"/>
                      <a:ext cx="1444680" cy="16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5791320" y="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86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1303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二、合作游戏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领悟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700280"/>
            <a:ext cx="763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游戏规则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当两枚骰子的点数之和为奇数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号同学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否则双号同学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个游戏对双方公平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5603760"/>
            <a:ext cx="1317600" cy="125424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050560" y="3284640"/>
            <a:ext cx="4969080" cy="1569960"/>
            <a:chOff x="2050560" y="3284640"/>
            <a:chExt cx="4969080" cy="1569960"/>
          </a:xfrm>
        </p:grpSpPr>
        <p:sp>
          <p:nvSpPr>
            <p:cNvPr id="215" name=""/>
            <p:cNvSpPr/>
            <p:nvPr/>
          </p:nvSpPr>
          <p:spPr>
            <a:xfrm flipH="1">
              <a:off x="2050200" y="3284640"/>
              <a:ext cx="4969080" cy="1569960"/>
            </a:xfrm>
            <a:prstGeom prst="cloudCallout">
              <a:avLst>
                <a:gd name="adj1" fmla="val 69805"/>
                <a:gd name="adj2" fmla="val 958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98920" y="3573360"/>
              <a:ext cx="374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游戏怎样才算公平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?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每人获胜的概率是多少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?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你学过哪些计算概率的方法</a:t>
              </a: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779920" y="981000"/>
            <a:ext cx="3112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做掷骰子的游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人为一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各掷一枚骰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20865" t="16165" r="21778" b="8590"/>
          <a:stretch/>
        </p:blipFill>
        <p:spPr>
          <a:xfrm>
            <a:off x="6948360" y="4653000"/>
            <a:ext cx="15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51360" y="10332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二、合作游戏、领悟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2060640"/>
            <a:ext cx="76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游戏规则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当两枚骰子的点数之积为奇数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单号同学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否则双号的同学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个游戏对双方公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5603760"/>
            <a:ext cx="1317600" cy="1254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851560" y="1268280"/>
            <a:ext cx="3112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做掷骰子的游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人为一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各掷一枚骰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68000" y="3716280"/>
            <a:ext cx="2521080" cy="1138320"/>
            <a:chOff x="2268000" y="3716280"/>
            <a:chExt cx="2521080" cy="1138320"/>
          </a:xfrm>
        </p:grpSpPr>
        <p:grpSp>
          <p:nvGrpSpPr>
            <p:cNvPr id="224" name=""/>
            <p:cNvGrpSpPr/>
            <p:nvPr/>
          </p:nvGrpSpPr>
          <p:grpSpPr>
            <a:xfrm>
              <a:off x="2268000" y="3716280"/>
              <a:ext cx="2521080" cy="1138320"/>
              <a:chOff x="2268000" y="3716280"/>
              <a:chExt cx="2521080" cy="11383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2267640" y="3716280"/>
                <a:ext cx="2521080" cy="1138320"/>
              </a:xfrm>
              <a:prstGeom prst="cloudCallout">
                <a:avLst>
                  <a:gd name="adj1" fmla="val 97666"/>
                  <a:gd name="adj2" fmla="val 11262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4360" y="393372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为什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635280" y="4005360"/>
              <a:ext cx="30960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7059600" y="4797360"/>
            <a:ext cx="1657440" cy="1744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25600" y="2221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三、层层紧扣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2560" y="1557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游戏规则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当两枚骰子的点数之积为奇数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单号同学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否则双号的同学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样的游戏公平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如果不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应该如何修改规则才能使游戏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学生讨论交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547640" y="3284640"/>
            <a:ext cx="4587840" cy="1278000"/>
            <a:chOff x="1547640" y="3284640"/>
            <a:chExt cx="4587840" cy="1278000"/>
          </a:xfrm>
        </p:grpSpPr>
        <p:sp>
          <p:nvSpPr>
            <p:cNvPr id="232" name=""/>
            <p:cNvSpPr/>
            <p:nvPr/>
          </p:nvSpPr>
          <p:spPr>
            <a:xfrm flipH="1">
              <a:off x="1547640" y="3284640"/>
              <a:ext cx="4587840" cy="1278000"/>
            </a:xfrm>
            <a:prstGeom prst="wedgeRoundRectCallout">
              <a:avLst>
                <a:gd name="adj1" fmla="val -75194"/>
                <a:gd name="adj2" fmla="val -32736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27040" y="3427560"/>
              <a:ext cx="2998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ffff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ffff"/>
                  </a:solidFill>
                  <a:latin typeface="宋体"/>
                </a:rPr>
                <a:t>还有别的方法修改游戏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ffff"/>
                  </a:solidFill>
                  <a:latin typeface="宋体"/>
                </a:rPr>
                <a:t>则</a:t>
              </a:r>
              <a:r>
                <a:rPr b="1" lang="zh-CN" sz="2800" spc="-1" strike="noStrike">
                  <a:solidFill>
                    <a:srgbClr val="00ffff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ffff"/>
                  </a:solidFill>
                  <a:latin typeface="宋体"/>
                </a:rPr>
                <a:t>使游戏双方公平吗</a:t>
              </a:r>
              <a:r>
                <a:rPr b="1" lang="zh-CN" sz="2800" spc="-1" strike="noStrike">
                  <a:solidFill>
                    <a:srgbClr val="00ffff"/>
                  </a:solidFill>
                  <a:latin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flipH="1">
            <a:off x="7235640" y="3357720"/>
            <a:ext cx="1500120" cy="1525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851560" y="981000"/>
            <a:ext cx="3112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做掷骰子的游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两人为一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各掷一枚骰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20920" y="4875120"/>
                <a:ext cx="6230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方法：设计游戏得分规则时，要计算出双方的概率，如双方获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胜的概率为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设计获胜后的得分分别为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得分规则要满</m:t>
                        </m:r>
                      </m:e>
                      <m:e>
                        <m:r>
                          <m:t xml:space="preserve">足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，这时游戏对双方公平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57440" y="3603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四、总结延伸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整理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6920" y="1628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下图中两个转盘进行“配紫色”游戏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别旋转两个转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若其中一个转盘转出了红色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另一个转出了蓝色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则可配成紫色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此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男生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否则女生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个游戏对双方公平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若你认为不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如何修改规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才能使该游戏对双方公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76360" y="1052640"/>
            <a:ext cx="12240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做一做</a:t>
            </a:r>
            <a:r>
              <a:rPr b="0" lang="en-US" sz="2800" spc="1" strike="noStrike">
                <a:ln w="12600">
                  <a:solidFill>
                    <a:srgbClr val="ff33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:</a:t>
            </a:r>
            <a:endParaRPr b="0" lang="en-US" sz="2800" spc="1" strike="noStrike">
              <a:ln w="12600">
                <a:solidFill>
                  <a:srgbClr val="ff33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885080" y="4653000"/>
            <a:ext cx="1258920" cy="1628640"/>
            <a:chOff x="7885080" y="4653000"/>
            <a:chExt cx="1258920" cy="162864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8458200" y="4653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7885080" y="5157720"/>
              <a:ext cx="951120" cy="1123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45" name=""/>
          <p:cNvGraphicFramePr/>
          <p:nvPr/>
        </p:nvGraphicFramePr>
        <p:xfrm>
          <a:off x="909720" y="3943440"/>
          <a:ext cx="2143080" cy="21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9720" y="3943440"/>
                    <a:ext cx="21430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879560" y="4952880"/>
          <a:ext cx="173160" cy="11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4952880"/>
                    <a:ext cx="1731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826920" y="6310440"/>
            <a:ext cx="936720" cy="431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9640" y="6310440"/>
            <a:ext cx="936720" cy="431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7560" y="6284880"/>
            <a:ext cx="936720" cy="432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865160" y="4927680"/>
          <a:ext cx="201600" cy="19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65160" y="4927680"/>
                    <a:ext cx="2016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429000" y="3870360"/>
          <a:ext cx="2143080" cy="21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3870360"/>
                    <a:ext cx="21430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398840" y="4840200"/>
          <a:ext cx="173160" cy="114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8840" y="4840200"/>
                    <a:ext cx="1731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398840" y="4811760"/>
          <a:ext cx="201600" cy="19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8840" y="4811760"/>
                    <a:ext cx="2016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635280" y="6310440"/>
            <a:ext cx="936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6350040"/>
            <a:ext cx="936720" cy="360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6315120"/>
            <a:ext cx="936720" cy="431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6269040"/>
            <a:ext cx="936720" cy="431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6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360520" y="21600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五、课堂跟进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达成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98100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一题多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某一家庭有两个孩子，请问这两个孩子是一个男孩一个女孩的概率是多少？你是怎样知道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98320" y="2208600"/>
            <a:ext cx="4204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思维入门指导：按事件的概率计算方法得出结果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36234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00000" y="2925720"/>
            <a:ext cx="6912000" cy="3751560"/>
            <a:chOff x="900000" y="2925720"/>
            <a:chExt cx="6912000" cy="3751560"/>
          </a:xfrm>
        </p:grpSpPr>
        <p:sp>
          <p:nvSpPr>
            <p:cNvPr id="269" name=""/>
            <p:cNvSpPr/>
            <p:nvPr/>
          </p:nvSpPr>
          <p:spPr>
            <a:xfrm>
              <a:off x="900000" y="2925720"/>
              <a:ext cx="6912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解法一：                                          男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男男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)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列树状图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女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男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开始                          男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女男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女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女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女女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所以一男一女的概率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637080" y="3214080"/>
              <a:ext cx="2164680" cy="2638080"/>
              <a:chOff x="3637080" y="3214080"/>
              <a:chExt cx="2164680" cy="263808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3637080" y="4151160"/>
                <a:ext cx="803520" cy="60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697200" y="3214080"/>
                <a:ext cx="2104560" cy="2638080"/>
                <a:chOff x="3697200" y="3214080"/>
                <a:chExt cx="2104560" cy="263808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4875840" y="3214080"/>
                  <a:ext cx="803160" cy="608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3697200" y="3795480"/>
                  <a:ext cx="2104560" cy="2056680"/>
                  <a:chOff x="3697200" y="3795480"/>
                  <a:chExt cx="2104560" cy="20566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4900320" y="3795480"/>
                    <a:ext cx="862920" cy="525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4910400" y="4804200"/>
                    <a:ext cx="891360" cy="1047960"/>
                    <a:chOff x="4910400" y="4804200"/>
                    <a:chExt cx="891360" cy="10479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910400" y="5376600"/>
                      <a:ext cx="891360" cy="475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4920120" y="4804200"/>
                      <a:ext cx="802800" cy="6080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9" name=""/>
                  <p:cNvSpPr/>
                  <p:nvPr/>
                </p:nvSpPr>
                <p:spPr>
                  <a:xfrm>
                    <a:off x="3697200" y="4805640"/>
                    <a:ext cx="751320" cy="67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4140000" y="5734080"/>
                  <a:ext cx="2797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072680" y="3067200"/>
            <a:ext cx="4745880" cy="976320"/>
            <a:chOff x="4072680" y="3067200"/>
            <a:chExt cx="4745880" cy="976320"/>
          </a:xfrm>
        </p:grpSpPr>
        <p:sp>
          <p:nvSpPr>
            <p:cNvPr id="282" name=""/>
            <p:cNvSpPr/>
            <p:nvPr/>
          </p:nvSpPr>
          <p:spPr>
            <a:xfrm>
              <a:off x="4072680" y="306720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解法二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列表法：如下表，所以为一个男孩一个女孩的概率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8532720" y="3322800"/>
              <a:ext cx="2858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2073240" y="3030480"/>
            <a:ext cx="2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92360" y="4221000"/>
          <a:ext cx="4752720" cy="1677960"/>
        </p:xfrm>
        <a:graphic>
          <a:graphicData uri="http://schemas.openxmlformats.org/drawingml/2006/table">
            <a:tbl>
              <a:tblPr/>
              <a:tblGrid>
                <a:gridCol w="842760"/>
                <a:gridCol w="1954080"/>
                <a:gridCol w="1955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男，男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男，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女，男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女，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163440" y="33058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7480" y="394092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0520" y="21600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五、课堂跟进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达成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98100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一）一题多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某一家庭有两个孩子，请问这两个孩子是一个男孩一个女孩的概率是多少？你是怎样知道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8320" y="2208600"/>
            <a:ext cx="4204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思维入门指导：按事件的概率计算方法得出结果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0:14:57Z</dcterms:created>
  <dc:creator>史努比</dc:creator>
  <dc:description/>
  <dc:language>en-US</dc:language>
  <cp:lastModifiedBy>User</cp:lastModifiedBy>
  <dcterms:modified xsi:type="dcterms:W3CDTF">2014-02-18T03:05:05Z</dcterms:modified>
  <cp:revision>47</cp:revision>
  <dc:subject/>
  <dc:title>幻灯片 1</dc:title>
</cp:coreProperties>
</file>