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gif" ContentType="image/gif"/>
  <Override PartName="/ppt/media/image6.png" ContentType="image/png"/>
  <Override PartName="/ppt/media/image10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E54-0E23-403B-9898-F7EA2C30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207-8755-4C2F-8570-91266BE5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C51-2254-432E-B459-60DA3216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D51-FE4B-434A-A524-B1AFD555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0FDB-AE2A-4206-9D08-9E26DF4E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59EC-9359-47B1-B21E-3B9BF0B5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E218-ED20-4EE0-8367-5CD86161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2B72-00DF-4BD9-8AD4-7B34E7AE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2812-BC82-4109-9C1F-07E68156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5C29-91D2-46D1-A7BA-ECA36925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A625-4722-4D0B-B225-E6605DF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957-A756-45B0-AD2A-2CB60D5A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D895-F27D-4EA3-9AFA-D6D09F07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C319-8A0C-41D8-96B7-4D636E7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3D43-753E-434A-B2C4-CF1CF529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2AF0-206E-4BCF-B3D2-881D29BB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780E-7018-4D52-858D-3AF2FDFA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0B578-97E9-4242-83FF-1937AF32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9C025-1614-43B3-BA8B-7135FBA0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D2939-A680-4ECC-995E-7DEB5E91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91593-A810-49F1-8E71-B3BFCE2B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2875C-BA6A-4E8E-8C94-8A79A077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C35-01FD-4929-86AB-F3A84439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52760-78DB-4644-8F09-C6536C36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FE1D6-8A55-4381-BA36-9D110C2B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25E1C-A654-4E57-A8B2-E2E622D3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F5E25-D8B4-4BCC-8FBF-78B3423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9E6EB-562F-42F9-A22E-4CC94835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69D39-2E20-4B4A-9693-2A162BE2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9B531-8A0F-477D-8AF8-BFB01667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AAD-54A2-4DDB-8AC0-326D275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A8F-9B7C-4D30-8469-92EB158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665-70D0-4E43-98B6-04A60254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5A6-B4AF-4B4E-BC9E-43591B5B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D9E-4C1B-409F-922F-EB7C971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F78-0D8A-4883-93FB-639535C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4FA3-0CA7-4C4F-AE87-B95384CFC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1F60-7388-4408-87D6-62610C1868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EB45-5C76-4ACA-B870-DEF92AC63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2.gif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0" y="-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991960" y="281880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次函数与相似三角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2049480" y="773280"/>
            <a:ext cx="4707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初中数学九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（北师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2509920" y="44308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a0c"/>
                </a:solidFill>
                <a:latin typeface="华文行楷"/>
                <a:ea typeface="华文行楷"/>
              </a:rPr>
              <a:t>锦华实验学校九年级数学备课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3"/>
          <p:cNvGraphicFramePr/>
          <p:nvPr/>
        </p:nvGraphicFramePr>
        <p:xfrm>
          <a:off x="5410080" y="3691080"/>
          <a:ext cx="327672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691080"/>
                    <a:ext cx="327672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4"/>
          <p:cNvSpPr/>
          <p:nvPr/>
        </p:nvSpPr>
        <p:spPr>
          <a:xfrm>
            <a:off x="0" y="24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7"/>
          <p:cNvGrpSpPr/>
          <p:nvPr/>
        </p:nvGrpSpPr>
        <p:grpSpPr>
          <a:xfrm>
            <a:off x="0" y="1523880"/>
            <a:ext cx="8915400" cy="2653920"/>
            <a:chOff x="0" y="1523880"/>
            <a:chExt cx="8915400" cy="2653920"/>
          </a:xfrm>
        </p:grpSpPr>
        <mc:AlternateContent>
          <mc:Choice xmlns:a14="http://schemas.microsoft.com/office/drawing/2010/main" Requires="a14">
            <p:sp>
              <p:nvSpPr>
                <p:cNvPr id="171" name="Object 2"/>
                <p:cNvSpPr txBox="1"/>
                <p:nvPr/>
              </p:nvSpPr>
              <p:spPr>
                <a:xfrm>
                  <a:off x="3048120" y="1523880"/>
                  <a:ext cx="24382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Rectangle 6"/>
            <p:cNvSpPr/>
            <p:nvPr/>
          </p:nvSpPr>
          <p:spPr>
            <a:xfrm>
              <a:off x="0" y="1524240"/>
              <a:ext cx="89154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图，已知抛物线              的图像与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交于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两点（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左侧），与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交于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黑体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试判断△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OC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△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O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否相似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②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抛物线的顶点，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H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垂直于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，垂足为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H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试判断直角三角形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H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直角三角形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O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否相似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说明理由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8" descr="678"/>
          <p:cNvPicPr/>
          <p:nvPr/>
        </p:nvPicPr>
        <p:blipFill>
          <a:blip r:embed="rId3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flowers"/>
          <p:cNvPicPr/>
          <p:nvPr/>
        </p:nvPicPr>
        <p:blipFill>
          <a:blip r:embed="rId4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2193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抛物线上且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上方，过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G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直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足为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否存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使得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MG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O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25160" y="152388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3619440" cy="3657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flowers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501480" y="137088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5410080" y="3048120"/>
          <a:ext cx="28450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8120"/>
                    <a:ext cx="28450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4"/>
          <p:cNvSpPr/>
          <p:nvPr/>
        </p:nvSpPr>
        <p:spPr>
          <a:xfrm>
            <a:off x="1295280" y="1996920"/>
            <a:ext cx="61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抛物线的顶点，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抛物线上且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上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的垂线，垂足为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否存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得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M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C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678"/>
          <p:cNvPicPr/>
          <p:nvPr/>
        </p:nvPicPr>
        <p:blipFill>
          <a:blip r:embed="rId3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flowers"/>
          <p:cNvPicPr/>
          <p:nvPr/>
        </p:nvPicPr>
        <p:blipFill>
          <a:blip r:embed="rId4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C:\Documents and Settings\Administrator\Local Settings\Temp\CyberArticle\4a2f5d91707bdbc6dc77cd3bd7b1e106_files\clip_image254.jpg"/>
          <p:cNvPicPr/>
          <p:nvPr/>
        </p:nvPicPr>
        <p:blipFill>
          <a:blip r:embed="rId1"/>
          <a:stretch/>
        </p:blipFill>
        <p:spPr>
          <a:xfrm>
            <a:off x="5638680" y="3833640"/>
            <a:ext cx="3276720" cy="2722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150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5"/>
          <p:cNvGrpSpPr/>
          <p:nvPr/>
        </p:nvGrpSpPr>
        <p:grpSpPr>
          <a:xfrm>
            <a:off x="1500840" y="1143000"/>
            <a:ext cx="6305760" cy="4437360"/>
            <a:chOff x="1500840" y="1143000"/>
            <a:chExt cx="6305760" cy="4437360"/>
          </a:xfrm>
        </p:grpSpPr>
        <mc:AlternateContent>
          <mc:Choice xmlns:a14="http://schemas.microsoft.com/office/drawing/2010/main" Requires="a14">
            <p:sp>
              <p:nvSpPr>
                <p:cNvPr id="192" name="Object 4"/>
                <p:cNvSpPr txBox="1"/>
                <p:nvPr/>
              </p:nvSpPr>
              <p:spPr>
                <a:xfrm>
                  <a:off x="2971800" y="1143000"/>
                  <a:ext cx="27432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3" name="Group 14"/>
            <p:cNvGrpSpPr/>
            <p:nvPr/>
          </p:nvGrpSpPr>
          <p:grpSpPr>
            <a:xfrm>
              <a:off x="1500840" y="1220400"/>
              <a:ext cx="6305760" cy="4359960"/>
              <a:chOff x="1500840" y="1220400"/>
              <a:chExt cx="6305760" cy="4359960"/>
            </a:xfrm>
          </p:grpSpPr>
          <p:pic>
            <p:nvPicPr>
              <p:cNvPr id="194" name="Picture 3" descr="C:\Documents and Settings\Administrator\Local Settings\Temp\CyberArticle\4a2f5d91707bdbc6dc77cd3bd7b1e106_files\clip_image252.gif"/>
              <p:cNvPicPr/>
              <p:nvPr/>
            </p:nvPicPr>
            <p:blipFill>
              <a:blip r:embed="rId2"/>
              <a:stretch/>
            </p:blipFill>
            <p:spPr>
              <a:xfrm>
                <a:off x="2362320" y="4648320"/>
                <a:ext cx="160020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7"/>
              <p:cNvSpPr/>
              <p:nvPr/>
            </p:nvSpPr>
            <p:spPr>
              <a:xfrm>
                <a:off x="1500840" y="1220400"/>
                <a:ext cx="6305760" cy="43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已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如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抛物线               与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x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轴、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y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轴分别相交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-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、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两点，其顶点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D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1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该抛物线的解析式；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2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若该抛物线与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x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轴的另一个交点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E.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四边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BD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的面积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3)△AOB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与△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D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否相似？如果相似，请予以证明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如果不相似，请说明理由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注：抛物线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y=ax2+bx+c(a≠0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的顶点坐标为 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Picture 16" descr="678"/>
          <p:cNvPicPr/>
          <p:nvPr/>
        </p:nvPicPr>
        <p:blipFill>
          <a:blip r:embed="rId3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8" descr="flowers"/>
          <p:cNvPicPr/>
          <p:nvPr/>
        </p:nvPicPr>
        <p:blipFill>
          <a:blip r:embed="rId4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848520" y="1600920"/>
            <a:ext cx="706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抛物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顶点坐标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,-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交于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(0,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原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求这条抛物线的解析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设此抛物线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的交点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左边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上是否存在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使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顶点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似？若存在，请求出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坐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不存在，请说明理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678"/>
          <p:cNvPicPr/>
          <p:nvPr/>
        </p:nvPicPr>
        <p:blipFill>
          <a:blip r:embed="rId1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0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flowers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5181480" cy="257040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5"/>
          <p:cNvGrpSpPr/>
          <p:nvPr/>
        </p:nvGrpSpPr>
        <p:grpSpPr>
          <a:xfrm>
            <a:off x="739080" y="1280880"/>
            <a:ext cx="6988680" cy="5075280"/>
            <a:chOff x="739080" y="1280880"/>
            <a:chExt cx="6988680" cy="5075280"/>
          </a:xfrm>
        </p:grpSpPr>
        <p:sp>
          <p:nvSpPr>
            <p:cNvPr id="205" name="Rectangle 3"/>
            <p:cNvSpPr/>
            <p:nvPr/>
          </p:nvSpPr>
          <p:spPr>
            <a:xfrm>
              <a:off x="1525680" y="1280880"/>
              <a:ext cx="6202080" cy="28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图①，已知抛物线的顶点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2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)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且经过原点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的另一交点为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1)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抛物线的解析式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抛物线的对称轴上，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抛物线上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且以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四点为顶点的四边形为平行四边形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的坐标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739080" y="3702600"/>
              <a:ext cx="29527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3)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连接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如图②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下方的抛物线上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否存在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使得△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B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△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相似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存在，求出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的坐标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不存在，说明理由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6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7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flowers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2"/>
          <p:cNvGraphicFramePr/>
          <p:nvPr/>
        </p:nvGraphicFramePr>
        <p:xfrm>
          <a:off x="5562720" y="3352680"/>
          <a:ext cx="35812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352680"/>
                    <a:ext cx="35812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9"/>
          <p:cNvGrpSpPr/>
          <p:nvPr/>
        </p:nvGrpSpPr>
        <p:grpSpPr>
          <a:xfrm>
            <a:off x="0" y="1368720"/>
            <a:ext cx="9320040" cy="2288520"/>
            <a:chOff x="0" y="1368720"/>
            <a:chExt cx="9320040" cy="2288520"/>
          </a:xfrm>
        </p:grpSpPr>
        <p:graphicFrame>
          <p:nvGraphicFramePr>
            <p:cNvPr id="213" name="Object 3"/>
            <p:cNvGraphicFramePr/>
            <p:nvPr/>
          </p:nvGraphicFramePr>
          <p:xfrm>
            <a:off x="2133720" y="2895480"/>
            <a:ext cx="1523880" cy="35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895480"/>
                      <a:ext cx="152388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Rectangle 4"/>
            <p:cNvSpPr/>
            <p:nvPr/>
          </p:nvSpPr>
          <p:spPr>
            <a:xfrm>
              <a:off x="0" y="1368720"/>
              <a:ext cx="9320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四川）如图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已知△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中，∠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CB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0°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所在直线为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过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的直线为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y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建立平面直角坐标系．此时，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坐标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,0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，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坐标为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,0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试求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坐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若抛物线          过△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三个顶点，求抛物线的解析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6"/>
          <p:cNvSpPr/>
          <p:nvPr/>
        </p:nvSpPr>
        <p:spPr>
          <a:xfrm>
            <a:off x="455760" y="3350160"/>
            <a:ext cx="463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在抛物线上，过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直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=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中的抛物线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那么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上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左侧是否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使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顶点的三角形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E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似？若存在，求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坐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不存在，说明理由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678"/>
          <p:cNvPicPr/>
          <p:nvPr/>
        </p:nvPicPr>
        <p:blipFill>
          <a:blip r:embed="rId5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2"/>
          <p:cNvSpPr txBox="1"/>
          <p:nvPr/>
        </p:nvSpPr>
        <p:spPr>
          <a:xfrm>
            <a:off x="1905120" y="380880"/>
            <a:ext cx="275112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中考题选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19" name="Picture 14" descr="flowers"/>
          <p:cNvPicPr/>
          <p:nvPr/>
        </p:nvPicPr>
        <p:blipFill>
          <a:blip r:embed="rId8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914760" y="1445040"/>
            <a:ext cx="73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湖北襄樊）如图，四边形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平行四边形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=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B=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抛物线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点，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交于另一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一动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每秒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长度的速度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出发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向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动，运动到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停止，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一动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发，以每秒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单位长度的速度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向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时停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64047" t="83780" r="555" b="2435"/>
          <a:stretch/>
        </p:blipFill>
        <p:spPr>
          <a:xfrm>
            <a:off x="5257800" y="4572000"/>
            <a:ext cx="365760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998280" y="3350160"/>
            <a:ext cx="692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求抛物线的解析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若抛物线的对称轴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交于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当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何值时，四边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OQ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等腰梯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何值时，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顶点的三角形与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顶点的三角形相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224" name="WordArt 7"/>
          <p:cNvSpPr txBox="1"/>
          <p:nvPr/>
        </p:nvSpPr>
        <p:spPr>
          <a:xfrm>
            <a:off x="2057400" y="304920"/>
            <a:ext cx="27511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中考题选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25" name="Picture 8" descr="flowers"/>
          <p:cNvPicPr/>
          <p:nvPr/>
        </p:nvPicPr>
        <p:blipFill>
          <a:blip r:embed="rId5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2-05T03:3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