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9.jpeg" ContentType="image/jpeg"/>
  <Override PartName="/ppt/media/image3.png" ContentType="image/png"/>
  <Override PartName="/ppt/media/image11.gif" ContentType="image/gif"/>
  <Override PartName="/ppt/media/image25.gif" ContentType="image/gif"/>
  <Override PartName="/ppt/media/image5.png" ContentType="image/png"/>
  <Override PartName="/ppt/media/image8.jpeg" ContentType="image/jpeg"/>
  <Override PartName="/ppt/media/image2.gif" ContentType="image/gif"/>
  <Override PartName="/ppt/media/image7.gif" ContentType="image/gif"/>
  <Override PartName="/ppt/media/image12.gif" ContentType="image/gif"/>
  <Override PartName="/ppt/media/image4.jpeg" ContentType="image/jpeg"/>
  <Override PartName="/ppt/media/image10.gif" ContentType="image/gif"/>
  <Override PartName="/ppt/media/image31.gif" ContentType="image/gif"/>
  <Override PartName="/ppt/media/image28.png" ContentType="image/png"/>
  <Override PartName="/ppt/media/image1.wmf" ContentType="image/x-wm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22.png" ContentType="image/png"/>
  <Override PartName="/ppt/media/image18.gif" ContentType="image/gif"/>
  <Override PartName="/ppt/media/image13.png" ContentType="image/png"/>
  <Override PartName="/ppt/media/image20.gif" ContentType="image/gif"/>
  <Override PartName="/ppt/media/image23.png" ContentType="image/png"/>
  <Override PartName="/ppt/media/image30.gif" ContentType="image/gif"/>
  <Override PartName="/ppt/media/image21.gif" ContentType="image/gif"/>
  <Override PartName="/ppt/media/image24.gif" ContentType="image/gif"/>
  <Override PartName="/ppt/media/image27.png" ContentType="image/png"/>
  <Override PartName="/ppt/media/image19.png" ContentType="image/png"/>
  <Override PartName="/ppt/media/image2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274-EF8E-42B4-BC61-681309614A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8427-2161-4927-B60A-8AF469E44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1840"/>
            <a:ext cx="91440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A530-9BCD-4241-955F-DFDC6187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184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184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6569-5A0B-4EE0-BD36-96CBECAC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2944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907560"/>
            <a:ext cx="2944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907560"/>
            <a:ext cx="2944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1840"/>
            <a:ext cx="2944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1840"/>
            <a:ext cx="2944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1840"/>
            <a:ext cx="2944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861A-A192-4F95-BAD0-F5449AA50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3907-035B-44AE-B245-B17F51B2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6FF2-78EB-43C1-A863-71747337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4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4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6521-F6A1-4C35-8267-371D03AE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8D6F-42CE-46FE-9372-A7F7C238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9360" y="-8280"/>
            <a:ext cx="915336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6BC2-DC4F-42B8-A69C-6B871A51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4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184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1756-4EEF-4DE0-8AAD-DACF1894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4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184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EB51-575C-4A5D-B0D6-AE72590E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1840"/>
            <a:ext cx="91440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967F-7C82-4330-AED8-84A2FB0D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07560"/>
            <a:ext cx="9144000" cy="54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Click to edit the outline text format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1" marL="343080" indent="-343080">
              <a:spcBef>
                <a:spcPts val="700"/>
              </a:spcBef>
              <a:buClr>
                <a:srgbClr val="333300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2" marL="343080" indent="-343080">
              <a:spcBef>
                <a:spcPts val="700"/>
              </a:spcBef>
              <a:buClr>
                <a:srgbClr val="3333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Third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3" marL="343080" indent="-343080">
              <a:spcBef>
                <a:spcPts val="700"/>
              </a:spcBef>
              <a:buClr>
                <a:srgbClr val="333300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Four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4" marL="343080" indent="-343080">
              <a:spcBef>
                <a:spcPts val="700"/>
              </a:spcBef>
              <a:buClr>
                <a:srgbClr val="3333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Fif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5" marL="343080" indent="-343080">
              <a:spcBef>
                <a:spcPts val="700"/>
              </a:spcBef>
              <a:buClr>
                <a:srgbClr val="3333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ix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  <a:p>
            <a:pPr lvl="6" marL="343080" indent="-343080">
              <a:spcBef>
                <a:spcPts val="700"/>
              </a:spcBef>
              <a:buClr>
                <a:srgbClr val="3333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Seventh Outline Level</a:t>
            </a:r>
            <a:endParaRPr b="1" lang="en-US" sz="2800" spc="-1" strike="noStrike">
              <a:solidFill>
                <a:srgbClr val="3333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36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fe7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A8DD-68A5-4B4E-9461-7387469082AD}" type="datetime3">
              <a:rPr b="0" lang="zh-CN" sz="1400" spc="-1" strike="noStrike">
                <a:solidFill>
                  <a:srgbClr val="bfe7ff"/>
                </a:solidFill>
                <a:latin typeface="Times New Roman"/>
              </a:rPr>
              <a:t>2026年7月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20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fc7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0C12-A7AD-461E-9D8E-ED11DCEC3032}" type="slidenum">
              <a:rPr b="1" lang="zh-CN" sz="1400" spc="-1" strike="noStrike">
                <a:solidFill>
                  <a:srgbClr val="8fc7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9360" y="5877000"/>
            <a:ext cx="915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image" Target="../media/image4.jpeg"/><Relationship Id="rId5" Type="http://schemas.openxmlformats.org/officeDocument/2006/relationships/hyperlink" Target="D:\&#32032;&#26448;&#24211;\&#39118;&#24070;.ppt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3.pn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image" Target="../media/image2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gif"/><Relationship Id="rId3" Type="http://schemas.openxmlformats.org/officeDocument/2006/relationships/image" Target="../media/image2.gif"/><Relationship Id="rId4" Type="http://schemas.openxmlformats.org/officeDocument/2006/relationships/image" Target="../media/image26.gif"/><Relationship Id="rId5" Type="http://schemas.openxmlformats.org/officeDocument/2006/relationships/image" Target="../media/image20.gif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png"/><Relationship Id="rId3" Type="http://schemas.openxmlformats.org/officeDocument/2006/relationships/image" Target="../media/image2.gif"/><Relationship Id="rId4" Type="http://schemas.openxmlformats.org/officeDocument/2006/relationships/image" Target="../media/image29.png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png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image" Target="../media/image17.gif"/><Relationship Id="rId13" Type="http://schemas.openxmlformats.org/officeDocument/2006/relationships/image" Target="../media/image18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03280" y="3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北 师 大  </a:t>
            </a:r>
            <a:r>
              <a:rPr b="1" lang="zh-CN" sz="3600" spc="-1" strike="noStrike">
                <a:solidFill>
                  <a:srgbClr val="ffcc00"/>
                </a:solidFill>
                <a:latin typeface="华文彩云"/>
              </a:rPr>
              <a:t>•  </a:t>
            </a:r>
            <a:r>
              <a:rPr b="1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八 年 级 《  数 学 </a:t>
            </a:r>
            <a:r>
              <a:rPr b="1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( </a:t>
            </a:r>
            <a:r>
              <a:rPr b="1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上 </a:t>
            </a:r>
            <a:r>
              <a:rPr b="1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) </a:t>
            </a:r>
            <a:r>
              <a:rPr b="1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》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9320" y="693720"/>
            <a:ext cx="8572680" cy="142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360" y="44280"/>
            <a:ext cx="9144000" cy="82728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1</a:t>
            </a: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、你能证明它们吗</a:t>
            </a: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(1)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-36360" y="0"/>
            <a:ext cx="921672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5"/>
          </p:cNvPr>
          <p:cNvSpPr/>
          <p:nvPr/>
        </p:nvSpPr>
        <p:spPr>
          <a:xfrm>
            <a:off x="-3007800" y="765000"/>
            <a:ext cx="5942880" cy="122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76320" y="1341360"/>
            <a:ext cx="240804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348000" y="1123920"/>
            <a:ext cx="4753080" cy="565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046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第一章 证明</a:t>
            </a:r>
            <a:r>
              <a:rPr b="1" lang="en-US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(2)</a:t>
            </a:r>
            <a:endParaRPr b="1" lang="en-US" sz="6600" spc="1" strike="noStrike">
              <a:ln w="9360">
                <a:solidFill>
                  <a:srgbClr val="ffffff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54480" y="4292640"/>
            <a:ext cx="496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99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华文新魏"/>
              </a:rPr>
              <a:t>1</a:t>
            </a:r>
            <a:r>
              <a:rPr b="1" lang="zh-CN" sz="2400" spc="1" strike="noStrike">
                <a:ln w="19080">
                  <a:solidFill>
                    <a:srgbClr val="ffff99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华文新魏"/>
              </a:rPr>
              <a:t>、你能证明它们吗</a:t>
            </a:r>
            <a:endParaRPr b="1" lang="en-US" sz="2400" spc="1" strike="noStrike">
              <a:ln w="19080">
                <a:solidFill>
                  <a:srgbClr val="ffff99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华文新魏"/>
              <a:ea typeface="华文新魏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0" y="60948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03280" y="3240"/>
            <a:ext cx="7777080" cy="82548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3800" y="10944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Book Antiqua"/>
                <a:ea typeface="黑体"/>
              </a:rPr>
              <a:t>北 师 大 • 九 年 级 上  数 学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36360" y="-27000"/>
            <a:ext cx="1447560" cy="791640"/>
            <a:chOff x="-36360" y="-27000"/>
            <a:chExt cx="1447560" cy="791640"/>
          </a:xfrm>
        </p:grpSpPr>
        <p:sp>
          <p:nvSpPr>
            <p:cNvPr id="60" name=""/>
            <p:cNvSpPr/>
            <p:nvPr/>
          </p:nvSpPr>
          <p:spPr>
            <a:xfrm>
              <a:off x="-36360" y="-27000"/>
              <a:ext cx="1447560" cy="7916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4"/>
            <a:stretch/>
          </p:blipFill>
          <p:spPr>
            <a:xfrm>
              <a:off x="574560" y="277920"/>
              <a:ext cx="456840" cy="47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6FCF-C7D9-4D55-986C-123DBC5309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1446A-7F0B-4A78-86F9-11DE09347F8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9261360" cy="765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几何的三种语言、</a:t>
            </a:r>
            <a:r>
              <a:rPr b="1" lang="zh-CN" sz="4400" spc="-1" strike="noStrike">
                <a:solidFill>
                  <a:srgbClr val="ffff66"/>
                </a:solidFill>
                <a:latin typeface="Book Antiqua"/>
                <a:ea typeface="隶书"/>
              </a:rPr>
              <a:t>三角形内角和定理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78" name=""/>
          <p:cNvSpPr/>
          <p:nvPr/>
        </p:nvSpPr>
        <p:spPr>
          <a:xfrm>
            <a:off x="3303720" y="1447920"/>
            <a:ext cx="4581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△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中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A+∠B+∠C=18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2151000"/>
            <a:ext cx="5473440" cy="2646360"/>
          </a:xfrm>
          <a:prstGeom prst="rect">
            <a:avLst/>
          </a:pr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+∠B+∠C=18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o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的几种变形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=180</a:t>
            </a:r>
            <a:r>
              <a:rPr b="1" lang="zh-CN" sz="2400" spc="-1" strike="noStrike" baseline="30000">
                <a:solidFill>
                  <a:srgbClr val="3333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–(∠B+∠C)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B=180</a:t>
            </a:r>
            <a:r>
              <a:rPr b="1" lang="zh-CN" sz="2400" spc="-1" strike="noStrike" baseline="30000">
                <a:solidFill>
                  <a:srgbClr val="3333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–(∠A+∠C)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C=180</a:t>
            </a:r>
            <a:r>
              <a:rPr b="1" lang="zh-CN" sz="2400" spc="-1" strike="noStrike" baseline="30000">
                <a:solidFill>
                  <a:srgbClr val="3333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–(∠A+∠B)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+∠B=180</a:t>
            </a:r>
            <a:r>
              <a:rPr b="1" lang="zh-CN" sz="2400" spc="-1" strike="noStrike" baseline="30000">
                <a:solidFill>
                  <a:srgbClr val="333300"/>
                </a:solidFill>
                <a:latin typeface="Times New Roman"/>
                <a:ea typeface="黑体"/>
              </a:rPr>
              <a:t>o </a:t>
            </a:r>
            <a:r>
              <a:rPr b="1" lang="zh-CN" sz="2000" spc="-1" strike="noStrike">
                <a:solidFill>
                  <a:srgbClr val="333300"/>
                </a:solidFill>
                <a:latin typeface="Arial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∠C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B+∠C=180</a:t>
            </a:r>
            <a:r>
              <a:rPr b="1" lang="zh-CN" sz="2400" spc="-1" strike="noStrike" baseline="30000">
                <a:solidFill>
                  <a:srgbClr val="333300"/>
                </a:solidFill>
                <a:latin typeface="Times New Roman"/>
                <a:ea typeface="黑体"/>
              </a:rPr>
              <a:t>o </a:t>
            </a:r>
            <a:r>
              <a:rPr b="1" lang="zh-CN" sz="2000" spc="-1" strike="noStrike">
                <a:solidFill>
                  <a:srgbClr val="333300"/>
                </a:solidFill>
                <a:latin typeface="Arial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∠A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+∠C=180</a:t>
            </a:r>
            <a:r>
              <a:rPr b="1" lang="zh-CN" sz="2400" spc="-1" strike="noStrike" baseline="30000">
                <a:solidFill>
                  <a:srgbClr val="333300"/>
                </a:solidFill>
                <a:latin typeface="Times New Roman"/>
                <a:ea typeface="黑体"/>
              </a:rPr>
              <a:t>o </a:t>
            </a:r>
            <a:r>
              <a:rPr b="1" lang="zh-CN" sz="2000" spc="-1" strike="noStrike">
                <a:solidFill>
                  <a:srgbClr val="333300"/>
                </a:solidFill>
                <a:latin typeface="Arial"/>
                <a:ea typeface="华文行楷"/>
              </a:rPr>
              <a:t>–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∠B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084720" y="2379600"/>
            <a:ext cx="2819160" cy="2059920"/>
            <a:chOff x="6084720" y="2379600"/>
            <a:chExt cx="2819160" cy="2059920"/>
          </a:xfrm>
        </p:grpSpPr>
        <p:sp>
          <p:nvSpPr>
            <p:cNvPr id="381" name=""/>
            <p:cNvSpPr/>
            <p:nvPr/>
          </p:nvSpPr>
          <p:spPr>
            <a:xfrm>
              <a:off x="6389280" y="428472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84920" y="2379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84720" y="3979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446680" y="3979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389280" y="2777760"/>
              <a:ext cx="1517760" cy="150660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13520" y="2760840"/>
              <a:ext cx="554040" cy="152856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29360" y="90792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三角形内角和定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43440" y="992160"/>
            <a:ext cx="288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三角形三个内角的和等于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180</a:t>
            </a:r>
            <a:r>
              <a:rPr b="1" lang="zh-CN" sz="2400" spc="-1" strike="noStrike" baseline="30000">
                <a:solidFill>
                  <a:srgbClr val="3333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360" y="5445000"/>
            <a:ext cx="9072720" cy="527040"/>
          </a:xfrm>
          <a:prstGeom prst="rect">
            <a:avLst/>
          </a:pr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公理、定理及由它们直接推出来的结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推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)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后可以直接运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9A3D-3B53-4EE8-BACF-DC49BFE9F22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25440-2E36-4E61-A59C-6818D774CB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360" y="-27000"/>
            <a:ext cx="9145440" cy="792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Book Antiqua"/>
                <a:ea typeface="隶书"/>
              </a:rPr>
              <a:t>几何的三种语言、关注三角形的外角</a:t>
            </a:r>
            <a:endParaRPr b="1" lang="en-US" sz="40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91" name=""/>
          <p:cNvSpPr/>
          <p:nvPr/>
        </p:nvSpPr>
        <p:spPr>
          <a:xfrm>
            <a:off x="1476360" y="3860640"/>
            <a:ext cx="3166920" cy="1152720"/>
          </a:xfrm>
          <a:prstGeom prst="rect">
            <a:avLst/>
          </a:pr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      △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中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: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33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1=∠2+∠3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33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1&gt;∠2,∠1&gt;∠3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148360" y="2997360"/>
            <a:ext cx="3657600" cy="2288520"/>
            <a:chOff x="5148360" y="2997360"/>
            <a:chExt cx="3657600" cy="2288520"/>
          </a:xfrm>
        </p:grpSpPr>
        <p:grpSp>
          <p:nvGrpSpPr>
            <p:cNvPr id="393" name=""/>
            <p:cNvGrpSpPr/>
            <p:nvPr/>
          </p:nvGrpSpPr>
          <p:grpSpPr>
            <a:xfrm>
              <a:off x="5148360" y="2997360"/>
              <a:ext cx="2514600" cy="2288520"/>
              <a:chOff x="5148360" y="2997360"/>
              <a:chExt cx="2514600" cy="2288520"/>
            </a:xfrm>
          </p:grpSpPr>
          <p:sp>
            <p:nvSpPr>
              <p:cNvPr id="394" name=""/>
              <p:cNvSpPr/>
              <p:nvPr/>
            </p:nvSpPr>
            <p:spPr>
              <a:xfrm>
                <a:off x="5300640" y="4902480"/>
                <a:ext cx="2057400" cy="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96280" y="2997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148360" y="4826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05760" y="4826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5300640" y="3395520"/>
                <a:ext cx="1517760" cy="150660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24880" y="3378240"/>
                <a:ext cx="554040" cy="1528920"/>
              </a:xfrm>
              <a:prstGeom prst="line">
                <a:avLst/>
              </a:prstGeom>
              <a:ln cap="sq"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358040" y="4826160"/>
              <a:ext cx="1447920" cy="459720"/>
              <a:chOff x="7358040" y="4826160"/>
              <a:chExt cx="1447920" cy="459720"/>
            </a:xfrm>
          </p:grpSpPr>
          <p:sp>
            <p:nvSpPr>
              <p:cNvPr id="401" name=""/>
              <p:cNvSpPr/>
              <p:nvPr/>
            </p:nvSpPr>
            <p:spPr>
              <a:xfrm>
                <a:off x="7358040" y="4902480"/>
                <a:ext cx="129564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348760" y="4826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205760" y="4521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19960" y="3454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29240" y="4521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01560" y="4597560"/>
              <a:ext cx="761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717800">
              <a:off x="5251680" y="4411080"/>
              <a:ext cx="761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 rot="2520600">
              <a:off x="6290280" y="3213000"/>
              <a:ext cx="761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00840" y="4521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824880" y="4597560"/>
              <a:ext cx="761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98760" y="88416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三角形内角和定理的推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1880" y="1557360"/>
            <a:ext cx="12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推论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86040" y="155736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三角形的一个外角等于和它不相邻的两个内角的和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06840" y="2349360"/>
            <a:ext cx="93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三角形的一个外角大于任何一个和它不相邻的内角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92040" y="306864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直角三角形的两锐角互余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2160" y="2349360"/>
            <a:ext cx="12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推论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2160" y="3068640"/>
            <a:ext cx="12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推论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360" y="5589720"/>
            <a:ext cx="9072720" cy="527040"/>
          </a:xfrm>
          <a:prstGeom prst="rect">
            <a:avLst/>
          </a:pr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公理、定理及由它们直接推出来的结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推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)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后可以直接运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351C-568F-4D02-A9DE-5B9D21B8DFC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222F2-9919-46D4-9EA5-89E210B1B9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有关三角形全等的一些结论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420" name=""/>
          <p:cNvSpPr/>
          <p:nvPr/>
        </p:nvSpPr>
        <p:spPr>
          <a:xfrm>
            <a:off x="287280" y="13413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公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99320" y="1270080"/>
            <a:ext cx="29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三边对应相等的两个三角形全等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67600" y="12700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华文行楷"/>
              </a:rPr>
              <a:t>(SSS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6040" y="170172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边及其夹角对应相等的两个三角形全等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16040" y="21812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角及其夹边对应相等的两个三角形全等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78200" y="3214800"/>
            <a:ext cx="4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全等三角形的确对应边、对应角相等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18720" y="2684520"/>
            <a:ext cx="42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角及其一角的对边对应相等的两个三角形全等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65440" y="17366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华文行楷"/>
              </a:rPr>
              <a:t>(SAS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64720" y="22417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华文行楷"/>
              </a:rPr>
              <a:t>(ASA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37800" y="274464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华文行楷"/>
              </a:rPr>
              <a:t>(AAS)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8353440" y="170172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8353440" y="214164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8353440" y="263844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6"/>
          <a:stretch/>
        </p:blipFill>
        <p:spPr>
          <a:xfrm>
            <a:off x="576360" y="1774800"/>
            <a:ext cx="425520" cy="4255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87280" y="17496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公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576360" y="2212920"/>
            <a:ext cx="425520" cy="425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81160" y="21812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公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8"/>
          <a:stretch/>
        </p:blipFill>
        <p:spPr>
          <a:xfrm>
            <a:off x="576360" y="2716200"/>
            <a:ext cx="425520" cy="4255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281160" y="26845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推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9"/>
          <a:stretch/>
        </p:blipFill>
        <p:spPr>
          <a:xfrm>
            <a:off x="582480" y="3220920"/>
            <a:ext cx="425520" cy="4255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22200" y="3214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公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280" y="4221000"/>
            <a:ext cx="910908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52360" y="4614840"/>
            <a:ext cx="8640720" cy="974880"/>
            <a:chOff x="252360" y="4614840"/>
            <a:chExt cx="8640720" cy="974880"/>
          </a:xfrm>
        </p:grpSpPr>
        <p:pic>
          <p:nvPicPr>
            <p:cNvPr id="443" name="" descr=""/>
            <p:cNvPicPr/>
            <p:nvPr/>
          </p:nvPicPr>
          <p:blipFill>
            <a:blip r:embed="rId10"/>
            <a:stretch/>
          </p:blipFill>
          <p:spPr>
            <a:xfrm>
              <a:off x="252360" y="4614840"/>
              <a:ext cx="8636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35080" y="4614840"/>
              <a:ext cx="7758000" cy="94716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运用上述公理和已经证明的定理及其推论，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我们还可以证明有关三角形的一些其它的结论。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00C9-B9C0-4C41-A967-2A42B77C887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1F9E2-70AD-4401-AC18-518525FE91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6781680" y="4540320"/>
            <a:ext cx="2362320" cy="2201760"/>
            <a:chOff x="6781680" y="4540320"/>
            <a:chExt cx="2362320" cy="2201760"/>
          </a:xfrm>
        </p:grpSpPr>
        <p:pic>
          <p:nvPicPr>
            <p:cNvPr id="446" name="" descr=""/>
            <p:cNvPicPr/>
            <p:nvPr/>
          </p:nvPicPr>
          <p:blipFill>
            <a:blip r:embed="rId2"/>
            <a:stretch/>
          </p:blipFill>
          <p:spPr>
            <a:xfrm>
              <a:off x="6781680" y="49068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020000" y="4540320"/>
              <a:ext cx="19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e0035"/>
                  </a:solidFill>
                  <a:latin typeface="Times New Roman"/>
                  <a:ea typeface="华文新魏"/>
                </a:rPr>
                <a:t>驶向胜利的彼岸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03200" y="-44280"/>
            <a:ext cx="7840800" cy="80928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Book Antiqua"/>
                <a:ea typeface="隶书"/>
              </a:rPr>
              <a:t>学好几何的标志是会“证明”</a:t>
            </a:r>
            <a:endParaRPr b="1" lang="en-US" sz="40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449" name=""/>
          <p:cNvSpPr/>
          <p:nvPr/>
        </p:nvSpPr>
        <p:spPr>
          <a:xfrm>
            <a:off x="2649600" y="907920"/>
            <a:ext cx="45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证明命题的一般步骤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76360" y="1828800"/>
            <a:ext cx="7667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理解题意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分清命题的条件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已知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)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结论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求证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)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476360" y="2362320"/>
            <a:ext cx="748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根据题意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画出图形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76360" y="2895480"/>
            <a:ext cx="757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结合图形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用符号语言 写出“已知”和“求证”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76360" y="34290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分析题意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探索证明思路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             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76360" y="3886200"/>
            <a:ext cx="757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5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依据思路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运用数学符号和数学语言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条理清晰地写出证明过程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76360" y="4724280"/>
            <a:ext cx="5210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6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检查表达过程是否正确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完善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0"/>
          <a:ext cx="1303200" cy="20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30320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5767200" y="3500280"/>
            <a:ext cx="29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0035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9e0035"/>
                </a:solidFill>
                <a:latin typeface="黑体"/>
                <a:ea typeface="黑体"/>
              </a:rPr>
              <a:t>由“因”导“果”</a:t>
            </a:r>
            <a:r>
              <a:rPr b="1" lang="zh-CN" sz="2000" spc="-1" strike="noStrike">
                <a:solidFill>
                  <a:srgbClr val="9e0035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9e0035"/>
                </a:solidFill>
                <a:latin typeface="黑体"/>
                <a:ea typeface="黑体"/>
              </a:rPr>
              <a:t>执“果”索“因”</a:t>
            </a:r>
            <a:r>
              <a:rPr b="1" lang="zh-CN" sz="2000" spc="-1" strike="noStrike">
                <a:solidFill>
                  <a:srgbClr val="9e0035"/>
                </a:solidFill>
                <a:latin typeface="黑体"/>
                <a:ea typeface="黑体"/>
              </a:rPr>
              <a:t>.);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1F5A-4343-4D17-B16A-23898EE460B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98FF3-52D2-4771-9954-1E7C82985CF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Book Antiqua"/>
              </a:rPr>
              <a:t>等腰三角形的性质</a:t>
            </a:r>
            <a:r>
              <a:rPr b="1" lang="zh-CN" sz="4000" spc="-1" strike="noStrike">
                <a:solidFill>
                  <a:srgbClr val="ffff99"/>
                </a:solidFill>
                <a:latin typeface="Book Antiqua"/>
                <a:ea typeface="MS UI Gothic"/>
              </a:rPr>
              <a:t>——的验证与证明</a:t>
            </a:r>
            <a:endParaRPr b="1" lang="en-US" sz="4000" spc="-1" strike="noStrike">
              <a:solidFill>
                <a:srgbClr val="ffff99"/>
              </a:solidFill>
              <a:latin typeface="Book Antiqu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1840" y="883080"/>
            <a:ext cx="6968160" cy="1180080"/>
            <a:chOff x="51840" y="883080"/>
            <a:chExt cx="6968160" cy="1180080"/>
          </a:xfrm>
        </p:grpSpPr>
        <p:grpSp>
          <p:nvGrpSpPr>
            <p:cNvPr id="461" name=""/>
            <p:cNvGrpSpPr/>
            <p:nvPr/>
          </p:nvGrpSpPr>
          <p:grpSpPr>
            <a:xfrm>
              <a:off x="51840" y="883080"/>
              <a:ext cx="2564280" cy="680760"/>
              <a:chOff x="51840" y="883080"/>
              <a:chExt cx="2564280" cy="68076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51840" y="883080"/>
                <a:ext cx="2564280" cy="680760"/>
                <a:chOff x="51840" y="883080"/>
                <a:chExt cx="2564280" cy="6807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2640" y="971640"/>
                  <a:ext cx="623520" cy="573120"/>
                </a:xfrm>
                <a:custGeom>
                  <a:avLst/>
                  <a:gdLst/>
                  <a:ahLst/>
                  <a:rect l="l" t="t" r="r" b="b"/>
                  <a:pathLst>
                    <a:path w="1543" h="1497">
                      <a:moveTo>
                        <a:pt x="46" y="725"/>
                      </a:moveTo>
                      <a:lnTo>
                        <a:pt x="771" y="0"/>
                      </a:lnTo>
                      <a:lnTo>
                        <a:pt x="1543" y="725"/>
                      </a:lnTo>
                      <a:lnTo>
                        <a:pt x="817" y="1497"/>
                      </a:lnTo>
                      <a:lnTo>
                        <a:pt x="0" y="771"/>
                      </a:lnTo>
                      <a:lnTo>
                        <a:pt x="136" y="635"/>
                      </a:lnTo>
                      <a:lnTo>
                        <a:pt x="363" y="40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33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098080" y="1171440"/>
                  <a:ext cx="479520" cy="366120"/>
                </a:xfrm>
                <a:custGeom>
                  <a:avLst/>
                  <a:gdLst/>
                  <a:ahLst/>
                  <a:rect l="l" t="t" r="r" b="b"/>
                  <a:pathLst>
                    <a:path w="952" h="726">
                      <a:moveTo>
                        <a:pt x="408" y="0"/>
                      </a:moveTo>
                      <a:lnTo>
                        <a:pt x="952" y="0"/>
                      </a:lnTo>
                      <a:lnTo>
                        <a:pt x="589" y="726"/>
                      </a:lnTo>
                      <a:lnTo>
                        <a:pt x="0" y="726"/>
                      </a:lnTo>
                      <a:lnTo>
                        <a:pt x="408" y="0"/>
                      </a:lnTo>
                      <a:close/>
                    </a:path>
                  </a:pathLst>
                </a:custGeom>
                <a:solidFill>
                  <a:srgbClr val="9e0035">
                    <a:alpha val="7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13640" y="1251360"/>
                  <a:ext cx="1799280" cy="225000"/>
                </a:xfrm>
                <a:custGeom>
                  <a:avLst/>
                  <a:gdLst/>
                  <a:ahLst/>
                  <a:rect l="l" t="t" r="r" b="b"/>
                  <a:pathLst>
                    <a:path w="1088" h="136">
                      <a:moveTo>
                        <a:pt x="90" y="0"/>
                      </a:moveTo>
                      <a:lnTo>
                        <a:pt x="1088" y="0"/>
                      </a:lnTo>
                      <a:lnTo>
                        <a:pt x="997" y="136"/>
                      </a:lnTo>
                      <a:lnTo>
                        <a:pt x="0" y="136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c145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6" name=""/>
                <p:cNvGrpSpPr/>
                <p:nvPr/>
              </p:nvGrpSpPr>
              <p:grpSpPr>
                <a:xfrm>
                  <a:off x="102960" y="1004040"/>
                  <a:ext cx="550800" cy="506520"/>
                  <a:chOff x="102960" y="1004040"/>
                  <a:chExt cx="550800" cy="5065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142200" y="1040400"/>
                    <a:ext cx="471960" cy="43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1088">
                        <a:moveTo>
                          <a:pt x="544" y="0"/>
                        </a:moveTo>
                        <a:lnTo>
                          <a:pt x="0" y="544"/>
                        </a:lnTo>
                        <a:lnTo>
                          <a:pt x="544" y="1088"/>
                        </a:lnTo>
                        <a:lnTo>
                          <a:pt x="1089" y="498"/>
                        </a:lnTo>
                        <a:lnTo>
                          <a:pt x="54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102960" y="1004040"/>
                    <a:ext cx="27504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635">
                        <a:moveTo>
                          <a:pt x="635" y="91"/>
                        </a:moveTo>
                        <a:lnTo>
                          <a:pt x="635" y="0"/>
                        </a:lnTo>
                        <a:lnTo>
                          <a:pt x="0" y="635"/>
                        </a:lnTo>
                        <a:lnTo>
                          <a:pt x="91" y="635"/>
                        </a:lnTo>
                        <a:lnTo>
                          <a:pt x="635" y="91"/>
                        </a:lnTo>
                        <a:close/>
                      </a:path>
                    </a:pathLst>
                  </a:custGeom>
                  <a:solidFill>
                    <a:srgbClr val="9a0033"/>
                  </a:soli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102960" y="1257480"/>
                    <a:ext cx="27504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635">
                        <a:moveTo>
                          <a:pt x="91" y="0"/>
                        </a:moveTo>
                        <a:lnTo>
                          <a:pt x="635" y="544"/>
                        </a:lnTo>
                        <a:lnTo>
                          <a:pt x="635" y="635"/>
                        </a:lnTo>
                        <a:lnTo>
                          <a:pt x="0" y="0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solidFill>
                    <a:srgbClr val="9a0033"/>
                  </a:soli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78000" y="1238760"/>
                    <a:ext cx="27576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6" h="681">
                        <a:moveTo>
                          <a:pt x="0" y="681"/>
                        </a:moveTo>
                        <a:lnTo>
                          <a:pt x="0" y="590"/>
                        </a:lnTo>
                        <a:lnTo>
                          <a:pt x="545" y="0"/>
                        </a:lnTo>
                        <a:lnTo>
                          <a:pt x="636" y="0"/>
                        </a:lnTo>
                        <a:lnTo>
                          <a:pt x="0" y="681"/>
                        </a:lnTo>
                        <a:close/>
                      </a:path>
                    </a:pathLst>
                  </a:custGeom>
                  <a:solidFill>
                    <a:srgbClr val="9a0033"/>
                  </a:soli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78000" y="1004040"/>
                    <a:ext cx="27576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636" h="589">
                        <a:moveTo>
                          <a:pt x="545" y="589"/>
                        </a:moveTo>
                        <a:lnTo>
                          <a:pt x="0" y="91"/>
                        </a:lnTo>
                        <a:lnTo>
                          <a:pt x="0" y="0"/>
                        </a:lnTo>
                        <a:lnTo>
                          <a:pt x="636" y="589"/>
                        </a:lnTo>
                        <a:lnTo>
                          <a:pt x="545" y="589"/>
                        </a:lnTo>
                        <a:close/>
                      </a:path>
                    </a:pathLst>
                  </a:custGeom>
                  <a:solidFill>
                    <a:srgbClr val="9a0033"/>
                  </a:soli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51840" y="883080"/>
                  <a:ext cx="693000" cy="680760"/>
                  <a:chOff x="51840" y="883080"/>
                  <a:chExt cx="693000" cy="6807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9020600">
                    <a:off x="86760" y="1233000"/>
                    <a:ext cx="19692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453">
                        <a:moveTo>
                          <a:pt x="454" y="408"/>
                        </a:moveTo>
                        <a:lnTo>
                          <a:pt x="363" y="453"/>
                        </a:lnTo>
                        <a:lnTo>
                          <a:pt x="0" y="0"/>
                        </a:lnTo>
                        <a:lnTo>
                          <a:pt x="454" y="408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9020600">
                    <a:off x="117000" y="1177560"/>
                    <a:ext cx="15696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317" y="499"/>
                        </a:moveTo>
                        <a:lnTo>
                          <a:pt x="362" y="453"/>
                        </a:lnTo>
                        <a:lnTo>
                          <a:pt x="0" y="0"/>
                        </a:lnTo>
                        <a:lnTo>
                          <a:pt x="317" y="499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9020600">
                    <a:off x="77400" y="1404720"/>
                    <a:ext cx="2365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27">
                        <a:moveTo>
                          <a:pt x="545" y="182"/>
                        </a:moveTo>
                        <a:lnTo>
                          <a:pt x="499" y="227"/>
                        </a:lnTo>
                        <a:lnTo>
                          <a:pt x="0" y="0"/>
                        </a:lnTo>
                        <a:lnTo>
                          <a:pt x="545" y="182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9020600">
                    <a:off x="93240" y="1362600"/>
                    <a:ext cx="1969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272">
                        <a:moveTo>
                          <a:pt x="409" y="272"/>
                        </a:moveTo>
                        <a:lnTo>
                          <a:pt x="454" y="227"/>
                        </a:lnTo>
                        <a:lnTo>
                          <a:pt x="0" y="0"/>
                        </a:lnTo>
                        <a:lnTo>
                          <a:pt x="409" y="272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9020600">
                    <a:off x="136080" y="1125720"/>
                    <a:ext cx="13788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590">
                        <a:moveTo>
                          <a:pt x="318" y="544"/>
                        </a:moveTo>
                        <a:lnTo>
                          <a:pt x="272" y="590"/>
                        </a:lnTo>
                        <a:lnTo>
                          <a:pt x="0" y="0"/>
                        </a:lnTo>
                        <a:lnTo>
                          <a:pt x="318" y="544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020600">
                    <a:off x="180360" y="1056600"/>
                    <a:ext cx="979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635">
                        <a:moveTo>
                          <a:pt x="136" y="635"/>
                        </a:moveTo>
                        <a:lnTo>
                          <a:pt x="226" y="635"/>
                        </a:lnTo>
                        <a:lnTo>
                          <a:pt x="0" y="0"/>
                        </a:lnTo>
                        <a:lnTo>
                          <a:pt x="136" y="635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9020600">
                    <a:off x="204120" y="949320"/>
                    <a:ext cx="5904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907">
                        <a:moveTo>
                          <a:pt x="90" y="861"/>
                        </a:moveTo>
                        <a:lnTo>
                          <a:pt x="0" y="0"/>
                        </a:lnTo>
                        <a:lnTo>
                          <a:pt x="136" y="907"/>
                        </a:lnTo>
                        <a:lnTo>
                          <a:pt x="90" y="861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19020600">
                    <a:off x="241560" y="910800"/>
                    <a:ext cx="59040" cy="34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861">
                        <a:moveTo>
                          <a:pt x="0" y="861"/>
                        </a:moveTo>
                        <a:lnTo>
                          <a:pt x="91" y="861"/>
                        </a:lnTo>
                        <a:lnTo>
                          <a:pt x="136" y="0"/>
                        </a:lnTo>
                        <a:lnTo>
                          <a:pt x="0" y="861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9020600">
                    <a:off x="486360" y="992880"/>
                    <a:ext cx="2559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272">
                        <a:moveTo>
                          <a:pt x="0" y="182"/>
                        </a:moveTo>
                        <a:lnTo>
                          <a:pt x="45" y="272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9020600">
                    <a:off x="420840" y="1013400"/>
                    <a:ext cx="236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72">
                        <a:moveTo>
                          <a:pt x="0" y="181"/>
                        </a:moveTo>
                        <a:lnTo>
                          <a:pt x="90" y="272"/>
                        </a:lnTo>
                        <a:lnTo>
                          <a:pt x="544" y="0"/>
                        </a:lnTo>
                        <a:lnTo>
                          <a:pt x="0" y="181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9020600">
                    <a:off x="371520" y="973440"/>
                    <a:ext cx="17712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08">
                        <a:moveTo>
                          <a:pt x="0" y="408"/>
                        </a:moveTo>
                        <a:lnTo>
                          <a:pt x="90" y="408"/>
                        </a:lnTo>
                        <a:lnTo>
                          <a:pt x="408" y="0"/>
                        </a:lnTo>
                        <a:lnTo>
                          <a:pt x="0" y="408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9020600">
                    <a:off x="314280" y="946800"/>
                    <a:ext cx="15732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544">
                        <a:moveTo>
                          <a:pt x="0" y="544"/>
                        </a:moveTo>
                        <a:lnTo>
                          <a:pt x="91" y="544"/>
                        </a:lnTo>
                        <a:lnTo>
                          <a:pt x="363" y="0"/>
                        </a:lnTo>
                        <a:lnTo>
                          <a:pt x="0" y="544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9020600">
                    <a:off x="268200" y="879480"/>
                    <a:ext cx="11808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816">
                        <a:moveTo>
                          <a:pt x="0" y="816"/>
                        </a:moveTo>
                        <a:lnTo>
                          <a:pt x="90" y="816"/>
                        </a:lnTo>
                        <a:lnTo>
                          <a:pt x="272" y="136"/>
                        </a:lnTo>
                        <a:lnTo>
                          <a:pt x="181" y="227"/>
                        </a:lnTo>
                        <a:lnTo>
                          <a:pt x="181" y="0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"/>
                <p:cNvSpPr/>
                <p:nvPr/>
              </p:nvSpPr>
              <p:spPr>
                <a:xfrm>
                  <a:off x="378000" y="1122840"/>
                  <a:ext cx="2238120" cy="433800"/>
                </a:xfrm>
                <a:custGeom>
                  <a:avLst/>
                  <a:gdLst/>
                  <a:ahLst/>
                  <a:rect l="l" t="t" r="r" b="b"/>
                  <a:pathLst>
                    <a:path w="4989" h="907">
                      <a:moveTo>
                        <a:pt x="4899" y="0"/>
                      </a:moveTo>
                      <a:lnTo>
                        <a:pt x="4490" y="817"/>
                      </a:lnTo>
                      <a:lnTo>
                        <a:pt x="0" y="817"/>
                      </a:lnTo>
                      <a:lnTo>
                        <a:pt x="0" y="907"/>
                      </a:lnTo>
                      <a:lnTo>
                        <a:pt x="4536" y="907"/>
                      </a:lnTo>
                      <a:lnTo>
                        <a:pt x="4989" y="0"/>
                      </a:lnTo>
                      <a:lnTo>
                        <a:pt x="489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639720" y="884520"/>
                <a:ext cx="160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333300"/>
                    </a:solidFill>
                    <a:latin typeface="Times New Roman"/>
                    <a:ea typeface="黑体"/>
                  </a:rPr>
                  <a:t>议一议</a:t>
                </a:r>
                <a:endParaRPr b="0" lang="en-US" sz="3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108000" y="1603440"/>
              <a:ext cx="69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(1) </a:t>
              </a:r>
              <a:r>
                <a:rPr b="1" lang="zh-CN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你还记得我们探索过的等腰三角形的性质吗？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58680" y="2108160"/>
            <a:ext cx="52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2)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你能动手来证明这些结论吗吗</a:t>
            </a:r>
            <a:r>
              <a:rPr b="1" lang="zh-CN" sz="2000" spc="-1" strike="noStrike">
                <a:solidFill>
                  <a:srgbClr val="333300"/>
                </a:solidFill>
                <a:latin typeface="Arial"/>
                <a:ea typeface="华文行楷"/>
              </a:rPr>
              <a:t>？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518520" y="1087560"/>
            <a:ext cx="2309400" cy="2630880"/>
            <a:chOff x="6518520" y="1087560"/>
            <a:chExt cx="2309400" cy="2630880"/>
          </a:xfrm>
        </p:grpSpPr>
        <p:sp>
          <p:nvSpPr>
            <p:cNvPr id="491" name=""/>
            <p:cNvSpPr/>
            <p:nvPr/>
          </p:nvSpPr>
          <p:spPr>
            <a:xfrm>
              <a:off x="6877080" y="1376280"/>
              <a:ext cx="1584360" cy="20163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53440" y="10875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18520" y="3319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62880" y="3319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877080" y="3392640"/>
            <a:ext cx="15843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3744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底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892920" y="1376280"/>
            <a:ext cx="781200" cy="1943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74120" y="1357200"/>
            <a:ext cx="787320" cy="2035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34160" y="2060640"/>
            <a:ext cx="2014560" cy="520560"/>
            <a:chOff x="6734160" y="2060640"/>
            <a:chExt cx="2014560" cy="520560"/>
          </a:xfrm>
        </p:grpSpPr>
        <p:sp>
          <p:nvSpPr>
            <p:cNvPr id="500" name=""/>
            <p:cNvSpPr/>
            <p:nvPr/>
          </p:nvSpPr>
          <p:spPr>
            <a:xfrm>
              <a:off x="6734160" y="206064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华文新魏"/>
                </a:rPr>
                <a:t>腰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29440" y="206064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华文新魏"/>
                </a:rPr>
                <a:t>腰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9079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"/>
                <a:ea typeface="黑体"/>
              </a:rPr>
              <a:t>顶角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308000" y="1024920"/>
            <a:ext cx="721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92" y="552"/>
                </a:moveTo>
                <a:arcTo wR="10800" hR="10800" stAng="-6503504" swAng="2505393"/>
                <a:lnTo>
                  <a:pt x="10800" y="10800"/>
                </a:lnTo>
                <a:close/>
              </a:path>
              <a:path fill="none" w="21600" h="21600">
                <a:moveTo>
                  <a:pt x="7392" y="552"/>
                </a:moveTo>
                <a:arcTo wR="10800" hR="10800" stAng="-6503504" swAng="2505393"/>
              </a:path>
            </a:pathLst>
          </a:custGeom>
          <a:solidFill>
            <a:srgbClr val="cc66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519600" y="3045600"/>
            <a:ext cx="2311560" cy="715320"/>
            <a:chOff x="6519600" y="3045600"/>
            <a:chExt cx="2311560" cy="715320"/>
          </a:xfrm>
        </p:grpSpPr>
        <p:sp>
          <p:nvSpPr>
            <p:cNvPr id="505" name=""/>
            <p:cNvSpPr/>
            <p:nvPr/>
          </p:nvSpPr>
          <p:spPr>
            <a:xfrm>
              <a:off x="6519600" y="3045600"/>
              <a:ext cx="717480" cy="71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96" y="652"/>
                  </a:moveTo>
                  <a:arcTo wR="10800" hR="10800" stAng="-4199323" swAng="41864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96" y="652"/>
                  </a:moveTo>
                  <a:arcTo wR="10800" hR="10800" stAng="-4199323" swAng="4186447"/>
                </a:path>
              </a:pathLst>
            </a:custGeom>
            <a:solidFill>
              <a:srgbClr val="cc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145360" y="3058920"/>
              <a:ext cx="685800" cy="68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518"/>
                  </a:moveTo>
                  <a:arcTo wR="10800" hR="10800" stAng="-10710180" swAng="4148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518"/>
                  </a:moveTo>
                  <a:arcTo wR="10800" hR="10800" stAng="-10710180" swAng="4148881"/>
                </a:path>
              </a:pathLst>
            </a:custGeom>
            <a:solidFill>
              <a:srgbClr val="cc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421320" y="2924280"/>
            <a:ext cx="2830680" cy="937800"/>
            <a:chOff x="6421320" y="2924280"/>
            <a:chExt cx="2830680" cy="937800"/>
          </a:xfrm>
        </p:grpSpPr>
        <p:sp>
          <p:nvSpPr>
            <p:cNvPr id="508" name=""/>
            <p:cNvSpPr/>
            <p:nvPr/>
          </p:nvSpPr>
          <p:spPr>
            <a:xfrm>
              <a:off x="6421320" y="3341520"/>
              <a:ext cx="94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华文行楷"/>
                </a:rPr>
                <a:t>底角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10600" y="2924280"/>
              <a:ext cx="94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华文行楷"/>
                </a:rPr>
                <a:t>底角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796720" y="48625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等腰三角形的两个底角相等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13440" y="531972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简称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8200" y="534996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等边对等角</a:t>
            </a: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148360" y="4221000"/>
            <a:ext cx="3887640" cy="2664000"/>
            <a:chOff x="5148360" y="4221000"/>
            <a:chExt cx="3887640" cy="2664000"/>
          </a:xfrm>
        </p:grpSpPr>
        <p:sp>
          <p:nvSpPr>
            <p:cNvPr id="514" name=""/>
            <p:cNvSpPr/>
            <p:nvPr/>
          </p:nvSpPr>
          <p:spPr>
            <a:xfrm>
              <a:off x="5694840" y="4221000"/>
              <a:ext cx="1643760" cy="4597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等腰三角形的性质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48360" y="4221000"/>
              <a:ext cx="3887640" cy="2664000"/>
            </a:xfrm>
            <a:custGeom>
              <a:avLst/>
              <a:gdLst/>
              <a:ahLst/>
              <a:rect l="l" t="t" r="r" b="b"/>
              <a:pathLst>
                <a:path w="2449" h="1678">
                  <a:moveTo>
                    <a:pt x="2449" y="0"/>
                  </a:moveTo>
                  <a:lnTo>
                    <a:pt x="0" y="0"/>
                  </a:lnTo>
                  <a:lnTo>
                    <a:pt x="0" y="16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79280" y="2637000"/>
            <a:ext cx="1944720" cy="720720"/>
            <a:chOff x="179280" y="2637000"/>
            <a:chExt cx="1944720" cy="720720"/>
          </a:xfrm>
        </p:grpSpPr>
        <p:sp>
          <p:nvSpPr>
            <p:cNvPr id="517" name=""/>
            <p:cNvSpPr/>
            <p:nvPr/>
          </p:nvSpPr>
          <p:spPr>
            <a:xfrm>
              <a:off x="684360" y="263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Book Antiqua"/>
                  <a:ea typeface="黑体"/>
                </a:rPr>
                <a:t>验证方法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179280" y="2671920"/>
              <a:ext cx="19447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2124000" y="2708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用折纸重叠法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117800" y="3645000"/>
            <a:ext cx="2236320" cy="2522880"/>
            <a:chOff x="1117800" y="3645000"/>
            <a:chExt cx="2236320" cy="2522880"/>
          </a:xfrm>
        </p:grpSpPr>
        <p:sp>
          <p:nvSpPr>
            <p:cNvPr id="521" name=""/>
            <p:cNvSpPr/>
            <p:nvPr/>
          </p:nvSpPr>
          <p:spPr>
            <a:xfrm>
              <a:off x="1446120" y="3876840"/>
              <a:ext cx="1590840" cy="2046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dddddd"/>
                </a:gs>
              </a:gsLst>
              <a:lin ang="81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9000" y="3645000"/>
              <a:ext cx="7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17800" y="5746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89080" y="57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241720" y="3876840"/>
            <a:ext cx="0" cy="2046240"/>
          </a:xfrm>
          <a:prstGeom prst="line">
            <a:avLst/>
          </a:prstGeom>
          <a:ln w="936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28880" y="6461280"/>
            <a:ext cx="29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Arial"/>
                <a:ea typeface="黑体"/>
              </a:rPr>
              <a:t>以底边的中线为折痕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66920" y="3500280"/>
            <a:ext cx="1152720" cy="2592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227"/>
                </a:moveTo>
                <a:lnTo>
                  <a:pt x="0" y="1633"/>
                </a:lnTo>
                <a:lnTo>
                  <a:pt x="726" y="1633"/>
                </a:lnTo>
                <a:lnTo>
                  <a:pt x="91" y="0"/>
                </a:lnTo>
                <a:lnTo>
                  <a:pt x="0" y="227"/>
                </a:lnTo>
                <a:close/>
              </a:path>
            </a:pathLst>
          </a:custGeom>
          <a:gradFill rotWithShape="0">
            <a:gsLst>
              <a:gs pos="0">
                <a:srgbClr val="ddf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35240" y="3933720"/>
            <a:ext cx="536400" cy="2016360"/>
          </a:xfrm>
          <a:custGeom>
            <a:avLst/>
            <a:gdLst/>
            <a:ahLst/>
            <a:rect l="l" t="t" r="r" b="b"/>
            <a:pathLst>
              <a:path w="338" h="1270">
                <a:moveTo>
                  <a:pt x="20" y="0"/>
                </a:moveTo>
                <a:lnTo>
                  <a:pt x="0" y="1270"/>
                </a:lnTo>
                <a:lnTo>
                  <a:pt x="338" y="1088"/>
                </a:lnTo>
                <a:lnTo>
                  <a:pt x="2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908000" y="3789360"/>
            <a:ext cx="1079640" cy="2232000"/>
            <a:chOff x="1908000" y="3789360"/>
            <a:chExt cx="1079640" cy="2232000"/>
          </a:xfrm>
        </p:grpSpPr>
        <p:sp>
          <p:nvSpPr>
            <p:cNvPr id="530" name=""/>
            <p:cNvSpPr/>
            <p:nvPr/>
          </p:nvSpPr>
          <p:spPr>
            <a:xfrm>
              <a:off x="2266920" y="3789360"/>
              <a:ext cx="720720" cy="2232000"/>
            </a:xfrm>
            <a:custGeom>
              <a:avLst/>
              <a:gdLst/>
              <a:ahLst/>
              <a:rect l="l" t="t" r="r" b="b"/>
              <a:pathLst>
                <a:path w="454" h="1406">
                  <a:moveTo>
                    <a:pt x="0" y="1406"/>
                  </a:moveTo>
                  <a:lnTo>
                    <a:pt x="0" y="45"/>
                  </a:lnTo>
                  <a:lnTo>
                    <a:pt x="91" y="0"/>
                  </a:lnTo>
                  <a:lnTo>
                    <a:pt x="454" y="1179"/>
                  </a:lnTo>
                  <a:lnTo>
                    <a:pt x="0" y="1406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08000" y="3860640"/>
              <a:ext cx="358920" cy="2089440"/>
            </a:xfrm>
            <a:custGeom>
              <a:avLst/>
              <a:gdLst/>
              <a:ahLst/>
              <a:rect l="l" t="t" r="r" b="b"/>
              <a:pathLst>
                <a:path w="226" h="1316">
                  <a:moveTo>
                    <a:pt x="226" y="1316"/>
                  </a:moveTo>
                  <a:lnTo>
                    <a:pt x="226" y="0"/>
                  </a:lnTo>
                  <a:lnTo>
                    <a:pt x="0" y="1089"/>
                  </a:lnTo>
                  <a:lnTo>
                    <a:pt x="226" y="13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258560" y="3573360"/>
            <a:ext cx="1008360" cy="2448000"/>
            <a:chOff x="1258560" y="3573360"/>
            <a:chExt cx="1008360" cy="2448000"/>
          </a:xfrm>
        </p:grpSpPr>
        <p:grpSp>
          <p:nvGrpSpPr>
            <p:cNvPr id="533" name=""/>
            <p:cNvGrpSpPr/>
            <p:nvPr/>
          </p:nvGrpSpPr>
          <p:grpSpPr>
            <a:xfrm>
              <a:off x="1460520" y="3573360"/>
              <a:ext cx="806400" cy="2448000"/>
              <a:chOff x="1460520" y="3573360"/>
              <a:chExt cx="806400" cy="2448000"/>
            </a:xfrm>
          </p:grpSpPr>
          <p:sp>
            <p:nvSpPr>
              <p:cNvPr id="534" name=""/>
              <p:cNvSpPr/>
              <p:nvPr/>
            </p:nvSpPr>
            <p:spPr>
              <a:xfrm>
                <a:off x="1763640" y="3573360"/>
                <a:ext cx="503280" cy="2448000"/>
              </a:xfrm>
              <a:custGeom>
                <a:avLst/>
                <a:gdLst/>
                <a:ahLst/>
                <a:rect l="l" t="t" r="r" b="b"/>
                <a:pathLst>
                  <a:path w="272" h="1542">
                    <a:moveTo>
                      <a:pt x="272" y="1542"/>
                    </a:moveTo>
                    <a:lnTo>
                      <a:pt x="272" y="0"/>
                    </a:lnTo>
                    <a:lnTo>
                      <a:pt x="0" y="1315"/>
                    </a:lnTo>
                    <a:lnTo>
                      <a:pt x="272" y="1542"/>
                    </a:lnTo>
                    <a:close/>
                  </a:path>
                </a:pathLst>
              </a:custGeom>
              <a:solidFill>
                <a:srgbClr val="e1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60520" y="3860640"/>
                <a:ext cx="806400" cy="2059200"/>
              </a:xfrm>
              <a:custGeom>
                <a:avLst/>
                <a:gdLst/>
                <a:ahLst/>
                <a:rect l="l" t="t" r="r" b="b"/>
                <a:pathLst>
                  <a:path w="544" h="1361">
                    <a:moveTo>
                      <a:pt x="544" y="1361"/>
                    </a:moveTo>
                    <a:lnTo>
                      <a:pt x="0" y="1361"/>
                    </a:lnTo>
                    <a:lnTo>
                      <a:pt x="544" y="0"/>
                    </a:lnTo>
                    <a:lnTo>
                      <a:pt x="544" y="1361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 flipH="1">
              <a:off x="1258200" y="5805360"/>
              <a:ext cx="144360" cy="216000"/>
            </a:xfrm>
            <a:custGeom>
              <a:avLst/>
              <a:gdLst/>
              <a:ahLst/>
              <a:rect l="l" t="t" r="r" b="b"/>
              <a:pathLst>
                <a:path w="416" h="468">
                  <a:moveTo>
                    <a:pt x="325" y="181"/>
                  </a:moveTo>
                  <a:cubicBezTo>
                    <a:pt x="370" y="170"/>
                    <a:pt x="416" y="159"/>
                    <a:pt x="416" y="136"/>
                  </a:cubicBezTo>
                  <a:cubicBezTo>
                    <a:pt x="416" y="113"/>
                    <a:pt x="348" y="68"/>
                    <a:pt x="325" y="45"/>
                  </a:cubicBezTo>
                  <a:cubicBezTo>
                    <a:pt x="302" y="22"/>
                    <a:pt x="318" y="0"/>
                    <a:pt x="280" y="0"/>
                  </a:cubicBezTo>
                  <a:cubicBezTo>
                    <a:pt x="242" y="0"/>
                    <a:pt x="144" y="7"/>
                    <a:pt x="98" y="45"/>
                  </a:cubicBezTo>
                  <a:cubicBezTo>
                    <a:pt x="52" y="83"/>
                    <a:pt x="14" y="167"/>
                    <a:pt x="7" y="227"/>
                  </a:cubicBezTo>
                  <a:cubicBezTo>
                    <a:pt x="0" y="287"/>
                    <a:pt x="23" y="371"/>
                    <a:pt x="53" y="408"/>
                  </a:cubicBezTo>
                  <a:cubicBezTo>
                    <a:pt x="83" y="445"/>
                    <a:pt x="151" y="446"/>
                    <a:pt x="189" y="453"/>
                  </a:cubicBezTo>
                  <a:cubicBezTo>
                    <a:pt x="227" y="460"/>
                    <a:pt x="250" y="468"/>
                    <a:pt x="280" y="453"/>
                  </a:cubicBezTo>
                  <a:cubicBezTo>
                    <a:pt x="310" y="438"/>
                    <a:pt x="363" y="393"/>
                    <a:pt x="370" y="363"/>
                  </a:cubicBezTo>
                  <a:cubicBezTo>
                    <a:pt x="377" y="333"/>
                    <a:pt x="340" y="272"/>
                    <a:pt x="325" y="272"/>
                  </a:cubicBezTo>
                  <a:cubicBezTo>
                    <a:pt x="310" y="272"/>
                    <a:pt x="303" y="348"/>
                    <a:pt x="280" y="363"/>
                  </a:cubicBezTo>
                  <a:cubicBezTo>
                    <a:pt x="257" y="378"/>
                    <a:pt x="219" y="371"/>
                    <a:pt x="189" y="363"/>
                  </a:cubicBezTo>
                  <a:cubicBezTo>
                    <a:pt x="159" y="355"/>
                    <a:pt x="113" y="340"/>
                    <a:pt x="98" y="317"/>
                  </a:cubicBezTo>
                  <a:cubicBezTo>
                    <a:pt x="83" y="294"/>
                    <a:pt x="90" y="265"/>
                    <a:pt x="98" y="227"/>
                  </a:cubicBezTo>
                  <a:cubicBezTo>
                    <a:pt x="106" y="189"/>
                    <a:pt x="114" y="121"/>
                    <a:pt x="144" y="91"/>
                  </a:cubicBezTo>
                  <a:cubicBezTo>
                    <a:pt x="174" y="61"/>
                    <a:pt x="250" y="45"/>
                    <a:pt x="280" y="45"/>
                  </a:cubicBezTo>
                  <a:cubicBezTo>
                    <a:pt x="310" y="45"/>
                    <a:pt x="302" y="68"/>
                    <a:pt x="325" y="91"/>
                  </a:cubicBezTo>
                  <a:cubicBezTo>
                    <a:pt x="348" y="114"/>
                    <a:pt x="382" y="147"/>
                    <a:pt x="416" y="181"/>
                  </a:cubicBezTo>
                </a:path>
              </a:pathLst>
            </a:cu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7AA2-3AC6-4F78-AED6-43A672BAC2B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64A78-CCD8-4772-B2D5-271EA7E891E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9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9360" y="-27000"/>
            <a:ext cx="9153360" cy="773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Book Antiqua"/>
              </a:rPr>
              <a:t>“</a:t>
            </a:r>
            <a:r>
              <a:rPr b="1" lang="zh-CN" sz="4000" spc="-1" strike="noStrike">
                <a:solidFill>
                  <a:srgbClr val="ffff99"/>
                </a:solidFill>
                <a:latin typeface="Book Antiqua"/>
              </a:rPr>
              <a:t>等边对等角”</a:t>
            </a:r>
            <a:r>
              <a:rPr b="1" lang="zh-CN" sz="4000" spc="-1" strike="noStrike">
                <a:solidFill>
                  <a:srgbClr val="ffff99"/>
                </a:solidFill>
                <a:latin typeface="Book Antiqua"/>
                <a:ea typeface="MS UI Gothic"/>
              </a:rPr>
              <a:t>——由实验到论证</a:t>
            </a:r>
            <a:endParaRPr b="1" lang="en-US" sz="4000" spc="-1" strike="noStrike">
              <a:solidFill>
                <a:srgbClr val="ffff99"/>
              </a:solidFill>
              <a:latin typeface="Book Antiqua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51840" y="763920"/>
            <a:ext cx="6968160" cy="1180080"/>
            <a:chOff x="51840" y="763920"/>
            <a:chExt cx="6968160" cy="1180080"/>
          </a:xfrm>
        </p:grpSpPr>
        <p:grpSp>
          <p:nvGrpSpPr>
            <p:cNvPr id="539" name=""/>
            <p:cNvGrpSpPr/>
            <p:nvPr/>
          </p:nvGrpSpPr>
          <p:grpSpPr>
            <a:xfrm>
              <a:off x="51840" y="763920"/>
              <a:ext cx="2564280" cy="680760"/>
              <a:chOff x="51840" y="763920"/>
              <a:chExt cx="2564280" cy="68076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51840" y="763920"/>
                <a:ext cx="2564280" cy="680760"/>
                <a:chOff x="51840" y="763920"/>
                <a:chExt cx="2564280" cy="680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2640" y="852480"/>
                  <a:ext cx="623520" cy="573120"/>
                </a:xfrm>
                <a:custGeom>
                  <a:avLst/>
                  <a:gdLst/>
                  <a:ahLst/>
                  <a:rect l="l" t="t" r="r" b="b"/>
                  <a:pathLst>
                    <a:path w="1543" h="1497">
                      <a:moveTo>
                        <a:pt x="46" y="725"/>
                      </a:moveTo>
                      <a:lnTo>
                        <a:pt x="771" y="0"/>
                      </a:lnTo>
                      <a:lnTo>
                        <a:pt x="1543" y="725"/>
                      </a:lnTo>
                      <a:lnTo>
                        <a:pt x="817" y="1497"/>
                      </a:lnTo>
                      <a:lnTo>
                        <a:pt x="0" y="771"/>
                      </a:lnTo>
                      <a:lnTo>
                        <a:pt x="136" y="635"/>
                      </a:lnTo>
                      <a:lnTo>
                        <a:pt x="363" y="40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33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098080" y="1052280"/>
                  <a:ext cx="479520" cy="366120"/>
                </a:xfrm>
                <a:custGeom>
                  <a:avLst/>
                  <a:gdLst/>
                  <a:ahLst/>
                  <a:rect l="l" t="t" r="r" b="b"/>
                  <a:pathLst>
                    <a:path w="952" h="726">
                      <a:moveTo>
                        <a:pt x="408" y="0"/>
                      </a:moveTo>
                      <a:lnTo>
                        <a:pt x="952" y="0"/>
                      </a:lnTo>
                      <a:lnTo>
                        <a:pt x="589" y="726"/>
                      </a:lnTo>
                      <a:lnTo>
                        <a:pt x="0" y="726"/>
                      </a:lnTo>
                      <a:lnTo>
                        <a:pt x="408" y="0"/>
                      </a:lnTo>
                      <a:close/>
                    </a:path>
                  </a:pathLst>
                </a:custGeom>
                <a:solidFill>
                  <a:srgbClr val="9e0035">
                    <a:alpha val="7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13640" y="1132200"/>
                  <a:ext cx="1799280" cy="225000"/>
                </a:xfrm>
                <a:custGeom>
                  <a:avLst/>
                  <a:gdLst/>
                  <a:ahLst/>
                  <a:rect l="l" t="t" r="r" b="b"/>
                  <a:pathLst>
                    <a:path w="1088" h="136">
                      <a:moveTo>
                        <a:pt x="90" y="0"/>
                      </a:moveTo>
                      <a:lnTo>
                        <a:pt x="1088" y="0"/>
                      </a:lnTo>
                      <a:lnTo>
                        <a:pt x="997" y="136"/>
                      </a:lnTo>
                      <a:lnTo>
                        <a:pt x="0" y="136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c145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102960" y="884880"/>
                  <a:ext cx="550800" cy="506520"/>
                  <a:chOff x="102960" y="884880"/>
                  <a:chExt cx="550800" cy="50652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42200" y="921240"/>
                    <a:ext cx="471960" cy="43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1088">
                        <a:moveTo>
                          <a:pt x="544" y="0"/>
                        </a:moveTo>
                        <a:lnTo>
                          <a:pt x="0" y="544"/>
                        </a:lnTo>
                        <a:lnTo>
                          <a:pt x="544" y="1088"/>
                        </a:lnTo>
                        <a:lnTo>
                          <a:pt x="1089" y="498"/>
                        </a:lnTo>
                        <a:lnTo>
                          <a:pt x="54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02960" y="884880"/>
                    <a:ext cx="27504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635">
                        <a:moveTo>
                          <a:pt x="635" y="91"/>
                        </a:moveTo>
                        <a:lnTo>
                          <a:pt x="635" y="0"/>
                        </a:lnTo>
                        <a:lnTo>
                          <a:pt x="0" y="635"/>
                        </a:lnTo>
                        <a:lnTo>
                          <a:pt x="91" y="635"/>
                        </a:lnTo>
                        <a:lnTo>
                          <a:pt x="635" y="91"/>
                        </a:lnTo>
                        <a:close/>
                      </a:path>
                    </a:pathLst>
                  </a:custGeom>
                  <a:solidFill>
                    <a:srgbClr val="9a0033"/>
                  </a:soli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02960" y="1138320"/>
                    <a:ext cx="27504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635">
                        <a:moveTo>
                          <a:pt x="91" y="0"/>
                        </a:moveTo>
                        <a:lnTo>
                          <a:pt x="635" y="544"/>
                        </a:lnTo>
                        <a:lnTo>
                          <a:pt x="635" y="635"/>
                        </a:lnTo>
                        <a:lnTo>
                          <a:pt x="0" y="0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solidFill>
                    <a:srgbClr val="9a0033"/>
                  </a:soli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78000" y="1119600"/>
                    <a:ext cx="27576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6" h="681">
                        <a:moveTo>
                          <a:pt x="0" y="681"/>
                        </a:moveTo>
                        <a:lnTo>
                          <a:pt x="0" y="590"/>
                        </a:lnTo>
                        <a:lnTo>
                          <a:pt x="545" y="0"/>
                        </a:lnTo>
                        <a:lnTo>
                          <a:pt x="636" y="0"/>
                        </a:lnTo>
                        <a:lnTo>
                          <a:pt x="0" y="681"/>
                        </a:lnTo>
                        <a:close/>
                      </a:path>
                    </a:pathLst>
                  </a:custGeom>
                  <a:solidFill>
                    <a:srgbClr val="9a0033"/>
                  </a:soli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78000" y="884880"/>
                    <a:ext cx="27576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636" h="589">
                        <a:moveTo>
                          <a:pt x="545" y="589"/>
                        </a:moveTo>
                        <a:lnTo>
                          <a:pt x="0" y="91"/>
                        </a:lnTo>
                        <a:lnTo>
                          <a:pt x="0" y="0"/>
                        </a:lnTo>
                        <a:lnTo>
                          <a:pt x="636" y="589"/>
                        </a:lnTo>
                        <a:lnTo>
                          <a:pt x="545" y="589"/>
                        </a:lnTo>
                        <a:close/>
                      </a:path>
                    </a:pathLst>
                  </a:custGeom>
                  <a:solidFill>
                    <a:srgbClr val="9a0033"/>
                  </a:solidFill>
                  <a:ln w="648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51840" y="763920"/>
                  <a:ext cx="693000" cy="680760"/>
                  <a:chOff x="51840" y="763920"/>
                  <a:chExt cx="693000" cy="68076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rot="19020600">
                    <a:off x="86760" y="1113840"/>
                    <a:ext cx="19692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453">
                        <a:moveTo>
                          <a:pt x="454" y="408"/>
                        </a:moveTo>
                        <a:lnTo>
                          <a:pt x="363" y="453"/>
                        </a:lnTo>
                        <a:lnTo>
                          <a:pt x="0" y="0"/>
                        </a:lnTo>
                        <a:lnTo>
                          <a:pt x="454" y="408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9020600">
                    <a:off x="117000" y="1058400"/>
                    <a:ext cx="15696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317" y="499"/>
                        </a:moveTo>
                        <a:lnTo>
                          <a:pt x="362" y="453"/>
                        </a:lnTo>
                        <a:lnTo>
                          <a:pt x="0" y="0"/>
                        </a:lnTo>
                        <a:lnTo>
                          <a:pt x="317" y="499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9020600">
                    <a:off x="77400" y="1285560"/>
                    <a:ext cx="2365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27">
                        <a:moveTo>
                          <a:pt x="545" y="182"/>
                        </a:moveTo>
                        <a:lnTo>
                          <a:pt x="499" y="227"/>
                        </a:lnTo>
                        <a:lnTo>
                          <a:pt x="0" y="0"/>
                        </a:lnTo>
                        <a:lnTo>
                          <a:pt x="545" y="182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9020600">
                    <a:off x="93240" y="1243440"/>
                    <a:ext cx="1969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272">
                        <a:moveTo>
                          <a:pt x="409" y="272"/>
                        </a:moveTo>
                        <a:lnTo>
                          <a:pt x="454" y="227"/>
                        </a:lnTo>
                        <a:lnTo>
                          <a:pt x="0" y="0"/>
                        </a:lnTo>
                        <a:lnTo>
                          <a:pt x="409" y="272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19020600">
                    <a:off x="136080" y="1006560"/>
                    <a:ext cx="13788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590">
                        <a:moveTo>
                          <a:pt x="318" y="544"/>
                        </a:moveTo>
                        <a:lnTo>
                          <a:pt x="272" y="590"/>
                        </a:lnTo>
                        <a:lnTo>
                          <a:pt x="0" y="0"/>
                        </a:lnTo>
                        <a:lnTo>
                          <a:pt x="318" y="544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rot="19020600">
                    <a:off x="180360" y="937440"/>
                    <a:ext cx="979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635">
                        <a:moveTo>
                          <a:pt x="136" y="635"/>
                        </a:moveTo>
                        <a:lnTo>
                          <a:pt x="226" y="635"/>
                        </a:lnTo>
                        <a:lnTo>
                          <a:pt x="0" y="0"/>
                        </a:lnTo>
                        <a:lnTo>
                          <a:pt x="136" y="635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19020600">
                    <a:off x="204120" y="830160"/>
                    <a:ext cx="5904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907">
                        <a:moveTo>
                          <a:pt x="90" y="861"/>
                        </a:moveTo>
                        <a:lnTo>
                          <a:pt x="0" y="0"/>
                        </a:lnTo>
                        <a:lnTo>
                          <a:pt x="136" y="907"/>
                        </a:lnTo>
                        <a:lnTo>
                          <a:pt x="90" y="861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rot="19020600">
                    <a:off x="241560" y="791640"/>
                    <a:ext cx="59040" cy="34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861">
                        <a:moveTo>
                          <a:pt x="0" y="861"/>
                        </a:moveTo>
                        <a:lnTo>
                          <a:pt x="91" y="861"/>
                        </a:lnTo>
                        <a:lnTo>
                          <a:pt x="136" y="0"/>
                        </a:lnTo>
                        <a:lnTo>
                          <a:pt x="0" y="861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rot="19020600">
                    <a:off x="486360" y="873720"/>
                    <a:ext cx="2559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272">
                        <a:moveTo>
                          <a:pt x="0" y="182"/>
                        </a:moveTo>
                        <a:lnTo>
                          <a:pt x="45" y="272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19020600">
                    <a:off x="420840" y="894240"/>
                    <a:ext cx="236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72">
                        <a:moveTo>
                          <a:pt x="0" y="181"/>
                        </a:moveTo>
                        <a:lnTo>
                          <a:pt x="90" y="272"/>
                        </a:lnTo>
                        <a:lnTo>
                          <a:pt x="544" y="0"/>
                        </a:lnTo>
                        <a:lnTo>
                          <a:pt x="0" y="181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19020600">
                    <a:off x="371520" y="854280"/>
                    <a:ext cx="17712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08">
                        <a:moveTo>
                          <a:pt x="0" y="408"/>
                        </a:moveTo>
                        <a:lnTo>
                          <a:pt x="90" y="408"/>
                        </a:lnTo>
                        <a:lnTo>
                          <a:pt x="408" y="0"/>
                        </a:lnTo>
                        <a:lnTo>
                          <a:pt x="0" y="408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9020600">
                    <a:off x="314280" y="827640"/>
                    <a:ext cx="15732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544">
                        <a:moveTo>
                          <a:pt x="0" y="544"/>
                        </a:moveTo>
                        <a:lnTo>
                          <a:pt x="91" y="544"/>
                        </a:lnTo>
                        <a:lnTo>
                          <a:pt x="363" y="0"/>
                        </a:lnTo>
                        <a:lnTo>
                          <a:pt x="0" y="544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9020600">
                    <a:off x="268200" y="760320"/>
                    <a:ext cx="11808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816">
                        <a:moveTo>
                          <a:pt x="0" y="816"/>
                        </a:moveTo>
                        <a:lnTo>
                          <a:pt x="90" y="816"/>
                        </a:lnTo>
                        <a:lnTo>
                          <a:pt x="272" y="136"/>
                        </a:lnTo>
                        <a:lnTo>
                          <a:pt x="181" y="227"/>
                        </a:lnTo>
                        <a:lnTo>
                          <a:pt x="181" y="0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solidFill>
                    <a:srgbClr val="ffcccc">
                      <a:alpha val="63000"/>
                    </a:srgbClr>
                  </a:solidFill>
                  <a:ln w="648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4" name=""/>
                <p:cNvSpPr/>
                <p:nvPr/>
              </p:nvSpPr>
              <p:spPr>
                <a:xfrm>
                  <a:off x="378000" y="1003680"/>
                  <a:ext cx="2238120" cy="433800"/>
                </a:xfrm>
                <a:custGeom>
                  <a:avLst/>
                  <a:gdLst/>
                  <a:ahLst/>
                  <a:rect l="l" t="t" r="r" b="b"/>
                  <a:pathLst>
                    <a:path w="4989" h="907">
                      <a:moveTo>
                        <a:pt x="4899" y="0"/>
                      </a:moveTo>
                      <a:lnTo>
                        <a:pt x="4490" y="817"/>
                      </a:lnTo>
                      <a:lnTo>
                        <a:pt x="0" y="817"/>
                      </a:lnTo>
                      <a:lnTo>
                        <a:pt x="0" y="907"/>
                      </a:lnTo>
                      <a:lnTo>
                        <a:pt x="4536" y="907"/>
                      </a:lnTo>
                      <a:lnTo>
                        <a:pt x="4989" y="0"/>
                      </a:lnTo>
                      <a:lnTo>
                        <a:pt x="489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639720" y="765360"/>
                <a:ext cx="160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333300"/>
                    </a:solidFill>
                    <a:latin typeface="Times New Roman"/>
                    <a:ea typeface="黑体"/>
                  </a:rPr>
                  <a:t>议一议</a:t>
                </a:r>
                <a:endParaRPr b="0" lang="en-US" sz="3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08000" y="1484280"/>
              <a:ext cx="69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(1) </a:t>
              </a:r>
              <a:r>
                <a:rPr b="1" lang="zh-CN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你还记得我们探索过的等腰三角形的性质吗？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08000" y="1916280"/>
            <a:ext cx="52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(2)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你能动手来证明这些结论吗吗</a:t>
            </a: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724800" y="728640"/>
            <a:ext cx="2309400" cy="2630880"/>
            <a:chOff x="6724800" y="728640"/>
            <a:chExt cx="2309400" cy="2630880"/>
          </a:xfrm>
        </p:grpSpPr>
        <p:sp>
          <p:nvSpPr>
            <p:cNvPr id="569" name=""/>
            <p:cNvSpPr/>
            <p:nvPr/>
          </p:nvSpPr>
          <p:spPr>
            <a:xfrm>
              <a:off x="7083360" y="1017360"/>
              <a:ext cx="1584360" cy="20163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59720" y="7286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24800" y="29606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669160" y="2960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35000" y="2349360"/>
            <a:ext cx="61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(3)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你能利用已有的公理和定理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来证明“等边对等角”这一结论吗 </a:t>
            </a: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802200" y="3357720"/>
            <a:ext cx="1319400" cy="2617200"/>
            <a:chOff x="6802200" y="3357720"/>
            <a:chExt cx="1319400" cy="2617200"/>
          </a:xfrm>
        </p:grpSpPr>
        <p:sp>
          <p:nvSpPr>
            <p:cNvPr id="575" name=""/>
            <p:cNvSpPr/>
            <p:nvPr/>
          </p:nvSpPr>
          <p:spPr>
            <a:xfrm>
              <a:off x="7020000" y="3814560"/>
              <a:ext cx="806400" cy="2058840"/>
            </a:xfrm>
            <a:custGeom>
              <a:avLst/>
              <a:gdLst/>
              <a:ahLst/>
              <a:rect l="l" t="t" r="r" b="b"/>
              <a:pathLst>
                <a:path w="544" h="1361">
                  <a:moveTo>
                    <a:pt x="544" y="1361"/>
                  </a:moveTo>
                  <a:lnTo>
                    <a:pt x="0" y="1361"/>
                  </a:lnTo>
                  <a:lnTo>
                    <a:pt x="544" y="0"/>
                  </a:lnTo>
                  <a:lnTo>
                    <a:pt x="544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c0c0c0"/>
                </a:gs>
              </a:gsLst>
              <a:lin ang="8100000"/>
            </a:gra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801840" y="5759280"/>
              <a:ext cx="144360" cy="215640"/>
            </a:xfrm>
            <a:custGeom>
              <a:avLst/>
              <a:gdLst/>
              <a:ahLst/>
              <a:rect l="l" t="t" r="r" b="b"/>
              <a:pathLst>
                <a:path w="416" h="468">
                  <a:moveTo>
                    <a:pt x="325" y="181"/>
                  </a:moveTo>
                  <a:cubicBezTo>
                    <a:pt x="370" y="170"/>
                    <a:pt x="416" y="159"/>
                    <a:pt x="416" y="136"/>
                  </a:cubicBezTo>
                  <a:cubicBezTo>
                    <a:pt x="416" y="113"/>
                    <a:pt x="348" y="68"/>
                    <a:pt x="325" y="45"/>
                  </a:cubicBezTo>
                  <a:cubicBezTo>
                    <a:pt x="302" y="22"/>
                    <a:pt x="318" y="0"/>
                    <a:pt x="280" y="0"/>
                  </a:cubicBezTo>
                  <a:cubicBezTo>
                    <a:pt x="242" y="0"/>
                    <a:pt x="144" y="7"/>
                    <a:pt x="98" y="45"/>
                  </a:cubicBezTo>
                  <a:cubicBezTo>
                    <a:pt x="52" y="83"/>
                    <a:pt x="14" y="167"/>
                    <a:pt x="7" y="227"/>
                  </a:cubicBezTo>
                  <a:cubicBezTo>
                    <a:pt x="0" y="287"/>
                    <a:pt x="23" y="371"/>
                    <a:pt x="53" y="408"/>
                  </a:cubicBezTo>
                  <a:cubicBezTo>
                    <a:pt x="83" y="445"/>
                    <a:pt x="151" y="446"/>
                    <a:pt x="189" y="453"/>
                  </a:cubicBezTo>
                  <a:cubicBezTo>
                    <a:pt x="227" y="460"/>
                    <a:pt x="250" y="468"/>
                    <a:pt x="280" y="453"/>
                  </a:cubicBezTo>
                  <a:cubicBezTo>
                    <a:pt x="310" y="438"/>
                    <a:pt x="363" y="393"/>
                    <a:pt x="370" y="363"/>
                  </a:cubicBezTo>
                  <a:cubicBezTo>
                    <a:pt x="377" y="333"/>
                    <a:pt x="340" y="272"/>
                    <a:pt x="325" y="272"/>
                  </a:cubicBezTo>
                  <a:cubicBezTo>
                    <a:pt x="310" y="272"/>
                    <a:pt x="303" y="348"/>
                    <a:pt x="280" y="363"/>
                  </a:cubicBezTo>
                  <a:cubicBezTo>
                    <a:pt x="257" y="378"/>
                    <a:pt x="219" y="371"/>
                    <a:pt x="189" y="363"/>
                  </a:cubicBezTo>
                  <a:cubicBezTo>
                    <a:pt x="159" y="355"/>
                    <a:pt x="113" y="340"/>
                    <a:pt x="98" y="317"/>
                  </a:cubicBezTo>
                  <a:cubicBezTo>
                    <a:pt x="83" y="294"/>
                    <a:pt x="90" y="265"/>
                    <a:pt x="98" y="227"/>
                  </a:cubicBezTo>
                  <a:cubicBezTo>
                    <a:pt x="106" y="189"/>
                    <a:pt x="114" y="121"/>
                    <a:pt x="144" y="91"/>
                  </a:cubicBezTo>
                  <a:cubicBezTo>
                    <a:pt x="174" y="61"/>
                    <a:pt x="250" y="45"/>
                    <a:pt x="280" y="45"/>
                  </a:cubicBezTo>
                  <a:cubicBezTo>
                    <a:pt x="310" y="45"/>
                    <a:pt x="302" y="68"/>
                    <a:pt x="325" y="91"/>
                  </a:cubicBezTo>
                  <a:cubicBezTo>
                    <a:pt x="348" y="114"/>
                    <a:pt x="382" y="147"/>
                    <a:pt x="416" y="181"/>
                  </a:cubicBezTo>
                </a:path>
              </a:pathLst>
            </a:cu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78800" y="335772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14520" y="3213000"/>
            <a:ext cx="23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把折好的纸打开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659640" y="3814920"/>
            <a:ext cx="1166760" cy="2307240"/>
            <a:chOff x="6659640" y="3814920"/>
            <a:chExt cx="1166760" cy="2307240"/>
          </a:xfrm>
        </p:grpSpPr>
        <p:grpSp>
          <p:nvGrpSpPr>
            <p:cNvPr id="580" name=""/>
            <p:cNvGrpSpPr/>
            <p:nvPr/>
          </p:nvGrpSpPr>
          <p:grpSpPr>
            <a:xfrm>
              <a:off x="6659640" y="3814920"/>
              <a:ext cx="1166760" cy="2307240"/>
              <a:chOff x="6659640" y="3814920"/>
              <a:chExt cx="1166760" cy="230724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659640" y="3814920"/>
                <a:ext cx="1166760" cy="2307240"/>
                <a:chOff x="6659640" y="3814920"/>
                <a:chExt cx="1166760" cy="23072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816960" y="5662440"/>
                  <a:ext cx="217440" cy="456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9f1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6659640" y="3814920"/>
                  <a:ext cx="1166760" cy="2307240"/>
                  <a:chOff x="6659640" y="3814920"/>
                  <a:chExt cx="1166760" cy="230724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7020000" y="3814920"/>
                    <a:ext cx="806400" cy="20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61">
                        <a:moveTo>
                          <a:pt x="544" y="1361"/>
                        </a:moveTo>
                        <a:lnTo>
                          <a:pt x="0" y="1361"/>
                        </a:lnTo>
                        <a:lnTo>
                          <a:pt x="544" y="0"/>
                        </a:lnTo>
                        <a:lnTo>
                          <a:pt x="544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9360">
                    <a:solidFill>
                      <a:srgbClr val="33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659640" y="566244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spcAft>
                        <a:spcPts val="13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333300"/>
                        </a:solidFill>
                        <a:latin typeface="Arial"/>
                        <a:ea typeface="黑体"/>
                      </a:rPr>
                      <a:t>B</a:t>
                    </a: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86" name=""/>
              <p:cNvSpPr/>
              <p:nvPr/>
            </p:nvSpPr>
            <p:spPr>
              <a:xfrm>
                <a:off x="7378920" y="3887640"/>
                <a:ext cx="431640" cy="2016000"/>
              </a:xfrm>
              <a:custGeom>
                <a:avLst/>
                <a:gdLst/>
                <a:ahLst/>
                <a:rect l="l" t="t" r="r" b="b"/>
                <a:pathLst>
                  <a:path w="272" h="1270">
                    <a:moveTo>
                      <a:pt x="272" y="1270"/>
                    </a:moveTo>
                    <a:lnTo>
                      <a:pt x="272" y="0"/>
                    </a:lnTo>
                    <a:lnTo>
                      <a:pt x="0" y="1089"/>
                    </a:lnTo>
                    <a:lnTo>
                      <a:pt x="272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 flipH="1" rot="1093800">
              <a:off x="7235280" y="5506560"/>
              <a:ext cx="108000" cy="215640"/>
            </a:xfrm>
            <a:custGeom>
              <a:avLst/>
              <a:gdLst/>
              <a:ahLst/>
              <a:rect l="l" t="t" r="r" b="b"/>
              <a:pathLst>
                <a:path w="242" h="371">
                  <a:moveTo>
                    <a:pt x="242" y="99"/>
                  </a:moveTo>
                  <a:cubicBezTo>
                    <a:pt x="231" y="57"/>
                    <a:pt x="220" y="16"/>
                    <a:pt x="197" y="8"/>
                  </a:cubicBezTo>
                  <a:cubicBezTo>
                    <a:pt x="174" y="0"/>
                    <a:pt x="129" y="38"/>
                    <a:pt x="106" y="53"/>
                  </a:cubicBezTo>
                  <a:cubicBezTo>
                    <a:pt x="83" y="68"/>
                    <a:pt x="76" y="76"/>
                    <a:pt x="61" y="99"/>
                  </a:cubicBezTo>
                  <a:cubicBezTo>
                    <a:pt x="46" y="122"/>
                    <a:pt x="23" y="151"/>
                    <a:pt x="15" y="189"/>
                  </a:cubicBezTo>
                  <a:cubicBezTo>
                    <a:pt x="7" y="227"/>
                    <a:pt x="0" y="295"/>
                    <a:pt x="15" y="325"/>
                  </a:cubicBezTo>
                  <a:cubicBezTo>
                    <a:pt x="30" y="355"/>
                    <a:pt x="76" y="371"/>
                    <a:pt x="106" y="371"/>
                  </a:cubicBezTo>
                  <a:cubicBezTo>
                    <a:pt x="136" y="371"/>
                    <a:pt x="174" y="340"/>
                    <a:pt x="197" y="325"/>
                  </a:cubicBezTo>
                  <a:cubicBezTo>
                    <a:pt x="220" y="310"/>
                    <a:pt x="231" y="295"/>
                    <a:pt x="242" y="2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020000" y="3814920"/>
            <a:ext cx="1308600" cy="2089080"/>
            <a:chOff x="7020000" y="3814920"/>
            <a:chExt cx="1308600" cy="2089080"/>
          </a:xfrm>
        </p:grpSpPr>
        <p:grpSp>
          <p:nvGrpSpPr>
            <p:cNvPr id="589" name=""/>
            <p:cNvGrpSpPr/>
            <p:nvPr/>
          </p:nvGrpSpPr>
          <p:grpSpPr>
            <a:xfrm>
              <a:off x="7020000" y="3814920"/>
              <a:ext cx="1079640" cy="2089080"/>
              <a:chOff x="7020000" y="3814920"/>
              <a:chExt cx="1079640" cy="2089080"/>
            </a:xfrm>
          </p:grpSpPr>
          <p:sp>
            <p:nvSpPr>
              <p:cNvPr id="590" name=""/>
              <p:cNvSpPr/>
              <p:nvPr/>
            </p:nvSpPr>
            <p:spPr>
              <a:xfrm>
                <a:off x="7020000" y="3814920"/>
                <a:ext cx="806400" cy="2089080"/>
              </a:xfrm>
              <a:custGeom>
                <a:avLst/>
                <a:gdLst/>
                <a:ahLst/>
                <a:rect l="l" t="t" r="r" b="b"/>
                <a:pathLst>
                  <a:path w="544" h="1361">
                    <a:moveTo>
                      <a:pt x="544" y="1361"/>
                    </a:moveTo>
                    <a:lnTo>
                      <a:pt x="0" y="1361"/>
                    </a:lnTo>
                    <a:lnTo>
                      <a:pt x="544" y="0"/>
                    </a:lnTo>
                    <a:lnTo>
                      <a:pt x="544" y="13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c0c0c0"/>
                  </a:gs>
                </a:gsLst>
                <a:lin ang="8100000"/>
              </a:gradFill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10560" y="3814920"/>
                <a:ext cx="289080" cy="2089080"/>
              </a:xfrm>
              <a:custGeom>
                <a:avLst/>
                <a:gdLst/>
                <a:ahLst/>
                <a:rect l="l" t="t" r="r" b="b"/>
                <a:pathLst>
                  <a:path w="182" h="1316">
                    <a:moveTo>
                      <a:pt x="0" y="1316"/>
                    </a:moveTo>
                    <a:lnTo>
                      <a:pt x="0" y="0"/>
                    </a:lnTo>
                    <a:lnTo>
                      <a:pt x="182" y="1089"/>
                    </a:lnTo>
                    <a:lnTo>
                      <a:pt x="0" y="13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c0c0c0"/>
                  </a:gs>
                </a:gsLst>
                <a:lin ang="8100000"/>
              </a:gradFill>
              <a:ln w="93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 rot="421200">
              <a:off x="8181720" y="5327640"/>
              <a:ext cx="133200" cy="228240"/>
            </a:xfrm>
            <a:custGeom>
              <a:avLst/>
              <a:gdLst/>
              <a:ahLst/>
              <a:rect l="l" t="t" r="r" b="b"/>
              <a:pathLst>
                <a:path w="363" h="575">
                  <a:moveTo>
                    <a:pt x="317" y="114"/>
                  </a:moveTo>
                  <a:cubicBezTo>
                    <a:pt x="309" y="76"/>
                    <a:pt x="302" y="38"/>
                    <a:pt x="272" y="23"/>
                  </a:cubicBezTo>
                  <a:cubicBezTo>
                    <a:pt x="242" y="8"/>
                    <a:pt x="174" y="0"/>
                    <a:pt x="136" y="23"/>
                  </a:cubicBezTo>
                  <a:cubicBezTo>
                    <a:pt x="98" y="46"/>
                    <a:pt x="68" y="107"/>
                    <a:pt x="45" y="160"/>
                  </a:cubicBezTo>
                  <a:cubicBezTo>
                    <a:pt x="22" y="213"/>
                    <a:pt x="0" y="288"/>
                    <a:pt x="0" y="341"/>
                  </a:cubicBezTo>
                  <a:cubicBezTo>
                    <a:pt x="0" y="394"/>
                    <a:pt x="15" y="439"/>
                    <a:pt x="45" y="477"/>
                  </a:cubicBezTo>
                  <a:cubicBezTo>
                    <a:pt x="75" y="515"/>
                    <a:pt x="136" y="561"/>
                    <a:pt x="181" y="568"/>
                  </a:cubicBezTo>
                  <a:cubicBezTo>
                    <a:pt x="226" y="575"/>
                    <a:pt x="287" y="545"/>
                    <a:pt x="317" y="522"/>
                  </a:cubicBezTo>
                  <a:cubicBezTo>
                    <a:pt x="347" y="499"/>
                    <a:pt x="355" y="465"/>
                    <a:pt x="363" y="432"/>
                  </a:cubicBezTo>
                </a:path>
              </a:pathLst>
            </a:custGeom>
            <a:noFill/>
            <a:ln w="2844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810560" y="3814920"/>
            <a:ext cx="1225440" cy="2332800"/>
            <a:chOff x="7810560" y="3814920"/>
            <a:chExt cx="1225440" cy="2332800"/>
          </a:xfrm>
        </p:grpSpPr>
        <p:grpSp>
          <p:nvGrpSpPr>
            <p:cNvPr id="594" name=""/>
            <p:cNvGrpSpPr/>
            <p:nvPr/>
          </p:nvGrpSpPr>
          <p:grpSpPr>
            <a:xfrm>
              <a:off x="7810560" y="3814920"/>
              <a:ext cx="720720" cy="2089080"/>
              <a:chOff x="7810560" y="3814920"/>
              <a:chExt cx="720720" cy="208908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7826400" y="3814920"/>
                <a:ext cx="704880" cy="2089080"/>
              </a:xfrm>
              <a:custGeom>
                <a:avLst/>
                <a:gdLst/>
                <a:ahLst/>
                <a:rect l="l" t="t" r="r" b="b"/>
                <a:pathLst>
                  <a:path w="544" h="1361">
                    <a:moveTo>
                      <a:pt x="544" y="1361"/>
                    </a:moveTo>
                    <a:lnTo>
                      <a:pt x="0" y="1361"/>
                    </a:lnTo>
                    <a:lnTo>
                      <a:pt x="544" y="0"/>
                    </a:lnTo>
                    <a:lnTo>
                      <a:pt x="544" y="13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826400" y="5904000"/>
                <a:ext cx="68904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10560" y="3814920"/>
                <a:ext cx="720720" cy="208908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8520120" y="56880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108000" y="3573360"/>
            <a:ext cx="49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不难发现折痕两旁的的两个三角形全等。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9280" y="3970440"/>
            <a:ext cx="48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由此实验得到启发——折痕就是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我们用于证明时要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添加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辅助线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08000" y="4891680"/>
            <a:ext cx="6335640" cy="1084680"/>
            <a:chOff x="108000" y="4891680"/>
            <a:chExt cx="6335640" cy="1084680"/>
          </a:xfrm>
        </p:grpSpPr>
        <p:grpSp>
          <p:nvGrpSpPr>
            <p:cNvPr id="602" name=""/>
            <p:cNvGrpSpPr/>
            <p:nvPr/>
          </p:nvGrpSpPr>
          <p:grpSpPr>
            <a:xfrm>
              <a:off x="108000" y="4891680"/>
              <a:ext cx="2521080" cy="624960"/>
              <a:chOff x="108000" y="4891680"/>
              <a:chExt cx="2521080" cy="6249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08000" y="4946760"/>
                <a:ext cx="2521080" cy="569880"/>
                <a:chOff x="108000" y="4946760"/>
                <a:chExt cx="2521080" cy="56988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108000" y="4946760"/>
                  <a:ext cx="2477520" cy="547920"/>
                  <a:chOff x="108000" y="4946760"/>
                  <a:chExt cx="2477520" cy="547920"/>
                </a:xfrm>
              </p:grpSpPr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612000" y="5122080"/>
                    <a:ext cx="1973520" cy="351000"/>
                    <a:chOff x="612000" y="5122080"/>
                    <a:chExt cx="1973520" cy="35100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612000" y="5275080"/>
                      <a:ext cx="1513440" cy="15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0" h="318">
                          <a:moveTo>
                            <a:pt x="0" y="0"/>
                          </a:moveTo>
                          <a:lnTo>
                            <a:pt x="3130" y="0"/>
                          </a:lnTo>
                          <a:lnTo>
                            <a:pt x="2994" y="318"/>
                          </a:lnTo>
                          <a:lnTo>
                            <a:pt x="0" y="3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a0033">
                        <a:alpha val="6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2125440" y="5122080"/>
                      <a:ext cx="460080" cy="3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26">
                          <a:moveTo>
                            <a:pt x="408" y="0"/>
                          </a:moveTo>
                          <a:lnTo>
                            <a:pt x="952" y="0"/>
                          </a:lnTo>
                          <a:lnTo>
                            <a:pt x="589" y="726"/>
                          </a:lnTo>
                          <a:lnTo>
                            <a:pt x="0" y="726"/>
                          </a:lnTo>
                          <a:lnTo>
                            <a:pt x="408" y="0"/>
                          </a:lnTo>
                          <a:close/>
                        </a:path>
                      </a:pathLst>
                    </a:custGeom>
                    <a:solidFill>
                      <a:srgbClr val="9e0035">
                        <a:alpha val="77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108000" y="4946760"/>
                    <a:ext cx="657000" cy="547920"/>
                    <a:chOff x="108000" y="4946760"/>
                    <a:chExt cx="657000" cy="547920"/>
                  </a:xfrm>
                </p:grpSpPr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108000" y="4946760"/>
                      <a:ext cx="416160" cy="460800"/>
                      <a:chOff x="108000" y="4946760"/>
                      <a:chExt cx="416160" cy="460800"/>
                    </a:xfrm>
                  </p:grpSpPr>
                  <p:grpSp>
                    <p:nvGrpSpPr>
                      <p:cNvPr id="610" name=""/>
                      <p:cNvGrpSpPr/>
                      <p:nvPr/>
                    </p:nvGrpSpPr>
                    <p:grpSpPr>
                      <a:xfrm>
                        <a:off x="108000" y="4946760"/>
                        <a:ext cx="416160" cy="460800"/>
                        <a:chOff x="108000" y="4946760"/>
                        <a:chExt cx="416160" cy="460800"/>
                      </a:xfrm>
                    </p:grpSpPr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108000" y="5034240"/>
                          <a:ext cx="218880" cy="37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3" h="772">
                              <a:moveTo>
                                <a:pt x="0" y="136"/>
                              </a:moveTo>
                              <a:lnTo>
                                <a:pt x="136" y="136"/>
                              </a:lnTo>
                              <a:lnTo>
                                <a:pt x="136" y="0"/>
                              </a:lnTo>
                              <a:lnTo>
                                <a:pt x="453" y="363"/>
                              </a:lnTo>
                              <a:lnTo>
                                <a:pt x="136" y="772"/>
                              </a:lnTo>
                              <a:lnTo>
                                <a:pt x="136" y="635"/>
                              </a:lnTo>
                              <a:lnTo>
                                <a:pt x="45" y="635"/>
                              </a:lnTo>
                              <a:lnTo>
                                <a:pt x="136" y="635"/>
                              </a:lnTo>
                              <a:lnTo>
                                <a:pt x="0" y="635"/>
                              </a:lnTo>
                              <a:lnTo>
                                <a:pt x="0" y="1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5ca00">
                            <a:alpha val="58000"/>
                          </a:srgbClr>
                        </a:solidFill>
                        <a:ln w="38160">
                          <a:solidFill>
                            <a:srgbClr val="333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195480" y="4946760"/>
                          <a:ext cx="153720" cy="24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8" h="499">
                              <a:moveTo>
                                <a:pt x="318" y="499"/>
                              </a:moveTo>
                              <a:lnTo>
                                <a:pt x="318" y="0"/>
                              </a:lnTo>
                              <a:lnTo>
                                <a:pt x="91" y="0"/>
                              </a:lnTo>
                              <a:lnTo>
                                <a:pt x="91" y="181"/>
                              </a:lnTo>
                              <a:lnTo>
                                <a:pt x="0" y="136"/>
                              </a:lnTo>
                              <a:lnTo>
                                <a:pt x="318" y="4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bbc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349200" y="4946760"/>
                          <a:ext cx="174960" cy="24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2" h="499">
                              <a:moveTo>
                                <a:pt x="0" y="499"/>
                              </a:moveTo>
                              <a:lnTo>
                                <a:pt x="0" y="0"/>
                              </a:lnTo>
                              <a:lnTo>
                                <a:pt x="272" y="0"/>
                              </a:lnTo>
                              <a:lnTo>
                                <a:pt x="272" y="136"/>
                              </a:lnTo>
                              <a:lnTo>
                                <a:pt x="362" y="136"/>
                              </a:lnTo>
                              <a:lnTo>
                                <a:pt x="0" y="4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a00">
                            <a:alpha val="70000"/>
                          </a:srgbClr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4" name=""/>
                      <p:cNvSpPr/>
                      <p:nvPr/>
                    </p:nvSpPr>
                    <p:spPr>
                      <a:xfrm>
                        <a:off x="195480" y="4946760"/>
                        <a:ext cx="328680" cy="26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0" h="544">
                            <a:moveTo>
                              <a:pt x="91" y="0"/>
                            </a:moveTo>
                            <a:lnTo>
                              <a:pt x="590" y="0"/>
                            </a:lnTo>
                            <a:lnTo>
                              <a:pt x="590" y="136"/>
                            </a:lnTo>
                            <a:lnTo>
                              <a:pt x="680" y="136"/>
                            </a:lnTo>
                            <a:lnTo>
                              <a:pt x="363" y="499"/>
                            </a:lnTo>
                            <a:lnTo>
                              <a:pt x="318" y="544"/>
                            </a:lnTo>
                            <a:lnTo>
                              <a:pt x="0" y="136"/>
                            </a:lnTo>
                            <a:lnTo>
                              <a:pt x="91" y="136"/>
                            </a:lnTo>
                            <a:lnTo>
                              <a:pt x="91" y="0"/>
                            </a:lnTo>
                            <a:close/>
                          </a:path>
                        </a:pathLst>
                      </a:custGeom>
                      <a:noFill/>
                      <a:ln w="381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195480" y="5231880"/>
                      <a:ext cx="285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0" h="544">
                          <a:moveTo>
                            <a:pt x="318" y="0"/>
                          </a:moveTo>
                          <a:lnTo>
                            <a:pt x="0" y="408"/>
                          </a:lnTo>
                          <a:lnTo>
                            <a:pt x="91" y="408"/>
                          </a:lnTo>
                          <a:lnTo>
                            <a:pt x="91" y="544"/>
                          </a:lnTo>
                          <a:lnTo>
                            <a:pt x="590" y="544"/>
                          </a:lnTo>
                          <a:lnTo>
                            <a:pt x="590" y="272"/>
                          </a:lnTo>
                          <a:lnTo>
                            <a:pt x="318" y="0"/>
                          </a:lnTo>
                          <a:close/>
                        </a:path>
                      </a:pathLst>
                    </a:custGeom>
                    <a:solidFill>
                      <a:srgbClr val="6f9600">
                        <a:alpha val="70000"/>
                      </a:srgbClr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392760" y="5034240"/>
                      <a:ext cx="219240" cy="3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4" h="726">
                          <a:moveTo>
                            <a:pt x="318" y="0"/>
                          </a:moveTo>
                          <a:lnTo>
                            <a:pt x="0" y="363"/>
                          </a:lnTo>
                          <a:lnTo>
                            <a:pt x="136" y="590"/>
                          </a:lnTo>
                          <a:lnTo>
                            <a:pt x="408" y="726"/>
                          </a:lnTo>
                          <a:lnTo>
                            <a:pt x="454" y="635"/>
                          </a:lnTo>
                          <a:lnTo>
                            <a:pt x="454" y="91"/>
                          </a:lnTo>
                          <a:lnTo>
                            <a:pt x="318" y="91"/>
                          </a:lnTo>
                          <a:lnTo>
                            <a:pt x="318" y="0"/>
                          </a:lnTo>
                          <a:close/>
                        </a:path>
                      </a:pathLst>
                    </a:custGeom>
                    <a:solidFill>
                      <a:srgbClr val="008a00">
                        <a:alpha val="82000"/>
                      </a:srgbClr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304920" y="5012280"/>
                      <a:ext cx="460080" cy="46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953">
                          <a:moveTo>
                            <a:pt x="0" y="726"/>
                          </a:moveTo>
                          <a:lnTo>
                            <a:pt x="952" y="0"/>
                          </a:lnTo>
                          <a:lnTo>
                            <a:pt x="635" y="953"/>
                          </a:lnTo>
                          <a:lnTo>
                            <a:pt x="0" y="726"/>
                          </a:lnTo>
                          <a:close/>
                        </a:path>
                      </a:pathLst>
                    </a:custGeom>
                    <a:solidFill>
                      <a:srgbClr val="cfca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18" name=""/>
                    <p:cNvGrpSpPr/>
                    <p:nvPr/>
                  </p:nvGrpSpPr>
                  <p:grpSpPr>
                    <a:xfrm>
                      <a:off x="458280" y="5187960"/>
                      <a:ext cx="196920" cy="175320"/>
                      <a:chOff x="458280" y="5187960"/>
                      <a:chExt cx="196920" cy="175320"/>
                    </a:xfrm>
                  </p:grpSpPr>
                  <p:sp>
                    <p:nvSpPr>
                      <p:cNvPr id="619" name=""/>
                      <p:cNvSpPr/>
                      <p:nvPr/>
                    </p:nvSpPr>
                    <p:spPr>
                      <a:xfrm>
                        <a:off x="611280" y="5187960"/>
                        <a:ext cx="4392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81">
                            <a:moveTo>
                              <a:pt x="0" y="45"/>
                            </a:moveTo>
                            <a:lnTo>
                              <a:pt x="0" y="181"/>
                            </a:lnTo>
                            <a:lnTo>
                              <a:pt x="91" y="0"/>
                            </a:lnTo>
                            <a:lnTo>
                              <a:pt x="0" y="45"/>
                            </a:lnTo>
                            <a:close/>
                          </a:path>
                        </a:pathLst>
                      </a:custGeom>
                      <a:solidFill>
                        <a:srgbClr val="d9f1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41760" bIns="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0" name=""/>
                      <p:cNvSpPr/>
                      <p:nvPr/>
                    </p:nvSpPr>
                    <p:spPr>
                      <a:xfrm>
                        <a:off x="458280" y="5187960"/>
                        <a:ext cx="196920" cy="17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408">
                            <a:moveTo>
                              <a:pt x="0" y="317"/>
                            </a:moveTo>
                            <a:lnTo>
                              <a:pt x="272" y="408"/>
                            </a:lnTo>
                            <a:lnTo>
                              <a:pt x="408" y="0"/>
                            </a:lnTo>
                            <a:lnTo>
                              <a:pt x="0" y="317"/>
                            </a:lnTo>
                            <a:close/>
                          </a:path>
                        </a:pathLst>
                      </a:custGeom>
                      <a:noFill/>
                      <a:ln w="381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458280" y="5231520"/>
                      <a:ext cx="1537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8" h="272">
                          <a:moveTo>
                            <a:pt x="318" y="0"/>
                          </a:moveTo>
                          <a:lnTo>
                            <a:pt x="318" y="181"/>
                          </a:lnTo>
                          <a:lnTo>
                            <a:pt x="272" y="272"/>
                          </a:lnTo>
                          <a:lnTo>
                            <a:pt x="0" y="181"/>
                          </a:lnTo>
                          <a:lnTo>
                            <a:pt x="318" y="0"/>
                          </a:lnTo>
                          <a:close/>
                        </a:path>
                      </a:pathLst>
                    </a:custGeom>
                    <a:solidFill>
                      <a:srgbClr val="008a00">
                        <a:alpha val="64000"/>
                      </a:srgbClr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2" name=""/>
                <p:cNvSpPr/>
                <p:nvPr/>
              </p:nvSpPr>
              <p:spPr>
                <a:xfrm>
                  <a:off x="480600" y="5099760"/>
                  <a:ext cx="2148480" cy="416520"/>
                </a:xfrm>
                <a:custGeom>
                  <a:avLst/>
                  <a:gdLst/>
                  <a:ahLst/>
                  <a:rect l="l" t="t" r="r" b="b"/>
                  <a:pathLst>
                    <a:path w="4989" h="907">
                      <a:moveTo>
                        <a:pt x="4899" y="0"/>
                      </a:moveTo>
                      <a:lnTo>
                        <a:pt x="4490" y="817"/>
                      </a:lnTo>
                      <a:lnTo>
                        <a:pt x="0" y="817"/>
                      </a:lnTo>
                      <a:lnTo>
                        <a:pt x="0" y="907"/>
                      </a:lnTo>
                      <a:lnTo>
                        <a:pt x="4536" y="907"/>
                      </a:lnTo>
                      <a:lnTo>
                        <a:pt x="4989" y="0"/>
                      </a:lnTo>
                      <a:lnTo>
                        <a:pt x="489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17080" y="5495040"/>
                  <a:ext cx="263160" cy="21600"/>
                </a:xfrm>
                <a:custGeom>
                  <a:avLst/>
                  <a:gdLst/>
                  <a:ahLst/>
                  <a:rect l="l" t="t" r="r" b="b"/>
                  <a:pathLst>
                    <a:path w="545" h="45">
                      <a:moveTo>
                        <a:pt x="46" y="0"/>
                      </a:moveTo>
                      <a:lnTo>
                        <a:pt x="545" y="0"/>
                      </a:lnTo>
                      <a:lnTo>
                        <a:pt x="499" y="45"/>
                      </a:lnTo>
                      <a:lnTo>
                        <a:pt x="0" y="45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612720" y="4891680"/>
                <a:ext cx="165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333300"/>
                    </a:solidFill>
                    <a:latin typeface="Times New Roman"/>
                    <a:ea typeface="Arial Unicode MS"/>
                  </a:rPr>
                  <a:t>做一做</a:t>
                </a:r>
                <a:endParaRPr b="0" lang="en-US" sz="3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90600" y="5516640"/>
              <a:ext cx="60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你现在能证明“等边对等角”这一结论吗？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90600" y="5950080"/>
            <a:ext cx="60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注意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千万不要忘记书写的基本格式——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45000" y="6356520"/>
            <a:ext cx="45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写“已知”、“求证”、“证明”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3A54-F841-44FC-ADE4-5FF0B44A224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B9DA9-CB25-47AC-A3F7-0B9F7B2BB1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等腰三角形的  “三线合一”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653520" y="3824280"/>
            <a:ext cx="2309400" cy="2630880"/>
            <a:chOff x="6653520" y="3824280"/>
            <a:chExt cx="2309400" cy="2630880"/>
          </a:xfrm>
        </p:grpSpPr>
        <p:sp>
          <p:nvSpPr>
            <p:cNvPr id="630" name=""/>
            <p:cNvSpPr/>
            <p:nvPr/>
          </p:nvSpPr>
          <p:spPr>
            <a:xfrm>
              <a:off x="7012080" y="4113000"/>
              <a:ext cx="1584360" cy="20163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88440" y="38242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53520" y="6056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597880" y="6056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632640" y="812880"/>
            <a:ext cx="2403360" cy="2763000"/>
            <a:chOff x="6632640" y="812880"/>
            <a:chExt cx="2403360" cy="2763000"/>
          </a:xfrm>
        </p:grpSpPr>
        <p:sp>
          <p:nvSpPr>
            <p:cNvPr id="635" name=""/>
            <p:cNvSpPr/>
            <p:nvPr/>
          </p:nvSpPr>
          <p:spPr>
            <a:xfrm>
              <a:off x="7018200" y="1208160"/>
              <a:ext cx="806760" cy="2088720"/>
            </a:xfrm>
            <a:custGeom>
              <a:avLst/>
              <a:gdLst/>
              <a:ahLst/>
              <a:rect l="l" t="t" r="r" b="b"/>
              <a:pathLst>
                <a:path w="544" h="1361">
                  <a:moveTo>
                    <a:pt x="544" y="1361"/>
                  </a:moveTo>
                  <a:lnTo>
                    <a:pt x="0" y="1361"/>
                  </a:lnTo>
                  <a:lnTo>
                    <a:pt x="544" y="0"/>
                  </a:lnTo>
                  <a:lnTo>
                    <a:pt x="544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c0c0c0"/>
                </a:gs>
              </a:gsLst>
              <a:lin ang="8100000"/>
            </a:gradFill>
            <a:ln w="93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810560" y="1208160"/>
              <a:ext cx="1225440" cy="2332440"/>
              <a:chOff x="7810560" y="1208160"/>
              <a:chExt cx="1225440" cy="233244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7810560" y="1208160"/>
                <a:ext cx="720720" cy="2088720"/>
                <a:chOff x="7810560" y="1208160"/>
                <a:chExt cx="720720" cy="2088720"/>
              </a:xfrm>
            </p:grpSpPr>
            <p:sp>
              <p:nvSpPr>
                <p:cNvPr id="638" name=""/>
                <p:cNvSpPr/>
                <p:nvPr/>
              </p:nvSpPr>
              <p:spPr>
                <a:xfrm flipH="1">
                  <a:off x="7826400" y="1208160"/>
                  <a:ext cx="704880" cy="2088720"/>
                </a:xfrm>
                <a:custGeom>
                  <a:avLst/>
                  <a:gdLst/>
                  <a:ahLst/>
                  <a:rect l="l" t="t" r="r" b="b"/>
                  <a:pathLst>
                    <a:path w="544" h="1361">
                      <a:moveTo>
                        <a:pt x="544" y="1361"/>
                      </a:moveTo>
                      <a:lnTo>
                        <a:pt x="0" y="1361"/>
                      </a:lnTo>
                      <a:lnTo>
                        <a:pt x="544" y="0"/>
                      </a:lnTo>
                      <a:lnTo>
                        <a:pt x="544" y="136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9c9c9"/>
                    </a:gs>
                    <a:gs pos="100000">
                      <a:srgbClr val="c0c0c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826400" y="3296880"/>
                  <a:ext cx="689040" cy="0"/>
                </a:xfrm>
                <a:prstGeom prst="line">
                  <a:avLst/>
                </a:prstGeom>
                <a:ln w="38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810560" y="1208160"/>
                  <a:ext cx="720720" cy="2088720"/>
                </a:xfrm>
                <a:prstGeom prst="line">
                  <a:avLst/>
                </a:prstGeom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8520120" y="3080880"/>
                <a:ext cx="51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00"/>
                    </a:solidFill>
                    <a:latin typeface="Arial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6632640" y="3116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96360" y="812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108000" y="765000"/>
            <a:ext cx="2376000" cy="664920"/>
            <a:chOff x="108000" y="765000"/>
            <a:chExt cx="2376000" cy="664920"/>
          </a:xfrm>
        </p:grpSpPr>
        <p:grpSp>
          <p:nvGrpSpPr>
            <p:cNvPr id="645" name=""/>
            <p:cNvGrpSpPr/>
            <p:nvPr/>
          </p:nvGrpSpPr>
          <p:grpSpPr>
            <a:xfrm>
              <a:off x="108000" y="850680"/>
              <a:ext cx="2376000" cy="579240"/>
              <a:chOff x="108000" y="850680"/>
              <a:chExt cx="2376000" cy="57924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295560" y="1035360"/>
                <a:ext cx="2188440" cy="367920"/>
                <a:chOff x="295560" y="1035360"/>
                <a:chExt cx="2188440" cy="3679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384120" y="1143720"/>
                  <a:ext cx="1745280" cy="156600"/>
                </a:xfrm>
                <a:custGeom>
                  <a:avLst/>
                  <a:gdLst/>
                  <a:ahLst/>
                  <a:rect l="l" t="t" r="r" b="b"/>
                  <a:pathLst>
                    <a:path w="3583" h="272">
                      <a:moveTo>
                        <a:pt x="0" y="272"/>
                      </a:moveTo>
                      <a:lnTo>
                        <a:pt x="3447" y="272"/>
                      </a:lnTo>
                      <a:lnTo>
                        <a:pt x="3583" y="0"/>
                      </a:lnTo>
                      <a:lnTo>
                        <a:pt x="227" y="0"/>
                      </a:lnTo>
                      <a:lnTo>
                        <a:pt x="0" y="272"/>
                      </a:lnTo>
                      <a:close/>
                    </a:path>
                  </a:pathLst>
                </a:custGeom>
                <a:solidFill>
                  <a:srgbClr val="9a2269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95560" y="1035360"/>
                  <a:ext cx="2188440" cy="367920"/>
                </a:xfrm>
                <a:custGeom>
                  <a:avLst/>
                  <a:gdLst/>
                  <a:ahLst/>
                  <a:rect l="l" t="t" r="r" b="b"/>
                  <a:pathLst>
                    <a:path w="4490" h="635">
                      <a:moveTo>
                        <a:pt x="90" y="545"/>
                      </a:moveTo>
                      <a:lnTo>
                        <a:pt x="0" y="635"/>
                      </a:lnTo>
                      <a:lnTo>
                        <a:pt x="4173" y="635"/>
                      </a:lnTo>
                      <a:lnTo>
                        <a:pt x="4490" y="0"/>
                      </a:lnTo>
                      <a:lnTo>
                        <a:pt x="4037" y="0"/>
                      </a:lnTo>
                      <a:lnTo>
                        <a:pt x="3764" y="545"/>
                      </a:lnTo>
                      <a:lnTo>
                        <a:pt x="90" y="545"/>
                      </a:lnTo>
                      <a:close/>
                    </a:path>
                  </a:pathLst>
                </a:custGeom>
                <a:solidFill>
                  <a:srgbClr val="9a2269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108000" y="850680"/>
                <a:ext cx="949680" cy="384120"/>
                <a:chOff x="108000" y="850680"/>
                <a:chExt cx="949680" cy="3841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108000" y="850680"/>
                  <a:ext cx="949680" cy="384120"/>
                </a:xfrm>
                <a:custGeom>
                  <a:avLst/>
                  <a:gdLst/>
                  <a:ahLst/>
                  <a:rect l="l" t="t" r="r" b="b"/>
                  <a:pathLst>
                    <a:path w="3130" h="1270">
                      <a:moveTo>
                        <a:pt x="1543" y="817"/>
                      </a:moveTo>
                      <a:lnTo>
                        <a:pt x="1452" y="499"/>
                      </a:lnTo>
                      <a:lnTo>
                        <a:pt x="0" y="499"/>
                      </a:lnTo>
                      <a:lnTo>
                        <a:pt x="46" y="454"/>
                      </a:lnTo>
                      <a:lnTo>
                        <a:pt x="1543" y="0"/>
                      </a:lnTo>
                      <a:lnTo>
                        <a:pt x="3130" y="454"/>
                      </a:lnTo>
                      <a:lnTo>
                        <a:pt x="2223" y="726"/>
                      </a:lnTo>
                      <a:lnTo>
                        <a:pt x="2268" y="907"/>
                      </a:lnTo>
                      <a:lnTo>
                        <a:pt x="2042" y="953"/>
                      </a:lnTo>
                      <a:lnTo>
                        <a:pt x="1951" y="1044"/>
                      </a:lnTo>
                      <a:lnTo>
                        <a:pt x="1951" y="1225"/>
                      </a:lnTo>
                      <a:lnTo>
                        <a:pt x="1769" y="1270"/>
                      </a:lnTo>
                      <a:lnTo>
                        <a:pt x="1497" y="1270"/>
                      </a:lnTo>
                      <a:lnTo>
                        <a:pt x="1225" y="1270"/>
                      </a:lnTo>
                      <a:lnTo>
                        <a:pt x="953" y="1180"/>
                      </a:lnTo>
                      <a:lnTo>
                        <a:pt x="817" y="1089"/>
                      </a:lnTo>
                      <a:lnTo>
                        <a:pt x="817" y="907"/>
                      </a:lnTo>
                      <a:lnTo>
                        <a:pt x="862" y="726"/>
                      </a:lnTo>
                      <a:lnTo>
                        <a:pt x="46" y="499"/>
                      </a:lnTo>
                      <a:lnTo>
                        <a:pt x="272" y="499"/>
                      </a:lnTo>
                      <a:lnTo>
                        <a:pt x="1543" y="817"/>
                      </a:lnTo>
                      <a:close/>
                    </a:path>
                  </a:pathLst>
                </a:custGeom>
                <a:solidFill>
                  <a:srgbClr val="4e1b65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83040" y="1097640"/>
                  <a:ext cx="54720" cy="95760"/>
                </a:xfrm>
                <a:custGeom>
                  <a:avLst/>
                  <a:gdLst/>
                  <a:ahLst/>
                  <a:rect l="l" t="t" r="r" b="b"/>
                  <a:pathLst>
                    <a:path w="181" h="317">
                      <a:moveTo>
                        <a:pt x="136" y="317"/>
                      </a:moveTo>
                      <a:lnTo>
                        <a:pt x="181" y="0"/>
                      </a:lnTo>
                      <a:lnTo>
                        <a:pt x="45" y="0"/>
                      </a:lnTo>
                      <a:lnTo>
                        <a:pt x="0" y="90"/>
                      </a:lnTo>
                      <a:lnTo>
                        <a:pt x="0" y="227"/>
                      </a:lnTo>
                      <a:lnTo>
                        <a:pt x="45" y="272"/>
                      </a:lnTo>
                      <a:lnTo>
                        <a:pt x="136" y="317"/>
                      </a:lnTo>
                      <a:close/>
                    </a:path>
                  </a:pathLst>
                </a:custGeom>
                <a:solidFill>
                  <a:srgbClr val="4e1b65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 rot="21130800">
                <a:off x="902160" y="995760"/>
                <a:ext cx="79200" cy="234360"/>
              </a:xfrm>
              <a:custGeom>
                <a:avLst/>
                <a:gdLst/>
                <a:ahLst/>
                <a:rect l="l" t="t" r="r" b="b"/>
                <a:pathLst>
                  <a:path w="136" h="409">
                    <a:moveTo>
                      <a:pt x="0" y="409"/>
                    </a:moveTo>
                    <a:lnTo>
                      <a:pt x="91" y="409"/>
                    </a:lnTo>
                    <a:lnTo>
                      <a:pt x="91" y="136"/>
                    </a:lnTo>
                    <a:lnTo>
                      <a:pt x="136" y="91"/>
                    </a:lnTo>
                    <a:lnTo>
                      <a:pt x="91" y="0"/>
                    </a:lnTo>
                    <a:lnTo>
                      <a:pt x="0" y="91"/>
                    </a:lnTo>
                    <a:lnTo>
                      <a:pt x="46" y="136"/>
                    </a:lnTo>
                    <a:lnTo>
                      <a:pt x="0" y="409"/>
                    </a:lnTo>
                    <a:close/>
                  </a:path>
                </a:pathLst>
              </a:custGeom>
              <a:solidFill>
                <a:srgbClr val="4e1b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pic>
            <p:nvPicPr>
              <p:cNvPr id="6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6880" y="1030680"/>
                <a:ext cx="532800" cy="399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4" name=""/>
            <p:cNvSpPr/>
            <p:nvPr/>
          </p:nvSpPr>
          <p:spPr>
            <a:xfrm>
              <a:off x="900000" y="76500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想一想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2556000" y="981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在上述问题中，折痕</a:t>
            </a:r>
            <a:r>
              <a:rPr b="1" i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A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597800" y="1270080"/>
            <a:ext cx="503280" cy="2402640"/>
            <a:chOff x="7597800" y="1270080"/>
            <a:chExt cx="503280" cy="2402640"/>
          </a:xfrm>
        </p:grpSpPr>
        <p:sp>
          <p:nvSpPr>
            <p:cNvPr id="657" name=""/>
            <p:cNvSpPr/>
            <p:nvPr/>
          </p:nvSpPr>
          <p:spPr>
            <a:xfrm>
              <a:off x="7597800" y="3213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D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10560" y="1270080"/>
              <a:ext cx="15840" cy="20271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179280" y="1387440"/>
            <a:ext cx="49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是等腰三角形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ABC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的怎样的线？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2120" y="1844640"/>
            <a:ext cx="49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线段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AD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的还具有怎样的性质？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7596360" y="4076640"/>
            <a:ext cx="502920" cy="2402640"/>
            <a:chOff x="7596360" y="4076640"/>
            <a:chExt cx="502920" cy="2402640"/>
          </a:xfrm>
        </p:grpSpPr>
        <p:sp>
          <p:nvSpPr>
            <p:cNvPr id="662" name=""/>
            <p:cNvSpPr/>
            <p:nvPr/>
          </p:nvSpPr>
          <p:spPr>
            <a:xfrm>
              <a:off x="7596360" y="601956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Arial"/>
                  <a:ea typeface="黑体"/>
                </a:rPr>
                <a:t>D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08760" y="4076640"/>
              <a:ext cx="15480" cy="20271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280040" y="181944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为什么？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0920" y="2324160"/>
            <a:ext cx="49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由此你能得到什么结论？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16000" y="5267160"/>
            <a:ext cx="4997520" cy="45972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等腰三角形顶角的平分线、底边上的中线、底边上的高互相重合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79280" y="4734000"/>
            <a:ext cx="40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2269"/>
                </a:solidFill>
                <a:latin typeface="黑体"/>
                <a:ea typeface="黑体"/>
              </a:rPr>
              <a:t>      “</a:t>
            </a:r>
            <a:r>
              <a:rPr b="1" lang="zh-CN" sz="2400" spc="-1" strike="noStrike">
                <a:solidFill>
                  <a:srgbClr val="9a2269"/>
                </a:solidFill>
                <a:latin typeface="黑体"/>
                <a:ea typeface="黑体"/>
              </a:rPr>
              <a:t>等边对等角”定理 的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2269"/>
                </a:solidFill>
                <a:latin typeface="黑体"/>
                <a:ea typeface="黑体"/>
              </a:rPr>
              <a:t>推论：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26920" y="292428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线段</a:t>
            </a: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AD</a:t>
            </a: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是</a:t>
            </a: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BC</a:t>
            </a: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边的中线、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33814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∠</a:t>
            </a: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BAC</a:t>
            </a: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的平分线、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66920" y="3860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边</a:t>
            </a: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BC</a:t>
            </a:r>
            <a:r>
              <a:rPr b="1" lang="zh-CN" sz="2400" spc="-1" strike="noStrike">
                <a:solidFill>
                  <a:srgbClr val="4d45af"/>
                </a:solidFill>
                <a:latin typeface="Arial"/>
                <a:ea typeface="黑体"/>
              </a:rPr>
              <a:t>上的高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FE78-0BE2-40E0-9620-8435204E49F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5D2B9-42FB-42A4-90EF-79DF3B0145D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9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9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070840" y="6524640"/>
            <a:ext cx="388800" cy="3776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83808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Book Antiqua"/>
                <a:ea typeface="隶书"/>
              </a:rPr>
              <a:t>随堂练习       </a:t>
            </a:r>
            <a:r>
              <a:rPr b="1" lang="zh-CN" sz="4000" spc="-1" strike="noStrike">
                <a:solidFill>
                  <a:srgbClr val="ffff99"/>
                </a:solidFill>
                <a:latin typeface="Book Antiqua"/>
              </a:rPr>
              <a:t>学好数学的诀窍</a:t>
            </a:r>
            <a:endParaRPr b="1" lang="en-US" sz="4000" spc="-1" strike="noStrike">
              <a:solidFill>
                <a:srgbClr val="ffff99"/>
              </a:solidFill>
              <a:latin typeface="Book Antiqua"/>
            </a:endParaRPr>
          </a:p>
        </p:txBody>
      </p:sp>
      <p:pic>
        <p:nvPicPr>
          <p:cNvPr id="67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85200" y="652464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5"/>
          <a:stretch/>
        </p:blipFill>
        <p:spPr>
          <a:xfrm>
            <a:off x="6662880" y="115920"/>
            <a:ext cx="522000" cy="609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7240" y="1233360"/>
            <a:ext cx="8762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证明：等边三角形的三个角都相等，并且每个角都等于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60˚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88000" y="18900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30000">
                <a:solidFill>
                  <a:srgbClr val="ffff99"/>
                </a:solidFill>
                <a:latin typeface="Book Antiqua"/>
                <a:ea typeface="黑体"/>
              </a:rPr>
              <a:t>做题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472600" y="12600"/>
            <a:ext cx="586440" cy="750960"/>
            <a:chOff x="8472600" y="12600"/>
            <a:chExt cx="586440" cy="750960"/>
          </a:xfrm>
        </p:grpSpPr>
        <p:grpSp>
          <p:nvGrpSpPr>
            <p:cNvPr id="678" name=""/>
            <p:cNvGrpSpPr/>
            <p:nvPr/>
          </p:nvGrpSpPr>
          <p:grpSpPr>
            <a:xfrm>
              <a:off x="8698680" y="561240"/>
              <a:ext cx="239760" cy="202320"/>
              <a:chOff x="8698680" y="561240"/>
              <a:chExt cx="239760" cy="202320"/>
            </a:xfrm>
          </p:grpSpPr>
          <p:sp>
            <p:nvSpPr>
              <p:cNvPr id="679" name=""/>
              <p:cNvSpPr/>
              <p:nvPr/>
            </p:nvSpPr>
            <p:spPr>
              <a:xfrm flipH="1" rot="16597200">
                <a:off x="8717040" y="550440"/>
                <a:ext cx="60120" cy="91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rot="16597200">
                <a:off x="8718120" y="670320"/>
                <a:ext cx="102960" cy="75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rot="16597200">
                <a:off x="8859240" y="686880"/>
                <a:ext cx="107640" cy="38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8472600" y="44280"/>
              <a:ext cx="167040" cy="169200"/>
              <a:chOff x="8472600" y="44280"/>
              <a:chExt cx="167040" cy="169200"/>
            </a:xfrm>
          </p:grpSpPr>
          <p:sp>
            <p:nvSpPr>
              <p:cNvPr id="683" name=""/>
              <p:cNvSpPr/>
              <p:nvPr/>
            </p:nvSpPr>
            <p:spPr>
              <a:xfrm flipH="1">
                <a:off x="8586360" y="44280"/>
                <a:ext cx="52920" cy="63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8472600" y="74160"/>
                <a:ext cx="90720" cy="529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8486280" y="186840"/>
                <a:ext cx="94680" cy="2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 flipH="1">
              <a:off x="8653680" y="87480"/>
              <a:ext cx="339480" cy="34956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rot="20016000">
              <a:off x="8859240" y="233640"/>
              <a:ext cx="167040" cy="113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20016000">
              <a:off x="8836200" y="393840"/>
              <a:ext cx="81000" cy="532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20016000">
              <a:off x="8685720" y="176400"/>
              <a:ext cx="71280" cy="738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rot="20016000">
              <a:off x="8891280" y="377640"/>
              <a:ext cx="29880" cy="446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20016000">
              <a:off x="8716320" y="259560"/>
              <a:ext cx="34920" cy="18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8860680" y="453960"/>
              <a:ext cx="174600" cy="30060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rot="20016000">
              <a:off x="8618040" y="82800"/>
              <a:ext cx="390600" cy="3175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0" y="0"/>
            <a:ext cx="2627280" cy="781200"/>
            <a:chOff x="0" y="0"/>
            <a:chExt cx="2627280" cy="781200"/>
          </a:xfrm>
        </p:grpSpPr>
        <p:sp>
          <p:nvSpPr>
            <p:cNvPr id="695" name=""/>
            <p:cNvSpPr/>
            <p:nvPr/>
          </p:nvSpPr>
          <p:spPr>
            <a:xfrm>
              <a:off x="0" y="0"/>
              <a:ext cx="2627280" cy="781200"/>
            </a:xfrm>
            <a:prstGeom prst="rect">
              <a:avLst/>
            </a:prstGeom>
            <a:gradFill rotWithShape="0">
              <a:gsLst>
                <a:gs pos="0">
                  <a:srgbClr val="d9f1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36360" y="43560"/>
              <a:ext cx="2519280" cy="648360"/>
              <a:chOff x="36360" y="43560"/>
              <a:chExt cx="2519280" cy="64836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317520" y="253800"/>
                <a:ext cx="2238120" cy="438120"/>
                <a:chOff x="317520" y="253800"/>
                <a:chExt cx="2238120" cy="438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2036520" y="325440"/>
                  <a:ext cx="479520" cy="366480"/>
                </a:xfrm>
                <a:custGeom>
                  <a:avLst/>
                  <a:gdLst/>
                  <a:ahLst/>
                  <a:rect l="l" t="t" r="r" b="b"/>
                  <a:pathLst>
                    <a:path w="952" h="726">
                      <a:moveTo>
                        <a:pt x="408" y="0"/>
                      </a:moveTo>
                      <a:lnTo>
                        <a:pt x="952" y="0"/>
                      </a:lnTo>
                      <a:lnTo>
                        <a:pt x="589" y="726"/>
                      </a:lnTo>
                      <a:lnTo>
                        <a:pt x="0" y="726"/>
                      </a:lnTo>
                      <a:lnTo>
                        <a:pt x="408" y="0"/>
                      </a:lnTo>
                      <a:close/>
                    </a:path>
                  </a:pathLst>
                </a:custGeom>
                <a:solidFill>
                  <a:srgbClr val="9e0035">
                    <a:alpha val="7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317520" y="253800"/>
                  <a:ext cx="2238120" cy="433440"/>
                  <a:chOff x="317520" y="253800"/>
                  <a:chExt cx="2238120" cy="43344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353880" y="380880"/>
                    <a:ext cx="17982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136">
                        <a:moveTo>
                          <a:pt x="90" y="0"/>
                        </a:moveTo>
                        <a:lnTo>
                          <a:pt x="1088" y="0"/>
                        </a:lnTo>
                        <a:lnTo>
                          <a:pt x="997" y="136"/>
                        </a:lnTo>
                        <a:lnTo>
                          <a:pt x="0" y="136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c145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17520" y="253800"/>
                    <a:ext cx="2238120" cy="4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89" h="907">
                        <a:moveTo>
                          <a:pt x="4899" y="0"/>
                        </a:moveTo>
                        <a:lnTo>
                          <a:pt x="4490" y="817"/>
                        </a:lnTo>
                        <a:lnTo>
                          <a:pt x="0" y="817"/>
                        </a:lnTo>
                        <a:lnTo>
                          <a:pt x="0" y="907"/>
                        </a:lnTo>
                        <a:lnTo>
                          <a:pt x="4536" y="907"/>
                        </a:lnTo>
                        <a:lnTo>
                          <a:pt x="4989" y="0"/>
                        </a:lnTo>
                        <a:lnTo>
                          <a:pt x="4899" y="0"/>
                        </a:lnTo>
                        <a:close/>
                      </a:path>
                    </a:pathLst>
                  </a:custGeom>
                  <a:solidFill>
                    <a:srgbClr val="cc33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36360" y="43560"/>
                <a:ext cx="2232000" cy="613440"/>
                <a:chOff x="36360" y="43560"/>
                <a:chExt cx="2232000" cy="6134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39640" y="43560"/>
                  <a:ext cx="172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Aft>
                      <a:spcPts val="13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2800" spc="-1" strike="noStrike">
                      <a:solidFill>
                        <a:srgbClr val="333300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4" name=""/>
                <p:cNvGrpSpPr/>
                <p:nvPr/>
              </p:nvGrpSpPr>
              <p:grpSpPr>
                <a:xfrm>
                  <a:off x="36360" y="115920"/>
                  <a:ext cx="576360" cy="541080"/>
                  <a:chOff x="36360" y="115920"/>
                  <a:chExt cx="576360" cy="541080"/>
                </a:xfrm>
              </p:grpSpPr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36360" y="115920"/>
                    <a:ext cx="559800" cy="540360"/>
                    <a:chOff x="36360" y="115920"/>
                    <a:chExt cx="559800" cy="54036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36360" y="369360"/>
                      <a:ext cx="55980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7" h="681">
                          <a:moveTo>
                            <a:pt x="771" y="681"/>
                          </a:moveTo>
                          <a:lnTo>
                            <a:pt x="1497" y="318"/>
                          </a:lnTo>
                          <a:lnTo>
                            <a:pt x="771" y="0"/>
                          </a:lnTo>
                          <a:lnTo>
                            <a:pt x="0" y="363"/>
                          </a:lnTo>
                          <a:lnTo>
                            <a:pt x="771" y="681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7" name=""/>
                    <p:cNvGrpSpPr/>
                    <p:nvPr/>
                  </p:nvGrpSpPr>
                  <p:grpSpPr>
                    <a:xfrm>
                      <a:off x="36360" y="386280"/>
                      <a:ext cx="543240" cy="270000"/>
                      <a:chOff x="36360" y="386280"/>
                      <a:chExt cx="543240" cy="270000"/>
                    </a:xfrm>
                  </p:grpSpPr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308160" y="487440"/>
                        <a:ext cx="2714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>
                        <a:off x="36360" y="386280"/>
                        <a:ext cx="54324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0" name=""/>
                      <p:cNvSpPr/>
                      <p:nvPr/>
                    </p:nvSpPr>
                    <p:spPr>
                      <a:xfrm>
                        <a:off x="36360" y="504360"/>
                        <a:ext cx="271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36360" y="352440"/>
                      <a:ext cx="543240" cy="270000"/>
                      <a:chOff x="36360" y="352440"/>
                      <a:chExt cx="543240" cy="270000"/>
                    </a:xfrm>
                  </p:grpSpPr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308160" y="453600"/>
                        <a:ext cx="2714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36360" y="352440"/>
                        <a:ext cx="54324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7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36360" y="470520"/>
                        <a:ext cx="271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5" name=""/>
                    <p:cNvGrpSpPr/>
                    <p:nvPr/>
                  </p:nvGrpSpPr>
                  <p:grpSpPr>
                    <a:xfrm>
                      <a:off x="36360" y="318960"/>
                      <a:ext cx="543240" cy="270000"/>
                      <a:chOff x="36360" y="318960"/>
                      <a:chExt cx="543240" cy="270000"/>
                    </a:xfrm>
                  </p:grpSpPr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308160" y="420120"/>
                        <a:ext cx="2714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36360" y="318960"/>
                        <a:ext cx="54324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8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36360" y="437040"/>
                        <a:ext cx="271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9" name=""/>
                    <p:cNvGrpSpPr/>
                    <p:nvPr/>
                  </p:nvGrpSpPr>
                  <p:grpSpPr>
                    <a:xfrm>
                      <a:off x="36360" y="285120"/>
                      <a:ext cx="543240" cy="270000"/>
                      <a:chOff x="36360" y="285120"/>
                      <a:chExt cx="543240" cy="270000"/>
                    </a:xfrm>
                  </p:grpSpPr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308160" y="386280"/>
                        <a:ext cx="2714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36360" y="285120"/>
                        <a:ext cx="54324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36360" y="403200"/>
                        <a:ext cx="271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3" name=""/>
                    <p:cNvGrpSpPr/>
                    <p:nvPr/>
                  </p:nvGrpSpPr>
                  <p:grpSpPr>
                    <a:xfrm>
                      <a:off x="36360" y="251280"/>
                      <a:ext cx="543240" cy="270000"/>
                      <a:chOff x="36360" y="251280"/>
                      <a:chExt cx="543240" cy="270000"/>
                    </a:xfrm>
                  </p:grpSpPr>
                  <p:sp>
                    <p:nvSpPr>
                      <p:cNvPr id="724" name=""/>
                      <p:cNvSpPr/>
                      <p:nvPr/>
                    </p:nvSpPr>
                    <p:spPr>
                      <a:xfrm>
                        <a:off x="308160" y="352440"/>
                        <a:ext cx="2714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5" name=""/>
                      <p:cNvSpPr/>
                      <p:nvPr/>
                    </p:nvSpPr>
                    <p:spPr>
                      <a:xfrm>
                        <a:off x="36360" y="251280"/>
                        <a:ext cx="54324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6" name=""/>
                      <p:cNvSpPr/>
                      <p:nvPr/>
                    </p:nvSpPr>
                    <p:spPr>
                      <a:xfrm>
                        <a:off x="36360" y="369360"/>
                        <a:ext cx="271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7" name=""/>
                    <p:cNvGrpSpPr/>
                    <p:nvPr/>
                  </p:nvGrpSpPr>
                  <p:grpSpPr>
                    <a:xfrm>
                      <a:off x="36360" y="217440"/>
                      <a:ext cx="543240" cy="270360"/>
                      <a:chOff x="36360" y="217440"/>
                      <a:chExt cx="543240" cy="270360"/>
                    </a:xfrm>
                  </p:grpSpPr>
                  <p:sp>
                    <p:nvSpPr>
                      <p:cNvPr id="728" name=""/>
                      <p:cNvSpPr/>
                      <p:nvPr/>
                    </p:nvSpPr>
                    <p:spPr>
                      <a:xfrm>
                        <a:off x="308160" y="318960"/>
                        <a:ext cx="271440" cy="168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36360" y="217440"/>
                        <a:ext cx="543240" cy="23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>
                        <a:off x="36360" y="335520"/>
                        <a:ext cx="271800" cy="152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1" name=""/>
                    <p:cNvGrpSpPr/>
                    <p:nvPr/>
                  </p:nvGrpSpPr>
                  <p:grpSpPr>
                    <a:xfrm>
                      <a:off x="36360" y="183240"/>
                      <a:ext cx="543240" cy="270000"/>
                      <a:chOff x="36360" y="183240"/>
                      <a:chExt cx="543240" cy="270000"/>
                    </a:xfrm>
                  </p:grpSpPr>
                  <p:sp>
                    <p:nvSpPr>
                      <p:cNvPr id="732" name=""/>
                      <p:cNvSpPr/>
                      <p:nvPr/>
                    </p:nvSpPr>
                    <p:spPr>
                      <a:xfrm>
                        <a:off x="308160" y="284400"/>
                        <a:ext cx="2714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36360" y="183240"/>
                        <a:ext cx="54324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36360" y="301320"/>
                        <a:ext cx="271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5" name=""/>
                    <p:cNvGrpSpPr/>
                    <p:nvPr/>
                  </p:nvGrpSpPr>
                  <p:grpSpPr>
                    <a:xfrm>
                      <a:off x="36360" y="149760"/>
                      <a:ext cx="543240" cy="270000"/>
                      <a:chOff x="36360" y="149760"/>
                      <a:chExt cx="543240" cy="270000"/>
                    </a:xfrm>
                  </p:grpSpPr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308160" y="250920"/>
                        <a:ext cx="2714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36360" y="149760"/>
                        <a:ext cx="54324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36360" y="267840"/>
                        <a:ext cx="271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9" name=""/>
                    <p:cNvGrpSpPr/>
                    <p:nvPr/>
                  </p:nvGrpSpPr>
                  <p:grpSpPr>
                    <a:xfrm>
                      <a:off x="36360" y="115920"/>
                      <a:ext cx="543240" cy="270000"/>
                      <a:chOff x="36360" y="115920"/>
                      <a:chExt cx="543240" cy="270000"/>
                    </a:xfrm>
                  </p:grpSpPr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308160" y="217080"/>
                        <a:ext cx="2714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53">
                            <a:moveTo>
                              <a:pt x="0" y="363"/>
                            </a:moveTo>
                            <a:lnTo>
                              <a:pt x="0" y="453"/>
                            </a:lnTo>
                            <a:lnTo>
                              <a:pt x="726" y="91"/>
                            </a:lnTo>
                            <a:lnTo>
                              <a:pt x="726" y="0"/>
                            </a:lnTo>
                            <a:lnTo>
                              <a:pt x="0" y="36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9f1ff"/>
                          </a:gs>
                          <a:gs pos="100000">
                            <a:srgbClr val="4d45a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36360" y="115920"/>
                        <a:ext cx="54324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2" h="635">
                            <a:moveTo>
                              <a:pt x="726" y="635"/>
                            </a:moveTo>
                            <a:lnTo>
                              <a:pt x="0" y="317"/>
                            </a:lnTo>
                            <a:lnTo>
                              <a:pt x="726" y="0"/>
                            </a:lnTo>
                            <a:lnTo>
                              <a:pt x="1452" y="272"/>
                            </a:lnTo>
                            <a:lnTo>
                              <a:pt x="726" y="635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4"/>
                        <a:srcRect/>
                        <a:tile tx="0" ty="0" sx="100000" sy="100000" algn="ctr"/>
                      </a:blip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36360" y="234000"/>
                        <a:ext cx="271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6" h="408">
                            <a:moveTo>
                              <a:pt x="726" y="318"/>
                            </a:moveTo>
                            <a:lnTo>
                              <a:pt x="0" y="0"/>
                            </a:lnTo>
                            <a:lnTo>
                              <a:pt x="0" y="91"/>
                            </a:lnTo>
                            <a:lnTo>
                              <a:pt x="726" y="408"/>
                            </a:lnTo>
                            <a:lnTo>
                              <a:pt x="726" y="31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d45af"/>
                          </a:gs>
                          <a:gs pos="100000">
                            <a:srgbClr val="d9f1ff"/>
                          </a:gs>
                        </a:gsLst>
                        <a:lin ang="10800000"/>
                      </a:gra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425880" y="488160"/>
                    <a:ext cx="186840" cy="168840"/>
                    <a:chOff x="425880" y="488160"/>
                    <a:chExt cx="186840" cy="1688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425880" y="488160"/>
                      <a:ext cx="186840" cy="16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590">
                          <a:moveTo>
                            <a:pt x="409" y="0"/>
                          </a:moveTo>
                          <a:lnTo>
                            <a:pt x="635" y="0"/>
                          </a:lnTo>
                          <a:lnTo>
                            <a:pt x="726" y="91"/>
                          </a:lnTo>
                          <a:lnTo>
                            <a:pt x="590" y="91"/>
                          </a:lnTo>
                          <a:lnTo>
                            <a:pt x="590" y="181"/>
                          </a:lnTo>
                          <a:lnTo>
                            <a:pt x="862" y="272"/>
                          </a:lnTo>
                          <a:lnTo>
                            <a:pt x="862" y="544"/>
                          </a:lnTo>
                          <a:lnTo>
                            <a:pt x="681" y="590"/>
                          </a:lnTo>
                          <a:lnTo>
                            <a:pt x="136" y="590"/>
                          </a:lnTo>
                          <a:lnTo>
                            <a:pt x="0" y="499"/>
                          </a:lnTo>
                          <a:lnTo>
                            <a:pt x="0" y="272"/>
                          </a:lnTo>
                          <a:lnTo>
                            <a:pt x="318" y="181"/>
                          </a:lnTo>
                          <a:lnTo>
                            <a:pt x="318" y="91"/>
                          </a:lnTo>
                          <a:lnTo>
                            <a:pt x="182" y="91"/>
                          </a:lnTo>
                          <a:lnTo>
                            <a:pt x="318" y="0"/>
                          </a:lnTo>
                          <a:lnTo>
                            <a:pt x="590" y="0"/>
                          </a:lnTo>
                        </a:path>
                      </a:pathLst>
                    </a:custGeom>
                    <a:solidFill>
                      <a:srgbClr val="333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476640" y="572400"/>
                      <a:ext cx="1184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6" h="362">
                          <a:moveTo>
                            <a:pt x="0" y="0"/>
                          </a:moveTo>
                          <a:lnTo>
                            <a:pt x="0" y="317"/>
                          </a:lnTo>
                          <a:lnTo>
                            <a:pt x="227" y="362"/>
                          </a:lnTo>
                          <a:lnTo>
                            <a:pt x="453" y="362"/>
                          </a:lnTo>
                          <a:lnTo>
                            <a:pt x="635" y="317"/>
                          </a:lnTo>
                          <a:lnTo>
                            <a:pt x="726" y="272"/>
                          </a:lnTo>
                          <a:lnTo>
                            <a:pt x="726" y="0"/>
                          </a:lnTo>
                          <a:lnTo>
                            <a:pt x="544" y="45"/>
                          </a:lnTo>
                          <a:lnTo>
                            <a:pt x="408" y="45"/>
                          </a:lnTo>
                          <a:lnTo>
                            <a:pt x="317" y="45"/>
                          </a:lnTo>
                          <a:lnTo>
                            <a:pt x="136" y="4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9f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46" name=""/>
          <p:cNvSpPr/>
          <p:nvPr/>
        </p:nvSpPr>
        <p:spPr>
          <a:xfrm>
            <a:off x="971640" y="450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黑体"/>
              </a:rPr>
              <a:t>P4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5560" y="2611440"/>
            <a:ext cx="8834400" cy="2764440"/>
            <a:chOff x="25560" y="2611440"/>
            <a:chExt cx="8834400" cy="2764440"/>
          </a:xfrm>
        </p:grpSpPr>
        <p:sp>
          <p:nvSpPr>
            <p:cNvPr id="748" name=""/>
            <p:cNvSpPr/>
            <p:nvPr/>
          </p:nvSpPr>
          <p:spPr>
            <a:xfrm>
              <a:off x="25560" y="2611440"/>
              <a:ext cx="883440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、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如图，△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ABD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中，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是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BD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上的一点，且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AC⊥BD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。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AC=BC=CD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。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(1) 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求证： △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ABD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是等腰三角形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;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(2) 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求∠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BAD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的度数</a:t>
              </a:r>
              <a:r>
                <a:rPr b="1" lang="zh-CN" sz="24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5034240" y="3116160"/>
              <a:ext cx="3640680" cy="2259720"/>
              <a:chOff x="5034240" y="3116160"/>
              <a:chExt cx="3640680" cy="22597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391000" y="3547800"/>
                <a:ext cx="2879640" cy="1440000"/>
                <a:chOff x="5391000" y="3547800"/>
                <a:chExt cx="2879640" cy="14400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6831000" y="3547800"/>
                  <a:ext cx="1439640" cy="1440000"/>
                </a:xfrm>
                <a:prstGeom prst="rtTriangl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5391000" y="3547800"/>
                  <a:ext cx="1440000" cy="1440000"/>
                </a:xfrm>
                <a:prstGeom prst="rtTriangle">
                  <a:avLst/>
                </a:prstGeom>
                <a:noFill/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6689880" y="3116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034240" y="4890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617160" y="4916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274600" y="4844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D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832440" y="4844880"/>
                <a:ext cx="142920" cy="14436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0" y="0"/>
                    </a:moveTo>
                    <a:lnTo>
                      <a:pt x="90" y="0"/>
                    </a:lnTo>
                    <a:lnTo>
                      <a:pt x="90" y="91"/>
                    </a:lnTo>
                  </a:path>
                </a:pathLst>
              </a:custGeom>
              <a:noFill/>
              <a:ln w="2844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903A-B7AA-4D5B-9D47-FB26FC1C3DC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F0E39-9D3C-4C3F-B8CD-07D78648631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04920" y="-125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9" name="">
            <a:hlinkClick r:id="" action="ppaction://hlinkshowjump?jump=endshow"/>
          </p:cNvPr>
          <p:cNvSpPr/>
          <p:nvPr/>
        </p:nvSpPr>
        <p:spPr>
          <a:xfrm>
            <a:off x="0" y="6165720"/>
            <a:ext cx="663480" cy="719280"/>
          </a:xfrm>
          <a:custGeom>
            <a:avLst/>
            <a:gdLst>
              <a:gd name="textAreaLeft" fmla="*/ 42840 w 663480"/>
              <a:gd name="textAreaRight" fmla="*/ 620640 w 663480"/>
              <a:gd name="textAreaTop" fmla="*/ 42840 h 719280"/>
              <a:gd name="textAreaBottom" fmla="*/ 676440 h 719280"/>
            </a:gdLst>
            <a:ahLst/>
            <a:rect l="textAreaLeft" t="textAreaTop" r="textAreaRight" b="textAreaBottom"/>
            <a:pathLst>
              <a:path w="21600" h="23416">
                <a:moveTo>
                  <a:pt x="0" y="0"/>
                </a:moveTo>
                <a:lnTo>
                  <a:pt x="21600" y="0"/>
                </a:lnTo>
                <a:lnTo>
                  <a:pt x="21600" y="23416"/>
                </a:lnTo>
                <a:lnTo>
                  <a:pt x="0" y="23416"/>
                </a:lnTo>
                <a:close/>
              </a:path>
              <a:path fill="lightenLess" w="21600" h="234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16">
                <a:moveTo>
                  <a:pt x="21600" y="0"/>
                </a:moveTo>
                <a:lnTo>
                  <a:pt x="21600" y="23416"/>
                </a:lnTo>
                <a:lnTo>
                  <a:pt x="20200" y="22016"/>
                </a:lnTo>
                <a:lnTo>
                  <a:pt x="20200" y="1400"/>
                </a:lnTo>
                <a:close/>
              </a:path>
              <a:path fill="darkenLess" w="21600" h="23416">
                <a:moveTo>
                  <a:pt x="21600" y="23416"/>
                </a:moveTo>
                <a:lnTo>
                  <a:pt x="0" y="23416"/>
                </a:lnTo>
                <a:lnTo>
                  <a:pt x="1400" y="22016"/>
                </a:lnTo>
                <a:lnTo>
                  <a:pt x="20200" y="22016"/>
                </a:lnTo>
                <a:close/>
              </a:path>
              <a:path fill="lighten" w="21600" h="23416">
                <a:moveTo>
                  <a:pt x="0" y="234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1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0" name="">
            <a:hlinkClick r:id="" action="ppaction://hlinkshowjump?jump=endshow"/>
          </p:cNvPr>
          <p:cNvSpPr/>
          <p:nvPr/>
        </p:nvSpPr>
        <p:spPr>
          <a:xfrm>
            <a:off x="8677440" y="6453360"/>
            <a:ext cx="390240" cy="393480"/>
          </a:xfrm>
          <a:custGeom>
            <a:avLst/>
            <a:gdLst>
              <a:gd name="textAreaLeft" fmla="*/ 25200 w 390240"/>
              <a:gd name="textAreaRight" fmla="*/ 365040 w 39024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21600" h="21779">
                <a:moveTo>
                  <a:pt x="0" y="0"/>
                </a:moveTo>
                <a:lnTo>
                  <a:pt x="21600" y="0"/>
                </a:lnTo>
                <a:lnTo>
                  <a:pt x="21600" y="21779"/>
                </a:lnTo>
                <a:lnTo>
                  <a:pt x="0" y="21779"/>
                </a:lnTo>
                <a:close/>
              </a:path>
              <a:path fill="lightenLess" w="21600" h="217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79">
                <a:moveTo>
                  <a:pt x="21600" y="0"/>
                </a:moveTo>
                <a:lnTo>
                  <a:pt x="21600" y="21779"/>
                </a:lnTo>
                <a:lnTo>
                  <a:pt x="20200" y="20379"/>
                </a:lnTo>
                <a:lnTo>
                  <a:pt x="20200" y="1400"/>
                </a:lnTo>
                <a:close/>
              </a:path>
              <a:path fill="darkenLess" w="21600" h="21779">
                <a:moveTo>
                  <a:pt x="21600" y="21779"/>
                </a:moveTo>
                <a:lnTo>
                  <a:pt x="0" y="21779"/>
                </a:lnTo>
                <a:lnTo>
                  <a:pt x="1400" y="20379"/>
                </a:lnTo>
                <a:lnTo>
                  <a:pt x="20200" y="20379"/>
                </a:lnTo>
                <a:close/>
              </a:path>
              <a:path fill="lighten" w="21600" h="21779">
                <a:moveTo>
                  <a:pt x="0" y="217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79"/>
                </a:lnTo>
                <a:close/>
              </a:path>
              <a:path fill="darken" w="21600" h="21779">
                <a:moveTo>
                  <a:pt x="14299" y="10890"/>
                </a:moveTo>
                <a:lnTo>
                  <a:pt x="3794" y="17896"/>
                </a:lnTo>
                <a:lnTo>
                  <a:pt x="3794" y="3883"/>
                </a:lnTo>
                <a:close/>
              </a:path>
              <a:path fill="darken" w="21600" h="21779">
                <a:moveTo>
                  <a:pt x="16144" y="3883"/>
                </a:moveTo>
                <a:lnTo>
                  <a:pt x="16144" y="17896"/>
                </a:lnTo>
                <a:lnTo>
                  <a:pt x="17806" y="17896"/>
                </a:lnTo>
                <a:lnTo>
                  <a:pt x="17806" y="388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644640" y="-3240"/>
            <a:ext cx="5499000" cy="7351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作业</a:t>
            </a:r>
            <a:endParaRPr b="1" lang="en-US" sz="1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762" name=""/>
          <p:cNvSpPr/>
          <p:nvPr/>
        </p:nvSpPr>
        <p:spPr>
          <a:xfrm>
            <a:off x="2881440" y="2906640"/>
            <a:ext cx="392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00"/>
                </a:solidFill>
                <a:latin typeface="方正舒体"/>
                <a:ea typeface="方正舒体"/>
              </a:rPr>
              <a:t>1</a:t>
            </a:r>
            <a:r>
              <a:rPr b="1" lang="zh-CN" sz="6600" spc="-1" strike="noStrike">
                <a:solidFill>
                  <a:srgbClr val="333300"/>
                </a:solidFill>
                <a:latin typeface="方正舒体"/>
                <a:ea typeface="方正舒体"/>
              </a:rPr>
              <a:t>、</a:t>
            </a:r>
            <a:r>
              <a:rPr b="1" lang="zh-CN" sz="6600" spc="-1" strike="noStrike">
                <a:solidFill>
                  <a:srgbClr val="333300"/>
                </a:solidFill>
                <a:latin typeface="方正舒体"/>
                <a:ea typeface="方正舒体"/>
              </a:rPr>
              <a:t>2 </a:t>
            </a:r>
            <a:r>
              <a:rPr b="1" lang="zh-CN" sz="6600" spc="-1" strike="noStrike">
                <a:solidFill>
                  <a:srgbClr val="333300"/>
                </a:solidFill>
                <a:latin typeface="方正舒体"/>
                <a:ea typeface="方正舒体"/>
              </a:rPr>
              <a:t>。</a:t>
            </a:r>
            <a:endParaRPr b="0" lang="en-US" sz="6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246480" y="770040"/>
            <a:ext cx="5933880" cy="666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474840" y="649440"/>
            <a:ext cx="2728800" cy="187200"/>
          </a:xfrm>
          <a:prstGeom prst="rect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00360" y="649440"/>
            <a:ext cx="944640" cy="18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ba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34920" y="100080"/>
            <a:ext cx="655560" cy="720360"/>
            <a:chOff x="34920" y="100080"/>
            <a:chExt cx="655560" cy="720360"/>
          </a:xfrm>
        </p:grpSpPr>
        <p:sp>
          <p:nvSpPr>
            <p:cNvPr id="767" name=""/>
            <p:cNvSpPr/>
            <p:nvPr/>
          </p:nvSpPr>
          <p:spPr>
            <a:xfrm>
              <a:off x="34920" y="364680"/>
              <a:ext cx="455760" cy="455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00" y="389520"/>
              <a:ext cx="407880" cy="406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920" y="412560"/>
              <a:ext cx="384840" cy="383040"/>
            </a:xfrm>
            <a:prstGeom prst="rect">
              <a:avLst/>
            </a:prstGeom>
            <a:solidFill>
              <a:srgbClr val="00ba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华文琥珀"/>
                  <a:ea typeface="华文琥珀"/>
                </a:rPr>
                <a:t>1</a:t>
              </a:r>
              <a:endParaRPr b="0" lang="en-US" sz="4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20" y="100080"/>
              <a:ext cx="20952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440" y="100080"/>
              <a:ext cx="20988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1760" y="100080"/>
              <a:ext cx="20844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9640" y="100080"/>
              <a:ext cx="20844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7160" y="100080"/>
              <a:ext cx="20988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5040" y="100080"/>
              <a:ext cx="20952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2560" y="100080"/>
              <a:ext cx="20988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1880" y="100080"/>
              <a:ext cx="20988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9760" y="100080"/>
              <a:ext cx="20952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7280" y="100080"/>
              <a:ext cx="208440" cy="240120"/>
            </a:xfrm>
            <a:custGeom>
              <a:avLst/>
              <a:gdLst/>
              <a:ahLst/>
              <a:rect l="l" t="t" r="r" b="b"/>
              <a:pathLst>
                <a:path w="817" h="1089">
                  <a:moveTo>
                    <a:pt x="0" y="1089"/>
                  </a:moveTo>
                  <a:lnTo>
                    <a:pt x="136" y="1089"/>
                  </a:lnTo>
                  <a:lnTo>
                    <a:pt x="817" y="0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5520" y="14904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5520" y="19692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5520" y="24480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5520" y="29268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5520" y="34020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5520" y="38952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5520" y="43740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5520" y="48348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5520" y="53100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5520" y="579240"/>
              <a:ext cx="174960" cy="240120"/>
            </a:xfrm>
            <a:custGeom>
              <a:avLst/>
              <a:gdLst/>
              <a:ahLst/>
              <a:rect l="l" t="t" r="r" b="b"/>
              <a:pathLst>
                <a:path w="726" h="998">
                  <a:moveTo>
                    <a:pt x="726" y="0"/>
                  </a:moveTo>
                  <a:lnTo>
                    <a:pt x="0" y="998"/>
                  </a:lnTo>
                  <a:lnTo>
                    <a:pt x="0" y="816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93dc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425520" y="10152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黑体"/>
                <a:ea typeface="黑体"/>
              </a:rPr>
              <a:t>你能证明它们吗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076720" y="44280"/>
            <a:ext cx="201456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华文行楷"/>
              </a:rPr>
              <a:t>作   业</a:t>
            </a:r>
            <a:endParaRPr b="1" lang="en-US" sz="6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266920" y="1592280"/>
            <a:ext cx="4392720" cy="1331640"/>
            <a:chOff x="2266920" y="1592280"/>
            <a:chExt cx="4392720" cy="1331640"/>
          </a:xfrm>
        </p:grpSpPr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2266920" y="1592280"/>
              <a:ext cx="18115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2700360" y="20206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Bart"/>
                  <a:ea typeface="MS UI Gothic"/>
                </a:rPr>
                <a:t>P 5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4098960" y="1807200"/>
              <a:ext cx="2560680" cy="762480"/>
              <a:chOff x="4098960" y="1807200"/>
              <a:chExt cx="2560680" cy="76248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4421520" y="2136240"/>
                <a:ext cx="2238120" cy="433440"/>
                <a:chOff x="4421520" y="2136240"/>
                <a:chExt cx="2238120" cy="4334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142320" y="2183760"/>
                  <a:ext cx="479520" cy="366840"/>
                </a:xfrm>
                <a:custGeom>
                  <a:avLst/>
                  <a:gdLst/>
                  <a:ahLst/>
                  <a:rect l="l" t="t" r="r" b="b"/>
                  <a:pathLst>
                    <a:path w="952" h="726">
                      <a:moveTo>
                        <a:pt x="408" y="0"/>
                      </a:moveTo>
                      <a:lnTo>
                        <a:pt x="952" y="0"/>
                      </a:lnTo>
                      <a:lnTo>
                        <a:pt x="589" y="726"/>
                      </a:lnTo>
                      <a:lnTo>
                        <a:pt x="0" y="726"/>
                      </a:lnTo>
                      <a:lnTo>
                        <a:pt x="408" y="0"/>
                      </a:lnTo>
                      <a:close/>
                    </a:path>
                  </a:pathLst>
                </a:custGeom>
                <a:solidFill>
                  <a:srgbClr val="9e0035">
                    <a:alpha val="7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457880" y="2263320"/>
                  <a:ext cx="1798560" cy="225360"/>
                </a:xfrm>
                <a:custGeom>
                  <a:avLst/>
                  <a:gdLst/>
                  <a:ahLst/>
                  <a:rect l="l" t="t" r="r" b="b"/>
                  <a:pathLst>
                    <a:path w="1088" h="136">
                      <a:moveTo>
                        <a:pt x="90" y="0"/>
                      </a:moveTo>
                      <a:lnTo>
                        <a:pt x="1088" y="0"/>
                      </a:lnTo>
                      <a:lnTo>
                        <a:pt x="997" y="136"/>
                      </a:lnTo>
                      <a:lnTo>
                        <a:pt x="0" y="136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c145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421520" y="2136240"/>
                  <a:ext cx="2238120" cy="433440"/>
                </a:xfrm>
                <a:custGeom>
                  <a:avLst/>
                  <a:gdLst/>
                  <a:ahLst/>
                  <a:rect l="l" t="t" r="r" b="b"/>
                  <a:pathLst>
                    <a:path w="4989" h="907">
                      <a:moveTo>
                        <a:pt x="4899" y="0"/>
                      </a:moveTo>
                      <a:lnTo>
                        <a:pt x="4490" y="817"/>
                      </a:lnTo>
                      <a:lnTo>
                        <a:pt x="0" y="817"/>
                      </a:lnTo>
                      <a:lnTo>
                        <a:pt x="0" y="907"/>
                      </a:lnTo>
                      <a:lnTo>
                        <a:pt x="4536" y="907"/>
                      </a:lnTo>
                      <a:lnTo>
                        <a:pt x="4989" y="0"/>
                      </a:lnTo>
                      <a:lnTo>
                        <a:pt x="489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710240" y="1807200"/>
                <a:ext cx="187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333300"/>
                    </a:solidFill>
                    <a:latin typeface="Times New Roman"/>
                    <a:ea typeface="黑体"/>
                  </a:rPr>
                  <a:t>习 题  </a:t>
                </a:r>
                <a:r>
                  <a:rPr b="1" i="1" lang="zh-CN" sz="2800" spc="-1" strike="noStrike">
                    <a:solidFill>
                      <a:srgbClr val="333300"/>
                    </a:solidFill>
                    <a:latin typeface="Times New Roman"/>
                    <a:ea typeface="黑体"/>
                  </a:rPr>
                  <a:t>1.1</a:t>
                </a:r>
                <a:endParaRPr b="0" lang="en-US" sz="2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801" name=""/>
              <p:cNvGrpSpPr/>
              <p:nvPr/>
            </p:nvGrpSpPr>
            <p:grpSpPr>
              <a:xfrm>
                <a:off x="4098960" y="1830240"/>
                <a:ext cx="671760" cy="738000"/>
                <a:chOff x="4098960" y="1830240"/>
                <a:chExt cx="671760" cy="738000"/>
              </a:xfrm>
            </p:grpSpPr>
            <p:grpSp>
              <p:nvGrpSpPr>
                <p:cNvPr id="802" name=""/>
                <p:cNvGrpSpPr/>
                <p:nvPr/>
              </p:nvGrpSpPr>
              <p:grpSpPr>
                <a:xfrm>
                  <a:off x="4098960" y="1848960"/>
                  <a:ext cx="670680" cy="719280"/>
                  <a:chOff x="4098960" y="1848960"/>
                  <a:chExt cx="670680" cy="719280"/>
                </a:xfrm>
              </p:grpSpPr>
              <p:sp>
                <p:nvSpPr>
                  <p:cNvPr id="803" name=""/>
                  <p:cNvSpPr/>
                  <p:nvPr/>
                </p:nvSpPr>
                <p:spPr>
                  <a:xfrm>
                    <a:off x="4098960" y="1848960"/>
                    <a:ext cx="670680" cy="719280"/>
                  </a:xfrm>
                  <a:custGeom>
                    <a:avLst/>
                    <a:gdLst/>
                    <a:ahLst/>
                    <a:rect l="l" t="t" r="r" b="b"/>
                    <a:pathLst>
                      <a:path w="908" h="998">
                        <a:moveTo>
                          <a:pt x="454" y="998"/>
                        </a:moveTo>
                        <a:lnTo>
                          <a:pt x="0" y="499"/>
                        </a:lnTo>
                        <a:lnTo>
                          <a:pt x="454" y="0"/>
                        </a:lnTo>
                        <a:lnTo>
                          <a:pt x="908" y="499"/>
                        </a:lnTo>
                        <a:lnTo>
                          <a:pt x="454" y="998"/>
                        </a:lnTo>
                        <a:close/>
                      </a:path>
                    </a:pathLst>
                  </a:custGeom>
                  <a:solidFill>
                    <a:srgbClr val="333300"/>
                  </a:solidFill>
                  <a:ln w="9360">
                    <a:solidFill>
                      <a:srgbClr val="33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4148280" y="1888560"/>
                    <a:ext cx="581400" cy="639720"/>
                    <a:chOff x="4148280" y="1888560"/>
                    <a:chExt cx="581400" cy="6397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4148280" y="1888560"/>
                      <a:ext cx="581400" cy="63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8" h="998">
                          <a:moveTo>
                            <a:pt x="454" y="998"/>
                          </a:moveTo>
                          <a:lnTo>
                            <a:pt x="0" y="499"/>
                          </a:lnTo>
                          <a:lnTo>
                            <a:pt x="454" y="0"/>
                          </a:lnTo>
                          <a:lnTo>
                            <a:pt x="908" y="499"/>
                          </a:lnTo>
                          <a:lnTo>
                            <a:pt x="454" y="998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33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06" name=""/>
                    <p:cNvGrpSpPr/>
                    <p:nvPr/>
                  </p:nvGrpSpPr>
                  <p:grpSpPr>
                    <a:xfrm>
                      <a:off x="4188240" y="1928520"/>
                      <a:ext cx="509040" cy="559800"/>
                      <a:chOff x="4188240" y="1928520"/>
                      <a:chExt cx="509040" cy="559800"/>
                    </a:xfrm>
                  </p:grpSpPr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4188240" y="1928520"/>
                        <a:ext cx="509040" cy="55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8" h="998">
                            <a:moveTo>
                              <a:pt x="454" y="998"/>
                            </a:moveTo>
                            <a:lnTo>
                              <a:pt x="0" y="499"/>
                            </a:lnTo>
                            <a:lnTo>
                              <a:pt x="454" y="0"/>
                            </a:lnTo>
                            <a:lnTo>
                              <a:pt x="908" y="499"/>
                            </a:lnTo>
                            <a:lnTo>
                              <a:pt x="454" y="998"/>
                            </a:lnTo>
                            <a:close/>
                          </a:path>
                        </a:pathLst>
                      </a:custGeom>
                      <a:solidFill>
                        <a:srgbClr val="333300"/>
                      </a:soli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4248000" y="1988280"/>
                        <a:ext cx="399960" cy="439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8" h="998">
                            <a:moveTo>
                              <a:pt x="454" y="998"/>
                            </a:moveTo>
                            <a:lnTo>
                              <a:pt x="0" y="499"/>
                            </a:lnTo>
                            <a:lnTo>
                              <a:pt x="454" y="0"/>
                            </a:lnTo>
                            <a:lnTo>
                              <a:pt x="908" y="499"/>
                            </a:lnTo>
                            <a:lnTo>
                              <a:pt x="454" y="998"/>
                            </a:lnTo>
                            <a:close/>
                          </a:path>
                        </a:pathLst>
                      </a:custGeom>
                      <a:solidFill>
                        <a:srgbClr val="d9f1ff"/>
                      </a:solidFill>
                      <a:ln w="93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4405680" y="1830240"/>
                  <a:ext cx="298080" cy="401040"/>
                  <a:chOff x="4405680" y="1830240"/>
                  <a:chExt cx="298080" cy="40104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rot="6779400">
                    <a:off x="4384080" y="1948680"/>
                    <a:ext cx="3430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794" h="414">
                        <a:moveTo>
                          <a:pt x="794" y="395"/>
                        </a:moveTo>
                        <a:lnTo>
                          <a:pt x="710" y="318"/>
                        </a:lnTo>
                        <a:lnTo>
                          <a:pt x="556" y="210"/>
                        </a:lnTo>
                        <a:lnTo>
                          <a:pt x="71" y="0"/>
                        </a:lnTo>
                        <a:lnTo>
                          <a:pt x="23" y="20"/>
                        </a:lnTo>
                        <a:lnTo>
                          <a:pt x="0" y="83"/>
                        </a:lnTo>
                        <a:lnTo>
                          <a:pt x="28" y="155"/>
                        </a:lnTo>
                        <a:lnTo>
                          <a:pt x="570" y="409"/>
                        </a:lnTo>
                        <a:lnTo>
                          <a:pt x="689" y="393"/>
                        </a:lnTo>
                        <a:lnTo>
                          <a:pt x="785" y="414"/>
                        </a:lnTo>
                        <a:lnTo>
                          <a:pt x="794" y="395"/>
                        </a:lnTo>
                        <a:lnTo>
                          <a:pt x="794" y="395"/>
                        </a:lnTo>
                        <a:close/>
                      </a:path>
                    </a:pathLst>
                  </a:cu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6779400">
                    <a:off x="4374720" y="1942920"/>
                    <a:ext cx="34200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6" h="821">
                        <a:moveTo>
                          <a:pt x="137" y="0"/>
                        </a:moveTo>
                        <a:lnTo>
                          <a:pt x="1331" y="519"/>
                        </a:lnTo>
                        <a:lnTo>
                          <a:pt x="1428" y="638"/>
                        </a:lnTo>
                        <a:lnTo>
                          <a:pt x="1586" y="792"/>
                        </a:lnTo>
                        <a:lnTo>
                          <a:pt x="1565" y="821"/>
                        </a:lnTo>
                        <a:lnTo>
                          <a:pt x="1350" y="787"/>
                        </a:lnTo>
                        <a:lnTo>
                          <a:pt x="1145" y="811"/>
                        </a:lnTo>
                        <a:lnTo>
                          <a:pt x="42" y="298"/>
                        </a:lnTo>
                        <a:lnTo>
                          <a:pt x="0" y="150"/>
                        </a:lnTo>
                        <a:lnTo>
                          <a:pt x="46" y="32"/>
                        </a:lnTo>
                        <a:lnTo>
                          <a:pt x="137" y="0"/>
                        </a:lnTo>
                        <a:lnTo>
                          <a:pt x="137" y="0"/>
                        </a:ln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rot="6779400">
                    <a:off x="4430520" y="1937520"/>
                    <a:ext cx="2268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9" h="747">
                        <a:moveTo>
                          <a:pt x="0" y="325"/>
                        </a:moveTo>
                        <a:lnTo>
                          <a:pt x="922" y="747"/>
                        </a:lnTo>
                        <a:lnTo>
                          <a:pt x="939" y="534"/>
                        </a:lnTo>
                        <a:lnTo>
                          <a:pt x="1049" y="422"/>
                        </a:lnTo>
                        <a:lnTo>
                          <a:pt x="78" y="0"/>
                        </a:lnTo>
                        <a:lnTo>
                          <a:pt x="0" y="127"/>
                        </a:lnTo>
                        <a:lnTo>
                          <a:pt x="0" y="325"/>
                        </a:lnTo>
                        <a:lnTo>
                          <a:pt x="0" y="32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4405680" y="1830240"/>
                    <a:ext cx="298080" cy="401040"/>
                    <a:chOff x="4405680" y="1830240"/>
                    <a:chExt cx="298080" cy="40104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6779400">
                      <a:off x="4440240" y="2103480"/>
                      <a:ext cx="320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173">
                          <a:moveTo>
                            <a:pt x="110" y="0"/>
                          </a:moveTo>
                          <a:lnTo>
                            <a:pt x="40" y="66"/>
                          </a:lnTo>
                          <a:lnTo>
                            <a:pt x="0" y="173"/>
                          </a:lnTo>
                          <a:lnTo>
                            <a:pt x="80" y="160"/>
                          </a:lnTo>
                          <a:lnTo>
                            <a:pt x="103" y="84"/>
                          </a:lnTo>
                          <a:lnTo>
                            <a:pt x="150" y="27"/>
                          </a:lnTo>
                          <a:lnTo>
                            <a:pt x="110" y="0"/>
                          </a:lnTo>
                          <a:lnTo>
                            <a:pt x="110" y="0"/>
                          </a:lnTo>
                          <a:close/>
                        </a:path>
                      </a:pathLst>
                    </a:cu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6779400">
                      <a:off x="4372560" y="1945800"/>
                      <a:ext cx="36360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4" h="880">
                          <a:moveTo>
                            <a:pt x="156" y="0"/>
                          </a:moveTo>
                          <a:lnTo>
                            <a:pt x="63" y="52"/>
                          </a:lnTo>
                          <a:lnTo>
                            <a:pt x="0" y="208"/>
                          </a:lnTo>
                          <a:lnTo>
                            <a:pt x="67" y="358"/>
                          </a:lnTo>
                          <a:lnTo>
                            <a:pt x="1182" y="867"/>
                          </a:lnTo>
                          <a:lnTo>
                            <a:pt x="1422" y="835"/>
                          </a:lnTo>
                          <a:lnTo>
                            <a:pt x="1616" y="880"/>
                          </a:lnTo>
                          <a:lnTo>
                            <a:pt x="1684" y="808"/>
                          </a:lnTo>
                          <a:lnTo>
                            <a:pt x="1502" y="664"/>
                          </a:lnTo>
                          <a:lnTo>
                            <a:pt x="1428" y="512"/>
                          </a:lnTo>
                          <a:lnTo>
                            <a:pt x="1369" y="527"/>
                          </a:lnTo>
                          <a:lnTo>
                            <a:pt x="1439" y="664"/>
                          </a:lnTo>
                          <a:lnTo>
                            <a:pt x="1578" y="810"/>
                          </a:lnTo>
                          <a:lnTo>
                            <a:pt x="1413" y="787"/>
                          </a:lnTo>
                          <a:lnTo>
                            <a:pt x="1219" y="814"/>
                          </a:lnTo>
                          <a:lnTo>
                            <a:pt x="1255" y="650"/>
                          </a:lnTo>
                          <a:lnTo>
                            <a:pt x="1338" y="538"/>
                          </a:lnTo>
                          <a:lnTo>
                            <a:pt x="1241" y="552"/>
                          </a:lnTo>
                          <a:lnTo>
                            <a:pt x="1165" y="658"/>
                          </a:lnTo>
                          <a:lnTo>
                            <a:pt x="1139" y="791"/>
                          </a:lnTo>
                          <a:lnTo>
                            <a:pt x="107" y="310"/>
                          </a:lnTo>
                          <a:lnTo>
                            <a:pt x="80" y="215"/>
                          </a:lnTo>
                          <a:lnTo>
                            <a:pt x="103" y="95"/>
                          </a:lnTo>
                          <a:lnTo>
                            <a:pt x="217" y="0"/>
                          </a:lnTo>
                          <a:lnTo>
                            <a:pt x="156" y="0"/>
                          </a:lnTo>
                          <a:lnTo>
                            <a:pt x="156" y="0"/>
                          </a:lnTo>
                          <a:close/>
                        </a:path>
                      </a:pathLst>
                    </a:cu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6779400">
                      <a:off x="4467600" y="1975680"/>
                      <a:ext cx="25740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0" h="500">
                          <a:moveTo>
                            <a:pt x="100" y="0"/>
                          </a:moveTo>
                          <a:lnTo>
                            <a:pt x="1190" y="490"/>
                          </a:lnTo>
                          <a:lnTo>
                            <a:pt x="1076" y="500"/>
                          </a:lnTo>
                          <a:lnTo>
                            <a:pt x="0" y="27"/>
                          </a:lnTo>
                          <a:lnTo>
                            <a:pt x="100" y="0"/>
                          </a:lnTo>
                          <a:lnTo>
                            <a:pt x="100" y="0"/>
                          </a:lnTo>
                          <a:close/>
                        </a:path>
                      </a:pathLst>
                    </a:cu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rot="6779400">
                      <a:off x="4618080" y="1900800"/>
                      <a:ext cx="3420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335">
                          <a:moveTo>
                            <a:pt x="116" y="0"/>
                          </a:moveTo>
                          <a:lnTo>
                            <a:pt x="19" y="106"/>
                          </a:lnTo>
                          <a:lnTo>
                            <a:pt x="0" y="230"/>
                          </a:lnTo>
                          <a:lnTo>
                            <a:pt x="33" y="314"/>
                          </a:lnTo>
                          <a:lnTo>
                            <a:pt x="94" y="335"/>
                          </a:lnTo>
                          <a:lnTo>
                            <a:pt x="76" y="154"/>
                          </a:lnTo>
                          <a:lnTo>
                            <a:pt x="160" y="17"/>
                          </a:lnTo>
                          <a:lnTo>
                            <a:pt x="116" y="0"/>
                          </a:lnTo>
                          <a:lnTo>
                            <a:pt x="116" y="0"/>
                          </a:lnTo>
                          <a:close/>
                        </a:path>
                      </a:pathLst>
                    </a:cu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6779400">
                      <a:off x="4505760" y="1982880"/>
                      <a:ext cx="1051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296">
                          <a:moveTo>
                            <a:pt x="14" y="34"/>
                          </a:moveTo>
                          <a:lnTo>
                            <a:pt x="160" y="66"/>
                          </a:lnTo>
                          <a:lnTo>
                            <a:pt x="324" y="137"/>
                          </a:lnTo>
                          <a:lnTo>
                            <a:pt x="440" y="243"/>
                          </a:lnTo>
                          <a:lnTo>
                            <a:pt x="326" y="230"/>
                          </a:lnTo>
                          <a:lnTo>
                            <a:pt x="139" y="146"/>
                          </a:lnTo>
                          <a:lnTo>
                            <a:pt x="50" y="80"/>
                          </a:lnTo>
                          <a:lnTo>
                            <a:pt x="107" y="163"/>
                          </a:lnTo>
                          <a:lnTo>
                            <a:pt x="272" y="270"/>
                          </a:lnTo>
                          <a:lnTo>
                            <a:pt x="466" y="296"/>
                          </a:lnTo>
                          <a:lnTo>
                            <a:pt x="489" y="224"/>
                          </a:lnTo>
                          <a:lnTo>
                            <a:pt x="394" y="120"/>
                          </a:lnTo>
                          <a:lnTo>
                            <a:pt x="170" y="17"/>
                          </a:lnTo>
                          <a:lnTo>
                            <a:pt x="0" y="0"/>
                          </a:lnTo>
                          <a:lnTo>
                            <a:pt x="14" y="34"/>
                          </a:lnTo>
                          <a:lnTo>
                            <a:pt x="14" y="34"/>
                          </a:lnTo>
                          <a:close/>
                        </a:path>
                      </a:pathLst>
                    </a:cu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4418280" y="1945800"/>
                  <a:ext cx="352440" cy="480960"/>
                  <a:chOff x="4418280" y="1945800"/>
                  <a:chExt cx="352440" cy="48096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1060800">
                    <a:off x="4502160" y="2015640"/>
                    <a:ext cx="20088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1" h="2777">
                        <a:moveTo>
                          <a:pt x="0" y="2485"/>
                        </a:moveTo>
                        <a:lnTo>
                          <a:pt x="432" y="2553"/>
                        </a:lnTo>
                        <a:lnTo>
                          <a:pt x="736" y="2777"/>
                        </a:lnTo>
                        <a:lnTo>
                          <a:pt x="2561" y="399"/>
                        </a:lnTo>
                        <a:lnTo>
                          <a:pt x="2118" y="82"/>
                        </a:lnTo>
                        <a:lnTo>
                          <a:pt x="1898" y="0"/>
                        </a:lnTo>
                        <a:lnTo>
                          <a:pt x="0" y="2485"/>
                        </a:lnTo>
                        <a:lnTo>
                          <a:pt x="0" y="24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4418280" y="1945800"/>
                    <a:ext cx="352440" cy="480960"/>
                    <a:chOff x="4418280" y="1945800"/>
                    <a:chExt cx="352440" cy="4809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1060800">
                      <a:off x="4480920" y="1971000"/>
                      <a:ext cx="227880" cy="40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3" h="3686">
                          <a:moveTo>
                            <a:pt x="2903" y="433"/>
                          </a:moveTo>
                          <a:lnTo>
                            <a:pt x="2565" y="80"/>
                          </a:lnTo>
                          <a:lnTo>
                            <a:pt x="2241" y="0"/>
                          </a:lnTo>
                          <a:lnTo>
                            <a:pt x="110" y="2811"/>
                          </a:lnTo>
                          <a:lnTo>
                            <a:pt x="110" y="3228"/>
                          </a:lnTo>
                          <a:lnTo>
                            <a:pt x="0" y="3631"/>
                          </a:lnTo>
                          <a:lnTo>
                            <a:pt x="72" y="3686"/>
                          </a:lnTo>
                          <a:lnTo>
                            <a:pt x="441" y="3355"/>
                          </a:lnTo>
                          <a:lnTo>
                            <a:pt x="740" y="3228"/>
                          </a:lnTo>
                          <a:lnTo>
                            <a:pt x="2903" y="433"/>
                          </a:lnTo>
                          <a:lnTo>
                            <a:pt x="2903" y="43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66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1060800">
                      <a:off x="4477680" y="1989720"/>
                      <a:ext cx="228240" cy="41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11" h="3703">
                          <a:moveTo>
                            <a:pt x="2293" y="0"/>
                          </a:moveTo>
                          <a:lnTo>
                            <a:pt x="130" y="2835"/>
                          </a:lnTo>
                          <a:lnTo>
                            <a:pt x="131" y="3201"/>
                          </a:lnTo>
                          <a:lnTo>
                            <a:pt x="0" y="3633"/>
                          </a:lnTo>
                          <a:lnTo>
                            <a:pt x="50" y="3703"/>
                          </a:lnTo>
                          <a:lnTo>
                            <a:pt x="422" y="3352"/>
                          </a:lnTo>
                          <a:lnTo>
                            <a:pt x="763" y="3220"/>
                          </a:lnTo>
                          <a:lnTo>
                            <a:pt x="2911" y="428"/>
                          </a:lnTo>
                          <a:lnTo>
                            <a:pt x="2589" y="96"/>
                          </a:lnTo>
                          <a:lnTo>
                            <a:pt x="2293" y="0"/>
                          </a:lnTo>
                          <a:lnTo>
                            <a:pt x="2293" y="0"/>
                          </a:lnTo>
                          <a:close/>
                        </a:path>
                      </a:pathLst>
                    </a:custGeom>
                    <a:solidFill>
                      <a:srgbClr val="996600"/>
                    </a:solidFill>
                    <a:ln w="9360">
                      <a:solidFill>
                        <a:srgbClr val="0066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4418280" y="1945800"/>
                      <a:ext cx="352440" cy="470880"/>
                      <a:chOff x="4418280" y="1945800"/>
                      <a:chExt cx="352440" cy="470880"/>
                    </a:xfrm>
                  </p:grpSpPr>
                  <p:grpSp>
                    <p:nvGrpSpPr>
                      <p:cNvPr id="825" name=""/>
                      <p:cNvGrpSpPr/>
                      <p:nvPr/>
                    </p:nvGrpSpPr>
                    <p:grpSpPr>
                      <a:xfrm>
                        <a:off x="4418280" y="1945800"/>
                        <a:ext cx="352440" cy="470880"/>
                        <a:chOff x="4418280" y="1945800"/>
                        <a:chExt cx="352440" cy="470880"/>
                      </a:xfrm>
                    </p:grpSpPr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rot="1060800">
                          <a:off x="4433760" y="2248560"/>
                          <a:ext cx="19080" cy="89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5" h="806">
                              <a:moveTo>
                                <a:pt x="123" y="9"/>
                              </a:moveTo>
                              <a:lnTo>
                                <a:pt x="131" y="342"/>
                              </a:lnTo>
                              <a:lnTo>
                                <a:pt x="0" y="806"/>
                              </a:lnTo>
                              <a:lnTo>
                                <a:pt x="79" y="789"/>
                              </a:lnTo>
                              <a:lnTo>
                                <a:pt x="218" y="376"/>
                              </a:lnTo>
                              <a:lnTo>
                                <a:pt x="245" y="0"/>
                              </a:lnTo>
                              <a:lnTo>
                                <a:pt x="123" y="9"/>
                              </a:lnTo>
                              <a:lnTo>
                                <a:pt x="123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66"/>
                        </a:solidFill>
                        <a:ln w="9360">
                          <a:solidFill>
                            <a:srgbClr val="0066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840" bIns="42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4418280" y="1945800"/>
                          <a:ext cx="352440" cy="470880"/>
                          <a:chOff x="4418280" y="1945800"/>
                          <a:chExt cx="352440" cy="470880"/>
                        </a:xfrm>
                      </p:grpSpPr>
                      <p:sp>
                        <p:nvSpPr>
                          <p:cNvPr id="828" name=""/>
                          <p:cNvSpPr/>
                          <p:nvPr/>
                        </p:nvSpPr>
                        <p:spPr>
                          <a:xfrm rot="1060800">
                            <a:off x="4698000" y="2037240"/>
                            <a:ext cx="47520" cy="3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4" h="349">
                                <a:moveTo>
                                  <a:pt x="0" y="0"/>
                                </a:moveTo>
                                <a:lnTo>
                                  <a:pt x="298" y="184"/>
                                </a:lnTo>
                                <a:lnTo>
                                  <a:pt x="500" y="349"/>
                                </a:lnTo>
                                <a:lnTo>
                                  <a:pt x="604" y="140"/>
                                </a:lnTo>
                                <a:lnTo>
                                  <a:pt x="359" y="9"/>
                                </a:lnTo>
                                <a:lnTo>
                                  <a:pt x="464" y="184"/>
                                </a:lnTo>
                                <a:lnTo>
                                  <a:pt x="131" y="17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966"/>
                          </a:solidFill>
                          <a:ln w="9360">
                            <a:solidFill>
                              <a:srgbClr val="00666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920" bIns="-7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9" name=""/>
                          <p:cNvSpPr/>
                          <p:nvPr/>
                        </p:nvSpPr>
                        <p:spPr>
                          <a:xfrm rot="1060800">
                            <a:off x="4572360" y="2072880"/>
                            <a:ext cx="8388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64" h="1230">
                                <a:moveTo>
                                  <a:pt x="741" y="129"/>
                                </a:moveTo>
                                <a:lnTo>
                                  <a:pt x="485" y="352"/>
                                </a:lnTo>
                                <a:lnTo>
                                  <a:pt x="163" y="762"/>
                                </a:lnTo>
                                <a:lnTo>
                                  <a:pt x="0" y="1101"/>
                                </a:lnTo>
                                <a:lnTo>
                                  <a:pt x="59" y="1230"/>
                                </a:lnTo>
                                <a:lnTo>
                                  <a:pt x="262" y="1201"/>
                                </a:lnTo>
                                <a:lnTo>
                                  <a:pt x="578" y="914"/>
                                </a:lnTo>
                                <a:lnTo>
                                  <a:pt x="876" y="534"/>
                                </a:lnTo>
                                <a:lnTo>
                                  <a:pt x="1034" y="270"/>
                                </a:lnTo>
                                <a:lnTo>
                                  <a:pt x="1064" y="84"/>
                                </a:lnTo>
                                <a:lnTo>
                                  <a:pt x="977" y="0"/>
                                </a:lnTo>
                                <a:lnTo>
                                  <a:pt x="836" y="65"/>
                                </a:lnTo>
                                <a:lnTo>
                                  <a:pt x="969" y="107"/>
                                </a:lnTo>
                                <a:lnTo>
                                  <a:pt x="876" y="352"/>
                                </a:lnTo>
                                <a:lnTo>
                                  <a:pt x="690" y="656"/>
                                </a:lnTo>
                                <a:lnTo>
                                  <a:pt x="350" y="1008"/>
                                </a:lnTo>
                                <a:lnTo>
                                  <a:pt x="116" y="1114"/>
                                </a:lnTo>
                                <a:lnTo>
                                  <a:pt x="135" y="943"/>
                                </a:lnTo>
                                <a:lnTo>
                                  <a:pt x="437" y="504"/>
                                </a:lnTo>
                                <a:lnTo>
                                  <a:pt x="831" y="118"/>
                                </a:lnTo>
                                <a:lnTo>
                                  <a:pt x="741" y="129"/>
                                </a:lnTo>
                                <a:lnTo>
                                  <a:pt x="741" y="12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966"/>
                          </a:solidFill>
                          <a:ln w="9360">
                            <a:solidFill>
                              <a:srgbClr val="00666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0" name=""/>
                          <p:cNvSpPr/>
                          <p:nvPr/>
                        </p:nvSpPr>
                        <p:spPr>
                          <a:xfrm rot="1060800">
                            <a:off x="4505040" y="1988280"/>
                            <a:ext cx="157320" cy="28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002" h="2521">
                                <a:moveTo>
                                  <a:pt x="1941" y="0"/>
                                </a:moveTo>
                                <a:lnTo>
                                  <a:pt x="0" y="2521"/>
                                </a:lnTo>
                                <a:lnTo>
                                  <a:pt x="192" y="2450"/>
                                </a:lnTo>
                                <a:lnTo>
                                  <a:pt x="2002" y="61"/>
                                </a:lnTo>
                                <a:lnTo>
                                  <a:pt x="1941" y="0"/>
                                </a:lnTo>
                                <a:lnTo>
                                  <a:pt x="19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966"/>
                          </a:solidFill>
                          <a:ln w="9360">
                            <a:solidFill>
                              <a:srgbClr val="00666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 rot="1060800">
                            <a:off x="4476240" y="1971720"/>
                            <a:ext cx="236160" cy="419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07" h="3771">
                                <a:moveTo>
                                  <a:pt x="95" y="2844"/>
                                </a:moveTo>
                                <a:lnTo>
                                  <a:pt x="394" y="2834"/>
                                </a:lnTo>
                                <a:lnTo>
                                  <a:pt x="821" y="3009"/>
                                </a:lnTo>
                                <a:lnTo>
                                  <a:pt x="681" y="2817"/>
                                </a:lnTo>
                                <a:lnTo>
                                  <a:pt x="367" y="2703"/>
                                </a:lnTo>
                                <a:lnTo>
                                  <a:pt x="637" y="2720"/>
                                </a:lnTo>
                                <a:lnTo>
                                  <a:pt x="979" y="2870"/>
                                </a:lnTo>
                                <a:lnTo>
                                  <a:pt x="2859" y="420"/>
                                </a:lnTo>
                                <a:lnTo>
                                  <a:pt x="2578" y="148"/>
                                </a:lnTo>
                                <a:lnTo>
                                  <a:pt x="2308" y="0"/>
                                </a:lnTo>
                                <a:lnTo>
                                  <a:pt x="2692" y="78"/>
                                </a:lnTo>
                                <a:lnTo>
                                  <a:pt x="3007" y="428"/>
                                </a:lnTo>
                                <a:lnTo>
                                  <a:pt x="831" y="3273"/>
                                </a:lnTo>
                                <a:lnTo>
                                  <a:pt x="481" y="3412"/>
                                </a:lnTo>
                                <a:lnTo>
                                  <a:pt x="105" y="3771"/>
                                </a:lnTo>
                                <a:lnTo>
                                  <a:pt x="0" y="3667"/>
                                </a:lnTo>
                                <a:lnTo>
                                  <a:pt x="131" y="3631"/>
                                </a:lnTo>
                                <a:lnTo>
                                  <a:pt x="376" y="3385"/>
                                </a:lnTo>
                                <a:lnTo>
                                  <a:pt x="165" y="3273"/>
                                </a:lnTo>
                                <a:lnTo>
                                  <a:pt x="165" y="3176"/>
                                </a:lnTo>
                                <a:lnTo>
                                  <a:pt x="411" y="3298"/>
                                </a:lnTo>
                                <a:lnTo>
                                  <a:pt x="411" y="3186"/>
                                </a:lnTo>
                                <a:lnTo>
                                  <a:pt x="603" y="3220"/>
                                </a:lnTo>
                                <a:lnTo>
                                  <a:pt x="428" y="3079"/>
                                </a:lnTo>
                                <a:lnTo>
                                  <a:pt x="629" y="3062"/>
                                </a:lnTo>
                                <a:lnTo>
                                  <a:pt x="95" y="2844"/>
                                </a:lnTo>
                                <a:lnTo>
                                  <a:pt x="95" y="28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966"/>
                          </a:solidFill>
                          <a:ln w="9360">
                            <a:solidFill>
                              <a:srgbClr val="00666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2" name=""/>
                          <p:cNvSpPr/>
                          <p:nvPr/>
                        </p:nvSpPr>
                        <p:spPr>
                          <a:xfrm rot="1060800">
                            <a:off x="4488480" y="2223000"/>
                            <a:ext cx="52560" cy="37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3" h="342">
                                <a:moveTo>
                                  <a:pt x="0" y="80"/>
                                </a:moveTo>
                                <a:lnTo>
                                  <a:pt x="255" y="106"/>
                                </a:lnTo>
                                <a:lnTo>
                                  <a:pt x="639" y="342"/>
                                </a:lnTo>
                                <a:lnTo>
                                  <a:pt x="673" y="289"/>
                                </a:lnTo>
                                <a:lnTo>
                                  <a:pt x="447" y="114"/>
                                </a:lnTo>
                                <a:lnTo>
                                  <a:pt x="26" y="0"/>
                                </a:lnTo>
                                <a:lnTo>
                                  <a:pt x="0" y="80"/>
                                </a:lnTo>
                                <a:lnTo>
                                  <a:pt x="0" y="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966"/>
                          </a:solidFill>
                          <a:ln w="9360">
                            <a:solidFill>
                              <a:srgbClr val="00666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000" bIns="-9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 rot="1060800">
                            <a:off x="4506840" y="2199600"/>
                            <a:ext cx="561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6" h="403">
                                <a:moveTo>
                                  <a:pt x="0" y="78"/>
                                </a:moveTo>
                                <a:lnTo>
                                  <a:pt x="340" y="148"/>
                                </a:lnTo>
                                <a:lnTo>
                                  <a:pt x="638" y="403"/>
                                </a:lnTo>
                                <a:lnTo>
                                  <a:pt x="716" y="296"/>
                                </a:lnTo>
                                <a:lnTo>
                                  <a:pt x="420" y="114"/>
                                </a:lnTo>
                                <a:lnTo>
                                  <a:pt x="70" y="0"/>
                                </a:lnTo>
                                <a:lnTo>
                                  <a:pt x="0" y="78"/>
                                </a:lnTo>
                                <a:lnTo>
                                  <a:pt x="0" y="7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966"/>
                          </a:solidFill>
                          <a:ln w="9360">
                            <a:solidFill>
                              <a:srgbClr val="00666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4" name=""/>
                          <p:cNvSpPr/>
                          <p:nvPr/>
                        </p:nvSpPr>
                        <p:spPr>
                          <a:xfrm rot="1060800">
                            <a:off x="4653720" y="2058840"/>
                            <a:ext cx="5616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7" h="411">
                                <a:moveTo>
                                  <a:pt x="0" y="78"/>
                                </a:moveTo>
                                <a:lnTo>
                                  <a:pt x="316" y="139"/>
                                </a:lnTo>
                                <a:lnTo>
                                  <a:pt x="649" y="411"/>
                                </a:lnTo>
                                <a:lnTo>
                                  <a:pt x="717" y="314"/>
                                </a:lnTo>
                                <a:lnTo>
                                  <a:pt x="394" y="87"/>
                                </a:lnTo>
                                <a:lnTo>
                                  <a:pt x="54" y="0"/>
                                </a:lnTo>
                                <a:lnTo>
                                  <a:pt x="0" y="78"/>
                                </a:lnTo>
                                <a:lnTo>
                                  <a:pt x="0" y="7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966"/>
                          </a:solidFill>
                          <a:ln w="9360">
                            <a:solidFill>
                              <a:srgbClr val="00666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5" name=""/>
                          <p:cNvSpPr/>
                          <p:nvPr/>
                        </p:nvSpPr>
                        <p:spPr>
                          <a:xfrm rot="1060800">
                            <a:off x="4671360" y="2041920"/>
                            <a:ext cx="5544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9" h="386">
                                <a:moveTo>
                                  <a:pt x="0" y="88"/>
                                </a:moveTo>
                                <a:lnTo>
                                  <a:pt x="272" y="131"/>
                                </a:lnTo>
                                <a:lnTo>
                                  <a:pt x="665" y="386"/>
                                </a:lnTo>
                                <a:lnTo>
                                  <a:pt x="709" y="308"/>
                                </a:lnTo>
                                <a:lnTo>
                                  <a:pt x="306" y="53"/>
                                </a:lnTo>
                                <a:lnTo>
                                  <a:pt x="43" y="0"/>
                                </a:lnTo>
                                <a:lnTo>
                                  <a:pt x="0" y="88"/>
                                </a:lnTo>
                                <a:lnTo>
                                  <a:pt x="0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966"/>
                          </a:solidFill>
                          <a:ln w="9360">
                            <a:solidFill>
                              <a:srgbClr val="00666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3333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36" name=""/>
                      <p:cNvSpPr/>
                      <p:nvPr/>
                    </p:nvSpPr>
                    <p:spPr>
                      <a:xfrm flipH="1">
                        <a:off x="4695120" y="2001240"/>
                        <a:ext cx="23760" cy="21960"/>
                      </a:xfrm>
                      <a:prstGeom prst="line">
                        <a:avLst/>
                      </a:prstGeom>
                      <a:ln w="38160">
                        <a:solidFill>
                          <a:srgbClr val="0066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B337-A4DA-45D1-A44E-30817B7A646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87953-A02A-42BE-A86C-608B00EA87A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80" y="17280"/>
            <a:ext cx="9107280" cy="765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Book Antiqua"/>
              </a:rPr>
              <a:t>本节课学些什么？</a:t>
            </a:r>
            <a:endParaRPr b="1" lang="en-US" sz="4800" spc="-1" strike="noStrike">
              <a:solidFill>
                <a:srgbClr val="ffff99"/>
              </a:solidFill>
              <a:latin typeface="Book Antiqua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4000" y="4106880"/>
            <a:ext cx="3012840" cy="764280"/>
            <a:chOff x="324000" y="4106880"/>
            <a:chExt cx="3012840" cy="76428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324000" y="4227480"/>
              <a:ext cx="71568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900000" y="4106880"/>
              <a:ext cx="2436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华文行楷"/>
                </a:rPr>
                <a:t>重点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华文行楷"/>
                </a:rPr>
                <a:t>:</a:t>
              </a:r>
              <a:endParaRPr b="0" lang="en-US" sz="4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68360" y="5114880"/>
            <a:ext cx="2879640" cy="764280"/>
            <a:chOff x="468360" y="5114880"/>
            <a:chExt cx="2879640" cy="764280"/>
          </a:xfrm>
        </p:grpSpPr>
        <p:sp>
          <p:nvSpPr>
            <p:cNvPr id="67" name=""/>
            <p:cNvSpPr/>
            <p:nvPr/>
          </p:nvSpPr>
          <p:spPr>
            <a:xfrm>
              <a:off x="911160" y="5114880"/>
              <a:ext cx="2436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华文行楷"/>
                </a:rPr>
                <a:t>难点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华文行楷"/>
                </a:rPr>
                <a:t>:</a:t>
              </a:r>
              <a:endParaRPr b="0" lang="en-US" sz="4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468360" y="5257800"/>
              <a:ext cx="5475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900000" y="2349360"/>
            <a:ext cx="820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786720"/>
            <a:ext cx="9180000" cy="98280"/>
            <a:chOff x="0" y="6786720"/>
            <a:chExt cx="9180000" cy="98280"/>
          </a:xfrm>
        </p:grpSpPr>
        <p:graphicFrame>
          <p:nvGraphicFramePr>
            <p:cNvPr id="71" name=""/>
            <p:cNvGraphicFramePr/>
            <p:nvPr/>
          </p:nvGraphicFramePr>
          <p:xfrm>
            <a:off x="0" y="6786720"/>
            <a:ext cx="4597560" cy="9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6786720"/>
                      <a:ext cx="4597560" cy="9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4582800" y="6786720"/>
            <a:ext cx="4597200" cy="9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82800" y="6786720"/>
                      <a:ext cx="4597200" cy="9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" name=""/>
          <p:cNvGrpSpPr/>
          <p:nvPr/>
        </p:nvGrpSpPr>
        <p:grpSpPr>
          <a:xfrm>
            <a:off x="-19080" y="733320"/>
            <a:ext cx="219240" cy="5791320"/>
            <a:chOff x="-19080" y="733320"/>
            <a:chExt cx="219240" cy="5791320"/>
          </a:xfrm>
        </p:grpSpPr>
        <p:sp>
          <p:nvSpPr>
            <p:cNvPr id="76" name=""/>
            <p:cNvSpPr/>
            <p:nvPr/>
          </p:nvSpPr>
          <p:spPr>
            <a:xfrm>
              <a:off x="-19080" y="733320"/>
              <a:ext cx="9720" cy="57913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9360" y="733320"/>
              <a:ext cx="9360" cy="5791320"/>
            </a:xfrm>
            <a:prstGeom prst="rect">
              <a:avLst/>
            </a:prstGeom>
            <a:solidFill>
              <a:srgbClr val="9b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733320"/>
              <a:ext cx="9360" cy="5791320"/>
            </a:xfrm>
            <a:prstGeom prst="rect">
              <a:avLst/>
            </a:prstGeom>
            <a:solidFill>
              <a:srgbClr val="9e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360" y="733320"/>
              <a:ext cx="9720" cy="5791320"/>
            </a:xfrm>
            <a:prstGeom prst="rect">
              <a:avLst/>
            </a:prstGeom>
            <a:solidFill>
              <a:srgbClr val="a1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80" y="733320"/>
              <a:ext cx="9360" cy="5791320"/>
            </a:xfrm>
            <a:prstGeom prst="rect">
              <a:avLst/>
            </a:prstGeom>
            <a:solidFill>
              <a:srgbClr val="a7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440" y="733320"/>
              <a:ext cx="9720" cy="5791320"/>
            </a:xfrm>
            <a:prstGeom prst="rect">
              <a:avLst/>
            </a:prstGeom>
            <a:solidFill>
              <a:srgbClr val="a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0" y="733320"/>
              <a:ext cx="9360" cy="5791320"/>
            </a:xfrm>
            <a:prstGeom prst="rect">
              <a:avLst/>
            </a:prstGeom>
            <a:solidFill>
              <a:srgbClr val="b5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520" y="733320"/>
              <a:ext cx="9720" cy="5791320"/>
            </a:xfrm>
            <a:prstGeom prst="rect">
              <a:avLst/>
            </a:prstGeom>
            <a:solidFill>
              <a:srgbClr val="bb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240" y="733320"/>
              <a:ext cx="9360" cy="5791320"/>
            </a:xfrm>
            <a:prstGeom prst="rect">
              <a:avLst/>
            </a:prstGeom>
            <a:solidFill>
              <a:srgbClr val="c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00" y="733320"/>
              <a:ext cx="9720" cy="5791320"/>
            </a:xfrm>
            <a:prstGeom prst="rect">
              <a:avLst/>
            </a:prstGeom>
            <a:solidFill>
              <a:srgbClr val="c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320" y="733320"/>
              <a:ext cx="9360" cy="5791320"/>
            </a:xfrm>
            <a:prstGeom prst="rect">
              <a:avLst/>
            </a:prstGeom>
            <a:solidFill>
              <a:srgbClr val="c9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680" y="733320"/>
              <a:ext cx="9720" cy="5791320"/>
            </a:xfrm>
            <a:prstGeom prst="rect">
              <a:avLst/>
            </a:prstGeom>
            <a:solidFill>
              <a:srgbClr val="cb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5400" y="733320"/>
              <a:ext cx="9360" cy="5791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4760" y="733320"/>
              <a:ext cx="9720" cy="5791320"/>
            </a:xfrm>
            <a:prstGeom prst="rect">
              <a:avLst/>
            </a:prstGeom>
            <a:solidFill>
              <a:srgbClr val="cb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480" y="733320"/>
              <a:ext cx="9360" cy="5791320"/>
            </a:xfrm>
            <a:prstGeom prst="rect">
              <a:avLst/>
            </a:prstGeom>
            <a:solidFill>
              <a:srgbClr val="c9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3840" y="733320"/>
              <a:ext cx="9360" cy="5791320"/>
            </a:xfrm>
            <a:prstGeom prst="rect">
              <a:avLst/>
            </a:prstGeom>
            <a:solidFill>
              <a:srgbClr val="c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200" y="733320"/>
              <a:ext cx="9720" cy="5791320"/>
            </a:xfrm>
            <a:prstGeom prst="rect">
              <a:avLst/>
            </a:prstGeom>
            <a:solidFill>
              <a:srgbClr val="c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2920" y="733320"/>
              <a:ext cx="9360" cy="5791320"/>
            </a:xfrm>
            <a:prstGeom prst="rect">
              <a:avLst/>
            </a:prstGeom>
            <a:solidFill>
              <a:srgbClr val="bb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280" y="733320"/>
              <a:ext cx="9720" cy="5791320"/>
            </a:xfrm>
            <a:prstGeom prst="rect">
              <a:avLst/>
            </a:prstGeom>
            <a:solidFill>
              <a:srgbClr val="b5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000" y="733320"/>
              <a:ext cx="9360" cy="5791320"/>
            </a:xfrm>
            <a:prstGeom prst="rect">
              <a:avLst/>
            </a:prstGeom>
            <a:solidFill>
              <a:srgbClr val="a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1360" y="733320"/>
              <a:ext cx="9720" cy="5791320"/>
            </a:xfrm>
            <a:prstGeom prst="rect">
              <a:avLst/>
            </a:prstGeom>
            <a:solidFill>
              <a:srgbClr val="a7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080" y="733320"/>
              <a:ext cx="9360" cy="5791320"/>
            </a:xfrm>
            <a:prstGeom prst="rect">
              <a:avLst/>
            </a:prstGeom>
            <a:solidFill>
              <a:srgbClr val="a1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440" y="733320"/>
              <a:ext cx="9720" cy="5791320"/>
            </a:xfrm>
            <a:prstGeom prst="rect">
              <a:avLst/>
            </a:prstGeom>
            <a:solidFill>
              <a:srgbClr val="9e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2400" y="765000"/>
            <a:ext cx="8626320" cy="209880"/>
            <a:chOff x="122400" y="765000"/>
            <a:chExt cx="8626320" cy="209880"/>
          </a:xfrm>
        </p:grpSpPr>
        <p:sp>
          <p:nvSpPr>
            <p:cNvPr id="100" name=""/>
            <p:cNvSpPr/>
            <p:nvPr/>
          </p:nvSpPr>
          <p:spPr>
            <a:xfrm>
              <a:off x="122400" y="765000"/>
              <a:ext cx="8626320" cy="97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2400" y="774720"/>
              <a:ext cx="8626320" cy="9360"/>
            </a:xfrm>
            <a:prstGeom prst="rect">
              <a:avLst/>
            </a:prstGeom>
            <a:solidFill>
              <a:srgbClr val="9a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400" y="784080"/>
              <a:ext cx="8626320" cy="9720"/>
            </a:xfrm>
            <a:prstGeom prst="rect">
              <a:avLst/>
            </a:prstGeom>
            <a:solidFill>
              <a:srgbClr val="9b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2400" y="793800"/>
              <a:ext cx="8626320" cy="9360"/>
            </a:xfrm>
            <a:prstGeom prst="rect">
              <a:avLst/>
            </a:prstGeom>
            <a:solidFill>
              <a:srgbClr val="9c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2400" y="803160"/>
              <a:ext cx="8626320" cy="9720"/>
            </a:xfrm>
            <a:prstGeom prst="rect">
              <a:avLst/>
            </a:prstGeom>
            <a:solidFill>
              <a:srgbClr val="9e6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2400" y="812880"/>
              <a:ext cx="8626320" cy="9360"/>
            </a:xfrm>
            <a:prstGeom prst="rect">
              <a:avLst/>
            </a:prstGeom>
            <a:solidFill>
              <a:srgbClr val="a0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2400" y="822240"/>
              <a:ext cx="8626320" cy="9720"/>
            </a:xfrm>
            <a:prstGeom prst="rect">
              <a:avLst/>
            </a:prstGeom>
            <a:solidFill>
              <a:srgbClr val="a37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2400" y="831960"/>
              <a:ext cx="8626320" cy="9360"/>
            </a:xfrm>
            <a:prstGeom prst="rect">
              <a:avLst/>
            </a:prstGeom>
            <a:solidFill>
              <a:srgbClr val="a6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2400" y="841320"/>
              <a:ext cx="8626320" cy="9720"/>
            </a:xfrm>
            <a:prstGeom prst="rect">
              <a:avLst/>
            </a:prstGeom>
            <a:solidFill>
              <a:srgbClr val="aa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2400" y="851040"/>
              <a:ext cx="8626320" cy="9360"/>
            </a:xfrm>
            <a:prstGeom prst="rect">
              <a:avLst/>
            </a:prstGeom>
            <a:solidFill>
              <a:srgbClr val="a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400" y="860400"/>
              <a:ext cx="8626320" cy="9720"/>
            </a:xfrm>
            <a:prstGeom prst="rect">
              <a:avLst/>
            </a:prstGeom>
            <a:solidFill>
              <a:srgbClr val="b2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400" y="870120"/>
              <a:ext cx="8626320" cy="9360"/>
            </a:xfrm>
            <a:prstGeom prst="rect">
              <a:avLst/>
            </a:prstGeom>
            <a:solidFill>
              <a:srgbClr val="b6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" y="879480"/>
              <a:ext cx="8626320" cy="9360"/>
            </a:xfrm>
            <a:prstGeom prst="rect">
              <a:avLst/>
            </a:prstGeom>
            <a:solidFill>
              <a:srgbClr val="ba8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400" y="888840"/>
              <a:ext cx="8626320" cy="9720"/>
            </a:xfrm>
            <a:prstGeom prst="rect">
              <a:avLst/>
            </a:prstGeom>
            <a:solidFill>
              <a:srgbClr val="bd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2400" y="898560"/>
              <a:ext cx="8626320" cy="9360"/>
            </a:xfrm>
            <a:prstGeom prst="rect">
              <a:avLst/>
            </a:prstGeom>
            <a:solidFill>
              <a:srgbClr val="c0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400" y="907920"/>
              <a:ext cx="8626320" cy="9720"/>
            </a:xfrm>
            <a:prstGeom prst="rect">
              <a:avLst/>
            </a:prstGeom>
            <a:solidFill>
              <a:srgbClr val="c3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2400" y="917640"/>
              <a:ext cx="8626320" cy="9360"/>
            </a:xfrm>
            <a:prstGeom prst="rect">
              <a:avLst/>
            </a:prstGeom>
            <a:solidFill>
              <a:srgbClr val="c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400" y="927000"/>
              <a:ext cx="8626320" cy="9720"/>
            </a:xfrm>
            <a:prstGeom prst="rect">
              <a:avLst/>
            </a:prstGeom>
            <a:solidFill>
              <a:srgbClr val="c7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2400" y="936720"/>
              <a:ext cx="8626320" cy="9360"/>
            </a:xfrm>
            <a:prstGeom prst="rect">
              <a:avLst/>
            </a:prstGeom>
            <a:solidFill>
              <a:srgbClr val="c9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2400" y="946080"/>
              <a:ext cx="8626320" cy="9720"/>
            </a:xfrm>
            <a:prstGeom prst="rect">
              <a:avLst/>
            </a:prstGeom>
            <a:solidFill>
              <a:srgbClr val="ca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2400" y="955800"/>
              <a:ext cx="8626320" cy="9360"/>
            </a:xfrm>
            <a:prstGeom prst="rect">
              <a:avLst/>
            </a:prstGeom>
            <a:solidFill>
              <a:srgbClr val="cb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2400" y="965160"/>
              <a:ext cx="8626320" cy="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-19080" y="730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8748720" y="6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466560" y="1197000"/>
            <a:ext cx="304920" cy="34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466560" y="1916280"/>
            <a:ext cx="343080" cy="28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466560" y="2852640"/>
            <a:ext cx="343080" cy="428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8129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了解作为证明基础的几条公理的内容，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掌握证明的基本步骤和书写格式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282096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经历“探索－发现－猜想－证明”的过程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能够用综合法证明等腰三角形的有关性质定理和判定定理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512604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能够用综合法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证明等腰三角形的有关性质定理和判定定理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417672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了解作为证明基础的几条公理的内容，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掌握证明的基本步骤和书写格式。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197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回顾与巩固上学期证明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一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的有关内容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787B-9DFC-4496-BFFC-4A9D06477B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CE89E-8126-4F99-8585-D4FD12526D9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739800"/>
            <a:ext cx="8604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在生活实践中，人离不开交流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交流必须对某些名称和术语有共同的认识才能进行。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64636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例如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“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具有中华人民共和国国籍的人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叫做中华人民共和国公民”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是“中华人民共和国公民”的定义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3360" y="1582560"/>
            <a:ext cx="8361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为此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就要对名称和术语的含义加以描述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作出明确的规定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也就是给出它们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定义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“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点之间 线段的长度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叫做这两点之间的距离”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是“两点之间的距离”的定义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4680" y="5043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“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组对边分别平行的四边形叫做平行四边形”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是“平行四边形”的定义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59961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你还能举出曾学过的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义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”吗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名词、术语    与   定义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8F07-5FE4-4975-80F9-DE00283AA2A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A6ADE-0A7D-4CCB-9809-91006EC26D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8000" y="990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下图表示某地的一个灌溉系统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90724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上面“如果……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那么……”都是对事情进行判断的语句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判断一件事情的句子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叫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命题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1447920"/>
            <a:ext cx="9001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如果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处水流受到污染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那么</a:t>
            </a:r>
            <a:r>
              <a:rPr b="1" lang="zh-CN" sz="2400" spc="-1" strike="noStrike" u="sng">
                <a:solidFill>
                  <a:srgbClr val="3333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处水流便受到污染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如果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处水流受到污染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那么</a:t>
            </a:r>
            <a:r>
              <a:rPr b="1" lang="zh-CN" sz="2400" spc="-1" strike="noStrike" u="sng">
                <a:solidFill>
                  <a:srgbClr val="3333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处水流便受到污染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如果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处水流受到污染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那么</a:t>
            </a:r>
            <a:r>
              <a:rPr b="1" lang="zh-CN" sz="2400" spc="-1" strike="noStrike" u="sng">
                <a:solidFill>
                  <a:srgbClr val="3333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处水流便受到污染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6200" y="285264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8880" y="3025800"/>
            <a:ext cx="5429160" cy="1922400"/>
          </a:xfrm>
          <a:custGeom>
            <a:avLst/>
            <a:gdLst/>
            <a:ahLst/>
            <a:rect l="l" t="t" r="r" b="b"/>
            <a:pathLst>
              <a:path w="3420" h="1211">
                <a:moveTo>
                  <a:pt x="0" y="1211"/>
                </a:moveTo>
                <a:cubicBezTo>
                  <a:pt x="45" y="1202"/>
                  <a:pt x="86" y="1191"/>
                  <a:pt x="129" y="1176"/>
                </a:cubicBezTo>
                <a:cubicBezTo>
                  <a:pt x="210" y="1095"/>
                  <a:pt x="350" y="1086"/>
                  <a:pt x="458" y="1070"/>
                </a:cubicBezTo>
                <a:cubicBezTo>
                  <a:pt x="515" y="1062"/>
                  <a:pt x="558" y="1044"/>
                  <a:pt x="611" y="1023"/>
                </a:cubicBezTo>
                <a:cubicBezTo>
                  <a:pt x="665" y="1001"/>
                  <a:pt x="719" y="992"/>
                  <a:pt x="775" y="976"/>
                </a:cubicBezTo>
                <a:cubicBezTo>
                  <a:pt x="791" y="971"/>
                  <a:pt x="806" y="969"/>
                  <a:pt x="822" y="964"/>
                </a:cubicBezTo>
                <a:cubicBezTo>
                  <a:pt x="846" y="957"/>
                  <a:pt x="893" y="941"/>
                  <a:pt x="893" y="941"/>
                </a:cubicBezTo>
                <a:cubicBezTo>
                  <a:pt x="1059" y="829"/>
                  <a:pt x="1262" y="804"/>
                  <a:pt x="1457" y="776"/>
                </a:cubicBezTo>
                <a:cubicBezTo>
                  <a:pt x="1558" y="741"/>
                  <a:pt x="1657" y="718"/>
                  <a:pt x="1763" y="706"/>
                </a:cubicBezTo>
                <a:cubicBezTo>
                  <a:pt x="1820" y="691"/>
                  <a:pt x="1872" y="663"/>
                  <a:pt x="1927" y="647"/>
                </a:cubicBezTo>
                <a:cubicBezTo>
                  <a:pt x="1952" y="640"/>
                  <a:pt x="2076" y="625"/>
                  <a:pt x="2092" y="623"/>
                </a:cubicBezTo>
                <a:cubicBezTo>
                  <a:pt x="2238" y="552"/>
                  <a:pt x="2453" y="552"/>
                  <a:pt x="2609" y="541"/>
                </a:cubicBezTo>
                <a:cubicBezTo>
                  <a:pt x="2653" y="512"/>
                  <a:pt x="2685" y="505"/>
                  <a:pt x="2738" y="494"/>
                </a:cubicBezTo>
                <a:cubicBezTo>
                  <a:pt x="2777" y="474"/>
                  <a:pt x="2822" y="464"/>
                  <a:pt x="2856" y="435"/>
                </a:cubicBezTo>
                <a:cubicBezTo>
                  <a:pt x="2941" y="363"/>
                  <a:pt x="3021" y="284"/>
                  <a:pt x="3115" y="224"/>
                </a:cubicBezTo>
                <a:cubicBezTo>
                  <a:pt x="3154" y="162"/>
                  <a:pt x="3214" y="96"/>
                  <a:pt x="3279" y="59"/>
                </a:cubicBezTo>
                <a:cubicBezTo>
                  <a:pt x="3306" y="43"/>
                  <a:pt x="3332" y="23"/>
                  <a:pt x="3361" y="12"/>
                </a:cubicBezTo>
                <a:cubicBezTo>
                  <a:pt x="3380" y="5"/>
                  <a:pt x="3420" y="0"/>
                  <a:pt x="3420" y="0"/>
                </a:cubicBezTo>
              </a:path>
            </a:pathLst>
          </a:custGeom>
          <a:noFill/>
          <a:ln cap="sq"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15040" y="3213000"/>
            <a:ext cx="1198440" cy="2575080"/>
          </a:xfrm>
          <a:custGeom>
            <a:avLst/>
            <a:gdLst/>
            <a:ahLst/>
            <a:rect l="l" t="t" r="r" b="b"/>
            <a:pathLst>
              <a:path w="755" h="1622">
                <a:moveTo>
                  <a:pt x="518" y="0"/>
                </a:moveTo>
                <a:cubicBezTo>
                  <a:pt x="437" y="80"/>
                  <a:pt x="474" y="51"/>
                  <a:pt x="412" y="94"/>
                </a:cubicBezTo>
                <a:cubicBezTo>
                  <a:pt x="377" y="145"/>
                  <a:pt x="332" y="187"/>
                  <a:pt x="294" y="235"/>
                </a:cubicBezTo>
                <a:cubicBezTo>
                  <a:pt x="277" y="257"/>
                  <a:pt x="247" y="305"/>
                  <a:pt x="247" y="305"/>
                </a:cubicBezTo>
                <a:cubicBezTo>
                  <a:pt x="222" y="388"/>
                  <a:pt x="254" y="293"/>
                  <a:pt x="212" y="376"/>
                </a:cubicBezTo>
                <a:cubicBezTo>
                  <a:pt x="193" y="413"/>
                  <a:pt x="192" y="490"/>
                  <a:pt x="165" y="517"/>
                </a:cubicBezTo>
                <a:cubicBezTo>
                  <a:pt x="131" y="551"/>
                  <a:pt x="111" y="585"/>
                  <a:pt x="71" y="611"/>
                </a:cubicBezTo>
                <a:cubicBezTo>
                  <a:pt x="42" y="654"/>
                  <a:pt x="17" y="656"/>
                  <a:pt x="0" y="705"/>
                </a:cubicBezTo>
                <a:cubicBezTo>
                  <a:pt x="28" y="788"/>
                  <a:pt x="112" y="779"/>
                  <a:pt x="189" y="787"/>
                </a:cubicBezTo>
                <a:cubicBezTo>
                  <a:pt x="281" y="819"/>
                  <a:pt x="145" y="774"/>
                  <a:pt x="294" y="811"/>
                </a:cubicBezTo>
                <a:cubicBezTo>
                  <a:pt x="318" y="817"/>
                  <a:pt x="365" y="834"/>
                  <a:pt x="365" y="834"/>
                </a:cubicBezTo>
                <a:cubicBezTo>
                  <a:pt x="449" y="891"/>
                  <a:pt x="346" y="827"/>
                  <a:pt x="447" y="870"/>
                </a:cubicBezTo>
                <a:cubicBezTo>
                  <a:pt x="487" y="887"/>
                  <a:pt x="517" y="927"/>
                  <a:pt x="553" y="952"/>
                </a:cubicBezTo>
                <a:cubicBezTo>
                  <a:pt x="570" y="1003"/>
                  <a:pt x="582" y="1049"/>
                  <a:pt x="612" y="1093"/>
                </a:cubicBezTo>
                <a:cubicBezTo>
                  <a:pt x="639" y="1177"/>
                  <a:pt x="621" y="1143"/>
                  <a:pt x="659" y="1199"/>
                </a:cubicBezTo>
                <a:cubicBezTo>
                  <a:pt x="687" y="1283"/>
                  <a:pt x="668" y="1249"/>
                  <a:pt x="706" y="1305"/>
                </a:cubicBezTo>
                <a:cubicBezTo>
                  <a:pt x="755" y="1453"/>
                  <a:pt x="729" y="1350"/>
                  <a:pt x="729" y="1622"/>
                </a:cubicBezTo>
              </a:path>
            </a:pathLst>
          </a:custGeom>
          <a:noFill/>
          <a:ln cap="sq"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70080" y="4743360"/>
            <a:ext cx="1155600" cy="746280"/>
          </a:xfrm>
          <a:custGeom>
            <a:avLst/>
            <a:gdLst/>
            <a:ahLst/>
            <a:rect l="l" t="t" r="r" b="b"/>
            <a:pathLst>
              <a:path w="728" h="470">
                <a:moveTo>
                  <a:pt x="0" y="270"/>
                </a:moveTo>
                <a:cubicBezTo>
                  <a:pt x="92" y="263"/>
                  <a:pt x="191" y="260"/>
                  <a:pt x="282" y="235"/>
                </a:cubicBezTo>
                <a:cubicBezTo>
                  <a:pt x="306" y="228"/>
                  <a:pt x="329" y="219"/>
                  <a:pt x="353" y="211"/>
                </a:cubicBezTo>
                <a:cubicBezTo>
                  <a:pt x="365" y="207"/>
                  <a:pt x="388" y="200"/>
                  <a:pt x="388" y="200"/>
                </a:cubicBezTo>
                <a:cubicBezTo>
                  <a:pt x="423" y="177"/>
                  <a:pt x="464" y="159"/>
                  <a:pt x="494" y="129"/>
                </a:cubicBezTo>
                <a:cubicBezTo>
                  <a:pt x="550" y="74"/>
                  <a:pt x="595" y="26"/>
                  <a:pt x="670" y="0"/>
                </a:cubicBezTo>
                <a:cubicBezTo>
                  <a:pt x="728" y="85"/>
                  <a:pt x="664" y="148"/>
                  <a:pt x="612" y="211"/>
                </a:cubicBezTo>
                <a:cubicBezTo>
                  <a:pt x="603" y="222"/>
                  <a:pt x="599" y="237"/>
                  <a:pt x="588" y="247"/>
                </a:cubicBezTo>
                <a:cubicBezTo>
                  <a:pt x="567" y="266"/>
                  <a:pt x="518" y="294"/>
                  <a:pt x="518" y="294"/>
                </a:cubicBezTo>
                <a:cubicBezTo>
                  <a:pt x="491" y="334"/>
                  <a:pt x="464" y="361"/>
                  <a:pt x="424" y="388"/>
                </a:cubicBezTo>
                <a:cubicBezTo>
                  <a:pt x="416" y="400"/>
                  <a:pt x="411" y="414"/>
                  <a:pt x="400" y="423"/>
                </a:cubicBezTo>
                <a:cubicBezTo>
                  <a:pt x="364" y="451"/>
                  <a:pt x="342" y="418"/>
                  <a:pt x="318" y="470"/>
                </a:cubicBezTo>
              </a:path>
            </a:pathLst>
          </a:custGeom>
          <a:noFill/>
          <a:ln cap="sq"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09960" y="4602240"/>
            <a:ext cx="966600" cy="1092240"/>
          </a:xfrm>
          <a:custGeom>
            <a:avLst/>
            <a:gdLst/>
            <a:ahLst/>
            <a:rect l="l" t="t" r="r" b="b"/>
            <a:pathLst>
              <a:path w="609" h="688">
                <a:moveTo>
                  <a:pt x="0" y="594"/>
                </a:moveTo>
                <a:cubicBezTo>
                  <a:pt x="49" y="584"/>
                  <a:pt x="71" y="588"/>
                  <a:pt x="106" y="547"/>
                </a:cubicBezTo>
                <a:cubicBezTo>
                  <a:pt x="114" y="538"/>
                  <a:pt x="110" y="522"/>
                  <a:pt x="118" y="512"/>
                </a:cubicBezTo>
                <a:cubicBezTo>
                  <a:pt x="145" y="478"/>
                  <a:pt x="187" y="468"/>
                  <a:pt x="212" y="418"/>
                </a:cubicBezTo>
                <a:cubicBezTo>
                  <a:pt x="231" y="381"/>
                  <a:pt x="252" y="306"/>
                  <a:pt x="271" y="277"/>
                </a:cubicBezTo>
                <a:cubicBezTo>
                  <a:pt x="279" y="265"/>
                  <a:pt x="288" y="255"/>
                  <a:pt x="294" y="242"/>
                </a:cubicBezTo>
                <a:cubicBezTo>
                  <a:pt x="318" y="187"/>
                  <a:pt x="321" y="148"/>
                  <a:pt x="353" y="101"/>
                </a:cubicBezTo>
                <a:cubicBezTo>
                  <a:pt x="369" y="54"/>
                  <a:pt x="382" y="34"/>
                  <a:pt x="423" y="6"/>
                </a:cubicBezTo>
                <a:cubicBezTo>
                  <a:pt x="493" y="29"/>
                  <a:pt x="429" y="0"/>
                  <a:pt x="482" y="53"/>
                </a:cubicBezTo>
                <a:cubicBezTo>
                  <a:pt x="602" y="173"/>
                  <a:pt x="535" y="78"/>
                  <a:pt x="588" y="159"/>
                </a:cubicBezTo>
                <a:cubicBezTo>
                  <a:pt x="592" y="175"/>
                  <a:pt x="609" y="192"/>
                  <a:pt x="600" y="206"/>
                </a:cubicBezTo>
                <a:cubicBezTo>
                  <a:pt x="585" y="230"/>
                  <a:pt x="553" y="237"/>
                  <a:pt x="529" y="253"/>
                </a:cubicBezTo>
                <a:cubicBezTo>
                  <a:pt x="470" y="293"/>
                  <a:pt x="441" y="318"/>
                  <a:pt x="388" y="371"/>
                </a:cubicBezTo>
                <a:cubicBezTo>
                  <a:pt x="321" y="438"/>
                  <a:pt x="288" y="531"/>
                  <a:pt x="259" y="618"/>
                </a:cubicBezTo>
                <a:cubicBezTo>
                  <a:pt x="252" y="638"/>
                  <a:pt x="250" y="688"/>
                  <a:pt x="224" y="688"/>
                </a:cubicBezTo>
              </a:path>
            </a:pathLst>
          </a:custGeom>
          <a:noFill/>
          <a:ln cap="sq"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4640" y="4330800"/>
            <a:ext cx="1889280" cy="1512720"/>
          </a:xfrm>
          <a:custGeom>
            <a:avLst/>
            <a:gdLst/>
            <a:ahLst/>
            <a:rect l="l" t="t" r="r" b="b"/>
            <a:pathLst>
              <a:path w="1190" h="953">
                <a:moveTo>
                  <a:pt x="0" y="871"/>
                </a:moveTo>
                <a:cubicBezTo>
                  <a:pt x="51" y="820"/>
                  <a:pt x="67" y="813"/>
                  <a:pt x="141" y="800"/>
                </a:cubicBezTo>
                <a:cubicBezTo>
                  <a:pt x="201" y="741"/>
                  <a:pt x="257" y="680"/>
                  <a:pt x="306" y="612"/>
                </a:cubicBezTo>
                <a:cubicBezTo>
                  <a:pt x="322" y="589"/>
                  <a:pt x="353" y="542"/>
                  <a:pt x="353" y="542"/>
                </a:cubicBezTo>
                <a:cubicBezTo>
                  <a:pt x="367" y="498"/>
                  <a:pt x="374" y="463"/>
                  <a:pt x="400" y="424"/>
                </a:cubicBezTo>
                <a:cubicBezTo>
                  <a:pt x="423" y="324"/>
                  <a:pt x="391" y="426"/>
                  <a:pt x="447" y="342"/>
                </a:cubicBezTo>
                <a:cubicBezTo>
                  <a:pt x="454" y="332"/>
                  <a:pt x="451" y="317"/>
                  <a:pt x="458" y="307"/>
                </a:cubicBezTo>
                <a:cubicBezTo>
                  <a:pt x="516" y="231"/>
                  <a:pt x="593" y="194"/>
                  <a:pt x="682" y="166"/>
                </a:cubicBezTo>
                <a:cubicBezTo>
                  <a:pt x="755" y="116"/>
                  <a:pt x="915" y="77"/>
                  <a:pt x="999" y="60"/>
                </a:cubicBezTo>
                <a:cubicBezTo>
                  <a:pt x="1040" y="52"/>
                  <a:pt x="1077" y="35"/>
                  <a:pt x="1117" y="25"/>
                </a:cubicBezTo>
                <a:cubicBezTo>
                  <a:pt x="1136" y="20"/>
                  <a:pt x="1190" y="0"/>
                  <a:pt x="1175" y="13"/>
                </a:cubicBezTo>
                <a:cubicBezTo>
                  <a:pt x="1157" y="30"/>
                  <a:pt x="1105" y="36"/>
                  <a:pt x="1105" y="36"/>
                </a:cubicBezTo>
                <a:cubicBezTo>
                  <a:pt x="1045" y="77"/>
                  <a:pt x="974" y="86"/>
                  <a:pt x="905" y="107"/>
                </a:cubicBezTo>
                <a:cubicBezTo>
                  <a:pt x="881" y="114"/>
                  <a:pt x="835" y="130"/>
                  <a:pt x="835" y="130"/>
                </a:cubicBezTo>
                <a:cubicBezTo>
                  <a:pt x="793" y="158"/>
                  <a:pt x="761" y="176"/>
                  <a:pt x="729" y="224"/>
                </a:cubicBezTo>
                <a:cubicBezTo>
                  <a:pt x="713" y="248"/>
                  <a:pt x="698" y="271"/>
                  <a:pt x="682" y="295"/>
                </a:cubicBezTo>
                <a:cubicBezTo>
                  <a:pt x="674" y="307"/>
                  <a:pt x="658" y="330"/>
                  <a:pt x="658" y="330"/>
                </a:cubicBezTo>
                <a:cubicBezTo>
                  <a:pt x="654" y="342"/>
                  <a:pt x="653" y="355"/>
                  <a:pt x="647" y="366"/>
                </a:cubicBezTo>
                <a:cubicBezTo>
                  <a:pt x="641" y="379"/>
                  <a:pt x="628" y="388"/>
                  <a:pt x="623" y="401"/>
                </a:cubicBezTo>
                <a:cubicBezTo>
                  <a:pt x="612" y="431"/>
                  <a:pt x="599" y="495"/>
                  <a:pt x="599" y="495"/>
                </a:cubicBezTo>
                <a:cubicBezTo>
                  <a:pt x="592" y="573"/>
                  <a:pt x="589" y="791"/>
                  <a:pt x="505" y="848"/>
                </a:cubicBezTo>
                <a:cubicBezTo>
                  <a:pt x="452" y="884"/>
                  <a:pt x="421" y="910"/>
                  <a:pt x="376" y="953"/>
                </a:cubicBezTo>
              </a:path>
            </a:pathLst>
          </a:custGeom>
          <a:noFill/>
          <a:ln cap="sq"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78120" y="4537080"/>
            <a:ext cx="1754280" cy="1289160"/>
          </a:xfrm>
          <a:custGeom>
            <a:avLst/>
            <a:gdLst/>
            <a:ahLst/>
            <a:rect l="l" t="t" r="r" b="b"/>
            <a:pathLst>
              <a:path w="1105" h="812">
                <a:moveTo>
                  <a:pt x="0" y="812"/>
                </a:moveTo>
                <a:cubicBezTo>
                  <a:pt x="62" y="748"/>
                  <a:pt x="101" y="661"/>
                  <a:pt x="176" y="612"/>
                </a:cubicBezTo>
                <a:cubicBezTo>
                  <a:pt x="184" y="600"/>
                  <a:pt x="194" y="589"/>
                  <a:pt x="200" y="576"/>
                </a:cubicBezTo>
                <a:cubicBezTo>
                  <a:pt x="205" y="565"/>
                  <a:pt x="205" y="552"/>
                  <a:pt x="211" y="541"/>
                </a:cubicBezTo>
                <a:cubicBezTo>
                  <a:pt x="225" y="516"/>
                  <a:pt x="258" y="471"/>
                  <a:pt x="258" y="471"/>
                </a:cubicBezTo>
                <a:cubicBezTo>
                  <a:pt x="279" y="390"/>
                  <a:pt x="254" y="454"/>
                  <a:pt x="305" y="388"/>
                </a:cubicBezTo>
                <a:cubicBezTo>
                  <a:pt x="322" y="366"/>
                  <a:pt x="352" y="318"/>
                  <a:pt x="352" y="318"/>
                </a:cubicBezTo>
                <a:cubicBezTo>
                  <a:pt x="371" y="244"/>
                  <a:pt x="454" y="143"/>
                  <a:pt x="529" y="118"/>
                </a:cubicBezTo>
                <a:cubicBezTo>
                  <a:pt x="591" y="76"/>
                  <a:pt x="669" y="59"/>
                  <a:pt x="740" y="36"/>
                </a:cubicBezTo>
                <a:cubicBezTo>
                  <a:pt x="764" y="28"/>
                  <a:pt x="787" y="20"/>
                  <a:pt x="811" y="12"/>
                </a:cubicBezTo>
                <a:cubicBezTo>
                  <a:pt x="823" y="8"/>
                  <a:pt x="846" y="0"/>
                  <a:pt x="846" y="0"/>
                </a:cubicBezTo>
                <a:cubicBezTo>
                  <a:pt x="901" y="4"/>
                  <a:pt x="956" y="5"/>
                  <a:pt x="1011" y="12"/>
                </a:cubicBezTo>
                <a:cubicBezTo>
                  <a:pt x="1023" y="13"/>
                  <a:pt x="1037" y="15"/>
                  <a:pt x="1046" y="24"/>
                </a:cubicBezTo>
                <a:cubicBezTo>
                  <a:pt x="1055" y="33"/>
                  <a:pt x="1052" y="48"/>
                  <a:pt x="1058" y="59"/>
                </a:cubicBezTo>
                <a:cubicBezTo>
                  <a:pt x="1079" y="102"/>
                  <a:pt x="1093" y="129"/>
                  <a:pt x="1105" y="177"/>
                </a:cubicBezTo>
                <a:cubicBezTo>
                  <a:pt x="1101" y="200"/>
                  <a:pt x="1103" y="225"/>
                  <a:pt x="1093" y="247"/>
                </a:cubicBezTo>
                <a:cubicBezTo>
                  <a:pt x="1066" y="309"/>
                  <a:pt x="990" y="305"/>
                  <a:pt x="940" y="330"/>
                </a:cubicBezTo>
                <a:cubicBezTo>
                  <a:pt x="860" y="370"/>
                  <a:pt x="955" y="340"/>
                  <a:pt x="858" y="365"/>
                </a:cubicBezTo>
                <a:cubicBezTo>
                  <a:pt x="816" y="407"/>
                  <a:pt x="773" y="440"/>
                  <a:pt x="717" y="459"/>
                </a:cubicBezTo>
                <a:cubicBezTo>
                  <a:pt x="650" y="557"/>
                  <a:pt x="740" y="435"/>
                  <a:pt x="658" y="518"/>
                </a:cubicBezTo>
                <a:cubicBezTo>
                  <a:pt x="600" y="577"/>
                  <a:pt x="664" y="528"/>
                  <a:pt x="623" y="588"/>
                </a:cubicBezTo>
                <a:cubicBezTo>
                  <a:pt x="614" y="602"/>
                  <a:pt x="599" y="611"/>
                  <a:pt x="587" y="623"/>
                </a:cubicBezTo>
                <a:cubicBezTo>
                  <a:pt x="575" y="662"/>
                  <a:pt x="553" y="690"/>
                  <a:pt x="540" y="729"/>
                </a:cubicBezTo>
                <a:cubicBezTo>
                  <a:pt x="536" y="741"/>
                  <a:pt x="533" y="753"/>
                  <a:pt x="529" y="765"/>
                </a:cubicBezTo>
                <a:cubicBezTo>
                  <a:pt x="525" y="777"/>
                  <a:pt x="517" y="800"/>
                  <a:pt x="517" y="800"/>
                </a:cubicBezTo>
              </a:path>
            </a:pathLst>
          </a:custGeom>
          <a:noFill/>
          <a:ln cap="sq"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90960" y="4892760"/>
            <a:ext cx="1362240" cy="933480"/>
          </a:xfrm>
          <a:custGeom>
            <a:avLst/>
            <a:gdLst/>
            <a:ahLst/>
            <a:rect l="l" t="t" r="r" b="b"/>
            <a:pathLst>
              <a:path w="858" h="588">
                <a:moveTo>
                  <a:pt x="0" y="588"/>
                </a:moveTo>
                <a:cubicBezTo>
                  <a:pt x="83" y="559"/>
                  <a:pt x="49" y="577"/>
                  <a:pt x="106" y="541"/>
                </a:cubicBezTo>
                <a:cubicBezTo>
                  <a:pt x="161" y="467"/>
                  <a:pt x="127" y="508"/>
                  <a:pt x="211" y="423"/>
                </a:cubicBezTo>
                <a:cubicBezTo>
                  <a:pt x="231" y="403"/>
                  <a:pt x="242" y="376"/>
                  <a:pt x="258" y="352"/>
                </a:cubicBezTo>
                <a:cubicBezTo>
                  <a:pt x="266" y="340"/>
                  <a:pt x="277" y="330"/>
                  <a:pt x="282" y="317"/>
                </a:cubicBezTo>
                <a:cubicBezTo>
                  <a:pt x="286" y="305"/>
                  <a:pt x="287" y="292"/>
                  <a:pt x="294" y="282"/>
                </a:cubicBezTo>
                <a:cubicBezTo>
                  <a:pt x="329" y="229"/>
                  <a:pt x="392" y="171"/>
                  <a:pt x="435" y="129"/>
                </a:cubicBezTo>
                <a:cubicBezTo>
                  <a:pt x="493" y="72"/>
                  <a:pt x="452" y="107"/>
                  <a:pt x="541" y="47"/>
                </a:cubicBezTo>
                <a:cubicBezTo>
                  <a:pt x="553" y="39"/>
                  <a:pt x="564" y="31"/>
                  <a:pt x="576" y="23"/>
                </a:cubicBezTo>
                <a:cubicBezTo>
                  <a:pt x="588" y="15"/>
                  <a:pt x="611" y="0"/>
                  <a:pt x="611" y="0"/>
                </a:cubicBezTo>
                <a:cubicBezTo>
                  <a:pt x="659" y="32"/>
                  <a:pt x="670" y="78"/>
                  <a:pt x="705" y="129"/>
                </a:cubicBezTo>
                <a:cubicBezTo>
                  <a:pt x="713" y="141"/>
                  <a:pt x="729" y="164"/>
                  <a:pt x="729" y="164"/>
                </a:cubicBezTo>
                <a:cubicBezTo>
                  <a:pt x="759" y="261"/>
                  <a:pt x="803" y="349"/>
                  <a:pt x="834" y="446"/>
                </a:cubicBezTo>
                <a:cubicBezTo>
                  <a:pt x="840" y="465"/>
                  <a:pt x="842" y="485"/>
                  <a:pt x="846" y="505"/>
                </a:cubicBezTo>
                <a:cubicBezTo>
                  <a:pt x="850" y="529"/>
                  <a:pt x="858" y="576"/>
                  <a:pt x="858" y="576"/>
                </a:cubicBezTo>
              </a:path>
            </a:pathLst>
          </a:custGeom>
          <a:noFill/>
          <a:ln cap="sq"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5440" y="4668840"/>
            <a:ext cx="936720" cy="1193760"/>
          </a:xfrm>
          <a:custGeom>
            <a:avLst/>
            <a:gdLst/>
            <a:ahLst/>
            <a:rect l="l" t="t" r="r" b="b"/>
            <a:pathLst>
              <a:path w="590" h="752">
                <a:moveTo>
                  <a:pt x="225" y="752"/>
                </a:moveTo>
                <a:cubicBezTo>
                  <a:pt x="217" y="736"/>
                  <a:pt x="211" y="720"/>
                  <a:pt x="202" y="705"/>
                </a:cubicBezTo>
                <a:cubicBezTo>
                  <a:pt x="195" y="693"/>
                  <a:pt x="184" y="683"/>
                  <a:pt x="178" y="670"/>
                </a:cubicBezTo>
                <a:cubicBezTo>
                  <a:pt x="154" y="622"/>
                  <a:pt x="150" y="574"/>
                  <a:pt x="119" y="529"/>
                </a:cubicBezTo>
                <a:cubicBezTo>
                  <a:pt x="106" y="486"/>
                  <a:pt x="98" y="442"/>
                  <a:pt x="84" y="399"/>
                </a:cubicBezTo>
                <a:cubicBezTo>
                  <a:pt x="76" y="376"/>
                  <a:pt x="69" y="352"/>
                  <a:pt x="61" y="329"/>
                </a:cubicBezTo>
                <a:cubicBezTo>
                  <a:pt x="57" y="317"/>
                  <a:pt x="49" y="294"/>
                  <a:pt x="49" y="294"/>
                </a:cubicBezTo>
                <a:cubicBezTo>
                  <a:pt x="37" y="209"/>
                  <a:pt x="0" y="81"/>
                  <a:pt x="84" y="23"/>
                </a:cubicBezTo>
                <a:cubicBezTo>
                  <a:pt x="89" y="20"/>
                  <a:pt x="150" y="1"/>
                  <a:pt x="155" y="0"/>
                </a:cubicBezTo>
                <a:cubicBezTo>
                  <a:pt x="206" y="4"/>
                  <a:pt x="258" y="2"/>
                  <a:pt x="308" y="11"/>
                </a:cubicBezTo>
                <a:cubicBezTo>
                  <a:pt x="352" y="19"/>
                  <a:pt x="339" y="41"/>
                  <a:pt x="355" y="70"/>
                </a:cubicBezTo>
                <a:cubicBezTo>
                  <a:pt x="376" y="107"/>
                  <a:pt x="402" y="141"/>
                  <a:pt x="425" y="176"/>
                </a:cubicBezTo>
                <a:cubicBezTo>
                  <a:pt x="454" y="220"/>
                  <a:pt x="453" y="272"/>
                  <a:pt x="484" y="317"/>
                </a:cubicBezTo>
                <a:cubicBezTo>
                  <a:pt x="504" y="396"/>
                  <a:pt x="528" y="474"/>
                  <a:pt x="554" y="552"/>
                </a:cubicBezTo>
                <a:cubicBezTo>
                  <a:pt x="568" y="595"/>
                  <a:pt x="590" y="637"/>
                  <a:pt x="590" y="682"/>
                </a:cubicBezTo>
              </a:path>
            </a:pathLst>
          </a:custGeom>
          <a:noFill/>
          <a:ln cap="sq"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03400" y="3193920"/>
            <a:ext cx="5392800" cy="1884600"/>
          </a:xfrm>
          <a:custGeom>
            <a:avLst/>
            <a:gdLst/>
            <a:ahLst/>
            <a:rect l="l" t="t" r="r" b="b"/>
            <a:pathLst>
              <a:path w="3397" h="1187">
                <a:moveTo>
                  <a:pt x="0" y="1187"/>
                </a:moveTo>
                <a:cubicBezTo>
                  <a:pt x="68" y="1171"/>
                  <a:pt x="131" y="1145"/>
                  <a:pt x="199" y="1129"/>
                </a:cubicBezTo>
                <a:cubicBezTo>
                  <a:pt x="257" y="1090"/>
                  <a:pt x="319" y="1093"/>
                  <a:pt x="387" y="1082"/>
                </a:cubicBezTo>
                <a:cubicBezTo>
                  <a:pt x="444" y="1073"/>
                  <a:pt x="497" y="1053"/>
                  <a:pt x="552" y="1035"/>
                </a:cubicBezTo>
                <a:cubicBezTo>
                  <a:pt x="564" y="1031"/>
                  <a:pt x="577" y="1030"/>
                  <a:pt x="587" y="1023"/>
                </a:cubicBezTo>
                <a:cubicBezTo>
                  <a:pt x="599" y="1015"/>
                  <a:pt x="609" y="1004"/>
                  <a:pt x="623" y="999"/>
                </a:cubicBezTo>
                <a:cubicBezTo>
                  <a:pt x="674" y="980"/>
                  <a:pt x="740" y="983"/>
                  <a:pt x="787" y="952"/>
                </a:cubicBezTo>
                <a:cubicBezTo>
                  <a:pt x="849" y="911"/>
                  <a:pt x="916" y="899"/>
                  <a:pt x="987" y="882"/>
                </a:cubicBezTo>
                <a:cubicBezTo>
                  <a:pt x="1038" y="869"/>
                  <a:pt x="1088" y="848"/>
                  <a:pt x="1140" y="835"/>
                </a:cubicBezTo>
                <a:cubicBezTo>
                  <a:pt x="1214" y="817"/>
                  <a:pt x="1238" y="819"/>
                  <a:pt x="1328" y="811"/>
                </a:cubicBezTo>
                <a:cubicBezTo>
                  <a:pt x="1407" y="785"/>
                  <a:pt x="1482" y="759"/>
                  <a:pt x="1563" y="741"/>
                </a:cubicBezTo>
                <a:cubicBezTo>
                  <a:pt x="1591" y="735"/>
                  <a:pt x="1617" y="720"/>
                  <a:pt x="1645" y="717"/>
                </a:cubicBezTo>
                <a:cubicBezTo>
                  <a:pt x="1751" y="706"/>
                  <a:pt x="1857" y="704"/>
                  <a:pt x="1963" y="694"/>
                </a:cubicBezTo>
                <a:cubicBezTo>
                  <a:pt x="2047" y="677"/>
                  <a:pt x="2127" y="651"/>
                  <a:pt x="2209" y="623"/>
                </a:cubicBezTo>
                <a:cubicBezTo>
                  <a:pt x="2240" y="613"/>
                  <a:pt x="2288" y="606"/>
                  <a:pt x="2315" y="588"/>
                </a:cubicBezTo>
                <a:cubicBezTo>
                  <a:pt x="2327" y="580"/>
                  <a:pt x="2338" y="570"/>
                  <a:pt x="2351" y="564"/>
                </a:cubicBezTo>
                <a:cubicBezTo>
                  <a:pt x="2439" y="527"/>
                  <a:pt x="2530" y="517"/>
                  <a:pt x="2621" y="494"/>
                </a:cubicBezTo>
                <a:cubicBezTo>
                  <a:pt x="2667" y="482"/>
                  <a:pt x="2653" y="479"/>
                  <a:pt x="2703" y="459"/>
                </a:cubicBezTo>
                <a:cubicBezTo>
                  <a:pt x="2752" y="439"/>
                  <a:pt x="2807" y="433"/>
                  <a:pt x="2856" y="412"/>
                </a:cubicBezTo>
                <a:cubicBezTo>
                  <a:pt x="2947" y="373"/>
                  <a:pt x="2858" y="399"/>
                  <a:pt x="2950" y="376"/>
                </a:cubicBezTo>
                <a:cubicBezTo>
                  <a:pt x="2962" y="368"/>
                  <a:pt x="2972" y="359"/>
                  <a:pt x="2985" y="353"/>
                </a:cubicBezTo>
                <a:cubicBezTo>
                  <a:pt x="3008" y="343"/>
                  <a:pt x="3056" y="329"/>
                  <a:pt x="3056" y="329"/>
                </a:cubicBezTo>
                <a:cubicBezTo>
                  <a:pt x="3101" y="284"/>
                  <a:pt x="3121" y="295"/>
                  <a:pt x="3162" y="259"/>
                </a:cubicBezTo>
                <a:cubicBezTo>
                  <a:pt x="3211" y="216"/>
                  <a:pt x="3257" y="164"/>
                  <a:pt x="3303" y="118"/>
                </a:cubicBezTo>
                <a:cubicBezTo>
                  <a:pt x="3329" y="92"/>
                  <a:pt x="3397" y="43"/>
                  <a:pt x="3397" y="0"/>
                </a:cubicBezTo>
              </a:path>
            </a:pathLst>
          </a:custGeom>
          <a:noFill/>
          <a:ln w="12600">
            <a:solidFill>
              <a:srgbClr val="33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43280" y="4387680"/>
            <a:ext cx="1660320" cy="1231920"/>
          </a:xfrm>
          <a:custGeom>
            <a:avLst/>
            <a:gdLst/>
            <a:ahLst/>
            <a:rect l="l" t="t" r="r" b="b"/>
            <a:pathLst>
              <a:path w="1046" h="776">
                <a:moveTo>
                  <a:pt x="0" y="776"/>
                </a:moveTo>
                <a:cubicBezTo>
                  <a:pt x="70" y="752"/>
                  <a:pt x="123" y="648"/>
                  <a:pt x="164" y="588"/>
                </a:cubicBezTo>
                <a:cubicBezTo>
                  <a:pt x="259" y="447"/>
                  <a:pt x="118" y="658"/>
                  <a:pt x="211" y="518"/>
                </a:cubicBezTo>
                <a:cubicBezTo>
                  <a:pt x="219" y="506"/>
                  <a:pt x="235" y="482"/>
                  <a:pt x="235" y="482"/>
                </a:cubicBezTo>
                <a:cubicBezTo>
                  <a:pt x="263" y="392"/>
                  <a:pt x="321" y="375"/>
                  <a:pt x="352" y="306"/>
                </a:cubicBezTo>
                <a:cubicBezTo>
                  <a:pt x="382" y="239"/>
                  <a:pt x="394" y="185"/>
                  <a:pt x="458" y="141"/>
                </a:cubicBezTo>
                <a:cubicBezTo>
                  <a:pt x="529" y="33"/>
                  <a:pt x="700" y="42"/>
                  <a:pt x="811" y="36"/>
                </a:cubicBezTo>
                <a:cubicBezTo>
                  <a:pt x="887" y="23"/>
                  <a:pt x="970" y="0"/>
                  <a:pt x="1046" y="0"/>
                </a:cubicBezTo>
              </a:path>
            </a:pathLst>
          </a:custGeom>
          <a:noFill/>
          <a:ln w="12600">
            <a:solidFill>
              <a:srgbClr val="33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962520"/>
            <a:ext cx="2818080" cy="1753920"/>
          </a:xfrm>
          <a:custGeom>
            <a:avLst/>
            <a:gdLst/>
            <a:ahLst/>
            <a:rect l="l" t="t" r="r" b="b"/>
            <a:pathLst>
              <a:path w="1775" h="1105">
                <a:moveTo>
                  <a:pt x="0" y="1105"/>
                </a:moveTo>
                <a:cubicBezTo>
                  <a:pt x="11" y="1007"/>
                  <a:pt x="11" y="1001"/>
                  <a:pt x="47" y="928"/>
                </a:cubicBezTo>
                <a:cubicBezTo>
                  <a:pt x="52" y="917"/>
                  <a:pt x="52" y="903"/>
                  <a:pt x="59" y="893"/>
                </a:cubicBezTo>
                <a:cubicBezTo>
                  <a:pt x="94" y="841"/>
                  <a:pt x="148" y="811"/>
                  <a:pt x="188" y="764"/>
                </a:cubicBezTo>
                <a:cubicBezTo>
                  <a:pt x="244" y="698"/>
                  <a:pt x="303" y="637"/>
                  <a:pt x="365" y="576"/>
                </a:cubicBezTo>
                <a:cubicBezTo>
                  <a:pt x="444" y="498"/>
                  <a:pt x="510" y="407"/>
                  <a:pt x="588" y="329"/>
                </a:cubicBezTo>
                <a:cubicBezTo>
                  <a:pt x="639" y="278"/>
                  <a:pt x="704" y="251"/>
                  <a:pt x="764" y="211"/>
                </a:cubicBezTo>
                <a:cubicBezTo>
                  <a:pt x="810" y="180"/>
                  <a:pt x="874" y="193"/>
                  <a:pt x="929" y="188"/>
                </a:cubicBezTo>
                <a:cubicBezTo>
                  <a:pt x="1029" y="162"/>
                  <a:pt x="960" y="178"/>
                  <a:pt x="1140" y="153"/>
                </a:cubicBezTo>
                <a:cubicBezTo>
                  <a:pt x="1207" y="144"/>
                  <a:pt x="1272" y="113"/>
                  <a:pt x="1340" y="106"/>
                </a:cubicBezTo>
                <a:cubicBezTo>
                  <a:pt x="1399" y="100"/>
                  <a:pt x="1458" y="98"/>
                  <a:pt x="1517" y="94"/>
                </a:cubicBezTo>
                <a:cubicBezTo>
                  <a:pt x="1536" y="90"/>
                  <a:pt x="1556" y="87"/>
                  <a:pt x="1575" y="82"/>
                </a:cubicBezTo>
                <a:cubicBezTo>
                  <a:pt x="1599" y="75"/>
                  <a:pt x="1646" y="59"/>
                  <a:pt x="1646" y="59"/>
                </a:cubicBezTo>
                <a:cubicBezTo>
                  <a:pt x="1658" y="51"/>
                  <a:pt x="1668" y="41"/>
                  <a:pt x="1681" y="35"/>
                </a:cubicBezTo>
                <a:cubicBezTo>
                  <a:pt x="1714" y="21"/>
                  <a:pt x="1749" y="26"/>
                  <a:pt x="1775" y="0"/>
                </a:cubicBezTo>
              </a:path>
            </a:pathLst>
          </a:custGeom>
          <a:noFill/>
          <a:ln w="12600">
            <a:solidFill>
              <a:srgbClr val="33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65440" y="3417840"/>
            <a:ext cx="3005280" cy="2370240"/>
          </a:xfrm>
          <a:custGeom>
            <a:avLst/>
            <a:gdLst/>
            <a:ahLst/>
            <a:rect l="l" t="t" r="r" b="b"/>
            <a:pathLst>
              <a:path w="1893" h="1493">
                <a:moveTo>
                  <a:pt x="0" y="1493"/>
                </a:moveTo>
                <a:cubicBezTo>
                  <a:pt x="27" y="1453"/>
                  <a:pt x="54" y="1426"/>
                  <a:pt x="94" y="1399"/>
                </a:cubicBezTo>
                <a:cubicBezTo>
                  <a:pt x="110" y="1351"/>
                  <a:pt x="135" y="1332"/>
                  <a:pt x="177" y="1305"/>
                </a:cubicBezTo>
                <a:cubicBezTo>
                  <a:pt x="192" y="1241"/>
                  <a:pt x="215" y="1180"/>
                  <a:pt x="235" y="1117"/>
                </a:cubicBezTo>
                <a:cubicBezTo>
                  <a:pt x="262" y="1030"/>
                  <a:pt x="280" y="955"/>
                  <a:pt x="353" y="894"/>
                </a:cubicBezTo>
                <a:cubicBezTo>
                  <a:pt x="389" y="864"/>
                  <a:pt x="431" y="857"/>
                  <a:pt x="470" y="835"/>
                </a:cubicBezTo>
                <a:cubicBezTo>
                  <a:pt x="495" y="821"/>
                  <a:pt x="517" y="804"/>
                  <a:pt x="541" y="788"/>
                </a:cubicBezTo>
                <a:cubicBezTo>
                  <a:pt x="553" y="780"/>
                  <a:pt x="564" y="772"/>
                  <a:pt x="576" y="764"/>
                </a:cubicBezTo>
                <a:cubicBezTo>
                  <a:pt x="588" y="756"/>
                  <a:pt x="611" y="741"/>
                  <a:pt x="611" y="741"/>
                </a:cubicBezTo>
                <a:cubicBezTo>
                  <a:pt x="644" y="749"/>
                  <a:pt x="698" y="768"/>
                  <a:pt x="729" y="741"/>
                </a:cubicBezTo>
                <a:cubicBezTo>
                  <a:pt x="800" y="680"/>
                  <a:pt x="708" y="671"/>
                  <a:pt x="788" y="635"/>
                </a:cubicBezTo>
                <a:cubicBezTo>
                  <a:pt x="810" y="625"/>
                  <a:pt x="835" y="627"/>
                  <a:pt x="858" y="623"/>
                </a:cubicBezTo>
                <a:cubicBezTo>
                  <a:pt x="880" y="602"/>
                  <a:pt x="909" y="587"/>
                  <a:pt x="929" y="564"/>
                </a:cubicBezTo>
                <a:cubicBezTo>
                  <a:pt x="975" y="511"/>
                  <a:pt x="980" y="472"/>
                  <a:pt x="1035" y="435"/>
                </a:cubicBezTo>
                <a:cubicBezTo>
                  <a:pt x="1065" y="389"/>
                  <a:pt x="1052" y="371"/>
                  <a:pt x="1105" y="353"/>
                </a:cubicBezTo>
                <a:cubicBezTo>
                  <a:pt x="1118" y="340"/>
                  <a:pt x="1148" y="300"/>
                  <a:pt x="1176" y="306"/>
                </a:cubicBezTo>
                <a:cubicBezTo>
                  <a:pt x="1201" y="312"/>
                  <a:pt x="1269" y="329"/>
                  <a:pt x="1246" y="341"/>
                </a:cubicBezTo>
                <a:cubicBezTo>
                  <a:pt x="1217" y="355"/>
                  <a:pt x="1183" y="326"/>
                  <a:pt x="1152" y="318"/>
                </a:cubicBezTo>
                <a:cubicBezTo>
                  <a:pt x="1188" y="306"/>
                  <a:pt x="1296" y="267"/>
                  <a:pt x="1305" y="282"/>
                </a:cubicBezTo>
                <a:cubicBezTo>
                  <a:pt x="1328" y="319"/>
                  <a:pt x="1266" y="361"/>
                  <a:pt x="1246" y="400"/>
                </a:cubicBezTo>
                <a:cubicBezTo>
                  <a:pt x="1263" y="253"/>
                  <a:pt x="1246" y="318"/>
                  <a:pt x="1329" y="235"/>
                </a:cubicBezTo>
                <a:lnTo>
                  <a:pt x="1352" y="341"/>
                </a:lnTo>
                <a:cubicBezTo>
                  <a:pt x="1352" y="341"/>
                  <a:pt x="1352" y="341"/>
                  <a:pt x="1352" y="341"/>
                </a:cubicBezTo>
                <a:cubicBezTo>
                  <a:pt x="1401" y="309"/>
                  <a:pt x="1373" y="321"/>
                  <a:pt x="1434" y="306"/>
                </a:cubicBezTo>
                <a:cubicBezTo>
                  <a:pt x="1498" y="213"/>
                  <a:pt x="1414" y="326"/>
                  <a:pt x="1493" y="247"/>
                </a:cubicBezTo>
                <a:cubicBezTo>
                  <a:pt x="1503" y="237"/>
                  <a:pt x="1505" y="220"/>
                  <a:pt x="1517" y="212"/>
                </a:cubicBezTo>
                <a:cubicBezTo>
                  <a:pt x="1538" y="199"/>
                  <a:pt x="1587" y="188"/>
                  <a:pt x="1587" y="188"/>
                </a:cubicBezTo>
                <a:cubicBezTo>
                  <a:pt x="1667" y="109"/>
                  <a:pt x="1627" y="129"/>
                  <a:pt x="1693" y="106"/>
                </a:cubicBezTo>
                <a:cubicBezTo>
                  <a:pt x="1701" y="94"/>
                  <a:pt x="1704" y="78"/>
                  <a:pt x="1716" y="71"/>
                </a:cubicBezTo>
                <a:cubicBezTo>
                  <a:pt x="1737" y="58"/>
                  <a:pt x="1763" y="55"/>
                  <a:pt x="1787" y="47"/>
                </a:cubicBezTo>
                <a:cubicBezTo>
                  <a:pt x="1800" y="43"/>
                  <a:pt x="1809" y="30"/>
                  <a:pt x="1822" y="24"/>
                </a:cubicBezTo>
                <a:cubicBezTo>
                  <a:pt x="1845" y="14"/>
                  <a:pt x="1893" y="0"/>
                  <a:pt x="1893" y="0"/>
                </a:cubicBezTo>
              </a:path>
            </a:pathLst>
          </a:custGeom>
          <a:noFill/>
          <a:ln w="12600">
            <a:solidFill>
              <a:srgbClr val="33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35440" y="3268800"/>
            <a:ext cx="1797120" cy="2557440"/>
          </a:xfrm>
          <a:custGeom>
            <a:avLst/>
            <a:gdLst/>
            <a:ahLst/>
            <a:rect l="l" t="t" r="r" b="b"/>
            <a:pathLst>
              <a:path w="1132" h="1611">
                <a:moveTo>
                  <a:pt x="4" y="1611"/>
                </a:moveTo>
                <a:cubicBezTo>
                  <a:pt x="27" y="1542"/>
                  <a:pt x="0" y="1607"/>
                  <a:pt x="51" y="1540"/>
                </a:cubicBezTo>
                <a:cubicBezTo>
                  <a:pt x="165" y="1393"/>
                  <a:pt x="21" y="1546"/>
                  <a:pt x="168" y="1399"/>
                </a:cubicBezTo>
                <a:cubicBezTo>
                  <a:pt x="233" y="1334"/>
                  <a:pt x="129" y="1381"/>
                  <a:pt x="262" y="1293"/>
                </a:cubicBezTo>
                <a:cubicBezTo>
                  <a:pt x="309" y="1262"/>
                  <a:pt x="356" y="1230"/>
                  <a:pt x="403" y="1199"/>
                </a:cubicBezTo>
                <a:cubicBezTo>
                  <a:pt x="415" y="1191"/>
                  <a:pt x="427" y="1184"/>
                  <a:pt x="439" y="1176"/>
                </a:cubicBezTo>
                <a:cubicBezTo>
                  <a:pt x="451" y="1168"/>
                  <a:pt x="474" y="1152"/>
                  <a:pt x="474" y="1152"/>
                </a:cubicBezTo>
                <a:cubicBezTo>
                  <a:pt x="560" y="1021"/>
                  <a:pt x="428" y="1211"/>
                  <a:pt x="533" y="1093"/>
                </a:cubicBezTo>
                <a:cubicBezTo>
                  <a:pt x="575" y="1046"/>
                  <a:pt x="595" y="996"/>
                  <a:pt x="639" y="952"/>
                </a:cubicBezTo>
                <a:cubicBezTo>
                  <a:pt x="656" y="899"/>
                  <a:pt x="690" y="857"/>
                  <a:pt x="721" y="811"/>
                </a:cubicBezTo>
                <a:cubicBezTo>
                  <a:pt x="751" y="767"/>
                  <a:pt x="747" y="707"/>
                  <a:pt x="780" y="658"/>
                </a:cubicBezTo>
                <a:cubicBezTo>
                  <a:pt x="810" y="531"/>
                  <a:pt x="768" y="682"/>
                  <a:pt x="815" y="576"/>
                </a:cubicBezTo>
                <a:cubicBezTo>
                  <a:pt x="864" y="464"/>
                  <a:pt x="789" y="587"/>
                  <a:pt x="850" y="494"/>
                </a:cubicBezTo>
                <a:cubicBezTo>
                  <a:pt x="885" y="358"/>
                  <a:pt x="836" y="526"/>
                  <a:pt x="885" y="412"/>
                </a:cubicBezTo>
                <a:cubicBezTo>
                  <a:pt x="891" y="397"/>
                  <a:pt x="891" y="380"/>
                  <a:pt x="897" y="365"/>
                </a:cubicBezTo>
                <a:cubicBezTo>
                  <a:pt x="903" y="352"/>
                  <a:pt x="914" y="342"/>
                  <a:pt x="921" y="329"/>
                </a:cubicBezTo>
                <a:cubicBezTo>
                  <a:pt x="954" y="270"/>
                  <a:pt x="966" y="225"/>
                  <a:pt x="1015" y="176"/>
                </a:cubicBezTo>
                <a:cubicBezTo>
                  <a:pt x="1037" y="105"/>
                  <a:pt x="1101" y="67"/>
                  <a:pt x="1132" y="0"/>
                </a:cubicBezTo>
              </a:path>
            </a:pathLst>
          </a:custGeom>
          <a:noFill/>
          <a:ln w="12600">
            <a:solidFill>
              <a:srgbClr val="33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24680" y="3548160"/>
            <a:ext cx="426960" cy="2239920"/>
          </a:xfrm>
          <a:custGeom>
            <a:avLst/>
            <a:gdLst/>
            <a:ahLst/>
            <a:rect l="l" t="t" r="r" b="b"/>
            <a:pathLst>
              <a:path w="269" h="1411">
                <a:moveTo>
                  <a:pt x="151" y="1411"/>
                </a:moveTo>
                <a:cubicBezTo>
                  <a:pt x="141" y="1278"/>
                  <a:pt x="134" y="1126"/>
                  <a:pt x="57" y="1011"/>
                </a:cubicBezTo>
                <a:cubicBezTo>
                  <a:pt x="0" y="708"/>
                  <a:pt x="15" y="378"/>
                  <a:pt x="187" y="118"/>
                </a:cubicBezTo>
                <a:cubicBezTo>
                  <a:pt x="213" y="79"/>
                  <a:pt x="236" y="33"/>
                  <a:pt x="269" y="0"/>
                </a:cubicBezTo>
              </a:path>
            </a:pathLst>
          </a:custGeom>
          <a:noFill/>
          <a:ln w="12600">
            <a:solidFill>
              <a:srgbClr val="33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22800" y="3362400"/>
            <a:ext cx="1268640" cy="2314440"/>
          </a:xfrm>
          <a:custGeom>
            <a:avLst/>
            <a:gdLst/>
            <a:ahLst/>
            <a:rect l="l" t="t" r="r" b="b"/>
            <a:pathLst>
              <a:path w="799" h="1458">
                <a:moveTo>
                  <a:pt x="756" y="1458"/>
                </a:moveTo>
                <a:cubicBezTo>
                  <a:pt x="799" y="1329"/>
                  <a:pt x="777" y="1410"/>
                  <a:pt x="756" y="1117"/>
                </a:cubicBezTo>
                <a:cubicBezTo>
                  <a:pt x="755" y="1104"/>
                  <a:pt x="752" y="1091"/>
                  <a:pt x="744" y="1081"/>
                </a:cubicBezTo>
                <a:cubicBezTo>
                  <a:pt x="744" y="1081"/>
                  <a:pt x="657" y="994"/>
                  <a:pt x="639" y="976"/>
                </a:cubicBezTo>
                <a:cubicBezTo>
                  <a:pt x="619" y="956"/>
                  <a:pt x="592" y="945"/>
                  <a:pt x="568" y="929"/>
                </a:cubicBezTo>
                <a:cubicBezTo>
                  <a:pt x="556" y="921"/>
                  <a:pt x="533" y="905"/>
                  <a:pt x="533" y="905"/>
                </a:cubicBezTo>
                <a:cubicBezTo>
                  <a:pt x="493" y="846"/>
                  <a:pt x="521" y="879"/>
                  <a:pt x="439" y="823"/>
                </a:cubicBezTo>
                <a:cubicBezTo>
                  <a:pt x="339" y="755"/>
                  <a:pt x="255" y="742"/>
                  <a:pt x="133" y="729"/>
                </a:cubicBezTo>
                <a:cubicBezTo>
                  <a:pt x="72" y="687"/>
                  <a:pt x="49" y="692"/>
                  <a:pt x="4" y="623"/>
                </a:cubicBezTo>
                <a:cubicBezTo>
                  <a:pt x="9" y="568"/>
                  <a:pt x="0" y="507"/>
                  <a:pt x="27" y="458"/>
                </a:cubicBezTo>
                <a:cubicBezTo>
                  <a:pt x="112" y="303"/>
                  <a:pt x="256" y="159"/>
                  <a:pt x="380" y="35"/>
                </a:cubicBezTo>
                <a:cubicBezTo>
                  <a:pt x="385" y="30"/>
                  <a:pt x="417" y="10"/>
                  <a:pt x="427" y="0"/>
                </a:cubicBezTo>
              </a:path>
            </a:pathLst>
          </a:custGeom>
          <a:noFill/>
          <a:ln w="12600">
            <a:solidFill>
              <a:srgbClr val="33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5520" y="3473280"/>
            <a:ext cx="1920960" cy="952560"/>
          </a:xfrm>
          <a:custGeom>
            <a:avLst/>
            <a:gdLst/>
            <a:ahLst/>
            <a:rect l="l" t="t" r="r" b="b"/>
            <a:pathLst>
              <a:path w="1210" h="600">
                <a:moveTo>
                  <a:pt x="0" y="600"/>
                </a:moveTo>
                <a:cubicBezTo>
                  <a:pt x="97" y="575"/>
                  <a:pt x="198" y="569"/>
                  <a:pt x="293" y="541"/>
                </a:cubicBezTo>
                <a:cubicBezTo>
                  <a:pt x="379" y="515"/>
                  <a:pt x="466" y="487"/>
                  <a:pt x="552" y="459"/>
                </a:cubicBezTo>
                <a:cubicBezTo>
                  <a:pt x="565" y="455"/>
                  <a:pt x="574" y="441"/>
                  <a:pt x="587" y="435"/>
                </a:cubicBezTo>
                <a:cubicBezTo>
                  <a:pt x="598" y="429"/>
                  <a:pt x="611" y="428"/>
                  <a:pt x="623" y="424"/>
                </a:cubicBezTo>
                <a:cubicBezTo>
                  <a:pt x="760" y="330"/>
                  <a:pt x="565" y="460"/>
                  <a:pt x="693" y="388"/>
                </a:cubicBezTo>
                <a:cubicBezTo>
                  <a:pt x="781" y="339"/>
                  <a:pt x="864" y="276"/>
                  <a:pt x="940" y="212"/>
                </a:cubicBezTo>
                <a:cubicBezTo>
                  <a:pt x="978" y="180"/>
                  <a:pt x="976" y="192"/>
                  <a:pt x="1022" y="165"/>
                </a:cubicBezTo>
                <a:cubicBezTo>
                  <a:pt x="1046" y="151"/>
                  <a:pt x="1093" y="118"/>
                  <a:pt x="1093" y="118"/>
                </a:cubicBezTo>
                <a:cubicBezTo>
                  <a:pt x="1124" y="71"/>
                  <a:pt x="1171" y="41"/>
                  <a:pt x="1210" y="0"/>
                </a:cubicBezTo>
              </a:path>
            </a:pathLst>
          </a:custGeom>
          <a:noFill/>
          <a:ln w="12600">
            <a:solidFill>
              <a:srgbClr val="33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3321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B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39085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C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8040" y="4005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E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10552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F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H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5276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38862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D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724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K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99200" y="4941720"/>
            <a:ext cx="533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J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·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5084640"/>
            <a:ext cx="14875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黑体"/>
                <a:ea typeface="黑体"/>
              </a:rPr>
              <a:t>· </a:t>
            </a:r>
            <a:r>
              <a:rPr b="1" lang="en-US" sz="2400" spc="-1" strike="noStrike">
                <a:solidFill>
                  <a:srgbClr val="333300"/>
                </a:solidFill>
                <a:latin typeface="黑体"/>
                <a:ea typeface="黑体"/>
              </a:rPr>
              <a:t>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13716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,E,F,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17524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16360" y="2209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515280" y="761040"/>
            <a:ext cx="2520720" cy="624960"/>
            <a:chOff x="6515280" y="761040"/>
            <a:chExt cx="2520720" cy="624960"/>
          </a:xfrm>
        </p:grpSpPr>
        <p:grpSp>
          <p:nvGrpSpPr>
            <p:cNvPr id="173" name=""/>
            <p:cNvGrpSpPr/>
            <p:nvPr/>
          </p:nvGrpSpPr>
          <p:grpSpPr>
            <a:xfrm>
              <a:off x="6515280" y="816120"/>
              <a:ext cx="2520720" cy="569880"/>
              <a:chOff x="6515280" y="816120"/>
              <a:chExt cx="2520720" cy="5698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6515280" y="816120"/>
                <a:ext cx="2477160" cy="547920"/>
                <a:chOff x="6515280" y="816120"/>
                <a:chExt cx="2477160" cy="54792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7019280" y="991440"/>
                  <a:ext cx="1973160" cy="351000"/>
                  <a:chOff x="7019280" y="991440"/>
                  <a:chExt cx="1973160" cy="3510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7019280" y="1144440"/>
                    <a:ext cx="15130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30" h="318">
                        <a:moveTo>
                          <a:pt x="0" y="0"/>
                        </a:moveTo>
                        <a:lnTo>
                          <a:pt x="3130" y="0"/>
                        </a:lnTo>
                        <a:lnTo>
                          <a:pt x="2994" y="318"/>
                        </a:lnTo>
                        <a:lnTo>
                          <a:pt x="0" y="3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c8b00">
                      <a:alpha val="7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8532360" y="991440"/>
                    <a:ext cx="46008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26">
                        <a:moveTo>
                          <a:pt x="408" y="0"/>
                        </a:moveTo>
                        <a:lnTo>
                          <a:pt x="952" y="0"/>
                        </a:lnTo>
                        <a:lnTo>
                          <a:pt x="589" y="726"/>
                        </a:lnTo>
                        <a:lnTo>
                          <a:pt x="0" y="726"/>
                        </a:lnTo>
                        <a:lnTo>
                          <a:pt x="408" y="0"/>
                        </a:lnTo>
                        <a:close/>
                      </a:path>
                    </a:pathLst>
                  </a:custGeom>
                  <a:solidFill>
                    <a:srgbClr val="bc8b00">
                      <a:alpha val="7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515280" y="816120"/>
                  <a:ext cx="657000" cy="547920"/>
                  <a:chOff x="6515280" y="816120"/>
                  <a:chExt cx="657000" cy="54792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6515280" y="816120"/>
                    <a:ext cx="416160" cy="460800"/>
                    <a:chOff x="6515280" y="816120"/>
                    <a:chExt cx="416160" cy="46080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515280" y="816120"/>
                      <a:ext cx="416160" cy="460800"/>
                      <a:chOff x="6515280" y="816120"/>
                      <a:chExt cx="416160" cy="46080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515280" y="903600"/>
                        <a:ext cx="218880" cy="37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3" h="772">
                            <a:moveTo>
                              <a:pt x="0" y="136"/>
                            </a:moveTo>
                            <a:lnTo>
                              <a:pt x="136" y="136"/>
                            </a:lnTo>
                            <a:lnTo>
                              <a:pt x="136" y="0"/>
                            </a:lnTo>
                            <a:lnTo>
                              <a:pt x="453" y="363"/>
                            </a:lnTo>
                            <a:lnTo>
                              <a:pt x="136" y="772"/>
                            </a:lnTo>
                            <a:lnTo>
                              <a:pt x="136" y="635"/>
                            </a:lnTo>
                            <a:lnTo>
                              <a:pt x="45" y="635"/>
                            </a:lnTo>
                            <a:lnTo>
                              <a:pt x="136" y="635"/>
                            </a:lnTo>
                            <a:lnTo>
                              <a:pt x="0" y="635"/>
                            </a:lnTo>
                            <a:lnTo>
                              <a:pt x="0" y="136"/>
                            </a:lnTo>
                            <a:close/>
                          </a:path>
                        </a:pathLst>
                      </a:custGeom>
                      <a:solidFill>
                        <a:srgbClr val="95ca00">
                          <a:alpha val="58000"/>
                        </a:srgbClr>
                      </a:solidFill>
                      <a:ln w="381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6602760" y="816120"/>
                        <a:ext cx="153720" cy="24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8" h="499">
                            <a:moveTo>
                              <a:pt x="318" y="499"/>
                            </a:moveTo>
                            <a:lnTo>
                              <a:pt x="318" y="0"/>
                            </a:lnTo>
                            <a:lnTo>
                              <a:pt x="91" y="0"/>
                            </a:lnTo>
                            <a:lnTo>
                              <a:pt x="91" y="181"/>
                            </a:lnTo>
                            <a:lnTo>
                              <a:pt x="0" y="136"/>
                            </a:lnTo>
                            <a:lnTo>
                              <a:pt x="318" y="499"/>
                            </a:lnTo>
                            <a:close/>
                          </a:path>
                        </a:pathLst>
                      </a:custGeom>
                      <a:solidFill>
                        <a:srgbClr val="8bb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6756480" y="816120"/>
                        <a:ext cx="174960" cy="24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2" h="499">
                            <a:moveTo>
                              <a:pt x="0" y="499"/>
                            </a:moveTo>
                            <a:lnTo>
                              <a:pt x="0" y="0"/>
                            </a:lnTo>
                            <a:lnTo>
                              <a:pt x="272" y="0"/>
                            </a:lnTo>
                            <a:lnTo>
                              <a:pt x="272" y="136"/>
                            </a:lnTo>
                            <a:lnTo>
                              <a:pt x="362" y="136"/>
                            </a:lnTo>
                            <a:lnTo>
                              <a:pt x="0" y="499"/>
                            </a:lnTo>
                            <a:close/>
                          </a:path>
                        </a:pathLst>
                      </a:custGeom>
                      <a:solidFill>
                        <a:srgbClr val="008a00">
                          <a:alpha val="7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602760" y="816120"/>
                      <a:ext cx="32868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0" h="544">
                          <a:moveTo>
                            <a:pt x="91" y="0"/>
                          </a:moveTo>
                          <a:lnTo>
                            <a:pt x="590" y="0"/>
                          </a:lnTo>
                          <a:lnTo>
                            <a:pt x="590" y="136"/>
                          </a:lnTo>
                          <a:lnTo>
                            <a:pt x="680" y="136"/>
                          </a:lnTo>
                          <a:lnTo>
                            <a:pt x="363" y="499"/>
                          </a:lnTo>
                          <a:lnTo>
                            <a:pt x="318" y="544"/>
                          </a:lnTo>
                          <a:lnTo>
                            <a:pt x="0" y="136"/>
                          </a:lnTo>
                          <a:lnTo>
                            <a:pt x="91" y="136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noFill/>
                    <a:ln w="38160">
                      <a:solidFill>
                        <a:srgbClr val="33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6602760" y="1101240"/>
                    <a:ext cx="28512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544">
                        <a:moveTo>
                          <a:pt x="318" y="0"/>
                        </a:moveTo>
                        <a:lnTo>
                          <a:pt x="0" y="408"/>
                        </a:lnTo>
                        <a:lnTo>
                          <a:pt x="91" y="408"/>
                        </a:lnTo>
                        <a:lnTo>
                          <a:pt x="91" y="544"/>
                        </a:lnTo>
                        <a:lnTo>
                          <a:pt x="590" y="544"/>
                        </a:lnTo>
                        <a:lnTo>
                          <a:pt x="590" y="272"/>
                        </a:lnTo>
                        <a:lnTo>
                          <a:pt x="318" y="0"/>
                        </a:lnTo>
                        <a:close/>
                      </a:path>
                    </a:pathLst>
                  </a:custGeom>
                  <a:solidFill>
                    <a:srgbClr val="6f9600">
                      <a:alpha val="70000"/>
                    </a:srgbClr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800040" y="903600"/>
                    <a:ext cx="2192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726">
                        <a:moveTo>
                          <a:pt x="318" y="0"/>
                        </a:moveTo>
                        <a:lnTo>
                          <a:pt x="0" y="363"/>
                        </a:lnTo>
                        <a:lnTo>
                          <a:pt x="136" y="590"/>
                        </a:lnTo>
                        <a:lnTo>
                          <a:pt x="408" y="726"/>
                        </a:lnTo>
                        <a:lnTo>
                          <a:pt x="454" y="635"/>
                        </a:lnTo>
                        <a:lnTo>
                          <a:pt x="454" y="91"/>
                        </a:lnTo>
                        <a:lnTo>
                          <a:pt x="318" y="91"/>
                        </a:lnTo>
                        <a:lnTo>
                          <a:pt x="318" y="0"/>
                        </a:lnTo>
                        <a:close/>
                      </a:path>
                    </a:pathLst>
                  </a:custGeom>
                  <a:solidFill>
                    <a:srgbClr val="008a00">
                      <a:alpha val="82000"/>
                    </a:srgbClr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712200" y="881640"/>
                    <a:ext cx="46008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953">
                        <a:moveTo>
                          <a:pt x="0" y="726"/>
                        </a:moveTo>
                        <a:lnTo>
                          <a:pt x="952" y="0"/>
                        </a:lnTo>
                        <a:lnTo>
                          <a:pt x="635" y="953"/>
                        </a:lnTo>
                        <a:lnTo>
                          <a:pt x="0" y="726"/>
                        </a:lnTo>
                        <a:close/>
                      </a:path>
                    </a:pathLst>
                  </a:custGeom>
                  <a:solidFill>
                    <a:srgbClr val="cfca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6865560" y="1057320"/>
                    <a:ext cx="196920" cy="175320"/>
                    <a:chOff x="6865560" y="1057320"/>
                    <a:chExt cx="196920" cy="17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018560" y="1057320"/>
                      <a:ext cx="439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81">
                          <a:moveTo>
                            <a:pt x="0" y="45"/>
                          </a:moveTo>
                          <a:lnTo>
                            <a:pt x="0" y="181"/>
                          </a:lnTo>
                          <a:lnTo>
                            <a:pt x="91" y="0"/>
                          </a:lnTo>
                          <a:lnTo>
                            <a:pt x="0" y="45"/>
                          </a:lnTo>
                          <a:close/>
                        </a:path>
                      </a:pathLst>
                    </a:custGeom>
                    <a:solidFill>
                      <a:srgbClr val="d9f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6865560" y="1057320"/>
                      <a:ext cx="196920" cy="17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408">
                          <a:moveTo>
                            <a:pt x="0" y="317"/>
                          </a:moveTo>
                          <a:lnTo>
                            <a:pt x="272" y="408"/>
                          </a:lnTo>
                          <a:lnTo>
                            <a:pt x="408" y="0"/>
                          </a:lnTo>
                          <a:lnTo>
                            <a:pt x="0" y="317"/>
                          </a:lnTo>
                          <a:close/>
                        </a:path>
                      </a:pathLst>
                    </a:custGeom>
                    <a:noFill/>
                    <a:ln w="38160">
                      <a:solidFill>
                        <a:srgbClr val="33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6865560" y="1100880"/>
                    <a:ext cx="153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72">
                        <a:moveTo>
                          <a:pt x="318" y="0"/>
                        </a:moveTo>
                        <a:lnTo>
                          <a:pt x="318" y="181"/>
                        </a:lnTo>
                        <a:lnTo>
                          <a:pt x="272" y="272"/>
                        </a:lnTo>
                        <a:lnTo>
                          <a:pt x="0" y="181"/>
                        </a:lnTo>
                        <a:lnTo>
                          <a:pt x="318" y="0"/>
                        </a:lnTo>
                        <a:close/>
                      </a:path>
                    </a:pathLst>
                  </a:custGeom>
                  <a:solidFill>
                    <a:srgbClr val="008a00">
                      <a:alpha val="64000"/>
                    </a:srgbClr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2" name=""/>
              <p:cNvSpPr/>
              <p:nvPr/>
            </p:nvSpPr>
            <p:spPr>
              <a:xfrm>
                <a:off x="6887880" y="969120"/>
                <a:ext cx="2148120" cy="416520"/>
              </a:xfrm>
              <a:custGeom>
                <a:avLst/>
                <a:gdLst/>
                <a:ahLst/>
                <a:rect l="l" t="t" r="r" b="b"/>
                <a:pathLst>
                  <a:path w="4989" h="907">
                    <a:moveTo>
                      <a:pt x="4899" y="0"/>
                    </a:moveTo>
                    <a:lnTo>
                      <a:pt x="4490" y="817"/>
                    </a:lnTo>
                    <a:lnTo>
                      <a:pt x="0" y="817"/>
                    </a:lnTo>
                    <a:lnTo>
                      <a:pt x="0" y="907"/>
                    </a:lnTo>
                    <a:lnTo>
                      <a:pt x="4536" y="907"/>
                    </a:lnTo>
                    <a:lnTo>
                      <a:pt x="4989" y="0"/>
                    </a:lnTo>
                    <a:lnTo>
                      <a:pt x="4899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24360" y="136440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45" h="45">
                    <a:moveTo>
                      <a:pt x="46" y="0"/>
                    </a:moveTo>
                    <a:lnTo>
                      <a:pt x="545" y="0"/>
                    </a:lnTo>
                    <a:lnTo>
                      <a:pt x="499" y="45"/>
                    </a:lnTo>
                    <a:lnTo>
                      <a:pt x="0" y="4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7020000" y="761040"/>
              <a:ext cx="165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333300"/>
                  </a:solidFill>
                  <a:latin typeface="Times New Roman"/>
                  <a:ea typeface="Arial Unicode MS"/>
                </a:rPr>
                <a:t>做一做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判断  与   命题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D434-3106-4CCC-B259-27AA6599DA3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441B0-C9A8-4EF7-BA98-FA870C85530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71640" y="907920"/>
            <a:ext cx="571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下列句子都是命题吗？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4440" y="2870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(4)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无论</a:t>
            </a:r>
            <a:r>
              <a:rPr b="1" i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为怎样的自然数，式子</a:t>
            </a:r>
            <a:r>
              <a:rPr b="1" i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 baseline="30000">
                <a:solidFill>
                  <a:srgbClr val="3333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-</a:t>
            </a:r>
            <a:r>
              <a:rPr b="1" i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+11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的值都是质数；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440" y="1938240"/>
            <a:ext cx="7391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任何一个三角形一定有直角；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440" y="150660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熊猫没有翅膀；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4440" y="2370240"/>
            <a:ext cx="7391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对顶角相等；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0400" y="499572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反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9a0033"/>
                </a:solidFill>
                <a:latin typeface="黑体"/>
                <a:ea typeface="黑体"/>
              </a:rPr>
              <a:t>如果一个句子没有对某一伯事情作出任何判断</a:t>
            </a:r>
            <a:r>
              <a:rPr b="1" lang="zh-CN" sz="2400" spc="-1" strike="noStrike">
                <a:solidFill>
                  <a:srgbClr val="9a0033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9a0033"/>
                </a:solidFill>
                <a:latin typeface="黑体"/>
                <a:ea typeface="黑体"/>
              </a:rPr>
              <a:t>那么它就不是命题</a:t>
            </a:r>
            <a:r>
              <a:rPr b="1" lang="zh-CN" sz="2400" spc="-1" strike="noStrike">
                <a:solidFill>
                  <a:srgbClr val="9a0033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例如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下列句子都不是命题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3920" y="577692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你喜欢数学吗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77920" y="61358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(2)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作线段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B=C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4440" y="331956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(5)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如果两条直线都和第三条直线平行，那么这两条直线也互相平行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0400" y="4157640"/>
            <a:ext cx="821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命题一般都写成“如果……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那么……”的形式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你能把上面的命题都写成“如果……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那么……”的形式吗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8000" y="835560"/>
            <a:ext cx="2521080" cy="624960"/>
            <a:chOff x="108000" y="835560"/>
            <a:chExt cx="2521080" cy="624960"/>
          </a:xfrm>
        </p:grpSpPr>
        <p:grpSp>
          <p:nvGrpSpPr>
            <p:cNvPr id="207" name=""/>
            <p:cNvGrpSpPr/>
            <p:nvPr/>
          </p:nvGrpSpPr>
          <p:grpSpPr>
            <a:xfrm>
              <a:off x="108000" y="890640"/>
              <a:ext cx="2521080" cy="569880"/>
              <a:chOff x="108000" y="890640"/>
              <a:chExt cx="2521080" cy="5698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08000" y="890640"/>
                <a:ext cx="2477520" cy="547920"/>
                <a:chOff x="108000" y="890640"/>
                <a:chExt cx="2477520" cy="5479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12000" y="1065960"/>
                  <a:ext cx="1973520" cy="351000"/>
                  <a:chOff x="612000" y="1065960"/>
                  <a:chExt cx="1973520" cy="3510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12000" y="1218960"/>
                    <a:ext cx="151344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30" h="318">
                        <a:moveTo>
                          <a:pt x="0" y="0"/>
                        </a:moveTo>
                        <a:lnTo>
                          <a:pt x="3130" y="0"/>
                        </a:lnTo>
                        <a:lnTo>
                          <a:pt x="2994" y="318"/>
                        </a:lnTo>
                        <a:lnTo>
                          <a:pt x="0" y="3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a0033">
                      <a:alpha val="6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125440" y="1065960"/>
                    <a:ext cx="46008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26">
                        <a:moveTo>
                          <a:pt x="408" y="0"/>
                        </a:moveTo>
                        <a:lnTo>
                          <a:pt x="952" y="0"/>
                        </a:lnTo>
                        <a:lnTo>
                          <a:pt x="589" y="726"/>
                        </a:lnTo>
                        <a:lnTo>
                          <a:pt x="0" y="726"/>
                        </a:lnTo>
                        <a:lnTo>
                          <a:pt x="408" y="0"/>
                        </a:lnTo>
                        <a:close/>
                      </a:path>
                    </a:pathLst>
                  </a:custGeom>
                  <a:solidFill>
                    <a:srgbClr val="9e0035">
                      <a:alpha val="77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8000" y="890640"/>
                  <a:ext cx="657000" cy="547920"/>
                  <a:chOff x="108000" y="890640"/>
                  <a:chExt cx="657000" cy="54792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08000" y="890640"/>
                    <a:ext cx="416160" cy="460800"/>
                    <a:chOff x="108000" y="890640"/>
                    <a:chExt cx="416160" cy="460800"/>
                  </a:xfrm>
                </p:grpSpPr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108000" y="890640"/>
                      <a:ext cx="416160" cy="460800"/>
                      <a:chOff x="108000" y="890640"/>
                      <a:chExt cx="416160" cy="460800"/>
                    </a:xfrm>
                  </p:grpSpPr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108000" y="978120"/>
                        <a:ext cx="218880" cy="37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3" h="772">
                            <a:moveTo>
                              <a:pt x="0" y="136"/>
                            </a:moveTo>
                            <a:lnTo>
                              <a:pt x="136" y="136"/>
                            </a:lnTo>
                            <a:lnTo>
                              <a:pt x="136" y="0"/>
                            </a:lnTo>
                            <a:lnTo>
                              <a:pt x="453" y="363"/>
                            </a:lnTo>
                            <a:lnTo>
                              <a:pt x="136" y="772"/>
                            </a:lnTo>
                            <a:lnTo>
                              <a:pt x="136" y="635"/>
                            </a:lnTo>
                            <a:lnTo>
                              <a:pt x="45" y="635"/>
                            </a:lnTo>
                            <a:lnTo>
                              <a:pt x="136" y="635"/>
                            </a:lnTo>
                            <a:lnTo>
                              <a:pt x="0" y="635"/>
                            </a:lnTo>
                            <a:lnTo>
                              <a:pt x="0" y="136"/>
                            </a:lnTo>
                            <a:close/>
                          </a:path>
                        </a:pathLst>
                      </a:custGeom>
                      <a:solidFill>
                        <a:srgbClr val="95ca00">
                          <a:alpha val="58000"/>
                        </a:srgbClr>
                      </a:solidFill>
                      <a:ln w="381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195480" y="890640"/>
                        <a:ext cx="153720" cy="24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8" h="499">
                            <a:moveTo>
                              <a:pt x="318" y="499"/>
                            </a:moveTo>
                            <a:lnTo>
                              <a:pt x="318" y="0"/>
                            </a:lnTo>
                            <a:lnTo>
                              <a:pt x="91" y="0"/>
                            </a:lnTo>
                            <a:lnTo>
                              <a:pt x="91" y="181"/>
                            </a:lnTo>
                            <a:lnTo>
                              <a:pt x="0" y="136"/>
                            </a:lnTo>
                            <a:lnTo>
                              <a:pt x="318" y="499"/>
                            </a:lnTo>
                            <a:close/>
                          </a:path>
                        </a:pathLst>
                      </a:custGeom>
                      <a:solidFill>
                        <a:srgbClr val="8bb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349200" y="890640"/>
                        <a:ext cx="174960" cy="24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2" h="499">
                            <a:moveTo>
                              <a:pt x="0" y="499"/>
                            </a:moveTo>
                            <a:lnTo>
                              <a:pt x="0" y="0"/>
                            </a:lnTo>
                            <a:lnTo>
                              <a:pt x="272" y="0"/>
                            </a:lnTo>
                            <a:lnTo>
                              <a:pt x="272" y="136"/>
                            </a:lnTo>
                            <a:lnTo>
                              <a:pt x="362" y="136"/>
                            </a:lnTo>
                            <a:lnTo>
                              <a:pt x="0" y="499"/>
                            </a:lnTo>
                            <a:close/>
                          </a:path>
                        </a:pathLst>
                      </a:custGeom>
                      <a:solidFill>
                        <a:srgbClr val="008a00">
                          <a:alpha val="7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195480" y="890640"/>
                      <a:ext cx="32868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0" h="544">
                          <a:moveTo>
                            <a:pt x="91" y="0"/>
                          </a:moveTo>
                          <a:lnTo>
                            <a:pt x="590" y="0"/>
                          </a:lnTo>
                          <a:lnTo>
                            <a:pt x="590" y="136"/>
                          </a:lnTo>
                          <a:lnTo>
                            <a:pt x="680" y="136"/>
                          </a:lnTo>
                          <a:lnTo>
                            <a:pt x="363" y="499"/>
                          </a:lnTo>
                          <a:lnTo>
                            <a:pt x="318" y="544"/>
                          </a:lnTo>
                          <a:lnTo>
                            <a:pt x="0" y="136"/>
                          </a:lnTo>
                          <a:lnTo>
                            <a:pt x="91" y="136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noFill/>
                    <a:ln w="38160">
                      <a:solidFill>
                        <a:srgbClr val="33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9" name=""/>
                  <p:cNvSpPr/>
                  <p:nvPr/>
                </p:nvSpPr>
                <p:spPr>
                  <a:xfrm>
                    <a:off x="195480" y="1175760"/>
                    <a:ext cx="28512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544">
                        <a:moveTo>
                          <a:pt x="318" y="0"/>
                        </a:moveTo>
                        <a:lnTo>
                          <a:pt x="0" y="408"/>
                        </a:lnTo>
                        <a:lnTo>
                          <a:pt x="91" y="408"/>
                        </a:lnTo>
                        <a:lnTo>
                          <a:pt x="91" y="544"/>
                        </a:lnTo>
                        <a:lnTo>
                          <a:pt x="590" y="544"/>
                        </a:lnTo>
                        <a:lnTo>
                          <a:pt x="590" y="272"/>
                        </a:lnTo>
                        <a:lnTo>
                          <a:pt x="318" y="0"/>
                        </a:lnTo>
                        <a:close/>
                      </a:path>
                    </a:pathLst>
                  </a:custGeom>
                  <a:solidFill>
                    <a:srgbClr val="6f9600">
                      <a:alpha val="70000"/>
                    </a:srgbClr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92760" y="978120"/>
                    <a:ext cx="2192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726">
                        <a:moveTo>
                          <a:pt x="318" y="0"/>
                        </a:moveTo>
                        <a:lnTo>
                          <a:pt x="0" y="363"/>
                        </a:lnTo>
                        <a:lnTo>
                          <a:pt x="136" y="590"/>
                        </a:lnTo>
                        <a:lnTo>
                          <a:pt x="408" y="726"/>
                        </a:lnTo>
                        <a:lnTo>
                          <a:pt x="454" y="635"/>
                        </a:lnTo>
                        <a:lnTo>
                          <a:pt x="454" y="91"/>
                        </a:lnTo>
                        <a:lnTo>
                          <a:pt x="318" y="91"/>
                        </a:lnTo>
                        <a:lnTo>
                          <a:pt x="318" y="0"/>
                        </a:lnTo>
                        <a:close/>
                      </a:path>
                    </a:pathLst>
                  </a:custGeom>
                  <a:solidFill>
                    <a:srgbClr val="008a00">
                      <a:alpha val="82000"/>
                    </a:srgbClr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4920" y="956160"/>
                    <a:ext cx="46008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953">
                        <a:moveTo>
                          <a:pt x="0" y="726"/>
                        </a:moveTo>
                        <a:lnTo>
                          <a:pt x="952" y="0"/>
                        </a:lnTo>
                        <a:lnTo>
                          <a:pt x="635" y="953"/>
                        </a:lnTo>
                        <a:lnTo>
                          <a:pt x="0" y="726"/>
                        </a:lnTo>
                        <a:close/>
                      </a:path>
                    </a:pathLst>
                  </a:custGeom>
                  <a:solidFill>
                    <a:srgbClr val="cfca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458280" y="1131840"/>
                    <a:ext cx="196920" cy="175320"/>
                    <a:chOff x="458280" y="1131840"/>
                    <a:chExt cx="196920" cy="175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11280" y="1131840"/>
                      <a:ext cx="439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81">
                          <a:moveTo>
                            <a:pt x="0" y="45"/>
                          </a:moveTo>
                          <a:lnTo>
                            <a:pt x="0" y="181"/>
                          </a:lnTo>
                          <a:lnTo>
                            <a:pt x="91" y="0"/>
                          </a:lnTo>
                          <a:lnTo>
                            <a:pt x="0" y="45"/>
                          </a:lnTo>
                          <a:close/>
                        </a:path>
                      </a:pathLst>
                    </a:custGeom>
                    <a:solidFill>
                      <a:srgbClr val="d9f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58280" y="1131840"/>
                      <a:ext cx="196920" cy="17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408">
                          <a:moveTo>
                            <a:pt x="0" y="317"/>
                          </a:moveTo>
                          <a:lnTo>
                            <a:pt x="272" y="408"/>
                          </a:lnTo>
                          <a:lnTo>
                            <a:pt x="408" y="0"/>
                          </a:lnTo>
                          <a:lnTo>
                            <a:pt x="0" y="317"/>
                          </a:lnTo>
                          <a:close/>
                        </a:path>
                      </a:pathLst>
                    </a:custGeom>
                    <a:noFill/>
                    <a:ln w="38160">
                      <a:solidFill>
                        <a:srgbClr val="33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5" name=""/>
                  <p:cNvSpPr/>
                  <p:nvPr/>
                </p:nvSpPr>
                <p:spPr>
                  <a:xfrm>
                    <a:off x="458280" y="1175400"/>
                    <a:ext cx="1537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72">
                        <a:moveTo>
                          <a:pt x="318" y="0"/>
                        </a:moveTo>
                        <a:lnTo>
                          <a:pt x="318" y="181"/>
                        </a:lnTo>
                        <a:lnTo>
                          <a:pt x="272" y="272"/>
                        </a:lnTo>
                        <a:lnTo>
                          <a:pt x="0" y="181"/>
                        </a:lnTo>
                        <a:lnTo>
                          <a:pt x="318" y="0"/>
                        </a:lnTo>
                        <a:close/>
                      </a:path>
                    </a:pathLst>
                  </a:custGeom>
                  <a:solidFill>
                    <a:srgbClr val="008a00">
                      <a:alpha val="64000"/>
                    </a:srgbClr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480600" y="1043640"/>
                <a:ext cx="2148480" cy="416520"/>
              </a:xfrm>
              <a:custGeom>
                <a:avLst/>
                <a:gdLst/>
                <a:ahLst/>
                <a:rect l="l" t="t" r="r" b="b"/>
                <a:pathLst>
                  <a:path w="4989" h="907">
                    <a:moveTo>
                      <a:pt x="4899" y="0"/>
                    </a:moveTo>
                    <a:lnTo>
                      <a:pt x="4490" y="817"/>
                    </a:lnTo>
                    <a:lnTo>
                      <a:pt x="0" y="817"/>
                    </a:lnTo>
                    <a:lnTo>
                      <a:pt x="0" y="907"/>
                    </a:lnTo>
                    <a:lnTo>
                      <a:pt x="4536" y="907"/>
                    </a:lnTo>
                    <a:lnTo>
                      <a:pt x="4989" y="0"/>
                    </a:lnTo>
                    <a:lnTo>
                      <a:pt x="4899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7080" y="143892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45" h="45">
                    <a:moveTo>
                      <a:pt x="46" y="0"/>
                    </a:moveTo>
                    <a:lnTo>
                      <a:pt x="545" y="0"/>
                    </a:lnTo>
                    <a:lnTo>
                      <a:pt x="499" y="45"/>
                    </a:lnTo>
                    <a:lnTo>
                      <a:pt x="0" y="4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2720" y="835560"/>
              <a:ext cx="165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333300"/>
                  </a:solidFill>
                  <a:latin typeface="Times New Roman"/>
                  <a:ea typeface="Arial Unicode MS"/>
                </a:rPr>
                <a:t>做一做</a:t>
              </a:r>
              <a:endParaRPr b="0" lang="en-US" sz="3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命题 的  一般形式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6A34-8B05-4D19-AF12-C3CBE16C563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81EB4-3CC1-404D-B15B-292D9B30538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9360" y="-8280"/>
            <a:ext cx="9153360" cy="772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Book Antiqua"/>
              </a:rPr>
              <a:t>命题的  真 、伪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836640"/>
          <a:ext cx="7993080" cy="1185840"/>
        </p:xfrm>
        <a:graphic>
          <a:graphicData uri="http://schemas.openxmlformats.org/drawingml/2006/table">
            <a:tbl>
              <a:tblPr/>
              <a:tblGrid>
                <a:gridCol w="2376360"/>
                <a:gridCol w="1871640"/>
                <a:gridCol w="374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9a0033"/>
                          </a:solidFill>
                          <a:latin typeface="黑体"/>
                          <a:ea typeface="Times New Roman"/>
                        </a:rPr>
                        <a:t>命题 </a:t>
                      </a: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黑体"/>
                          <a:ea typeface="Times New Roman"/>
                        </a:rPr>
                        <a:t>的</a:t>
                      </a:r>
                      <a:r>
                        <a:rPr b="1" lang="zh-CN" sz="2000" spc="-1" strike="noStrike">
                          <a:solidFill>
                            <a:srgbClr val="9a0033"/>
                          </a:solidFill>
                          <a:latin typeface="黑体"/>
                          <a:ea typeface="Times New Roman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660033"/>
                          </a:solidFill>
                          <a:latin typeface="黑体"/>
                          <a:ea typeface="Times New Roman"/>
                        </a:rPr>
                        <a:t>组成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Times New Roman"/>
                        </a:rPr>
                        <a:t>组成剖析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9a0033"/>
                          </a:solidFill>
                          <a:latin typeface="黑体"/>
                          <a:ea typeface="Times New Roman"/>
                        </a:rPr>
                        <a:t>命题</a:t>
                      </a: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黑体"/>
                          <a:ea typeface="Times New Roman"/>
                        </a:rPr>
                        <a:t>的</a:t>
                      </a: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黑体"/>
                          <a:ea typeface="Times New Roman"/>
                        </a:rPr>
                        <a:t>表达形式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华文隶书"/>
                          <a:ea typeface="华文隶书"/>
                        </a:rPr>
                        <a:t>如果……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00"/>
                          </a:solidFill>
                          <a:latin typeface="华文隶书"/>
                          <a:ea typeface="华文隶书"/>
                        </a:rPr>
                        <a:t>那么……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4920" y="3734640"/>
            <a:ext cx="28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4360" y="2205000"/>
          <a:ext cx="7993080" cy="826920"/>
        </p:xfrm>
        <a:graphic>
          <a:graphicData uri="http://schemas.openxmlformats.org/drawingml/2006/table">
            <a:tbl>
              <a:tblPr/>
              <a:tblGrid>
                <a:gridCol w="1223640"/>
                <a:gridCol w="676944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宋体"/>
                        </a:rPr>
                        <a:t>真命题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宋体"/>
                        </a:rPr>
                        <a:t>假命题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258920" y="51634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02520" y="8366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题设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89840" y="8366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结论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6320" y="1268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华文隶书"/>
              </a:rPr>
              <a:t>已知事项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82040" y="1268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华文隶书"/>
              </a:rPr>
              <a:t>由已知事项推出的事项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5240" y="22766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华文隶书"/>
              </a:rPr>
              <a:t>如果题设成立，那么结论一定成立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26370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华文隶书"/>
              </a:rPr>
              <a:t>题设成立时，不能保证结论还是正确的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6200" y="3140640"/>
            <a:ext cx="8713800" cy="1986120"/>
            <a:chOff x="106200" y="3140640"/>
            <a:chExt cx="8713800" cy="1986120"/>
          </a:xfrm>
        </p:grpSpPr>
        <p:sp>
          <p:nvSpPr>
            <p:cNvPr id="242" name=""/>
            <p:cNvSpPr/>
            <p:nvPr/>
          </p:nvSpPr>
          <p:spPr>
            <a:xfrm>
              <a:off x="250920" y="3508200"/>
              <a:ext cx="8569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                                          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下列命题中是假命题的是（　　）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A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．过已知直线上一点及该直线外一点的直线与已知直线必是相交直线；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B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．直角的补角是直角；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C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．同旁内角互补；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  <a:ea typeface="黑体"/>
                </a:rPr>
                <a:t>．垂线段最短．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06200" y="3140640"/>
              <a:ext cx="2521080" cy="624960"/>
              <a:chOff x="106200" y="3140640"/>
              <a:chExt cx="2521080" cy="6249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106200" y="3195720"/>
                <a:ext cx="2521080" cy="569880"/>
                <a:chOff x="106200" y="3195720"/>
                <a:chExt cx="2521080" cy="56988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106200" y="3195720"/>
                  <a:ext cx="2477520" cy="547920"/>
                  <a:chOff x="106200" y="3195720"/>
                  <a:chExt cx="2477520" cy="547920"/>
                </a:xfrm>
              </p:grpSpPr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610200" y="3371040"/>
                    <a:ext cx="1973520" cy="351000"/>
                    <a:chOff x="610200" y="3371040"/>
                    <a:chExt cx="1973520" cy="3510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10200" y="3524040"/>
                      <a:ext cx="1513440" cy="15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0" h="318">
                          <a:moveTo>
                            <a:pt x="0" y="0"/>
                          </a:moveTo>
                          <a:lnTo>
                            <a:pt x="3130" y="0"/>
                          </a:lnTo>
                          <a:lnTo>
                            <a:pt x="2994" y="318"/>
                          </a:lnTo>
                          <a:lnTo>
                            <a:pt x="0" y="3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a0033">
                        <a:alpha val="6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123640" y="3371040"/>
                      <a:ext cx="460080" cy="3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26">
                          <a:moveTo>
                            <a:pt x="408" y="0"/>
                          </a:moveTo>
                          <a:lnTo>
                            <a:pt x="952" y="0"/>
                          </a:lnTo>
                          <a:lnTo>
                            <a:pt x="589" y="726"/>
                          </a:lnTo>
                          <a:lnTo>
                            <a:pt x="0" y="726"/>
                          </a:lnTo>
                          <a:lnTo>
                            <a:pt x="408" y="0"/>
                          </a:lnTo>
                          <a:close/>
                        </a:path>
                      </a:pathLst>
                    </a:custGeom>
                    <a:solidFill>
                      <a:srgbClr val="9e0035">
                        <a:alpha val="77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106200" y="3195720"/>
                    <a:ext cx="657000" cy="547920"/>
                    <a:chOff x="106200" y="3195720"/>
                    <a:chExt cx="657000" cy="547920"/>
                  </a:xfrm>
                </p:grpSpPr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106200" y="3195720"/>
                      <a:ext cx="416160" cy="460800"/>
                      <a:chOff x="106200" y="3195720"/>
                      <a:chExt cx="416160" cy="460800"/>
                    </a:xfrm>
                  </p:grpSpPr>
                  <p:grpSp>
                    <p:nvGrpSpPr>
                      <p:cNvPr id="251" name=""/>
                      <p:cNvGrpSpPr/>
                      <p:nvPr/>
                    </p:nvGrpSpPr>
                    <p:grpSpPr>
                      <a:xfrm>
                        <a:off x="106200" y="3195720"/>
                        <a:ext cx="416160" cy="460800"/>
                        <a:chOff x="106200" y="3195720"/>
                        <a:chExt cx="416160" cy="460800"/>
                      </a:xfrm>
                    </p:grpSpPr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106200" y="3283200"/>
                          <a:ext cx="218880" cy="37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3" h="772">
                              <a:moveTo>
                                <a:pt x="0" y="136"/>
                              </a:moveTo>
                              <a:lnTo>
                                <a:pt x="136" y="136"/>
                              </a:lnTo>
                              <a:lnTo>
                                <a:pt x="136" y="0"/>
                              </a:lnTo>
                              <a:lnTo>
                                <a:pt x="453" y="363"/>
                              </a:lnTo>
                              <a:lnTo>
                                <a:pt x="136" y="772"/>
                              </a:lnTo>
                              <a:lnTo>
                                <a:pt x="136" y="635"/>
                              </a:lnTo>
                              <a:lnTo>
                                <a:pt x="45" y="635"/>
                              </a:lnTo>
                              <a:lnTo>
                                <a:pt x="136" y="635"/>
                              </a:lnTo>
                              <a:lnTo>
                                <a:pt x="0" y="635"/>
                              </a:lnTo>
                              <a:lnTo>
                                <a:pt x="0" y="1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5ca00">
                            <a:alpha val="58000"/>
                          </a:srgbClr>
                        </a:solidFill>
                        <a:ln w="38160">
                          <a:solidFill>
                            <a:srgbClr val="333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193680" y="3195720"/>
                          <a:ext cx="153720" cy="24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8" h="499">
                              <a:moveTo>
                                <a:pt x="318" y="499"/>
                              </a:moveTo>
                              <a:lnTo>
                                <a:pt x="318" y="0"/>
                              </a:lnTo>
                              <a:lnTo>
                                <a:pt x="91" y="0"/>
                              </a:lnTo>
                              <a:lnTo>
                                <a:pt x="91" y="181"/>
                              </a:lnTo>
                              <a:lnTo>
                                <a:pt x="0" y="136"/>
                              </a:lnTo>
                              <a:lnTo>
                                <a:pt x="318" y="4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bbc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347400" y="3195720"/>
                          <a:ext cx="174960" cy="24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2" h="499">
                              <a:moveTo>
                                <a:pt x="0" y="499"/>
                              </a:moveTo>
                              <a:lnTo>
                                <a:pt x="0" y="0"/>
                              </a:lnTo>
                              <a:lnTo>
                                <a:pt x="272" y="0"/>
                              </a:lnTo>
                              <a:lnTo>
                                <a:pt x="272" y="136"/>
                              </a:lnTo>
                              <a:lnTo>
                                <a:pt x="362" y="136"/>
                              </a:lnTo>
                              <a:lnTo>
                                <a:pt x="0" y="4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a00">
                            <a:alpha val="70000"/>
                          </a:srgbClr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193680" y="3195720"/>
                        <a:ext cx="328680" cy="26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0" h="544">
                            <a:moveTo>
                              <a:pt x="91" y="0"/>
                            </a:moveTo>
                            <a:lnTo>
                              <a:pt x="590" y="0"/>
                            </a:lnTo>
                            <a:lnTo>
                              <a:pt x="590" y="136"/>
                            </a:lnTo>
                            <a:lnTo>
                              <a:pt x="680" y="136"/>
                            </a:lnTo>
                            <a:lnTo>
                              <a:pt x="363" y="499"/>
                            </a:lnTo>
                            <a:lnTo>
                              <a:pt x="318" y="544"/>
                            </a:lnTo>
                            <a:lnTo>
                              <a:pt x="0" y="136"/>
                            </a:lnTo>
                            <a:lnTo>
                              <a:pt x="91" y="136"/>
                            </a:lnTo>
                            <a:lnTo>
                              <a:pt x="91" y="0"/>
                            </a:lnTo>
                            <a:close/>
                          </a:path>
                        </a:pathLst>
                      </a:custGeom>
                      <a:noFill/>
                      <a:ln w="381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193680" y="3480840"/>
                      <a:ext cx="2851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0" h="544">
                          <a:moveTo>
                            <a:pt x="318" y="0"/>
                          </a:moveTo>
                          <a:lnTo>
                            <a:pt x="0" y="408"/>
                          </a:lnTo>
                          <a:lnTo>
                            <a:pt x="91" y="408"/>
                          </a:lnTo>
                          <a:lnTo>
                            <a:pt x="91" y="544"/>
                          </a:lnTo>
                          <a:lnTo>
                            <a:pt x="590" y="544"/>
                          </a:lnTo>
                          <a:lnTo>
                            <a:pt x="590" y="272"/>
                          </a:lnTo>
                          <a:lnTo>
                            <a:pt x="318" y="0"/>
                          </a:lnTo>
                          <a:close/>
                        </a:path>
                      </a:pathLst>
                    </a:custGeom>
                    <a:solidFill>
                      <a:srgbClr val="6f9600">
                        <a:alpha val="70000"/>
                      </a:srgbClr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90960" y="3283200"/>
                      <a:ext cx="219240" cy="3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4" h="726">
                          <a:moveTo>
                            <a:pt x="318" y="0"/>
                          </a:moveTo>
                          <a:lnTo>
                            <a:pt x="0" y="363"/>
                          </a:lnTo>
                          <a:lnTo>
                            <a:pt x="136" y="590"/>
                          </a:lnTo>
                          <a:lnTo>
                            <a:pt x="408" y="726"/>
                          </a:lnTo>
                          <a:lnTo>
                            <a:pt x="454" y="635"/>
                          </a:lnTo>
                          <a:lnTo>
                            <a:pt x="454" y="91"/>
                          </a:lnTo>
                          <a:lnTo>
                            <a:pt x="318" y="91"/>
                          </a:lnTo>
                          <a:lnTo>
                            <a:pt x="318" y="0"/>
                          </a:lnTo>
                          <a:close/>
                        </a:path>
                      </a:pathLst>
                    </a:custGeom>
                    <a:solidFill>
                      <a:srgbClr val="008a00">
                        <a:alpha val="82000"/>
                      </a:srgbClr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303120" y="3261240"/>
                      <a:ext cx="460080" cy="46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953">
                          <a:moveTo>
                            <a:pt x="0" y="726"/>
                          </a:moveTo>
                          <a:lnTo>
                            <a:pt x="952" y="0"/>
                          </a:lnTo>
                          <a:lnTo>
                            <a:pt x="635" y="953"/>
                          </a:lnTo>
                          <a:lnTo>
                            <a:pt x="0" y="726"/>
                          </a:lnTo>
                          <a:close/>
                        </a:path>
                      </a:pathLst>
                    </a:custGeom>
                    <a:solidFill>
                      <a:srgbClr val="cfca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456480" y="3436920"/>
                      <a:ext cx="196920" cy="175320"/>
                      <a:chOff x="456480" y="3436920"/>
                      <a:chExt cx="196920" cy="175320"/>
                    </a:xfrm>
                  </p:grpSpPr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09480" y="3436920"/>
                        <a:ext cx="4392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81">
                            <a:moveTo>
                              <a:pt x="0" y="45"/>
                            </a:moveTo>
                            <a:lnTo>
                              <a:pt x="0" y="181"/>
                            </a:lnTo>
                            <a:lnTo>
                              <a:pt x="91" y="0"/>
                            </a:lnTo>
                            <a:lnTo>
                              <a:pt x="0" y="45"/>
                            </a:lnTo>
                            <a:close/>
                          </a:path>
                        </a:pathLst>
                      </a:custGeom>
                      <a:solidFill>
                        <a:srgbClr val="d9f1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41760" bIns="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456480" y="3436920"/>
                        <a:ext cx="196920" cy="17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408">
                            <a:moveTo>
                              <a:pt x="0" y="317"/>
                            </a:moveTo>
                            <a:lnTo>
                              <a:pt x="272" y="408"/>
                            </a:lnTo>
                            <a:lnTo>
                              <a:pt x="408" y="0"/>
                            </a:lnTo>
                            <a:lnTo>
                              <a:pt x="0" y="317"/>
                            </a:lnTo>
                            <a:close/>
                          </a:path>
                        </a:pathLst>
                      </a:custGeom>
                      <a:noFill/>
                      <a:ln w="38160">
                        <a:solidFill>
                          <a:srgbClr val="33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56480" y="3480480"/>
                      <a:ext cx="1537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8" h="272">
                          <a:moveTo>
                            <a:pt x="318" y="0"/>
                          </a:moveTo>
                          <a:lnTo>
                            <a:pt x="318" y="181"/>
                          </a:lnTo>
                          <a:lnTo>
                            <a:pt x="272" y="272"/>
                          </a:lnTo>
                          <a:lnTo>
                            <a:pt x="0" y="181"/>
                          </a:lnTo>
                          <a:lnTo>
                            <a:pt x="318" y="0"/>
                          </a:lnTo>
                          <a:close/>
                        </a:path>
                      </a:pathLst>
                    </a:custGeom>
                    <a:solidFill>
                      <a:srgbClr val="008a00">
                        <a:alpha val="64000"/>
                      </a:srgbClr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3" name=""/>
                <p:cNvSpPr/>
                <p:nvPr/>
              </p:nvSpPr>
              <p:spPr>
                <a:xfrm>
                  <a:off x="478800" y="3348720"/>
                  <a:ext cx="2148480" cy="416520"/>
                </a:xfrm>
                <a:custGeom>
                  <a:avLst/>
                  <a:gdLst/>
                  <a:ahLst/>
                  <a:rect l="l" t="t" r="r" b="b"/>
                  <a:pathLst>
                    <a:path w="4989" h="907">
                      <a:moveTo>
                        <a:pt x="4899" y="0"/>
                      </a:moveTo>
                      <a:lnTo>
                        <a:pt x="4490" y="817"/>
                      </a:lnTo>
                      <a:lnTo>
                        <a:pt x="0" y="817"/>
                      </a:lnTo>
                      <a:lnTo>
                        <a:pt x="0" y="907"/>
                      </a:lnTo>
                      <a:lnTo>
                        <a:pt x="4536" y="907"/>
                      </a:lnTo>
                      <a:lnTo>
                        <a:pt x="4989" y="0"/>
                      </a:lnTo>
                      <a:lnTo>
                        <a:pt x="489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15280" y="3744000"/>
                  <a:ext cx="263160" cy="21600"/>
                </a:xfrm>
                <a:custGeom>
                  <a:avLst/>
                  <a:gdLst/>
                  <a:ahLst/>
                  <a:rect l="l" t="t" r="r" b="b"/>
                  <a:pathLst>
                    <a:path w="545" h="45">
                      <a:moveTo>
                        <a:pt x="46" y="0"/>
                      </a:moveTo>
                      <a:lnTo>
                        <a:pt x="545" y="0"/>
                      </a:lnTo>
                      <a:lnTo>
                        <a:pt x="499" y="45"/>
                      </a:lnTo>
                      <a:lnTo>
                        <a:pt x="0" y="45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10920" y="3140640"/>
                <a:ext cx="165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Aft>
                    <a:spcPts val="13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333300"/>
                    </a:solidFill>
                    <a:latin typeface="Times New Roman"/>
                    <a:ea typeface="Arial Unicode MS"/>
                  </a:rPr>
                  <a:t>做一做</a:t>
                </a:r>
                <a:endParaRPr b="0" lang="en-US" sz="3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2050920" y="5175360"/>
            <a:ext cx="70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Arial"/>
                <a:ea typeface="黑体"/>
              </a:rPr>
              <a:t>说明一个命题是假命题，只要举出一个虽然具备题设条件，但结论不成立的例子（反例）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4920" y="5280120"/>
            <a:ext cx="1951200" cy="525240"/>
            <a:chOff x="34920" y="5280120"/>
            <a:chExt cx="1951200" cy="525240"/>
          </a:xfrm>
        </p:grpSpPr>
        <p:grpSp>
          <p:nvGrpSpPr>
            <p:cNvPr id="268" name=""/>
            <p:cNvGrpSpPr/>
            <p:nvPr/>
          </p:nvGrpSpPr>
          <p:grpSpPr>
            <a:xfrm>
              <a:off x="34920" y="5280120"/>
              <a:ext cx="1951200" cy="525240"/>
              <a:chOff x="34920" y="5280120"/>
              <a:chExt cx="1951200" cy="525240"/>
            </a:xfrm>
          </p:grpSpPr>
          <p:sp>
            <p:nvSpPr>
              <p:cNvPr id="269" name=""/>
              <p:cNvSpPr/>
              <p:nvPr/>
            </p:nvSpPr>
            <p:spPr>
              <a:xfrm>
                <a:off x="538200" y="528012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思路分析</a:t>
                </a: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pic>
            <p:nvPicPr>
              <p:cNvPr id="2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0" y="5280120"/>
                <a:ext cx="566640" cy="52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1" name=""/>
            <p:cNvSpPr/>
            <p:nvPr/>
          </p:nvSpPr>
          <p:spPr>
            <a:xfrm>
              <a:off x="34920" y="5294160"/>
              <a:ext cx="1944720" cy="510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749840" y="587592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（反例只需举出一个，就可说明原命题是假命题）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9080" y="3499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华文行楷"/>
              </a:rPr>
              <a:t>C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4847-46D6-4941-8D12-281E4518951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C36DF-2CE7-43AD-8D91-3A8CACAA08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8000" y="3284640"/>
            <a:ext cx="9072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两直线被第三条直线所截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如果同位角相等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那么这两条直线平行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两条平行线被第三条直线所截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同位角相等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两边夹角对应相等的两个三角形全等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两角及其夹边对应相等的两个三角形全等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三边对应相等的两个三角形全等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全等三角形的对应边相等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对应角相等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720" y="-360"/>
            <a:ext cx="9189720" cy="765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</a:rPr>
              <a:t>公理、定理 与 证明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276" name=""/>
          <p:cNvSpPr/>
          <p:nvPr/>
        </p:nvSpPr>
        <p:spPr>
          <a:xfrm>
            <a:off x="214560" y="83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公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4560" y="14130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证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4560" y="2179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定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19720" y="90648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Book Antiqua"/>
                <a:ea typeface="黑体"/>
              </a:rPr>
              <a:t>公认的真命题称为公理</a:t>
            </a:r>
            <a:r>
              <a:rPr b="1" lang="zh-CN" sz="2000" spc="-1" strike="noStrike">
                <a:solidFill>
                  <a:srgbClr val="333300"/>
                </a:solidFill>
                <a:latin typeface="Book Antiqua"/>
                <a:ea typeface="黑体"/>
              </a:rPr>
              <a:t>(</a:t>
            </a:r>
            <a:r>
              <a:rPr b="1" i="1" lang="zh-CN" sz="2000" spc="-1" strike="noStrike">
                <a:solidFill>
                  <a:srgbClr val="333300"/>
                </a:solidFill>
                <a:latin typeface="Book Antiqua"/>
                <a:ea typeface="黑体"/>
              </a:rPr>
              <a:t>axiom</a:t>
            </a:r>
            <a:r>
              <a:rPr b="1" lang="zh-CN" sz="2000" spc="-1" strike="noStrike">
                <a:solidFill>
                  <a:srgbClr val="333300"/>
                </a:solidFill>
                <a:latin typeface="Book Antiqua"/>
                <a:ea typeface="黑体"/>
              </a:rPr>
              <a:t>)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1844640"/>
            <a:ext cx="77058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4720" y="22399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黑体"/>
                <a:ea typeface="黑体"/>
              </a:rPr>
              <a:t>经过证明的真命题称为定理</a:t>
            </a:r>
            <a:r>
              <a:rPr b="1" lang="zh-CN" sz="2000" spc="-1" strike="noStrike">
                <a:solidFill>
                  <a:srgbClr val="333300"/>
                </a:solidFill>
                <a:latin typeface="黑体"/>
                <a:ea typeface="黑体"/>
              </a:rPr>
              <a:t>(theorem)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3720" y="1454040"/>
            <a:ext cx="41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黑体"/>
                <a:ea typeface="黑体"/>
              </a:rPr>
              <a:t>除了公理外</a:t>
            </a:r>
            <a:r>
              <a:rPr b="1" lang="zh-CN" sz="20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333300"/>
                </a:solidFill>
                <a:latin typeface="黑体"/>
                <a:ea typeface="黑体"/>
              </a:rPr>
              <a:t>其它真命题的正确性都通过推理的方法证实</a:t>
            </a:r>
            <a:r>
              <a:rPr b="1" lang="zh-CN" sz="20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58800" y="1773360"/>
            <a:ext cx="16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黑体"/>
                <a:ea typeface="黑体"/>
              </a:rPr>
              <a:t>推理的过程称为证明</a:t>
            </a:r>
            <a:r>
              <a:rPr b="1" lang="zh-CN" sz="20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34440" y="288756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华文琥珀"/>
                <a:ea typeface="华文琥珀"/>
              </a:rPr>
              <a:t>本套教材选用如下命题作为公理 </a:t>
            </a:r>
            <a:r>
              <a:rPr b="0" lang="zh-CN" sz="2000" spc="-1" strike="noStrike">
                <a:solidFill>
                  <a:srgbClr val="0000cc"/>
                </a:solidFill>
                <a:latin typeface="华文琥珀"/>
                <a:ea typeface="华文琥珀"/>
              </a:rPr>
              <a:t>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A069-6849-40CB-B95A-70325185529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47966-4BEA-4CF4-9552-4888D81ED74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9080" cy="765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  <a:ea typeface="隶书"/>
              </a:rPr>
              <a:t>几何的三种语言、平行线的判定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15120" y="765000"/>
            <a:ext cx="2362320" cy="1752840"/>
            <a:chOff x="6315120" y="765000"/>
            <a:chExt cx="2362320" cy="1752840"/>
          </a:xfrm>
        </p:grpSpPr>
        <p:sp>
          <p:nvSpPr>
            <p:cNvPr id="287" name=""/>
            <p:cNvSpPr/>
            <p:nvPr/>
          </p:nvSpPr>
          <p:spPr>
            <a:xfrm>
              <a:off x="6620040" y="137484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20040" y="198432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924600" y="993600"/>
              <a:ext cx="1143000" cy="152424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15120" y="114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15120" y="1755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7960" y="76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37960" y="1755720"/>
              <a:ext cx="33408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39" y="1010"/>
                  </a:moveTo>
                  <a:arcTo wR="10800" hR="10800" stAng="-6898862" swAng="6898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39" y="1010"/>
                  </a:moveTo>
                  <a:arcTo wR="10800" hR="10800" stAng="-6898862" swAng="6898862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58120" y="1717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764480" y="1069920"/>
              <a:ext cx="608040" cy="673920"/>
              <a:chOff x="7764480" y="1069920"/>
              <a:chExt cx="608040" cy="673920"/>
            </a:xfrm>
          </p:grpSpPr>
          <p:sp>
            <p:nvSpPr>
              <p:cNvPr id="296" name=""/>
              <p:cNvSpPr/>
              <p:nvPr/>
            </p:nvSpPr>
            <p:spPr>
              <a:xfrm>
                <a:off x="7839360" y="10699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764480" y="1135080"/>
                <a:ext cx="45432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04" y="226"/>
                    </a:moveTo>
                    <a:arcTo wR="10800" hR="10800" stAng="-6103789" swAng="49145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04" y="226"/>
                    </a:moveTo>
                    <a:arcTo wR="10800" hR="10800" stAng="-6103789" swAng="4914592"/>
                  </a:path>
                </a:pathLst>
              </a:custGeom>
              <a:noFill/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386400" y="2286000"/>
            <a:ext cx="2362320" cy="1752120"/>
            <a:chOff x="6386400" y="2286000"/>
            <a:chExt cx="2362320" cy="1752120"/>
          </a:xfrm>
        </p:grpSpPr>
        <p:sp>
          <p:nvSpPr>
            <p:cNvPr id="299" name=""/>
            <p:cNvSpPr/>
            <p:nvPr/>
          </p:nvSpPr>
          <p:spPr>
            <a:xfrm>
              <a:off x="6691320" y="289548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91320" y="350496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995880" y="2514240"/>
              <a:ext cx="1143000" cy="152388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8640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86400" y="327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3924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77120" y="2833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rot="16200000">
              <a:off x="7416360" y="2630160"/>
              <a:ext cx="45540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04" y="226"/>
                  </a:moveTo>
                  <a:arcTo wR="10800" hR="10800" stAng="-6103789" swAng="6103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8604" y="226"/>
                  </a:moveTo>
                  <a:arcTo wR="10800" hR="10800" stAng="-6103789" swAng="6103789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3200040"/>
              <a:ext cx="334080" cy="62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39" y="1010"/>
                  </a:moveTo>
                  <a:arcTo wR="10800" hR="10800" stAng="-6898862" swAng="6898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39" y="1010"/>
                  </a:moveTo>
                  <a:arcTo wR="10800" hR="10800" stAng="-6898862" swAng="6898862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29400" y="32000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386400" y="3789360"/>
            <a:ext cx="2362320" cy="1752120"/>
            <a:chOff x="6386400" y="3789360"/>
            <a:chExt cx="2362320" cy="1752120"/>
          </a:xfrm>
        </p:grpSpPr>
        <p:sp>
          <p:nvSpPr>
            <p:cNvPr id="310" name=""/>
            <p:cNvSpPr/>
            <p:nvPr/>
          </p:nvSpPr>
          <p:spPr>
            <a:xfrm>
              <a:off x="6691320" y="439884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1320" y="500832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995880" y="4017600"/>
              <a:ext cx="1143000" cy="152388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86400" y="417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6400" y="477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39240" y="3789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8000" y="4322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09240" y="4779720"/>
              <a:ext cx="334080" cy="47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39" y="1010"/>
                  </a:moveTo>
                  <a:arcTo wR="10800" hR="10800" stAng="-6898862" swAng="6898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39" y="1010"/>
                  </a:moveTo>
                  <a:arcTo wR="10800" hR="10800" stAng="-6898862" swAng="6898862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29400" y="4741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10800000">
              <a:off x="7502040" y="4373280"/>
              <a:ext cx="56088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45" y="711"/>
                  </a:moveTo>
                  <a:arcTo wR="10800" hR="10800" stAng="-6654693" swAng="9806633"/>
                  <a:lnTo>
                    <a:pt x="10800" y="10800"/>
                  </a:lnTo>
                  <a:close/>
                </a:path>
                <a:path fill="none" w="21600" h="21600">
                  <a:moveTo>
                    <a:pt x="6945" y="711"/>
                  </a:moveTo>
                  <a:arcTo wR="10800" hR="10800" stAng="-6654693" swAng="9806633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6360" y="5781600"/>
            <a:ext cx="9072720" cy="527040"/>
          </a:xfrm>
          <a:prstGeom prst="rect">
            <a:avLst/>
          </a:pr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公理、定理及由它们直接推出来的结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推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)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后可以直接运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5840" y="13874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公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72280" y="1406520"/>
            <a:ext cx="24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同位角相等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直线平行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96520" y="18921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华文行楷"/>
              </a:rPr>
              <a:t>∵ 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华文行楷"/>
              </a:rPr>
              <a:t>1=∠2, ∴ a∥b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34720" y="2838600"/>
            <a:ext cx="4768200" cy="459720"/>
            <a:chOff x="234720" y="2838600"/>
            <a:chExt cx="4768200" cy="459720"/>
          </a:xfrm>
        </p:grpSpPr>
        <p:sp>
          <p:nvSpPr>
            <p:cNvPr id="325" name=""/>
            <p:cNvSpPr/>
            <p:nvPr/>
          </p:nvSpPr>
          <p:spPr>
            <a:xfrm>
              <a:off x="234720" y="283860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【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判定定理 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】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00640" y="2863800"/>
              <a:ext cx="2402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00"/>
                  </a:solidFill>
                  <a:latin typeface="黑体"/>
                  <a:ea typeface="黑体"/>
                </a:rPr>
                <a:t>内错角相等</a:t>
              </a:r>
              <a:r>
                <a:rPr b="1" lang="zh-CN" sz="2400" spc="-1" strike="noStrike">
                  <a:solidFill>
                    <a:srgbClr val="333300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333300"/>
                  </a:solidFill>
                  <a:latin typeface="黑体"/>
                  <a:ea typeface="黑体"/>
                </a:rPr>
                <a:t>两直线平行</a:t>
              </a:r>
              <a:r>
                <a:rPr b="1" lang="zh-CN" sz="2400" spc="-1" strike="noStrike">
                  <a:solidFill>
                    <a:srgbClr val="3333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2226600" y="3368520"/>
            <a:ext cx="248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华文行楷"/>
              </a:rPr>
              <a:t>∵ ∠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华文行楷"/>
              </a:rPr>
              <a:t>1=∠2, ∴ a∥b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63520" y="4329000"/>
            <a:ext cx="5084280" cy="459720"/>
            <a:chOff x="263520" y="4329000"/>
            <a:chExt cx="5084280" cy="459720"/>
          </a:xfrm>
        </p:grpSpPr>
        <p:sp>
          <p:nvSpPr>
            <p:cNvPr id="329" name=""/>
            <p:cNvSpPr/>
            <p:nvPr/>
          </p:nvSpPr>
          <p:spPr>
            <a:xfrm>
              <a:off x="263520" y="432900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【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判定定理 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】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62640" y="4329000"/>
              <a:ext cx="258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3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00"/>
                  </a:solidFill>
                  <a:latin typeface="黑体"/>
                  <a:ea typeface="黑体"/>
                </a:rPr>
                <a:t>同旁内角互补</a:t>
              </a:r>
              <a:r>
                <a:rPr b="1" lang="zh-CN" sz="2400" spc="-1" strike="noStrike">
                  <a:solidFill>
                    <a:srgbClr val="333300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333300"/>
                  </a:solidFill>
                  <a:latin typeface="黑体"/>
                  <a:ea typeface="黑体"/>
                </a:rPr>
                <a:t>两直线平行</a:t>
              </a:r>
              <a:r>
                <a:rPr b="1" lang="zh-CN" sz="2400" spc="-1" strike="noStrike">
                  <a:solidFill>
                    <a:srgbClr val="3333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9960" y="483228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∵∠</a:t>
            </a: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1+∠2=180</a:t>
            </a:r>
            <a:r>
              <a:rPr b="1" lang="zh-CN" sz="2000" spc="-1" strike="noStrike">
                <a:solidFill>
                  <a:srgbClr val="333300"/>
                </a:solidFill>
                <a:latin typeface="Arial"/>
                <a:ea typeface="华文行楷"/>
              </a:rPr>
              <a:t>˚</a:t>
            </a:r>
            <a:r>
              <a:rPr b="1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 , ∴ a∥b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7270-3D4B-4445-A1B3-DFD5079055C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8660E-4B74-4631-8E31-AEAB4FB6CB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720" y="-360"/>
            <a:ext cx="9180360" cy="765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Book Antiqua"/>
                <a:ea typeface="隶书"/>
              </a:rPr>
              <a:t>几何的三种语言、平行线的性质</a:t>
            </a:r>
            <a:endParaRPr b="1" lang="en-US" sz="4400" spc="-1" strike="noStrike">
              <a:solidFill>
                <a:srgbClr val="ffff99"/>
              </a:solidFill>
              <a:latin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13622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公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37360" y="1376280"/>
            <a:ext cx="24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直线平行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同位角相等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15120" y="765000"/>
            <a:ext cx="2362320" cy="1752840"/>
            <a:chOff x="6315120" y="765000"/>
            <a:chExt cx="2362320" cy="1752840"/>
          </a:xfrm>
        </p:grpSpPr>
        <p:sp>
          <p:nvSpPr>
            <p:cNvPr id="336" name=""/>
            <p:cNvSpPr/>
            <p:nvPr/>
          </p:nvSpPr>
          <p:spPr>
            <a:xfrm>
              <a:off x="6620040" y="137484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20040" y="198432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924600" y="993600"/>
              <a:ext cx="1143000" cy="152424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15120" y="114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15120" y="1755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67960" y="76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7960" y="1755720"/>
              <a:ext cx="33408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39" y="1010"/>
                  </a:moveTo>
                  <a:arcTo wR="10800" hR="10800" stAng="-6898862" swAng="6898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39" y="1010"/>
                  </a:moveTo>
                  <a:arcTo wR="10800" hR="10800" stAng="-6898862" swAng="6898862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58120" y="1717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764480" y="1069920"/>
              <a:ext cx="608040" cy="673920"/>
              <a:chOff x="7764480" y="1069920"/>
              <a:chExt cx="608040" cy="673920"/>
            </a:xfrm>
          </p:grpSpPr>
          <p:sp>
            <p:nvSpPr>
              <p:cNvPr id="345" name=""/>
              <p:cNvSpPr/>
              <p:nvPr/>
            </p:nvSpPr>
            <p:spPr>
              <a:xfrm>
                <a:off x="7839360" y="10699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4480" y="1135080"/>
                <a:ext cx="45432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04" y="226"/>
                    </a:moveTo>
                    <a:arcTo wR="10800" hR="10800" stAng="-6103789" swAng="49145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04" y="226"/>
                    </a:moveTo>
                    <a:arcTo wR="10800" hR="10800" stAng="-6103789" swAng="4914592"/>
                  </a:path>
                </a:pathLst>
              </a:custGeom>
              <a:noFill/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6386400" y="2286000"/>
            <a:ext cx="2362320" cy="1752120"/>
            <a:chOff x="6386400" y="2286000"/>
            <a:chExt cx="2362320" cy="1752120"/>
          </a:xfrm>
        </p:grpSpPr>
        <p:sp>
          <p:nvSpPr>
            <p:cNvPr id="348" name=""/>
            <p:cNvSpPr/>
            <p:nvPr/>
          </p:nvSpPr>
          <p:spPr>
            <a:xfrm>
              <a:off x="6691320" y="289548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91320" y="350496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995880" y="2514240"/>
              <a:ext cx="1143000" cy="152388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8640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86400" y="327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924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77120" y="2833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rot="16200000">
              <a:off x="7416360" y="2630160"/>
              <a:ext cx="45540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04" y="226"/>
                  </a:moveTo>
                  <a:arcTo wR="10800" hR="10800" stAng="-6103789" swAng="6103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8604" y="226"/>
                  </a:moveTo>
                  <a:arcTo wR="10800" hR="10800" stAng="-6103789" swAng="6103789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09240" y="3200040"/>
              <a:ext cx="334080" cy="62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39" y="1010"/>
                  </a:moveTo>
                  <a:arcTo wR="10800" hR="10800" stAng="-6898862" swAng="6898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39" y="1010"/>
                  </a:moveTo>
                  <a:arcTo wR="10800" hR="10800" stAng="-6898862" swAng="6898862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29400" y="32000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386400" y="3789360"/>
            <a:ext cx="2362320" cy="1752120"/>
            <a:chOff x="6386400" y="3789360"/>
            <a:chExt cx="2362320" cy="1752120"/>
          </a:xfrm>
        </p:grpSpPr>
        <p:sp>
          <p:nvSpPr>
            <p:cNvPr id="359" name=""/>
            <p:cNvSpPr/>
            <p:nvPr/>
          </p:nvSpPr>
          <p:spPr>
            <a:xfrm>
              <a:off x="6691320" y="439884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91320" y="5008320"/>
              <a:ext cx="2057400" cy="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995880" y="4017600"/>
              <a:ext cx="1143000" cy="1523880"/>
            </a:xfrm>
            <a:prstGeom prst="line">
              <a:avLst/>
            </a:prstGeom>
            <a:ln cap="sq"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86400" y="417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86400" y="477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39240" y="3789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58000" y="4322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09240" y="4779720"/>
              <a:ext cx="334080" cy="47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39" y="1010"/>
                  </a:moveTo>
                  <a:arcTo wR="10800" hR="10800" stAng="-6898862" swAng="689886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39" y="1010"/>
                  </a:moveTo>
                  <a:arcTo wR="10800" hR="10800" stAng="-6898862" swAng="6898862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29400" y="4741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rot="10800000">
              <a:off x="7502040" y="4373280"/>
              <a:ext cx="56088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45" y="711"/>
                  </a:moveTo>
                  <a:arcTo wR="10800" hR="10800" stAng="-6654693" swAng="9806633"/>
                  <a:lnTo>
                    <a:pt x="10800" y="10800"/>
                  </a:lnTo>
                  <a:close/>
                </a:path>
                <a:path fill="none" w="21600" h="21600">
                  <a:moveTo>
                    <a:pt x="6945" y="711"/>
                  </a:moveTo>
                  <a:arcTo wR="10800" hR="10800" stAng="-6654693" swAng="9806633"/>
                </a:path>
              </a:pathLst>
            </a:custGeom>
            <a:noFill/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390320" y="1819440"/>
            <a:ext cx="24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华文行楷"/>
              </a:rPr>
              <a:t>∵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华文行楷"/>
              </a:rPr>
              <a:t>a∥b, ∴ ∠1=∠2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82680" y="3295800"/>
            <a:ext cx="248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华文行楷"/>
              </a:rPr>
              <a:t>∵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华文行楷"/>
              </a:rPr>
              <a:t>a∥b, ∴ ∠1=∠2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9400" y="27208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性质定理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99280" y="2720880"/>
            <a:ext cx="24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直线平行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内错角相等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1880" y="41702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性质定理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43480" y="4195800"/>
            <a:ext cx="25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两直线平行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同旁内角互补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85920" y="484344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∵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∥b, ∴ ∠1+∠2=180</a:t>
            </a:r>
            <a:r>
              <a:rPr b="1" lang="zh-CN" sz="2400" spc="-1" strike="noStrike">
                <a:solidFill>
                  <a:srgbClr val="a3d1ff"/>
                </a:solidFill>
                <a:latin typeface="Times New Roman"/>
                <a:ea typeface="黑体"/>
              </a:rPr>
              <a:t>˚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 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20" y="5781600"/>
            <a:ext cx="9001080" cy="527040"/>
          </a:xfrm>
          <a:prstGeom prst="rect">
            <a:avLst/>
          </a:prstGeom>
          <a:noFill/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公理、定理及由它们直接推出来的结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推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)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后可以直接运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F838-5E14-4D63-ADBC-64BEBC87279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21BBB-3E0C-4D7E-988E-8209BA2D07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0:47:29Z</dcterms:created>
  <dc:creator>12999数学网 www.12999.com</dc:creator>
  <dc:description/>
  <dc:language>en-US</dc:language>
  <cp:lastModifiedBy>微软用户</cp:lastModifiedBy>
  <dcterms:modified xsi:type="dcterms:W3CDTF">2012-07-14T23:52:51Z</dcterms:modified>
  <cp:revision>7530</cp:revision>
  <dc:subject>12999数学网 www.12999.com</dc:subject>
  <dc:title>12999数学网 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内容">
    <vt:lpwstr>九年级数学课件</vt:lpwstr>
  </property>
  <property fmtid="{D5CDD505-2E9C-101B-9397-08002B2CF9AE}" pid="3" name="项目">
    <vt:lpwstr>1.1 你能证明它们吗</vt:lpwstr>
  </property>
</Properties>
</file>