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49BF-B008-4C89-9811-379E909444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3B9-088B-4999-9790-3F42A2CB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3DC-50DB-4AF6-9D89-73916B5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41A-4EEA-40C2-9B60-EB13B4A8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66C-5EDB-436A-8585-55E3E909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A678-0F9D-49C5-A311-59119531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FD2C-1E81-469A-B9EB-03E0646D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DD00-F2E9-4116-B59C-67EE8520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6C02-0F30-4F25-8E8F-2D6FC7A1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833D-FFE1-48B0-8B22-80E00B8F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88A7-02C0-434C-8AB5-A75C9E10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33F1-D079-4C2A-A8D8-8E3E1E9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8CB-CF94-4490-89BA-F585E0A3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F6A3-F771-4D70-AF89-AA969CA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8721-4790-4599-92BA-3B3490B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8DE6-FEC5-4719-99C4-B9849EB7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A96-59DB-42E4-9335-372739DF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CD6A-1A6E-4A66-8B91-1DAAEE40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666-DE20-4685-90BB-2E4D856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6BD-91AA-4C16-B1FD-5CC37E7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836-23CB-438E-8F38-AB04FFB9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682-8548-4334-A04B-FF791D3C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23A-10BE-4AFD-8A34-6BD615C1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079-A6F9-4F3A-A186-9470973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7A0-A897-4E18-92C6-0FE790F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06DF-F4BF-4970-8A41-E6382D2FFD7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50A-26C5-4951-88FA-3C217E06D041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692360" y="2133720"/>
            <a:ext cx="6192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1.1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你能证明它们吗？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5464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命题的证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已知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如图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在  △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中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, AB=AC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求证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: ∠B=∠C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527220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68080" y="145260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82000" y="4836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22000" y="490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4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003640" y="1916280"/>
          <a:ext cx="2737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16280"/>
                    <a:ext cx="2737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0312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9120" y="981000"/>
            <a:ext cx="43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条件：一个三角形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等腰三角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9120" y="227664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结论：它的两个底角相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84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命题的证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3320" y="1450800"/>
            <a:ext cx="40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证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中点，连接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512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206064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6760" y="219060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91800" y="195732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=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47440" y="26049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B=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47440" y="325296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D=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386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∴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BD≌△AC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S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5480" y="471636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∴ 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=∠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5600" y="4672080"/>
            <a:ext cx="27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全等三角形对应角相等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01560" y="5435640"/>
            <a:ext cx="15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、还有没有其它的证明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7948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38088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思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、还可以得到其它什么结论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3068640"/>
            <a:ext cx="745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推论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等腰三角形顶角的平分线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底边上的中线 底边上的高互相重合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ff5050"/>
                </a:solidFill>
                <a:latin typeface="黑体"/>
                <a:ea typeface="黑体"/>
              </a:rPr>
              <a:t>三线合一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79480" y="191628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∠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=∠A    AD⊥B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92200" y="2714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336240"/>
            <a:ext cx="641988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学习收获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09240" y="155736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通过这节课的学习你学到了什么知识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79400" y="2637000"/>
            <a:ext cx="13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进一步了解了关于全等的有关公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0040" y="3645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探索发现了等腰三角形的性质定理和推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4869000"/>
            <a:ext cx="80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进一步体会了转化的思想在数学中的应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  <a:ea typeface="黑体"/>
              </a:rPr>
              <a:t>学习任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78240" y="2421000"/>
            <a:ext cx="37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课堂作业：课本习题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55440" y="4149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预习下节课的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本套教材中规定的六条公理的内容是什么？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333360"/>
            <a:ext cx="4464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回顾与思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"/>
          <p:cNvSpPr/>
          <p:nvPr/>
        </p:nvSpPr>
        <p:spPr>
          <a:xfrm>
            <a:off x="735120" y="3435480"/>
            <a:ext cx="801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在证明（一）中，我们曾经用过了哪些公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ccecff"/>
                </a:solidFill>
                <a:latin typeface="黑体"/>
                <a:ea typeface="黑体"/>
              </a:rPr>
              <a:t>、填表：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使两三角形全等）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125360"/>
          <a:ext cx="8157960" cy="5324760"/>
        </p:xfrm>
        <a:graphic>
          <a:graphicData uri="http://schemas.openxmlformats.org/drawingml/2006/table">
            <a:tbl>
              <a:tblPr/>
              <a:tblGrid>
                <a:gridCol w="947520"/>
                <a:gridCol w="3024360"/>
                <a:gridCol w="2128680"/>
                <a:gridCol w="2057400"/>
              </a:tblGrid>
              <a:tr h="25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图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已知条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BC=∠AC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=A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=∠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C=E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增补条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2124000" y="292428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773360"/>
            <a:ext cx="43200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124000" y="1773360"/>
            <a:ext cx="50328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7280" y="1773360"/>
            <a:ext cx="151308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23640" y="1773360"/>
            <a:ext cx="1584360" cy="115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59280" y="1773360"/>
            <a:ext cx="7207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1773360"/>
            <a:ext cx="86364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58920" y="2349360"/>
            <a:ext cx="108108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1844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56720" y="184464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93080" y="321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3284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1844640"/>
            <a:ext cx="64764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1844640"/>
            <a:ext cx="6476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89640" y="14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0560" y="28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6920" y="294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61280" y="14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4200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37640" y="30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13640" y="21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728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74000" y="150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7728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10720" y="14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6636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69280" y="3232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94000" y="150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2349360"/>
            <a:ext cx="10796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5912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280" y="4819320"/>
            <a:ext cx="792972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两角及其夹边对应相等的两个三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形全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ASA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三角形全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7440" y="119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判定公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9240" y="19432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、三边对应相等的两个三角形全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ＳＳ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16600" y="3213000"/>
            <a:ext cx="25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两边及其夹角对应相等的两个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角形全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SA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性质公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44280" y="1484280"/>
            <a:ext cx="7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全等三角形的对应边、对应角相等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4640" y="2800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38307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两角及其中一角的对应边相等的两个三角形全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(AA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等腰三角形的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性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4753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的两个底角相等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ff5050"/>
                </a:solidFill>
                <a:latin typeface="黑体"/>
                <a:ea typeface="黑体"/>
              </a:rPr>
              <a:t>等边对等角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)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591984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859280" y="1916280"/>
            <a:ext cx="3525480" cy="4304520"/>
            <a:chOff x="4859280" y="1916280"/>
            <a:chExt cx="3525480" cy="4304520"/>
          </a:xfrm>
        </p:grpSpPr>
        <p:grpSp>
          <p:nvGrpSpPr>
            <p:cNvPr id="213" name=""/>
            <p:cNvGrpSpPr/>
            <p:nvPr/>
          </p:nvGrpSpPr>
          <p:grpSpPr>
            <a:xfrm>
              <a:off x="4859280" y="1916280"/>
              <a:ext cx="3345840" cy="3700440"/>
              <a:chOff x="4859280" y="1916280"/>
              <a:chExt cx="3345840" cy="3700440"/>
            </a:xfrm>
          </p:grpSpPr>
          <p:sp>
            <p:nvSpPr>
              <p:cNvPr id="214" name=""/>
              <p:cNvSpPr/>
              <p:nvPr/>
            </p:nvSpPr>
            <p:spPr>
              <a:xfrm>
                <a:off x="5492880" y="5481000"/>
                <a:ext cx="23004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492520" y="2658600"/>
                <a:ext cx="1150200" cy="2822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76440" y="1916280"/>
                <a:ext cx="49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10840" y="5035320"/>
                <a:ext cx="49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43080" y="2658600"/>
                <a:ext cx="1150200" cy="2822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59280" y="5035320"/>
                <a:ext cx="49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346720" y="4887720"/>
              <a:ext cx="3038040" cy="1333080"/>
              <a:chOff x="5346720" y="4887720"/>
              <a:chExt cx="3038040" cy="13330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5346720" y="4909320"/>
                <a:ext cx="1213920" cy="1311480"/>
                <a:chOff x="5346720" y="4909320"/>
                <a:chExt cx="1213920" cy="1311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496480" y="4909320"/>
                  <a:ext cx="1064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346720" y="5036040"/>
                  <a:ext cx="907560" cy="118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04" y="226"/>
                      </a:moveTo>
                      <a:arcTo wR="10800" hR="10800" stAng="-6103789" swAng="49145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04" y="226"/>
                      </a:moveTo>
                      <a:arcTo wR="10800" hR="10800" stAng="-6103789" swAng="4914592"/>
                    </a:path>
                  </a:pathLst>
                </a:custGeom>
                <a:noFill/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149960" y="4887720"/>
                <a:ext cx="1234800" cy="999720"/>
                <a:chOff x="7149960" y="4887720"/>
                <a:chExt cx="1234800" cy="999720"/>
              </a:xfrm>
            </p:grpSpPr>
            <p:sp>
              <p:nvSpPr>
                <p:cNvPr id="225" name=""/>
                <p:cNvSpPr/>
                <p:nvPr/>
              </p:nvSpPr>
              <p:spPr>
                <a:xfrm flipH="1">
                  <a:off x="7149960" y="4961880"/>
                  <a:ext cx="666720" cy="9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39" y="1010"/>
                      </a:moveTo>
                      <a:arcTo wR="10800" hR="10800" stAng="-6898862" swAng="68988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39" y="1010"/>
                      </a:moveTo>
                      <a:arcTo wR="10800" hR="10800" stAng="-6898862" swAng="6898862"/>
                    </a:path>
                  </a:pathLst>
                </a:custGeom>
                <a:noFill/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20600" y="4887720"/>
                  <a:ext cx="1064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"/>
          <p:cNvSpPr/>
          <p:nvPr/>
        </p:nvSpPr>
        <p:spPr>
          <a:xfrm>
            <a:off x="37620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2880" y="400536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几何语言表达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∵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B=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∴ 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=∠C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00000" y="549360"/>
            <a:ext cx="2303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30" name=""/>
          <p:cNvSpPr/>
          <p:nvPr/>
        </p:nvSpPr>
        <p:spPr>
          <a:xfrm>
            <a:off x="3542760" y="19033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以前我们验证它的正确性采用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是什么方法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3284640"/>
            <a:ext cx="70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方法：对折等腰三角形纸片加以验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4365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从折纸验证中我们能得到什么启发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0820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21640" y="522360"/>
            <a:ext cx="7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从折纸验证中我们能得到什么启发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3480" y="137952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启发：将等腰三角形分为两个全等三角形加以解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5960" y="2700360"/>
            <a:ext cx="17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证明一个命题的一般步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6200" y="3284640"/>
            <a:ext cx="27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弄清题设和结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87960" y="4005360"/>
            <a:ext cx="36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题意画出相应的图形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9200" y="4724280"/>
            <a:ext cx="44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题设和结论写出已知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求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5589720"/>
            <a:ext cx="63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析证明思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写出证明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9:26:35Z</dcterms:created>
  <dc:creator>12999数学网 www.12999.com</dc:creator>
  <dc:description/>
  <dc:language>en-US</dc:language>
  <cp:lastModifiedBy>微软用户</cp:lastModifiedBy>
  <dcterms:modified xsi:type="dcterms:W3CDTF">2012-07-14T23:59:12Z</dcterms:modified>
  <cp:revision>15</cp:revision>
  <dc:subject>12999数学网 www.12999.com</dc:subject>
  <dc:title>12999数学网 www.12999.com</dc:title>
</cp:coreProperties>
</file>