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gif" ContentType="image/gif"/>
  <Override PartName="/ppt/media/image19.png" ContentType="image/png"/>
  <Override PartName="/ppt/media/image25.gif" ContentType="image/gif"/>
  <Override PartName="/ppt/media/type.wav" ContentType="audio/x-wav"/>
  <Override PartName="/ppt/media/image23.wmf" ContentType="image/x-wmf"/>
  <Override PartName="/ppt/media/image13.gif" ContentType="image/gif"/>
  <Override PartName="/ppt/media/image16.png" ContentType="image/png"/>
  <Override PartName="/ppt/media/image5.gif" ContentType="image/gif"/>
  <Override PartName="/ppt/media/image28.gif" ContentType="image/gif"/>
  <Override PartName="/ppt/media/image30.gif" ContentType="image/gif"/>
  <Override PartName="/ppt/media/image10.gif" ContentType="image/gif"/>
  <Override PartName="/ppt/media/image20.wmf" ContentType="image/x-wmf"/>
  <Override PartName="/ppt/media/image32.gif" ContentType="image/gif"/>
  <Override PartName="/ppt/media/image7.gif" ContentType="image/gif"/>
  <Override PartName="/ppt/media/image11.gif" ContentType="image/gif"/>
  <Override PartName="/ppt/media/image15.png" ContentType="image/png"/>
  <Override PartName="/ppt/media/image12.gif" ContentType="image/gif"/>
  <Override PartName="/ppt/media/image9.gif" ContentType="image/gif"/>
  <Override PartName="/ppt/media/applause.wav" ContentType="audio/x-wav"/>
  <Override PartName="/ppt/media/chimes.wav" ContentType="audio/x-wav"/>
  <Override PartName="/ppt/media/image29.png" ContentType="image/png"/>
  <Override PartName="/ppt/media/image6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14.gif" ContentType="image/gif"/>
  <Override PartName="/ppt/media/image17.gif" ContentType="image/gif"/>
  <Override PartName="/ppt/media/image22.png" ContentType="image/png"/>
  <Override PartName="/ppt/media/image18.gif" ContentType="image/gif"/>
  <Override PartName="/ppt/media/image21.gif" ContentType="image/gif"/>
  <Override PartName="/ppt/media/image31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441-6DC3-47D7-8E7F-18A099B4C3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253-963D-4FB3-B8B6-5670C1B7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473-4555-4077-A847-0C0F6D2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FEE-1F12-46E3-8F44-D97C7749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C8F-6A61-4B30-94CB-8EFC18A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A7F7-10A1-40B1-942B-D74B921C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E0B9-ADC8-4671-BE8D-D24CD51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18FC-CBB6-4C74-A2F9-F8422843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CECC-D5EB-4CC1-9751-960496A5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034-F6BA-4991-B4FE-38B9383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9A8-5DCA-4356-9AA7-84914EA0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5EC3-BC8D-430D-BB76-F55E4E3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70F-7AC7-4D94-87FC-395B85FA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621-0541-40E9-B2A6-E6DBBC9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3E1-2CBD-42A9-AA5C-4FF483FB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83C-436B-45F9-AE62-E5405CC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004-B1F9-43C7-B7D3-2B5E95C1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F30-28FC-495E-8AE1-CCA7D98D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CBC-E1DA-4F95-A71B-38D7808E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33F-5200-4802-A90C-A6979A4D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197-D2A5-42BA-AAE3-35A3ED1E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689-4A10-449C-B2A1-FAF2CC03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223-6BBC-41DD-AC4D-519745B9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772-A885-4F33-B970-E0E9CFE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5D5-B775-4C05-A8C6-843082F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348-400B-439B-A1C3-79DB46CEC11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D8A2-60B2-4BD7-8A0C-5C0356ECAA9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2.gif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2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2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1.xml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2.gi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2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1.xml"/><Relationship Id="rId4" Type="http://schemas.openxmlformats.org/officeDocument/2006/relationships/image" Target="../media/image12.gi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九年级数学（上册）第一章 证明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二</a:t>
            </a:r>
            <a:r>
              <a:rPr b="0" lang="zh-CN" sz="4400" spc="-1" strike="noStrike">
                <a:solidFill>
                  <a:srgbClr val="d4fb57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960" y="1447920"/>
            <a:ext cx="510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线段的垂直平分线（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三角形的垂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52480" y="5437080"/>
            <a:ext cx="7757640" cy="1420560"/>
            <a:chOff x="852480" y="5437080"/>
            <a:chExt cx="7757640" cy="14205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852480" y="5846760"/>
              <a:ext cx="15681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3222000" y="5437080"/>
              <a:ext cx="18817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1146240" y="6810120"/>
              <a:ext cx="5109840" cy="25920"/>
            </a:xfrm>
            <a:prstGeom prst="line">
              <a:avLst/>
            </a:prstGeom>
            <a:ln w="38160">
              <a:solidFill>
                <a:srgbClr val="fac1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0440" bIns="-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373800" y="5794560"/>
              <a:ext cx="563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6896160" y="5794560"/>
              <a:ext cx="5223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752364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794196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8359920" y="5794560"/>
              <a:ext cx="25020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23920" y="990720"/>
            <a:ext cx="403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梦想成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219320" y="609480"/>
            <a:ext cx="3581280" cy="685800"/>
            <a:chOff x="1219320" y="609480"/>
            <a:chExt cx="3581280" cy="685800"/>
          </a:xfrm>
        </p:grpSpPr>
        <p:sp>
          <p:nvSpPr>
            <p:cNvPr id="346" name=""/>
            <p:cNvSpPr/>
            <p:nvPr/>
          </p:nvSpPr>
          <p:spPr>
            <a:xfrm>
              <a:off x="1219320" y="6570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P</a:t>
              </a:r>
              <a:r>
                <a:rPr b="1" lang="zh-CN" sz="20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31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0400" y="6476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3581280" y="6094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7617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838080" y="1828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底边及底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利用尺规作等腰三角形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2362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a,h(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952880" y="2511360"/>
            <a:ext cx="3284640" cy="435240"/>
            <a:chOff x="4952880" y="2511360"/>
            <a:chExt cx="3284640" cy="435240"/>
          </a:xfrm>
        </p:grpSpPr>
        <p:sp>
          <p:nvSpPr>
            <p:cNvPr id="353" name=""/>
            <p:cNvSpPr/>
            <p:nvPr/>
          </p:nvSpPr>
          <p:spPr>
            <a:xfrm>
              <a:off x="5410080" y="2511360"/>
              <a:ext cx="6858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2511360"/>
              <a:ext cx="685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h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2880" y="2895480"/>
              <a:ext cx="137160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29400" y="2895480"/>
              <a:ext cx="1608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38080" y="2971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求作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△ABC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=AC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BC=a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高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D=h.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4648320"/>
            <a:ext cx="373392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亲自写出作法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3429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作法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回味无穷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8377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2a3d7a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分别是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B=PC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0"/>
            <a:ext cx="2819160" cy="1297440"/>
            <a:chOff x="1295280" y="0"/>
            <a:chExt cx="2819160" cy="1297440"/>
          </a:xfrm>
        </p:grpSpPr>
        <p:grpSp>
          <p:nvGrpSpPr>
            <p:cNvPr id="366" name=""/>
            <p:cNvGrpSpPr/>
            <p:nvPr/>
          </p:nvGrpSpPr>
          <p:grpSpPr>
            <a:xfrm>
              <a:off x="1295280" y="0"/>
              <a:ext cx="2666520" cy="929880"/>
              <a:chOff x="1295280" y="0"/>
              <a:chExt cx="2666520" cy="929880"/>
            </a:xfrm>
          </p:grpSpPr>
          <p:sp>
            <p:nvSpPr>
              <p:cNvPr id="367" name=""/>
              <p:cNvSpPr/>
              <p:nvPr/>
            </p:nvSpPr>
            <p:spPr>
              <a:xfrm>
                <a:off x="1295280" y="10188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25160" y="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2361960" y="22860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371240" y="2286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37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5715000" y="1981080"/>
            <a:ext cx="2941560" cy="2590920"/>
            <a:chOff x="5715000" y="1981080"/>
            <a:chExt cx="2941560" cy="2590920"/>
          </a:xfrm>
        </p:grpSpPr>
        <p:grpSp>
          <p:nvGrpSpPr>
            <p:cNvPr id="374" name=""/>
            <p:cNvGrpSpPr/>
            <p:nvPr/>
          </p:nvGrpSpPr>
          <p:grpSpPr>
            <a:xfrm>
              <a:off x="5715000" y="2057400"/>
              <a:ext cx="2941560" cy="2514600"/>
              <a:chOff x="5715000" y="2057400"/>
              <a:chExt cx="2941560" cy="25146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019920" y="2286000"/>
                <a:ext cx="2133360" cy="2286000"/>
                <a:chOff x="6019920" y="2286000"/>
                <a:chExt cx="2133360" cy="22860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86240" y="2286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019920" y="2998440"/>
                  <a:ext cx="2133360" cy="116532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0720" y="2819520"/>
                  <a:ext cx="2111040" cy="15238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9920" y="3962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37080" y="2425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019920" y="2425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716292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15000" y="3733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1234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388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86600" y="3809880"/>
                <a:ext cx="15228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38880" y="3809880"/>
                <a:ext cx="0" cy="1396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5280" y="3352680"/>
                <a:ext cx="147600" cy="114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662880" y="3315960"/>
                <a:ext cx="91800" cy="1508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7091280" y="2440080"/>
              <a:ext cx="168480" cy="1119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031080" y="3559320"/>
              <a:ext cx="1060200" cy="390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91280" y="3578400"/>
              <a:ext cx="1044720" cy="392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168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48720" y="2666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14400" y="4648320"/>
            <a:ext cx="7323120" cy="1572120"/>
            <a:chOff x="914400" y="4648320"/>
            <a:chExt cx="7323120" cy="1572120"/>
          </a:xfrm>
        </p:grpSpPr>
        <p:sp>
          <p:nvSpPr>
            <p:cNvPr id="397" name=""/>
            <p:cNvSpPr/>
            <p:nvPr/>
          </p:nvSpPr>
          <p:spPr>
            <a:xfrm>
              <a:off x="914400" y="4648320"/>
              <a:ext cx="4495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尺规作图的解题格式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(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六步骤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)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已知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求作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分析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0080" y="5029200"/>
              <a:ext cx="282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作法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证明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讨论</a:t>
              </a:r>
              <a:r>
                <a:rPr b="1" lang="zh-CN" sz="24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: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18000" y="1231560"/>
            <a:ext cx="4208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95280" y="18288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0000"/>
                </a:solidFill>
                <a:latin typeface="Times New Roman"/>
                <a:ea typeface="隶书"/>
              </a:rPr>
              <a:t>9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.7   1,2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1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7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1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20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4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25" name="" descr=""/>
            <p:cNvPicPr/>
            <p:nvPr/>
          </p:nvPicPr>
          <p:blipFill>
            <a:blip r:embed="rId6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隶书"/>
                  <a:ea typeface="隶书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914400" y="1143000"/>
            <a:ext cx="732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1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线段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求作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为底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/2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为高的等腰三角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等腰三角形有什么特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610160"/>
            <a:ext cx="556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先分析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作出示意图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再按要求去作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352680"/>
            <a:ext cx="732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等腰三角形有什么特征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习题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1.7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35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独立作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6781680" y="4489560"/>
            <a:ext cx="2362320" cy="1834920"/>
            <a:chOff x="6781680" y="4489560"/>
            <a:chExt cx="2362320" cy="1834920"/>
          </a:xfrm>
        </p:grpSpPr>
        <p:pic>
          <p:nvPicPr>
            <p:cNvPr id="440" name="" descr=""/>
            <p:cNvPicPr/>
            <p:nvPr/>
          </p:nvPicPr>
          <p:blipFill>
            <a:blip r:embed="rId5"/>
            <a:stretch/>
          </p:blipFill>
          <p:spPr>
            <a:xfrm>
              <a:off x="6781680" y="448956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7238880" y="5225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09480" y="8380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为筹办一个大型运动会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某市政府打算修建一个大型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选址过程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有人建议该体育中心所在位置应当与该城市的三个城镇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Q,R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表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距离相等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54100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养成用数学解释生活的习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219320" y="1981080"/>
            <a:ext cx="6999120" cy="1828800"/>
            <a:chOff x="1219320" y="1981080"/>
            <a:chExt cx="6999120" cy="1828800"/>
          </a:xfrm>
        </p:grpSpPr>
        <p:grpSp>
          <p:nvGrpSpPr>
            <p:cNvPr id="445" name=""/>
            <p:cNvGrpSpPr/>
            <p:nvPr/>
          </p:nvGrpSpPr>
          <p:grpSpPr>
            <a:xfrm>
              <a:off x="1219320" y="1981080"/>
              <a:ext cx="2590560" cy="1828800"/>
              <a:chOff x="1219320" y="1981080"/>
              <a:chExt cx="2590560" cy="1828800"/>
            </a:xfrm>
          </p:grpSpPr>
          <p:sp>
            <p:nvSpPr>
              <p:cNvPr id="446" name=""/>
              <p:cNvSpPr/>
              <p:nvPr/>
            </p:nvSpPr>
            <p:spPr>
              <a:xfrm>
                <a:off x="2057400" y="19810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19320" y="30477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19320" y="1981080"/>
                <a:ext cx="2590560" cy="1828800"/>
              </a:xfrm>
              <a:prstGeom prst="rect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48120" y="32000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R</a:t>
                </a:r>
                <a:r>
                  <a:rPr b="0" lang="en-US" sz="1200" spc="-1" strike="noStrike">
                    <a:solidFill>
                      <a:srgbClr val="5b5249"/>
                    </a:solidFill>
                    <a:latin typeface="Times New Roman"/>
                  </a:rPr>
                  <a:t>●</a:t>
                </a:r>
                <a:endParaRPr b="0" lang="en-US" sz="1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715000" y="21333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76920" y="30477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Q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1981080"/>
              <a:ext cx="2590560" cy="1828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1680" y="2514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●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9880" y="2666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56320" y="2666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9480" y="3809880"/>
            <a:ext cx="8382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1)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根据上述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试在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1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画出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G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位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16400"/>
            <a:ext cx="8382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2)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果这三个城镇的位置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2)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所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∠RPQ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是一个钝角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那么根据上述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体育中心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G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应在什么位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5076720"/>
            <a:ext cx="8381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(3). 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对上述建议有何评论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你对选址有什么建议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9880" y="120240"/>
            <a:ext cx="5029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5b5249"/>
                </a:solidFill>
                <a:latin typeface="Times New Roman"/>
                <a:ea typeface="隶书"/>
              </a:rPr>
              <a:t>结束寄语</a:t>
            </a:r>
            <a:endParaRPr b="0" lang="en-US" sz="51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严格性之于数学家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犹如道德之于人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证明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规范性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在于：条理清晰，因果相应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言必有据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这是初学证明者谨记和遵循的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原则</a:t>
            </a:r>
            <a:r>
              <a:rPr b="0" lang="zh-CN" sz="40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239840" y="0"/>
            <a:ext cx="2646360" cy="1547640"/>
            <a:chOff x="1239840" y="0"/>
            <a:chExt cx="2646360" cy="1547640"/>
          </a:xfrm>
        </p:grpSpPr>
        <p:pic>
          <p:nvPicPr>
            <p:cNvPr id="462" name="" descr=""/>
            <p:cNvPicPr/>
            <p:nvPr/>
          </p:nvPicPr>
          <p:blipFill>
            <a:blip r:embed="rId1"/>
            <a:stretch/>
          </p:blipFill>
          <p:spPr>
            <a:xfrm>
              <a:off x="2687760" y="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"/>
            <p:cNvGrpSpPr/>
            <p:nvPr/>
          </p:nvGrpSpPr>
          <p:grpSpPr>
            <a:xfrm>
              <a:off x="1239840" y="42840"/>
              <a:ext cx="1676520" cy="1191960"/>
              <a:chOff x="1239840" y="42840"/>
              <a:chExt cx="1676520" cy="1191960"/>
            </a:xfrm>
          </p:grpSpPr>
          <p:sp>
            <p:nvSpPr>
              <p:cNvPr id="464" name=""/>
              <p:cNvSpPr/>
              <p:nvPr/>
            </p:nvSpPr>
            <p:spPr>
              <a:xfrm>
                <a:off x="1239840" y="67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58560" y="42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392120" y="380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362320" y="4343400"/>
            <a:ext cx="5333400" cy="2133000"/>
            <a:chOff x="2362320" y="4343400"/>
            <a:chExt cx="5333400" cy="2133000"/>
          </a:xfrm>
        </p:grpSpPr>
        <p:grpSp>
          <p:nvGrpSpPr>
            <p:cNvPr id="468" name=""/>
            <p:cNvGrpSpPr/>
            <p:nvPr/>
          </p:nvGrpSpPr>
          <p:grpSpPr>
            <a:xfrm>
              <a:off x="2362320" y="4343400"/>
              <a:ext cx="5333400" cy="2133000"/>
              <a:chOff x="2362320" y="4343400"/>
              <a:chExt cx="5333400" cy="2133000"/>
            </a:xfrm>
          </p:grpSpPr>
          <p:sp>
            <p:nvSpPr>
              <p:cNvPr id="469" name=""/>
              <p:cNvSpPr/>
              <p:nvPr/>
            </p:nvSpPr>
            <p:spPr>
              <a:xfrm>
                <a:off x="2362320" y="4343400"/>
                <a:ext cx="5333400" cy="213300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eded"/>
                  </a:gs>
                </a:gsLst>
                <a:lin ang="10800000"/>
              </a:gra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5b5249"/>
                    </a:solidFill>
                    <a:latin typeface="Times New Roman"/>
                    <a:ea typeface="华文行楷"/>
                  </a:rPr>
                  <a:t>  </a:t>
                </a:r>
                <a:endParaRPr b="0" lang="en-US" sz="6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4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9240" y="4871160"/>
                <a:ext cx="879120" cy="1011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1" name=""/>
            <p:cNvGrpSpPr/>
            <p:nvPr/>
          </p:nvGrpSpPr>
          <p:grpSpPr>
            <a:xfrm>
              <a:off x="3048120" y="4647960"/>
              <a:ext cx="2971800" cy="1524240"/>
              <a:chOff x="3048120" y="4647960"/>
              <a:chExt cx="2971800" cy="1524240"/>
            </a:xfrm>
          </p:grpSpPr>
          <p:sp>
            <p:nvSpPr>
              <p:cNvPr id="472" name=""/>
              <p:cNvSpPr txBox="1"/>
              <p:nvPr/>
            </p:nvSpPr>
            <p:spPr>
              <a:xfrm>
                <a:off x="3048120" y="4647960"/>
                <a:ext cx="2971800" cy="1524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FadeRight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再    见</a:t>
                </a:r>
                <a:endPara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9600" y="4724280"/>
                <a:ext cx="676080" cy="129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648320" y="4800600"/>
                <a:ext cx="65232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7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作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600200"/>
            <a:ext cx="533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已知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求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法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928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用尺规作线段的垂直平分线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304812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分别以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圆心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以大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/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长为半径作弧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两弧交于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3600" y="2590920"/>
            <a:ext cx="2514600" cy="459720"/>
            <a:chOff x="5943600" y="2590920"/>
            <a:chExt cx="2514600" cy="459720"/>
          </a:xfrm>
        </p:grpSpPr>
        <p:sp>
          <p:nvSpPr>
            <p:cNvPr id="120" name=""/>
            <p:cNvSpPr/>
            <p:nvPr/>
          </p:nvSpPr>
          <p:spPr>
            <a:xfrm>
              <a:off x="594360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590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666880"/>
              <a:ext cx="18288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564960" y="1143000"/>
            <a:ext cx="1295640" cy="3126600"/>
            <a:chOff x="6564960" y="1143000"/>
            <a:chExt cx="1295640" cy="3126600"/>
          </a:xfrm>
        </p:grpSpPr>
        <p:sp>
          <p:nvSpPr>
            <p:cNvPr id="124" name=""/>
            <p:cNvSpPr/>
            <p:nvPr/>
          </p:nvSpPr>
          <p:spPr>
            <a:xfrm>
              <a:off x="685800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3809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564960" y="1522440"/>
              <a:ext cx="1295640" cy="2320200"/>
              <a:chOff x="6564960" y="1522440"/>
              <a:chExt cx="1295640" cy="23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6566400" y="1522440"/>
                <a:ext cx="7610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946920" y="1522440"/>
                <a:ext cx="9136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64960" y="3080880"/>
                <a:ext cx="7610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6945480" y="3080880"/>
                <a:ext cx="91368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7162920" y="914400"/>
            <a:ext cx="0" cy="3505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098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作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1911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则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就是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72428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请你说明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为什么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垂直平分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并与同伴进行交流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54100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因为直线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与线段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交点就是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的中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所以我们也用这种方法作线段的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中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2120" y="-136800"/>
            <a:ext cx="3124080" cy="1095480"/>
            <a:chOff x="762120" y="-136800"/>
            <a:chExt cx="3124080" cy="1095480"/>
          </a:xfrm>
        </p:grpSpPr>
        <p:sp>
          <p:nvSpPr>
            <p:cNvPr id="137" name=""/>
            <p:cNvSpPr/>
            <p:nvPr/>
          </p:nvSpPr>
          <p:spPr>
            <a:xfrm>
              <a:off x="76212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1828800" y="18108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14400" y="-13680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4280" y="60480"/>
            <a:ext cx="41911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性质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 线段垂直平分线上的点到这条线段两个端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105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是经常用来证明两条线段相等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38680" y="1752480"/>
            <a:ext cx="3048120" cy="2898000"/>
            <a:chOff x="5638680" y="1752480"/>
            <a:chExt cx="3048120" cy="2898000"/>
          </a:xfrm>
        </p:grpSpPr>
        <p:sp>
          <p:nvSpPr>
            <p:cNvPr id="150" name=""/>
            <p:cNvSpPr/>
            <p:nvPr/>
          </p:nvSpPr>
          <p:spPr>
            <a:xfrm>
              <a:off x="563868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56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29600" y="3504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3504960"/>
              <a:ext cx="1526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504960"/>
              <a:ext cx="0" cy="1526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36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190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904760"/>
              <a:ext cx="0" cy="259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657600"/>
              <a:ext cx="2133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358128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9760" y="358128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95520" y="2286000"/>
              <a:ext cx="106668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560" y="2286000"/>
              <a:ext cx="106704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62120" y="2133720"/>
            <a:ext cx="4876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C=BC,MN⊥AB,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是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MN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上任意一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线段垂直平分线上的点到这条线段两个端点距离相等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2120" y="123480"/>
            <a:ext cx="3124080" cy="1095480"/>
            <a:chOff x="762120" y="123480"/>
            <a:chExt cx="3124080" cy="1095480"/>
          </a:xfrm>
        </p:grpSpPr>
        <p:sp>
          <p:nvSpPr>
            <p:cNvPr id="166" name=""/>
            <p:cNvSpPr/>
            <p:nvPr/>
          </p:nvSpPr>
          <p:spPr>
            <a:xfrm>
              <a:off x="762120" y="26028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1828800" y="44136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14400" y="12348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38480" y="763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线段的垂直平分线的性质定理的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2560" y="64008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16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7612200" y="640080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1430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逆定理 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到一条线段两个端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条线段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54100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867280" y="2057400"/>
            <a:ext cx="3048120" cy="2898000"/>
            <a:chOff x="5867280" y="2057400"/>
            <a:chExt cx="3048120" cy="2898000"/>
          </a:xfrm>
        </p:grpSpPr>
        <p:sp>
          <p:nvSpPr>
            <p:cNvPr id="179" name=""/>
            <p:cNvSpPr/>
            <p:nvPr/>
          </p:nvSpPr>
          <p:spPr>
            <a:xfrm>
              <a:off x="586728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116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82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1160" y="3809880"/>
              <a:ext cx="1526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43800" y="3809880"/>
              <a:ext cx="0" cy="1526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396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1028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1160" y="2209680"/>
              <a:ext cx="0" cy="259092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3962520"/>
              <a:ext cx="21337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388620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48360" y="3886200"/>
              <a:ext cx="0" cy="228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24120" y="2590920"/>
              <a:ext cx="106668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160" y="2590920"/>
              <a:ext cx="1067040" cy="13716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62120" y="2133720"/>
            <a:ext cx="5790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到一条线段两个端点距离相等的点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这条线段的垂直平分线上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343400"/>
            <a:ext cx="59436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这个结论是经常用来证明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在直线上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直线经过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某一</a:t>
            </a:r>
            <a:r>
              <a:rPr b="0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根据之一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从这个结果出发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还能联想到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2120" y="123480"/>
            <a:ext cx="3124080" cy="1095480"/>
            <a:chOff x="762120" y="123480"/>
            <a:chExt cx="3124080" cy="1095480"/>
          </a:xfrm>
        </p:grpSpPr>
        <p:sp>
          <p:nvSpPr>
            <p:cNvPr id="196" name=""/>
            <p:cNvSpPr/>
            <p:nvPr/>
          </p:nvSpPr>
          <p:spPr>
            <a:xfrm>
              <a:off x="762120" y="26028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1828800" y="441360"/>
              <a:ext cx="83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14400" y="123480"/>
              <a:ext cx="274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回顾        思考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781680" y="3733920"/>
            <a:ext cx="2362320" cy="2485800"/>
            <a:chOff x="6781680" y="3733920"/>
            <a:chExt cx="2362320" cy="248580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781680" y="438480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238880" y="3733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43400" y="212400"/>
            <a:ext cx="4495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亲历知识的发生和发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523880"/>
            <a:ext cx="4876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剪一个三角形纸片通过折叠找出每条边的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50532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533412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52560" y="437508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想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146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观察这三条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发现了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457200"/>
            <a:ext cx="3581280" cy="685800"/>
            <a:chOff x="914400" y="457200"/>
            <a:chExt cx="3581280" cy="685800"/>
          </a:xfrm>
        </p:grpSpPr>
        <p:sp>
          <p:nvSpPr>
            <p:cNvPr id="212" name=""/>
            <p:cNvSpPr/>
            <p:nvPr/>
          </p:nvSpPr>
          <p:spPr>
            <a:xfrm>
              <a:off x="914400" y="5047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4953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3276360" y="4572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914400" y="6094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5715000" y="1600200"/>
            <a:ext cx="2133720" cy="2286000"/>
            <a:chOff x="5715000" y="1600200"/>
            <a:chExt cx="2133720" cy="2286000"/>
          </a:xfrm>
        </p:grpSpPr>
        <p:sp>
          <p:nvSpPr>
            <p:cNvPr id="217" name=""/>
            <p:cNvSpPr/>
            <p:nvPr/>
          </p:nvSpPr>
          <p:spPr>
            <a:xfrm>
              <a:off x="6781680" y="1600200"/>
              <a:ext cx="0" cy="22860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715000" y="2312640"/>
              <a:ext cx="2133720" cy="11653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26160" y="2133720"/>
              <a:ext cx="2111400" cy="15238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15000" y="327672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32520" y="173988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715000" y="173952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6781680" y="3733920"/>
            <a:ext cx="2362320" cy="2485800"/>
            <a:chOff x="6781680" y="3733920"/>
            <a:chExt cx="2362320" cy="24858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6781680" y="438480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238880" y="37339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43400" y="212400"/>
            <a:ext cx="449568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亲历知识的发生和发展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利用尺规作出三角形三条边的垂直平分线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886200"/>
            <a:ext cx="747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结论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33412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写出规范的证明过程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52560" y="4375080"/>
            <a:ext cx="358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想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证明这个命题吗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457200"/>
            <a:ext cx="3581280" cy="685800"/>
            <a:chOff x="914400" y="457200"/>
            <a:chExt cx="3581280" cy="685800"/>
          </a:xfrm>
        </p:grpSpPr>
        <p:sp>
          <p:nvSpPr>
            <p:cNvPr id="235" name=""/>
            <p:cNvSpPr/>
            <p:nvPr/>
          </p:nvSpPr>
          <p:spPr>
            <a:xfrm>
              <a:off x="914400" y="5047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4953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276360" y="4572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914400" y="6094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762120" y="259092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再观察这三条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又发现了什么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与同伴交流</a:t>
            </a:r>
            <a:r>
              <a:rPr b="1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715000" y="1600200"/>
            <a:ext cx="2133720" cy="2286000"/>
            <a:chOff x="5715000" y="1600200"/>
            <a:chExt cx="2133720" cy="2286000"/>
          </a:xfrm>
        </p:grpSpPr>
        <p:sp>
          <p:nvSpPr>
            <p:cNvPr id="241" name=""/>
            <p:cNvSpPr/>
            <p:nvPr/>
          </p:nvSpPr>
          <p:spPr>
            <a:xfrm>
              <a:off x="6781680" y="1600200"/>
              <a:ext cx="0" cy="22860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312640"/>
              <a:ext cx="2133720" cy="116532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26160" y="2133720"/>
              <a:ext cx="2111400" cy="15238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5000" y="3276720"/>
              <a:ext cx="21337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2520" y="1739880"/>
              <a:ext cx="885960" cy="152388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715000" y="1739520"/>
              <a:ext cx="1219320" cy="15368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26000" y="0"/>
            <a:ext cx="2717640" cy="2059920"/>
            <a:chOff x="6426000" y="0"/>
            <a:chExt cx="2717640" cy="2059920"/>
          </a:xfrm>
        </p:grpSpPr>
        <p:grpSp>
          <p:nvGrpSpPr>
            <p:cNvPr id="254" name=""/>
            <p:cNvGrpSpPr/>
            <p:nvPr/>
          </p:nvGrpSpPr>
          <p:grpSpPr>
            <a:xfrm>
              <a:off x="6426000" y="0"/>
              <a:ext cx="2717640" cy="2059920"/>
              <a:chOff x="6426000" y="0"/>
              <a:chExt cx="2717640" cy="20599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515280" y="0"/>
                <a:ext cx="1218960" cy="2059920"/>
                <a:chOff x="6515280" y="0"/>
                <a:chExt cx="1218960" cy="2059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515280" y="0"/>
                  <a:ext cx="119124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29320" y="179640"/>
                  <a:ext cx="120492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6426000" y="15552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0" lang="en-US" sz="32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pic>
            <p:nvPicPr>
              <p:cNvPr id="2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79200"/>
                <a:ext cx="1409400" cy="1809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" descr=""/>
            <p:cNvPicPr/>
            <p:nvPr/>
          </p:nvPicPr>
          <p:blipFill>
            <a:blip r:embed="rId7"/>
            <a:stretch/>
          </p:blipFill>
          <p:spPr>
            <a:xfrm>
              <a:off x="8077320" y="228600"/>
              <a:ext cx="326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85800" y="762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命题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948040"/>
            <a:ext cx="4952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设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相交于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连接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P,BP,CP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684600"/>
            <a:ext cx="55627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线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B (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或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中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)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同理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PB=P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A=P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在线段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上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586728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想一想</a:t>
            </a:r>
            <a:r>
              <a:rPr b="1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: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若作出∠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P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的角平分线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结论是否也可以得征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5562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咋证三条直线交于一点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816200"/>
            <a:ext cx="8305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2a3d7a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基本想法是这样的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我们知道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两条直线相交只有一个交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要想证明三条直线相交于一点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只要能证明两条直线的交点在第三条直线上即可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这时可以考虑前面刚刚学到的逆定理</a:t>
            </a:r>
            <a:r>
              <a:rPr b="0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2514600"/>
            <a:ext cx="2941560" cy="2514600"/>
            <a:chOff x="5715000" y="2514600"/>
            <a:chExt cx="2941560" cy="2514600"/>
          </a:xfrm>
        </p:grpSpPr>
        <p:grpSp>
          <p:nvGrpSpPr>
            <p:cNvPr id="268" name=""/>
            <p:cNvGrpSpPr/>
            <p:nvPr/>
          </p:nvGrpSpPr>
          <p:grpSpPr>
            <a:xfrm>
              <a:off x="6019920" y="2743200"/>
              <a:ext cx="2133360" cy="2286000"/>
              <a:chOff x="6019920" y="2743200"/>
              <a:chExt cx="2133360" cy="2286000"/>
            </a:xfrm>
          </p:grpSpPr>
          <p:sp>
            <p:nvSpPr>
              <p:cNvPr id="269" name=""/>
              <p:cNvSpPr/>
              <p:nvPr/>
            </p:nvSpPr>
            <p:spPr>
              <a:xfrm>
                <a:off x="7086240" y="2743200"/>
                <a:ext cx="0" cy="22860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019920" y="3455640"/>
                <a:ext cx="2133360" cy="1165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30720" y="3276720"/>
                <a:ext cx="2111040" cy="15238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19920" y="4419720"/>
                <a:ext cx="213336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37080" y="2882880"/>
                <a:ext cx="885600" cy="152388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019920" y="2882520"/>
                <a:ext cx="1218960" cy="15368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71629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500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2340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86600" y="4267080"/>
              <a:ext cx="15228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8880" y="4267080"/>
              <a:ext cx="0" cy="1396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15280" y="3809880"/>
              <a:ext cx="147600" cy="114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662880" y="3773160"/>
              <a:ext cx="91800" cy="1508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>
            <a:off x="7091280" y="2897280"/>
            <a:ext cx="168480" cy="1119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031080" y="4016520"/>
            <a:ext cx="1060200" cy="3902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91280" y="4035600"/>
            <a:ext cx="1044720" cy="392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85800" y="1103400"/>
            <a:ext cx="8305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定理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2305080"/>
            <a:ext cx="5268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在△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∵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分别是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AB,BC,AC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的垂直平分线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已知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∴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c,a,b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PA=PB=PC(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三角形三条边的垂直平分线相交于一点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并且这一点到三个顶点的距离相等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5273640"/>
            <a:ext cx="6405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老师提示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这是一个证明三条直线交于一点的证明根据</a:t>
            </a:r>
            <a:r>
              <a:rPr b="1" lang="zh-CN" sz="24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57600" y="75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几何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种语言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52280"/>
            <a:ext cx="3581280" cy="685800"/>
            <a:chOff x="914400" y="152280"/>
            <a:chExt cx="3581280" cy="685800"/>
          </a:xfrm>
        </p:grpSpPr>
        <p:sp>
          <p:nvSpPr>
            <p:cNvPr id="297" name=""/>
            <p:cNvSpPr/>
            <p:nvPr/>
          </p:nvSpPr>
          <p:spPr>
            <a:xfrm>
              <a:off x="91440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  <a:ea typeface="隶书"/>
                </a:rPr>
                <a:t>做一做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327636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91440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5715000" y="1981080"/>
            <a:ext cx="2941560" cy="2590920"/>
            <a:chOff x="5715000" y="1981080"/>
            <a:chExt cx="2941560" cy="2590920"/>
          </a:xfrm>
        </p:grpSpPr>
        <p:grpSp>
          <p:nvGrpSpPr>
            <p:cNvPr id="302" name=""/>
            <p:cNvGrpSpPr/>
            <p:nvPr/>
          </p:nvGrpSpPr>
          <p:grpSpPr>
            <a:xfrm>
              <a:off x="5715000" y="2057400"/>
              <a:ext cx="2941560" cy="2514600"/>
              <a:chOff x="5715000" y="2057400"/>
              <a:chExt cx="2941560" cy="25146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6019920" y="2286000"/>
                <a:ext cx="2133360" cy="2286000"/>
                <a:chOff x="6019920" y="2286000"/>
                <a:chExt cx="2133360" cy="22860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86240" y="2286000"/>
                  <a:ext cx="0" cy="228600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6019920" y="2998440"/>
                  <a:ext cx="2133360" cy="116532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30720" y="2819520"/>
                  <a:ext cx="2111040" cy="15238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19920" y="3962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237080" y="2425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19920" y="2425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716292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15000" y="37339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234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38880" y="33526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86600" y="3809880"/>
                <a:ext cx="15228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38880" y="3809880"/>
                <a:ext cx="0" cy="1396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5280" y="3352680"/>
                <a:ext cx="147600" cy="11448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662880" y="3315960"/>
                <a:ext cx="91800" cy="1508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 flipH="1">
              <a:off x="7091280" y="2440080"/>
              <a:ext cx="168480" cy="1119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31080" y="3559320"/>
              <a:ext cx="1060200" cy="3902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91280" y="3578400"/>
              <a:ext cx="1044720" cy="3920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1981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48720" y="2666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67280" y="27432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47960" y="228600"/>
            <a:ext cx="4343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隶书"/>
              </a:rPr>
              <a:t>挑战自我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c9ddf1"/>
          </a:solidFill>
          <a:ln cap="sq"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b5249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12800" y="16444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三角形的一条边及这条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你能作出三角形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4648320"/>
            <a:ext cx="54864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你能亲自探索出结果并能用尺规作出图形</a:t>
            </a:r>
            <a:r>
              <a:rPr b="0" lang="zh-CN" sz="2800" spc="-1" strike="noStrike">
                <a:solidFill>
                  <a:srgbClr val="5b5249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98560" y="152280"/>
            <a:ext cx="3673440" cy="1240920"/>
            <a:chOff x="898560" y="152280"/>
            <a:chExt cx="3673440" cy="1240920"/>
          </a:xfrm>
        </p:grpSpPr>
        <p:grpSp>
          <p:nvGrpSpPr>
            <p:cNvPr id="334" name=""/>
            <p:cNvGrpSpPr/>
            <p:nvPr/>
          </p:nvGrpSpPr>
          <p:grpSpPr>
            <a:xfrm>
              <a:off x="898560" y="152280"/>
              <a:ext cx="1904400" cy="1240920"/>
              <a:chOff x="898560" y="152280"/>
              <a:chExt cx="1904400" cy="1240920"/>
            </a:xfrm>
          </p:grpSpPr>
          <p:sp>
            <p:nvSpPr>
              <p:cNvPr id="335" name=""/>
              <p:cNvSpPr/>
              <p:nvPr/>
            </p:nvSpPr>
            <p:spPr>
              <a:xfrm>
                <a:off x="898560" y="161640"/>
                <a:ext cx="1861200" cy="12315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19800" y="152280"/>
                <a:ext cx="188316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958680" y="45720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议一议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2803320" y="196560"/>
              <a:ext cx="1768680" cy="10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685800" y="24526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如果能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能作出几个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所作出的三角形都全等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016080"/>
            <a:ext cx="82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ac16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已知等腰三角形的底及底边上的高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你能用尺规作出等腰三角形吗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能作几个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12999数学网 www.12999.com</dc:creator>
  <dc:description/>
  <dc:language>en-US</dc:language>
  <cp:lastModifiedBy>微软用户</cp:lastModifiedBy>
  <dcterms:modified xsi:type="dcterms:W3CDTF">2012-07-15T00:07:28Z</dcterms:modified>
  <cp:revision>314</cp:revision>
  <dc:subject>12999数学网 www.12999.com</dc:subject>
  <dc:title>12999数学网 www.12999.com</dc:title>
</cp:coreProperties>
</file>