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7.png" ContentType="image/png"/>
  <Override PartName="/ppt/media/image4.gif" ContentType="image/gif"/>
  <Override PartName="/ppt/media/image6.jpeg" ContentType="image/jpeg"/>
  <Override PartName="/ppt/media/image8.png" ContentType="image/png"/>
  <Override PartName="/ppt/media/image5.gif" ContentType="image/gif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65FF-54D2-4745-904B-FB14BEA22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5280" y="408672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5207-47DE-4E4B-A549-6423B71D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2400" y="1341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5280" y="408672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2400" y="408672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0240-1DC4-4EDC-867C-3629EAA92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960" y="1341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2640" y="1341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5280" y="408672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960" y="408672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2640" y="408672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9EAE-FCF0-4161-A802-98235D14A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C528-FB25-40A3-A2D0-A3D31D149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5280" y="1341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B8B4-7B34-48CF-8F57-A5609AAF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F250-839C-46CB-8BFE-D81F97F2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2400" y="134100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1824-989C-4160-8B74-E738F679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682A-55A3-4EAB-A29E-0E69D059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749B-6823-408C-928B-687330EA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2400" y="134100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5280" y="408672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87EB-754B-451C-A29A-D96B8049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95280" y="1341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089E-19C8-4377-AB0F-03259E61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2400" y="1341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2400" y="408672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FE81-9090-4167-B605-CC718DD2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2400" y="1341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5280" y="408672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3CCA-F5FA-40DB-B82C-4C61B58C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5280" y="408672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A9EB-E0C7-4BEE-BB42-5C5F4B99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2400" y="1341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5280" y="408672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2400" y="408672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FC7B-A363-410B-B46F-263A230BA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43960" y="1341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2640" y="1341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95280" y="408672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43960" y="408672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92640" y="408672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5E34-F44C-419C-96F1-BA71AA448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19A8-AA17-4DAA-9038-7B60BE12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2400" y="134100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976F-10BA-4C28-B244-12AF1941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56C4-C478-47C3-B423-EAE7A9E1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9A88-8A69-4221-AD07-71D1E7F5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2400" y="134100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5280" y="408672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FA5B-16C1-47E5-8EC0-A673D72F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2400" y="1341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2400" y="408672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6EE8-FA4C-419B-B733-DD12D630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2400" y="1341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5280" y="408672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F058-D28E-40B6-AC9C-9F625A33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0920" y="1125360"/>
            <a:ext cx="856908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95280" y="1341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D746-6A44-492B-A187-74B330A568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EE8A-7C65-4634-98F6-862DA1C506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3680" y="5445000"/>
            <a:ext cx="14608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九年级数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深圳市西乡中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初三备课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476360" y="592200"/>
            <a:ext cx="634356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行楷"/>
              </a:rPr>
              <a:t>第二章 一元二次方程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6.jpe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3500280"/>
            <a:ext cx="8424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33"/>
                </a:solidFill>
                <a:latin typeface="华文行楷"/>
                <a:ea typeface="华文行楷"/>
              </a:rPr>
              <a:t>2.1 </a:t>
            </a:r>
            <a:r>
              <a:rPr b="1" lang="zh-CN" sz="6000" spc="-1" strike="noStrike">
                <a:solidFill>
                  <a:srgbClr val="660033"/>
                </a:solidFill>
                <a:latin typeface="华文行楷"/>
                <a:ea typeface="华文行楷"/>
              </a:rPr>
              <a:t>花边有多宽（</a:t>
            </a:r>
            <a:r>
              <a:rPr b="1" lang="zh-CN" sz="6000" spc="-1" strike="noStrike">
                <a:solidFill>
                  <a:srgbClr val="660033"/>
                </a:solidFill>
                <a:latin typeface="华文行楷"/>
                <a:ea typeface="华文行楷"/>
              </a:rPr>
              <a:t>1</a:t>
            </a:r>
            <a:r>
              <a:rPr b="1" lang="zh-CN" sz="6000" spc="-1" strike="noStrike">
                <a:solidFill>
                  <a:srgbClr val="660033"/>
                </a:solidFill>
                <a:latin typeface="华文行楷"/>
                <a:ea typeface="华文行楷"/>
              </a:rPr>
              <a:t>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1125360"/>
            <a:ext cx="852156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从前有一天，一个醉汉拿着竹竿进屋，横拿竖拿都进不去，横着比门框宽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４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竖着比门框高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２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另一个醉汉教他沿着门的两个对角斜着拿竿，这个醉汉一试，不多不少刚好进去了．你知道竹竿有多长吗？请根据这一问题列出方程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4"/>
          <a:srcRect l="4346" t="-2126" r="32018" b="1449"/>
          <a:stretch/>
        </p:blipFill>
        <p:spPr>
          <a:xfrm>
            <a:off x="6380280" y="3160800"/>
            <a:ext cx="2763720" cy="25318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201840" y="3757680"/>
            <a:ext cx="1778040" cy="2425680"/>
          </a:xfrm>
          <a:prstGeom prst="rect">
            <a:avLst/>
          </a:prstGeom>
          <a:solidFill>
            <a:srgbClr val="ffffff"/>
          </a:solidFill>
          <a:ln cap="sq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980240" y="3236400"/>
            <a:ext cx="1080" cy="2946600"/>
          </a:xfrm>
          <a:prstGeom prst="line">
            <a:avLst/>
          </a:prstGeom>
          <a:ln cap="sq"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4649040" y="3236760"/>
            <a:ext cx="297000" cy="520920"/>
          </a:xfrm>
          <a:custGeom>
            <a:avLst/>
            <a:gdLst>
              <a:gd name="textAreaLeft" fmla="*/ -360 w 297000"/>
              <a:gd name="textAreaRight" fmla="*/ 106920 w 297000"/>
              <a:gd name="textAreaTop" fmla="*/ 13320 h 520920"/>
              <a:gd name="textAreaBottom" fmla="*/ 507600 h 52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4979880" y="3236400"/>
            <a:ext cx="0" cy="520920"/>
          </a:xfrm>
          <a:prstGeom prst="line">
            <a:avLst/>
          </a:prstGeom>
          <a:ln cap="sq"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01840" y="6183360"/>
            <a:ext cx="3022920" cy="0"/>
          </a:xfrm>
          <a:prstGeom prst="line">
            <a:avLst/>
          </a:prstGeom>
          <a:ln cap="sq"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232440" y="3744720"/>
            <a:ext cx="1718640" cy="2393640"/>
          </a:xfrm>
          <a:prstGeom prst="line">
            <a:avLst/>
          </a:prstGeom>
          <a:ln cap="sq"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147200">
            <a:off x="5559840" y="5595120"/>
            <a:ext cx="180720" cy="1347840"/>
          </a:xfrm>
          <a:custGeom>
            <a:avLst/>
            <a:gdLst>
              <a:gd name="textAreaLeft" fmla="*/ 115560 w 180720"/>
              <a:gd name="textAreaRight" fmla="*/ 181080 w 180720"/>
              <a:gd name="textAreaTop" fmla="*/ 34920 h 1347840"/>
              <a:gd name="textAreaBottom" fmla="*/ 1312920 h 1347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86320" y="6356520"/>
            <a:ext cx="7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63960" y="3294000"/>
            <a:ext cx="7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79880" y="6183360"/>
            <a:ext cx="1303560" cy="0"/>
          </a:xfrm>
          <a:prstGeom prst="line">
            <a:avLst/>
          </a:prstGeom>
          <a:ln cap="sq"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11680" y="4557600"/>
            <a:ext cx="4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16164000">
            <a:off x="4003200" y="5379840"/>
            <a:ext cx="174960" cy="1778040"/>
          </a:xfrm>
          <a:custGeom>
            <a:avLst/>
            <a:gdLst>
              <a:gd name="textAreaLeft" fmla="*/ 111960 w 174960"/>
              <a:gd name="textAreaRight" fmla="*/ 175320 w 174960"/>
              <a:gd name="textAreaTop" fmla="*/ 46080 h 1778040"/>
              <a:gd name="textAreaBottom" fmla="*/ 1731960 h 1778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10160" y="623412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181480" y="471024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79880" y="3757680"/>
            <a:ext cx="177840" cy="2425680"/>
          </a:xfrm>
          <a:custGeom>
            <a:avLst/>
            <a:gdLst>
              <a:gd name="textAreaLeft" fmla="*/ 0 w 177840"/>
              <a:gd name="textAreaRight" fmla="*/ 64080 w 177840"/>
              <a:gd name="textAreaTop" fmla="*/ 63000 h 2425680"/>
              <a:gd name="textAreaBottom" fmla="*/ 2362680 h 242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029200" y="3948120"/>
            <a:ext cx="1371600" cy="459720"/>
            <a:chOff x="5029200" y="3948120"/>
            <a:chExt cx="1371600" cy="459720"/>
          </a:xfrm>
        </p:grpSpPr>
        <p:sp>
          <p:nvSpPr>
            <p:cNvPr id="226" name=""/>
            <p:cNvSpPr/>
            <p:nvPr/>
          </p:nvSpPr>
          <p:spPr>
            <a:xfrm>
              <a:off x="5257800" y="39481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数学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5029200" y="4405320"/>
              <a:ext cx="1371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 txBox="1"/>
          <p:nvPr/>
        </p:nvSpPr>
        <p:spPr>
          <a:xfrm>
            <a:off x="826920" y="476280"/>
            <a:ext cx="2248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华文新魏"/>
              </a:rPr>
              <a:t>课堂练习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本节课你又学会了哪些新知识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１．学习了什么是一元二次方程，以及它的一般形式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ax</a:t>
            </a:r>
            <a:r>
              <a:rPr b="1" lang="zh-CN" sz="3200" spc="-1" strike="noStrike" baseline="30000">
                <a:solidFill>
                  <a:srgbClr val="ff0000"/>
                </a:solidFill>
                <a:latin typeface="隶书"/>
                <a:ea typeface="隶书"/>
              </a:rPr>
              <a:t>２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＋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bx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＋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c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＝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c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为常数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1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a≠</a:t>
            </a:r>
            <a:r>
              <a:rPr b="1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和有关概念，如二次项、一次项、常数项、二次项系数、一次项系数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２．会用一元二次方程表示实际生活中的数量关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你准备如何去求方程中的未知数呢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826920" y="476280"/>
            <a:ext cx="1124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华文新魏"/>
              </a:rPr>
              <a:t>小结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39640" y="1197000"/>
            <a:ext cx="7128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１．根据题意，列出方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044800"/>
            <a:ext cx="8137440" cy="29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１）有一面积为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54m</a:t>
            </a:r>
            <a:r>
              <a:rPr b="1" lang="zh-CN" sz="36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长方形，将它的一边剪短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5m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另一边剪短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2m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恰好变成一个正方形，这个正方形的边长是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26920" y="476280"/>
            <a:ext cx="2248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华文新魏"/>
              </a:rPr>
              <a:t>思维拓展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38" name=""/>
          <p:cNvSpPr/>
          <p:nvPr/>
        </p:nvSpPr>
        <p:spPr>
          <a:xfrm>
            <a:off x="353880" y="4365720"/>
            <a:ext cx="86108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２）三个连续整数两两相乘，再求和，结果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4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这三个数分别是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09480" y="12193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下列方程化为一元二次方程的形式，并写出它的二次项系数、一次项系数和常数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70000" y="2421000"/>
          <a:ext cx="8478720" cy="4103640"/>
        </p:xfrm>
        <a:graphic>
          <a:graphicData uri="http://schemas.openxmlformats.org/drawingml/2006/table">
            <a:tbl>
              <a:tblPr/>
              <a:tblGrid>
                <a:gridCol w="2449440"/>
                <a:gridCol w="1728720"/>
                <a:gridCol w="1584360"/>
                <a:gridCol w="1628640"/>
                <a:gridCol w="1087560"/>
              </a:tblGrid>
              <a:tr h="114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方　　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般形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二次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系　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次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系　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常数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x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5x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+2)(x -1)=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7x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"/>
          <p:cNvSpPr txBox="1"/>
          <p:nvPr/>
        </p:nvSpPr>
        <p:spPr>
          <a:xfrm>
            <a:off x="826920" y="476280"/>
            <a:ext cx="2248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华文新魏"/>
              </a:rPr>
              <a:t>思维拓展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9140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运用方程（方程组）解答相关的实际问题是一种重要的数学思想——方程的思想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一元二次方程也是刻画现实世界的有效数学模型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826920" y="476280"/>
            <a:ext cx="2248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华文新魏"/>
              </a:rPr>
              <a:t>结束寄语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26920" y="476280"/>
            <a:ext cx="2810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华文新魏"/>
              </a:rPr>
              <a:t>回顾与思考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1230480"/>
            <a:ext cx="822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方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x+7=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什么方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方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1" lang="zh-CN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+7x=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与上面的方程相同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2587680"/>
            <a:ext cx="842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生活中，我们常用方程思想解决实际问题，其思路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把待求的量用字母表示出来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把已知量与未知量放在同等地位进行运算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寻求建立等量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解方程（组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356000" y="436680"/>
            <a:ext cx="440064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花边有多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219320"/>
            <a:ext cx="858816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块四周镶有宽度相等的花边的地毯如下图，它的长为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宽为５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．如果地毯中央长方形图案的面积为１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则花边多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7848720" y="533520"/>
            <a:ext cx="522000" cy="609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091280" y="3789360"/>
            <a:ext cx="19447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你怎么解决这个问题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2894040" y="3141720"/>
            <a:ext cx="4125960" cy="30909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826920" y="476280"/>
            <a:ext cx="2810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华文新魏"/>
              </a:rPr>
              <a:t>数学与生活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897440" y="2898720"/>
            <a:ext cx="4181400" cy="304812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1197000"/>
            <a:ext cx="8640720" cy="13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解：如果设花边的宽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 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那么地毯中央长方形图案的长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宽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　　　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根据题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得方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0600" y="6093000"/>
            <a:ext cx="6126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你能化简这个方程吗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1685880"/>
            <a:ext cx="214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92720" y="16858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71640" y="218916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(8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－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x) (5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－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x) = 1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40100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/>
          <p:nvPr/>
        </p:nvCxnSpPr>
        <p:spPr>
          <a:xfrm>
            <a:off x="4897080" y="5986080"/>
            <a:ext cx="1080" cy="10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5257800" y="3276720"/>
            <a:ext cx="3429000" cy="0"/>
          </a:xfrm>
          <a:prstGeom prst="line">
            <a:avLst/>
          </a:prstGeom>
          <a:ln cap="sq"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3276720"/>
            <a:ext cx="0" cy="2286000"/>
          </a:xfrm>
          <a:prstGeom prst="line">
            <a:avLst/>
          </a:prstGeom>
          <a:ln cap="sq"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686800" y="3276720"/>
            <a:ext cx="0" cy="2286000"/>
          </a:xfrm>
          <a:prstGeom prst="line">
            <a:avLst/>
          </a:prstGeom>
          <a:ln cap="sq"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57800" y="5562720"/>
            <a:ext cx="3429000" cy="0"/>
          </a:xfrm>
          <a:prstGeom prst="line">
            <a:avLst/>
          </a:prstGeom>
          <a:ln cap="sq"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257800" y="2895120"/>
            <a:ext cx="0" cy="38124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8686800" y="3274920"/>
            <a:ext cx="380880" cy="5040"/>
          </a:xfrm>
          <a:prstGeom prst="line">
            <a:avLst/>
          </a:prstGeom>
          <a:ln cap="sq" w="1260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257800" y="5562720"/>
            <a:ext cx="0" cy="3808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876920" y="3274920"/>
            <a:ext cx="380880" cy="5040"/>
          </a:xfrm>
          <a:prstGeom prst="line">
            <a:avLst/>
          </a:prstGeom>
          <a:ln cap="sq" w="1260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5780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57800" y="5486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686800" y="3124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76920" y="3200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35053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333399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2x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5389800">
            <a:off x="4640040" y="43495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2x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23763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57800" y="3276720"/>
            <a:ext cx="152280" cy="2286000"/>
          </a:xfrm>
          <a:custGeom>
            <a:avLst/>
            <a:gdLst>
              <a:gd name="textAreaLeft" fmla="*/ 0 w 152280"/>
              <a:gd name="textAreaRight" fmla="*/ 55080 w 1522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 rot="16177800">
            <a:off x="6779520" y="1750680"/>
            <a:ext cx="381240" cy="3429000"/>
          </a:xfrm>
          <a:custGeom>
            <a:avLst/>
            <a:gdLst>
              <a:gd name="textAreaLeft" fmla="*/ 243720 w 381240"/>
              <a:gd name="textAreaRight" fmla="*/ 381600 w 38124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29400" y="4267080"/>
            <a:ext cx="99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18</a:t>
            </a: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m</a:t>
            </a:r>
            <a:r>
              <a:rPr b="0" lang="en-US" sz="3200" spc="-1" strike="noStrike" baseline="30000">
                <a:solidFill>
                  <a:srgbClr val="0033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0" y="2928960"/>
            <a:ext cx="4125960" cy="309096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3962520" y="3505320"/>
            <a:ext cx="1371600" cy="459720"/>
            <a:chOff x="3962520" y="3505320"/>
            <a:chExt cx="1371600" cy="459720"/>
          </a:xfrm>
        </p:grpSpPr>
        <p:sp>
          <p:nvSpPr>
            <p:cNvPr id="132" name=""/>
            <p:cNvSpPr/>
            <p:nvPr/>
          </p:nvSpPr>
          <p:spPr>
            <a:xfrm>
              <a:off x="3962520" y="35053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数学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62520" y="3962520"/>
              <a:ext cx="1371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 txBox="1"/>
          <p:nvPr/>
        </p:nvSpPr>
        <p:spPr>
          <a:xfrm>
            <a:off x="826920" y="476280"/>
            <a:ext cx="1686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华文新魏"/>
              </a:rPr>
              <a:t>做一做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rcRect l="25003" t="0" r="35207" b="21323"/>
          <a:stretch/>
        </p:blipFill>
        <p:spPr>
          <a:xfrm>
            <a:off x="3809880" y="1927080"/>
            <a:ext cx="1605240" cy="3075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33520" y="11430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图，一个长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梯子斜靠在墙上，梯子的顶端距地面的垂直距离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如果梯子的顶端下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那么梯子的底端滑动多少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2362320"/>
            <a:ext cx="3200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：由勾股定理可知，滑动前梯子底端距墙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　　　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果设梯子底端滑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 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那么滑动后梯子底端距墙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　　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根据题意，可得方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6019920"/>
            <a:ext cx="723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你能化简这个方程吗</a:t>
            </a: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2440" y="30481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42670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01680" y="528624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(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6)</a:t>
            </a:r>
            <a:r>
              <a:rPr b="1" lang="zh-CN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2590920"/>
            <a:ext cx="0" cy="24382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0" y="5029200"/>
            <a:ext cx="220968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562720" y="5029200"/>
            <a:ext cx="129528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2819520"/>
            <a:ext cx="1219320" cy="22096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57640" y="3133800"/>
            <a:ext cx="1677240" cy="18856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76360" y="3264840"/>
            <a:ext cx="1792080" cy="17762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0" y="2819520"/>
            <a:ext cx="1219320" cy="220968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77320" y="5029200"/>
            <a:ext cx="533160" cy="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267760" y="4838400"/>
            <a:ext cx="228600" cy="609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77320" y="5105520"/>
            <a:ext cx="75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x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22880" y="3657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0791600">
            <a:off x="6857640" y="3276360"/>
            <a:ext cx="152280" cy="1752480"/>
          </a:xfrm>
          <a:custGeom>
            <a:avLst/>
            <a:gdLst>
              <a:gd name="textAreaLeft" fmla="*/ 97200 w 152280"/>
              <a:gd name="textAreaRight" fmla="*/ 152640 w 1522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0" y="2819520"/>
            <a:ext cx="0" cy="45720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20592000">
            <a:off x="7718400" y="35078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76360" y="3264840"/>
            <a:ext cx="1792080" cy="177624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6136400">
            <a:off x="7353720" y="4532400"/>
            <a:ext cx="227160" cy="1219320"/>
          </a:xfrm>
          <a:custGeom>
            <a:avLst/>
            <a:gdLst>
              <a:gd name="textAreaLeft" fmla="*/ 145080 w 227160"/>
              <a:gd name="textAreaRight" fmla="*/ 227520 w 2271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8660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76360" y="3264840"/>
            <a:ext cx="1792080" cy="1776240"/>
          </a:xfrm>
          <a:prstGeom prst="line">
            <a:avLst/>
          </a:prstGeom>
          <a:ln cap="sq"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3276720"/>
            <a:ext cx="0" cy="1752480"/>
          </a:xfrm>
          <a:prstGeom prst="line">
            <a:avLst/>
          </a:prstGeom>
          <a:ln cap="sq"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5029200"/>
            <a:ext cx="1828800" cy="0"/>
          </a:xfrm>
          <a:prstGeom prst="line">
            <a:avLst/>
          </a:prstGeom>
          <a:ln cap="sq"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4952880" y="2666880"/>
            <a:ext cx="1371600" cy="459720"/>
            <a:chOff x="4952880" y="2666880"/>
            <a:chExt cx="1371600" cy="459720"/>
          </a:xfrm>
        </p:grpSpPr>
        <p:sp>
          <p:nvSpPr>
            <p:cNvPr id="167" name=""/>
            <p:cNvSpPr/>
            <p:nvPr/>
          </p:nvSpPr>
          <p:spPr>
            <a:xfrm>
              <a:off x="4952880" y="26668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数学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52880" y="3124080"/>
              <a:ext cx="1371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6324480" y="2743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26920" y="476280"/>
            <a:ext cx="1686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华文新魏"/>
              </a:rPr>
              <a:t>做一做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6" dur="1" fill="hold">
                                    <p:stCondLst>
                                      <p:cond evt="end">
                                        <p:tn val="164"/>
                                      </p:cond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95280" y="35701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面的方程都是只含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　　　　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　　　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并且都可以化为　　　　　　　　　　　　　　　　　              的形式，这样的方程叫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一元二次方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61840" y="189000"/>
            <a:ext cx="5257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  <a:ea typeface="隶书"/>
              </a:rPr>
              <a:t>一元二次方程的概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" y="11970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由上面两个问题，我们可以得到两个方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60360" y="4797360"/>
            <a:ext cx="8388360" cy="20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常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a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称为一元二次方程的一般形式，其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x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别称为二次项、一次项和常数项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别称为二次项系数和一次项系数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844640"/>
            <a:ext cx="5852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8-2x)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)=18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643280" y="1844640"/>
            <a:ext cx="4392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Times New Roman"/>
              </a:rPr>
              <a:t>即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x</a:t>
            </a:r>
            <a:r>
              <a:rPr b="1" lang="zh-CN" sz="3200" spc="-1" strike="noStrike" baseline="30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zh-CN" sz="32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3x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＋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1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2438280"/>
            <a:ext cx="52624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)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10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43280" y="2438280"/>
            <a:ext cx="41767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Times New Roman"/>
              </a:rPr>
              <a:t>即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3200" spc="-1" strike="noStrike" baseline="30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zh-CN" sz="32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5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4000" y="30430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述两个方程有什么共同特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08360" y="357336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一个未知数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818320" y="357336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整式方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76360" y="389268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ax</a:t>
            </a:r>
            <a:r>
              <a:rPr b="1" lang="zh-CN" sz="2800" spc="-1" strike="noStrike" baseline="30000">
                <a:solidFill>
                  <a:srgbClr val="ff0000"/>
                </a:solidFill>
                <a:latin typeface="Times New Roman"/>
              </a:rPr>
              <a:t>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b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常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a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57200" y="1219320"/>
            <a:ext cx="757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下列方程哪些是一元二次方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826920" y="476280"/>
            <a:ext cx="2248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华文新魏"/>
              </a:rPr>
              <a:t>课堂练习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华文新魏"/>
              <a:ea typeface="华文新魏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82560" y="1714680"/>
                <a:ext cx="7489800" cy="48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9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f>
                          <m:num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26920" y="476280"/>
            <a:ext cx="2248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华文新魏"/>
              </a:rPr>
              <a:t>课堂练习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93" name=""/>
          <p:cNvSpPr/>
          <p:nvPr/>
        </p:nvSpPr>
        <p:spPr>
          <a:xfrm>
            <a:off x="2233080" y="1498680"/>
            <a:ext cx="484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写出方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二次项系数、一次相系数和常数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419640" y="1341360"/>
                <a:ext cx="52560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676440" y="3284640"/>
            <a:ext cx="79992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把方程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(3x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)</a:t>
            </a:r>
            <a:r>
              <a:rPr b="1" lang="zh-CN" sz="3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4(x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3)</a:t>
            </a:r>
            <a:r>
              <a:rPr b="1" lang="zh-CN" sz="3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化成一元二次方程的一般形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并写出它的二次项系数、一次项系数和常数项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03120" y="134136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关于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方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(k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3)x</a:t>
            </a:r>
            <a:r>
              <a:rPr b="1" lang="zh-CN" sz="3200" spc="-1" strike="noStrike" baseline="30000">
                <a:solidFill>
                  <a:srgbClr val="ff3300"/>
                </a:solidFill>
                <a:latin typeface="Times New Roman"/>
              </a:rPr>
              <a:t>2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3200" spc="-1" strike="noStrike" baseline="30000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2x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，是一元二次方程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17520" y="3048120"/>
            <a:ext cx="8431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关于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方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(k</a:t>
            </a:r>
            <a:r>
              <a:rPr b="1" lang="zh-CN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)x</a:t>
            </a:r>
            <a:r>
              <a:rPr b="1" lang="zh-CN" sz="2800" spc="-1" strike="noStrike" baseline="30000">
                <a:solidFill>
                  <a:srgbClr val="ff33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 baseline="30000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 (k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) x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 baseline="30000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k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 baseline="30000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是一元二次方程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　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是一元一次方程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667640" y="134136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≠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42920" y="34290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≠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±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443640" y="34290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＝－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26920" y="476280"/>
            <a:ext cx="2248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华文新魏"/>
              </a:rPr>
              <a:t>课堂练习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4T13:01:47Z</dcterms:created>
  <dc:creator/>
  <dc:description/>
  <dc:language>en-US</dc:language>
  <cp:lastModifiedBy>微软用户</cp:lastModifiedBy>
  <dcterms:modified xsi:type="dcterms:W3CDTF">2012-07-02T05:58:46Z</dcterms:modified>
  <cp:revision>13</cp:revision>
  <dc:subject/>
  <dc:title>幻灯片 1</dc:title>
</cp:coreProperties>
</file>