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446-933F-4CAE-93D2-78F02A2C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1BE-7FC4-49ED-8C22-C954EED6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D85-306F-4959-88A7-70830DBB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E57-DF91-4AD4-A306-E1BF884E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AE01-C602-4BE3-9F36-F9847F7B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062C-B357-4115-B7C9-1CBC8915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D7B3-3C03-42FA-89E8-CA0F3BCD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9A0F-41C3-45A2-A031-47C84F90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9059-D991-4681-A820-D3C3E6F5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9762-E0ED-4321-8A31-407CDF13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A6D3-7D5E-45BE-B279-0E17098E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91C-FF8A-4794-AF04-444C004D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9563-3E8F-4C2B-8567-F7C175DD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B7B4-5284-43DE-8A56-C8A9BC81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9E04-E710-453D-985E-FDC53AEC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B570-CD7C-4132-AD5D-2E904B3F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C6B4-6A61-417D-BF9B-DA93F755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C2FAA-B9E0-49A0-9B96-16C89726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465B0-C439-4FE2-B149-2B1A69E5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6B1EF-2ADD-494A-A54D-C05CF60C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B974-F845-40F4-9A34-D7368C2F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FF0DD-CD33-4446-8149-84C78890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2F7-7901-4D89-B926-16125368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4DF0-05E1-48A3-9441-19AF3ECC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9A32-BA98-4811-8433-23309FE5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B621-63CD-4624-BC54-B42FA53F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3E94-632E-4A5D-BE29-2DBD291F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6019-9711-4F6D-A2EC-D0DE8EFA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1AFF-E06B-4618-8B33-213C36E2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B577-7EB1-4B45-AD65-ECE0DA63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7E3-CF71-4B13-9CA9-F8A06BB8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943-3882-4672-9B3D-B0FEE688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EAF-D5AF-473C-865D-5B5BF57E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B3B-F488-4C02-8E2F-F3AA076D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3F7-0B14-410D-8422-1CC5746E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140-C0D8-40EB-9A96-2D71E89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3486-F650-4B10-A6B5-B885F7852F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BE3D-3DA7-46C2-9A7E-5D8A71993F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409F-4C1B-4A34-B43A-D2A2DAA02E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1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讲练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268280"/>
            <a:ext cx="87854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的正方形网格中，网格线的交点称为格点．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两格点，如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也是图中的格点，且使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等腰三角形，则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个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676760" y="2304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867280" y="2349360"/>
            <a:ext cx="2895840" cy="351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1268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在正方形网格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各画一个等腰三角形．要求：每个等腰三角形的一个顶点为格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其余顶点从格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选取，并且所画的两个三角形不全等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575280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907920"/>
            <a:ext cx="878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：如图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S1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所示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9280" y="1628640"/>
            <a:ext cx="878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中点，连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延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延长线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283824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268280"/>
            <a:ext cx="87854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因为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中点，所以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E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因为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∥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∠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∠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∠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A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∠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FE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所以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△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E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≌△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CE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所以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因为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△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E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≌△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E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又因为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E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⊥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线段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垂直平分线，所以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B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因为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所以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9280" y="1628640"/>
            <a:ext cx="878544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线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一点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等边三角形，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等边三角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绕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逆时针方向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其他条件不变，在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补出符合要求的图形，并判断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小题的结论是否仍然成立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要求证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300320" y="1533600"/>
            <a:ext cx="6543360" cy="37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268280"/>
            <a:ext cx="87854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易证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△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MB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≌△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AN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则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N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M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证明：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∵△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MB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≌△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AN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∠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N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∠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BC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又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∵∠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CN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∠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C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N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△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CN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≌△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C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F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又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∵∠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C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6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△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C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等边三角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如图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②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所示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小题的结论仍然成立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小题不成立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1298520"/>
          <a:ext cx="8497800" cy="3282840"/>
        </p:xfrm>
        <a:graphic>
          <a:graphicData uri="http://schemas.openxmlformats.org/drawingml/2006/table">
            <a:tbl>
              <a:tblPr/>
              <a:tblGrid>
                <a:gridCol w="576360"/>
                <a:gridCol w="1728720"/>
                <a:gridCol w="6192720"/>
              </a:tblGrid>
              <a:tr h="190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证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属于数学新课程标准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形与几何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》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部分的重要内容，在日常测试及中考中，常以填空、选择及证明、计算及综合题考查学生对于三角形全等、等腰三角形、勾股定理及其逆定理的掌握．本卷以双基为主，考查学生对于基本知识点的理解及基本解题思路的掌握，重点在于培养学生对几何题的分析能力和逻辑推理能力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5280" y="1197000"/>
          <a:ext cx="8497800" cy="4559400"/>
        </p:xfrm>
        <a:graphic>
          <a:graphicData uri="http://schemas.openxmlformats.org/drawingml/2006/table">
            <a:tbl>
              <a:tblPr/>
              <a:tblGrid>
                <a:gridCol w="936720"/>
                <a:gridCol w="3960720"/>
                <a:gridCol w="3600360"/>
              </a:tblGrid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全等三角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腰三角形及直角三角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勾股定理及逆定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段的垂直平分线及角的平分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类讨论、数形结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用分类讨论的思想方法；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将动手操作与逻辑推理相结合考查等腰三角形的性质；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属于开放性问题，答案不唯一；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将等腰直角三角形的性质与三角形全等结合；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巧妙地对直角三角形较短直角边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倍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；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将同侧作等边三角形改为等腰三角形，既复习全等又复习相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1628640"/>
            <a:ext cx="8785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以下命题中，真命题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两条直线只有相交和平行两种位置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同位角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两边和一角对应相等的两个三角形全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等腰三角形底边中点到两腰的距离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4964040" y="1715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1268280"/>
            <a:ext cx="8785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下列说法中，正确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等腰三角形边上的中线也是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等腰三角形的内角平分线的交点到三个顶点的距离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等边三角形每条角平分线都平分对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直角三角形一边上的中线等于这边的一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4662360" y="13546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1628640"/>
            <a:ext cx="878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在直角三角形中，一条直角边长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另一条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它的三个内角之比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以上都不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3854520" y="218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1268280"/>
            <a:ext cx="8785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垂直平分线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边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图中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角的个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1103400" y="228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4464000" cy="248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26828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中垂线，垂足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568800" y="22755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54356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162864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一边，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部作等腰直角三角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线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74560" y="2536920"/>
          <a:ext cx="2845080" cy="55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560" y="2536920"/>
                    <a:ext cx="28450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46:58Z</dcterms:modified>
  <cp:revision>289</cp:revision>
  <dc:subject/>
  <dc:title>幻灯片 1</dc:title>
</cp:coreProperties>
</file>