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750-D385-4D90-B4FA-7BCB5DC4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DDE-881F-4596-A070-3424A96D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F1BB-F86F-42D5-B599-72C93B77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054B-5D4F-455B-A589-9A8E6E17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63F9-CC82-4F41-A28A-E0588A5E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B32D-D13F-415C-86B6-D0F4C8B5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F681-8A5B-4461-ADE8-11FA4740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62CE-51CA-4DCB-8AF4-4BFCE2A4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A673-032B-46DC-83A9-CC393EC3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0B4A-5EA9-4ED4-9C4E-38D516E0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9D91-8E3A-4A01-8802-D911BE41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4782-B5E1-4ADD-BF7B-BDF7AE0D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7847-EEDB-44CA-8CCC-D7D77617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8F19-DE1F-4B06-BC04-F3599ED3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A723-FF20-4EBD-85D6-8EA003D1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03F9-A904-4F49-8B6E-CC769AF3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FECB-093D-4D10-A51D-483034DA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4EEBD-9E89-48B8-AD1D-8CC8E4C0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23B10-1077-40CA-B27A-04201205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0A257-620E-4873-81B3-3ED1E456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BF017-81EF-4E50-A6EF-B8E03DDA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4CDFE-5B85-41AF-9E62-43DB30A7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9812-B389-4708-B3F1-06B65E4D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6BC91-A340-45E0-A894-BEF326E1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DE4DB-CE68-4E88-B375-7AD5DFE9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9AA99-6D09-4D71-9AC8-FB94A580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C51C8-7524-486C-AE33-4E890267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7D3BF-49B2-4E58-A8B9-1E2B2F9A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16F62-8C4C-403B-9E21-C1A4AA81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BDF50-590C-4685-A522-5471D9FE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CCF-9271-42AD-8BA0-E4846CA4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6312-3028-454E-8421-95F92603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935-B98A-4F8A-9569-D2F4B70D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978-EDC6-488A-B45F-783CF910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EEAC-1675-4A2F-8442-CB0BFD05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26F-D95C-4555-A01F-A2C020FF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F987-F54E-4D91-B4AA-E82EFE847B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1B86-DB75-4DEA-B531-085648124D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6FB6-2BA3-4301-92DE-C3AEE5C922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2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复习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2"/>
          <p:cNvSpPr/>
          <p:nvPr/>
        </p:nvSpPr>
        <p:spPr>
          <a:xfrm>
            <a:off x="1056600" y="1125360"/>
            <a:ext cx="3225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二　用分解因式法解方程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" y="1846440"/>
            <a:ext cx="867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分解因式法解方程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" y="3341520"/>
            <a:ext cx="867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(1)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经过变形后可用提取公因式法分解因式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可直接将方程左边分解因式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" y="1268280"/>
            <a:ext cx="867564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：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原方程变形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)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)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)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4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或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4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∴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95280" y="1197000"/>
          <a:ext cx="8331120" cy="51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33112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930600" y="1125360"/>
            <a:ext cx="27806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三　用公式法解方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360360" y="1846440"/>
            <a:ext cx="867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公式法解方程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" y="3341520"/>
            <a:ext cx="867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用公式法解方程时应先把一元二次方程化为一般形式，再确定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的值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95280" y="1484280"/>
          <a:ext cx="8331120" cy="51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84280"/>
                    <a:ext cx="833112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95280" y="1484280"/>
          <a:ext cx="8331120" cy="51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84280"/>
                    <a:ext cx="833112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2"/>
          <p:cNvSpPr/>
          <p:nvPr/>
        </p:nvSpPr>
        <p:spPr>
          <a:xfrm>
            <a:off x="807120" y="1125360"/>
            <a:ext cx="24148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四　增长率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360360" y="1846440"/>
            <a:ext cx="867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某种电脑病毒传播非常快，如果一台电脑被感染，经过两轮感染后就会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台电脑被感染．请你用学过的知识分析，每轮感染中平均一台电脑会感染几台电脑？若病毒得不到有效控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轮感染后，被感染的电脑会不会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台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>
            <a:off x="360360" y="4076640"/>
            <a:ext cx="86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增长率问题在近年中考试题中频频出现，解决此类问题应掌握增长率是指增长数与基准数的比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360360" y="1052640"/>
            <a:ext cx="867564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：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设每轮感染中平均一台电脑会感染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台电脑，则经过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轮后有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台被染上病毒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轮后就有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)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台被感染病毒，依题意，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)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8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解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8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0(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舍去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所以每轮感染中平均一台电脑会感染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8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台电脑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由此规律，经过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轮后，有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)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8)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729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台电脑被感染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由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729&gt;70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所以若病毒得不到有效控制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轮感染后，被感染的电脑会超过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70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台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92040" y="1190520"/>
          <a:ext cx="8388360" cy="44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190520"/>
                    <a:ext cx="83883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知识归纳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773360"/>
            <a:ext cx="864216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元二次方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含有一个未知数的整式方程，并且都可以化为</a:t>
            </a:r>
            <a:br>
              <a:rPr sz="2400"/>
            </a:b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                  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常数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≠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形式，这样的方程叫做一元二次方程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定义应注意四点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含有一个未知数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未知数的最高次数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次项系数不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整式方程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元二次方程的一般形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442800" y="2851560"/>
            <a:ext cx="21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c0504d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052640"/>
            <a:ext cx="86421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(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常数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≠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称为一元二次方程的一般形式，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称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常数项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称为二次项系数和一次项系数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接开平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直接开平方法的理论依据是平方根的定义．直接开平方法适用于解形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(b≥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一元二次方程，根据平方根的定义可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平方根，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≥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方程没有实数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配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5190480" y="155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二次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7314120" y="151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一次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867280" y="4149720"/>
          <a:ext cx="1959120" cy="55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149720"/>
                    <a:ext cx="195912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052640"/>
            <a:ext cx="864216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配方法的基本思想：转化思想，把方程转化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(b≥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形式，这样原方程的一边就转化为一个完全平方式，然后两边同时开平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配方法解一元二次方程的一般步骤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化二次项系数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含未知数的项放在一边，常数项放在另一边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配方，方程两边同时加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               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写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形式，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≥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直接开平方求出方程的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公式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5585040" y="4508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一次项系数一半的平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907920"/>
            <a:ext cx="8642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元二次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(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c≥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求根公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公式法解一元二次方程的一般步骤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一元二次方程化成一般形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(a≠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确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c≥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则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代入求根公式求出方程的根，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方程无实数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42920" y="1492200"/>
          <a:ext cx="3251160" cy="92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92200"/>
                    <a:ext cx="325116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1052640"/>
            <a:ext cx="864216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分解因式法解一元二次方程的一般步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方程变形为右边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形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方程左边分解因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令方程左边的每个因式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转化成两个一次方程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解这两个一次方程，它们的解就是原方程的解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列方程解应用题的一般步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审题：通过审题弄清已知量与未知量之间的数量关系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484280"/>
            <a:ext cx="8642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元：就是设未知数，分直接设与间接设，应根据实际需要恰当选取设元法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列方程：就是建立已知量与未知量之间的等量关系．列方程这一环节最重要，决定着能否顺利解决实际问题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方程：正确求出方程的解并注意检验其合理性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答：即写出答语，遵循问什么答什么的原则写清答语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2"/>
          <p:cNvSpPr/>
          <p:nvPr/>
        </p:nvSpPr>
        <p:spPr>
          <a:xfrm>
            <a:off x="869760" y="1700280"/>
            <a:ext cx="29023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一　用配方法解方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考点攻略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24210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配方法解方程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3786120"/>
            <a:ext cx="86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用配方法解一元二次方程，关键的一步是将二次项系数已化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方程的两边加上一次项系数一半的平方，转化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m)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n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形式，当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n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  <a:ea typeface="Times New Roman"/>
              </a:rPr>
              <a:t>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时，直接开平方求得方程的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95280" y="1197000"/>
          <a:ext cx="8331120" cy="51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33112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8-10T00:49:01Z</dcterms:modified>
  <cp:revision>318</cp:revision>
  <dc:subject/>
  <dc:title>幻灯片 1</dc:title>
</cp:coreProperties>
</file>