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1.wmf" ContentType="image/x-wmf"/>
  <Override PartName="/ppt/media/image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267-ABCB-4DD8-8CA5-E7C02B43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FB7-4641-4E80-9055-4AE3DEA0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01C-72F8-43E7-AB6E-AB4AD607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364-622E-4029-9869-55E9684E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079D-A042-42D1-BBDE-B39C2BB3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253D-039D-42DE-8D91-4CD86629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616A-CB72-4801-88A5-7D022412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7ADC-F753-4A07-B7C3-65C665E7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510A-207C-41F1-8146-8271D33C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CFBD-96DB-420F-94D8-385F011B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FC1C-66A1-47E5-9385-AE9B2969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656-6499-4FE4-A24F-72B30959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6087-858D-4A52-A3D0-8A7A171B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4679-FE79-497F-81AD-D2A120B2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B611-AD73-4C68-81A1-4B356CA6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3C0A-E8D3-4341-B900-40E71ECE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CE1E-20AA-4684-9870-F905243C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52649-B15D-4533-820A-8B7C66CF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2C03-950C-42B4-A857-590CB9DB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F8CAA-368D-45E1-9E5B-BEA73EDE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5007F-733F-48C3-8F8E-BEEA4D6B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1E11-9315-4431-B6A5-B610ADD7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502-23F9-4BF8-9EF3-19D2774E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2D3D2-BEB5-43FF-8FC4-85628DDA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465BF-259D-4370-9CED-090284C9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A2434-0921-448D-9341-EB0BC96C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2D61C-57B6-44E1-B0CB-5B77DF61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677DB-9D05-4A55-A59E-355440CE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C3F94-0199-4730-967C-A2E8B83C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09B44-65E0-405B-A07C-243BFEB2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12E-F711-4CD1-95FF-DEAF7E50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462-AE72-4FC5-AFE7-FE072FAC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260-CB5E-4231-8176-D4A64240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575-4A73-4E89-8478-61A4D2A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FD4-8393-47C8-9249-2FD931A1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7B5-C475-4BBB-8FDA-F562EBD2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7AD1-B197-4946-A1B2-26141E354B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E7C2-4A9D-4D6C-A9B1-092B4650AD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7DF8-90DD-4EA5-AC98-C97698EDF8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讲练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09480" y="1262160"/>
          <a:ext cx="8229600" cy="380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62160"/>
                    <a:ext cx="8229600" cy="38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6240" y="1628640"/>
          <a:ext cx="87087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1628640"/>
                    <a:ext cx="87087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981080" y="1909800"/>
            <a:ext cx="518184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8360" y="1557360"/>
          <a:ext cx="8359560" cy="383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35956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309120" y="252000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45bf8"/>
                </a:solidFill>
                <a:latin typeface="宋体"/>
              </a:rPr>
              <a:t>上册阶段综合测试一</a:t>
            </a:r>
            <a:r>
              <a:rPr b="1" lang="en-US" sz="5400" spc="-1" strike="noStrike">
                <a:solidFill>
                  <a:srgbClr val="145bf8"/>
                </a:solidFill>
                <a:latin typeface="宋体"/>
              </a:rPr>
              <a:t>(</a:t>
            </a:r>
            <a:r>
              <a:rPr b="1" lang="zh-CN" sz="5400" spc="-1" strike="noStrike">
                <a:solidFill>
                  <a:srgbClr val="145bf8"/>
                </a:solidFill>
                <a:latin typeface="宋体"/>
              </a:rPr>
              <a:t>月考</a:t>
            </a:r>
            <a:r>
              <a:rPr b="1" lang="en-US" sz="5400" spc="-1" strike="noStrike">
                <a:solidFill>
                  <a:srgbClr val="145bf8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981000"/>
          <a:ext cx="8713800" cy="5105520"/>
        </p:xfrm>
        <a:graphic>
          <a:graphicData uri="http://schemas.openxmlformats.org/drawingml/2006/table">
            <a:tbl>
              <a:tblPr/>
              <a:tblGrid>
                <a:gridCol w="1296720"/>
                <a:gridCol w="1152720"/>
                <a:gridCol w="2879640"/>
                <a:gridCol w="338472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本卷考查内容是证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一元二次方程，其中一元二次方程部分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证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重点考查方向是学生对于基本知识点的掌握和基本解题能力的培养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程与方程的解的概念、全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证法、垂直平分线与角平分线、解方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直角三角形、判别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腰三角形、应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50920" y="1504800"/>
          <a:ext cx="8713800" cy="1276560"/>
        </p:xfrm>
        <a:graphic>
          <a:graphicData uri="http://schemas.openxmlformats.org/drawingml/2006/table">
            <a:tbl>
              <a:tblPr/>
              <a:tblGrid>
                <a:gridCol w="1296720"/>
                <a:gridCol w="74170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类讨论思想、从特殊到一般的数学思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考查分类讨论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属于探索规律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以三角形全等为平台，考查学生的探究能力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1557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已知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等边三角形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同一直线上，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度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1040400" y="1052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219640" cy="2762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290720" y="20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197000"/>
            <a:ext cx="8785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是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角平分线，则图中的等腰三角形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1146960" y="22050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09640" y="1514520"/>
            <a:ext cx="5724720" cy="382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1052640"/>
          <a:ext cx="8569080" cy="4830480"/>
        </p:xfrm>
        <a:graphic>
          <a:graphicData uri="http://schemas.openxmlformats.org/drawingml/2006/table">
            <a:tbl>
              <a:tblPr/>
              <a:tblGrid>
                <a:gridCol w="1368360"/>
                <a:gridCol w="504720"/>
                <a:gridCol w="2519280"/>
                <a:gridCol w="4176720"/>
              </a:tblGrid>
              <a:tr h="11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本卷考查一元二次方程的概念、解法及应用，在各级考试中，既可以直接考查方程的解法，亦可以结合其他知识点考查学生的计算及简单的推理能力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程与方程的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解一元二次方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元二次方程根的判别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元二次方程的应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体思想，分类讨论思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1197000"/>
            <a:ext cx="8785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等腰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°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垂直平分线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连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°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°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°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839160" y="2205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1557360"/>
            <a:ext cx="8785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已知关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一元二次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实数根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果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两个不等实数根，则实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已知关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一元二次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两个不相等的实数根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&lt;2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&gt;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&lt;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≠1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1040400" y="1052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635280" y="1844640"/>
          <a:ext cx="2235240" cy="88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844640"/>
                    <a:ext cx="22352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940040" y="3121200"/>
            <a:ext cx="18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</a:rPr>
              <a:t>＜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</a:rPr>
              <a:t>且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≠0</a:t>
            </a:r>
            <a:r>
              <a:rPr b="0" lang="en-US" sz="2400" spc="-1" strike="noStrike">
                <a:solidFill>
                  <a:srgbClr val="c0504d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4952520" y="42670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1557360"/>
            <a:ext cx="87854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果一个等腰三角形的两边长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此三角形的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cm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m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cm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已知等腰三角形的一个内角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另外两个内角的度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°                            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°    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以上都不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2982240" y="20890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1445760" y="37879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2040" y="1481040"/>
          <a:ext cx="8461440" cy="51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81040"/>
                    <a:ext cx="846144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3825000" y="24922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0920" y="1689120"/>
          <a:ext cx="8461440" cy="51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89120"/>
                    <a:ext cx="846144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5490720" y="386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90920" y="1743120"/>
            <a:ext cx="3962160" cy="337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1052640"/>
            <a:ext cx="87854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9966"/>
                </a:solidFill>
                <a:latin typeface="Times New Roman"/>
                <a:ea typeface="黑体"/>
              </a:rPr>
              <a:t>[</a:t>
            </a:r>
            <a:r>
              <a:rPr b="1" lang="en-US" sz="24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2011·</a:t>
            </a:r>
            <a:r>
              <a:rPr b="1" lang="zh-CN" sz="24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德州</a:t>
            </a:r>
            <a:r>
              <a:rPr b="1" lang="en-US" sz="2400" spc="-1" strike="noStrike">
                <a:solidFill>
                  <a:srgbClr val="ff9966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一个边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等边三角形和一个菱形的组合图形，菱形边长为等边三角形边长的一半，以此为基本单位，可以拼成一个形状相同但尺寸更大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依此规律继续拼下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则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图形的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/>
          <p:nvPr/>
        </p:nvSpPr>
        <p:spPr>
          <a:xfrm>
            <a:off x="2047320" y="31561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43080" y="1986120"/>
            <a:ext cx="6657840" cy="2885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1557360"/>
            <a:ext cx="87854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两块大小相同的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角的直角三角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∠B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′A′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方式放置，固定三角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B′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然后将三角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绕直角顶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顺时针方向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旋转角小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至图②所示的位置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B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B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E≌△B′C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旋转角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B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垂直吗？请说明理由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123920" y="1557360"/>
            <a:ext cx="689616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450800"/>
          <a:ext cx="8569080" cy="1185840"/>
        </p:xfrm>
        <a:graphic>
          <a:graphicData uri="http://schemas.openxmlformats.org/drawingml/2006/table">
            <a:tbl>
              <a:tblPr/>
              <a:tblGrid>
                <a:gridCol w="1368360"/>
                <a:gridCol w="7200720"/>
              </a:tblGrid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整体代入计算，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分类讨论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利用折叠考查学生的操作能力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以动点为载体，综合考查与图形结合的计算及推理能力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41320" y="179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上册阶段综合测试一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/>
          <p:nvPr/>
        </p:nvSpPr>
        <p:spPr>
          <a:xfrm>
            <a:off x="179280" y="1197000"/>
            <a:ext cx="87854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：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因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′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′C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CE≌△B′C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2)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′B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垂直．理由如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旋转角等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即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C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FCB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6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又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6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根据四边形的内角和可知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OB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度数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6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6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6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5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9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′B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垂直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1094400" y="105264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18960" y="1916280"/>
          <a:ext cx="8520120" cy="434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916280"/>
                    <a:ext cx="852012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160" y="27802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628640"/>
            <a:ext cx="87854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完全平方式，那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完全平方式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7006680" y="1608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±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7186320" y="292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5864040" y="4243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±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7778520" y="4243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±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1557360"/>
            <a:ext cx="8785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矩形的边长，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矩形的周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已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直角三角形两直角边，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(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三角形的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已知菱形的两对角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且满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菱形的周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2331720" y="2062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635280" y="3718080"/>
          <a:ext cx="812880" cy="72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3718080"/>
                    <a:ext cx="8128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408200" y="5502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628640"/>
            <a:ext cx="8785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解方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2630520"/>
            <a:ext cx="878544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：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移项，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)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提取公因式，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)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整理，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)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于是，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或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故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197000"/>
            <a:ext cx="8785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解方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2198520"/>
            <a:ext cx="878544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：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原方程变形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因式分解，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于是，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故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1557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，要建一个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仓库，仓库有一边靠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墙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在与墙平行的一边开一道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门，现有能围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木板，求仓库的长与宽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注意：仓库靠墙的那一边不能超过墙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35280" y="3357720"/>
            <a:ext cx="420048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50:01Z</dcterms:modified>
  <cp:revision>289</cp:revision>
  <dc:subject/>
  <dc:title>幻灯片 1</dc:title>
</cp:coreProperties>
</file>