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wmf" ContentType="image/x-wmf"/>
  <Override PartName="/ppt/media/image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2C3-27AE-48F0-BCCC-23FD4C4A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BC4-4D04-428F-9700-03D13873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4BB-8758-4B4E-85CC-C03FC826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C58-46AF-435F-ABA1-D286138D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BDA5-FF46-4343-972B-988CE850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A22D-842C-4666-9D30-74E544B2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B237-A9A4-42FD-92BF-8C86B595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28F-6469-4759-96FD-B7299721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8DB5-4F6E-4163-9429-EC37A8D4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1E94-C64A-485C-B95B-2557BCC1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633F-90DF-4BC0-8048-A2B57D9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87C-9BE7-43C9-BF1B-400C4062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E8B5-4882-46F9-BFDE-E72A6C75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86B1-3CF8-407A-8158-9F00B1DF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6939-458B-4DDD-8DFA-CEA16433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07C5-777D-48A9-98A0-7BFAE3E0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8172-284A-4AAC-AB9A-26B57F2A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0332-5DB3-4923-B940-5B3ECCB3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E3FD-6BB3-491C-BBA7-F4E842CD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95EF-6143-4445-A5EB-E71F76BC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8B39-F27B-43BA-BB32-C7EBC999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5E9E-74D6-4501-9A62-390689BA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AD2-1067-4BE6-80DF-0C5CE873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B4E7-16EC-45A5-A584-9CA2FBA6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2F09-A377-4639-9FAF-BB30D7CA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50B5-FCBB-4D67-98E8-8B3BED5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A5CC6-AB43-42E6-B3A4-64BF38CB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1B3B-E3FF-4C52-9351-6F95417D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D095-6C7A-42BA-A65F-F8391341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8F1A-69C2-4572-BB16-2280D1A9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709-4095-4C35-8864-A17C35D1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453-2D84-4FC8-A4D1-BEEFD959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C53-385E-4789-9902-EF83E600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8B8-939A-46CC-9D1A-E0525800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42B-D2E7-4DB3-8BA6-DF39DDB9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F11-38E8-45D7-9A00-90705E6C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3369-8981-4990-BD5F-210DA01770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5B36-27D7-4136-A317-DE4EA262FC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3C28-9DEA-4840-A803-5FE17806B4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1262160"/>
          <a:ext cx="8229600" cy="380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62160"/>
                    <a:ext cx="8229600" cy="38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6240" y="1628640"/>
          <a:ext cx="87087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1628640"/>
                    <a:ext cx="87087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981080" y="1909800"/>
            <a:ext cx="518184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557360"/>
          <a:ext cx="8359560" cy="38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35956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309120" y="252000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上册阶段综合测试一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(</a:t>
            </a: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月考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981000"/>
          <a:ext cx="8713800" cy="5105520"/>
        </p:xfrm>
        <a:graphic>
          <a:graphicData uri="http://schemas.openxmlformats.org/drawingml/2006/table">
            <a:tbl>
              <a:tblPr/>
              <a:tblGrid>
                <a:gridCol w="1296720"/>
                <a:gridCol w="1152720"/>
                <a:gridCol w="2879640"/>
                <a:gridCol w="338472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考查内容是证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一元二次方程，其中一元二次方程部分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证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重点考查方向是学生对于基本知识点的掌握和基本解题能力的培养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程与方程的解的概念、全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证法、垂直平分线与角平分线、解方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直角三角形、判别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腰三角形、应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0920" y="1504800"/>
          <a:ext cx="8713800" cy="1276560"/>
        </p:xfrm>
        <a:graphic>
          <a:graphicData uri="http://schemas.openxmlformats.org/drawingml/2006/table">
            <a:tbl>
              <a:tblPr/>
              <a:tblGrid>
                <a:gridCol w="1296720"/>
                <a:gridCol w="7417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类讨论思想、从特殊到一般的数学思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考查分类讨论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属于探索规律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三角形全等为平台，考查学生的探究能力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1557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等边三角形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同一直线上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219640" cy="2762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290720" y="20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97000"/>
            <a:ext cx="8785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是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角平分线，则图中的等腰三角形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1146960" y="2205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09640" y="1514520"/>
            <a:ext cx="5724720" cy="382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052640"/>
          <a:ext cx="8569080" cy="4830480"/>
        </p:xfrm>
        <a:graphic>
          <a:graphicData uri="http://schemas.openxmlformats.org/drawingml/2006/table">
            <a:tbl>
              <a:tblPr/>
              <a:tblGrid>
                <a:gridCol w="1368360"/>
                <a:gridCol w="504720"/>
                <a:gridCol w="2519280"/>
                <a:gridCol w="4176720"/>
              </a:tblGrid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考查一元二次方程的概念、解法及应用，在各级考试中，既可以直接考查方程的解法，亦可以结合其他知识点考查学生的计算及简单的推理能力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程与方程的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解一元二次方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元二次方程根的判别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元二次方程的应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体思想，分类讨论思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1197000"/>
            <a:ext cx="8785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等腰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°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直平分线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°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839160" y="2205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1557360"/>
            <a:ext cx="8785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实数根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果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两个不等实数根，则实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两个不相等的实数根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lt;2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gt;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lt;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≠1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635280" y="1844640"/>
          <a:ext cx="2235240" cy="88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844640"/>
                    <a:ext cx="22352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940040" y="3121200"/>
            <a:ext cx="18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</a:rPr>
              <a:t>＜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</a:rPr>
              <a:t>且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≠0</a:t>
            </a:r>
            <a:r>
              <a:rPr b="0" lang="en-US" sz="2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4952520" y="42670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557360"/>
            <a:ext cx="8785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果一个等腰三角形的两边长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此三角形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cm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m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cm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等腰三角形的一个内角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另外两个内角的度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°                       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°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以上都不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2982240" y="20890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1445760" y="37879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2040" y="1481040"/>
          <a:ext cx="846144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1040"/>
                    <a:ext cx="846144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825000" y="2492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0920" y="1689120"/>
          <a:ext cx="846144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89120"/>
                    <a:ext cx="846144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5490720" y="386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90920" y="1743120"/>
            <a:ext cx="3962160" cy="337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1052640"/>
            <a:ext cx="87854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  <a:ea typeface="黑体"/>
              </a:rPr>
              <a:t>[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2011·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德州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一个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等边三角形和一个菱形的组合图形，菱形边长为等边三角形边长的一半，以此为基本单位，可以拼成一个形状相同但尺寸更大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依此规律继续拼下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则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图形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2047320" y="31561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43080" y="1986120"/>
            <a:ext cx="6657840" cy="2885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1557360"/>
            <a:ext cx="87854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两块大小相同的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角的直角三角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∠B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′A′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式放置，固定三角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然后将三角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绕直角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时针方向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旋转角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至图②所示的位置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E≌△B′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旋转角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垂直吗？请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123920" y="1557360"/>
            <a:ext cx="689616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50800"/>
          <a:ext cx="8569080" cy="1185840"/>
        </p:xfrm>
        <a:graphic>
          <a:graphicData uri="http://schemas.openxmlformats.org/drawingml/2006/table">
            <a:tbl>
              <a:tblPr/>
              <a:tblGrid>
                <a:gridCol w="1368360"/>
                <a:gridCol w="720072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整体代入计算，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分类讨论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利用折叠考查学生的操作能力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动点为载体，综合考查与图形结合的计算及推理能力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1197000"/>
            <a:ext cx="87854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′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′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E≌△B′C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′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垂直．理由如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旋转角等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即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C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又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根据四边形的内角和可知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O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度数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5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′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垂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094400" y="105264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8960" y="1916280"/>
          <a:ext cx="8520120" cy="43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16280"/>
                    <a:ext cx="852012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160" y="2780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628640"/>
            <a:ext cx="8785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完全平方式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完全平方式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7006680" y="1608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±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718632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5864040" y="4243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±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7778520" y="4243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±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557360"/>
            <a:ext cx="8785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矩形的边长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矩形的周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直角三角形两直角边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(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三角形的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菱形的两对角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且满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菱形的周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2331720" y="2062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635280" y="3718080"/>
          <a:ext cx="812880" cy="72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718080"/>
                    <a:ext cx="812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408200" y="5502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62864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630520"/>
            <a:ext cx="87854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移项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提取公因式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整理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于是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或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故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19700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2198520"/>
            <a:ext cx="878544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原方程变形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式分解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于是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故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557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要建一个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仓库，仓库有一边靠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墙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在与墙平行的一边开一道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门，现有能围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木板，求仓库的长与宽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注意：仓库靠墙的那一边不能超过墙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420048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0:01Z</dcterms:modified>
  <cp:revision>289</cp:revision>
  <dc:subject/>
  <dc:title>幻灯片 1</dc:title>
</cp:coreProperties>
</file>