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5AA-69C4-400A-8233-1416BB16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12D-0196-4219-852B-63DA1601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3DF-BFE8-48A0-A3D7-E541A69C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1E6-3E13-4A1F-AECC-B14719A6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13E1-7973-44C6-8132-8497D8AD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683-1AB6-4643-AD9C-4A485326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3837-A73D-4753-B6A2-A065348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7490-EA16-44B8-9AE5-510C689F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4724-9FE3-4416-8596-E42D420D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D78D-D882-470C-B99C-FC66C55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E99D-E379-4424-A97B-23BDD90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C81-1C09-4FA2-8B38-CB6EE0B9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0D67-0727-4408-8610-4E8501B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FB67-956A-4575-BD9A-EF55086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7D6B-3959-4423-9810-212423E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EC28-5FEC-49E7-868D-8322364F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3D40-B45E-4FDD-8460-EC0BD54B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FCFC-AC5A-4070-B9D0-7D716E6B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1E4A-230C-4BE3-A665-51580130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7D45-08AD-4B39-AB66-801B30F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489A-CDCF-474D-9CDA-C05D104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1CFA-DE88-4B07-9DBD-9224C5A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9F7-3149-4465-8957-C0B6B07A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7AEB-06C6-4305-80DC-E477C199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D685-CDEE-44C3-8D6C-AF08E6D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1B95-51BB-4F8E-BAB8-71117B4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8F81-EA2F-4ABD-A43C-E664601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483A-5CB1-484F-ACD7-E9704666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C8F8-6A68-4E33-A0F0-1B6690BE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7307-3599-4530-9CFD-55313625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7C4-75C0-4640-BF38-EB92D7D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392-659E-44D0-9467-C516505B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113-DA86-4ABC-B620-F9DE6CD3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37E-DDF8-464D-8D8F-CDAC58D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2CD-7259-4ADC-893F-5E91F6F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DE8-B16B-403D-8514-BD166C0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74E4-3159-4285-B1B7-E52D903069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181E-6DD2-48B2-80A2-AA68A2E5A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640-0409-4CBC-A042-4514C973A9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3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052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的对角线相等，互相垂直，互相平分，每条对角线平分一组对角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既是轴对称图形又是中心对称图形，对称轴有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，对称中心是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组邻边相等并且有一个角是直角的平行四边形叫做正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组邻边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904920" y="501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1052640"/>
            <a:ext cx="87854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、菱形、正方形都是平行四边形，且是特殊的平行四边形．矩形是有一内角为直角的平行四边形；菱形是有一组邻边相等的平行四边形；正方形既是矩形，又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腰梯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两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两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在同一底上的两个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90492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325728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0" y="39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5506920" y="450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3881160" y="51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052640"/>
            <a:ext cx="87854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是轴对称图形，它只有一条对称轴，一底的垂直平分线是它的对称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腰梯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腰相等的梯形是等腰梯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一底上的两个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梯形是等腰梯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条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梯形是等腰梯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的判定方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判定它是梯形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腰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一底上的两个角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来判定它是等腰梯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390492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078000" y="402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1052640"/>
            <a:ext cx="87854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点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点四边形就是连接四边形各边中点所得的四边形，我们可以得到下面的结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四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矩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菱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正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330320" y="278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692928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685764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7206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48428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次连接等腰梯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次连接对角线相等的四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顺次连接对角线互相垂直的四边形四边中点所得的四边形是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矩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736092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88920" y="2587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2"/>
          <p:cNvSpPr/>
          <p:nvPr/>
        </p:nvSpPr>
        <p:spPr>
          <a:xfrm>
            <a:off x="1116720" y="1700280"/>
            <a:ext cx="3633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平行四边形的性质和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492280"/>
            <a:ext cx="54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已知：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在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邻边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，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F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7432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要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平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因平行四边形的对角线互相平分，因此，考虑构造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为对角线的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692280"/>
            <a:ext cx="8785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证明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交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延长线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又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C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G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又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即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E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992160" y="1125360"/>
            <a:ext cx="2963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菱形的性质和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917720"/>
            <a:ext cx="547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菱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为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47840" cy="39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773360"/>
            <a:ext cx="87854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平行四边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边分别平行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角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　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______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          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是中心对称图形，它的对称中心是两条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27328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66568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74912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分别为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点，可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E∥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F∥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故四边形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O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990720"/>
          <a:ext cx="8200800" cy="60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20080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1239120" y="1125360"/>
            <a:ext cx="3695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和矩形有关的折叠计算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91772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恰好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处．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图中阴影部分的面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33908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要求阴影部分的面积，由于阴影部分由两个直角三角形构成，所以只要根据勾股定理求出直角三角形的直角边即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2040" y="2852640"/>
          <a:ext cx="8201160" cy="33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852640"/>
                    <a:ext cx="820116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1241640" y="1125360"/>
            <a:ext cx="3774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和正方形有关的探索性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191772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度和的最小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2700360" cy="29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P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由正方形关于对角线对称将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转移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要求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和的最小值即求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和的最小值，易知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上时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最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2040" y="1335240"/>
          <a:ext cx="8201160" cy="48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201160" cy="48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57480" y="1623960"/>
            <a:ext cx="302904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052640"/>
            <a:ext cx="87854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平行四边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角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组对边平行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相等，一组对角相等的四边形不一定是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347328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0164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416040" y="294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660040" y="361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765240" y="420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92040" y="1335240"/>
          <a:ext cx="841860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4186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27800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角形中位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中位线是一条线段．一个三角形有三条中位线．三角形的中位线将三角形分成四个全等的小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中位线定理：三角形的中位线平行于第三边且等于第三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菱形的定义和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：一组邻边相等的平行四边形叫做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7952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05264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的四条边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的对角线互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互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且每一条对角线平分一组对角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是中心对称图形，它的对称中心是两条对角线的交点；菱形也是轴对称图形，两条对角线所在的直线是它的对称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是特殊的平行四边形，故它具有平行四边形的一切性质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菱形的判定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组邻边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角线互相垂直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98456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809280" y="15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1528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874320" y="479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4294800" y="5451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052640"/>
            <a:ext cx="87854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条边都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边形、平行四边形、菱形关系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327560" cy="375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06480" y="106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052640"/>
            <a:ext cx="8785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菱形的面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菱形是平行四边形，所以菱形的面积＝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菱形的对角线互相垂直平分，所以其对角线将菱形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全等三角形，故菱形的面积等于两对角线乘积的一半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矩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58704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且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1129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452400" y="530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652720" y="53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052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四个角都是直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矩形的四个角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两条对角线把矩形分成四个面积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角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既是轴对称图形又是中心对称图形，对称轴有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，对称中心是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面积等于两邻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对角线相等且互相平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一性质可以得出直角三角形的一个常用的性质：直角三角形斜边上的中线等于斜边长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757692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736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768560" y="389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乘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9908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052640"/>
            <a:ext cx="8785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矩形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三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角线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正方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对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四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四个角都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4234680" y="17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5412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658320" y="29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36892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68928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455256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0:46Z</dcterms:modified>
  <cp:revision>318</cp:revision>
  <dc:subject/>
  <dc:title>幻灯片 1</dc:title>
</cp:coreProperties>
</file>