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0B7-BB56-41AE-8666-76F0DAF9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077-A8B2-4ED6-B9E0-6C103452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7F5-0399-414B-866D-73613AFA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606-BB98-4DB0-9D75-D5425950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40FA-20EE-4B11-838A-29397BBD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8152-032B-4052-B20E-9A2BE9C0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2104-8A4E-4772-BC26-5B6A4BFB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65F2-F74B-42AF-A945-75B19C47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C01B-355A-4BF5-AE71-7D86DCB2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732E-9E62-4DB6-AD9E-DC271DE2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DCD1-6335-4833-AE6A-69F63DAD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381-603D-46F4-AE3F-E6305343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CCB7-86D9-4A21-B34D-F5B1C9BF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84EC-7B75-430F-A08E-29090387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8241-8571-418B-B83E-2292B28A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1057-E630-405E-BFFC-CA076564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764D-87C9-49D0-9CC6-B63CEFF1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584D6-4A0C-4D9C-9141-C79011E7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DD20D-2045-4DC7-BDEA-4C682B35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5B2E1-DAF7-49DA-A46F-A4A88807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29E60-4049-4B80-8C65-DC5085AA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27237-9192-4A1D-9778-462F6A40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8C3-A3B8-4453-8277-15004B4F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01F7B-6286-43F8-AAF1-1A1CC209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D102B-63F0-4479-8A95-A692923F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28392-3CAB-4C49-A62E-B8718626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32261-F592-41B8-926F-B81771E5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EBB9B-902B-4BD7-B4B1-961EA26D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FC438-BE69-47EB-AAAF-FDCD18F2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F36C1-003F-405C-B45A-D9CB131C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7DD-8B87-4646-8720-AC54AF4C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BA47-B3B5-4C3E-8845-28A6D9C1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2D2D-EED6-491B-BF9E-B5E1EFC4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E8B-7127-4BA2-A011-640728CC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9A39-5EFB-48B6-A3CE-99DDE651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1E7-3A8D-4975-A2C8-862FFA7A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5344-39DC-4899-9B98-3A1666BF2A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2D1E-3BAF-46AC-9066-9200E4438C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564E-4819-45CE-B0C8-80C9247749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3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讲练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42920" y="1252440"/>
            <a:ext cx="7058160" cy="435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2040" y="1127160"/>
          <a:ext cx="841860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127160"/>
                    <a:ext cx="84186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2040" y="1341360"/>
          <a:ext cx="8418600" cy="441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341360"/>
                    <a:ext cx="84186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1557360"/>
            <a:ext cx="878544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将矩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沿对角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剪开，再把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方向平移得到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证明：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≌△C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试问当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的什么位置时，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菱形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直接写出答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166840" y="1886040"/>
            <a:ext cx="4810320" cy="308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1341360"/>
            <a:ext cx="878544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：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1)∵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矩形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BC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∴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C∥A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∴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A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C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∵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把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C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沿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A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方向平移得到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∴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A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A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C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∴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∠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C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∴△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≌△CC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(</a:t>
            </a:r>
            <a:r>
              <a:rPr b="1" i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SAS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(2)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当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在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中点时，四边形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BC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</a:t>
            </a:r>
            <a:r>
              <a:rPr b="1" lang="en-US" sz="2400" spc="-1" strike="noStrike" baseline="-30000">
                <a:solidFill>
                  <a:srgbClr val="3366ff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是菱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1452600"/>
          <a:ext cx="8640720" cy="2552400"/>
        </p:xfrm>
        <a:graphic>
          <a:graphicData uri="http://schemas.openxmlformats.org/drawingml/2006/table">
            <a:tbl>
              <a:tblPr/>
              <a:tblGrid>
                <a:gridCol w="792000"/>
                <a:gridCol w="2016000"/>
                <a:gridCol w="5832720"/>
              </a:tblGrid>
              <a:tr h="117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考查意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证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三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属于对初二四边形内容的深化与提高，并进一步培养学生的逻辑推理能力，在中考中既可以作为单独知识点考查，也可以综合其他知识点考查，其中菱形、矩形、正方形是考查重点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易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214280"/>
          <a:ext cx="8640720" cy="4375080"/>
        </p:xfrm>
        <a:graphic>
          <a:graphicData uri="http://schemas.openxmlformats.org/drawingml/2006/table">
            <a:tbl>
              <a:tblPr/>
              <a:tblGrid>
                <a:gridCol w="1152360"/>
                <a:gridCol w="3240000"/>
                <a:gridCol w="4248360"/>
              </a:tblGrid>
              <a:tr h="45972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知识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技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行四边形及中位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矩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菱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正方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梯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综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思想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从特殊到一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亮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考查动手操作能力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题以动点为载体，结合图形变换，考查对于图形的分析能力及逻辑推理能力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155736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将矩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折叠，得到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示图形．若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D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大小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1040400" y="1052640"/>
            <a:ext cx="20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5673600" y="206064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62°</a:t>
            </a: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6848640" cy="344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557360"/>
            <a:ext cx="8785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将正方形纸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折叠，使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均落在对角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，得折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大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°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°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7830000" y="2103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1052640"/>
            <a:ext cx="8785440" cy="15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矩形纸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边的中点，将纸片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折叠，使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落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处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落在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处，若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度数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4304520" y="1987560"/>
            <a:ext cx="9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110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340000" y="2708280"/>
            <a:ext cx="4419720" cy="2876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1557360"/>
            <a:ext cx="878544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正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，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E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折至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延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连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列结论：①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G≌△AF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∥C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△FG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其中正确结论的个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6979320" y="3009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33880" y="1838160"/>
            <a:ext cx="2676240" cy="3181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讲练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试卷讲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557360"/>
            <a:ext cx="8785440" cy="27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正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边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两条对角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射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任意一点，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分别做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垂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垂足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在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时，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②，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在线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延长线上时，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值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1040760" y="1052640"/>
            <a:ext cx="21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针对第</a:t>
            </a: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ff9966"/>
                </a:solidFill>
                <a:latin typeface="Arial"/>
              </a:rPr>
              <a:t>题训练</a:t>
            </a:r>
            <a:r>
              <a:rPr b="0" lang="zh-CN" sz="24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10T00:51:40Z</dcterms:modified>
  <cp:revision>290</cp:revision>
  <dc:subject/>
  <dc:title>幻灯片 1</dc:title>
</cp:coreProperties>
</file>