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585-2B56-4CC8-B049-30C397F5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DC6-9B5D-40F8-8A03-C99F9497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DE6-0780-4F72-9801-CE0136B3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1F6-4187-4DC3-A24E-6EFB6AB7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E8A9-7E60-41B6-ABB5-F6A7E50F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2E50-2B63-4418-A471-28F198D0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963A-3C5B-4A77-9F89-D3E93CF7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B6F5-A129-4A7A-936F-1820F25D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EB00-538C-4393-9F86-92020247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478F-8977-41F9-A992-E818FA77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478B-1060-4E18-9FD6-81F7675B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8CD-DB53-4603-9F48-334BB346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7D94-1B66-4985-9CCD-5B56E330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F8A7-2936-4E86-9B82-3CA8AD8A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AE22-863A-4F91-92E3-853CE014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C32C-322E-4669-899E-815318CD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1A5B-D9FF-454D-A7F6-6D70D2FB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D4BC4-5A93-43E7-AAD6-29C2582F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63194-867B-44E3-BEDD-0F77E0BA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6AC4F-AF3B-42A7-9301-56393A15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2ED59-853A-445A-85AA-63D3EF1F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E0804-2D2A-43D9-B2A5-66DB3BF5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EBD-9694-4A85-9A4E-F33977A1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4DE9-F9A4-4985-89A5-B700BCE0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350A9-270C-46F0-BC5F-7E5082CA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7A8E-E00D-41A2-AC8A-B1F51F32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21202-DAC1-45FE-AE58-B51DB2D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7AC73-7C2B-4B70-814D-41121DAC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6AC6B-1E93-4098-9B7B-306F8867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B770-BD5B-4F81-A424-BCEF1A08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C53-6A41-4C39-A668-D3BBC494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17A-FC45-4EE7-ADD9-FD526D25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F4A-7D5E-4439-940E-77BCBB2D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4D5-BFE3-4DE3-B9E6-BA79FDEC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A81-74D5-4F6F-9B51-D3A06798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BC0-40EE-46C8-AB98-52BD4BC7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EB5C-8C84-457A-8276-B7E9134A11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E3E2-AC1A-4347-AC32-A8A2901E9E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D6CF-9800-450A-A388-B54B774002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4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复习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989000"/>
            <a:ext cx="8785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由若干个相同的小立方体搭成的几何体的三视图如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示，则搭成这个几何体的小立方体的个数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7501320" y="25369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19280" y="3716280"/>
            <a:ext cx="5689440" cy="2251080"/>
          </a:xfrm>
          <a:prstGeom prst="rect">
            <a:avLst/>
          </a:prstGeom>
          <a:ln w="0">
            <a:noFill/>
          </a:ln>
        </p:spPr>
      </p:pic>
      <p:sp>
        <p:nvSpPr>
          <p:cNvPr id="163" name="矩形 12"/>
          <p:cNvSpPr/>
          <p:nvPr/>
        </p:nvSpPr>
        <p:spPr>
          <a:xfrm>
            <a:off x="930600" y="1052640"/>
            <a:ext cx="2780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二　由视图确定物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773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　由主视图可以看出几何体有两层，由俯视图可以看出第一层有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个小立方体，由左视图可以看出第二层有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个小正方体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2040" y="1268280"/>
          <a:ext cx="8331120" cy="43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268280"/>
                    <a:ext cx="8331120" cy="43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868680" y="1125360"/>
            <a:ext cx="2597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三　平行投影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1701720"/>
            <a:ext cx="8785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刚身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7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测得他站立在阳光下的影子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85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紧接着他把手臂竖直举起，测得影子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1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小刚举起的手臂超出头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 m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5 m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6 m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2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3250440" y="26812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92040" y="1262160"/>
          <a:ext cx="8258400" cy="438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262160"/>
                    <a:ext cx="8258400" cy="43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92040" y="1484280"/>
          <a:ext cx="8258400" cy="43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84280"/>
                    <a:ext cx="825840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知识归纳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846440"/>
            <a:ext cx="87854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画三视图的原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三视图时，应注意主、俯视图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主、左视图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左、俯视图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宽相等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仿宋_GB2312"/>
              </a:rPr>
              <a:t>”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画圆锥的俯视图时，要注意不要漏掉圆心处的实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三视图的画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6054120" y="2492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长对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663200" y="29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高平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34920" y="1135080"/>
            <a:ext cx="90360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首先观察物体的几何构成，确定主视图的位置，依次画出视图的外轮廓线，然后将视图补充完整，看得见的轮廓线用实线，看不见的轮廓线用虚线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总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视图中的方位与物体上的方位的对应关系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主视图中的上、下、左、右对应物体的上、下、左、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俯视图中的上、下、左、右对应物体的后、前、左、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左视图中的上、下、左、右对应物体的上、下、后、前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052640"/>
            <a:ext cx="87854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画三视图的顺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种视图中首先应确定主视图的位置，画出主视图，然后在主视图下面画出俯视图，在主视图右面画出左视图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平行投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太阳光线可以看成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光线，像这样的光线所形成的投影称为平行投影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97656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1338120"/>
            <a:ext cx="8785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投影与视图的联系：事实上，在特殊位置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投影线与投影面垂直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体的平行投影就是物体的三种视图．物体的主视图是一束平行光线从正前方照射时形成的平行投影；左视图是一束平行光线从左前方照射形成的平行投影；俯视图是一束平行光线从正上方照射形成的平行投影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1197000"/>
            <a:ext cx="8785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心投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探照灯、手电筒、路灯和台灯的光线可以看成由一点发出的，像这样的光线所形成的投影称为中心投影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心投影与平行投影的区别：太阳光线是平行的光线，灯光的光线是从一点发出的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视点、视线、盲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眼的位置称为视点；由视点发出的光线称为视线；人眼看不到的地方称为盲区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12"/>
          <p:cNvSpPr/>
          <p:nvPr/>
        </p:nvSpPr>
        <p:spPr>
          <a:xfrm>
            <a:off x="994680" y="1700280"/>
            <a:ext cx="3042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一　确定物体的三视图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点攻略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2276640"/>
            <a:ext cx="8785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如图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示几何体的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视图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7285680" y="24019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721044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1773360"/>
            <a:ext cx="8785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　容易看出主视图有两层组成，最上层一个正方形，第二层三个正方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92040" y="1625760"/>
          <a:ext cx="8331120" cy="391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625760"/>
                    <a:ext cx="8331120" cy="39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52:32Z</dcterms:modified>
  <cp:revision>318</cp:revision>
  <dc:subject/>
  <dc:title>幻灯片 1</dc:title>
</cp:coreProperties>
</file>