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436-5FF1-4869-943E-5F22EC2F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56C-6C61-4C55-9E83-CEAD37E5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719-04A9-4690-9FE4-53B0697B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CF9-8433-43F3-8FCB-786F3AD6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8367-6763-4A33-B166-0AA22C58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D414-BDD5-4849-841B-0BBD07C2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FE56-F2A3-4404-8775-31300FDA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27D5-5767-48CA-874D-B5157BB2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2E44-E7BC-4434-B1C9-BC183E2F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B48F-6324-41FB-A69A-0ED3245B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1664-CCF9-4BFC-ADB5-47AC373A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6BD-2E19-42A9-B5E1-13C4D958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3691-BED8-4691-A107-B4DB6E70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EDEE-C927-4A1D-8C4B-BE55FC49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6386-47C1-40A4-91DC-D3598285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7862-58B4-4A3A-9CBD-A6827EEC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1ED0-8053-4251-A65B-0A67DBE1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BEA33-AE09-4C5B-883C-C75B80FB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356B-97F2-40C0-A3A5-416362CA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C2E52-38AF-4657-ADC0-A6E0DB3E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98D81-C41D-4505-8427-A5380C42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F03FF-CAF1-49D9-AD2B-83F5D5E8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525-CD7A-40B8-8F02-A4E299FE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BB94-0943-4175-80F4-ECDB50CA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365FB-D9E6-4110-9E4A-CE00085F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E02B-9CF4-473A-BA1B-93925F5C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64F4F-274A-47F9-966B-6774B860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6A4D9-DA23-45AD-91FE-FDD1358B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70843-DB4F-4B1C-A4F8-47F2E84B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2571-593F-46CF-942A-08E10B8F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F64-E8A9-47F5-AF61-7F10587D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D41-CC51-4FA9-B4F2-2C112A20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AEB-2E37-4DC9-A46E-7E7C8539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06C-4D6E-4160-95D9-E8A081B0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DEB-250E-4B88-B12B-91C2F682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528-BE99-409A-A87B-A2A8E99E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C7E5-A716-4283-A011-B6F172D6F6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7FDB-3863-4669-96AD-8B38F0D81A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13FC-E2FA-4CBF-9ED5-C201D9391D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4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讲练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二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95280" y="1865160"/>
          <a:ext cx="8497800" cy="1276200"/>
        </p:xfrm>
        <a:graphic>
          <a:graphicData uri="http://schemas.openxmlformats.org/drawingml/2006/table">
            <a:tbl>
              <a:tblPr/>
              <a:tblGrid>
                <a:gridCol w="1368360"/>
                <a:gridCol w="7129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转化思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考查动手操作能力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以阅读理解的方式考查学生的演绎推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二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1557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台风过后，一棵倾斜的小树在路灯下的影子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，此时小树正好与光线垂直，当小树被扶直后，当其影子的长度变化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填变大、变小或不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1891440" y="24922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变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24360" y="3357720"/>
            <a:ext cx="3267000" cy="2381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二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1557360"/>
            <a:ext cx="878544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正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一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重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连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将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顺时针方向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得到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连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度数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435640" y="2708280"/>
            <a:ext cx="34005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二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981000"/>
            <a:ext cx="8785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：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证明：∵四边形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C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正方形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∴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9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∴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P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P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90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∵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P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9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∴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P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P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9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∴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P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P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如图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JD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所示，过点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作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G⊥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交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延长线于点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则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GP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90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581640" cy="300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二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328760"/>
            <a:ext cx="8785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又∵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DP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P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∴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AD≌△EG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P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P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∴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B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B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45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915840"/>
          <a:ext cx="8569080" cy="5105160"/>
        </p:xfrm>
        <a:graphic>
          <a:graphicData uri="http://schemas.openxmlformats.org/drawingml/2006/table">
            <a:tbl>
              <a:tblPr/>
              <a:tblGrid>
                <a:gridCol w="1008000"/>
                <a:gridCol w="1406520"/>
                <a:gridCol w="6154560"/>
              </a:tblGrid>
              <a:tr h="117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投影与视图是新课改后增加的内容，主要培养学生的直观识别图形的能力，在中考中以中、低档题目为主，本卷的主要考查方向是投影的计算、三视图的分析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三视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投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盲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结合勾股定理考查三视图，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结合相似考查投影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040400" y="1052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18960" y="1773360"/>
          <a:ext cx="8447040" cy="42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773360"/>
                    <a:ext cx="84470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817920" y="22626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18960" y="996840"/>
          <a:ext cx="8447040" cy="524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996840"/>
                    <a:ext cx="8447040" cy="52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674360" y="19864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557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将两个大小完全相同的杯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叠放在一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图乙中实物的俯视图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5294880" y="21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742032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1341360"/>
            <a:ext cx="8785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空心圆柱的左视图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6058440" y="1441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362720" cy="307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341360"/>
            <a:ext cx="8785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如图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示的几何体的左视图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6445440" y="1441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48692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800360" y="2520000"/>
            <a:ext cx="56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45bf8"/>
                </a:solidFill>
                <a:latin typeface="宋体"/>
              </a:rPr>
              <a:t>上册阶段综合测试二</a:t>
            </a:r>
            <a:r>
              <a:rPr b="1" lang="en-US" sz="5400" spc="-1" strike="noStrike">
                <a:solidFill>
                  <a:srgbClr val="145bf8"/>
                </a:solidFill>
                <a:latin typeface="宋体"/>
              </a:rPr>
              <a:t>(</a:t>
            </a:r>
            <a:r>
              <a:rPr b="1" lang="zh-CN" sz="5400" spc="-1" strike="noStrike">
                <a:solidFill>
                  <a:srgbClr val="145bf8"/>
                </a:solidFill>
                <a:latin typeface="宋体"/>
              </a:rPr>
              <a:t>月考</a:t>
            </a:r>
            <a:r>
              <a:rPr b="1" lang="en-US" sz="5400" spc="-1" strike="noStrike">
                <a:solidFill>
                  <a:srgbClr val="145bf8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二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95280" y="1052640"/>
          <a:ext cx="8497800" cy="4649760"/>
        </p:xfrm>
        <a:graphic>
          <a:graphicData uri="http://schemas.openxmlformats.org/drawingml/2006/table">
            <a:tbl>
              <a:tblPr/>
              <a:tblGrid>
                <a:gridCol w="936720"/>
                <a:gridCol w="1511280"/>
                <a:gridCol w="288720"/>
                <a:gridCol w="57610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本卷综合考查证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投影与视图，重点在于培养学生的观察能力和演绎推理能力，将知识点与解题能力有效结合，其中证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投影与视图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投影与视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证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综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53:14Z</dcterms:modified>
  <cp:revision>289</cp:revision>
  <dc:subject/>
  <dc:title>幻灯片 1</dc:title>
</cp:coreProperties>
</file>