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6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00C-2DB2-44BF-B90B-E1B0B14B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535-4A98-447E-BC23-D98E7C3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D33-FF45-4301-839A-955C0F07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4E8-AD81-4A8A-9FAA-9FBD507E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110D-C311-459E-A33E-9F383F56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D195-7EF9-40D4-8782-F0C88EF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B52-BFFB-4E24-9E44-12C3CA5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6A2-171B-4EA2-88BB-53C2EC4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E971-80D1-4A92-A2F6-EEDAD93D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CBD1-5002-4379-B8C4-BC213CC9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E242-45E3-4471-9327-1DF80B79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9DF-859B-457A-9D4F-6429C39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1E31-4C51-42CE-BD3D-F4ACAAA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382C-F80A-430B-9B8D-481DC4B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3F3-E92B-48BF-962E-12981B07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0109-A59D-49D3-8A7D-0F0BA600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17A4-9F0E-4B73-965C-245BE577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934B2-8D59-4121-B4BC-4ADC43F9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DE87-362E-4E1C-8F38-34A2099F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7DC5-81ED-4C52-8569-AFFCE7F7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F87D-FF8B-4228-BC75-CB4C62F6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B7BF-318C-45E4-B4B5-4FF7FA04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3DD-C37D-44E3-B6D2-8F74435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7E35-F0EE-4918-BF67-73FE6EB0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3E33-697C-4422-AEB6-8DF63AF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9929-8108-4A9E-9A03-62E59C7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E52E-7CF0-43E1-9E45-726F17D5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4843-5AC5-4E97-817B-D28D648A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5E43-773D-4D74-95C5-34CE6AFE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005A-A41B-496D-AA5A-B46708A1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01B-17C3-449C-8EF0-46B1BD1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81F-2F86-427D-8FE9-01EB320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18E-F73B-4A5B-8954-4D5C043B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DDE-6460-4169-BF6F-0B7A0D0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F75-7552-4185-9E41-844F482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BC8-FEE2-4B14-AD27-697D33A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98FE-3726-4FB8-AC8C-79B09C4A1D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EDE7-A06C-4A7A-B162-DC60B39E3F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E73-DCB7-4DDA-86A7-84AD2D5AA3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5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056600" y="907920"/>
            <a:ext cx="3225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反比例函数的表达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15800" y="1574640"/>
          <a:ext cx="847728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574640"/>
                    <a:ext cx="84772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264440" y="2676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2040" y="1625760"/>
          <a:ext cx="8201160" cy="38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625760"/>
                    <a:ext cx="820116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1303560" y="907920"/>
            <a:ext cx="39571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反比例函数图象中的图形面积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5800" y="1719360"/>
          <a:ext cx="847728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719360"/>
                    <a:ext cx="84772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958160" y="407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76720" y="4581360"/>
          <a:ext cx="1320840" cy="78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81360"/>
                    <a:ext cx="13208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62120" y="1623960"/>
            <a:ext cx="401976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2040" y="1106640"/>
          <a:ext cx="820116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06640"/>
                    <a:ext cx="82011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2040" y="3463920"/>
          <a:ext cx="8201160" cy="284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3463920"/>
                    <a:ext cx="82011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1057320" y="907920"/>
            <a:ext cx="3530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反比例函数与一次函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5800" y="1790640"/>
          <a:ext cx="847728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790640"/>
                    <a:ext cx="84772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27640" y="2997360"/>
            <a:ext cx="309564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1484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结合题意，可以把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点坐标代入两个函数的表达式，然后得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值，然后联立方程组，即可得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点的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2040" y="1197000"/>
          <a:ext cx="8201160" cy="49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97000"/>
                    <a:ext cx="820116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2040" y="1989000"/>
          <a:ext cx="8113680" cy="28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989000"/>
                    <a:ext cx="811368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1241640" y="907920"/>
            <a:ext cx="3774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反比例函数在生活中的应用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0840" y="1719360"/>
          <a:ext cx="847692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719360"/>
                    <a:ext cx="84769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700280"/>
          <a:ext cx="83595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3595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242120" y="1773360"/>
          <a:ext cx="1901880" cy="1001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2120" y="1773360"/>
                    <a:ext cx="19018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24200" y="2095560"/>
            <a:ext cx="34956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20840" y="987480"/>
          <a:ext cx="8476920" cy="734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987480"/>
                    <a:ext cx="8476920" cy="73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20840" y="1268280"/>
          <a:ext cx="8592840" cy="50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268280"/>
                    <a:ext cx="859284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4842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确定了反比例函数表达式后，便可求出当自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x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取其他值时，所对应的函数值；同样当已知该函数的值时，也可求出相对应的自变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8960" y="1058760"/>
          <a:ext cx="828864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8760"/>
                    <a:ext cx="82886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42480" y="321192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、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4278240" y="3748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二、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8960" y="1052640"/>
          <a:ext cx="856296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052640"/>
                    <a:ext cx="856296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259800" y="34707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2838960" y="39945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484280"/>
            <a:ext cx="8785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反比例函数的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用反比例函数知识解决实际生活中的问题，关键是建立反比例函数模型，即列出符合题意的函数表达式，然后根据函数的性质综合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图象求解．要特别注意结合实际情况确定自变量的取值范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2"/>
          <p:cNvSpPr/>
          <p:nvPr/>
        </p:nvSpPr>
        <p:spPr>
          <a:xfrm>
            <a:off x="1119240" y="1700280"/>
            <a:ext cx="3713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反比例函数的图象和性质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15800" y="2554200"/>
          <a:ext cx="8548920" cy="31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554200"/>
                    <a:ext cx="854892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7254000" y="3400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745080" cy="286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459960" y="4796280"/>
            <a:ext cx="13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484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　先根据反比例函数的图象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(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利用数形结合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＜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取值范围，再由反比例函数的图象关于原点对称的特点即可求出结果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3:54Z</dcterms:modified>
  <cp:revision>318</cp:revision>
  <dc:subject/>
  <dc:title>幻灯片 1</dc:title>
</cp:coreProperties>
</file>