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73C-CDF0-4362-A07C-1B8B0E18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6F5-97DD-419D-AF73-5D76DD4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0C7-E4F2-45DA-A47B-B3D6EB48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8B2-982E-4180-9B9D-961CB241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727D-0200-415D-BFF7-EE028F4E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553B-1141-441F-B66B-34677C07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6BE3-B971-42B2-B2B0-FD13185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C470-7E0F-4109-8EEA-2285A80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8BD-F678-467B-A21F-20CCEDAA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1FDA-60D0-4B8F-84C4-B2B9525A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F664-E55E-4569-86F4-5B19347D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EB2-B55C-47AD-8A2E-87A8262D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14A4-B9FB-4DE0-8A83-8EAB41B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83DB-EE99-4FB8-A9DA-162A98CA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50D3-CDD0-4379-898E-D7A7FAA6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D543-E161-4C40-8512-1143A119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B57B-5EA4-4FB5-9568-059B8458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0B02-B9F0-4DAF-973B-DB5D3600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0D42-21DF-4F4B-AEAB-779C764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5BF0-019D-4152-B4BB-606A7065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E758-C17B-40AF-8C36-D3308048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9185-7A09-43B1-B6F2-51FC5A01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A8F-9736-460C-9227-D2417C7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ADDA-D671-458B-8622-40D7EB16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5F21-2AFB-486E-943F-DF25AEA6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3665-7DB1-4B45-BFB6-6E9E9C1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A997-E7EB-41A7-B4A7-5B08C742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C19C-4E68-4428-AA14-C31D594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DF18-B509-4DCB-B77C-899AEF80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1568-F604-4195-8D8E-01EB0D18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FEE-9CCF-4ABC-A978-EE920996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44D-0D70-465D-82EC-1D92C542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B79-BB48-420E-878B-F4005DF4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B7D-00F4-4C76-B0BD-F2FD17C9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7EA-590D-4009-96A5-FA8E5A78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A6F-28A9-4209-9B21-673A525C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B9BF-64C0-40F3-9B06-D22614F697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00B-68F4-4AEA-86A8-97241EAAE7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B3B-63CE-4B6B-A674-385E7001DE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5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117080" y="1052640"/>
            <a:ext cx="22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72960" y="1484280"/>
          <a:ext cx="8447040" cy="48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484280"/>
                    <a:ext cx="84470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81280" y="1514520"/>
            <a:ext cx="3781440" cy="382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18960" y="1306440"/>
          <a:ext cx="8447040" cy="47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06440"/>
                    <a:ext cx="844704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1117080" y="1052640"/>
            <a:ext cx="22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8000" y="2133720"/>
          <a:ext cx="8447040" cy="532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2133720"/>
                    <a:ext cx="8447040" cy="53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78000" y="981000"/>
          <a:ext cx="8447040" cy="825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981000"/>
                    <a:ext cx="8447040" cy="825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43240" y="1209600"/>
            <a:ext cx="4457520" cy="443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20840" y="1197000"/>
          <a:ext cx="854856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1197000"/>
                    <a:ext cx="854856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62040" y="1333440"/>
            <a:ext cx="421992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052640"/>
          <a:ext cx="8569080" cy="435600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2521080"/>
                <a:gridCol w="3744720"/>
              </a:tblGrid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反比例函数是初中的第一个“曲线”函数，在各类考试中常常结合一次函数、图形面积考查学生的基本运算能力和逻辑推理能力，本卷的重点在于考查反比例函数的性质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比例函数的认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性质与图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825560"/>
          <a:ext cx="8569080" cy="1171440"/>
        </p:xfrm>
        <a:graphic>
          <a:graphicData uri="http://schemas.openxmlformats.org/drawingml/2006/table">
            <a:tbl>
              <a:tblPr/>
              <a:tblGrid>
                <a:gridCol w="1800000"/>
                <a:gridCol w="6769080"/>
              </a:tblGrid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讨论、数形结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等边三角形考查反比例函数的性质；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动点为载体，考查面积的最小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116720" y="1052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8960" y="1930320"/>
          <a:ext cx="8520120" cy="38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5201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605840" y="27072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8960" y="1197000"/>
          <a:ext cx="8520120" cy="38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97000"/>
                    <a:ext cx="85201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277320" y="19152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8960" y="1197000"/>
          <a:ext cx="8520120" cy="38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97000"/>
                    <a:ext cx="85201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93280" y="24199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55736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反比例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的图象上一点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⊥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各点中也在这个反比例函数图象上的点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3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6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19640" y="2492280"/>
            <a:ext cx="3267000" cy="3448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08200" y="2579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18960" y="1190520"/>
          <a:ext cx="844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90520"/>
                    <a:ext cx="844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698360" y="22039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125360"/>
            <a:ext cx="8785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双曲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第一象限相交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点，其图象信息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则阴影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包括边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横、纵坐标都是整数的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俗称格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148200" y="2146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24792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4:14Z</dcterms:modified>
  <cp:revision>289</cp:revision>
  <dc:subject/>
  <dc:title>幻灯片 1</dc:title>
</cp:coreProperties>
</file>