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A9E-F184-4869-8D97-9F91146A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43BE-B742-4591-9DBF-9DEAF2D6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65F-C6A4-43E8-AE25-8CC37E558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43A1-E911-43DE-B3BA-AD6AE5346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D321-FD4B-495E-B708-35F4FAC44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C72A-2026-4FFD-A0AA-3003A7E5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44A-4171-49AC-8DBE-6D91FC9D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D869-9186-4ECE-94B2-E3F0B9C99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DF68-9D13-431B-A5EE-9E27F651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56E4-91AD-4A2A-9C2D-C012B73FC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E47-5D55-4D14-9A2D-76591638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B716-BA50-4DD1-8FAE-E8AAB80A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77C4-2942-46A2-BF0D-FA6E0EB127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1476360" y="3933720"/>
            <a:ext cx="2735280" cy="24321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826920" y="1125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初三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）班的同学们准备召开一次班会，他们想把下面的图样放大，使放大前后对应线段的比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然后制成彩纸活跃气氛，请你帮助他们找到放大图样的方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情境创设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8"/>
          <p:cNvSpPr/>
          <p:nvPr/>
        </p:nvSpPr>
        <p:spPr>
          <a:xfrm>
            <a:off x="4356000" y="3716280"/>
            <a:ext cx="4321440" cy="1728720"/>
          </a:xfrm>
          <a:prstGeom prst="wedgeRoundRectCallout">
            <a:avLst>
              <a:gd name="adj1" fmla="val -51175"/>
              <a:gd name="adj2" fmla="val 82324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下面我们就一起来学习一种把图形放大或缩小的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0"/>
          <p:cNvSpPr/>
          <p:nvPr/>
        </p:nvSpPr>
        <p:spPr>
          <a:xfrm>
            <a:off x="1692360" y="1700280"/>
            <a:ext cx="4176720" cy="1873080"/>
          </a:xfrm>
          <a:prstGeom prst="wedgeRoundRectCallout">
            <a:avLst>
              <a:gd name="adj1" fmla="val -666"/>
              <a:gd name="adj2" fmla="val 79236"/>
              <a:gd name="adj3" fmla="val 16667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问题的关键在于要改变图形的大小，但不能改变图形的形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584680" y="3424680"/>
            <a:ext cx="809640" cy="1391400"/>
            <a:chOff x="5584680" y="3424680"/>
            <a:chExt cx="809640" cy="1391400"/>
          </a:xfrm>
        </p:grpSpPr>
        <p:sp>
          <p:nvSpPr>
            <p:cNvPr id="81" name="Line 5"/>
            <p:cNvSpPr/>
            <p:nvPr/>
          </p:nvSpPr>
          <p:spPr>
            <a:xfrm flipH="1">
              <a:off x="5584680" y="3425040"/>
              <a:ext cx="351000" cy="77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6"/>
            <p:cNvSpPr/>
            <p:nvPr/>
          </p:nvSpPr>
          <p:spPr>
            <a:xfrm>
              <a:off x="5584680" y="4196520"/>
              <a:ext cx="809640" cy="6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7"/>
            <p:cNvSpPr/>
            <p:nvPr/>
          </p:nvSpPr>
          <p:spPr>
            <a:xfrm flipH="1" flipV="1">
              <a:off x="5935320" y="3424680"/>
              <a:ext cx="458280" cy="13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Text Box 9"/>
          <p:cNvSpPr/>
          <p:nvPr/>
        </p:nvSpPr>
        <p:spPr>
          <a:xfrm>
            <a:off x="250920" y="1052640"/>
            <a:ext cx="66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: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已知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求作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DEF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使它与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位似，并且相似比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10"/>
          <p:cNvSpPr/>
          <p:nvPr/>
        </p:nvSpPr>
        <p:spPr>
          <a:xfrm>
            <a:off x="4429080" y="4438800"/>
            <a:ext cx="142920" cy="14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3"/>
          <p:cNvSpPr/>
          <p:nvPr/>
        </p:nvSpPr>
        <p:spPr>
          <a:xfrm flipV="1">
            <a:off x="4429080" y="2279520"/>
            <a:ext cx="3024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4"/>
          <p:cNvSpPr/>
          <p:nvPr/>
        </p:nvSpPr>
        <p:spPr>
          <a:xfrm>
            <a:off x="4429080" y="4511520"/>
            <a:ext cx="3888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5"/>
          <p:cNvSpPr/>
          <p:nvPr/>
        </p:nvSpPr>
        <p:spPr>
          <a:xfrm flipV="1">
            <a:off x="4429080" y="3863520"/>
            <a:ext cx="244800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6"/>
          <p:cNvSpPr/>
          <p:nvPr/>
        </p:nvSpPr>
        <p:spPr>
          <a:xfrm flipH="1">
            <a:off x="6805440" y="2279520"/>
            <a:ext cx="64800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6805440" y="3863880"/>
            <a:ext cx="1511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8"/>
          <p:cNvSpPr/>
          <p:nvPr/>
        </p:nvSpPr>
        <p:spPr>
          <a:xfrm>
            <a:off x="7453440" y="227952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9"/>
          <p:cNvSpPr/>
          <p:nvPr/>
        </p:nvSpPr>
        <p:spPr>
          <a:xfrm>
            <a:off x="4141800" y="4656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0"/>
          <p:cNvSpPr/>
          <p:nvPr/>
        </p:nvSpPr>
        <p:spPr>
          <a:xfrm>
            <a:off x="5581800" y="2927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1"/>
          <p:cNvSpPr/>
          <p:nvPr/>
        </p:nvSpPr>
        <p:spPr>
          <a:xfrm>
            <a:off x="5292720" y="4222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"/>
          <p:cNvSpPr/>
          <p:nvPr/>
        </p:nvSpPr>
        <p:spPr>
          <a:xfrm>
            <a:off x="6229440" y="4871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3"/>
          <p:cNvSpPr/>
          <p:nvPr/>
        </p:nvSpPr>
        <p:spPr>
          <a:xfrm>
            <a:off x="7524720" y="2063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4"/>
          <p:cNvSpPr/>
          <p:nvPr/>
        </p:nvSpPr>
        <p:spPr>
          <a:xfrm>
            <a:off x="6516720" y="4006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5"/>
          <p:cNvSpPr/>
          <p:nvPr/>
        </p:nvSpPr>
        <p:spPr>
          <a:xfrm>
            <a:off x="8101080" y="5159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27"/>
          <p:cNvSpPr/>
          <p:nvPr/>
        </p:nvSpPr>
        <p:spPr>
          <a:xfrm>
            <a:off x="7381800" y="227952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28"/>
          <p:cNvSpPr/>
          <p:nvPr/>
        </p:nvSpPr>
        <p:spPr>
          <a:xfrm>
            <a:off x="6805440" y="386388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29"/>
          <p:cNvSpPr/>
          <p:nvPr/>
        </p:nvSpPr>
        <p:spPr>
          <a:xfrm>
            <a:off x="8245440" y="501480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1"/>
          <p:cNvSpPr/>
          <p:nvPr/>
        </p:nvSpPr>
        <p:spPr>
          <a:xfrm>
            <a:off x="5651640" y="4149720"/>
            <a:ext cx="3097080" cy="1224000"/>
          </a:xfrm>
          <a:prstGeom prst="wedgeRoundRectCallout">
            <a:avLst>
              <a:gd name="adj1" fmla="val -43745"/>
              <a:gd name="adj2" fmla="val 8164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33"/>
          <p:cNvSpPr/>
          <p:nvPr/>
        </p:nvSpPr>
        <p:spPr>
          <a:xfrm>
            <a:off x="395280" y="2349360"/>
            <a:ext cx="3816360" cy="1871640"/>
          </a:xfrm>
          <a:prstGeom prst="wedgeRoundRectCallout">
            <a:avLst>
              <a:gd name="adj1" fmla="val -19884"/>
              <a:gd name="adj2" fmla="val 10731"/>
              <a:gd name="adj3" fmla="val 16667"/>
            </a:avLst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还可以在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的另一侧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8"/>
          <p:cNvSpPr/>
          <p:nvPr/>
        </p:nvSpPr>
        <p:spPr>
          <a:xfrm>
            <a:off x="468360" y="3860640"/>
            <a:ext cx="934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9"/>
          <p:cNvSpPr/>
          <p:nvPr/>
        </p:nvSpPr>
        <p:spPr>
          <a:xfrm flipH="1">
            <a:off x="1402920" y="5157720"/>
            <a:ext cx="64764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0"/>
          <p:cNvSpPr/>
          <p:nvPr/>
        </p:nvSpPr>
        <p:spPr>
          <a:xfrm>
            <a:off x="539640" y="3933720"/>
            <a:ext cx="15112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68360" y="3860640"/>
            <a:ext cx="5904000" cy="936720"/>
            <a:chOff x="468360" y="3860640"/>
            <a:chExt cx="5904000" cy="936720"/>
          </a:xfrm>
        </p:grpSpPr>
        <p:sp>
          <p:nvSpPr>
            <p:cNvPr id="108" name="Line 37"/>
            <p:cNvSpPr/>
            <p:nvPr/>
          </p:nvSpPr>
          <p:spPr>
            <a:xfrm>
              <a:off x="539640" y="3933720"/>
              <a:ext cx="583272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41"/>
            <p:cNvSpPr/>
            <p:nvPr/>
          </p:nvSpPr>
          <p:spPr>
            <a:xfrm>
              <a:off x="468360" y="386064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979640" y="4217760"/>
            <a:ext cx="3598920" cy="1011600"/>
            <a:chOff x="1979640" y="4217760"/>
            <a:chExt cx="3598920" cy="1011600"/>
          </a:xfrm>
        </p:grpSpPr>
        <p:sp>
          <p:nvSpPr>
            <p:cNvPr id="111" name="Line 35"/>
            <p:cNvSpPr/>
            <p:nvPr/>
          </p:nvSpPr>
          <p:spPr>
            <a:xfrm flipV="1">
              <a:off x="2050920" y="4217760"/>
              <a:ext cx="3527640" cy="939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42"/>
            <p:cNvSpPr/>
            <p:nvPr/>
          </p:nvSpPr>
          <p:spPr>
            <a:xfrm>
              <a:off x="1979640" y="515808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403280" y="3427560"/>
            <a:ext cx="4537080" cy="3241440"/>
            <a:chOff x="1403280" y="3427560"/>
            <a:chExt cx="4537080" cy="3241440"/>
          </a:xfrm>
        </p:grpSpPr>
        <p:sp>
          <p:nvSpPr>
            <p:cNvPr id="114" name="Line 34"/>
            <p:cNvSpPr/>
            <p:nvPr/>
          </p:nvSpPr>
          <p:spPr>
            <a:xfrm flipV="1">
              <a:off x="1476360" y="3427560"/>
              <a:ext cx="4464000" cy="324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43"/>
            <p:cNvSpPr/>
            <p:nvPr/>
          </p:nvSpPr>
          <p:spPr>
            <a:xfrm>
              <a:off x="1403280" y="659736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Text Box 47"/>
          <p:cNvSpPr/>
          <p:nvPr/>
        </p:nvSpPr>
        <p:spPr>
          <a:xfrm>
            <a:off x="1692360" y="6400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8"/>
          <p:cNvSpPr/>
          <p:nvPr/>
        </p:nvSpPr>
        <p:spPr>
          <a:xfrm>
            <a:off x="2050920" y="522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9"/>
          <p:cNvSpPr/>
          <p:nvPr/>
        </p:nvSpPr>
        <p:spPr>
          <a:xfrm>
            <a:off x="395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1"/>
          <p:cNvSpPr/>
          <p:nvPr/>
        </p:nvSpPr>
        <p:spPr>
          <a:xfrm>
            <a:off x="3635280" y="551664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DEF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即为所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86080" y="-720"/>
            <a:ext cx="19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主探究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5584680" y="3424680"/>
            <a:ext cx="809640" cy="1391400"/>
            <a:chOff x="5584680" y="3424680"/>
            <a:chExt cx="809640" cy="1391400"/>
          </a:xfrm>
        </p:grpSpPr>
        <p:sp>
          <p:nvSpPr>
            <p:cNvPr id="122" name="Line 5"/>
            <p:cNvSpPr/>
            <p:nvPr/>
          </p:nvSpPr>
          <p:spPr>
            <a:xfrm flipH="1">
              <a:off x="5584680" y="3425040"/>
              <a:ext cx="351000" cy="771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6"/>
            <p:cNvSpPr/>
            <p:nvPr/>
          </p:nvSpPr>
          <p:spPr>
            <a:xfrm>
              <a:off x="5584680" y="4196520"/>
              <a:ext cx="809640" cy="619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7"/>
            <p:cNvSpPr/>
            <p:nvPr/>
          </p:nvSpPr>
          <p:spPr>
            <a:xfrm flipH="1" flipV="1">
              <a:off x="5935320" y="3424680"/>
              <a:ext cx="458280" cy="1391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Text Box 9"/>
          <p:cNvSpPr/>
          <p:nvPr/>
        </p:nvSpPr>
        <p:spPr>
          <a:xfrm>
            <a:off x="250920" y="40464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能说说作图的方法步骤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"/>
          <p:cNvSpPr/>
          <p:nvPr/>
        </p:nvSpPr>
        <p:spPr>
          <a:xfrm>
            <a:off x="4429080" y="4438800"/>
            <a:ext cx="142920" cy="142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4429080" y="2279520"/>
            <a:ext cx="3024360" cy="223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4429080" y="4511520"/>
            <a:ext cx="388800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V="1">
            <a:off x="4429080" y="3863520"/>
            <a:ext cx="2448000" cy="64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 flipH="1">
            <a:off x="6805440" y="2279520"/>
            <a:ext cx="648000" cy="158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6805440" y="3863880"/>
            <a:ext cx="151164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>
            <a:off x="7453440" y="227952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4141800" y="465624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0"/>
          <p:cNvSpPr/>
          <p:nvPr/>
        </p:nvSpPr>
        <p:spPr>
          <a:xfrm>
            <a:off x="5581800" y="2927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5292720" y="4222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6229440" y="4871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7524720" y="20638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4"/>
          <p:cNvSpPr/>
          <p:nvPr/>
        </p:nvSpPr>
        <p:spPr>
          <a:xfrm>
            <a:off x="6516720" y="4006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8101080" y="51595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27"/>
          <p:cNvSpPr/>
          <p:nvPr/>
        </p:nvSpPr>
        <p:spPr>
          <a:xfrm>
            <a:off x="7381800" y="227952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28"/>
          <p:cNvSpPr/>
          <p:nvPr/>
        </p:nvSpPr>
        <p:spPr>
          <a:xfrm>
            <a:off x="6805440" y="386388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9"/>
          <p:cNvSpPr/>
          <p:nvPr/>
        </p:nvSpPr>
        <p:spPr>
          <a:xfrm>
            <a:off x="8245440" y="5014800"/>
            <a:ext cx="716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/>
          <p:cNvSpPr/>
          <p:nvPr/>
        </p:nvSpPr>
        <p:spPr>
          <a:xfrm>
            <a:off x="5651640" y="4149720"/>
            <a:ext cx="3097080" cy="1224000"/>
          </a:xfrm>
          <a:prstGeom prst="wedgeRoundRectCallout">
            <a:avLst>
              <a:gd name="adj1" fmla="val -43745"/>
              <a:gd name="adj2" fmla="val 81648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38"/>
          <p:cNvSpPr/>
          <p:nvPr/>
        </p:nvSpPr>
        <p:spPr>
          <a:xfrm>
            <a:off x="468360" y="3860640"/>
            <a:ext cx="93492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9"/>
          <p:cNvSpPr/>
          <p:nvPr/>
        </p:nvSpPr>
        <p:spPr>
          <a:xfrm flipH="1">
            <a:off x="1402920" y="5157720"/>
            <a:ext cx="647640" cy="1511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0"/>
          <p:cNvSpPr/>
          <p:nvPr/>
        </p:nvSpPr>
        <p:spPr>
          <a:xfrm>
            <a:off x="539640" y="3933720"/>
            <a:ext cx="1511280" cy="1224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68360" y="3860640"/>
            <a:ext cx="5904000" cy="936720"/>
            <a:chOff x="468360" y="3860640"/>
            <a:chExt cx="5904000" cy="936720"/>
          </a:xfrm>
        </p:grpSpPr>
        <p:sp>
          <p:nvSpPr>
            <p:cNvPr id="148" name="Line 37"/>
            <p:cNvSpPr/>
            <p:nvPr/>
          </p:nvSpPr>
          <p:spPr>
            <a:xfrm>
              <a:off x="539640" y="3933720"/>
              <a:ext cx="5832720" cy="863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41"/>
            <p:cNvSpPr/>
            <p:nvPr/>
          </p:nvSpPr>
          <p:spPr>
            <a:xfrm>
              <a:off x="468360" y="386064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640" y="4217760"/>
            <a:ext cx="3598920" cy="1011600"/>
            <a:chOff x="1979640" y="4217760"/>
            <a:chExt cx="3598920" cy="1011600"/>
          </a:xfrm>
        </p:grpSpPr>
        <p:sp>
          <p:nvSpPr>
            <p:cNvPr id="151" name="Line 35"/>
            <p:cNvSpPr/>
            <p:nvPr/>
          </p:nvSpPr>
          <p:spPr>
            <a:xfrm flipV="1">
              <a:off x="2050920" y="4217760"/>
              <a:ext cx="3527640" cy="9399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42"/>
            <p:cNvSpPr/>
            <p:nvPr/>
          </p:nvSpPr>
          <p:spPr>
            <a:xfrm>
              <a:off x="1979640" y="515808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403280" y="3427560"/>
            <a:ext cx="4537080" cy="3241440"/>
            <a:chOff x="1403280" y="3427560"/>
            <a:chExt cx="4537080" cy="3241440"/>
          </a:xfrm>
        </p:grpSpPr>
        <p:sp>
          <p:nvSpPr>
            <p:cNvPr id="154" name="Line 34"/>
            <p:cNvSpPr/>
            <p:nvPr/>
          </p:nvSpPr>
          <p:spPr>
            <a:xfrm flipV="1">
              <a:off x="1476360" y="3427560"/>
              <a:ext cx="4464000" cy="324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43"/>
            <p:cNvSpPr/>
            <p:nvPr/>
          </p:nvSpPr>
          <p:spPr>
            <a:xfrm>
              <a:off x="1403280" y="6597360"/>
              <a:ext cx="73080" cy="71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47"/>
          <p:cNvSpPr/>
          <p:nvPr/>
        </p:nvSpPr>
        <p:spPr>
          <a:xfrm>
            <a:off x="1692360" y="64008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8"/>
          <p:cNvSpPr/>
          <p:nvPr/>
        </p:nvSpPr>
        <p:spPr>
          <a:xfrm>
            <a:off x="2050920" y="5229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9"/>
          <p:cNvSpPr/>
          <p:nvPr/>
        </p:nvSpPr>
        <p:spPr>
          <a:xfrm>
            <a:off x="395280" y="3500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1197000"/>
            <a:ext cx="8353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确定位似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画出两位似图形对应点到位似中心的相似比的线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、顺次连接位似图形的各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42360" y="33264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当堂测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34136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已知边长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正方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D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它的两条对角线的交点为位似中心，画一个边长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并与它位似的正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278136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下列图形中：①放大镜下的图片；②幻灯片的底片与投影在屏幕上的图象；③天空中两朵白云的照片；④卫星上拍摄的长城照片与相机拍摄的长城照片．其中相似的组数有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378936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95280" y="1052640"/>
            <a:ext cx="7921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列关于位似图形的表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相似图形一定是位似图形，位似图形一定是相似图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似图形一定有位似中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果两个图形是相似图形，且每组对应点的连线所在的直线都经过同一个点，那么，这两个图形是位似图形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位似图形上任意两点与位似中心的距离之比等于位似比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正确命题的序号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①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③④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②③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51280" y="3933720"/>
            <a:ext cx="86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24000" y="907920"/>
            <a:ext cx="79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4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玉林）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位似图形，且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位似比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已知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面积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′B′C′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面积是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      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        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     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6000" y="162864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50920" y="3429000"/>
            <a:ext cx="42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初三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班的同学们准备召开一次班会，他们想把下面的图样放大，使放大前后对应线段的比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然后制成彩纸活跃气氛，请你帮助他们找到放大图样的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52728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upload_fdf97be_128233490cf__7fff_00000663"/>
          <p:cNvPicPr/>
          <p:nvPr/>
        </p:nvPicPr>
        <p:blipFill>
          <a:blip r:embed="rId1"/>
          <a:stretch/>
        </p:blipFill>
        <p:spPr>
          <a:xfrm>
            <a:off x="5364000" y="1197000"/>
            <a:ext cx="3224520" cy="35290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468360" y="836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以下方法可以近似地                                      把一个不规则图形放大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611280" y="213372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将两根等长的橡皮                          系在一起，连接处形成一个结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611280" y="4005360"/>
            <a:ext cx="748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选一个图形，再选一                          个定点，将橡皮筋的一                          端固定在定点处，把铅笔固定在另一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50240" y="-72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课后练习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611280" y="76500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拉动铅笔，使结点沿图形的边缘移动一周，这样铅笔就画出一个新的图形。试试看，它们相似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6" descr="upload_fdf97be_128233490cf__7fff_00000663"/>
          <p:cNvPicPr/>
          <p:nvPr/>
        </p:nvPicPr>
        <p:blipFill>
          <a:blip r:embed="rId1"/>
          <a:stretch/>
        </p:blipFill>
        <p:spPr>
          <a:xfrm>
            <a:off x="5364000" y="1197000"/>
            <a:ext cx="3224520" cy="3529080"/>
          </a:xfrm>
          <a:prstGeom prst="rect">
            <a:avLst/>
          </a:prstGeom>
          <a:ln w="0">
            <a:noFill/>
          </a:ln>
        </p:spPr>
      </p:pic>
      <p:sp>
        <p:nvSpPr>
          <p:cNvPr id="177" name="AutoShape 5"/>
          <p:cNvSpPr/>
          <p:nvPr/>
        </p:nvSpPr>
        <p:spPr>
          <a:xfrm>
            <a:off x="1042920" y="3500280"/>
            <a:ext cx="4394160" cy="2738520"/>
          </a:xfrm>
          <a:prstGeom prst="wedgeRoundRectCallout">
            <a:avLst>
              <a:gd name="adj1" fmla="val 45592"/>
              <a:gd name="adj2" fmla="val -59217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这样所得图形与原图形的相似比是多少？要放大其他的倍数应该怎么做？如果要把图形缩小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724360" y="5157720"/>
            <a:ext cx="2664000" cy="647640"/>
            <a:chOff x="5724360" y="5157720"/>
            <a:chExt cx="2664000" cy="647640"/>
          </a:xfrm>
        </p:grpSpPr>
        <p:sp>
          <p:nvSpPr>
            <p:cNvPr id="179" name="AutoShape 8"/>
            <p:cNvSpPr/>
            <p:nvPr/>
          </p:nvSpPr>
          <p:spPr>
            <a:xfrm>
              <a:off x="5724360" y="5157720"/>
              <a:ext cx="2664000" cy="647640"/>
            </a:xfrm>
            <a:custGeom>
              <a:avLst/>
              <a:gdLst>
                <a:gd name="textAreaLeft" fmla="*/ 40320 w 2664000"/>
                <a:gd name="textAreaRight" fmla="*/ 2623680 w 2664000"/>
                <a:gd name="textAreaTop" fmla="*/ 40320 h 647640"/>
                <a:gd name="textAreaBottom" fmla="*/ 607320 h 647640"/>
              </a:gdLst>
              <a:ahLst/>
              <a:rect l="textAreaLeft" t="textAreaTop" r="textAreaRight" b="textAreaBottom"/>
              <a:pathLst>
                <a:path w="88812" h="21600">
                  <a:moveTo>
                    <a:pt x="0" y="0"/>
                  </a:moveTo>
                  <a:lnTo>
                    <a:pt x="88812" y="0"/>
                  </a:lnTo>
                  <a:lnTo>
                    <a:pt x="88812" y="21600"/>
                  </a:lnTo>
                  <a:lnTo>
                    <a:pt x="0" y="21600"/>
                  </a:lnTo>
                  <a:close/>
                </a:path>
                <a:path fill="lightenLess" w="88812" h="21600">
                  <a:moveTo>
                    <a:pt x="0" y="0"/>
                  </a:moveTo>
                  <a:lnTo>
                    <a:pt x="88812" y="0"/>
                  </a:lnTo>
                  <a:lnTo>
                    <a:pt x="87462" y="1350"/>
                  </a:lnTo>
                  <a:lnTo>
                    <a:pt x="1350" y="1350"/>
                  </a:lnTo>
                  <a:close/>
                </a:path>
                <a:path fill="darken" w="88812" h="21600">
                  <a:moveTo>
                    <a:pt x="88812" y="0"/>
                  </a:moveTo>
                  <a:lnTo>
                    <a:pt x="88812" y="21600"/>
                  </a:lnTo>
                  <a:lnTo>
                    <a:pt x="87462" y="20250"/>
                  </a:lnTo>
                  <a:lnTo>
                    <a:pt x="87462" y="1350"/>
                  </a:lnTo>
                  <a:close/>
                </a:path>
                <a:path fill="darkenLess" w="88812" h="21600">
                  <a:moveTo>
                    <a:pt x="88812" y="21600"/>
                  </a:moveTo>
                  <a:lnTo>
                    <a:pt x="0" y="21600"/>
                  </a:lnTo>
                  <a:lnTo>
                    <a:pt x="1350" y="20250"/>
                  </a:lnTo>
                  <a:lnTo>
                    <a:pt x="87462" y="20250"/>
                  </a:lnTo>
                  <a:close/>
                </a:path>
                <a:path fill="lighten" w="88812" h="21600">
                  <a:moveTo>
                    <a:pt x="0" y="21600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02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9"/>
            <p:cNvSpPr/>
            <p:nvPr/>
          </p:nvSpPr>
          <p:spPr>
            <a:xfrm>
              <a:off x="6084720" y="5157720"/>
              <a:ext cx="187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9999"/>
                  </a:solidFill>
                  <a:latin typeface="Arial"/>
                  <a:ea typeface="黑体"/>
                </a:rPr>
                <a:t>演示动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285264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、说说画位似图形的步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9640" y="119700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位似图形的性质是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844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似图形上对应点到位似中心的距离之比等于相似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9640" y="386064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确定位似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画出两位似图形对应点到位似中心的相似比的线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、顺次连接位似图形的各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0920" y="620640"/>
            <a:ext cx="432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第四章  图形的相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63360" y="2860200"/>
            <a:ext cx="6777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第</a:t>
            </a:r>
            <a:r>
              <a:rPr b="0" lang="en-US" sz="4800" spc="-1" strike="noStrike">
                <a:solidFill>
                  <a:srgbClr val="ff0066"/>
                </a:solidFill>
                <a:latin typeface="黑体"/>
                <a:ea typeface="黑体"/>
              </a:rPr>
              <a:t>8</a:t>
            </a:r>
            <a:r>
              <a:rPr b="0" lang="zh-CN" sz="4800" spc="-1" strike="noStrike">
                <a:solidFill>
                  <a:srgbClr val="ff0066"/>
                </a:solidFill>
                <a:latin typeface="黑体"/>
                <a:ea typeface="黑体"/>
              </a:rPr>
              <a:t>节  图形的位似（一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44500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南省大姚县实验中学      武发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81723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阅读教材，结合预习，观察图形，说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位似图形，位似中心的概念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度量、比较，归纳说出“位似图形上对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点到位似中心的距离之比等于相似比”的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自主学习会判断是否是位似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通过精讲点拨能根据条件画位似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重点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通过度量、比较，归纳说出“位似图形上对应点到位似中心的距离之比等于相似比”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黑体"/>
              </a:rPr>
              <a:t>【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难点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  <a:ea typeface="黑体"/>
              </a:rPr>
              <a:t>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条件画出位似图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T154"/>
          <p:cNvPicPr/>
          <p:nvPr/>
        </p:nvPicPr>
        <p:blipFill>
          <a:blip r:embed="rId1"/>
          <a:stretch/>
        </p:blipFill>
        <p:spPr>
          <a:xfrm>
            <a:off x="1332000" y="1341360"/>
            <a:ext cx="6265800" cy="3116520"/>
          </a:xfrm>
          <a:prstGeom prst="rect">
            <a:avLst/>
          </a:prstGeom>
          <a:ln w="0">
            <a:noFill/>
          </a:ln>
        </p:spPr>
      </p:pic>
      <p:sp>
        <p:nvSpPr>
          <p:cNvPr id="53" name="Line 6"/>
          <p:cNvSpPr/>
          <p:nvPr/>
        </p:nvSpPr>
        <p:spPr>
          <a:xfrm>
            <a:off x="1692360" y="2565360"/>
            <a:ext cx="5545080" cy="50328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84360" y="443700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以上五幅图片是形状相同的图形，取图中相对应的两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A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，它们的连线经过镜头中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吗？换其他的对应点试一试，还有类似规律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1"/>
          <p:cNvSpPr/>
          <p:nvPr/>
        </p:nvSpPr>
        <p:spPr>
          <a:xfrm>
            <a:off x="4572000" y="2997360"/>
            <a:ext cx="4248000" cy="1295280"/>
          </a:xfrm>
          <a:prstGeom prst="wedgeRoundRectCallout">
            <a:avLst>
              <a:gd name="adj1" fmla="val -38263"/>
              <a:gd name="adj2" fmla="val 188236"/>
              <a:gd name="adj3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  <a:ea typeface="黑体"/>
              </a:rPr>
              <a:t>每一组对应点的连线都经过镜头中心点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  <a:ea typeface="黑体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59280" y="3141360"/>
            <a:ext cx="367344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59280" y="3068640"/>
            <a:ext cx="4105080" cy="1224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1484280"/>
            <a:ext cx="2232000" cy="720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11280" y="1484280"/>
            <a:ext cx="4753080" cy="1584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05200" y="0"/>
            <a:ext cx="7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【创设情境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620640"/>
            <a:ext cx="871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看课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11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页内容说说位似多边形，位似中心的概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30200" y="1557360"/>
            <a:ext cx="87138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如果两个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相似多边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每组对应点所在的直线都经过同一 个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且每组对应点与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点的距离之比都等于一个定值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k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例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k≠0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）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可变形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A=KOA’)</a:t>
            </a:r>
            <a:r>
              <a:rPr b="0" i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那么这样的两个多边形叫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位似多边形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，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点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叫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  <a:ea typeface="黑体"/>
              </a:rPr>
              <a:t>位似中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1081080" cy="797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2"/>
          <a:stretch/>
        </p:blipFill>
        <p:spPr>
          <a:xfrm>
            <a:off x="468360" y="4581360"/>
            <a:ext cx="5111640" cy="2021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92160" y="-720"/>
            <a:ext cx="116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自主探究一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8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7129440" cy="2818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95280" y="765000"/>
            <a:ext cx="7705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量一量例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D=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A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OE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=      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O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由此你得到什么结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95280" y="263700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对应点到位似中心的距离之比等于相似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7"/>
          <p:cNvSpPr/>
          <p:nvPr/>
        </p:nvSpPr>
        <p:spPr>
          <a:xfrm>
            <a:off x="179280" y="26028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、 请观察思考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以下每组位似图形中的位似中心在哪里？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两个位似的图形具有什么特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4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8569080" cy="46371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539640" y="1341360"/>
            <a:ext cx="648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对应点的连线经过位似中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对应边互相平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）对应点到位似中心的距离之比等于相似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95280" y="34290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判断一下两组多边形是否是位似多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121_aE1IsG"/>
          <p:cNvPicPr/>
          <p:nvPr/>
        </p:nvPicPr>
        <p:blipFill>
          <a:blip r:embed="rId1"/>
          <a:stretch/>
        </p:blipFill>
        <p:spPr>
          <a:xfrm>
            <a:off x="324000" y="4005360"/>
            <a:ext cx="3384360" cy="25016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0"/>
          <p:cNvSpPr/>
          <p:nvPr/>
        </p:nvSpPr>
        <p:spPr>
          <a:xfrm rot="10800000">
            <a:off x="5219280" y="3141360"/>
            <a:ext cx="1368360" cy="576360"/>
          </a:xfrm>
          <a:prstGeom prst="rightArrow">
            <a:avLst>
              <a:gd name="adj1" fmla="val 50000"/>
              <a:gd name="adj2" fmla="val 59354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2"/>
          <p:cNvSpPr/>
          <p:nvPr/>
        </p:nvSpPr>
        <p:spPr>
          <a:xfrm rot="9460200">
            <a:off x="5148000" y="3860280"/>
            <a:ext cx="1944720" cy="863640"/>
          </a:xfrm>
          <a:prstGeom prst="rightArrow">
            <a:avLst>
              <a:gd name="adj1" fmla="val 50000"/>
              <a:gd name="adj2" fmla="val 56294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840" y="-720"/>
            <a:ext cx="76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【练习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20358000">
            <a:off x="5579640" y="429264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831000">
            <a:off x="5508360" y="4797360"/>
            <a:ext cx="2087640" cy="1657440"/>
          </a:xfrm>
          <a:custGeom>
            <a:avLst/>
            <a:gdLst>
              <a:gd name="textAreaLeft" fmla="*/ 860040 w 2087640"/>
              <a:gd name="textAreaRight" fmla="*/ 1227600 w 2087640"/>
              <a:gd name="textAreaTop" fmla="*/ 682920 h 1657440"/>
              <a:gd name="textAreaBottom" fmla="*/ 974520 h 165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765000"/>
            <a:ext cx="81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作位似形的方法，可以将一个图形放大或缩小，位似中心（   ）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只能选在原图形的外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只能选在原图形的内部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只能选在原图形的边上；                     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可以选择任意位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8:19:23Z</dcterms:created>
  <dc:creator>Sky123.Org</dc:creator>
  <dc:description/>
  <dc:language>en-US</dc:language>
  <cp:lastModifiedBy>Sky123.Org</cp:lastModifiedBy>
  <dcterms:modified xsi:type="dcterms:W3CDTF">2014-12-27T06:47:44Z</dcterms:modified>
  <cp:revision>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