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AACEF-3616-4EC5-A2F8-4C7C29D0EA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97C14-BBFF-4855-8898-AB97A908E8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AF87E-D718-4971-8D35-8FEC7A405F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19C79-7A19-4FA3-9075-570952835E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A4C73-FD8F-4CDE-B894-6D305F960D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CA900-A6A3-4142-946D-8C93D96EFF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EF8EF-11F2-44AD-8FE3-CE4184C7D5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BB19D-9361-4C43-B6A8-0AAC8D2AB4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48E1C-9276-4494-9697-FA1B8A4C92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A7BB2-EBB0-4A2A-BDB6-32901B5FF4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08C6B-5F82-490F-AF08-4C67EBB58A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D65AE-5B95-4048-8047-39AD77F4BF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图片 6" descr="透明社标.png"/>
          <p:cNvPicPr/>
          <p:nvPr/>
        </p:nvPicPr>
        <p:blipFill>
          <a:blip r:embed="rId3"/>
          <a:stretch/>
        </p:blipFill>
        <p:spPr>
          <a:xfrm>
            <a:off x="6156360" y="6093000"/>
            <a:ext cx="2808360" cy="59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4186-B192-4C9E-AE58-666C85B02CFF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" name="图片 6" descr="透明社标.png"/>
          <p:cNvPicPr/>
          <p:nvPr/>
        </p:nvPicPr>
        <p:blipFill>
          <a:blip r:embed="rId3"/>
          <a:stretch/>
        </p:blipFill>
        <p:spPr>
          <a:xfrm>
            <a:off x="6156360" y="6093000"/>
            <a:ext cx="2808360" cy="5950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第二章  一元一次不等式和</a:t>
            </a:r>
            <a:br>
              <a:rPr sz="4800"/>
            </a:br>
            <a:r>
              <a:rPr b="0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        一元一次不等式组</a:t>
            </a:r>
            <a:br>
              <a:rPr sz="4800"/>
            </a:br>
            <a:br>
              <a:rPr sz="4400"/>
            </a:b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2.4  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一元一次不等式（二）</a:t>
            </a:r>
            <a:r>
              <a:rPr b="0" lang="zh-CN" sz="800" spc="-1" strike="noStrike">
                <a:solidFill>
                  <a:srgbClr val="ffff00"/>
                </a:solidFill>
                <a:latin typeface="黑体"/>
                <a:ea typeface="黑体"/>
              </a:rPr>
              <a:t>zxxk</a:t>
            </a:r>
            <a:endParaRPr b="0" lang="en-US" sz="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5280" y="2349360"/>
            <a:ext cx="5545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谢谢，再见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一、复习旧知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方法归纳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解下列不等式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24000" y="2133720"/>
                <a:ext cx="8458200" cy="14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1   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解一元一次不等式的一般步骤：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8288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去分母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去括号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移项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合并同类项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系数化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1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根据题目对解及解集的要求作答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e3ff"/>
                </a:solidFill>
                <a:latin typeface="Arial"/>
              </a:rPr>
              <a:t>二、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合作探究，解决问题</a:t>
            </a: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zh-CN" sz="800" spc="-1" strike="noStrike">
                <a:solidFill>
                  <a:srgbClr val="e3e3ff"/>
                </a:solidFill>
                <a:latin typeface="Arial"/>
              </a:rPr>
              <a:t>z.x.x.k</a:t>
            </a:r>
            <a:endParaRPr b="0" lang="en-US" sz="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2181240"/>
            <a:ext cx="770580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113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某种商品进价为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200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元，标价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300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元出售，商场规定可以打折销售，但其利润不能少于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5﹪.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请你帮助售货员计算一下，此种商品可以按几折销售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68360" y="335772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解：设小明答对了</a:t>
            </a:r>
            <a:r>
              <a:rPr b="0" i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x</a:t>
            </a:r>
            <a:r>
              <a:rPr b="0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道题，得</a:t>
            </a:r>
            <a:r>
              <a:rPr b="0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4</a:t>
            </a:r>
            <a:r>
              <a:rPr b="0" i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x</a:t>
            </a:r>
            <a:r>
              <a:rPr b="0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分，另有（</a:t>
            </a:r>
            <a:r>
              <a:rPr b="0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25-x</a:t>
            </a:r>
            <a:r>
              <a:rPr b="0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）道要扣分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而小明评为优秀，即小明的得分应大于或等于</a:t>
            </a:r>
            <a:r>
              <a:rPr b="0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85</a:t>
            </a:r>
            <a:r>
              <a:rPr b="0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分，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             </a:t>
            </a:r>
            <a:r>
              <a:rPr b="0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4x-(25-x) ≥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            </a:t>
            </a:r>
            <a:r>
              <a:rPr b="0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解得 </a:t>
            </a:r>
            <a:r>
              <a:rPr b="0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x≥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答：小明至少答对了</a:t>
            </a:r>
            <a:r>
              <a:rPr b="0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22</a:t>
            </a:r>
            <a:r>
              <a:rPr b="0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道题，他可能答对</a:t>
            </a:r>
            <a:r>
              <a:rPr b="0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22</a:t>
            </a:r>
            <a:r>
              <a:rPr b="0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23</a:t>
            </a:r>
            <a:r>
              <a:rPr b="0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24</a:t>
            </a:r>
            <a:r>
              <a:rPr b="0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或</a:t>
            </a:r>
            <a:r>
              <a:rPr b="0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25</a:t>
            </a:r>
            <a:r>
              <a:rPr b="0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道题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1413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次环保知识竞赛共有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25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道题，规定答对一道题得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分，答错或不答一道题扣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分，在这次竞赛中，小明被评为优秀（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85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分或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85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分以上），小明至少答对了几道题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00" y="444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三、 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例题解析，方法归纳</a:t>
            </a: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解一元一次不等式应用题的步骤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：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1844640"/>
            <a:ext cx="7272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）审题，找不等关系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）设未知数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）列不等式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）解不等式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）根据实际情况，写出全部答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四、练习提高</a:t>
            </a: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26920" y="378936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小明准备用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2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元钱买火腿肠和方便面，已知一根火腿肠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元钱，一盒方便面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元钱，他买了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盒方便面，他还可能买多少根火腿肠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22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4352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4812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26920" y="1628640"/>
            <a:ext cx="7467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某种商品进价为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400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元，出售时标价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500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元，商场准备打折销售，但要保持利润不低于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10﹪.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则至多可打几折？</a:t>
            </a: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五、课堂小结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23640" y="106668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通过本节课的学习，你有哪些收获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95480" y="1706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5640" y="1773360"/>
            <a:ext cx="496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0" lang="zh-CN" sz="2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解一元一次不等式的一般步骤：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去分母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去括号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移项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合并同类项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系数化成</a:t>
            </a: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3716280"/>
            <a:ext cx="4156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0" lang="zh-CN" sz="2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解一元一次不等式应用题的步骤：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3fee4"/>
                </a:solidFill>
                <a:latin typeface="楷体_GB2312"/>
                <a:ea typeface="楷体_GB2312"/>
              </a:rPr>
              <a:t>（</a:t>
            </a:r>
            <a:r>
              <a:rPr b="0" lang="zh-CN" sz="2000" spc="-1" strike="noStrike">
                <a:solidFill>
                  <a:srgbClr val="f3fee4"/>
                </a:solidFill>
                <a:latin typeface="楷体_GB2312"/>
                <a:ea typeface="楷体_GB2312"/>
              </a:rPr>
              <a:t>1</a:t>
            </a:r>
            <a:r>
              <a:rPr b="0" lang="zh-CN" sz="2000" spc="-1" strike="noStrike">
                <a:solidFill>
                  <a:srgbClr val="f3fee4"/>
                </a:solidFill>
                <a:latin typeface="楷体_GB2312"/>
                <a:ea typeface="楷体_GB2312"/>
              </a:rPr>
              <a:t>）审题，找不等关系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3fee4"/>
                </a:solidFill>
                <a:latin typeface="楷体_GB2312"/>
                <a:ea typeface="楷体_GB2312"/>
              </a:rPr>
              <a:t>（</a:t>
            </a:r>
            <a:r>
              <a:rPr b="0" lang="zh-CN" sz="2000" spc="-1" strike="noStrike">
                <a:solidFill>
                  <a:srgbClr val="f3fee4"/>
                </a:solidFill>
                <a:latin typeface="楷体_GB2312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f3fee4"/>
                </a:solidFill>
                <a:latin typeface="楷体_GB2312"/>
                <a:ea typeface="楷体_GB2312"/>
              </a:rPr>
              <a:t>）设未知数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3fee4"/>
                </a:solidFill>
                <a:latin typeface="楷体_GB2312"/>
                <a:ea typeface="楷体_GB2312"/>
              </a:rPr>
              <a:t>（</a:t>
            </a:r>
            <a:r>
              <a:rPr b="0" lang="zh-CN" sz="2000" spc="-1" strike="noStrike">
                <a:solidFill>
                  <a:srgbClr val="f3fee4"/>
                </a:solidFill>
                <a:latin typeface="楷体_GB2312"/>
                <a:ea typeface="楷体_GB2312"/>
              </a:rPr>
              <a:t>3</a:t>
            </a:r>
            <a:r>
              <a:rPr b="0" lang="zh-CN" sz="2000" spc="-1" strike="noStrike">
                <a:solidFill>
                  <a:srgbClr val="f3fee4"/>
                </a:solidFill>
                <a:latin typeface="楷体_GB2312"/>
                <a:ea typeface="楷体_GB2312"/>
              </a:rPr>
              <a:t>）列不等式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3fee4"/>
                </a:solidFill>
                <a:latin typeface="楷体_GB2312"/>
                <a:ea typeface="楷体_GB2312"/>
              </a:rPr>
              <a:t>（</a:t>
            </a:r>
            <a:r>
              <a:rPr b="0" lang="zh-CN" sz="2000" spc="-1" strike="noStrike">
                <a:solidFill>
                  <a:srgbClr val="f3fee4"/>
                </a:solidFill>
                <a:latin typeface="楷体_GB2312"/>
                <a:ea typeface="楷体_GB2312"/>
              </a:rPr>
              <a:t>4</a:t>
            </a:r>
            <a:r>
              <a:rPr b="0" lang="zh-CN" sz="2000" spc="-1" strike="noStrike">
                <a:solidFill>
                  <a:srgbClr val="f3fee4"/>
                </a:solidFill>
                <a:latin typeface="楷体_GB2312"/>
                <a:ea typeface="楷体_GB2312"/>
              </a:rPr>
              <a:t>）解不等式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3fee4"/>
                </a:solidFill>
                <a:latin typeface="楷体_GB2312"/>
                <a:ea typeface="楷体_GB2312"/>
              </a:rPr>
              <a:t>（</a:t>
            </a:r>
            <a:r>
              <a:rPr b="0" lang="zh-CN" sz="2000" spc="-1" strike="noStrike">
                <a:solidFill>
                  <a:srgbClr val="f3fee4"/>
                </a:solidFill>
                <a:latin typeface="楷体_GB2312"/>
                <a:ea typeface="楷体_GB2312"/>
              </a:rPr>
              <a:t>5</a:t>
            </a:r>
            <a:r>
              <a:rPr b="0" lang="zh-CN" sz="2000" spc="-1" strike="noStrike">
                <a:solidFill>
                  <a:srgbClr val="f3fee4"/>
                </a:solidFill>
                <a:latin typeface="楷体_GB2312"/>
                <a:ea typeface="楷体_GB2312"/>
              </a:rPr>
              <a:t>）根据实际情况，写出全部答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19280" y="764640"/>
            <a:ext cx="4968720" cy="19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家庭作业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916360" y="2491920"/>
            <a:ext cx="48355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习题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3:59:30Z</dcterms:created>
  <dc:creator>陈志</dc:creator>
  <dc:description/>
  <dc:language>en-US</dc:language>
  <cp:lastModifiedBy>User</cp:lastModifiedBy>
  <dcterms:modified xsi:type="dcterms:W3CDTF">2014-02-20T09:55:13Z</dcterms:modified>
  <cp:revision>54</cp:revision>
  <dc:subject/>
  <dc:title>一元一次不等式（2）</dc:title>
</cp:coreProperties>
</file>