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1071-5958-428A-8201-C3FAD62A76F5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18F-6043-4D96-9E93-DE89B71F4B6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7FC-BBA7-4D85-968A-4200970C696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EE47-C006-4F77-BC37-537F565A5C2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677-BC66-4FDB-A00E-DE0B1767D3E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1F0-8A81-4C89-A246-3BD10E704A2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899-7731-47E9-B011-72178978F0F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7BD6-6812-49BD-989E-46DBA118F9D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590-7799-47CD-9858-7D4E3D60A38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575F-9BF1-4B1A-9A7A-F1AA4E12216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954-D6DF-432C-B550-1844C9D651E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793-0E36-45B6-8ACA-ECAAAA1D684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1581-986E-4613-9C22-29814087E73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E78-6DDB-4FA6-A438-EA0171CDF5C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7CA2-E68C-4F38-9664-5D644B4CD7A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C5B-F0FC-4A72-9093-93638EB0F27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520D-FB13-4942-B824-F938C74691B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8B40-5C06-4278-A6D8-779A02FDCEC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E5B-0AF0-4C27-9CF7-845EC6AD251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5A3-C027-426F-8E94-5827CCF3ECD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BB7-CDBF-4903-9D73-BC533BF2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222-56BD-4CB0-91B4-5C8887D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30A-2952-4840-A2F9-A0CAFF61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B52-181A-48D8-A843-94B0F7B1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8F9-6D98-493E-BFF1-7D5B33B6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861-0534-4857-8E8D-229613A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ECB-5EAF-4686-8606-039AACCB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B88-ECB3-404B-A704-8D9609F7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739-C753-48D8-9F6C-2F399F9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09B-55A5-41DA-884A-637617FA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65E-ADE2-46E5-86E5-9CFB28C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4BA-D24A-4114-A74F-C7DDFDA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8615-0371-4CAF-97F3-BEA69A682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150920" y="2664000"/>
            <a:ext cx="68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1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不等关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41280" y="5032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278000" y="158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定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0" y="2303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用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≤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的式子叫做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6"/>
          <p:cNvSpPr/>
          <p:nvPr/>
        </p:nvSpPr>
        <p:spPr>
          <a:xfrm>
            <a:off x="1150920" y="32400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34960" y="919080"/>
            <a:ext cx="74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适当的符号表示下列关系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小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非负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上海洋的面积大于陆地面积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师的年龄不超过你的年龄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7"/>
          <p:cNvSpPr/>
          <p:nvPr/>
        </p:nvSpPr>
        <p:spPr>
          <a:xfrm>
            <a:off x="459360" y="3564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5"/>
          <p:cNvGraphicFramePr/>
          <p:nvPr/>
        </p:nvGraphicFramePr>
        <p:xfrm>
          <a:off x="1015920" y="3608280"/>
          <a:ext cx="23227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3608280"/>
                    <a:ext cx="2322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6"/>
          <p:cNvGraphicFramePr/>
          <p:nvPr/>
        </p:nvGraphicFramePr>
        <p:xfrm>
          <a:off x="4032360" y="3519360"/>
          <a:ext cx="1658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360" y="3519360"/>
                    <a:ext cx="165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7"/>
          <p:cNvGraphicFramePr/>
          <p:nvPr/>
        </p:nvGraphicFramePr>
        <p:xfrm>
          <a:off x="1015920" y="4149720"/>
          <a:ext cx="60771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920" y="4149720"/>
                    <a:ext cx="6077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8"/>
          <p:cNvGraphicFramePr/>
          <p:nvPr/>
        </p:nvGraphicFramePr>
        <p:xfrm>
          <a:off x="1670040" y="4778280"/>
          <a:ext cx="182232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8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0040" y="4778280"/>
                    <a:ext cx="1822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9"/>
          <p:cNvGraphicFramePr/>
          <p:nvPr/>
        </p:nvGraphicFramePr>
        <p:xfrm>
          <a:off x="998640" y="5319720"/>
          <a:ext cx="645300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Object 8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8640" y="5319720"/>
                    <a:ext cx="6453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0"/>
          <p:cNvGraphicFramePr/>
          <p:nvPr/>
        </p:nvGraphicFramePr>
        <p:xfrm>
          <a:off x="1646280" y="5853240"/>
          <a:ext cx="1576440" cy="55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Object 9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6280" y="5853240"/>
                    <a:ext cx="1576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62000" y="1673280"/>
            <a:ext cx="875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适当的符号表示下列不等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非负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角三角形斜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它的两直角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长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比它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97000" y="728640"/>
            <a:ext cx="27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6280" y="1898640"/>
            <a:ext cx="880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任取两个数就组成一组数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出其中两数之和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所有数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36640" y="86364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41280" y="54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06280" y="1268280"/>
            <a:ext cx="940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你设计不同的实际背景来表示下列不等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                               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78"/>
              <p:cNvSpPr txBox="1"/>
              <p:nvPr/>
            </p:nvSpPr>
            <p:spPr>
              <a:xfrm>
                <a:off x="4797360" y="2281320"/>
                <a:ext cx="1935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9"/>
              <p:cNvSpPr txBox="1"/>
              <p:nvPr/>
            </p:nvSpPr>
            <p:spPr>
              <a:xfrm>
                <a:off x="949320" y="2227320"/>
                <a:ext cx="18669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0920" y="45864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021760" y="126828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≤”的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06280" y="1943280"/>
            <a:ext cx="89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“≥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低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62000" y="252900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负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250920" y="3338640"/>
            <a:ext cx="89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“≤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高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006640" y="3924360"/>
            <a:ext cx="70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正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181160" y="396720"/>
            <a:ext cx="29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22320" y="958680"/>
            <a:ext cx="89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、乙两种原料配制成某种饮料，已知这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原料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及购买这两种原料的价格如下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5920" y="2619360"/>
          <a:ext cx="8821800" cy="1982880"/>
        </p:xfrm>
        <a:graphic>
          <a:graphicData uri="http://schemas.openxmlformats.org/drawingml/2006/table">
            <a:tbl>
              <a:tblPr/>
              <a:tblGrid>
                <a:gridCol w="3779640"/>
                <a:gridCol w="2565720"/>
                <a:gridCol w="247644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生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料价格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84"/>
          <p:cNvSpPr/>
          <p:nvPr/>
        </p:nvSpPr>
        <p:spPr>
          <a:xfrm>
            <a:off x="42840" y="4689360"/>
            <a:ext cx="902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配制这种饮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，要求至少含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试写出所需甲种原料的质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的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5"/>
          <p:cNvSpPr/>
          <p:nvPr/>
        </p:nvSpPr>
        <p:spPr>
          <a:xfrm>
            <a:off x="2764800" y="270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6"/>
          <p:cNvSpPr/>
          <p:nvPr/>
        </p:nvSpPr>
        <p:spPr>
          <a:xfrm>
            <a:off x="549000" y="3052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及价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4480" y="958680"/>
            <a:ext cx="89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、乙两种原料配制成某种饮料，已知这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原料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及购买这两种原料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下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97000" y="36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5920" y="2617920"/>
          <a:ext cx="8821800" cy="1982520"/>
        </p:xfrm>
        <a:graphic>
          <a:graphicData uri="http://schemas.openxmlformats.org/drawingml/2006/table">
            <a:tbl>
              <a:tblPr/>
              <a:tblGrid>
                <a:gridCol w="3779640"/>
                <a:gridCol w="2565720"/>
                <a:gridCol w="247644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生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料价格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92"/>
          <p:cNvSpPr/>
          <p:nvPr/>
        </p:nvSpPr>
        <p:spPr>
          <a:xfrm>
            <a:off x="114480" y="4708440"/>
            <a:ext cx="92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条件下，如果还要求购买甲、乙两种原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费用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那么你能写出所需甲种原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质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的另一个不等式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3"/>
          <p:cNvSpPr/>
          <p:nvPr/>
        </p:nvSpPr>
        <p:spPr>
          <a:xfrm>
            <a:off x="2764800" y="270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4"/>
          <p:cNvSpPr/>
          <p:nvPr/>
        </p:nvSpPr>
        <p:spPr>
          <a:xfrm>
            <a:off x="549000" y="305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及价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9160" y="965160"/>
            <a:ext cx="902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通过桥洞时，我们往往会看到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标志，这是限制车高的标志。你知道通过该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洞的车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m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范围吗？在通过桥面时，我们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会看到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的标志，这是限制车重的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志。你知道通过该桥面的车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范围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241280" y="3682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8"/>
          <p:cNvGrpSpPr/>
          <p:nvPr/>
        </p:nvGrpSpPr>
        <p:grpSpPr>
          <a:xfrm>
            <a:off x="3402000" y="3659040"/>
            <a:ext cx="5132520" cy="2697480"/>
            <a:chOff x="3402000" y="3659040"/>
            <a:chExt cx="5132520" cy="2697480"/>
          </a:xfrm>
        </p:grpSpPr>
        <p:grpSp>
          <p:nvGrpSpPr>
            <p:cNvPr id="175" name="Group 10"/>
            <p:cNvGrpSpPr/>
            <p:nvPr/>
          </p:nvGrpSpPr>
          <p:grpSpPr>
            <a:xfrm>
              <a:off x="3402000" y="3659040"/>
              <a:ext cx="2160720" cy="2697480"/>
              <a:chOff x="3402000" y="3659040"/>
              <a:chExt cx="2160720" cy="2697480"/>
            </a:xfrm>
          </p:grpSpPr>
          <p:grpSp>
            <p:nvGrpSpPr>
              <p:cNvPr id="176" name="Group 9"/>
              <p:cNvGrpSpPr/>
              <p:nvPr/>
            </p:nvGrpSpPr>
            <p:grpSpPr>
              <a:xfrm>
                <a:off x="3402000" y="3659040"/>
                <a:ext cx="2160720" cy="2160360"/>
                <a:chOff x="3402000" y="3659040"/>
                <a:chExt cx="2160720" cy="2160360"/>
              </a:xfrm>
            </p:grpSpPr>
            <p:sp>
              <p:nvSpPr>
                <p:cNvPr id="177" name="Oval 6"/>
                <p:cNvSpPr/>
                <p:nvPr/>
              </p:nvSpPr>
              <p:spPr>
                <a:xfrm>
                  <a:off x="3402000" y="3659040"/>
                  <a:ext cx="2160720" cy="2160360"/>
                </a:xfrm>
                <a:prstGeom prst="ellipse">
                  <a:avLst/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7"/>
                <p:cNvSpPr/>
                <p:nvPr/>
              </p:nvSpPr>
              <p:spPr>
                <a:xfrm>
                  <a:off x="3695760" y="3952440"/>
                  <a:ext cx="1574640" cy="1575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Rectangle 8"/>
              <p:cNvSpPr/>
              <p:nvPr/>
            </p:nvSpPr>
            <p:spPr>
              <a:xfrm>
                <a:off x="4154760" y="5775120"/>
                <a:ext cx="65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1"/>
            <p:cNvGrpSpPr/>
            <p:nvPr/>
          </p:nvGrpSpPr>
          <p:grpSpPr>
            <a:xfrm>
              <a:off x="6373800" y="3659040"/>
              <a:ext cx="2160720" cy="2697480"/>
              <a:chOff x="6373800" y="3659040"/>
              <a:chExt cx="2160720" cy="2697480"/>
            </a:xfrm>
          </p:grpSpPr>
          <p:grpSp>
            <p:nvGrpSpPr>
              <p:cNvPr id="181" name="Group 12"/>
              <p:cNvGrpSpPr/>
              <p:nvPr/>
            </p:nvGrpSpPr>
            <p:grpSpPr>
              <a:xfrm>
                <a:off x="6373800" y="3659040"/>
                <a:ext cx="2160720" cy="2160360"/>
                <a:chOff x="6373800" y="3659040"/>
                <a:chExt cx="2160720" cy="2160360"/>
              </a:xfrm>
            </p:grpSpPr>
            <p:sp>
              <p:nvSpPr>
                <p:cNvPr id="182" name="Oval 13"/>
                <p:cNvSpPr/>
                <p:nvPr/>
              </p:nvSpPr>
              <p:spPr>
                <a:xfrm>
                  <a:off x="6373800" y="3659040"/>
                  <a:ext cx="2160720" cy="2160360"/>
                </a:xfrm>
                <a:prstGeom prst="ellipse">
                  <a:avLst/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Oval 14"/>
                <p:cNvSpPr/>
                <p:nvPr/>
              </p:nvSpPr>
              <p:spPr>
                <a:xfrm>
                  <a:off x="6667560" y="3952440"/>
                  <a:ext cx="1574640" cy="1575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Rectangle 15"/>
              <p:cNvSpPr/>
              <p:nvPr/>
            </p:nvSpPr>
            <p:spPr>
              <a:xfrm>
                <a:off x="7126560" y="5775120"/>
                <a:ext cx="65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Rectangle 16"/>
            <p:cNvSpPr/>
            <p:nvPr/>
          </p:nvSpPr>
          <p:spPr>
            <a:xfrm>
              <a:off x="7093440" y="4467240"/>
              <a:ext cx="7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t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4123800" y="446724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41280" y="41436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堂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7"/>
          <p:cNvSpPr/>
          <p:nvPr/>
        </p:nvSpPr>
        <p:spPr>
          <a:xfrm>
            <a:off x="1895040" y="1089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等式的定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8"/>
          <p:cNvSpPr/>
          <p:nvPr/>
        </p:nvSpPr>
        <p:spPr>
          <a:xfrm>
            <a:off x="115920" y="173196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用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≤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的式子叫做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058040" y="2979720"/>
            <a:ext cx="28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≥、≤”的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611280" y="3699000"/>
            <a:ext cx="71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“≥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低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1"/>
          <p:cNvSpPr/>
          <p:nvPr/>
        </p:nvSpPr>
        <p:spPr>
          <a:xfrm>
            <a:off x="2097000" y="4284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负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2"/>
          <p:cNvSpPr/>
          <p:nvPr/>
        </p:nvSpPr>
        <p:spPr>
          <a:xfrm>
            <a:off x="566640" y="4959360"/>
            <a:ext cx="69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“≤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高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3"/>
          <p:cNvSpPr/>
          <p:nvPr/>
        </p:nvSpPr>
        <p:spPr>
          <a:xfrm>
            <a:off x="2050920" y="5724360"/>
            <a:ext cx="43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正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4080" y="1371600"/>
            <a:ext cx="89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上海洋的面积大于陆地的面积，铅球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量比篮球的质量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6"/>
          <p:cNvSpPr/>
          <p:nvPr/>
        </p:nvSpPr>
        <p:spPr>
          <a:xfrm>
            <a:off x="1197000" y="50328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景引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5"/>
              <p:cNvSpPr txBox="1"/>
              <p:nvPr/>
            </p:nvSpPr>
            <p:spPr>
              <a:xfrm>
                <a:off x="1062000" y="2733840"/>
                <a:ext cx="2024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Text Box 46"/>
          <p:cNvSpPr/>
          <p:nvPr/>
        </p:nvSpPr>
        <p:spPr>
          <a:xfrm>
            <a:off x="115920" y="4260960"/>
            <a:ext cx="89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相等关系可以解决许多问题，利用不等关系同样可以解决许多问题。在我们的生活中，不等关系更为普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7000" y="110160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7"/>
          <p:cNvSpPr/>
          <p:nvPr/>
        </p:nvSpPr>
        <p:spPr>
          <a:xfrm>
            <a:off x="1197000" y="36828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3"/>
          <p:cNvSpPr/>
          <p:nvPr/>
        </p:nvSpPr>
        <p:spPr>
          <a:xfrm>
            <a:off x="1987560" y="216864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4"/>
          <p:cNvSpPr/>
          <p:nvPr/>
        </p:nvSpPr>
        <p:spPr>
          <a:xfrm>
            <a:off x="4867200" y="1808280"/>
            <a:ext cx="2025720" cy="2025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73080" y="3878280"/>
            <a:ext cx="94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正方形的面积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绳子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怎样的关系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6"/>
          <p:cNvGraphicFramePr/>
          <p:nvPr/>
        </p:nvGraphicFramePr>
        <p:xfrm>
          <a:off x="1623960" y="4959360"/>
          <a:ext cx="172584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4959360"/>
                    <a:ext cx="172584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7"/>
          <p:cNvGraphicFramePr/>
          <p:nvPr/>
        </p:nvGraphicFramePr>
        <p:xfrm>
          <a:off x="2575080" y="2468520"/>
          <a:ext cx="5317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5080" y="2468520"/>
                    <a:ext cx="531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AutoShape 58"/>
          <p:cNvSpPr/>
          <p:nvPr/>
        </p:nvSpPr>
        <p:spPr>
          <a:xfrm>
            <a:off x="3560760" y="5410080"/>
            <a:ext cx="1550880" cy="316080"/>
          </a:xfrm>
          <a:prstGeom prst="rightArrow">
            <a:avLst>
              <a:gd name="adj1" fmla="val 50000"/>
              <a:gd name="adj2" fmla="val 149538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9"/>
          <p:cNvGraphicFramePr/>
          <p:nvPr/>
        </p:nvGraphicFramePr>
        <p:xfrm>
          <a:off x="5337000" y="4979880"/>
          <a:ext cx="132732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7000" y="4979880"/>
                    <a:ext cx="13273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3080" y="998640"/>
            <a:ext cx="89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85920" y="36828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962000" y="2025720"/>
            <a:ext cx="171000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751280" y="1763640"/>
            <a:ext cx="202572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3480" y="3789360"/>
            <a:ext cx="91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要使圆的面积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绳子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怎样的关系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7"/>
          <p:cNvGraphicFramePr/>
          <p:nvPr/>
        </p:nvGraphicFramePr>
        <p:xfrm>
          <a:off x="1432080" y="4869000"/>
          <a:ext cx="2457360" cy="122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4869000"/>
                    <a:ext cx="245736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5427720" y="221472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AutoShape 10"/>
          <p:cNvSpPr/>
          <p:nvPr/>
        </p:nvSpPr>
        <p:spPr>
          <a:xfrm>
            <a:off x="4013280" y="5362560"/>
            <a:ext cx="1890720" cy="316080"/>
          </a:xfrm>
          <a:prstGeom prst="rightArrow">
            <a:avLst>
              <a:gd name="adj1" fmla="val 50000"/>
              <a:gd name="adj2" fmla="val 149544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11"/>
          <p:cNvGraphicFramePr/>
          <p:nvPr/>
        </p:nvGraphicFramePr>
        <p:xfrm>
          <a:off x="6039000" y="4906800"/>
          <a:ext cx="1593720" cy="10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9000" y="4906800"/>
                    <a:ext cx="1593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575080" y="225900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7000" y="101268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41280" y="368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987560" y="216864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842000" y="1989000"/>
            <a:ext cx="202536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3080" y="3968640"/>
            <a:ext cx="9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正方形和圆的面积哪个大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942840" y="4464000"/>
                <a:ext cx="2189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1962000" y="5743440"/>
                <a:ext cx="630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3699000" y="4419720"/>
                <a:ext cx="2222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4211640" y="5724360"/>
                <a:ext cx="895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13"/>
          <p:cNvGraphicFramePr/>
          <p:nvPr/>
        </p:nvGraphicFramePr>
        <p:xfrm>
          <a:off x="6192720" y="5229360"/>
          <a:ext cx="26575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720" y="5229360"/>
                    <a:ext cx="26575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5538960" y="237816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2575080" y="2513160"/>
                <a:ext cx="5317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7000" y="90792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85920" y="324000"/>
            <a:ext cx="26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987560" y="194328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797360" y="1673280"/>
            <a:ext cx="202572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3440" y="3743280"/>
            <a:ext cx="76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正方形和圆的面积哪个大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927000" y="4464000"/>
                <a:ext cx="23558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1916280" y="5859360"/>
                <a:ext cx="630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3672000" y="4373640"/>
                <a:ext cx="2222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4167360" y="5678640"/>
                <a:ext cx="1095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6237360" y="5273640"/>
                <a:ext cx="2658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5427720" y="216864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2575080" y="225900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7000" y="96696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41280" y="324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7560" y="212400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842000" y="1989000"/>
            <a:ext cx="1890720" cy="1844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80" y="3924360"/>
            <a:ext cx="87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得到什么猜想？改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取值再试一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3492360" y="4689360"/>
          <a:ext cx="14623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689360"/>
                    <a:ext cx="14623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538960" y="2279520"/>
                <a:ext cx="663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2575080" y="236844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1042920"/>
            <a:ext cx="940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通过测量一棵树的树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干的周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算它的树龄。通常以树干离地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地方作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量部位。某棵树栽种时的树围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以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内每年约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棵树至少生长多少年其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围才能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列关系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8x004"/>
          <p:cNvPicPr/>
          <p:nvPr/>
        </p:nvPicPr>
        <p:blipFill>
          <a:blip r:embed="rId1"/>
          <a:srcRect l="46765" t="37660" r="16476" b="40761"/>
          <a:stretch/>
        </p:blipFill>
        <p:spPr>
          <a:xfrm>
            <a:off x="4886280" y="3203640"/>
            <a:ext cx="3870360" cy="318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832320" y="3743280"/>
            <a:ext cx="335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这棵树至少生长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围才能超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 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1082520" y="4915080"/>
          <a:ext cx="248292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2520" y="4915080"/>
                    <a:ext cx="248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2"/>
          <p:cNvSpPr/>
          <p:nvPr/>
        </p:nvSpPr>
        <p:spPr>
          <a:xfrm>
            <a:off x="1150920" y="368280"/>
            <a:ext cx="23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81160" y="41436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04840" y="1108080"/>
            <a:ext cx="73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观察下列关系式，你有什么发现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481640" y="3564000"/>
          <a:ext cx="21128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3564000"/>
                    <a:ext cx="2112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1781280" y="1763640"/>
          <a:ext cx="17254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1763640"/>
                    <a:ext cx="17254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4381560" y="1719360"/>
          <a:ext cx="2457360" cy="12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560" y="1719360"/>
                    <a:ext cx="245736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0"/>
          <p:cNvSpPr/>
          <p:nvPr/>
        </p:nvSpPr>
        <p:spPr>
          <a:xfrm>
            <a:off x="2411280" y="4778280"/>
            <a:ext cx="40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由不等号连接而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1781280" y="3159000"/>
          <a:ext cx="146196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1280" y="3159000"/>
                    <a:ext cx="1461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6:15:19Z</dcterms:created>
  <dc:creator/>
  <dc:description/>
  <dc:language>en-US</dc:language>
  <cp:lastModifiedBy/>
  <dcterms:modified xsi:type="dcterms:W3CDTF">2014-03-04T06:15:26Z</dcterms:modified>
  <cp:revision>1</cp:revision>
  <dc:subject/>
  <dc:title/>
</cp:coreProperties>
</file>