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F67-C9AF-4B6F-988E-9F37BD36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70B-D3CB-4553-A91A-488028C4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403-0EE4-459D-996F-BFFBF203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041-CD72-4D94-8A33-93073898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0C8-F954-42A1-8778-CA9107DE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77F-A042-47BA-9935-24DB800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745-01DB-4661-BB45-64E98408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835-90AF-46F5-AB9E-0EB022D2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30A-5ED3-4A09-AF50-7F019789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60D-3467-41FB-9800-8AA0D4A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A99-9F71-4928-9352-EF25398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612-56A3-47C8-946A-F023F76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12F2-467D-4A6B-AC71-360C8CEC42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106640" y="2798640"/>
            <a:ext cx="73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2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不等式的基本性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3160" y="1898640"/>
            <a:ext cx="66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用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06640" y="90792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7"/>
              <p:cNvSpPr txBox="1"/>
              <p:nvPr/>
            </p:nvSpPr>
            <p:spPr>
              <a:xfrm>
                <a:off x="615960" y="2676600"/>
                <a:ext cx="3059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08"/>
              <p:cNvSpPr txBox="1"/>
              <p:nvPr/>
            </p:nvSpPr>
            <p:spPr>
              <a:xfrm>
                <a:off x="4889520" y="2676600"/>
                <a:ext cx="2525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6</m:t>
                          </m:r>
                          <m:r>
                            <m:t xml:space="preserve">a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b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9"/>
              <p:cNvSpPr txBox="1"/>
              <p:nvPr/>
            </p:nvSpPr>
            <p:spPr>
              <a:xfrm>
                <a:off x="662040" y="3935520"/>
                <a:ext cx="2725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0"/>
              <p:cNvSpPr txBox="1"/>
              <p:nvPr/>
            </p:nvSpPr>
            <p:spPr>
              <a:xfrm>
                <a:off x="4883040" y="3935520"/>
                <a:ext cx="26593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9840" y="1415880"/>
            <a:ext cx="67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比较下列各式的大小：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301680" y="2265480"/>
                <a:ext cx="31528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4138560" y="2265480"/>
                <a:ext cx="32180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n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301680" y="3162240"/>
                <a:ext cx="30528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4138560" y="3346560"/>
                <a:ext cx="3251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301680" y="4741920"/>
                <a:ext cx="2687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0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4138560" y="4557600"/>
                <a:ext cx="4479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9" name="Text Box 10"/>
          <p:cNvSpPr/>
          <p:nvPr/>
        </p:nvSpPr>
        <p:spPr>
          <a:xfrm>
            <a:off x="1285920" y="63828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06640" y="63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作交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409760"/>
            <a:ext cx="94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不等式的基本性质解释               的正确性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5427720" y="1089000"/>
                <a:ext cx="146196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2"/>
          <p:cNvGraphicFramePr/>
          <p:nvPr/>
        </p:nvGraphicFramePr>
        <p:xfrm>
          <a:off x="1241280" y="2259000"/>
          <a:ext cx="166212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2259000"/>
                    <a:ext cx="16621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3"/>
          <p:cNvGraphicFramePr/>
          <p:nvPr/>
        </p:nvGraphicFramePr>
        <p:xfrm>
          <a:off x="1197000" y="2843280"/>
          <a:ext cx="179532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7000" y="2843280"/>
                    <a:ext cx="17953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4"/>
          <p:cNvSpPr/>
          <p:nvPr/>
        </p:nvSpPr>
        <p:spPr>
          <a:xfrm>
            <a:off x="446040" y="3975120"/>
            <a:ext cx="77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根据不等式基本性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两边都乘以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15"/>
          <p:cNvGraphicFramePr/>
          <p:nvPr/>
        </p:nvGraphicFramePr>
        <p:xfrm>
          <a:off x="1487520" y="4734000"/>
          <a:ext cx="146376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87520" y="4734000"/>
                    <a:ext cx="14637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41280" y="221472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下列不等式一定成立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01640" y="131436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8"/>
              <p:cNvSpPr txBox="1"/>
              <p:nvPr/>
            </p:nvSpPr>
            <p:spPr>
              <a:xfrm>
                <a:off x="654120" y="3000240"/>
                <a:ext cx="27925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&lt;</m:t>
                          </m:r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9"/>
              <p:cNvSpPr txBox="1"/>
              <p:nvPr/>
            </p:nvSpPr>
            <p:spPr>
              <a:xfrm>
                <a:off x="4638600" y="2979720"/>
                <a:ext cx="2160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3</m:t>
                          </m:r>
                          <m:r>
                            <m:t xml:space="preserve">y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0"/>
              <p:cNvSpPr txBox="1"/>
              <p:nvPr/>
            </p:nvSpPr>
            <p:spPr>
              <a:xfrm>
                <a:off x="617400" y="4240080"/>
                <a:ext cx="2694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1"/>
              <p:cNvSpPr txBox="1"/>
              <p:nvPr/>
            </p:nvSpPr>
            <p:spPr>
              <a:xfrm>
                <a:off x="4665600" y="4284720"/>
                <a:ext cx="31924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6"/>
          <p:cNvSpPr/>
          <p:nvPr/>
        </p:nvSpPr>
        <p:spPr>
          <a:xfrm>
            <a:off x="1197000" y="45864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范例讲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2"/>
          <p:cNvSpPr/>
          <p:nvPr/>
        </p:nvSpPr>
        <p:spPr>
          <a:xfrm>
            <a:off x="19080" y="1228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将下列不等式化成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形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362520" y="2579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91"/>
              <p:cNvSpPr txBox="1"/>
              <p:nvPr/>
            </p:nvSpPr>
            <p:spPr>
              <a:xfrm>
                <a:off x="927000" y="1854360"/>
                <a:ext cx="24256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2"/>
              <p:cNvSpPr txBox="1"/>
              <p:nvPr/>
            </p:nvSpPr>
            <p:spPr>
              <a:xfrm>
                <a:off x="4122720" y="1830240"/>
                <a:ext cx="22604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1" name="Text Box 93"/>
          <p:cNvSpPr/>
          <p:nvPr/>
        </p:nvSpPr>
        <p:spPr>
          <a:xfrm>
            <a:off x="1932120" y="2535120"/>
            <a:ext cx="52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根据不等式性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两边都加上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94"/>
          <p:cNvGraphicFramePr/>
          <p:nvPr/>
        </p:nvGraphicFramePr>
        <p:xfrm>
          <a:off x="2006640" y="3144960"/>
          <a:ext cx="272412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3144960"/>
                    <a:ext cx="272412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95"/>
          <p:cNvSpPr/>
          <p:nvPr/>
        </p:nvSpPr>
        <p:spPr>
          <a:xfrm>
            <a:off x="2585880" y="36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96"/>
          <p:cNvGraphicFramePr/>
          <p:nvPr/>
        </p:nvGraphicFramePr>
        <p:xfrm>
          <a:off x="3117960" y="3639960"/>
          <a:ext cx="93024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7960" y="3639960"/>
                    <a:ext cx="9302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97"/>
          <p:cNvSpPr/>
          <p:nvPr/>
        </p:nvSpPr>
        <p:spPr>
          <a:xfrm>
            <a:off x="1958760" y="4199040"/>
            <a:ext cx="54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根据不等式性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两边都除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98"/>
          <p:cNvGraphicFramePr/>
          <p:nvPr/>
        </p:nvGraphicFramePr>
        <p:xfrm>
          <a:off x="2521080" y="4651200"/>
          <a:ext cx="1693800" cy="102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1080" y="4651200"/>
                    <a:ext cx="1693800" cy="10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9"/>
          <p:cNvSpPr/>
          <p:nvPr/>
        </p:nvSpPr>
        <p:spPr>
          <a:xfrm>
            <a:off x="2406240" y="5904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00"/>
          <p:cNvGraphicFramePr/>
          <p:nvPr/>
        </p:nvGraphicFramePr>
        <p:xfrm>
          <a:off x="2862360" y="5589720"/>
          <a:ext cx="1263600" cy="102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Object 10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5589720"/>
                    <a:ext cx="12636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06280" y="2033640"/>
            <a:ext cx="87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将下列不等式化成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形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50920" y="998640"/>
            <a:ext cx="26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836640" y="2843280"/>
                <a:ext cx="2160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&gt;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3807000" y="2708280"/>
                <a:ext cx="21603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880920" y="3743280"/>
                <a:ext cx="2027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4160" y="1363680"/>
            <a:ext cx="86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将下列不等式化成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形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106640" y="577800"/>
            <a:ext cx="23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0"/>
              <p:cNvSpPr txBox="1"/>
              <p:nvPr/>
            </p:nvSpPr>
            <p:spPr>
              <a:xfrm>
                <a:off x="1197000" y="2128680"/>
                <a:ext cx="2394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&lt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1"/>
              <p:cNvSpPr txBox="1"/>
              <p:nvPr/>
            </p:nvSpPr>
            <p:spPr>
              <a:xfrm>
                <a:off x="4257720" y="2219400"/>
                <a:ext cx="2160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2"/>
              <p:cNvSpPr txBox="1"/>
              <p:nvPr/>
            </p:nvSpPr>
            <p:spPr>
              <a:xfrm>
                <a:off x="1197000" y="2984400"/>
                <a:ext cx="209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&gt;</m:t>
                          </m:r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3"/>
              <p:cNvSpPr txBox="1"/>
              <p:nvPr/>
            </p:nvSpPr>
            <p:spPr>
              <a:xfrm>
                <a:off x="4309920" y="3254400"/>
                <a:ext cx="2692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106640" y="66672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范例讲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2"/>
          <p:cNvSpPr/>
          <p:nvPr/>
        </p:nvSpPr>
        <p:spPr>
          <a:xfrm>
            <a:off x="114480" y="1457280"/>
            <a:ext cx="85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同桌的甲、乙两名同学，争论着一个问题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同学说：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乙同学说：“这不可能。”请你评说一下两名同学的观点究竟哪个正确？为什么？举例说明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6640" y="1673280"/>
            <a:ext cx="51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比较下列各式的大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2000" y="684360"/>
            <a:ext cx="29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173240" y="2398680"/>
                <a:ext cx="2260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a与a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4257720" y="2484360"/>
                <a:ext cx="229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2</m:t>
                          </m:r>
                          <m:r>
                            <m:t xml:space="preserve">与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1150920" y="3429000"/>
                <a:ext cx="1897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a与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97000" y="728640"/>
            <a:ext cx="27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堂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24"/>
          <p:cNvSpPr/>
          <p:nvPr/>
        </p:nvSpPr>
        <p:spPr>
          <a:xfrm>
            <a:off x="1486440" y="1494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等式的基本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25"/>
          <p:cNvSpPr/>
          <p:nvPr/>
        </p:nvSpPr>
        <p:spPr>
          <a:xfrm>
            <a:off x="162000" y="207972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加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减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整式，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号的方向不变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6"/>
          <p:cNvSpPr/>
          <p:nvPr/>
        </p:nvSpPr>
        <p:spPr>
          <a:xfrm>
            <a:off x="162000" y="331632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乘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除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正数，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号的方向不变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7"/>
          <p:cNvSpPr/>
          <p:nvPr/>
        </p:nvSpPr>
        <p:spPr>
          <a:xfrm>
            <a:off x="162000" y="455436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乘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除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负数，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号的方向改变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54080" y="1179360"/>
            <a:ext cx="89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1241280" y="50328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情景引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5"/>
              <p:cNvSpPr txBox="1"/>
              <p:nvPr/>
            </p:nvSpPr>
            <p:spPr>
              <a:xfrm>
                <a:off x="276120" y="1854360"/>
                <a:ext cx="3086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47"/>
              <p:cNvSpPr txBox="1"/>
              <p:nvPr/>
            </p:nvSpPr>
            <p:spPr>
              <a:xfrm>
                <a:off x="4764240" y="1809720"/>
                <a:ext cx="3152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6" name="Text Box 48"/>
          <p:cNvSpPr/>
          <p:nvPr/>
        </p:nvSpPr>
        <p:spPr>
          <a:xfrm>
            <a:off x="154080" y="2676600"/>
            <a:ext cx="89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等式基本性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等式的两边都加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减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数或整式，所得的结果仍是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9"/>
              <p:cNvSpPr txBox="1"/>
              <p:nvPr/>
            </p:nvSpPr>
            <p:spPr>
              <a:xfrm>
                <a:off x="297000" y="3843360"/>
                <a:ext cx="3052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×</m:t>
                          </m:r>
                          <m:r>
                            <m:t xml:space="preserve">c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b</m:t>
                          </m:r>
                          <m:r>
                            <m:t xml:space="preserve">×</m:t>
                          </m:r>
                          <m:r>
                            <m:t xml:space="preserve">c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0"/>
              <p:cNvSpPr txBox="1"/>
              <p:nvPr/>
            </p:nvSpPr>
            <p:spPr>
              <a:xfrm>
                <a:off x="4707000" y="3699000"/>
                <a:ext cx="2357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49" name="Object 52"/>
          <p:cNvGraphicFramePr/>
          <p:nvPr/>
        </p:nvGraphicFramePr>
        <p:xfrm>
          <a:off x="7093080" y="3968640"/>
          <a:ext cx="11635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968640"/>
                    <a:ext cx="11635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3"/>
          <p:cNvSpPr/>
          <p:nvPr/>
        </p:nvSpPr>
        <p:spPr>
          <a:xfrm>
            <a:off x="154080" y="4824360"/>
            <a:ext cx="87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等式基本性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等式的两边都乘以或除以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除数不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得的结果仍是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7000" y="140328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&lt;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7"/>
          <p:cNvSpPr/>
          <p:nvPr/>
        </p:nvSpPr>
        <p:spPr>
          <a:xfrm>
            <a:off x="1285920" y="59364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8"/>
              <p:cNvSpPr txBox="1"/>
              <p:nvPr/>
            </p:nvSpPr>
            <p:spPr>
              <a:xfrm>
                <a:off x="260280" y="2306520"/>
                <a:ext cx="3119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9"/>
              <p:cNvSpPr txBox="1"/>
              <p:nvPr/>
            </p:nvSpPr>
            <p:spPr>
              <a:xfrm>
                <a:off x="4748040" y="2262240"/>
                <a:ext cx="31845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0"/>
              <p:cNvSpPr txBox="1"/>
              <p:nvPr/>
            </p:nvSpPr>
            <p:spPr>
              <a:xfrm>
                <a:off x="217440" y="3387600"/>
                <a:ext cx="3186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1"/>
              <p:cNvSpPr txBox="1"/>
              <p:nvPr/>
            </p:nvSpPr>
            <p:spPr>
              <a:xfrm>
                <a:off x="4738680" y="3343320"/>
                <a:ext cx="31845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8" name="Text Box 62"/>
          <p:cNvSpPr/>
          <p:nvPr/>
        </p:nvSpPr>
        <p:spPr>
          <a:xfrm>
            <a:off x="1687680" y="4514760"/>
            <a:ext cx="56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比“等式基本性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你有什么想法？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97000" y="63828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归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6440" y="2079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等式的基本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2000" y="2933640"/>
            <a:ext cx="880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加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减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整式，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号的方向不变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06280" y="144936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&lt;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97000" y="59364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264960" y="2397240"/>
                <a:ext cx="3052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722840" y="2170080"/>
                <a:ext cx="2355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237960" y="3606840"/>
                <a:ext cx="3086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722840" y="3379680"/>
                <a:ext cx="2320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</m:den>
                          </m:f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8" name="Text Box 8"/>
          <p:cNvSpPr/>
          <p:nvPr/>
        </p:nvSpPr>
        <p:spPr>
          <a:xfrm>
            <a:off x="1505160" y="4643280"/>
            <a:ext cx="56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对比“等式基本性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”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你有什么想法？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41280" y="503280"/>
            <a:ext cx="26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归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397520" y="135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等式的基本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50920" y="198900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加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减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整式，不等号的方向不变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0920" y="33847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乘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除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正数，不等号的方向不变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97000" y="131436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&lt;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332000" y="549360"/>
            <a:ext cx="26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254160" y="2178000"/>
                <a:ext cx="4047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4680000" y="1951200"/>
                <a:ext cx="2952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;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258840" y="3205080"/>
                <a:ext cx="43131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bar>
                            <m:barPr>
                              <m:pos m:val="bot"/>
                            </m:bar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bar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8" name="Text Box 8"/>
          <p:cNvSpPr/>
          <p:nvPr/>
        </p:nvSpPr>
        <p:spPr>
          <a:xfrm>
            <a:off x="1548000" y="4514760"/>
            <a:ext cx="56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对比“等式基本性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”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你有什么想法？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41280" y="5032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归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486440" y="135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等式的基本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62000" y="209232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加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减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整式，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号的方向不变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162000" y="332892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乘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除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正数，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号的方向不变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62000" y="456732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的两边都乘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除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一个负数，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号的方向改变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97000" y="86364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作交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06280" y="1808280"/>
            <a:ext cx="875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举例说明不等式的基本性质和等式的基本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式的区别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6:38:31Z</dcterms:created>
  <dc:creator/>
  <dc:description/>
  <dc:language>en-US</dc:language>
  <cp:lastModifiedBy>User</cp:lastModifiedBy>
  <dcterms:modified xsi:type="dcterms:W3CDTF">2015-03-19T06:10:16Z</dcterms:modified>
  <cp:revision>1100</cp:revision>
  <dc:subject/>
  <dc:title>幻灯片 1</dc:title>
</cp:coreProperties>
</file>