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chimes.wav" ContentType="audio/x-wav"/>
  <Override PartName="/ppt/media/image7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E37F-3EE7-4847-A754-5669D6FCB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E2A7-9949-42B9-8B5C-15FDC71B6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2CDB-A146-41C9-B6C3-EFAA3BB80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6462-7BFA-49C5-ACA8-4DA36FDFA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38FD-8679-415D-BEF3-44157CF1E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D825-A47A-4CD9-BA32-458BDB83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DA6D-DFBC-42D6-A0BA-4F14A3D30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5032-2293-47EC-A6CD-3699F9C6B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F0B4-20B7-40A7-A759-545CD87B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7EC0-D3D2-429E-ACF9-EF6336737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E318-4EBB-4A05-818B-72369411D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B964-91D6-47EE-8FFA-D3EBD7BBE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782D-6745-4C49-A4CB-24523F535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9C3-5BE4-4B8E-819C-FD305DD9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9BE-644A-47F7-8F3F-A602A0AB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55B0C-4A4E-4684-8EF3-86CF7ABF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37DB9-E312-469E-A2A8-22038819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C7AFE-9580-46DE-9213-C2DDF818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941C5-97CE-429C-90DC-681307F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A97A6-D7D0-419F-AD7C-37AEC259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61C9A-4E2C-4058-91C7-F9A0CA3B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D2F30-A202-4FDB-9D79-979A9EFD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E97B0-8322-4632-8B96-E4089C91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26432-0FBB-470B-BAF8-763D4B27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A8EB8-8978-44E8-8990-9B59DA99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B2E-51F3-40F9-B534-8D1C1AB1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C39A2-9A40-43DE-B486-8809660E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174FA-8721-4049-8197-6819C6EF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10770-19FC-4B36-8933-AA3BD844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5B424-7619-4B1B-8737-EF365DD1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CC975-3152-46E6-8954-1DC5BAC6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6F7E7-0708-4969-91DD-E885ED8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B32A0-83DA-41BE-B4C0-D9ED3F70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5FC6A-27EB-4FBF-8AAF-C685A77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93444-C507-4360-8924-A9684CA0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CA3CF-4A77-4141-9CD0-58FF03AC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641-AFC8-4948-8470-5C6F7197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33497-2B5F-47E1-80A8-6AF31FF6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381C3-3C9E-434F-A5F9-D79A7A52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578B6-12E8-4AAF-9D47-5E7A5EB3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06FBD-CE9C-46B9-BF2D-6CAFAD8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C8BDD-759E-48C5-B22A-A79004F1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2BE61-3F4B-4DD5-9ED3-8E4CEB82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A8C70-16DC-41BB-9AB0-CBC790F6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E8331-4AA1-4F35-BA02-0D5C9FBE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048B5-7B95-40AB-8DA8-7F1EAEB2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3D4AA-DC5D-43FC-AA70-79E21AB2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A4E5-85CC-48CC-946C-2314A8F8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8108D-BD1B-4086-8928-13D4F70B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1F575-9002-4CF0-8E80-E0D8964A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40F9D-0D5D-4AD0-BE6E-26431A01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8916B-ED31-4E1E-9910-A0F87CFD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8E2A6-6CF3-40DB-BF2F-348C2992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AED55-B87B-447A-952A-127A2EC9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DC087-A429-4CF9-934A-579D82C1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254BC-B73F-406A-BA37-3457DB40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28BD8-AE41-4478-AA00-AC3B9C39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4E028-4566-4153-A169-9485258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72DF-DB93-4E95-AD37-F011296C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50D5E-BEE7-4081-8C4E-29835AE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E730B-AEB9-4A01-A9CF-C4CC8664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85379-C24D-4029-9346-5ABCDDE0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AAA6B-22DA-418C-AF7E-40B63A7E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CA28A-A690-458A-838B-E85BCFC9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939FD-4703-4304-A4C6-B07A567C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87789-C84D-487D-AC40-5334B382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EDF50-8470-4CD8-90A4-3E4690F9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B99DB-100A-4C6F-92C3-5DDA79AE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A9589-B1A1-4CF0-B7A4-FD237386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594A-E3E9-40F1-91B5-F646A156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B1FD3-83DA-4CFD-9006-B2BC4D54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7A217-958F-4A9D-A7E0-CF69386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6585F-C0FB-441B-AAD2-CDA73011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4E7B7-9E95-4C00-ACE6-0E367400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4020B-012B-4B28-943C-E129F5DD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87EAA-50E4-4F73-8841-986F495F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641F1-8D20-4069-BC9C-75998807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58F68-93D3-43AE-A2DA-3A444CF3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51401-41FB-4139-8E6D-4CAFC176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D45A0-1543-4789-9B9A-E2AA6C34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0627-8D3A-4520-9007-875E7078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26E1E-E9EE-4550-800F-765C6585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CDBF8-7EB7-482E-8317-1AA94ACA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E48B7-46EC-49D1-B3F7-20BAE5BC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88798-5C48-49A1-BA93-0B1E846C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8A8D4-4A86-467E-B4ED-3CDFE959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E69DA-FD7F-4072-91CC-3DC6C1A7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93647-05B6-442E-8DE3-E2446B90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9AFB4-4D73-4FF8-A04B-2356CFD5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FB242-8692-4FB2-8648-F75F78EE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952F5-AE11-44BA-A450-E389F4EC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AB89-AB1C-4D00-9F06-24B14234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5F61B-3261-4E2B-8CDE-38CA64FA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F4ED0-2E16-406A-BB4F-45A2802E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47EDC-AF9C-4CE2-8D11-C53FDAE1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FD202-1481-43B7-9119-9EDF72A3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F88DC-A26B-461F-B976-48AEBFDC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23922-E052-458C-A674-BFAA2A58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9CF58-EDD8-4085-B074-C524747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4ABE4-C67E-41C8-AA3A-7C6EF23A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4E907-B492-4B92-9169-1A3EE817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EAC05-57C3-4606-A0BB-61BB051E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A605-3983-4EDF-B1CE-7E722B19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EA995-FF94-483A-9F7C-B3900479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6234-EB7B-4712-977A-3C3C71C2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866-D8FB-4528-88B0-F402E075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F29F-806D-4D9B-BB97-BA23349E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E5C4-B2F2-41C2-802F-09C9EB2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DA0F-9729-4437-A4CE-EB538428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A72B-4B40-4131-95E0-53902F4C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CCC7-71E0-43D6-9368-84B95251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1FEA-F76C-4F81-8BE8-2D628B0D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0103-B5A7-4B38-BB7C-984E628D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3460-CB94-46A9-9BF7-819D8DCB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67D7-1969-4990-A8DE-CF78E679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CF82-70CD-4FF5-BAAD-37CC412A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C2E-003D-44D4-A2E7-09C42FD6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00D21-D124-4157-9EDE-63414D40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AC3A-7378-4E8B-B65E-3469FE8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C0F3-9739-4B88-8777-1B26ADD2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5972-EE05-4811-8021-87CD6AF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D607-AF6C-4C68-9CBA-E6E425EF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5917-C0DC-4D68-BD91-7A66A11B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C6B0E-7F1C-4C99-9D5F-584FF8DA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80E58-34BF-45E0-948C-CC17D40D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AC44-A52F-4946-910B-C839EE74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DCB4-D660-4208-A555-38AE9349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C94-414E-46D3-867E-C2348721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EF98-A428-41D6-9146-D49C537F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0BE6-C435-43DD-951D-AED641F0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14BA-E770-4346-8768-DD6CCD8E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0689-3A60-465F-8D87-02CE1694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73E4C-3972-4A17-8CC0-8D325249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7897-074D-4A07-A222-12599BA9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8CD82-7D00-410B-AA56-830B3368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2EB9F-B30E-4CDA-8509-245CE4CA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2C98A-10A0-4CE5-B74D-49311C58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FD5C5-46CA-4650-A7AF-6263EDBD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3F6-CA96-4112-82ED-771B4035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9B55D-8193-4BCF-9DE9-8D29FFD7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F693-69AB-43A3-8093-E76E0658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9793D-2AC4-4DEB-B1E0-4FDA21D0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4BD18-B5BD-4DA0-B1C2-29C595B6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ADA6-6BDB-415F-A860-F14B36C2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D2A31-6205-44A5-A4E9-37D94CF2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DFE46-631E-41D2-9951-57759BCA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DC1A-CF79-4B1D-8223-7F83FD0F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827F-D214-4FD0-A1EB-A7C176F8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9E482-06B3-4E3D-900D-3B29616B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9F3-AC5A-475E-BF94-3075DACE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D4E5F-F648-428F-9502-BD3E40F3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69C5B-E19A-44AD-B797-4B88F156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ECAD8-0495-404F-BD0F-BBE76114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BDE77-6862-4570-9D47-B549BE7A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15441-3465-47B2-8E61-6E0A557C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23965-F872-43AE-9624-7517F1A9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8853-641C-4B76-8CB9-131EA4CB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C9701-10C1-427C-B1C9-867F1EA1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9CD30-8C67-49B7-ABF7-181445D9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A44AA-C94C-4F21-B9E3-6D7AE75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04F-00B1-4C5D-B3B7-D05D0A4B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77AC2-B37B-4045-951B-D30670EE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9440-8F67-4FE3-B85F-25F92E37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2C00D-5D8C-461E-939E-28D8BC70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6E39B-532B-4EB7-8002-1F87C4EE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D498D-1E34-4A7B-9CD8-5FE82FEB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0F4A3-D3C1-4123-9A89-B6700250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797BA-AF60-4B52-BE2A-5E759669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2509C-6147-401A-9577-A9F633EE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B7A49-ED7A-4F3E-9097-669574F3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6477-80DC-4449-A222-A6D74FC4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DF6-16E7-4090-A279-42E008C9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5C59C-9D59-4F51-A32F-2CCFFE7F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AE341-FF89-4104-BF81-D029FCE9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37C4B-8BC1-4CC8-A5A1-04DAC441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C218-E44A-4902-B2F4-93A1190F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BECE6-374F-45DD-821A-668081A1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7650A-C4F4-4ABF-B5E7-51996983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FBBAE-B20C-4E9A-B4CE-DCB181A3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2B33E-1763-4216-B61D-A85357A4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2CB3A-DA7F-42E6-BE59-98A9D164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E2F7-5AA7-429E-80C6-6A5882FF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DC9-90B0-4ACE-9921-74F9ED27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B892-C33C-4C10-9285-79AEE55A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09051-0AF3-4094-8AA0-2D9511EB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A5A11-3BC9-4CEC-9AF9-9522CDF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84FAC-C896-493A-8965-3D4F1E1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9BA72-0DAF-4C23-84FE-FB4915F9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2BDD-8DD2-4F05-A854-31147286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C8E1D-DCB4-4E49-937F-7F05CE46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7D63F-FC9C-4F40-86BB-360594C7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CD044-33B9-4FA6-B7F2-5DB67665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AF940-1D61-40D3-8EF7-D32C6C4D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C43-F25E-464E-B6C4-9C80DCF712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DF80-F035-4126-AF6C-7CA1A70F4A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AA1A-3D0F-4C43-9479-A3B40973E6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A1D5-BA50-4F96-AFD8-4938006856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8D5B-C5FE-4AFB-872C-1B3857E5542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78C9-9B33-42B7-9A15-A38D90C77F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B8FC-859A-453A-A47C-8EFE9D4FFA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51D6-D59C-4EA5-9280-FAAA0EE51C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6515-E23F-4591-AB51-30ECD6673C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C109-2EDF-45C9-9DEC-394CBE49F2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6DCA-FF12-4D82-ACAC-77FE40F76F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AE28-CEFA-4480-87CC-3106D04D23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BA1D-B8AD-4187-8E89-42B904E390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D3FA-3597-4E31-8504-B4DFD893688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33C7-6B5F-4919-80CC-804EED71A6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57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033"/>
          <p:cNvSpPr/>
          <p:nvPr/>
        </p:nvSpPr>
        <p:spPr>
          <a:xfrm>
            <a:off x="1371600" y="22860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6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元一次不等式与一次函数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304920" y="9302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温州市教委决定分别送给文成教育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电脑，泰顺教育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电脑，但现在仅有１２台，需在杭州买６台．从市教委运一台电脑到文成、泰顺的运费分别为３０元和５０元，从杭州运一台电脑到文成、泰顺的运费分别为４０元和８０元．要求总的运费不超过８４０元，问有几种调运方案，并指出运费最低的方案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WordArt 3"/>
          <p:cNvSpPr txBox="1"/>
          <p:nvPr/>
        </p:nvSpPr>
        <p:spPr>
          <a:xfrm>
            <a:off x="3867120" y="3657600"/>
            <a:ext cx="135108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分析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92" name="Group 4"/>
          <p:cNvGrpSpPr/>
          <p:nvPr/>
        </p:nvGrpSpPr>
        <p:grpSpPr>
          <a:xfrm>
            <a:off x="1219320" y="4073400"/>
            <a:ext cx="2931480" cy="647640"/>
            <a:chOff x="1219320" y="4073400"/>
            <a:chExt cx="2931480" cy="647640"/>
          </a:xfrm>
        </p:grpSpPr>
        <p:sp>
          <p:nvSpPr>
            <p:cNvPr id="693" name="Oval 5"/>
            <p:cNvSpPr/>
            <p:nvPr/>
          </p:nvSpPr>
          <p:spPr>
            <a:xfrm>
              <a:off x="1219320" y="4073400"/>
              <a:ext cx="1726920" cy="647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1606320" y="421776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市教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7"/>
            <p:cNvSpPr/>
            <p:nvPr/>
          </p:nvSpPr>
          <p:spPr>
            <a:xfrm>
              <a:off x="2587680" y="414468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12</a:t>
              </a: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8"/>
          <p:cNvGrpSpPr/>
          <p:nvPr/>
        </p:nvGrpSpPr>
        <p:grpSpPr>
          <a:xfrm>
            <a:off x="6045120" y="4073400"/>
            <a:ext cx="2946240" cy="647640"/>
            <a:chOff x="6045120" y="4073400"/>
            <a:chExt cx="2946240" cy="647640"/>
          </a:xfrm>
        </p:grpSpPr>
        <p:sp>
          <p:nvSpPr>
            <p:cNvPr id="697" name="Oval 9"/>
            <p:cNvSpPr/>
            <p:nvPr/>
          </p:nvSpPr>
          <p:spPr>
            <a:xfrm>
              <a:off x="6045120" y="4073400"/>
              <a:ext cx="1700280" cy="647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0"/>
            <p:cNvSpPr/>
            <p:nvPr/>
          </p:nvSpPr>
          <p:spPr>
            <a:xfrm>
              <a:off x="6450120" y="414648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杭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1"/>
            <p:cNvSpPr/>
            <p:nvPr/>
          </p:nvSpPr>
          <p:spPr>
            <a:xfrm>
              <a:off x="7500960" y="4144680"/>
              <a:ext cx="14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6</a:t>
              </a: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12"/>
          <p:cNvGrpSpPr/>
          <p:nvPr/>
        </p:nvGrpSpPr>
        <p:grpSpPr>
          <a:xfrm>
            <a:off x="6188040" y="5802480"/>
            <a:ext cx="2700360" cy="647640"/>
            <a:chOff x="6188040" y="5802480"/>
            <a:chExt cx="2700360" cy="647640"/>
          </a:xfrm>
        </p:grpSpPr>
        <p:grpSp>
          <p:nvGrpSpPr>
            <p:cNvPr id="701" name="Group 13"/>
            <p:cNvGrpSpPr/>
            <p:nvPr/>
          </p:nvGrpSpPr>
          <p:grpSpPr>
            <a:xfrm>
              <a:off x="6188040" y="5802480"/>
              <a:ext cx="1512720" cy="647640"/>
              <a:chOff x="6188040" y="5802480"/>
              <a:chExt cx="1512720" cy="647640"/>
            </a:xfrm>
          </p:grpSpPr>
          <p:sp>
            <p:nvSpPr>
              <p:cNvPr id="702" name="Oval 14"/>
              <p:cNvSpPr/>
              <p:nvPr/>
            </p:nvSpPr>
            <p:spPr>
              <a:xfrm>
                <a:off x="6188040" y="5802480"/>
                <a:ext cx="1512720" cy="64764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15"/>
              <p:cNvSpPr/>
              <p:nvPr/>
            </p:nvSpPr>
            <p:spPr>
              <a:xfrm>
                <a:off x="6546600" y="587556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泰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Text Box 16"/>
            <p:cNvSpPr/>
            <p:nvPr/>
          </p:nvSpPr>
          <p:spPr>
            <a:xfrm>
              <a:off x="7412040" y="587376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ff0066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ff0066"/>
                  </a:solidFill>
                  <a:latin typeface="Arial"/>
                </a:rPr>
                <a:t>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17"/>
          <p:cNvGrpSpPr/>
          <p:nvPr/>
        </p:nvGrpSpPr>
        <p:grpSpPr>
          <a:xfrm>
            <a:off x="1219320" y="5945040"/>
            <a:ext cx="2736720" cy="648000"/>
            <a:chOff x="1219320" y="5945040"/>
            <a:chExt cx="2736720" cy="648000"/>
          </a:xfrm>
        </p:grpSpPr>
        <p:sp>
          <p:nvSpPr>
            <p:cNvPr id="706" name="Oval 18"/>
            <p:cNvSpPr/>
            <p:nvPr/>
          </p:nvSpPr>
          <p:spPr>
            <a:xfrm>
              <a:off x="1219320" y="5945040"/>
              <a:ext cx="1513080" cy="6480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9"/>
            <p:cNvSpPr/>
            <p:nvPr/>
          </p:nvSpPr>
          <p:spPr>
            <a:xfrm>
              <a:off x="1578240" y="60166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文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20"/>
            <p:cNvSpPr/>
            <p:nvPr/>
          </p:nvSpPr>
          <p:spPr>
            <a:xfrm>
              <a:off x="2443320" y="60166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8</a:t>
              </a: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Line 21"/>
          <p:cNvSpPr/>
          <p:nvPr/>
        </p:nvSpPr>
        <p:spPr>
          <a:xfrm>
            <a:off x="2084400" y="4721400"/>
            <a:ext cx="0" cy="1223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2"/>
          <p:cNvSpPr/>
          <p:nvPr/>
        </p:nvSpPr>
        <p:spPr>
          <a:xfrm>
            <a:off x="2732040" y="4649760"/>
            <a:ext cx="3745080" cy="1224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3"/>
          <p:cNvSpPr/>
          <p:nvPr/>
        </p:nvSpPr>
        <p:spPr>
          <a:xfrm>
            <a:off x="7053120" y="4649760"/>
            <a:ext cx="0" cy="12952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24"/>
          <p:cNvSpPr/>
          <p:nvPr/>
        </p:nvSpPr>
        <p:spPr>
          <a:xfrm>
            <a:off x="7124760" y="47926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25"/>
          <p:cNvGrpSpPr/>
          <p:nvPr/>
        </p:nvGrpSpPr>
        <p:grpSpPr>
          <a:xfrm>
            <a:off x="2876040" y="4276080"/>
            <a:ext cx="3600360" cy="1668600"/>
            <a:chOff x="2876040" y="4276080"/>
            <a:chExt cx="3600360" cy="1668600"/>
          </a:xfrm>
        </p:grpSpPr>
        <p:sp>
          <p:nvSpPr>
            <p:cNvPr id="714" name="Line 26"/>
            <p:cNvSpPr/>
            <p:nvPr/>
          </p:nvSpPr>
          <p:spPr>
            <a:xfrm flipH="1">
              <a:off x="2876040" y="4721040"/>
              <a:ext cx="3600360" cy="12236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7"/>
            <p:cNvSpPr/>
            <p:nvPr/>
          </p:nvSpPr>
          <p:spPr>
            <a:xfrm rot="20116200">
              <a:off x="4819680" y="450504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6-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 Box 28"/>
          <p:cNvSpPr/>
          <p:nvPr/>
        </p:nvSpPr>
        <p:spPr>
          <a:xfrm rot="1309200">
            <a:off x="2660400" y="49370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-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1363680" y="5226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30" descr="图片5"/>
          <p:cNvPicPr/>
          <p:nvPr/>
        </p:nvPicPr>
        <p:blipFill>
          <a:blip r:embed="rId1"/>
          <a:stretch/>
        </p:blipFill>
        <p:spPr>
          <a:xfrm>
            <a:off x="914400" y="152280"/>
            <a:ext cx="3276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4"/>
          <p:cNvSpPr/>
          <p:nvPr/>
        </p:nvSpPr>
        <p:spPr>
          <a:xfrm>
            <a:off x="380880" y="332064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学校需刻录一批电脑光盘，若到电脑公司刻录，每张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（包括空白光盘带）；若学校自刻，除租用刻录机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外，每张还需成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（包括空白光盘带），问刻录这批电脑光盘，到电脑公司刻录费用省，还是自刻费用省？请说明理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960120" y="1035720"/>
            <a:ext cx="62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什么值时，代数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不小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正整数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1066680" y="3445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380880" y="1266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单位要制作一批宣传材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甲公司提出每份材料收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，另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设计费；乙公司提出：每份材料收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，不收设计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什么情况下选择甲公司比较合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什么情况下选择乙公司比较合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什么情况下两公司的收费相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1396800" y="198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元一次不等式与一次函数在决策型应用题中的应用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458640" y="3282840"/>
            <a:ext cx="1944720" cy="581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实际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2978280" y="3282840"/>
            <a:ext cx="38527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写出两个函数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2906640" y="4363920"/>
            <a:ext cx="17272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5427720" y="4363920"/>
            <a:ext cx="19429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解不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3122640" y="2130480"/>
            <a:ext cx="19447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画出图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5499000" y="2130480"/>
            <a:ext cx="1871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分析图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7083360" y="3282840"/>
            <a:ext cx="1908360" cy="581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1"/>
          <p:cNvSpPr/>
          <p:nvPr/>
        </p:nvSpPr>
        <p:spPr>
          <a:xfrm>
            <a:off x="2403360" y="3571920"/>
            <a:ext cx="576360" cy="0"/>
          </a:xfrm>
          <a:prstGeom prst="line">
            <a:avLst/>
          </a:prstGeom>
          <a:ln w="28440">
            <a:solidFill>
              <a:srgbClr val="f03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2"/>
          <p:cNvSpPr/>
          <p:nvPr/>
        </p:nvSpPr>
        <p:spPr>
          <a:xfrm flipV="1">
            <a:off x="4059360" y="2706840"/>
            <a:ext cx="0" cy="576000"/>
          </a:xfrm>
          <a:prstGeom prst="line">
            <a:avLst/>
          </a:prstGeom>
          <a:ln w="28440">
            <a:solidFill>
              <a:srgbClr val="f03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3"/>
          <p:cNvSpPr/>
          <p:nvPr/>
        </p:nvSpPr>
        <p:spPr>
          <a:xfrm>
            <a:off x="5067360" y="2419200"/>
            <a:ext cx="433440" cy="0"/>
          </a:xfrm>
          <a:prstGeom prst="line">
            <a:avLst/>
          </a:prstGeom>
          <a:ln w="28440">
            <a:solidFill>
              <a:srgbClr val="f03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4"/>
          <p:cNvSpPr/>
          <p:nvPr/>
        </p:nvSpPr>
        <p:spPr>
          <a:xfrm>
            <a:off x="7370640" y="2419200"/>
            <a:ext cx="1008360" cy="863640"/>
          </a:xfrm>
          <a:prstGeom prst="line">
            <a:avLst/>
          </a:prstGeom>
          <a:ln w="28440">
            <a:solidFill>
              <a:srgbClr val="f03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5"/>
          <p:cNvSpPr/>
          <p:nvPr/>
        </p:nvSpPr>
        <p:spPr>
          <a:xfrm>
            <a:off x="4059360" y="3859200"/>
            <a:ext cx="0" cy="50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6"/>
          <p:cNvSpPr/>
          <p:nvPr/>
        </p:nvSpPr>
        <p:spPr>
          <a:xfrm>
            <a:off x="4635360" y="4651200"/>
            <a:ext cx="792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7"/>
          <p:cNvSpPr/>
          <p:nvPr/>
        </p:nvSpPr>
        <p:spPr>
          <a:xfrm flipV="1">
            <a:off x="7370640" y="3859200"/>
            <a:ext cx="865440" cy="792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609480" y="195228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有存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乙有存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从本月开始，他们进行零存整取储蓄，甲每月存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乙每月存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出甲、乙的存款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2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存款月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间的函数关系式，画出函数图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问到第几个月，甲的存款额超过乙的存款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1570320" y="57492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主探究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】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5"/>
          <p:cNvSpPr/>
          <p:nvPr/>
        </p:nvSpPr>
        <p:spPr>
          <a:xfrm>
            <a:off x="2743200" y="304920"/>
            <a:ext cx="3581280" cy="838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447920" y="1142640"/>
            <a:ext cx="6248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某单位计划在新年期间组织员工到某地旅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参加旅游的人数估计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10~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甲、乙两家旅行社的服务质量相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且报价都是每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经过协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352680" y="685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505320" y="380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题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20"/>
          <p:cNvGrpSpPr/>
          <p:nvPr/>
        </p:nvGrpSpPr>
        <p:grpSpPr>
          <a:xfrm>
            <a:off x="0" y="272880"/>
            <a:ext cx="1905120" cy="6248520"/>
            <a:chOff x="0" y="272880"/>
            <a:chExt cx="1905120" cy="6248520"/>
          </a:xfrm>
        </p:grpSpPr>
        <p:sp>
          <p:nvSpPr>
            <p:cNvPr id="649" name="AutoShape 12"/>
            <p:cNvSpPr/>
            <p:nvPr/>
          </p:nvSpPr>
          <p:spPr>
            <a:xfrm>
              <a:off x="0" y="272880"/>
              <a:ext cx="1905120" cy="6248520"/>
            </a:xfrm>
            <a:prstGeom prst="verticalScroll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8"/>
            <p:cNvSpPr/>
            <p:nvPr/>
          </p:nvSpPr>
          <p:spPr>
            <a:xfrm>
              <a:off x="126000" y="990720"/>
              <a:ext cx="1155240" cy="53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甲：每位游客七五折优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1"/>
          <p:cNvGrpSpPr/>
          <p:nvPr/>
        </p:nvGrpSpPr>
        <p:grpSpPr>
          <a:xfrm>
            <a:off x="7238880" y="228600"/>
            <a:ext cx="1905120" cy="6248520"/>
            <a:chOff x="7238880" y="228600"/>
            <a:chExt cx="1905120" cy="6248520"/>
          </a:xfrm>
        </p:grpSpPr>
        <p:sp>
          <p:nvSpPr>
            <p:cNvPr id="652" name="AutoShape 15"/>
            <p:cNvSpPr/>
            <p:nvPr/>
          </p:nvSpPr>
          <p:spPr>
            <a:xfrm rot="5400000">
              <a:off x="5067000" y="2400120"/>
              <a:ext cx="6248520" cy="1905120"/>
            </a:xfrm>
            <a:prstGeom prst="horizontalScroll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9"/>
            <p:cNvSpPr/>
            <p:nvPr/>
          </p:nvSpPr>
          <p:spPr>
            <a:xfrm>
              <a:off x="7623720" y="838080"/>
              <a:ext cx="115524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乙：先免去一位游客的旅游费    用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,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其余游客八折优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22"/>
          <p:cNvGrpSpPr/>
          <p:nvPr/>
        </p:nvGrpSpPr>
        <p:grpSpPr>
          <a:xfrm>
            <a:off x="1828800" y="3733920"/>
            <a:ext cx="5486400" cy="2819160"/>
            <a:chOff x="1828800" y="3733920"/>
            <a:chExt cx="5486400" cy="2819160"/>
          </a:xfrm>
        </p:grpSpPr>
        <p:pic>
          <p:nvPicPr>
            <p:cNvPr id="655" name="Picture 18" descr="PE01561_"/>
            <p:cNvPicPr/>
            <p:nvPr/>
          </p:nvPicPr>
          <p:blipFill>
            <a:blip r:embed="rId1"/>
            <a:stretch/>
          </p:blipFill>
          <p:spPr>
            <a:xfrm>
              <a:off x="2895480" y="4572000"/>
              <a:ext cx="32767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AutoShape 19"/>
            <p:cNvSpPr/>
            <p:nvPr/>
          </p:nvSpPr>
          <p:spPr>
            <a:xfrm>
              <a:off x="1828800" y="3733920"/>
              <a:ext cx="5486400" cy="609480"/>
            </a:xfrm>
            <a:prstGeom prst="wedgeRectCallout">
              <a:avLst>
                <a:gd name="adj1" fmla="val -1851"/>
                <a:gd name="adj2" fmla="val 1117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该选择哪一家旅行社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该单位参加这次旅游的人数是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择甲旅行社时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需的费用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择乙旅行社时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需的费用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1066680" y="2239920"/>
            <a:ext cx="678204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×0.75x,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1066680" y="2878200"/>
            <a:ext cx="69343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×0.8(x-1),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0x-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990720" y="3611520"/>
            <a:ext cx="76960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2,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0x=160x-1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解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990720" y="4373640"/>
            <a:ext cx="76960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2,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0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0x-1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解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990720" y="5135400"/>
            <a:ext cx="78483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2,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0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0x-1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解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Group 20" descr=""/>
          <p:cNvPicPr/>
          <p:nvPr/>
        </p:nvPicPr>
        <p:blipFill>
          <a:blip r:embed="rId1"/>
          <a:stretch/>
        </p:blipFill>
        <p:spPr>
          <a:xfrm>
            <a:off x="1663560" y="219240"/>
            <a:ext cx="5591160" cy="10126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PE01561_"/>
          <p:cNvPicPr/>
          <p:nvPr/>
        </p:nvPicPr>
        <p:blipFill>
          <a:blip r:embed="rId2"/>
          <a:stretch/>
        </p:blipFill>
        <p:spPr>
          <a:xfrm>
            <a:off x="5105520" y="47242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参加旅游的人数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~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1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、乙两家旅行社的收费相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&lt;x≤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lt;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甲旅行社费用较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≤x&lt;1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gt;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乙旅行社费用较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Oval 7"/>
          <p:cNvSpPr/>
          <p:nvPr/>
        </p:nvSpPr>
        <p:spPr>
          <a:xfrm>
            <a:off x="609480" y="152280"/>
            <a:ext cx="2210040" cy="914400"/>
          </a:xfrm>
          <a:prstGeom prst="ellipse">
            <a:avLst/>
          </a:prstGeom>
          <a:solidFill>
            <a:srgbClr val="adff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电信公司有甲、乙两种手机收费业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种业务规定月租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，每通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i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收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乙种业务不收月租费，但每通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i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收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认为何时选择甲种业务对顾客更合算？何时选择乙种业务对顾客更合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1143000" y="457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990720" y="2310840"/>
            <a:ext cx="723888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：设顾客每月通话时长为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mi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那么甲种业务每个月的消费额为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乙种业务每个月的消费额为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根据题意可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10+0.3x      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0.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+0.3x=0.4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解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=100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+0.3x&gt;0.4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解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&lt;100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 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+0.3x&lt;0.4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解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&gt;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当顾客每个月的通话时长等于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 mini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选择甲乙两种业务一样合算；如果通话时长大于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 mi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选择甲种业务比较合算；如果通话时长小于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 mi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选择乙种业务比较合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Oval 4"/>
          <p:cNvSpPr/>
          <p:nvPr/>
        </p:nvSpPr>
        <p:spPr>
          <a:xfrm>
            <a:off x="2666880" y="228600"/>
            <a:ext cx="3200400" cy="838080"/>
          </a:xfrm>
          <a:prstGeom prst="ellipse">
            <a:avLst/>
          </a:prstGeom>
          <a:solidFill>
            <a:srgbClr val="adff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75960" y="12189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深圳南山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地电话拨号入网有两种收费方式，用户可以任选其一：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A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时制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；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B)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包月制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（限一部个人住宅电话上网）． 此外，每一种上网方式都得加收通信费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分）请你分别写出两种收费方式下用户每月应支付的费用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元）与上网时间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小时）之间的函数关系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分）若某用户估计一个月内上网的时间为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时，你认为采用哪种方式较为合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3124080" y="304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考链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685440" y="151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 ⑴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依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计时制：                     即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包月制：                                  即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⑵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计时制：                                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包月制：                                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若某用户估计一个月上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时，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用包月制较为合算．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Object 7"/>
          <p:cNvGraphicFramePr/>
          <p:nvPr/>
        </p:nvGraphicFramePr>
        <p:xfrm>
          <a:off x="2514600" y="914400"/>
          <a:ext cx="31240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914400"/>
                    <a:ext cx="3124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9"/>
          <p:cNvGraphicFramePr/>
          <p:nvPr/>
        </p:nvGraphicFramePr>
        <p:xfrm>
          <a:off x="2514600" y="1503360"/>
          <a:ext cx="167652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503360"/>
                    <a:ext cx="16765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Object 11"/>
          <p:cNvGraphicFramePr/>
          <p:nvPr/>
        </p:nvGraphicFramePr>
        <p:xfrm>
          <a:off x="2514600" y="2133720"/>
          <a:ext cx="2971800" cy="56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29718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12"/>
          <p:cNvGraphicFramePr/>
          <p:nvPr/>
        </p:nvGraphicFramePr>
        <p:xfrm>
          <a:off x="2438280" y="2724120"/>
          <a:ext cx="2514600" cy="62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724120"/>
                    <a:ext cx="2514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13"/>
          <p:cNvGraphicFramePr/>
          <p:nvPr/>
        </p:nvGraphicFramePr>
        <p:xfrm>
          <a:off x="1981080" y="4038480"/>
          <a:ext cx="3429000" cy="63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4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4038480"/>
                    <a:ext cx="34290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14"/>
          <p:cNvGraphicFramePr/>
          <p:nvPr/>
        </p:nvGraphicFramePr>
        <p:xfrm>
          <a:off x="1981080" y="4724280"/>
          <a:ext cx="3353040" cy="62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6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724280"/>
                    <a:ext cx="33530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7" name="" descr=""/>
          <p:cNvPicPr/>
          <p:nvPr/>
        </p:nvPicPr>
        <p:blipFill>
          <a:blip r:embed="rId13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8" name="Object 18"/>
          <p:cNvGraphicFramePr/>
          <p:nvPr/>
        </p:nvGraphicFramePr>
        <p:xfrm>
          <a:off x="1981080" y="3413160"/>
          <a:ext cx="1371600" cy="549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8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3413160"/>
                    <a:ext cx="13716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5:19:37Z</dcterms:created>
  <dc:creator/>
  <dc:description/>
  <dc:language>en-US</dc:language>
  <cp:lastModifiedBy/>
  <dcterms:modified xsi:type="dcterms:W3CDTF">2014-03-05T05:19:45Z</dcterms:modified>
  <cp:revision>1</cp:revision>
  <dc:subject/>
  <dc:title/>
</cp:coreProperties>
</file>