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chimes.wav" ContentType="audio/x-wav"/>
  <Override PartName="/ppt/media/image7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F4D4-92DB-4FB2-9B00-F2F5CD747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CF9F-F073-48B0-A9AC-D342960C0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C527-ACB0-44EE-8A42-455C72F7A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F3D7-A504-4E67-8DA7-503813961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421C-D954-405D-A189-948C0535A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F0E2-285C-490C-81AF-D869F071F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EE32-3986-4282-A40A-1550A3649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767E-EA53-43A7-B679-27D21B222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9E58-36E8-45D1-BC4B-C932E4489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8A87-8F26-4E4C-9151-4334BB94F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2BE0-F694-4768-993B-79E4D2CB2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5F82-E3E8-47BD-A7C9-AC6D5D19B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1D99-EB5F-4F99-9659-04C99388A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CD7-1851-4B51-8F9B-1097C92F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406-0579-4471-A20C-22E838FE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35711-47C7-463F-93D6-B25F50D4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C742E-F229-48DA-B214-05446999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0BEE6-1056-4EA6-AFF8-934358E7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38E77-AC7D-4DC7-A473-D2DC4367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7B222-09B1-4960-A9EF-E96EA16E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11440-E6E8-4657-A7F0-0866F57A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72CCA-C5C5-48EE-B0F3-E70E966C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91565-2E29-4EAC-9F7B-E1A62755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67DCC-3C98-4583-BD0C-A2EF3709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57386-C76C-4EB5-844C-5B251197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9C2-EC35-486E-AEE9-35BBE8E3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D4C0D-54E6-4350-8308-96537E7F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90CA4-B1C9-4A37-9AD0-F8C5B94E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1F2BF-E9AD-42CF-B93A-ED92D0F2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3C052-C3D4-4931-B9B1-37B56C79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B0A4A-EFFB-4483-B595-59A37E17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96E32-86A2-4B20-9A22-A5DA0922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69B8C-15D1-4242-ABEA-B6E61BC6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F5CD2-1E79-48B2-8A05-DD6774C8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1A7C4-6830-4C20-B162-E9AE81FF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C50EB-E0F6-42BB-B135-90464113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19C-5B50-4D31-8CA8-412A6E0B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AF36F-46CD-4630-A5B7-C8F76551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4AC9D-485A-4B74-825E-AA1DDF9A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10112-1D49-4F7F-822E-0CBA4330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42C78-9FC3-4977-AAEB-A5FC8E2B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B6416-6CD9-40C2-BA44-2D100CB7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06C98-D114-48F2-A79D-7413D75C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EA5F1-EC81-4D4C-A568-BD3809AA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C0BD6-D52A-4F64-B5E2-9848F8BA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A17C8-3F31-4FB6-B5D3-F0215737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239BC-2AE4-4700-9C3A-FA50ACAD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3BFE-0701-48DE-AE25-D354F505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36242-7ED3-40F4-917C-DAD7CD77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AA557-B435-41F6-A05B-49486256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7E060-3618-453E-9D02-15BA8385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FE90F-2EC8-4652-99E4-59EE5F93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E807E-E699-472E-A093-A55AE811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E5131-0773-45BB-B91F-F8BB5A65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1587D-9F97-4675-8FB6-71A7CE31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6F21D-C1DA-4A8A-BE01-C663F538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AE498-388C-4347-8E26-DEE4385D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78242-ECF3-48A0-A33C-FCB819DC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BC3D-DAF3-475F-AF85-0F75A223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6652E-1895-4A39-A968-EE95591E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65BEA-7E9D-4D4C-B232-FFD65246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6FA86-D70A-4322-9E78-89A7F6F2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98BA9-41E3-4330-8B61-FFD8B595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77D1C-F396-40DA-AD0B-40E64EF1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5A82F-D07D-4C5C-BD0F-86F3F5DD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E5988-1774-42E0-B720-8D28D538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08975-4F27-464C-B5E3-2CDA264C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3EF50-4539-48D4-AD6C-54B76E35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1A548-56C7-4BA2-B7CD-ACFE1786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1230-4761-4D57-A1BD-BE290135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5ED1E-8240-47F0-9006-1D87430A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F7637-64FB-4553-A661-31E2BB0E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16113-97F5-44AD-B2F5-57B8EA96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609A9-F762-43F9-8B01-E9698126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62BAE-1087-41FC-87F5-59D2C8B2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7B038-C80C-459B-9EA9-473505EC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E6478-BE1A-48D7-95C7-C879C4F1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08F86F-F7A4-4550-8DE4-8875A2B1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090B6-2874-4DDA-844C-E395C11A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E0D4C-3443-4471-83EA-D2BD08AB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CE84-9BE3-4876-93AF-C894E5F9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62C45-C54A-4072-BCB7-F2C84C37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18706-F8DE-405A-A5F5-84196202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8C219-A41A-41AB-80F1-57312333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CDEF8-B571-4722-B093-EC83971D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BDBF77-76C4-4CEC-B53A-64048A4E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D42A2-6552-4B08-B67B-B3373A35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E969EA-2DF5-42CA-9239-BCD3F3E4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69856-4720-4E02-AAE2-9D471C45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DE4C1-FECE-4C57-9714-1B75C6E7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F4EFA4-3BA6-4C9F-BC57-CA8A1128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C749-CC81-45FF-A919-1630CDDE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207C0A-356E-4281-ACDD-8556C74A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20FCA2-2086-462D-902A-1F84D681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4BF7EE-BC12-459D-8389-6E26EC1E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9E7BE-F410-4272-B00F-19ADCC86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A850F-C08A-4AF6-BC69-F92D02B6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7F08CC-5375-4976-9708-8DD55682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F79D9-6838-429C-89DA-32DA6BB1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7FFD6-9869-42B0-9F7B-D562564A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915D72-36C2-4E83-85CB-36A30F56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A6822-B6FF-4048-957D-0152C055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E7CD-12CC-410B-9D9C-08075C8A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1ECBD3-6D0C-4885-9605-65B392C8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7318-4194-4B6C-9343-05D591EC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DD5-A63A-41EE-9628-2FBDB937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65A5-EA86-4A7C-B698-34913C52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54EA-7890-448E-9915-B598EC3B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0965-6EDF-49A2-BBA9-11516C68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3168-54A7-4BA9-AEC0-6BC25EDF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A1BF-BAF6-4A6E-987D-BED64479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78C9A-38B0-40E3-BAEA-E8DDF904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3D0AF-62CC-4800-BF2D-D5C4FBB2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C3AA-E5CD-40CD-B060-DEA6BEE5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21086-C83A-4AFD-9CC6-B2791269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03894-1871-4DC9-BFBE-15A33761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1C2-E49F-47A1-A8E7-4178489A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53AA3-4E4C-4EAD-AED8-AF424E2A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84101-53CC-4D6F-A096-82A6519D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7D1F-4B9D-4435-B74A-94575B6D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34BF4-576F-4EF8-9A30-3CC6873A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D919F-2FC2-4D3A-98C9-DBB07710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CFF7-FAEC-4462-AEF8-3D27AF8F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B3081-84DF-45FB-A941-37F26EEE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19EEA-7696-4CD2-857F-BE54B807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80289-CBB6-4FC5-AAE7-56B3508F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18BE6-D26C-4D67-AD00-4EB20E6C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975-E1B3-4F2B-BBF8-C29A3A2C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F2D33-1A1C-4D50-8C6E-1A928022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73EA3-047B-4270-B51D-5EB8B3CD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1638F-BFC6-4940-836A-07B09CC7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F5A96-5EDC-49DB-B31E-F46EF86C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798CA-59CF-4AD7-AAC3-03510E06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293AE-6183-4847-B429-41A26C4B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055B7-9529-4B61-9886-2C3893C3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A5B65-A29F-4DE7-B939-4DACC3F4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9F5C2-CD81-483C-8081-C702B246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08D6B-491F-457B-8BC8-4DB49A0C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D33-7444-47A5-889F-555F916D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20B7A-83FA-44F4-A2EE-619679F8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F2FE9-FF0A-4735-BE11-0D709816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57ABC-7455-425E-98EA-C2B11488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69E7C-BC50-4CA3-8924-06F314AE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F2C13-A0AC-4D47-AED3-2610B800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5F323-C4AF-43F1-A603-B9118CEA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D30BE-2D72-48B1-A2FC-0EA3F6E2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B2E2E-A4DB-44DC-8A42-6EEE6A33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FEB35-952A-4C07-873D-BC42AFFA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CDC56-3D3A-4493-9F87-4012F79F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F4CB-CC3E-4F10-8BB8-3BEB3F49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089A1-994D-4690-997D-0F85D906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93D6B-5161-4E05-A9B3-50EB9CDB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B85CE-0B6D-4A6A-B5A9-AF43215A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A334C-F8B7-4ABF-9C59-261A30E3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28D68-AB4E-4E8E-B45C-77C7D7B6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5BDCC-EF59-4657-9253-EA737DBF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86AC2-CE4D-4AE3-912D-B22DF3B0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1E4D7-35ED-4A48-867D-FB66E441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48121-8125-4229-9E17-039EB8E5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D3E93-A575-4367-AFEC-EA0C725E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3D1-3FA3-410E-A237-2F037559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7ADFC-FCF3-4559-BD79-8464684E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C4373-A827-4176-A75A-6375D136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B6C8D-B870-45B5-ABB0-72DF56A6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6C840-5EDE-4234-965B-9BCC40D5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FC702-4816-4137-ADF8-7010CEA8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7632C-F64C-4695-9DB5-6D2AA6C5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FEDF8-17D8-4880-B665-63A7ACC7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A8C6F-3363-458F-955C-08E8E487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52DE7-52AF-45CF-868E-B1E470D2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787FE-DD08-4740-882F-8AC2EFA7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4C3-C54F-45AD-9704-F1BA3396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01AFE-EF81-41B4-B6FB-48E444FF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FA353-E862-44B4-8820-ABB266C5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00C1F-86D8-4461-A2C2-90EFB35B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57FA9-F626-4C42-A273-BD06DB95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4A229-2B48-4454-9681-F57347B1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81E7F-5A6B-428F-8179-651C31F8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0C510-36ED-4CEF-8B91-8DE5453F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2B231-1B27-4238-91AB-0648A1F2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67275-49CA-4E62-BE14-B0137A8C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2CC43-29CE-4091-9C16-BC23406D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CCE-0934-457C-8332-35EB1025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CCCBF-1D96-4CEC-8A97-430A042A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0C79F-6579-4E67-8B42-929FBDBD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B6128-995D-4FD6-97AF-CD5C274D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B186C-88B7-4D7C-A232-835D1B7E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7491F-9B18-4C30-96A6-2EE98BBA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505F4-BA6E-4D19-8ED5-0B086C3D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59863-363A-4479-9F1C-4C44E27F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C0E6B-4B38-4443-9416-D381CA14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F266F-B36D-41EA-BC05-97D7DED5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70D8D-438E-4683-BC03-C9BA3840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93F8-F47E-4647-A56B-035DCA4A567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1775-0E3C-4E1E-AF76-192A20119B0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F9B3-D919-4DF8-8AAF-F87A7FBF80A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FF84-D9DB-4A43-866D-EE246D0D3E5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CD1F-FE61-4888-AAD3-F497373EC2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E258-3D81-4762-B7F2-065EC0F1F15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9278-8943-45FA-8056-177C0A5632C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3EFB-2DE1-4C88-A84E-8A638562943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705F-CEFC-4221-B2A4-6B18EFCF5ED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ECE8-1A5A-471E-BDB0-E5CBF9E74D5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2F46-2E3C-4754-BFD9-8CC5050D9A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6D32-3A47-498B-9E94-50DDFE29EDA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0BFF-B09F-4E41-B8C8-4D98CA2AD9A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0797-1C96-4263-90A8-DD20C2EB46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E396-C736-4014-A8A5-5E1FD4BAA9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57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033"/>
          <p:cNvSpPr/>
          <p:nvPr/>
        </p:nvSpPr>
        <p:spPr>
          <a:xfrm>
            <a:off x="1371600" y="22860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6  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元一次不等式与一次函数（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2"/>
          <p:cNvSpPr/>
          <p:nvPr/>
        </p:nvSpPr>
        <p:spPr>
          <a:xfrm>
            <a:off x="304920" y="9302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温州市教委决定分别送给文成教育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电脑，泰顺教育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电脑，但现在仅有１２台，需在杭州买６台．从市教委运一台电脑到文成、泰顺的运费分别为３０元和５０元，从杭州运一台电脑到文成、泰顺的运费分别为４０元和８０元．要求总的运费不超过８４０元，问有几种调运方案，并指出运费最低的方案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WordArt 3"/>
          <p:cNvSpPr txBox="1"/>
          <p:nvPr/>
        </p:nvSpPr>
        <p:spPr>
          <a:xfrm>
            <a:off x="3867120" y="3657600"/>
            <a:ext cx="135108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分析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92" name="Group 4"/>
          <p:cNvGrpSpPr/>
          <p:nvPr/>
        </p:nvGrpSpPr>
        <p:grpSpPr>
          <a:xfrm>
            <a:off x="1219320" y="4073400"/>
            <a:ext cx="2931480" cy="647640"/>
            <a:chOff x="1219320" y="4073400"/>
            <a:chExt cx="2931480" cy="647640"/>
          </a:xfrm>
        </p:grpSpPr>
        <p:sp>
          <p:nvSpPr>
            <p:cNvPr id="693" name="Oval 5"/>
            <p:cNvSpPr/>
            <p:nvPr/>
          </p:nvSpPr>
          <p:spPr>
            <a:xfrm>
              <a:off x="1219320" y="4073400"/>
              <a:ext cx="1726920" cy="647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1606320" y="4217760"/>
              <a:ext cx="135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市教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7"/>
            <p:cNvSpPr/>
            <p:nvPr/>
          </p:nvSpPr>
          <p:spPr>
            <a:xfrm>
              <a:off x="2587680" y="414468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12</a:t>
              </a: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8"/>
          <p:cNvGrpSpPr/>
          <p:nvPr/>
        </p:nvGrpSpPr>
        <p:grpSpPr>
          <a:xfrm>
            <a:off x="6045120" y="4073400"/>
            <a:ext cx="2946240" cy="647640"/>
            <a:chOff x="6045120" y="4073400"/>
            <a:chExt cx="2946240" cy="647640"/>
          </a:xfrm>
        </p:grpSpPr>
        <p:sp>
          <p:nvSpPr>
            <p:cNvPr id="697" name="Oval 9"/>
            <p:cNvSpPr/>
            <p:nvPr/>
          </p:nvSpPr>
          <p:spPr>
            <a:xfrm>
              <a:off x="6045120" y="4073400"/>
              <a:ext cx="1700280" cy="647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10"/>
            <p:cNvSpPr/>
            <p:nvPr/>
          </p:nvSpPr>
          <p:spPr>
            <a:xfrm>
              <a:off x="6450120" y="414648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杭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11"/>
            <p:cNvSpPr/>
            <p:nvPr/>
          </p:nvSpPr>
          <p:spPr>
            <a:xfrm>
              <a:off x="7500960" y="4144680"/>
              <a:ext cx="14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6</a:t>
              </a: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Group 12"/>
          <p:cNvGrpSpPr/>
          <p:nvPr/>
        </p:nvGrpSpPr>
        <p:grpSpPr>
          <a:xfrm>
            <a:off x="6188040" y="5802480"/>
            <a:ext cx="2700360" cy="647640"/>
            <a:chOff x="6188040" y="5802480"/>
            <a:chExt cx="2700360" cy="647640"/>
          </a:xfrm>
        </p:grpSpPr>
        <p:grpSp>
          <p:nvGrpSpPr>
            <p:cNvPr id="701" name="Group 13"/>
            <p:cNvGrpSpPr/>
            <p:nvPr/>
          </p:nvGrpSpPr>
          <p:grpSpPr>
            <a:xfrm>
              <a:off x="6188040" y="5802480"/>
              <a:ext cx="1512720" cy="647640"/>
              <a:chOff x="6188040" y="5802480"/>
              <a:chExt cx="1512720" cy="647640"/>
            </a:xfrm>
          </p:grpSpPr>
          <p:sp>
            <p:nvSpPr>
              <p:cNvPr id="702" name="Oval 14"/>
              <p:cNvSpPr/>
              <p:nvPr/>
            </p:nvSpPr>
            <p:spPr>
              <a:xfrm>
                <a:off x="6188040" y="5802480"/>
                <a:ext cx="1512720" cy="64764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Text Box 15"/>
              <p:cNvSpPr/>
              <p:nvPr/>
            </p:nvSpPr>
            <p:spPr>
              <a:xfrm>
                <a:off x="6546600" y="5875560"/>
                <a:ext cx="93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泰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Text Box 16"/>
            <p:cNvSpPr/>
            <p:nvPr/>
          </p:nvSpPr>
          <p:spPr>
            <a:xfrm>
              <a:off x="7412040" y="587376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ff0066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ff0066"/>
                  </a:solidFill>
                  <a:latin typeface="Arial"/>
                </a:rPr>
                <a:t>台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17"/>
          <p:cNvGrpSpPr/>
          <p:nvPr/>
        </p:nvGrpSpPr>
        <p:grpSpPr>
          <a:xfrm>
            <a:off x="1219320" y="5945040"/>
            <a:ext cx="2736720" cy="648000"/>
            <a:chOff x="1219320" y="5945040"/>
            <a:chExt cx="2736720" cy="648000"/>
          </a:xfrm>
        </p:grpSpPr>
        <p:sp>
          <p:nvSpPr>
            <p:cNvPr id="706" name="Oval 18"/>
            <p:cNvSpPr/>
            <p:nvPr/>
          </p:nvSpPr>
          <p:spPr>
            <a:xfrm>
              <a:off x="1219320" y="5945040"/>
              <a:ext cx="1513080" cy="6480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9"/>
            <p:cNvSpPr/>
            <p:nvPr/>
          </p:nvSpPr>
          <p:spPr>
            <a:xfrm>
              <a:off x="1578240" y="60166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文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20"/>
            <p:cNvSpPr/>
            <p:nvPr/>
          </p:nvSpPr>
          <p:spPr>
            <a:xfrm>
              <a:off x="2443320" y="601668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8</a:t>
              </a: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Line 21"/>
          <p:cNvSpPr/>
          <p:nvPr/>
        </p:nvSpPr>
        <p:spPr>
          <a:xfrm>
            <a:off x="2084400" y="4721400"/>
            <a:ext cx="0" cy="1223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2"/>
          <p:cNvSpPr/>
          <p:nvPr/>
        </p:nvSpPr>
        <p:spPr>
          <a:xfrm>
            <a:off x="2732040" y="4649760"/>
            <a:ext cx="3745080" cy="12240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3"/>
          <p:cNvSpPr/>
          <p:nvPr/>
        </p:nvSpPr>
        <p:spPr>
          <a:xfrm>
            <a:off x="7053120" y="4649760"/>
            <a:ext cx="0" cy="12952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24"/>
          <p:cNvSpPr/>
          <p:nvPr/>
        </p:nvSpPr>
        <p:spPr>
          <a:xfrm>
            <a:off x="7124760" y="47926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25"/>
          <p:cNvGrpSpPr/>
          <p:nvPr/>
        </p:nvGrpSpPr>
        <p:grpSpPr>
          <a:xfrm>
            <a:off x="2876040" y="4276080"/>
            <a:ext cx="3600360" cy="1668600"/>
            <a:chOff x="2876040" y="4276080"/>
            <a:chExt cx="3600360" cy="1668600"/>
          </a:xfrm>
        </p:grpSpPr>
        <p:sp>
          <p:nvSpPr>
            <p:cNvPr id="714" name="Line 26"/>
            <p:cNvSpPr/>
            <p:nvPr/>
          </p:nvSpPr>
          <p:spPr>
            <a:xfrm flipH="1">
              <a:off x="2876040" y="4721040"/>
              <a:ext cx="3600360" cy="12236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27"/>
            <p:cNvSpPr/>
            <p:nvPr/>
          </p:nvSpPr>
          <p:spPr>
            <a:xfrm rot="20116200">
              <a:off x="4819680" y="450504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6-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Text Box 28"/>
          <p:cNvSpPr/>
          <p:nvPr/>
        </p:nvSpPr>
        <p:spPr>
          <a:xfrm rot="1309200">
            <a:off x="2660400" y="49370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-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9"/>
          <p:cNvSpPr/>
          <p:nvPr/>
        </p:nvSpPr>
        <p:spPr>
          <a:xfrm>
            <a:off x="1363680" y="5226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+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30" descr="图片5"/>
          <p:cNvPicPr/>
          <p:nvPr/>
        </p:nvPicPr>
        <p:blipFill>
          <a:blip r:embed="rId1"/>
          <a:stretch/>
        </p:blipFill>
        <p:spPr>
          <a:xfrm>
            <a:off x="914400" y="152280"/>
            <a:ext cx="3276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4"/>
          <p:cNvSpPr/>
          <p:nvPr/>
        </p:nvSpPr>
        <p:spPr>
          <a:xfrm>
            <a:off x="380880" y="332064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某学校需刻录一批电脑光盘，若到电脑公司刻录，每张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（包括空白光盘带）；若学校自刻，除租用刻录机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外，每张还需成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（包括空白光盘带），问刻录这批电脑光盘，到电脑公司刻录费用省，还是自刻费用省？请说明理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960120" y="1035720"/>
            <a:ext cx="621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什么值时，代数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小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不小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不等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正整数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1066680" y="3445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随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380880" y="1266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某单位要制作一批宣传材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甲公司提出每份材料收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，另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设计费；乙公司提出：每份材料收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，不收设计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什么情况下选择甲公司比较合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什么情况下选择乙公司比较合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什么情况下两公司的收费相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5"/>
          <p:cNvSpPr/>
          <p:nvPr/>
        </p:nvSpPr>
        <p:spPr>
          <a:xfrm>
            <a:off x="1396800" y="198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元一次不等式与一次函数在决策型应用题中的应用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458640" y="3282840"/>
            <a:ext cx="1944720" cy="5814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实际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2978280" y="3282840"/>
            <a:ext cx="38527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写出两个函数表达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2906640" y="4363920"/>
            <a:ext cx="172728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等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5427720" y="4363920"/>
            <a:ext cx="19429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解不等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3122640" y="2130480"/>
            <a:ext cx="19447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画出图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5499000" y="2130480"/>
            <a:ext cx="18716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分析图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7083360" y="3282840"/>
            <a:ext cx="1908360" cy="5814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1"/>
          <p:cNvSpPr/>
          <p:nvPr/>
        </p:nvSpPr>
        <p:spPr>
          <a:xfrm>
            <a:off x="2403360" y="3571920"/>
            <a:ext cx="576360" cy="0"/>
          </a:xfrm>
          <a:prstGeom prst="line">
            <a:avLst/>
          </a:prstGeom>
          <a:ln w="28440">
            <a:solidFill>
              <a:srgbClr val="f03a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2"/>
          <p:cNvSpPr/>
          <p:nvPr/>
        </p:nvSpPr>
        <p:spPr>
          <a:xfrm flipV="1">
            <a:off x="4059360" y="2706840"/>
            <a:ext cx="0" cy="576000"/>
          </a:xfrm>
          <a:prstGeom prst="line">
            <a:avLst/>
          </a:prstGeom>
          <a:ln w="28440">
            <a:solidFill>
              <a:srgbClr val="f03a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3"/>
          <p:cNvSpPr/>
          <p:nvPr/>
        </p:nvSpPr>
        <p:spPr>
          <a:xfrm>
            <a:off x="5067360" y="2419200"/>
            <a:ext cx="433440" cy="0"/>
          </a:xfrm>
          <a:prstGeom prst="line">
            <a:avLst/>
          </a:prstGeom>
          <a:ln w="28440">
            <a:solidFill>
              <a:srgbClr val="f03a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4"/>
          <p:cNvSpPr/>
          <p:nvPr/>
        </p:nvSpPr>
        <p:spPr>
          <a:xfrm>
            <a:off x="7370640" y="2419200"/>
            <a:ext cx="1008360" cy="863640"/>
          </a:xfrm>
          <a:prstGeom prst="line">
            <a:avLst/>
          </a:prstGeom>
          <a:ln w="28440">
            <a:solidFill>
              <a:srgbClr val="f03a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5"/>
          <p:cNvSpPr/>
          <p:nvPr/>
        </p:nvSpPr>
        <p:spPr>
          <a:xfrm>
            <a:off x="4059360" y="3859200"/>
            <a:ext cx="0" cy="50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6"/>
          <p:cNvSpPr/>
          <p:nvPr/>
        </p:nvSpPr>
        <p:spPr>
          <a:xfrm>
            <a:off x="4635360" y="4651200"/>
            <a:ext cx="792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7"/>
          <p:cNvSpPr/>
          <p:nvPr/>
        </p:nvSpPr>
        <p:spPr>
          <a:xfrm flipV="1">
            <a:off x="7370640" y="3859200"/>
            <a:ext cx="865440" cy="792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609480" y="1952280"/>
            <a:ext cx="830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有存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乙有存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从本月开始，他们进行零存整取储蓄，甲每月存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乙每月存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出甲、乙的存款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2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存款月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间的函数关系式，画出函数图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问到第几个月，甲的存款额超过乙的存款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1570320" y="574920"/>
            <a:ext cx="19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【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自主探究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】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5"/>
          <p:cNvSpPr/>
          <p:nvPr/>
        </p:nvSpPr>
        <p:spPr>
          <a:xfrm>
            <a:off x="2743200" y="304920"/>
            <a:ext cx="3581280" cy="838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1447920" y="1142640"/>
            <a:ext cx="6248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某单位计划在新年期间组织员工到某地旅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参加旅游的人数估计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10~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甲、乙两家旅行社的服务质量相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且报价都是每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经过协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3352680" y="685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3505320" y="3808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题解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20"/>
          <p:cNvGrpSpPr/>
          <p:nvPr/>
        </p:nvGrpSpPr>
        <p:grpSpPr>
          <a:xfrm>
            <a:off x="0" y="272880"/>
            <a:ext cx="1905120" cy="6248520"/>
            <a:chOff x="0" y="272880"/>
            <a:chExt cx="1905120" cy="6248520"/>
          </a:xfrm>
        </p:grpSpPr>
        <p:sp>
          <p:nvSpPr>
            <p:cNvPr id="649" name="AutoShape 12"/>
            <p:cNvSpPr/>
            <p:nvPr/>
          </p:nvSpPr>
          <p:spPr>
            <a:xfrm>
              <a:off x="0" y="272880"/>
              <a:ext cx="1905120" cy="6248520"/>
            </a:xfrm>
            <a:prstGeom prst="verticalScroll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8"/>
            <p:cNvSpPr/>
            <p:nvPr/>
          </p:nvSpPr>
          <p:spPr>
            <a:xfrm>
              <a:off x="126000" y="990720"/>
              <a:ext cx="1155240" cy="53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甲：每位游客七五折优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21"/>
          <p:cNvGrpSpPr/>
          <p:nvPr/>
        </p:nvGrpSpPr>
        <p:grpSpPr>
          <a:xfrm>
            <a:off x="7238880" y="228600"/>
            <a:ext cx="1905120" cy="6248520"/>
            <a:chOff x="7238880" y="228600"/>
            <a:chExt cx="1905120" cy="6248520"/>
          </a:xfrm>
        </p:grpSpPr>
        <p:sp>
          <p:nvSpPr>
            <p:cNvPr id="652" name="AutoShape 15"/>
            <p:cNvSpPr/>
            <p:nvPr/>
          </p:nvSpPr>
          <p:spPr>
            <a:xfrm rot="5400000">
              <a:off x="5067000" y="2400120"/>
              <a:ext cx="6248520" cy="1905120"/>
            </a:xfrm>
            <a:prstGeom prst="horizontalScroll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9"/>
            <p:cNvSpPr/>
            <p:nvPr/>
          </p:nvSpPr>
          <p:spPr>
            <a:xfrm>
              <a:off x="7623720" y="838080"/>
              <a:ext cx="115524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乙：先免去一位游客的旅游费    用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,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其余游客八折优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22"/>
          <p:cNvGrpSpPr/>
          <p:nvPr/>
        </p:nvGrpSpPr>
        <p:grpSpPr>
          <a:xfrm>
            <a:off x="1828800" y="3733920"/>
            <a:ext cx="5486400" cy="2819160"/>
            <a:chOff x="1828800" y="3733920"/>
            <a:chExt cx="5486400" cy="2819160"/>
          </a:xfrm>
        </p:grpSpPr>
        <p:pic>
          <p:nvPicPr>
            <p:cNvPr id="655" name="Picture 18" descr="PE01561_"/>
            <p:cNvPicPr/>
            <p:nvPr/>
          </p:nvPicPr>
          <p:blipFill>
            <a:blip r:embed="rId1"/>
            <a:stretch/>
          </p:blipFill>
          <p:spPr>
            <a:xfrm>
              <a:off x="2895480" y="4572000"/>
              <a:ext cx="32767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AutoShape 19"/>
            <p:cNvSpPr/>
            <p:nvPr/>
          </p:nvSpPr>
          <p:spPr>
            <a:xfrm>
              <a:off x="1828800" y="3733920"/>
              <a:ext cx="5486400" cy="609480"/>
            </a:xfrm>
            <a:prstGeom prst="wedgeRectCallout">
              <a:avLst>
                <a:gd name="adj1" fmla="val -1851"/>
                <a:gd name="adj2" fmla="val 11171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该选择哪一家旅行社呢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设该单位参加这次旅游的人数是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选择甲旅行社时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所需的费用为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选择乙旅行社时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所需的费用为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1066680" y="2239920"/>
            <a:ext cx="678204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0×0.75x,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即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5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1066680" y="2878200"/>
            <a:ext cx="69343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0×0.8(x-1),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即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0x-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990720" y="3611520"/>
            <a:ext cx="769608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2,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50x=160x-16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解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=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990720" y="4373640"/>
            <a:ext cx="76960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zh-CN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2,</a:t>
            </a:r>
            <a:r>
              <a:rPr b="1" lang="zh-CN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50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0x-16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解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990720" y="5135400"/>
            <a:ext cx="78483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1" lang="zh-CN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</a:rPr>
              <a:t>2,</a:t>
            </a:r>
            <a:r>
              <a:rPr b="1" lang="zh-CN" sz="32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50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0x-16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解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Group 20" descr=""/>
          <p:cNvPicPr/>
          <p:nvPr/>
        </p:nvPicPr>
        <p:blipFill>
          <a:blip r:embed="rId1"/>
          <a:stretch/>
        </p:blipFill>
        <p:spPr>
          <a:xfrm>
            <a:off x="1663560" y="219240"/>
            <a:ext cx="5591160" cy="10126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8" descr="PE01561_"/>
          <p:cNvPicPr/>
          <p:nvPr/>
        </p:nvPicPr>
        <p:blipFill>
          <a:blip r:embed="rId2"/>
          <a:stretch/>
        </p:blipFill>
        <p:spPr>
          <a:xfrm>
            <a:off x="5105520" y="4724280"/>
            <a:ext cx="3276360" cy="198144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参加旅游的人数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~2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1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、乙两家旅行社的收费相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&lt;x≤2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&lt;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甲旅行社费用较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≤x&lt;1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&gt;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乙旅行社费用较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Oval 7"/>
          <p:cNvSpPr/>
          <p:nvPr/>
        </p:nvSpPr>
        <p:spPr>
          <a:xfrm>
            <a:off x="609480" y="152280"/>
            <a:ext cx="2210040" cy="914400"/>
          </a:xfrm>
          <a:prstGeom prst="ellipse">
            <a:avLst/>
          </a:prstGeom>
          <a:solidFill>
            <a:srgbClr val="adff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某电信公司有甲、乙两种手机收费业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甲种业务规定月租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，每通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mi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收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3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；乙种业务不收月租费，但每通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mi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收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4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认为何时选择甲种业务对顾客更合算？何时选择乙种业务对顾客更合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6"/>
          <p:cNvSpPr/>
          <p:nvPr/>
        </p:nvSpPr>
        <p:spPr>
          <a:xfrm>
            <a:off x="1143000" y="457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做一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990720" y="2310840"/>
            <a:ext cx="723888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解：设顾客每月通话时长为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mi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那么甲种业务每个月的消费额为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乙种业务每个月的消费额为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根据题意可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10+0.3x      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0.4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得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+0.3x=0.4x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解得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=100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得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+0.3x&gt;0.4x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解得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&lt;100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 y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得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+0.3x&lt;0.4x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解得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&gt;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所以当顾客每个月的通话时长等于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 mini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，选择甲乙两种业务一样合算；如果通话时长大于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 mi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选择甲种业务比较合算；如果通话时长小于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 mi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选择乙种业务比较合算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Oval 4"/>
          <p:cNvSpPr/>
          <p:nvPr/>
        </p:nvSpPr>
        <p:spPr>
          <a:xfrm>
            <a:off x="2666880" y="228600"/>
            <a:ext cx="3200400" cy="838080"/>
          </a:xfrm>
          <a:prstGeom prst="ellipse">
            <a:avLst/>
          </a:prstGeom>
          <a:solidFill>
            <a:srgbClr val="adff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75960" y="12189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深圳南山区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地电话拨号入网有两种收费方式，用户可以任选其一：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A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时制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；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B)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包月制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（限一部个人住宅电话上网）． 此外，每一种上网方式都得加收通信费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分）请你分别写出两种收费方式下用户每月应支付的费用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元）与上网时间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小时）之间的函数关系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分）若某用户估计一个月内上网的时间为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时，你认为采用哪种方式较为合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3124080" y="304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中考链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685440" y="151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ts val="4561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 ⑴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依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ts val="4561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计时制：                     即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ts val="4561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包月制：                                  即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ts val="4561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⑵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ts val="4561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计时制：                                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ts val="4561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包月制：                                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ts val="4561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若某用户估计一个月上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时，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ts val="4561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用包月制较为合算．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Object 7"/>
          <p:cNvGraphicFramePr/>
          <p:nvPr/>
        </p:nvGraphicFramePr>
        <p:xfrm>
          <a:off x="2514600" y="914400"/>
          <a:ext cx="31240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914400"/>
                    <a:ext cx="31240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9"/>
          <p:cNvGraphicFramePr/>
          <p:nvPr/>
        </p:nvGraphicFramePr>
        <p:xfrm>
          <a:off x="2514600" y="1503360"/>
          <a:ext cx="167652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503360"/>
                    <a:ext cx="16765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9" name="Object 11"/>
          <p:cNvGraphicFramePr/>
          <p:nvPr/>
        </p:nvGraphicFramePr>
        <p:xfrm>
          <a:off x="2514600" y="2133720"/>
          <a:ext cx="2971800" cy="56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29718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12"/>
          <p:cNvGraphicFramePr/>
          <p:nvPr/>
        </p:nvGraphicFramePr>
        <p:xfrm>
          <a:off x="2438280" y="2724120"/>
          <a:ext cx="2514600" cy="62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2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724120"/>
                    <a:ext cx="2514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Object 13"/>
          <p:cNvGraphicFramePr/>
          <p:nvPr/>
        </p:nvGraphicFramePr>
        <p:xfrm>
          <a:off x="1981080" y="4038480"/>
          <a:ext cx="3429000" cy="633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4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4038480"/>
                    <a:ext cx="34290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Object 14"/>
          <p:cNvGraphicFramePr/>
          <p:nvPr/>
        </p:nvGraphicFramePr>
        <p:xfrm>
          <a:off x="1981080" y="4724280"/>
          <a:ext cx="3353040" cy="62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6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4724280"/>
                    <a:ext cx="33530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7" name="" descr=""/>
          <p:cNvPicPr/>
          <p:nvPr/>
        </p:nvPicPr>
        <p:blipFill>
          <a:blip r:embed="rId13"/>
          <a:stretch/>
        </p:blipFill>
        <p:spPr>
          <a:xfrm>
            <a:off x="5024160" y="1599840"/>
            <a:ext cx="3284280" cy="218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8" name="Object 18"/>
          <p:cNvGraphicFramePr/>
          <p:nvPr/>
        </p:nvGraphicFramePr>
        <p:xfrm>
          <a:off x="1981080" y="3413160"/>
          <a:ext cx="1371600" cy="549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89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81080" y="3413160"/>
                    <a:ext cx="13716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5:19:37Z</dcterms:created>
  <dc:creator/>
  <dc:description/>
  <dc:language>en-US</dc:language>
  <cp:lastModifiedBy/>
  <dcterms:modified xsi:type="dcterms:W3CDTF">2014-03-05T05:19:45Z</dcterms:modified>
  <cp:revision>1</cp:revision>
  <dc:subject/>
  <dc:title/>
</cp:coreProperties>
</file>