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14.png" ContentType="image/png"/>
  <Override PartName="/ppt/media/image10.gif" ContentType="image/gif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gif" ContentType="image/gif"/>
  <Override PartName="/ppt/media/image16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0.wmf" ContentType="image/x-wmf"/>
  <Override PartName="/ppt/media/image1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17.png" ContentType="image/png"/>
  <Override PartName="/ppt/media/image9.jpeg" ContentType="image/jpeg"/>
  <Override PartName="/ppt/media/image23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1A1-BFD6-4DB9-B20B-357D313431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7AC-BF5A-4309-82F5-EF3B63E0BB4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E203-CD16-4349-A59E-0EED2B82D2A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302A-39E0-4F6B-98CD-092A0783D1F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274-4E7F-4326-942B-5D7997FE60A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A9B8-E0AE-4C53-B4FF-FA7D46DC93E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DF06-F61E-4685-9272-A74F797DD65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9AE9-A8E9-436D-B157-D8D95F512DB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9015-1FB1-49C0-ABED-5C5B8B3BBDA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C8B1-7DF4-4F38-9F17-4E3AF263164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20F7-EC0A-4226-9243-9384CD07A89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51FF-313C-4638-9201-681B8307E2C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5443-0DEE-46D4-8127-89A0E1B0E6C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4BE-E36A-40EB-9987-ACF6A3E9E91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AE49-C0BB-41B5-96EB-41B7035F430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CE90-F12B-40C9-9C80-99DF12A48F1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242-480D-4EB0-AE48-43F610D2DB1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6DC-8B1C-452C-99AF-34BA2208A39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717-0B2D-4BFE-8B46-95053E85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2D0-6647-40A9-AC2D-A8E1D013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5F0F9-7EF8-4A04-8E70-5BC1FDF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19AE6-A3E6-4989-A45F-774CC695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CB6C1-B069-496A-87FF-1AF8E1E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644C3-2168-4167-81DC-92462F4F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034C-EC6A-4F3A-8E48-ADEE4EA1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72832-8102-479C-A91B-30A38CB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0D347-BF62-458C-82F7-62AC1B1D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4C741-2AEE-4604-AF04-73DC1663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F93C6-77F2-4592-B5AA-0DB27C0E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F32FA-A334-4A8D-8B20-89CB8C03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9A0-63D8-493C-8611-7FBB7135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4D6A2-6B92-4826-A895-C79AEC60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DEF2A-72D4-41A4-8F16-2B9F7AE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1CE76-2587-413A-97ED-B95832F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62748-50DD-45BD-9763-6F0B8A8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DDFFE-CE9F-407E-BAF6-B915722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394BA-167D-4D0E-A6C4-F081C2A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C6CCC-C871-414B-AB47-25C9217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853BD-6766-45A6-9FC2-57A9631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B112D-B6D1-44EB-9A2F-4AAE9ED3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9B15B-BEC7-4CBA-8C01-F0746CDC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60C-8A79-45AD-9E0B-D9FFA620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7EC3B-15C2-4CDD-8FEB-D0DAF147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295AF-B42E-43D5-9918-CEDE8AAD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8D46B-D5FC-498C-BBD8-F802383B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7FBB5-8A6D-47FC-A95A-FDA85F1E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4B6FA-31C3-4E34-B8FB-19F343E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80CC-25E0-4244-9C7B-2C48E021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FFFE8-2E96-4B48-A3C5-57CFAF1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98CD5-95D6-4192-8DD1-5F1653D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433A8-D0B1-44FF-92E5-0D4F8E9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0E675-164C-482F-9941-FA08E68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C107-772F-4C6F-918C-1855C1B5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B3CFB-C3D5-4208-A426-CEBA1F77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99100-F880-4797-85F8-13990318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532F9-4688-43C4-9A4F-918B4C97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A0848-4EA9-404E-8C27-1063653A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99FF0-C7E9-4659-9313-D185114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9F30D-880C-43E4-8B63-499D5372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8FA72-1F31-446F-8DE2-B47B9E7F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7E184-E3C6-4E19-B9A6-EB076401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4F2D4-6418-4312-847A-C0CBDA9A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02463-A682-41EB-BD99-DE37309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D0F5-A3A2-4670-AD49-A5EAD997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3CF1A-DBCC-45FF-AF28-83346272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2BB66-F5F6-4F8A-BA9D-34CB909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11E25-6DCA-4EC7-B1E4-B6F7656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7A6E5-745D-47F0-976B-2505E980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B63F-8DD3-4634-BBF3-3DAFAA8E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E70B1-AA0F-4EF7-A59A-5A59DBDA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1F5F2-F790-45A0-845A-D1C14847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DDB9A-ECB7-4075-9AF0-ACF1B69D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B42C2-8573-4CD7-B017-93A7A96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63936-A64C-41F5-B1ED-9AE3B8D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0E7F-3259-4C42-91CD-BC956DA7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49762-A27D-40D5-80ED-D5716070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96A3E-01C1-44D4-B327-819C748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19013-3E72-47C5-B43A-BA9D1CE6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C755F-FBD2-47AF-9D0D-9F12FCB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5F1F9-B445-429D-B52B-14ABD060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A66C6-CE3D-4AC8-9B6C-5A4BF489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2DDF0-EDF6-4C97-BE20-0BB05829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C2FF1-DB38-4AA0-A9CC-895726E1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7CD43-D685-4694-97F0-5117A01A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DE572-0B64-48B5-98A4-C16913C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D158-B52A-411E-B652-D78B90D2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76D7E-60ED-47EC-AAC5-93E4B378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4113F-0149-4C40-A75C-CE88503C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B6B06-E689-4358-B7A3-C212A33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99195-FFCD-4C5A-BBA7-DFF7DA26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17415-78CA-46DF-8279-5C1FA65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7FF05-9B36-4864-A8A2-024728E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810EC-F218-4DDB-BC58-33A5152E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5CEED-A35B-4862-BF83-1FC8150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66265-351D-441E-B9AA-A6AEDC6B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EC334-EB75-42C0-B84E-AB358347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555E-0B35-4CB5-84D3-78627A8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6386D-A072-4E3D-8389-588864B2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310A8-BE17-43BC-89CE-09F25BD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008C9-2521-402A-89F8-C5B7429D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FB4B2-32CC-40FA-9C46-600DABE9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8450A-7C6B-437E-9CF9-48E403A6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4736B-A0AC-40AC-8D09-6717B7F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42203-A200-48A8-8F76-CD769FE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D17EF-BEA1-4F73-9699-0964C4C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E4FE6-F26F-4AFC-9873-A87C75F0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1645E-A996-4A34-A01C-A594601A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45D0-0DA8-42B3-B2D8-39E1515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9455E-761C-4C25-89C9-78AB856C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16415-ECDC-4A09-9A80-1CBCA222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0172E-182A-462C-AD0A-FBCCD06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D2F45-3FD9-45AF-9106-F402DCAE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96B32-C539-42F0-987A-7DDA2A9E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0A6CC-4717-4240-985A-5F1503B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79297-9D58-4CF0-8BAC-193DCFB6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12B45-C053-4B84-B929-9E54479D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ADA8F-126A-49DC-A8C6-A40E8F33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5DDE1-EBA5-4D9E-A506-1A65956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9399-777F-4A7B-9EFF-FBC3429F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60DC7-D8F0-4701-A10E-2A2F45E7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1DE47-71F2-4D7D-B9D1-5DD06293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EB85E-41DD-4B09-9295-3C3161AC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3207D-382C-4710-A8FC-6FA8B00B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225ED-C20A-4282-B45E-46DFD02E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A8920-D9CA-49D8-A9F2-98834AB0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150A7-9A4E-4A9F-992D-4A7B74C2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6A1BA-8CBC-4E5E-BEF3-7FA11A43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6E256-28FE-4E45-9054-7F1EB8E9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57469-4B06-40FA-8AC8-6FF3BCF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A9E-8DC5-4397-85DC-24019458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7E87-249D-4B90-BB11-5CC3FFA2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D67B4-F3E4-42D8-9834-8F26B1B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17257-C67B-4D78-97C1-7D0CFC7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F6915-7E4D-4D60-8021-1F0D788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68967-14A4-4ACC-A67F-EA341F0F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3B9F5-490C-45C4-A20F-D3EAD57E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BF389-3F30-4951-9255-6D629862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D0CBF-08CC-431D-B898-868890F0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5A394-3509-4D94-A6F5-4F8B6BCB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2303A-5701-4623-B751-F794525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91791-51E8-48CE-B84F-A14810B6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38C4-0C2E-4D47-AA43-C7CFA265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66CE3-08B5-445B-B937-C3EE848E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EFDE0-0897-41D7-A899-4F320A3B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B9069-E522-43F9-8835-846FD2E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8923A-230A-4177-91D3-EF671A68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C937F-2084-42A5-9D44-F743E74B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8476B-C8CB-405F-867F-0D9FC736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09D80-7418-4D88-B93D-FA18D8F2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356D4-19A5-4AC0-9E08-002459F6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670BB2-7FD0-4739-B527-5AF1B2C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D9C1D-9FF0-405F-A40E-2D111502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78EE-E106-41BA-B4B5-FE37DF1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2B46C-C50D-4ED7-AC50-74042316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F3BA7-CEE5-453C-A1B2-BE87DB38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7F7BB-E905-40E5-AD85-BB287388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9565A-91A5-4EEA-8294-63D64C62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B7F7E-21FD-4C11-810C-00E0DBE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C7E816-D4A8-422C-BFB1-7855763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36C375-83D1-4C34-B123-42DCBC13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91BC34-7FD7-44E2-84F2-94F07F12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3C3C8-C545-4227-B25F-CA5D38CF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3AB5B-57BD-4DAD-80DF-308E06D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743B-8C45-41C1-91D9-1CC15867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B5818-CB01-48E2-AC81-A701F36C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4186F-4E8B-47C8-8A90-1501B55D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BAD30-70A4-4158-BF6A-7B5F4AA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9FB86-B483-446D-AA7E-A8FCA449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0DB09-BD77-435C-8452-EF06DA65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4424F-C55C-49F4-A1F2-A364B15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CAF06-891A-42C6-93DE-A1BB8E54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72D94-132A-412D-84F2-36AD4E7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9244C6-01D5-41F3-9C12-CD1DAC0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790ACF-7593-42C3-B1B6-070FCC6E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A93-3593-4B1A-AC2F-23A3175C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34727-89D2-4BAB-8814-9E418560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DD12F-05E9-4E67-8DA2-41EB41D8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6DDEB-55AA-4EBE-85A4-B22F8980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5F68AF-7D52-425E-9AE1-B5122B17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82914F-D3E1-428D-A33D-4FA83081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BC4FA-18DC-4665-8C7E-934F469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A03B5-5516-4482-BCDB-25DB530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20A85-FB17-40D7-931C-EA607A4F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8106A-5406-428C-BFAD-BD34563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9FACF-088D-4A21-8566-AFDFC04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24DE-3095-44D2-8B75-7969F70A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A40ED-3723-495B-95ED-6CACAEE6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B92B8-3589-47C0-A71E-EA4551CF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B78C8-7D4B-48E1-ADC1-7F8EBD5C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778C2A-DC81-49B6-9646-52F47F32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995364-66DB-4407-AD8F-F1C10471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2A63A-5DB9-4E5E-953C-9BC178E0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1D6ABA-DD3A-462E-813B-A32BF4B2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2E3DF-82F3-4C67-BEFD-872FF39F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F8A61-89EA-4210-8D93-061E1D8D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BFDE0A-4947-4298-8B10-DEF6C98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0504-8F9A-4857-9B1F-2FA798A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7E1D39-D710-436C-B428-46877E8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3CAB8E-769B-47A1-BA5B-776E8F5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BAE87E-75A1-4C33-A472-D094A9FE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6789CD-3F35-4D63-9A99-5698646E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04ED90-2C0E-46B4-AA0C-84A084EE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914624-8608-46B8-9996-C238C37E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5AFFF1-B942-42D0-9233-A5A103D4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2F001D-FABF-4803-98E4-C7490C41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CD506B-1585-42A2-B9D6-D1C40E76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A6DF7-CD5B-4241-AF18-E3E803BE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5025-4434-4CE8-82D2-7FB6BD5D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1E4DE3-D035-4814-B7BF-8F02F0BC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3258F-6D7D-417F-930F-478798FF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3D7A3-F2D0-44FB-8DFF-A63E954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0FD80D-C129-4BCA-88FF-3122807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CBD9D1-CA59-4B25-A645-2F7D5B4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16F9DC-ACF3-4669-9C84-AAC097DE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E7EE5C-27B3-4E42-B708-39E1C41A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AA7454-9996-40FD-854A-8ACFD654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14C9C6-87A1-4396-8132-D1EC86BA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69E76A-52D1-4F11-8C1A-6A543C9F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D99F-C876-44DC-96F7-D61BDEE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66D1FC-A7E6-4FAF-BC72-1A03550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31567-62F7-4E0C-91D7-6D922723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B3990B-B9B3-4B90-B5EF-CBE55AD0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12F66A-0147-4115-9493-F704E8B3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8E7D7-6EB6-43A4-93BD-A464A79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4E48C7-D725-4182-8597-F5F3AF1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9174EF-D968-4557-893F-D60E29EB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B02AAC-F580-47C0-8C5E-4505D5FF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667BE-AAB1-45ED-908F-2B5CD78A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CC646A-D014-43E9-9B68-1D451B70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03C5-5668-4A2F-AA1F-FC81E704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67B6E4-6D30-459F-AE90-94CADCE1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7CF077-799F-4EC8-B86D-3F4EFE8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1F2D91-D53D-4AB8-A358-8E98B3F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0196C4-AF4A-4916-8BD6-462E312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7B551D-1508-487F-9869-6E644D4D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4A876-7BAF-4C97-A964-27E9B52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AA4842-7DA0-49EF-97D9-55E4AB9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5E04A3-FC52-4DBB-AF45-2FCFB362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F88D61-28F9-4111-91EF-F60F98E1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8300AE-E2E9-4B12-90F4-EDDBF14A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794-21BA-456E-9866-247004C5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7606-D1B6-4198-8CF4-7F405940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8718BB-A8C2-402C-B3C9-A6CBC391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4C823B-A2E7-4D5A-9D84-664C3C7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C567AA-CF98-405C-B396-D65EE149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913CBC-2A76-409C-A747-8B2D2F4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2BCD5B-72AC-4FBD-9A64-EA84D16D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B09C2F-34C2-4E51-9E15-0B8D0889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F20F32-12F5-4F19-AC46-CE73333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13FD1E-5EFC-4538-928A-D83C8698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48B0C5-4EE4-4A6A-A65F-637314A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A1187D-6127-43B0-ABCB-98DFFFF6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6D6E-2887-40E6-A0A0-D74945B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EC2AC1-157D-4290-B8D0-C0319A8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ED0490-7EFE-429D-8595-A4A77041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6D30C7-4F63-4724-8C49-66204384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E9219A-9D8A-492F-93B3-39BF43DC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136F8C-EA0A-4F89-8FD3-19A2E44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355667-F13D-464F-9FA8-EC73D9F7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E7C2E3-8D78-41A8-AAB7-A0701989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A4A12D-D5DD-4C09-A796-5E4D784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A7837C-1F15-42AF-901A-F857591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6F3D99-E113-4EE2-BE77-58ED116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7906-6183-4BA4-BCC3-9F2541E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BBEB23-082B-442D-869A-D0590CD4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41CC0D-96CC-4BD6-8C18-EE7A828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C8872B-4146-408E-9405-786EC63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2C1B0B-CEC0-4AC4-94B5-B1FB7485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C2CD2E-1D64-4A28-BFA9-D916426C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FAF0EC-CD81-4A03-B300-1774D5EA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B94B17-E65C-47F1-9F1E-5D24114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8DC147-7D1F-42C3-B750-59EDD85D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970565-AB96-4931-BC24-9476B9CE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33628D-985F-4E82-804A-8B37F964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5DF3-9DA9-4C38-A401-DD8F6B5B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8C0EDD-4C89-4FC3-BB00-D9D0F0E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24F0E9-2A9C-4A72-B27E-65A7D699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43962-5569-43AB-83BA-C77A793B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EAF709-7491-4F13-89DF-5A20A0D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D6E1BA-BA84-4E74-B27D-0F57874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430226-102C-4C1C-BBFD-508D9B6B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814F61-E6A2-4B9F-9450-3B67D2E3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E9CF3F-8251-4519-84C8-931759E2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374AFD-3DD4-4018-8A5A-E2609DD6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90A37F-4DEA-44AC-8ADE-73CA9619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781C-6853-4CF6-B376-BA8539A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609A1-D1FE-4C24-B5B4-6B1288D5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C81551-9C75-4FEA-A9B7-3168D040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661ADF-E51B-4B89-A494-41F9950B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7A0E80-80B5-4B7F-AE14-98DE8C91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074CA0-FD28-41EE-8D9E-C57E080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F7BC9F-3986-45A2-939E-607B4B20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7DB69E-E22E-44B3-838C-AF63DD59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370644-45BD-4F49-8653-B8465321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A126BC-E522-4BF8-B0EC-44F5BFB3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D2890B-01AE-4352-9963-94D19398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5DF5-4674-4B80-80B1-2DDE7F3D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5BD477-DA05-42B8-B1A7-18FA1D10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1C2FA6-C4AF-458A-A923-8A840734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582D5A-64EB-4060-A153-659A50E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09927B-E4F3-40D2-B7F9-2FDC907A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FEEF8F-7667-4A04-8DB5-554E396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FFA4B1-AF24-4528-AD42-36575E9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BC75E1-B6A5-4CCB-8627-3AF3186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AA6F4F-DC8D-484D-9251-3CDA8E2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03FE01-83EA-4EE3-BC1D-3C402FC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D48258-F69D-49F4-8481-1B82F153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1EF9-B201-4208-A047-77C4CDA2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EA1626-949B-4880-B16B-96723F00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0FEF31-E453-4C2A-9848-63A212FE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3542ED-3076-41D4-9F20-441687DE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4E8890-0469-43EA-B792-4CC9BE0B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88BB9B-3A48-49EC-926F-4766D12E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AD22DE-96EF-42CF-8319-8ACB6F38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25F043-C550-4141-9F87-E905C6A4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B7C54D-27D0-493D-96EE-DE975C8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63C7C9-CBCD-4874-A554-B998659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AD68E5-D3CE-43EE-840F-58D22F2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C8C6-400F-42FB-A1B6-15B215BE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01E93C-5014-4EE2-9294-1B49E893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35E451-CF35-4FEC-9DAB-744332F2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FDD74A-0B5D-45F6-8909-D80A9BAE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97055E-46D5-4AC8-AB6A-5F1363EE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756528-617A-4036-B7A2-776415CC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4E540B-D472-4402-B7B8-AE5D9C08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31752E-73CB-4D92-94EB-4CED84EF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293B61-1128-454B-B321-A82A84F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4C5EE5-4C70-4ED1-AC5B-A05F204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C321A4-5B52-4296-8664-D5B4C40A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403C-35C1-4AAD-B674-E81300BE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07B404-E30B-4730-8C62-5917216E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056C31-2B89-477D-A8F1-922D33A9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721C25-F91D-4788-A664-777ABB67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EF63D4-42F6-47D8-99EB-0C2DCEA4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CC209E-557A-4148-B938-FF2419C1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328AA4-F1A5-405D-887C-D17B65CA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0B693F-143D-43AC-84BC-7BAEB07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0B4F72-D9A7-421F-8FDC-8FC87E6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DE3D27-B154-4C57-BE7F-15A9704B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C86C46-2818-450E-B676-FFCC719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4518-3A6A-425C-B6F4-ABB3C000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AED97D-590E-4564-984D-1BC52725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9268DC-7AEC-4B65-B097-BB18C11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DE4C26-D88E-461E-A46C-1B0E36D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8E565F-708E-433A-9CF7-405F7F78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AA5B3E-9BBF-4C68-A678-77CFCC7A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02A275-6F2C-459A-93C2-9D7F32AE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A030EF-4FC7-4971-92F9-2706F65E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749C6F-2929-4926-9D72-51B5D135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259561-74F9-4CC5-96A9-865A0414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5715D6-4BCD-4614-83BE-D940385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A3A-C291-4C46-96B0-E4C0D267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5C74-9BDA-489E-B3B4-03E8CC87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FC6DBC-C392-4EED-92BF-DB77D119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010817-88A9-4C9A-9ADE-454EFB05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9C33EF-14DE-439A-A27F-5C103594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977024-DC33-4481-83AD-AADECD3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D0554A-9242-4929-B794-A0F17D92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B3A7F3-D8CD-4C7F-A7E4-6748FE3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07361E-87BA-407C-B003-C8255AF2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0AA12B-6504-486D-A512-639CC7C9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106C3C-B50E-4880-9952-9E32D21B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9E3631-3A47-4041-BFC4-2A921341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39DD-0947-4E19-9366-F5AC3AD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00DD3A-5393-4786-B077-D17D85E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651D46-B325-4D4C-BDB9-F070EC8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61A6FA-7130-4256-AD85-190756CD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D4B95D-A17B-4BE7-B654-E20E096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7472FE-03C7-4217-8CC7-3C23E4F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AC63D5-7FCA-4D64-81DE-43C92CA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9AA16C-59CD-45C8-9D7B-BBDBDD6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16B6A7-A06D-4AE4-8D48-AB26DC7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9A2E56-14AC-46D2-9670-C972017E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6C7592-6E32-44FE-8665-46120A02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955A-92CC-494B-ACAF-B9E6585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F86286-43FB-4BD4-BB83-1D898DA3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365551-2C35-464A-A9A5-71174B0B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3378C7-EA4F-48A8-9CEE-3E7A29A0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65E1CE-B8D1-4036-A92C-F61CEC3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C38223-0190-4D63-BC31-E706EEF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A90EBF-FD4F-4A40-B721-80FB9081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0951F1-3D78-43C5-B338-B4F1D847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96E254-7DCF-4A8B-A4F9-F8F7EA0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7C54BE-E658-4DAE-AE69-704C0146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84AE80-E638-45FF-B925-109FB49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8CACF-AA2E-440C-9C66-A9FECBDE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92F21C-E94C-4B6D-B527-AFCCB66A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2B1204-3FAF-45F7-AD4F-E3502AA3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311240-1B67-40AE-A6C5-59AEC4F4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3458CB-C763-462C-87BB-777086F2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4C0D56-4CAB-45B8-8E64-EA20FFB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A0924E-AB55-4BE0-95DE-FAFA70D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59FADA-92AD-4A86-AA80-5D9E4596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75BDB7-48D4-475F-A858-9DC16CBD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B466CF-609C-4196-8471-8BF92DA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588303-3316-4CAA-A82B-16E61149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DCAAC-6D23-412A-B401-83ADC4E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2E69F0-157E-4414-B2D3-1EFA2C7F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51558C-0732-493A-A349-F0EB2E12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D096A6-90BE-4E68-8AE0-F41E0BF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027FBF-05E8-4C27-B2BF-E6321801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D15A6C-3A7B-439E-AC74-985CA58C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0F9C-BA24-47E6-8E67-5BD6954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F80E-2DD4-4FC2-BDC3-1B0A9842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FCCF-1FF5-4F70-9A0A-1FF3B963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A5BA-5ED0-4C2A-9B86-8A95C1EA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15B8-AE03-49E8-AE2F-F2EA8C6D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67B-BAA2-4EF6-9367-D6DB8CC3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A70EE-0A72-46AF-8AC1-969A5C2B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4DAE-BDF4-4133-96D0-6243179B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8604-8077-4C75-A0B5-E3F04223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DB00-B1B3-4077-8444-30175051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2D571-FB3B-47B9-AB7D-62836988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A57B-DC16-4F67-8919-761EFE7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391E-F753-430B-A6D6-EC4EFA0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7D95-8A31-420C-BCA8-00B47392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458A9-0523-4F83-978D-94336B68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8E3C-546E-4D72-9B3C-D84AC8DE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6D4-212F-4465-AE12-A63C83B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DB22-0236-456A-B67C-4B36E7BE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9F3B-8F43-4C66-ADB5-A54B24A2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B334-01EA-4C60-BCBD-0F85D298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EF56A-4115-406F-A2F8-490014B2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94A2-1250-44C2-92BF-ED90233C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E03F-E559-4884-B57E-3AB27A9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A736-DE4F-4DAB-94B1-0BDFE2C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2DC39-8098-4C99-B920-FD80B60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435B-F2FD-4FE2-994B-E31CAFCC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240F-469B-4126-A314-51DD20F6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1FB-B269-4D86-8B36-2E81BEE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A60B-7D77-46FC-A0FC-33B36166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9813-165F-4278-9D0A-06D87DE4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0B38B-6B88-49F5-B736-C6246425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A76B-B749-49F0-9F82-2E30A163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C9AE5-184E-417D-A75E-6617564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64954-8FF8-4552-AA3A-8739EB87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9B137-E249-461C-9EB6-C239228F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F91F-FA0E-4C45-97B2-0B727CD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ECC3-5345-4300-BAC1-5722DFA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4267D-6517-4B82-B15B-86BFCF94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DF1-E742-4EA3-BEB3-633A3A9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D7DE-D42C-4961-87A5-4BBDFB08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7985E-E305-4E65-BC9C-6F182FD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5293-D922-4969-AE11-E42E0FBE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6FF6D-314E-4834-BBED-BFCA269F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B817F-9E2B-4DF0-A090-DC67FDB2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EF6FC-6DD4-4ACE-9839-E1CF3A23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C97F7-AB0D-443A-BF64-AF6160A1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17556-28D1-4C52-A6A9-55C6EE41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8AF8-3D49-4521-B864-4E7B8C07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1EC74-35EE-405C-9535-A0E6AD56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319-5042-465E-A505-A575FEA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AC8C9-8EBF-4CC7-AE19-D42017B1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D88AA-1037-4F2D-9013-3BA1ED0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32CC6-5A36-4B11-95F6-969B95C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3A523-710A-414C-A8D7-2137FBAD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631FA-6C3E-4D4F-ABC1-81BB31BA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4EB9E-CD2C-4F57-AAA7-F142AFCC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5230-8825-4FF9-BFE4-72E6476E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EBCBA-46DA-4AAC-957D-055ECF89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94822-9908-4700-AB7B-10D3AACC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B5053-6EE5-4B72-820F-04F7F47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0963-A2FC-4A4F-AB8A-4E75419BF71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953-ED90-4090-802A-E54F5E245AD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D954-EC9A-447A-AB1B-88EB378C2A1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19C3-C9B7-4BB2-ACEB-39777B14D74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8B03-0CA7-48C0-847F-C82D5CE6D84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EE9F-1605-45B1-9C8D-FA35BBC88F8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F39D-8010-4015-870D-3DD5741A576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BD9-DF52-426D-A92E-5A4CD766675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F07D-5381-4E66-A608-0A50C0E8E27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2AAD-B918-4F5E-BC45-A0481AE0386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72AD-B181-4708-B40A-2995BD39645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ADF-06C8-4FA3-A442-627B862786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D779-C017-4EBA-9AF0-867863D54BD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DF63-E008-487E-B0CF-FD3D9BCD0DB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367-E80A-4458-823A-488B1019D65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9A6-B9FF-4B9C-A874-ABD4215D6CE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4C3B-1777-439E-B204-04A614595AB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2ED2-E0EA-4719-95CC-76683B55C94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090-00F5-47BD-A27B-75D8E0D426E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0CE2-4D1F-4B08-AD58-AA07B7649B1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66C-14A7-474F-825F-3DB5A75A8D8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43B0-2906-4C46-9330-411D8AAC8AF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983C-6D75-4487-B76F-AEFB0E4CDE8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7711-77E2-4B76-9FD4-45EF9A6A31A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2EC2-970B-446C-AFF6-F625719B496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F4E6-7045-48FB-A2E3-04F5C43D9A2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1C25-E4FE-4D7B-80C9-CC87A531796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8D78-6292-4ED2-9D1B-365255F460E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A83-975D-42F5-87DC-6392D8BF697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803-1DFB-498A-866F-2CF0F8D9A21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293-910D-490A-B1CF-0662900F02A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3B15-36BC-42AC-A425-10A08EBE199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C53-713E-4AE6-B97D-FDD997BE86B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672-DC38-493B-8BE3-49478E6E9FF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3233-E844-493D-AFD4-B95D02D3A80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AC1D-66D3-42DF-B11A-CB4CB051F93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165C-B9F5-45FF-96B1-3EC8BB12B46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2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3.2  </a:t>
            </a: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图形的旋转（一）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8" name="Text Box 3"/>
          <p:cNvSpPr/>
          <p:nvPr/>
        </p:nvSpPr>
        <p:spPr>
          <a:xfrm>
            <a:off x="304920" y="12193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三章  图形的平移与旋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Picture 2" descr=""/>
          <p:cNvPicPr/>
          <p:nvPr/>
        </p:nvPicPr>
        <p:blipFill>
          <a:blip r:embed="rId1"/>
          <a:stretch/>
        </p:blipFill>
        <p:spPr>
          <a:xfrm>
            <a:off x="324000" y="909720"/>
            <a:ext cx="86263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Picture 2" descr=""/>
          <p:cNvPicPr/>
          <p:nvPr/>
        </p:nvPicPr>
        <p:blipFill>
          <a:blip r:embed="rId1"/>
          <a:stretch/>
        </p:blipFill>
        <p:spPr>
          <a:xfrm>
            <a:off x="108000" y="587520"/>
            <a:ext cx="8928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Text Box 2"/>
          <p:cNvSpPr/>
          <p:nvPr/>
        </p:nvSpPr>
        <p:spPr>
          <a:xfrm>
            <a:off x="900000" y="33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拓展练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 Box 3"/>
          <p:cNvSpPr/>
          <p:nvPr/>
        </p:nvSpPr>
        <p:spPr>
          <a:xfrm>
            <a:off x="3493440" y="112536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图案可以看作是一个菱形通过几次旋转得到的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每次旋转了多少角度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3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3354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 Box 2"/>
          <p:cNvSpPr/>
          <p:nvPr/>
        </p:nvSpPr>
        <p:spPr>
          <a:xfrm>
            <a:off x="755640" y="692280"/>
            <a:ext cx="80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图案可以看作是一个菱形通过几次旋转得到的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每次旋转了多少角度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5" name="Picture 3" descr=""/>
          <p:cNvPicPr/>
          <p:nvPr/>
        </p:nvPicPr>
        <p:blipFill>
          <a:blip r:embed="rId1"/>
          <a:stretch/>
        </p:blipFill>
        <p:spPr>
          <a:xfrm>
            <a:off x="4859280" y="1771560"/>
            <a:ext cx="3335400" cy="3740400"/>
          </a:xfrm>
          <a:prstGeom prst="rect">
            <a:avLst/>
          </a:prstGeom>
          <a:ln w="0">
            <a:noFill/>
          </a:ln>
        </p:spPr>
      </p:pic>
      <p:grpSp>
        <p:nvGrpSpPr>
          <p:cNvPr id="1656" name="Group 4"/>
          <p:cNvGrpSpPr/>
          <p:nvPr/>
        </p:nvGrpSpPr>
        <p:grpSpPr>
          <a:xfrm>
            <a:off x="682920" y="1844640"/>
            <a:ext cx="3815280" cy="3745080"/>
            <a:chOff x="682920" y="1844640"/>
            <a:chExt cx="3815280" cy="3745080"/>
          </a:xfrm>
        </p:grpSpPr>
        <p:sp>
          <p:nvSpPr>
            <p:cNvPr id="1657" name="AutoShape 5"/>
            <p:cNvSpPr/>
            <p:nvPr/>
          </p:nvSpPr>
          <p:spPr>
            <a:xfrm>
              <a:off x="2053440" y="1844640"/>
              <a:ext cx="1082160" cy="187164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AutoShape 6"/>
            <p:cNvSpPr/>
            <p:nvPr/>
          </p:nvSpPr>
          <p:spPr>
            <a:xfrm rot="3600000">
              <a:off x="2875680" y="2303280"/>
              <a:ext cx="1079640" cy="1875960"/>
            </a:xfrm>
            <a:prstGeom prst="diamond">
              <a:avLst/>
            </a:prstGeom>
            <a:solidFill>
              <a:srgbClr val="333399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AutoShape 7"/>
            <p:cNvSpPr/>
            <p:nvPr/>
          </p:nvSpPr>
          <p:spPr>
            <a:xfrm rot="17939400">
              <a:off x="1225080" y="2303280"/>
              <a:ext cx="1079640" cy="1875960"/>
            </a:xfrm>
            <a:prstGeom prst="diamond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AutoShape 8"/>
            <p:cNvSpPr/>
            <p:nvPr/>
          </p:nvSpPr>
          <p:spPr>
            <a:xfrm rot="14388000">
              <a:off x="1225080" y="3238560"/>
              <a:ext cx="1079280" cy="1875960"/>
            </a:xfrm>
            <a:prstGeom prst="diamond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AutoShape 9"/>
            <p:cNvSpPr/>
            <p:nvPr/>
          </p:nvSpPr>
          <p:spPr>
            <a:xfrm rot="17943600">
              <a:off x="2876400" y="3238560"/>
              <a:ext cx="1079280" cy="1875960"/>
            </a:xfrm>
            <a:prstGeom prst="diamond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AutoShape 10"/>
            <p:cNvSpPr/>
            <p:nvPr/>
          </p:nvSpPr>
          <p:spPr>
            <a:xfrm>
              <a:off x="2053440" y="3717720"/>
              <a:ext cx="1082160" cy="187200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3" name="Group 11"/>
          <p:cNvGrpSpPr/>
          <p:nvPr/>
        </p:nvGrpSpPr>
        <p:grpSpPr>
          <a:xfrm>
            <a:off x="2052720" y="1844640"/>
            <a:ext cx="1079280" cy="3743280"/>
            <a:chOff x="2052720" y="1844640"/>
            <a:chExt cx="1079280" cy="3743280"/>
          </a:xfrm>
        </p:grpSpPr>
        <p:sp>
          <p:nvSpPr>
            <p:cNvPr id="1664" name="AutoShape 12"/>
            <p:cNvSpPr/>
            <p:nvPr/>
          </p:nvSpPr>
          <p:spPr>
            <a:xfrm>
              <a:off x="2052720" y="1844640"/>
              <a:ext cx="1079280" cy="18716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AutoShape 13"/>
            <p:cNvSpPr/>
            <p:nvPr/>
          </p:nvSpPr>
          <p:spPr>
            <a:xfrm>
              <a:off x="2052720" y="3716280"/>
              <a:ext cx="1079280" cy="1871640"/>
            </a:xfrm>
            <a:prstGeom prst="diamond">
              <a:avLst/>
            </a:prstGeom>
            <a:noFill/>
            <a:ln w="93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6" name="Group 14"/>
          <p:cNvGrpSpPr/>
          <p:nvPr/>
        </p:nvGrpSpPr>
        <p:grpSpPr>
          <a:xfrm>
            <a:off x="2050920" y="1846440"/>
            <a:ext cx="1079640" cy="3743280"/>
            <a:chOff x="2050920" y="1846440"/>
            <a:chExt cx="1079640" cy="3743280"/>
          </a:xfrm>
        </p:grpSpPr>
        <p:sp>
          <p:nvSpPr>
            <p:cNvPr id="1667" name="AutoShape 15"/>
            <p:cNvSpPr/>
            <p:nvPr/>
          </p:nvSpPr>
          <p:spPr>
            <a:xfrm>
              <a:off x="2050920" y="1846440"/>
              <a:ext cx="1079640" cy="187164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AutoShape 16"/>
            <p:cNvSpPr/>
            <p:nvPr/>
          </p:nvSpPr>
          <p:spPr>
            <a:xfrm>
              <a:off x="2050920" y="371808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9" name="Group 17"/>
          <p:cNvGrpSpPr/>
          <p:nvPr/>
        </p:nvGrpSpPr>
        <p:grpSpPr>
          <a:xfrm>
            <a:off x="2050920" y="1844640"/>
            <a:ext cx="1079640" cy="3743280"/>
            <a:chOff x="2050920" y="1844640"/>
            <a:chExt cx="1079640" cy="3743280"/>
          </a:xfrm>
        </p:grpSpPr>
        <p:sp>
          <p:nvSpPr>
            <p:cNvPr id="1670" name="AutoShape 18"/>
            <p:cNvSpPr/>
            <p:nvPr/>
          </p:nvSpPr>
          <p:spPr>
            <a:xfrm>
              <a:off x="2050920" y="1844640"/>
              <a:ext cx="1079640" cy="1871640"/>
            </a:xfrm>
            <a:prstGeom prst="diamond">
              <a:avLst/>
            </a:prstGeom>
            <a:solidFill>
              <a:srgbClr val="ff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AutoShape 19"/>
            <p:cNvSpPr/>
            <p:nvPr/>
          </p:nvSpPr>
          <p:spPr>
            <a:xfrm>
              <a:off x="2050920" y="3716280"/>
              <a:ext cx="1079640" cy="1871640"/>
            </a:xfrm>
            <a:prstGeom prst="diamond">
              <a:avLst/>
            </a:prstGeom>
            <a:gradFill rotWithShape="0">
              <a:gsLst>
                <a:gs pos="0">
                  <a:srgbClr val="cb0f0f">
                    <a:alpha val="0"/>
                  </a:srgbClr>
                </a:gs>
                <a:gs pos="100000">
                  <a:srgbClr val="5e0707">
                    <a:alpha val="0"/>
                  </a:srgbClr>
                </a:gs>
              </a:gsLst>
              <a:lin ang="5400000"/>
            </a:gradFill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2" name="Group 20"/>
          <p:cNvGrpSpPr/>
          <p:nvPr/>
        </p:nvGrpSpPr>
        <p:grpSpPr>
          <a:xfrm>
            <a:off x="2050920" y="1844640"/>
            <a:ext cx="1079640" cy="3743280"/>
            <a:chOff x="2050920" y="1844640"/>
            <a:chExt cx="1079640" cy="3743280"/>
          </a:xfrm>
        </p:grpSpPr>
        <p:sp>
          <p:nvSpPr>
            <p:cNvPr id="1673" name="AutoShape 21"/>
            <p:cNvSpPr/>
            <p:nvPr/>
          </p:nvSpPr>
          <p:spPr>
            <a:xfrm>
              <a:off x="2050920" y="1844640"/>
              <a:ext cx="1079640" cy="187164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AutoShape 22"/>
            <p:cNvSpPr/>
            <p:nvPr/>
          </p:nvSpPr>
          <p:spPr>
            <a:xfrm>
              <a:off x="2050920" y="371628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5" name="Group 23"/>
          <p:cNvGrpSpPr/>
          <p:nvPr/>
        </p:nvGrpSpPr>
        <p:grpSpPr>
          <a:xfrm>
            <a:off x="2050920" y="1844640"/>
            <a:ext cx="1079640" cy="3743280"/>
            <a:chOff x="2050920" y="1844640"/>
            <a:chExt cx="1079640" cy="3743280"/>
          </a:xfrm>
        </p:grpSpPr>
        <p:sp>
          <p:nvSpPr>
            <p:cNvPr id="1676" name="AutoShape 24"/>
            <p:cNvSpPr/>
            <p:nvPr/>
          </p:nvSpPr>
          <p:spPr>
            <a:xfrm>
              <a:off x="2050920" y="1844640"/>
              <a:ext cx="1079640" cy="1871640"/>
            </a:xfrm>
            <a:prstGeom prst="diamond">
              <a:avLst/>
            </a:prstGeom>
            <a:solidFill>
              <a:srgbClr val="ff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AutoShape 25"/>
            <p:cNvSpPr/>
            <p:nvPr/>
          </p:nvSpPr>
          <p:spPr>
            <a:xfrm>
              <a:off x="2050920" y="371628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8" name="Group 26"/>
          <p:cNvGrpSpPr/>
          <p:nvPr/>
        </p:nvGrpSpPr>
        <p:grpSpPr>
          <a:xfrm>
            <a:off x="2050920" y="1844640"/>
            <a:ext cx="1079640" cy="3743280"/>
            <a:chOff x="2050920" y="1844640"/>
            <a:chExt cx="1079640" cy="3743280"/>
          </a:xfrm>
        </p:grpSpPr>
        <p:sp>
          <p:nvSpPr>
            <p:cNvPr id="1679" name="AutoShape 27"/>
            <p:cNvSpPr/>
            <p:nvPr/>
          </p:nvSpPr>
          <p:spPr>
            <a:xfrm>
              <a:off x="2050920" y="1844640"/>
              <a:ext cx="1079640" cy="187164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AutoShape 28"/>
            <p:cNvSpPr/>
            <p:nvPr/>
          </p:nvSpPr>
          <p:spPr>
            <a:xfrm>
              <a:off x="2050920" y="371628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Text Box 29"/>
          <p:cNvSpPr/>
          <p:nvPr/>
        </p:nvSpPr>
        <p:spPr>
          <a:xfrm>
            <a:off x="755640" y="18900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拓展练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30"/>
          <p:cNvSpPr/>
          <p:nvPr/>
        </p:nvSpPr>
        <p:spPr>
          <a:xfrm>
            <a:off x="755640" y="55897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答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旋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次得到，旋转角度分别等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4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00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71" dur="2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76" dur="2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1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186" dur="2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0">
                                      <p:cBhvr>
                                        <p:cTn id="191" dur="2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3" name="Picture 2" descr="绿色大理石"/>
          <p:cNvPicPr/>
          <p:nvPr/>
        </p:nvPicPr>
        <p:blipFill>
          <a:blip r:embed="rId1"/>
          <a:stretch/>
        </p:blipFill>
        <p:spPr>
          <a:xfrm>
            <a:off x="2340000" y="1486080"/>
            <a:ext cx="3959280" cy="3958920"/>
          </a:xfrm>
          <a:prstGeom prst="rect">
            <a:avLst/>
          </a:prstGeom>
          <a:ln w="0">
            <a:noFill/>
          </a:ln>
        </p:spPr>
      </p:pic>
      <p:sp>
        <p:nvSpPr>
          <p:cNvPr id="1684" name="Text Box 3"/>
          <p:cNvSpPr/>
          <p:nvPr/>
        </p:nvSpPr>
        <p:spPr>
          <a:xfrm>
            <a:off x="396720" y="149400"/>
            <a:ext cx="856944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拓展练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下图可看作是一个等腰三角形通过几次旋转得到的？每次旋转多少度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Text Box 4"/>
          <p:cNvSpPr/>
          <p:nvPr/>
        </p:nvSpPr>
        <p:spPr>
          <a:xfrm>
            <a:off x="395280" y="5229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答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旋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次得到，旋转角度分别等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5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35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25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70 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15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6" name="Picture 2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737080" cy="273024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3" descr=""/>
          <p:cNvPicPr/>
          <p:nvPr/>
        </p:nvPicPr>
        <p:blipFill>
          <a:blip r:embed="rId2"/>
          <a:stretch/>
        </p:blipFill>
        <p:spPr>
          <a:xfrm>
            <a:off x="6156360" y="620640"/>
            <a:ext cx="2498760" cy="2664000"/>
          </a:xfrm>
          <a:prstGeom prst="rect">
            <a:avLst/>
          </a:prstGeom>
          <a:ln w="0">
            <a:noFill/>
          </a:ln>
        </p:spPr>
      </p:pic>
      <p:pic>
        <p:nvPicPr>
          <p:cNvPr id="1688" name="Picture 4" descr=""/>
          <p:cNvPicPr/>
          <p:nvPr/>
        </p:nvPicPr>
        <p:blipFill>
          <a:blip r:embed="rId3"/>
          <a:stretch/>
        </p:blipFill>
        <p:spPr>
          <a:xfrm>
            <a:off x="828720" y="3718080"/>
            <a:ext cx="2592360" cy="261144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5" descr=""/>
          <p:cNvPicPr/>
          <p:nvPr/>
        </p:nvPicPr>
        <p:blipFill>
          <a:blip r:embed="rId4"/>
          <a:stretch/>
        </p:blipFill>
        <p:spPr>
          <a:xfrm>
            <a:off x="3997440" y="3645000"/>
            <a:ext cx="2520720" cy="259236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6" descr=""/>
          <p:cNvPicPr/>
          <p:nvPr/>
        </p:nvPicPr>
        <p:blipFill>
          <a:blip r:embed="rId5"/>
          <a:stretch/>
        </p:blipFill>
        <p:spPr>
          <a:xfrm>
            <a:off x="6373800" y="5845320"/>
            <a:ext cx="2664000" cy="807840"/>
          </a:xfrm>
          <a:prstGeom prst="rect">
            <a:avLst/>
          </a:prstGeom>
          <a:ln w="0">
            <a:noFill/>
          </a:ln>
        </p:spPr>
      </p:pic>
      <p:sp>
        <p:nvSpPr>
          <p:cNvPr id="1691" name="Text Box 7"/>
          <p:cNvSpPr/>
          <p:nvPr/>
        </p:nvSpPr>
        <p:spPr>
          <a:xfrm>
            <a:off x="324000" y="1557360"/>
            <a:ext cx="2447640" cy="703440"/>
          </a:xfrm>
          <a:prstGeom prst="rect">
            <a:avLst/>
          </a:prstGeom>
          <a:solidFill>
            <a:srgbClr val="ccffff">
              <a:alpha val="1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图案欣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3384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知识点归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旋转的定义：“四要素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个图形、一个定点、一个方向、一个角度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旋转的性质：“三特点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对应点与旋转中心的连线所成的角都是旋转角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对应点到旋转中心的距离相等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旋转不改变图形的形状和大小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ff9933"/>
                </a:solidFill>
                <a:latin typeface="Calibri"/>
              </a:rPr>
              <a:t>旋转图形的形成描述：“五说明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基本图形、旋转中心、方向、次数、旋转角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这个图案可以看成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绕点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按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针方向旋转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，分别旋转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前后的所有图形共同组成的。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华文新魏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4" name="Rectangle 4"/>
          <p:cNvSpPr/>
          <p:nvPr/>
        </p:nvSpPr>
        <p:spPr>
          <a:xfrm>
            <a:off x="4859280" y="128520"/>
            <a:ext cx="3095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四、三、五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Line 5"/>
          <p:cNvSpPr/>
          <p:nvPr/>
        </p:nvSpPr>
        <p:spPr>
          <a:xfrm>
            <a:off x="3708360" y="476280"/>
            <a:ext cx="93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Picture 2" descr="绿色大理石"/>
          <p:cNvPicPr/>
          <p:nvPr/>
        </p:nvPicPr>
        <p:blipFill>
          <a:blip r:embed="rId1"/>
          <a:stretch/>
        </p:blipFill>
        <p:spPr>
          <a:xfrm>
            <a:off x="1763640" y="404640"/>
            <a:ext cx="5759640" cy="5759640"/>
          </a:xfrm>
          <a:prstGeom prst="rect">
            <a:avLst/>
          </a:prstGeom>
          <a:ln w="0">
            <a:noFill/>
          </a:ln>
        </p:spPr>
      </p:pic>
      <p:sp>
        <p:nvSpPr>
          <p:cNvPr id="1697" name="WordArt 3"/>
          <p:cNvSpPr txBox="1"/>
          <p:nvPr/>
        </p:nvSpPr>
        <p:spPr>
          <a:xfrm>
            <a:off x="2214720" y="2357280"/>
            <a:ext cx="470664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再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Picture 2" descr="17"/>
          <p:cNvPicPr/>
          <p:nvPr/>
        </p:nvPicPr>
        <p:blipFill>
          <a:blip r:embed="rId1"/>
          <a:stretch/>
        </p:blipFill>
        <p:spPr>
          <a:xfrm>
            <a:off x="1116000" y="4003560"/>
            <a:ext cx="1800360" cy="1800360"/>
          </a:xfrm>
          <a:prstGeom prst="rect">
            <a:avLst/>
          </a:prstGeom>
          <a:ln w="63360">
            <a:solidFill>
              <a:srgbClr val="800080"/>
            </a:solidFill>
            <a:miter/>
          </a:ln>
        </p:spPr>
      </p:pic>
      <p:pic>
        <p:nvPicPr>
          <p:cNvPr id="1530" name="Picture 3" descr="36"/>
          <p:cNvPicPr/>
          <p:nvPr/>
        </p:nvPicPr>
        <p:blipFill>
          <a:blip r:embed="rId2"/>
          <a:stretch/>
        </p:blipFill>
        <p:spPr>
          <a:xfrm>
            <a:off x="6588000" y="4003560"/>
            <a:ext cx="1800360" cy="1800360"/>
          </a:xfrm>
          <a:prstGeom prst="rect">
            <a:avLst/>
          </a:prstGeom>
          <a:ln w="63360">
            <a:solidFill>
              <a:srgbClr val="800080"/>
            </a:solidFill>
            <a:miter/>
          </a:ln>
        </p:spPr>
      </p:pic>
      <p:pic>
        <p:nvPicPr>
          <p:cNvPr id="1531" name="Picture 4" descr="0387"/>
          <p:cNvPicPr/>
          <p:nvPr/>
        </p:nvPicPr>
        <p:blipFill>
          <a:blip r:embed="rId3"/>
          <a:stretch/>
        </p:blipFill>
        <p:spPr>
          <a:xfrm>
            <a:off x="755640" y="1484280"/>
            <a:ext cx="2397240" cy="1798560"/>
          </a:xfrm>
          <a:prstGeom prst="rect">
            <a:avLst/>
          </a:prstGeom>
          <a:ln w="63360">
            <a:solidFill>
              <a:srgbClr val="800080"/>
            </a:solidFill>
            <a:miter/>
          </a:ln>
        </p:spPr>
      </p:pic>
      <p:pic>
        <p:nvPicPr>
          <p:cNvPr id="1532" name="Picture 5" descr="0877"/>
          <p:cNvPicPr/>
          <p:nvPr/>
        </p:nvPicPr>
        <p:blipFill>
          <a:blip r:embed="rId4"/>
          <a:stretch/>
        </p:blipFill>
        <p:spPr>
          <a:xfrm>
            <a:off x="6084720" y="1484280"/>
            <a:ext cx="2397240" cy="1798560"/>
          </a:xfrm>
          <a:prstGeom prst="rect">
            <a:avLst/>
          </a:prstGeom>
          <a:ln w="63360">
            <a:solidFill>
              <a:srgbClr val="800080"/>
            </a:solidFill>
            <a:miter/>
          </a:ln>
        </p:spPr>
      </p:pic>
      <p:pic>
        <p:nvPicPr>
          <p:cNvPr id="1533" name="Picture 6" descr="43"/>
          <p:cNvPicPr/>
          <p:nvPr/>
        </p:nvPicPr>
        <p:blipFill>
          <a:blip r:embed="rId5"/>
          <a:stretch/>
        </p:blipFill>
        <p:spPr>
          <a:xfrm>
            <a:off x="3746520" y="3683160"/>
            <a:ext cx="2120760" cy="2120760"/>
          </a:xfrm>
          <a:prstGeom prst="rect">
            <a:avLst/>
          </a:prstGeom>
          <a:ln w="63360">
            <a:solidFill>
              <a:srgbClr val="800080"/>
            </a:solidFill>
            <a:miter/>
          </a:ln>
        </p:spPr>
      </p:pic>
      <p:pic>
        <p:nvPicPr>
          <p:cNvPr id="1534" name="WordArt 7" descr=""/>
          <p:cNvPicPr/>
          <p:nvPr/>
        </p:nvPicPr>
        <p:blipFill>
          <a:blip r:embed="rId6"/>
          <a:stretch/>
        </p:blipFill>
        <p:spPr>
          <a:xfrm>
            <a:off x="1322280" y="317520"/>
            <a:ext cx="3183120" cy="7794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8" descr="80"/>
          <p:cNvPicPr/>
          <p:nvPr/>
        </p:nvPicPr>
        <p:blipFill>
          <a:blip r:embed="rId7"/>
          <a:stretch/>
        </p:blipFill>
        <p:spPr>
          <a:xfrm>
            <a:off x="3635280" y="1771560"/>
            <a:ext cx="2000520" cy="1133640"/>
          </a:xfrm>
          <a:prstGeom prst="rect">
            <a:avLst/>
          </a:prstGeom>
          <a:ln w="63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6" name="Picture 2" descr="图片2"/>
          <p:cNvPicPr/>
          <p:nvPr/>
        </p:nvPicPr>
        <p:blipFill>
          <a:blip r:embed="rId1"/>
          <a:stretch/>
        </p:blipFill>
        <p:spPr>
          <a:xfrm>
            <a:off x="3346560" y="111456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3" descr="图片13"/>
          <p:cNvPicPr/>
          <p:nvPr/>
        </p:nvPicPr>
        <p:blipFill>
          <a:blip r:embed="rId2"/>
          <a:stretch/>
        </p:blipFill>
        <p:spPr>
          <a:xfrm>
            <a:off x="755640" y="1185840"/>
            <a:ext cx="1574640" cy="178596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4" descr="图片26"/>
          <p:cNvPicPr/>
          <p:nvPr/>
        </p:nvPicPr>
        <p:blipFill>
          <a:blip r:embed="rId3"/>
          <a:stretch/>
        </p:blipFill>
        <p:spPr>
          <a:xfrm>
            <a:off x="6013440" y="1114560"/>
            <a:ext cx="1562040" cy="1773000"/>
          </a:xfrm>
          <a:prstGeom prst="rect">
            <a:avLst/>
          </a:prstGeom>
          <a:ln w="0">
            <a:noFill/>
          </a:ln>
        </p:spPr>
      </p:pic>
      <p:sp>
        <p:nvSpPr>
          <p:cNvPr id="1539" name="Text Box 5"/>
          <p:cNvSpPr/>
          <p:nvPr/>
        </p:nvSpPr>
        <p:spPr>
          <a:xfrm>
            <a:off x="466560" y="3068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ce1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以上情景中的转动现象，有什么共同特征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 Box 6"/>
          <p:cNvSpPr/>
          <p:nvPr/>
        </p:nvSpPr>
        <p:spPr>
          <a:xfrm>
            <a:off x="4197960" y="4384800"/>
            <a:ext cx="97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钟表的指针在转动过程中，其形状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大小、位置是否发生改变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飞机的螺旋桨、电风扇的叶轮的转动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Text Box 7"/>
          <p:cNvSpPr/>
          <p:nvPr/>
        </p:nvSpPr>
        <p:spPr>
          <a:xfrm>
            <a:off x="466560" y="1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观察思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Picture 2" descr="秋千"/>
          <p:cNvPicPr/>
          <p:nvPr/>
        </p:nvPicPr>
        <p:blipFill>
          <a:blip r:embed="rId1"/>
          <a:stretch/>
        </p:blipFill>
        <p:spPr>
          <a:xfrm>
            <a:off x="684360" y="0"/>
            <a:ext cx="7705440" cy="5137200"/>
          </a:xfrm>
          <a:prstGeom prst="rect">
            <a:avLst/>
          </a:prstGeom>
          <a:ln w="0">
            <a:noFill/>
          </a:ln>
        </p:spPr>
      </p:pic>
      <p:sp>
        <p:nvSpPr>
          <p:cNvPr id="1543" name="WordArt 3"/>
          <p:cNvSpPr txBox="1"/>
          <p:nvPr/>
        </p:nvSpPr>
        <p:spPr>
          <a:xfrm>
            <a:off x="2050920" y="4292640"/>
            <a:ext cx="457200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图形的旋转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Group 2"/>
          <p:cNvGrpSpPr/>
          <p:nvPr/>
        </p:nvGrpSpPr>
        <p:grpSpPr>
          <a:xfrm>
            <a:off x="4715280" y="1484280"/>
            <a:ext cx="3815280" cy="3745080"/>
            <a:chOff x="4715280" y="1484280"/>
            <a:chExt cx="3815280" cy="3745080"/>
          </a:xfrm>
        </p:grpSpPr>
        <p:sp>
          <p:nvSpPr>
            <p:cNvPr id="1545" name="AutoShape 3"/>
            <p:cNvSpPr/>
            <p:nvPr/>
          </p:nvSpPr>
          <p:spPr>
            <a:xfrm>
              <a:off x="6085800" y="1484280"/>
              <a:ext cx="1082160" cy="187164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AutoShape 4"/>
            <p:cNvSpPr/>
            <p:nvPr/>
          </p:nvSpPr>
          <p:spPr>
            <a:xfrm rot="3600000">
              <a:off x="6908040" y="1942920"/>
              <a:ext cx="1079640" cy="187596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AutoShape 5"/>
            <p:cNvSpPr/>
            <p:nvPr/>
          </p:nvSpPr>
          <p:spPr>
            <a:xfrm rot="17939400">
              <a:off x="5257440" y="1942920"/>
              <a:ext cx="1079640" cy="187596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AutoShape 6"/>
            <p:cNvSpPr/>
            <p:nvPr/>
          </p:nvSpPr>
          <p:spPr>
            <a:xfrm rot="14388000">
              <a:off x="5257440" y="2878200"/>
              <a:ext cx="1079280" cy="187596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AutoShape 7"/>
            <p:cNvSpPr/>
            <p:nvPr/>
          </p:nvSpPr>
          <p:spPr>
            <a:xfrm rot="17943600">
              <a:off x="6908760" y="2878200"/>
              <a:ext cx="1079280" cy="187596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AutoShape 8"/>
            <p:cNvSpPr/>
            <p:nvPr/>
          </p:nvSpPr>
          <p:spPr>
            <a:xfrm>
              <a:off x="6085800" y="3357360"/>
              <a:ext cx="1082160" cy="1872000"/>
            </a:xfrm>
            <a:prstGeom prst="diamond">
              <a:avLst/>
            </a:prstGeom>
            <a:solidFill>
              <a:srgbClr val="120b6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1" name="Group 9"/>
          <p:cNvGrpSpPr/>
          <p:nvPr/>
        </p:nvGrpSpPr>
        <p:grpSpPr>
          <a:xfrm>
            <a:off x="6084720" y="1484280"/>
            <a:ext cx="1079640" cy="3743280"/>
            <a:chOff x="6084720" y="1484280"/>
            <a:chExt cx="1079640" cy="3743280"/>
          </a:xfrm>
        </p:grpSpPr>
        <p:sp>
          <p:nvSpPr>
            <p:cNvPr id="1552" name="AutoShape 10"/>
            <p:cNvSpPr/>
            <p:nvPr/>
          </p:nvSpPr>
          <p:spPr>
            <a:xfrm>
              <a:off x="6084720" y="1484280"/>
              <a:ext cx="1079640" cy="18716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AutoShape 11"/>
            <p:cNvSpPr/>
            <p:nvPr/>
          </p:nvSpPr>
          <p:spPr>
            <a:xfrm>
              <a:off x="6084720" y="3355920"/>
              <a:ext cx="1079640" cy="1871640"/>
            </a:xfrm>
            <a:prstGeom prst="diamond">
              <a:avLst/>
            </a:prstGeom>
            <a:noFill/>
            <a:ln w="93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4" name="Group 12"/>
          <p:cNvGrpSpPr/>
          <p:nvPr/>
        </p:nvGrpSpPr>
        <p:grpSpPr>
          <a:xfrm>
            <a:off x="6084720" y="1486080"/>
            <a:ext cx="1079640" cy="3743280"/>
            <a:chOff x="6084720" y="1486080"/>
            <a:chExt cx="1079640" cy="3743280"/>
          </a:xfrm>
        </p:grpSpPr>
        <p:sp>
          <p:nvSpPr>
            <p:cNvPr id="1555" name="AutoShape 13"/>
            <p:cNvSpPr/>
            <p:nvPr/>
          </p:nvSpPr>
          <p:spPr>
            <a:xfrm>
              <a:off x="6084720" y="1486080"/>
              <a:ext cx="1079640" cy="187164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AutoShape 14"/>
            <p:cNvSpPr/>
            <p:nvPr/>
          </p:nvSpPr>
          <p:spPr>
            <a:xfrm>
              <a:off x="6084720" y="335772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7" name="Group 15"/>
          <p:cNvGrpSpPr/>
          <p:nvPr/>
        </p:nvGrpSpPr>
        <p:grpSpPr>
          <a:xfrm>
            <a:off x="6084720" y="1484280"/>
            <a:ext cx="1079640" cy="3743280"/>
            <a:chOff x="6084720" y="1484280"/>
            <a:chExt cx="1079640" cy="3743280"/>
          </a:xfrm>
        </p:grpSpPr>
        <p:sp>
          <p:nvSpPr>
            <p:cNvPr id="1558" name="AutoShape 16"/>
            <p:cNvSpPr/>
            <p:nvPr/>
          </p:nvSpPr>
          <p:spPr>
            <a:xfrm>
              <a:off x="6084720" y="1484280"/>
              <a:ext cx="1079640" cy="1871640"/>
            </a:xfrm>
            <a:prstGeom prst="diamond">
              <a:avLst/>
            </a:prstGeom>
            <a:solidFill>
              <a:srgbClr val="ff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AutoShape 17"/>
            <p:cNvSpPr/>
            <p:nvPr/>
          </p:nvSpPr>
          <p:spPr>
            <a:xfrm>
              <a:off x="6084720" y="3355920"/>
              <a:ext cx="1079640" cy="1871640"/>
            </a:xfrm>
            <a:prstGeom prst="diamond">
              <a:avLst/>
            </a:prstGeom>
            <a:gradFill rotWithShape="0">
              <a:gsLst>
                <a:gs pos="0">
                  <a:srgbClr val="cb0f0f">
                    <a:alpha val="0"/>
                  </a:srgbClr>
                </a:gs>
                <a:gs pos="100000">
                  <a:srgbClr val="5e0707">
                    <a:alpha val="0"/>
                  </a:srgbClr>
                </a:gs>
              </a:gsLst>
              <a:lin ang="5400000"/>
            </a:gradFill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0" name="Group 18"/>
          <p:cNvGrpSpPr/>
          <p:nvPr/>
        </p:nvGrpSpPr>
        <p:grpSpPr>
          <a:xfrm>
            <a:off x="6084720" y="1484280"/>
            <a:ext cx="1079640" cy="3743280"/>
            <a:chOff x="6084720" y="1484280"/>
            <a:chExt cx="1079640" cy="3743280"/>
          </a:xfrm>
        </p:grpSpPr>
        <p:sp>
          <p:nvSpPr>
            <p:cNvPr id="1561" name="AutoShape 19"/>
            <p:cNvSpPr/>
            <p:nvPr/>
          </p:nvSpPr>
          <p:spPr>
            <a:xfrm>
              <a:off x="6084720" y="1484280"/>
              <a:ext cx="1079640" cy="187164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AutoShape 20"/>
            <p:cNvSpPr/>
            <p:nvPr/>
          </p:nvSpPr>
          <p:spPr>
            <a:xfrm>
              <a:off x="6084720" y="335592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3" name="Group 21"/>
          <p:cNvGrpSpPr/>
          <p:nvPr/>
        </p:nvGrpSpPr>
        <p:grpSpPr>
          <a:xfrm>
            <a:off x="6084720" y="1484280"/>
            <a:ext cx="1079640" cy="3743280"/>
            <a:chOff x="6084720" y="1484280"/>
            <a:chExt cx="1079640" cy="3743280"/>
          </a:xfrm>
        </p:grpSpPr>
        <p:sp>
          <p:nvSpPr>
            <p:cNvPr id="1564" name="AutoShape 22"/>
            <p:cNvSpPr/>
            <p:nvPr/>
          </p:nvSpPr>
          <p:spPr>
            <a:xfrm>
              <a:off x="6084720" y="1484280"/>
              <a:ext cx="1079640" cy="1871640"/>
            </a:xfrm>
            <a:prstGeom prst="diamond">
              <a:avLst/>
            </a:prstGeom>
            <a:solidFill>
              <a:srgbClr val="ff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AutoShape 23"/>
            <p:cNvSpPr/>
            <p:nvPr/>
          </p:nvSpPr>
          <p:spPr>
            <a:xfrm>
              <a:off x="6084720" y="335592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6" name="Group 24"/>
          <p:cNvGrpSpPr/>
          <p:nvPr/>
        </p:nvGrpSpPr>
        <p:grpSpPr>
          <a:xfrm>
            <a:off x="6084720" y="1484280"/>
            <a:ext cx="1079640" cy="3743280"/>
            <a:chOff x="6084720" y="1484280"/>
            <a:chExt cx="1079640" cy="3743280"/>
          </a:xfrm>
        </p:grpSpPr>
        <p:sp>
          <p:nvSpPr>
            <p:cNvPr id="1567" name="AutoShape 25"/>
            <p:cNvSpPr/>
            <p:nvPr/>
          </p:nvSpPr>
          <p:spPr>
            <a:xfrm>
              <a:off x="6084720" y="1484280"/>
              <a:ext cx="1079640" cy="187164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AutoShape 26"/>
            <p:cNvSpPr/>
            <p:nvPr/>
          </p:nvSpPr>
          <p:spPr>
            <a:xfrm>
              <a:off x="6084720" y="3355920"/>
              <a:ext cx="1079640" cy="1871640"/>
            </a:xfrm>
            <a:prstGeom prst="diamond">
              <a:avLst/>
            </a:prstGeom>
            <a:noFill/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9" name="Text Box 27"/>
          <p:cNvSpPr/>
          <p:nvPr/>
        </p:nvSpPr>
        <p:spPr>
          <a:xfrm>
            <a:off x="3635280" y="41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AutoShape 28"/>
          <p:cNvSpPr/>
          <p:nvPr/>
        </p:nvSpPr>
        <p:spPr>
          <a:xfrm rot="19440600">
            <a:off x="901800" y="3608280"/>
            <a:ext cx="720720" cy="2016360"/>
          </a:xfrm>
          <a:prstGeom prst="diamond">
            <a:avLst/>
          </a:prstGeom>
          <a:gradFill rotWithShape="0">
            <a:gsLst>
              <a:gs pos="0">
                <a:srgbClr val="4f81bd">
                  <a:alpha val="0"/>
                </a:srgbClr>
              </a:gs>
              <a:gs pos="100000">
                <a:srgbClr val="253c57">
                  <a:alpha val="0"/>
                </a:srgbClr>
              </a:gs>
            </a:gsLst>
            <a:lin ang="756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Oval 29"/>
          <p:cNvSpPr/>
          <p:nvPr/>
        </p:nvSpPr>
        <p:spPr>
          <a:xfrm>
            <a:off x="1765440" y="5337000"/>
            <a:ext cx="144360" cy="144720"/>
          </a:xfrm>
          <a:prstGeom prst="ellipse">
            <a:avLst/>
          </a:prstGeom>
          <a:solidFill>
            <a:srgbClr val="cb0f0f"/>
          </a:solidFill>
          <a:ln w="9360">
            <a:solidFill>
              <a:srgbClr val="d63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Text Box 30"/>
          <p:cNvSpPr/>
          <p:nvPr/>
        </p:nvSpPr>
        <p:spPr>
          <a:xfrm rot="20883600">
            <a:off x="1116000" y="3895200"/>
            <a:ext cx="2087640" cy="1312920"/>
          </a:xfrm>
          <a:prstGeom prst="rect">
            <a:avLst/>
          </a:prstGeom>
          <a:gradFill rotWithShape="0">
            <a:gsLst>
              <a:gs pos="0">
                <a:srgbClr val="4f81bd">
                  <a:alpha val="0"/>
                </a:srgbClr>
              </a:gs>
              <a:gs pos="100000">
                <a:srgbClr val="253c57">
                  <a:alpha val="0"/>
                </a:srgbClr>
              </a:gs>
            </a:gsLst>
            <a:lin ang="6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b0f0f"/>
                </a:solidFill>
                <a:latin typeface="Arial"/>
              </a:rPr>
              <a:t>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Text Box 31"/>
          <p:cNvSpPr/>
          <p:nvPr/>
        </p:nvSpPr>
        <p:spPr>
          <a:xfrm rot="1645200">
            <a:off x="1476000" y="4471560"/>
            <a:ext cx="2087640" cy="1098720"/>
          </a:xfrm>
          <a:prstGeom prst="rect">
            <a:avLst/>
          </a:prstGeom>
          <a:gradFill rotWithShape="0">
            <a:gsLst>
              <a:gs pos="0">
                <a:srgbClr val="4f81bd">
                  <a:alpha val="0"/>
                </a:srgbClr>
              </a:gs>
              <a:gs pos="100000">
                <a:srgbClr val="253c57">
                  <a:alpha val="0"/>
                </a:srgbClr>
              </a:gs>
            </a:gsLst>
            <a:lin ang="3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Text Box 32"/>
          <p:cNvSpPr/>
          <p:nvPr/>
        </p:nvSpPr>
        <p:spPr>
          <a:xfrm>
            <a:off x="611280" y="468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Text Box 33"/>
          <p:cNvSpPr/>
          <p:nvPr/>
        </p:nvSpPr>
        <p:spPr>
          <a:xfrm>
            <a:off x="1405080" y="404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Text Box 34"/>
          <p:cNvSpPr/>
          <p:nvPr/>
        </p:nvSpPr>
        <p:spPr>
          <a:xfrm>
            <a:off x="324000" y="3502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Text Box 35"/>
          <p:cNvSpPr/>
          <p:nvPr/>
        </p:nvSpPr>
        <p:spPr>
          <a:xfrm>
            <a:off x="2268360" y="42559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 Box 36"/>
          <p:cNvSpPr/>
          <p:nvPr/>
        </p:nvSpPr>
        <p:spPr>
          <a:xfrm>
            <a:off x="2916360" y="51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Text Box 37"/>
          <p:cNvSpPr/>
          <p:nvPr/>
        </p:nvSpPr>
        <p:spPr>
          <a:xfrm>
            <a:off x="1547640" y="540864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AutoShape 38"/>
          <p:cNvSpPr/>
          <p:nvPr/>
        </p:nvSpPr>
        <p:spPr>
          <a:xfrm rot="826800">
            <a:off x="1765440" y="2599920"/>
            <a:ext cx="1514160" cy="530280"/>
          </a:xfrm>
          <a:custGeom>
            <a:avLst/>
            <a:gdLst>
              <a:gd name="textAreaLeft" fmla="*/ 288360 w 1514160"/>
              <a:gd name="textAreaRight" fmla="*/ 989640 w 1514160"/>
              <a:gd name="textAreaTop" fmla="*/ 70920 h 530280"/>
              <a:gd name="textAreaBottom" fmla="*/ 459360 h 530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6" hR="21600" stAng="10800000" swAng="5400000"/>
                <a:lnTo>
                  <a:pt x="10002" y="0"/>
                </a:lnTo>
                <a:arcTo wR="8226" hR="21600" stAng="-5400000" swAng="2347378"/>
                <a:lnTo>
                  <a:pt x="20824" y="12441"/>
                </a:lnTo>
                <a:lnTo>
                  <a:pt x="17339" y="21600"/>
                </a:lnTo>
                <a:lnTo>
                  <a:pt x="12302" y="12441"/>
                </a:lnTo>
                <a:lnTo>
                  <a:pt x="15675" y="12441"/>
                </a:lnTo>
                <a:arcTo wR="8226" hR="21600" stAng="-3052622" swAng="-2205299"/>
                <a:lnTo>
                  <a:pt x="9114" y="126"/>
                </a:lnTo>
                <a:arcTo wR="8226" hR="21600" stAng="-5542079" swAng="-5257921"/>
                <a:close/>
              </a:path>
              <a:path fill="darkenLess" w="21600" h="21600">
                <a:moveTo>
                  <a:pt x="0" y="21600"/>
                </a:moveTo>
                <a:arcTo wR="8226" hR="21600" stAng="10800000" swAng="5400000"/>
                <a:lnTo>
                  <a:pt x="8226" y="0"/>
                </a:lnTo>
                <a:arcTo wR="8226" hR="21600" stAng="-5400000" swAng="142079"/>
                <a:lnTo>
                  <a:pt x="9114" y="126"/>
                </a:lnTo>
                <a:arcTo wR="8226" hR="21600" stAng="-5542079" swAng="-5257921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Group 39"/>
          <p:cNvGrpSpPr/>
          <p:nvPr/>
        </p:nvGrpSpPr>
        <p:grpSpPr>
          <a:xfrm>
            <a:off x="363600" y="3574440"/>
            <a:ext cx="2948040" cy="3633480"/>
            <a:chOff x="363600" y="3574440"/>
            <a:chExt cx="2948040" cy="3633480"/>
          </a:xfrm>
        </p:grpSpPr>
        <p:sp>
          <p:nvSpPr>
            <p:cNvPr id="1582" name="AutoShape 40"/>
            <p:cNvSpPr/>
            <p:nvPr/>
          </p:nvSpPr>
          <p:spPr>
            <a:xfrm rot="19408200">
              <a:off x="893160" y="3589920"/>
              <a:ext cx="718560" cy="2016720"/>
            </a:xfrm>
            <a:prstGeom prst="diamond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253c57">
                    <a:alpha val="0"/>
                  </a:srgbClr>
                </a:gs>
              </a:gsLst>
              <a:lin ang="186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AutoShape 41"/>
            <p:cNvSpPr/>
            <p:nvPr/>
          </p:nvSpPr>
          <p:spPr>
            <a:xfrm rot="19408200">
              <a:off x="2062800" y="5175000"/>
              <a:ext cx="718560" cy="2017080"/>
            </a:xfrm>
            <a:prstGeom prst="diamond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253c57">
                    <a:alpha val="0"/>
                  </a:srgbClr>
                </a:gs>
              </a:gsLst>
              <a:lin ang="1860000"/>
            </a:gradFill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4" name="Rectangle 42"/>
          <p:cNvSpPr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SzPct val="12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你能否描述一下什么叫旋转？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Rectangle 43"/>
          <p:cNvSpPr/>
          <p:nvPr/>
        </p:nvSpPr>
        <p:spPr>
          <a:xfrm rot="1380600">
            <a:off x="1405080" y="4259520"/>
            <a:ext cx="2016000" cy="253188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33" dur="2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1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2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57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2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62" dur="2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2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7" dur="2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2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2" dur="2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2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0">
                                      <p:cBhvr>
                                        <p:cTn id="77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 rot="1380600">
            <a:off x="1405080" y="4259520"/>
            <a:ext cx="2016000" cy="2531880"/>
          </a:xfrm>
          <a:prstGeom prst="rect">
            <a:avLst/>
          </a:prstGeom>
          <a:noFill/>
          <a:ln w="9360">
            <a:solidFill>
              <a:srgbClr val="c0c0c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Arial"/>
              </a:rPr>
              <a:t>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 Box 3"/>
          <p:cNvSpPr/>
          <p:nvPr/>
        </p:nvSpPr>
        <p:spPr>
          <a:xfrm rot="20883600">
            <a:off x="1116000" y="3895200"/>
            <a:ext cx="2087640" cy="1312920"/>
          </a:xfrm>
          <a:prstGeom prst="rect">
            <a:avLst/>
          </a:prstGeom>
          <a:gradFill rotWithShape="0">
            <a:gsLst>
              <a:gs pos="0">
                <a:srgbClr val="4f81bd">
                  <a:alpha val="0"/>
                </a:srgbClr>
              </a:gs>
              <a:gs pos="100000">
                <a:srgbClr val="253c57">
                  <a:alpha val="0"/>
                </a:srgbClr>
              </a:gs>
            </a:gsLst>
            <a:lin ang="6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b0f0f"/>
                </a:solidFill>
                <a:latin typeface="Arial"/>
              </a:rPr>
              <a:t>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Text Box 4"/>
          <p:cNvSpPr/>
          <p:nvPr/>
        </p:nvSpPr>
        <p:spPr>
          <a:xfrm>
            <a:off x="3635280" y="41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AutoShape 5"/>
          <p:cNvSpPr/>
          <p:nvPr/>
        </p:nvSpPr>
        <p:spPr>
          <a:xfrm rot="19440600">
            <a:off x="901800" y="3608280"/>
            <a:ext cx="720720" cy="2016360"/>
          </a:xfrm>
          <a:prstGeom prst="diamond">
            <a:avLst/>
          </a:prstGeom>
          <a:gradFill rotWithShape="0">
            <a:gsLst>
              <a:gs pos="0">
                <a:srgbClr val="4f81bd">
                  <a:alpha val="0"/>
                </a:srgbClr>
              </a:gs>
              <a:gs pos="100000">
                <a:srgbClr val="253c57">
                  <a:alpha val="0"/>
                </a:srgbClr>
              </a:gs>
            </a:gsLst>
            <a:lin ang="756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Oval 6"/>
          <p:cNvSpPr/>
          <p:nvPr/>
        </p:nvSpPr>
        <p:spPr>
          <a:xfrm>
            <a:off x="1765440" y="5337000"/>
            <a:ext cx="144360" cy="144720"/>
          </a:xfrm>
          <a:prstGeom prst="ellipse">
            <a:avLst/>
          </a:prstGeom>
          <a:solidFill>
            <a:srgbClr val="cb0f0f"/>
          </a:solidFill>
          <a:ln w="9360">
            <a:solidFill>
              <a:srgbClr val="d63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 Box 7"/>
          <p:cNvSpPr/>
          <p:nvPr/>
        </p:nvSpPr>
        <p:spPr>
          <a:xfrm rot="1645200">
            <a:off x="1476000" y="4471560"/>
            <a:ext cx="2087640" cy="1098720"/>
          </a:xfrm>
          <a:prstGeom prst="rect">
            <a:avLst/>
          </a:prstGeom>
          <a:gradFill rotWithShape="0">
            <a:gsLst>
              <a:gs pos="0">
                <a:srgbClr val="4f81bd">
                  <a:alpha val="0"/>
                </a:srgbClr>
              </a:gs>
              <a:gs pos="100000">
                <a:srgbClr val="253c57">
                  <a:alpha val="0"/>
                </a:srgbClr>
              </a:gs>
            </a:gsLst>
            <a:lin ang="3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Text Box 8"/>
          <p:cNvSpPr/>
          <p:nvPr/>
        </p:nvSpPr>
        <p:spPr>
          <a:xfrm>
            <a:off x="611280" y="468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Text Box 9"/>
          <p:cNvSpPr/>
          <p:nvPr/>
        </p:nvSpPr>
        <p:spPr>
          <a:xfrm>
            <a:off x="1405080" y="404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Text Box 10"/>
          <p:cNvSpPr/>
          <p:nvPr/>
        </p:nvSpPr>
        <p:spPr>
          <a:xfrm>
            <a:off x="324000" y="3502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Text Box 11"/>
          <p:cNvSpPr/>
          <p:nvPr/>
        </p:nvSpPr>
        <p:spPr>
          <a:xfrm>
            <a:off x="2268360" y="42559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 Box 12"/>
          <p:cNvSpPr/>
          <p:nvPr/>
        </p:nvSpPr>
        <p:spPr>
          <a:xfrm>
            <a:off x="2916360" y="51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 Box 13"/>
          <p:cNvSpPr/>
          <p:nvPr/>
        </p:nvSpPr>
        <p:spPr>
          <a:xfrm>
            <a:off x="1547640" y="540864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8" name="Group 14"/>
          <p:cNvGrpSpPr/>
          <p:nvPr/>
        </p:nvGrpSpPr>
        <p:grpSpPr>
          <a:xfrm>
            <a:off x="363600" y="3574440"/>
            <a:ext cx="2948040" cy="3633480"/>
            <a:chOff x="363600" y="3574440"/>
            <a:chExt cx="2948040" cy="3633480"/>
          </a:xfrm>
        </p:grpSpPr>
        <p:sp>
          <p:nvSpPr>
            <p:cNvPr id="1599" name="AutoShape 15"/>
            <p:cNvSpPr/>
            <p:nvPr/>
          </p:nvSpPr>
          <p:spPr>
            <a:xfrm rot="19408200">
              <a:off x="893160" y="3589920"/>
              <a:ext cx="718560" cy="2016720"/>
            </a:xfrm>
            <a:prstGeom prst="diamond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253c57">
                    <a:alpha val="0"/>
                  </a:srgbClr>
                </a:gs>
              </a:gsLst>
              <a:lin ang="186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AutoShape 16"/>
            <p:cNvSpPr/>
            <p:nvPr/>
          </p:nvSpPr>
          <p:spPr>
            <a:xfrm rot="19408200">
              <a:off x="2062800" y="5175000"/>
              <a:ext cx="718560" cy="2017080"/>
            </a:xfrm>
            <a:prstGeom prst="diamond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253c57">
                    <a:alpha val="0"/>
                  </a:srgbClr>
                </a:gs>
              </a:gsLst>
              <a:lin ang="1860000"/>
            </a:gradFill>
            <a:ln w="38160">
              <a:solidFill>
                <a:srgbClr val="007a7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1" name="Text Box 17"/>
          <p:cNvSpPr/>
          <p:nvPr/>
        </p:nvSpPr>
        <p:spPr>
          <a:xfrm>
            <a:off x="4500720" y="3716280"/>
            <a:ext cx="3887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旋转不改变图形的形状和大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Rectangle 18"/>
          <p:cNvSpPr/>
          <p:nvPr/>
        </p:nvSpPr>
        <p:spPr>
          <a:xfrm>
            <a:off x="468360" y="333360"/>
            <a:ext cx="80852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ff9933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ff9933"/>
                </a:solidFill>
                <a:latin typeface="Calibri"/>
              </a:rPr>
              <a:t>旋转的定义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平面内，将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个图形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绕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个定点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沿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某个方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转动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个角度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这样的图形运动称为旋转。这个定点称为旋转中心，转动的角称为旋转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100" dur="2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3" name="Group 2"/>
          <p:cNvGrpSpPr/>
          <p:nvPr/>
        </p:nvGrpSpPr>
        <p:grpSpPr>
          <a:xfrm>
            <a:off x="900000" y="117360"/>
            <a:ext cx="7594560" cy="6562800"/>
            <a:chOff x="900000" y="117360"/>
            <a:chExt cx="7594560" cy="6562800"/>
          </a:xfrm>
        </p:grpSpPr>
        <p:pic>
          <p:nvPicPr>
            <p:cNvPr id="1604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17360"/>
              <a:ext cx="759456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5" name="Picture 4" descr=""/>
            <p:cNvPicPr/>
            <p:nvPr/>
          </p:nvPicPr>
          <p:blipFill>
            <a:blip r:embed="rId2"/>
            <a:stretch/>
          </p:blipFill>
          <p:spPr>
            <a:xfrm>
              <a:off x="900000" y="1734480"/>
              <a:ext cx="7594560" cy="494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Text Box 2"/>
          <p:cNvSpPr/>
          <p:nvPr/>
        </p:nvSpPr>
        <p:spPr>
          <a:xfrm>
            <a:off x="539640" y="417600"/>
            <a:ext cx="82090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果把钟表的指针看作四边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OBC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点按顺时针方向旋转得到四边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EF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这个旋转过程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旋转中心是什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旋转角是什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经过旋转，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别移动到什么位置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O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长有什么关系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   BO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O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O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O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什么大小关系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7" name="Picture 3" descr="图片13"/>
          <p:cNvPicPr/>
          <p:nvPr/>
        </p:nvPicPr>
        <p:blipFill>
          <a:blip r:embed="rId1"/>
          <a:stretch/>
        </p:blipFill>
        <p:spPr>
          <a:xfrm>
            <a:off x="1116000" y="4365720"/>
            <a:ext cx="157464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608" name="Group 4"/>
          <p:cNvGrpSpPr/>
          <p:nvPr/>
        </p:nvGrpSpPr>
        <p:grpSpPr>
          <a:xfrm>
            <a:off x="2969280" y="3877920"/>
            <a:ext cx="3503520" cy="3099960"/>
            <a:chOff x="2969280" y="3877920"/>
            <a:chExt cx="3503520" cy="3099960"/>
          </a:xfrm>
        </p:grpSpPr>
        <p:grpSp>
          <p:nvGrpSpPr>
            <p:cNvPr id="1609" name="Group 5"/>
            <p:cNvGrpSpPr/>
            <p:nvPr/>
          </p:nvGrpSpPr>
          <p:grpSpPr>
            <a:xfrm>
              <a:off x="5108040" y="4419000"/>
              <a:ext cx="1364760" cy="2048400"/>
              <a:chOff x="5108040" y="4419000"/>
              <a:chExt cx="1364760" cy="2048400"/>
            </a:xfrm>
          </p:grpSpPr>
          <p:sp>
            <p:nvSpPr>
              <p:cNvPr id="1610" name="Line 6"/>
              <p:cNvSpPr/>
              <p:nvPr/>
            </p:nvSpPr>
            <p:spPr>
              <a:xfrm flipH="1">
                <a:off x="5339160" y="4419000"/>
                <a:ext cx="1133640" cy="126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7"/>
              <p:cNvSpPr/>
              <p:nvPr/>
            </p:nvSpPr>
            <p:spPr>
              <a:xfrm flipH="1">
                <a:off x="5751000" y="4419000"/>
                <a:ext cx="721800" cy="1585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8"/>
              <p:cNvSpPr/>
              <p:nvPr/>
            </p:nvSpPr>
            <p:spPr>
              <a:xfrm flipH="1">
                <a:off x="5108040" y="5680440"/>
                <a:ext cx="231120" cy="786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9"/>
              <p:cNvSpPr/>
              <p:nvPr/>
            </p:nvSpPr>
            <p:spPr>
              <a:xfrm flipH="1">
                <a:off x="5108040" y="6004080"/>
                <a:ext cx="642960" cy="463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4" name="Group 10"/>
            <p:cNvGrpSpPr/>
            <p:nvPr/>
          </p:nvGrpSpPr>
          <p:grpSpPr>
            <a:xfrm>
              <a:off x="3290400" y="4796280"/>
              <a:ext cx="1803240" cy="1675440"/>
              <a:chOff x="3290400" y="4796280"/>
              <a:chExt cx="1803240" cy="1675440"/>
            </a:xfrm>
          </p:grpSpPr>
          <p:sp>
            <p:nvSpPr>
              <p:cNvPr id="1615" name="Line 11"/>
              <p:cNvSpPr/>
              <p:nvPr/>
            </p:nvSpPr>
            <p:spPr>
              <a:xfrm>
                <a:off x="3290400" y="4796280"/>
                <a:ext cx="1063440" cy="1321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12"/>
              <p:cNvSpPr/>
              <p:nvPr/>
            </p:nvSpPr>
            <p:spPr>
              <a:xfrm>
                <a:off x="3290400" y="4796280"/>
                <a:ext cx="1449000" cy="966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13"/>
              <p:cNvSpPr/>
              <p:nvPr/>
            </p:nvSpPr>
            <p:spPr>
              <a:xfrm>
                <a:off x="4353840" y="6117480"/>
                <a:ext cx="739800" cy="35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14"/>
              <p:cNvSpPr/>
              <p:nvPr/>
            </p:nvSpPr>
            <p:spPr>
              <a:xfrm>
                <a:off x="4739400" y="5763240"/>
                <a:ext cx="354240" cy="708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9" name="Text Box 15"/>
            <p:cNvSpPr/>
            <p:nvPr/>
          </p:nvSpPr>
          <p:spPr>
            <a:xfrm rot="20574600">
              <a:off x="3852720" y="598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Text Box 16"/>
            <p:cNvSpPr/>
            <p:nvPr/>
          </p:nvSpPr>
          <p:spPr>
            <a:xfrm rot="20574600">
              <a:off x="4977360" y="6466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Text Box 17"/>
            <p:cNvSpPr/>
            <p:nvPr/>
          </p:nvSpPr>
          <p:spPr>
            <a:xfrm rot="20574600">
              <a:off x="3027960" y="4281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Text Box 18"/>
            <p:cNvSpPr/>
            <p:nvPr/>
          </p:nvSpPr>
          <p:spPr>
            <a:xfrm rot="20574600">
              <a:off x="5032440" y="517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Text Box 19"/>
            <p:cNvSpPr/>
            <p:nvPr/>
          </p:nvSpPr>
          <p:spPr>
            <a:xfrm rot="20574600">
              <a:off x="5928840" y="392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Text Box 20"/>
            <p:cNvSpPr/>
            <p:nvPr/>
          </p:nvSpPr>
          <p:spPr>
            <a:xfrm rot="20574600">
              <a:off x="5816880" y="5760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Text Box 21"/>
            <p:cNvSpPr/>
            <p:nvPr/>
          </p:nvSpPr>
          <p:spPr>
            <a:xfrm rot="20574600">
              <a:off x="4461840" y="5271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华文新魏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华文新魏"/>
              </a:rPr>
              <a:t>经过旋转，图形上的每一点都绕旋转中心沿相同方向转动了相同的角度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华文新魏"/>
              </a:rPr>
              <a:t>旋转图形的任意一对对应点与旋转中心的连线所成的角都是旋转角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华文新魏"/>
              </a:rPr>
              <a:t>旋转图形的任意一对对应点到旋转中心的距离相等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华文新魏"/>
              </a:rPr>
              <a:t>旋转后的图形与原图形全等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华文新魏"/>
              </a:rPr>
              <a:t>（旋转不改变图形的形状和大小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7" name="Rectangle 3"/>
          <p:cNvSpPr/>
          <p:nvPr/>
        </p:nvSpPr>
        <p:spPr>
          <a:xfrm>
            <a:off x="61272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SzPct val="12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你能否观察发现旋转的性质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8" name="Group 4"/>
          <p:cNvGrpSpPr/>
          <p:nvPr/>
        </p:nvGrpSpPr>
        <p:grpSpPr>
          <a:xfrm>
            <a:off x="3556800" y="3535920"/>
            <a:ext cx="3750840" cy="3403800"/>
            <a:chOff x="3556800" y="3535920"/>
            <a:chExt cx="3750840" cy="3403800"/>
          </a:xfrm>
        </p:grpSpPr>
        <p:grpSp>
          <p:nvGrpSpPr>
            <p:cNvPr id="1629" name="Group 5"/>
            <p:cNvGrpSpPr/>
            <p:nvPr/>
          </p:nvGrpSpPr>
          <p:grpSpPr>
            <a:xfrm>
              <a:off x="6273360" y="3882600"/>
              <a:ext cx="517680" cy="2454840"/>
              <a:chOff x="6273360" y="3882600"/>
              <a:chExt cx="517680" cy="2454840"/>
            </a:xfrm>
          </p:grpSpPr>
          <p:sp>
            <p:nvSpPr>
              <p:cNvPr id="1630" name="Line 6"/>
              <p:cNvSpPr/>
              <p:nvPr/>
            </p:nvSpPr>
            <p:spPr>
              <a:xfrm flipH="1">
                <a:off x="6273360" y="3882600"/>
                <a:ext cx="368640" cy="1655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7"/>
              <p:cNvSpPr/>
              <p:nvPr/>
            </p:nvSpPr>
            <p:spPr>
              <a:xfrm>
                <a:off x="6642000" y="3882600"/>
                <a:ext cx="149040" cy="1735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8"/>
              <p:cNvSpPr/>
              <p:nvPr/>
            </p:nvSpPr>
            <p:spPr>
              <a:xfrm>
                <a:off x="6273360" y="5538240"/>
                <a:ext cx="184680" cy="798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9"/>
              <p:cNvSpPr/>
              <p:nvPr/>
            </p:nvSpPr>
            <p:spPr>
              <a:xfrm flipH="1">
                <a:off x="6458400" y="5618160"/>
                <a:ext cx="332640" cy="719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4" name="Group 10"/>
            <p:cNvGrpSpPr/>
            <p:nvPr/>
          </p:nvGrpSpPr>
          <p:grpSpPr>
            <a:xfrm>
              <a:off x="4054680" y="5774040"/>
              <a:ext cx="2392920" cy="628560"/>
              <a:chOff x="4054680" y="5774040"/>
              <a:chExt cx="2392920" cy="628560"/>
            </a:xfrm>
          </p:grpSpPr>
          <p:sp>
            <p:nvSpPr>
              <p:cNvPr id="1635" name="Line 11"/>
              <p:cNvSpPr/>
              <p:nvPr/>
            </p:nvSpPr>
            <p:spPr>
              <a:xfrm>
                <a:off x="4054680" y="5774040"/>
                <a:ext cx="1575000" cy="628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12"/>
              <p:cNvSpPr/>
              <p:nvPr/>
            </p:nvSpPr>
            <p:spPr>
              <a:xfrm>
                <a:off x="4054680" y="5774040"/>
                <a:ext cx="1736640" cy="130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13"/>
              <p:cNvSpPr/>
              <p:nvPr/>
            </p:nvSpPr>
            <p:spPr>
              <a:xfrm flipV="1">
                <a:off x="5629680" y="6347880"/>
                <a:ext cx="817920" cy="5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14"/>
              <p:cNvSpPr/>
              <p:nvPr/>
            </p:nvSpPr>
            <p:spPr>
              <a:xfrm>
                <a:off x="5791320" y="5904720"/>
                <a:ext cx="656280" cy="443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9" name="Text Box 15"/>
            <p:cNvSpPr/>
            <p:nvPr/>
          </p:nvSpPr>
          <p:spPr>
            <a:xfrm rot="18810600">
              <a:off x="5215680" y="640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Text Box 16"/>
            <p:cNvSpPr/>
            <p:nvPr/>
          </p:nvSpPr>
          <p:spPr>
            <a:xfrm rot="18810600">
              <a:off x="6430680" y="62679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Text Box 17"/>
            <p:cNvSpPr/>
            <p:nvPr/>
          </p:nvSpPr>
          <p:spPr>
            <a:xfrm rot="18810600">
              <a:off x="3660840" y="532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Text Box 18"/>
            <p:cNvSpPr/>
            <p:nvPr/>
          </p:nvSpPr>
          <p:spPr>
            <a:xfrm rot="18810600">
              <a:off x="5843520" y="511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Text Box 19"/>
            <p:cNvSpPr/>
            <p:nvPr/>
          </p:nvSpPr>
          <p:spPr>
            <a:xfrm rot="18810600">
              <a:off x="6013080" y="3596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Text Box 20"/>
            <p:cNvSpPr/>
            <p:nvPr/>
          </p:nvSpPr>
          <p:spPr>
            <a:xfrm rot="18810600">
              <a:off x="6817320" y="524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Text Box 21"/>
            <p:cNvSpPr/>
            <p:nvPr/>
          </p:nvSpPr>
          <p:spPr>
            <a:xfrm rot="18810600">
              <a:off x="5394960" y="54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6" name="Group 22"/>
          <p:cNvGrpSpPr/>
          <p:nvPr/>
        </p:nvGrpSpPr>
        <p:grpSpPr>
          <a:xfrm>
            <a:off x="4067280" y="3924360"/>
            <a:ext cx="2580840" cy="2434680"/>
            <a:chOff x="4067280" y="3924360"/>
            <a:chExt cx="2580840" cy="2434680"/>
          </a:xfrm>
        </p:grpSpPr>
        <p:sp>
          <p:nvSpPr>
            <p:cNvPr id="1647" name="Line 23"/>
            <p:cNvSpPr/>
            <p:nvPr/>
          </p:nvSpPr>
          <p:spPr>
            <a:xfrm>
              <a:off x="4067280" y="5783040"/>
              <a:ext cx="2377440" cy="576000"/>
            </a:xfrm>
            <a:prstGeom prst="line">
              <a:avLst/>
            </a:prstGeom>
            <a:ln w="381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24"/>
            <p:cNvSpPr/>
            <p:nvPr/>
          </p:nvSpPr>
          <p:spPr>
            <a:xfrm flipH="1">
              <a:off x="6432120" y="3924360"/>
              <a:ext cx="216000" cy="2426760"/>
            </a:xfrm>
            <a:prstGeom prst="line">
              <a:avLst/>
            </a:prstGeom>
            <a:ln w="381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6:35:48Z</dcterms:created>
  <dc:creator/>
  <dc:description/>
  <cp:keywords/>
  <dc:language>en-US</dc:language>
  <cp:lastModifiedBy/>
  <dcterms:modified xsi:type="dcterms:W3CDTF">2014-03-17T06:35:53Z</dcterms:modified>
  <cp:revision>1</cp:revision>
  <dc:subject/>
  <dc:title/>
</cp:coreProperties>
</file>