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10.gif" ContentType="image/gif"/>
  <Override PartName="/ppt/media/image9.png" ContentType="image/png"/>
  <Override PartName="/ppt/media/image8.gif" ContentType="image/gif"/>
  <Override PartName="/ppt/media/image7.gif" ContentType="image/gif"/>
  <Override PartName="/ppt/media/type.wav" ContentType="audio/x-wav"/>
  <Override PartName="/ppt/media/applause.wav" ContentType="audio/x-wav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2.png" ContentType="image/png"/>
  <Override PartName="/ppt/media/image5.png" ContentType="image/png"/>
  <Override PartName="/ppt/media/image1.jpeg" ContentType="image/jpeg"/>
  <Override PartName="/ppt/media/image4.gif" ContentType="image/gif"/>
  <Override PartName="/ppt/media/chimes.wav" ContentType="audio/x-wav"/>
  <Override PartName="/ppt/media/image13.gif" ContentType="image/gif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3218-4C05-46D9-BD2D-A64FD5DEEAE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AAD8-0BCB-4B5A-9FDB-576EC4BB668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4BA7-D8E4-4994-936C-D17DF6EEC36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3E5F-8801-475A-B56E-77E6FEA1BBA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4127-0406-45CF-9107-C0F230A205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A637-4280-438E-804D-FAD4C82D35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5819-58E3-4FB7-97EE-1F7B4C48BA2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7162-0F5D-40FA-84FE-C4AE0002BCF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5AF6-A92C-454C-843C-4EDD1DF60B7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2B74-75D9-4E3E-B930-E0DDFDF6FCC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4C0F-F4F9-4856-BEF9-0A1769BE9BC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32A9-6CD0-4E80-B311-7F2DEF9FB3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A7AB-DAE1-42F0-B2D8-130BD72457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79F3-9BDF-4362-A53A-DBE92A16256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D51B-A668-4EF8-8CC7-66F4AC0C5EA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8C5C-642D-4A74-BE53-F3AB806C9B8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97DB-DC6B-4BD1-9FD6-ADCE91F86CC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7155-9CB3-4D5E-B83C-E2F4B51D295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D685-5AA8-4AA8-A74C-DD1A22211C8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6B85-B8A9-4306-A464-5AFB7C53503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027-A88F-4857-BDC1-DC9D363D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182-BF59-4ED5-8897-7D19EEA7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B0241-8622-47B5-881C-2427835B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1F74E-09CA-4B2A-ABD6-ECE9B61C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D1014-ABC2-4388-9294-4B358D21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FABFE-F9F9-43D2-9A51-40439400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8A7EB-6463-4918-9EF3-389F5590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64031-0CCE-48B8-BD4C-869EC4E8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CC582-0133-46EE-8FFC-8126EB60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7E3F4-1992-4B5A-AD8B-EFB02E52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C20C3-E291-4114-91A4-C823D0DD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BE74E-CA85-4CE6-9B7A-F9A708F5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5CB-25C0-45FB-AB71-359ED581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C6514-7538-4D3C-A1DD-C2E91F2A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D2B8C-EAF6-4679-8A9C-C6244BA1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54418-46B1-4FC3-B411-2874642A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83B38-989E-47BC-80F0-9469F97A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36F6A-3A5C-462B-AE4B-4A576385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91FAE-BD73-4BFA-89F3-38843973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E5E15-6483-400D-8C46-57359B1E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3C02B-24D3-4731-9D14-4861A1B3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19C20-7E5E-4D5D-875D-0E49A5FE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E50A1-0F03-48B6-A45C-B0036BF3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93FD-7099-4601-AC66-2D25AC71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F94FC-133A-4CD0-AF54-2F6D0ACD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C6B13-C8CA-4CE8-82FC-F4FF358D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97F5A-9374-4CA0-AB24-3C4BB7DE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3EF2C-31EB-4BC9-899D-40F4681B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04CF6-ED5B-4BC3-955B-514D386D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D862B-3275-4776-98BD-E192EE14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90A3C-21B1-47E7-AD3D-98614E89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86DFF-F42C-4E1B-8168-A42B57BB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5277D-FE7E-4418-B2CA-7F9FAE56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35943-05B5-4485-95A7-806A3A8D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5F62-5D3E-407D-929A-2E5EBA13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772D4-1D89-42EF-BE85-80971D85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74FB8-8879-40DF-8B03-0B369439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87E77-30A1-4936-8FFA-1213F5AA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110F3-FE76-47E5-9432-879CC1AE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A48C4-603A-4653-AB6E-60AAB810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C7E44-2B8A-4BCA-B7FB-E21FF480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1CAAB-C829-4C59-980C-ABF6C2C4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E7ECE-4298-42E7-9289-1B5EA439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B5176-139D-45F4-A85D-D2A56E64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212DD-923F-4E09-B456-C62D0352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52D4-0BAB-477A-9822-83421FBA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F60D1-9511-4EE1-B0A6-48E43E11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13C6B-121A-493F-AAB9-E9CB8B40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AF862-37C4-4224-BE5B-17EF9B3B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B51AA-5900-4AA5-9693-B3D7260A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2AE2F-D6E8-42B6-A7B1-4BD946CB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1D7F-0053-49B1-815C-3576F692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6DF7-9DFE-40FD-B56B-BCA73BDB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38DC-8C9C-480C-8C46-5F5B3EC0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8F1B-0BBA-438E-A349-331D066B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2CAF-A253-4F52-9872-E9ED9BF7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E90-D11B-4773-9CE8-9E2637F0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D0FA-40E1-4DBA-A0F4-D079872D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2A5E-76F0-4B14-9E91-12229A24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D9D9-EB8E-4FBD-8BF4-67A894E8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FBE1-3380-4EF9-8403-F225B9E3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315A-0092-4FCA-92EF-966F82DC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FD102-8FA5-4E4B-A64B-1B3CEA3C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0FEC8-8B85-4FC1-AD54-13424964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B2EEC-CBB0-4934-AD6B-56D3BA1E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2FCCC-6B44-444A-82A2-8CA03059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DAEE1-56B9-4D35-A5EA-3B3E7D1A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C723-1770-48A7-8E66-B4A43A2C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C5719-56AB-4CF1-9B15-8BCFF530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48FF6-D17D-496F-AEFE-E7FA68E1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70704-6774-41D3-B2C8-05FA1AA2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93626-87E3-40AC-806B-3060E3D9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4A4C8-B94C-49B7-86C1-A3523459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ABCD0-4912-4BDF-8496-DCF7AD9F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6FDE4-3DC0-4129-BC80-E96ACE6B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F3A28-76C1-4B87-A68D-205A5256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5ABD8-0D21-44FB-96FF-064BD4B6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4932E-5BB8-4E17-8836-93E9165C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858-27FC-44EB-90B8-50C9DEF3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30AD0-8488-48DD-945D-E1C92774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71AC0-FC03-47B8-A2B1-A1D3C090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FEADE-8E32-4E06-99A5-D5C1205C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8E2E2-ACCC-4A43-BA28-E9E4A29F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A5968-FF37-4D53-ABD5-D8FDAC7C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BD140-C00C-44C5-9F2D-8E799DB3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E2F2E-053F-402D-B03C-6F18153E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CD282-F54E-41C7-AE7E-33C9210A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5B9EA-1F11-4557-864F-735DA640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92E9C-71BD-4ABB-8E8F-AFBA5571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2E21-EF1B-4A87-B77E-37F59E2E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A84B2-299D-48C6-8943-61E877CF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4857E-63B4-4AEA-824D-0515549E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927F0-FAA3-45DB-B0FF-76CD8817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DB32C-A838-4DAD-9405-FF7684CE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114C0-349B-408C-85A0-09070F83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A2D73-7F34-4D0A-B0BE-485E7996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F99EA-C5EC-40E1-8D1E-B067E1CE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182EC-82CB-4CBA-9F22-AADAA66D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0860B-0FB5-47F8-AB5A-CD2E523D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58D19-E2E0-4B52-8B58-0BC6A0B9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28F7-0E2E-49F7-BF2F-75CC8A13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54081-514B-4CC4-9420-AD681A7F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387CB-F0D6-4493-8578-F52C07A2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A62ED-3CF3-472F-A11A-1AA084D9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F3F37-2E99-4BE9-808E-41DE1C27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936D2-0499-4F79-A34F-0DBD4CBF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4C369-AE48-4C7A-AB97-19CD680E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75AB0-BC3B-4380-98FD-5402CA9F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F3D28-9931-4C6A-B371-9810AC5D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BAAAC-20A4-4F07-95D7-C4DA60EF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924C9-A6A1-4CA9-B5F8-6204D877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B24F-4C66-4865-994A-E3366331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B214B-6257-43D2-90CE-0133DA46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169CC-7623-4C10-A51D-5C4E6871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A5DA0-AE5F-488E-901C-6060962B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E5347-F306-420A-B6F8-B321334D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988C0-69EC-49A4-AB7E-C51F1AFF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C30EF-CCB8-4CC0-8D41-C2C8A69B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BB6CB-F8C4-4BCE-8285-1464735C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6EC05-5412-4364-9314-E9F635A6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56492-ED4B-42AF-BE5E-2184300C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A4C70-AA55-47DA-9D8A-E12C1510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543-9C33-4DFD-AFAD-A658D907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185E3-D064-42E6-BB19-7DCB5B36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90948-71EC-4CE0-A803-1A95FA8F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F7EC5-FC21-4EFD-93F6-B5ED356F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6ABAD-E8C2-4E26-9042-C2E9E7CA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1CACB-0E51-4210-82FF-BF89256C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91D1C-2D20-4CEE-8F03-7950B017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E6F3C-F345-425C-AB24-BFE53B32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647A4-22FF-41BD-A4DE-E63C5401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8AE4A-87EB-4361-842E-4C10846B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3BE75-0AF8-4E53-954F-CC2C2D2F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83E-A5D0-480D-B784-02FF64ED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2973D-EDA9-4303-A2F8-BBF38254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A4816-EC57-4788-8F83-4C38B56B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EF4F8-CA9D-43A3-A3B6-2A503096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49004-E5F1-466C-B5E7-A76CF3F9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51BB6-2D62-4FBA-B282-D2E294CB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A5E29-A9ED-447D-A2CA-1E3E4313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5C4DE-1163-4AC1-8134-61E7B2EA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00C49-2968-4AC3-9A31-9028193A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7A7E0-019E-434A-A4D5-D6494FF7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49033-A26B-49FD-B138-3B125FE3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2920" y="-4680"/>
                <a:ext cx="987480" cy="683532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4880"/>
                <a:ext cx="98748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920"/>
                <a:ext cx="98748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7120"/>
                <a:ext cx="98748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760" y="3938040"/>
                <a:ext cx="987480" cy="4996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3200" y="3534840"/>
                <a:ext cx="98748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800"/>
                <a:ext cx="98748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3200" y="3231360"/>
                <a:ext cx="987480" cy="348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9320"/>
                <a:ext cx="98748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920"/>
                <a:ext cx="100008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7480" cy="503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74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000"/>
                <a:ext cx="9871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0080" cy="375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B506-6058-4DE3-ABF7-3B18D71A1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A76C-9464-4D36-9189-419C1AE4D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561B-3DC7-4CC1-A0F2-27170C718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EF68-7B00-4115-A58E-30C816137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46DD-F559-4570-8FDB-1F6538D48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4A47-7E28-4DE5-9F57-8AE8EAFE8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838F-D855-4E09-AD7F-A78F391CC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B45D-D997-4C22-B883-D94F84402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93C9-595D-41B1-9D24-9D0BC8085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0D1A-9F1C-43EC-ABE5-D5221F46F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5C9D-4EF7-499D-8F4F-F540BBB64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60E9-F8E5-4EBE-9828-4063EA431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4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4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4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4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4.gif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49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4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57160" y="1571760"/>
            <a:ext cx="74678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　　</a:t>
            </a:r>
            <a:r>
              <a:rPr b="0" lang="en-US" sz="4000" spc="-1" strike="noStrike">
                <a:solidFill>
                  <a:srgbClr val="ff3300"/>
                </a:solidFill>
                <a:latin typeface="隶书"/>
                <a:ea typeface="隶书"/>
              </a:rPr>
              <a:t>1.2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　直角三角形（</a:t>
            </a:r>
            <a:r>
              <a:rPr b="0" lang="en-US" sz="4000" spc="-1" strike="noStrike">
                <a:solidFill>
                  <a:srgbClr val="ff33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勾股定理与它的逆定理的证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Group 2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707" name="Picture 3" descr="20"/>
            <p:cNvPicPr/>
            <p:nvPr/>
          </p:nvPicPr>
          <p:blipFill>
            <a:blip r:embed="rId1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4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724280" y="60120"/>
            <a:ext cx="41911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命题与逆命题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Rectangle 14"/>
          <p:cNvSpPr/>
          <p:nvPr/>
        </p:nvSpPr>
        <p:spPr>
          <a:xfrm>
            <a:off x="838080" y="1066680"/>
            <a:ext cx="8001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两个命题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一个命题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结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别是另一个命题的</a:t>
            </a: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结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条件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那么这两个命题称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互逆命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其中一个命题称为另一个命题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逆命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91"/>
          <p:cNvGrpSpPr/>
          <p:nvPr/>
        </p:nvGrpSpPr>
        <p:grpSpPr>
          <a:xfrm>
            <a:off x="1295280" y="-136800"/>
            <a:ext cx="3124440" cy="1095480"/>
            <a:chOff x="1295280" y="-136800"/>
            <a:chExt cx="3124440" cy="1095480"/>
          </a:xfrm>
        </p:grpSpPr>
        <p:sp>
          <p:nvSpPr>
            <p:cNvPr id="712" name="AutoShape 92"/>
            <p:cNvSpPr/>
            <p:nvPr/>
          </p:nvSpPr>
          <p:spPr>
            <a:xfrm>
              <a:off x="1295280" y="0"/>
              <a:ext cx="312444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3" name="Picture 93" descr="钥匙"/>
            <p:cNvPicPr/>
            <p:nvPr/>
          </p:nvPicPr>
          <p:blipFill>
            <a:blip r:embed="rId3"/>
            <a:stretch/>
          </p:blipFill>
          <p:spPr>
            <a:xfrm>
              <a:off x="2362320" y="181080"/>
              <a:ext cx="8380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94"/>
            <p:cNvSpPr/>
            <p:nvPr/>
          </p:nvSpPr>
          <p:spPr>
            <a:xfrm>
              <a:off x="1447920" y="-13680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开启        智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95"/>
          <p:cNvSpPr/>
          <p:nvPr/>
        </p:nvSpPr>
        <p:spPr>
          <a:xfrm>
            <a:off x="838080" y="30481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能写出命题“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如果两个有理数相等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那么它们的平方相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”的逆命题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96"/>
          <p:cNvSpPr/>
          <p:nvPr/>
        </p:nvSpPr>
        <p:spPr>
          <a:xfrm>
            <a:off x="838080" y="411480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它们都是真命题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97"/>
          <p:cNvSpPr/>
          <p:nvPr/>
        </p:nvSpPr>
        <p:spPr>
          <a:xfrm>
            <a:off x="838080" y="4724280"/>
            <a:ext cx="563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一想</a:t>
            </a:r>
            <a:r>
              <a:rPr b="0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个命题是真命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它逆命题是真命题还是假命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719" name="Picture 3" descr="20"/>
            <p:cNvPicPr/>
            <p:nvPr/>
          </p:nvPicPr>
          <p:blipFill>
            <a:blip r:embed="rId1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4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724280" y="60120"/>
            <a:ext cx="41911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定理与逆定理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838080" y="9144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命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真命题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它逆命题却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一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真命题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10"/>
          <p:cNvGrpSpPr/>
          <p:nvPr/>
        </p:nvGrpSpPr>
        <p:grpSpPr>
          <a:xfrm>
            <a:off x="1295280" y="-136800"/>
            <a:ext cx="3124440" cy="1095480"/>
            <a:chOff x="1295280" y="-136800"/>
            <a:chExt cx="3124440" cy="1095480"/>
          </a:xfrm>
        </p:grpSpPr>
        <p:sp>
          <p:nvSpPr>
            <p:cNvPr id="724" name="AutoShape 11"/>
            <p:cNvSpPr/>
            <p:nvPr/>
          </p:nvSpPr>
          <p:spPr>
            <a:xfrm>
              <a:off x="1295280" y="0"/>
              <a:ext cx="312444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5" name="Picture 12" descr="钥匙"/>
            <p:cNvPicPr/>
            <p:nvPr/>
          </p:nvPicPr>
          <p:blipFill>
            <a:blip r:embed="rId3"/>
            <a:stretch/>
          </p:blipFill>
          <p:spPr>
            <a:xfrm>
              <a:off x="2362320" y="181080"/>
              <a:ext cx="8380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Text Box 13"/>
            <p:cNvSpPr/>
            <p:nvPr/>
          </p:nvSpPr>
          <p:spPr>
            <a:xfrm>
              <a:off x="1447920" y="-13680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开启        智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Rectangle 14"/>
          <p:cNvSpPr/>
          <p:nvPr/>
        </p:nvSpPr>
        <p:spPr>
          <a:xfrm>
            <a:off x="838080" y="3124080"/>
            <a:ext cx="8077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们已经学习了一些互逆的定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勾股定理及其逆定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直线平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错角相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错角相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直线平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15"/>
          <p:cNvSpPr/>
          <p:nvPr/>
        </p:nvSpPr>
        <p:spPr>
          <a:xfrm>
            <a:off x="838080" y="457200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还能举出一些例子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16"/>
          <p:cNvSpPr/>
          <p:nvPr/>
        </p:nvSpPr>
        <p:spPr>
          <a:xfrm>
            <a:off x="838080" y="5105520"/>
            <a:ext cx="6324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一想</a:t>
            </a:r>
            <a:r>
              <a:rPr b="0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互逆命题与互逆定理有何关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17"/>
          <p:cNvSpPr/>
          <p:nvPr/>
        </p:nvSpPr>
        <p:spPr>
          <a:xfrm>
            <a:off x="838080" y="1447920"/>
            <a:ext cx="8305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一个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定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逆命题经过证明是真命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那么它是一个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定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两个定理称为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互逆定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其中一个定理称另一个定理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逆定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647960" y="136080"/>
            <a:ext cx="4343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蓄势待发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32" name="Group 6"/>
          <p:cNvGrpSpPr/>
          <p:nvPr/>
        </p:nvGrpSpPr>
        <p:grpSpPr>
          <a:xfrm>
            <a:off x="1219320" y="228600"/>
            <a:ext cx="3581280" cy="685800"/>
            <a:chOff x="1219320" y="228600"/>
            <a:chExt cx="3581280" cy="685800"/>
          </a:xfrm>
        </p:grpSpPr>
        <p:sp>
          <p:nvSpPr>
            <p:cNvPr id="733" name="Rectangle 7"/>
            <p:cNvSpPr/>
            <p:nvPr/>
          </p:nvSpPr>
          <p:spPr>
            <a:xfrm>
              <a:off x="1219320" y="2761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隋堂练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Rectangle 8"/>
            <p:cNvSpPr/>
            <p:nvPr/>
          </p:nvSpPr>
          <p:spPr>
            <a:xfrm>
              <a:off x="3200400" y="26676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5" name="Picture 9" descr="678"/>
            <p:cNvPicPr/>
            <p:nvPr/>
          </p:nvPicPr>
          <p:blipFill>
            <a:blip r:embed="rId1"/>
            <a:stretch/>
          </p:blipFill>
          <p:spPr>
            <a:xfrm>
              <a:off x="3581280" y="2286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10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19320" y="3808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7" name="Rectangle 11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Group 12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739" name="Picture 13" descr="20"/>
            <p:cNvPicPr/>
            <p:nvPr/>
          </p:nvPicPr>
          <p:blipFill>
            <a:blip r:embed="rId3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 Box 14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Rectangle 17"/>
          <p:cNvSpPr/>
          <p:nvPr/>
        </p:nvSpPr>
        <p:spPr>
          <a:xfrm>
            <a:off x="1066680" y="495288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老师提示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你是否能将有关命题的知识予以整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24"/>
          <p:cNvSpPr/>
          <p:nvPr/>
        </p:nvSpPr>
        <p:spPr>
          <a:xfrm>
            <a:off x="380880" y="1123920"/>
            <a:ext cx="8763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下列合理的逆命题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判断每对命题的真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35"/>
          <p:cNvSpPr/>
          <p:nvPr/>
        </p:nvSpPr>
        <p:spPr>
          <a:xfrm>
            <a:off x="838080" y="1828800"/>
            <a:ext cx="4876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四边形是多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直线平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同旁内角互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=0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那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=0,b=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36"/>
          <p:cNvSpPr/>
          <p:nvPr/>
        </p:nvSpPr>
        <p:spPr>
          <a:xfrm>
            <a:off x="838080" y="35812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请你举出一些命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然后写出它的逆命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并判断这些逆命题的真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724280" y="60120"/>
            <a:ext cx="41911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学无止境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46" name="Group 9"/>
          <p:cNvGrpSpPr/>
          <p:nvPr/>
        </p:nvGrpSpPr>
        <p:grpSpPr>
          <a:xfrm>
            <a:off x="1219320" y="152280"/>
            <a:ext cx="3581280" cy="685800"/>
            <a:chOff x="1219320" y="152280"/>
            <a:chExt cx="3581280" cy="685800"/>
          </a:xfrm>
        </p:grpSpPr>
        <p:sp>
          <p:nvSpPr>
            <p:cNvPr id="747" name="Rectangle 10"/>
            <p:cNvSpPr/>
            <p:nvPr/>
          </p:nvSpPr>
          <p:spPr>
            <a:xfrm>
              <a:off x="1219320" y="1998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读一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11"/>
            <p:cNvSpPr/>
            <p:nvPr/>
          </p:nvSpPr>
          <p:spPr>
            <a:xfrm>
              <a:off x="3200400" y="1904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9" name="Picture 12" descr="678"/>
            <p:cNvPicPr/>
            <p:nvPr/>
          </p:nvPicPr>
          <p:blipFill>
            <a:blip r:embed="rId1"/>
            <a:stretch/>
          </p:blipFill>
          <p:spPr>
            <a:xfrm>
              <a:off x="3581280" y="152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13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19320" y="304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1" name="Rectangle 42"/>
          <p:cNvSpPr/>
          <p:nvPr/>
        </p:nvSpPr>
        <p:spPr>
          <a:xfrm>
            <a:off x="809640" y="1805040"/>
            <a:ext cx="7620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勾股定理是数学上有证明方法最多的定理──有四百多种说明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古今中外有许多人探索勾股定理的证明方法，不但有数学家，还有物理学家，甚至画家、政治家。如赵爽（中）、梅文鼎（中）、欧几里德（希腊）、辛卜松（英）、加菲尔德（美第二十届总统）等等。其证明方法达数百种之多，这在数学史上是十分罕见的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Group 46"/>
          <p:cNvGrpSpPr/>
          <p:nvPr/>
        </p:nvGrpSpPr>
        <p:grpSpPr>
          <a:xfrm>
            <a:off x="6781680" y="4737240"/>
            <a:ext cx="2362320" cy="1834920"/>
            <a:chOff x="6781680" y="4737240"/>
            <a:chExt cx="2362320" cy="1834920"/>
          </a:xfrm>
        </p:grpSpPr>
        <p:pic>
          <p:nvPicPr>
            <p:cNvPr id="753" name="Picture 47" descr="20"/>
            <p:cNvPicPr/>
            <p:nvPr/>
          </p:nvPicPr>
          <p:blipFill>
            <a:blip r:embed="rId3"/>
            <a:stretch/>
          </p:blipFill>
          <p:spPr>
            <a:xfrm>
              <a:off x="6781680" y="473724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48"/>
            <p:cNvSpPr/>
            <p:nvPr/>
          </p:nvSpPr>
          <p:spPr>
            <a:xfrm>
              <a:off x="7238880" y="547344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Rectangle 123"/>
          <p:cNvSpPr/>
          <p:nvPr/>
        </p:nvSpPr>
        <p:spPr>
          <a:xfrm>
            <a:off x="1143000" y="76212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P16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勾股定理的证明</a:t>
            </a:r>
            <a:r>
              <a:rPr b="0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724280" y="60120"/>
            <a:ext cx="41911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学无止境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57" name="Group 6"/>
          <p:cNvGrpSpPr/>
          <p:nvPr/>
        </p:nvGrpSpPr>
        <p:grpSpPr>
          <a:xfrm>
            <a:off x="1219320" y="152280"/>
            <a:ext cx="3581280" cy="685800"/>
            <a:chOff x="1219320" y="152280"/>
            <a:chExt cx="3581280" cy="685800"/>
          </a:xfrm>
        </p:grpSpPr>
        <p:sp>
          <p:nvSpPr>
            <p:cNvPr id="758" name="Rectangle 7"/>
            <p:cNvSpPr/>
            <p:nvPr/>
          </p:nvSpPr>
          <p:spPr>
            <a:xfrm>
              <a:off x="1219320" y="1998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读一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8"/>
            <p:cNvSpPr/>
            <p:nvPr/>
          </p:nvSpPr>
          <p:spPr>
            <a:xfrm>
              <a:off x="3200400" y="1904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0" name="Picture 9" descr="678"/>
            <p:cNvPicPr/>
            <p:nvPr/>
          </p:nvPicPr>
          <p:blipFill>
            <a:blip r:embed="rId1"/>
            <a:stretch/>
          </p:blipFill>
          <p:spPr>
            <a:xfrm>
              <a:off x="3581280" y="152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Picture 10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19320" y="304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2" name="Rectangle 11"/>
          <p:cNvSpPr/>
          <p:nvPr/>
        </p:nvSpPr>
        <p:spPr>
          <a:xfrm>
            <a:off x="990720" y="1285920"/>
            <a:ext cx="7619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　 历时几千年的两个定理，牵动着世界上不知多少代亿万人们的心，前人以坚韧的毅力，开拓创新的精神谱写了科学知识宝库中探宝的光辉篇章，还有许多宝藏等待后人开采。自然无限，创造永恒。同学们要努力学习，提高自身素质，不辜负时代重托，将来为人类作出更大贡献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Group 13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764" name="Picture 14" descr="20"/>
            <p:cNvPicPr/>
            <p:nvPr/>
          </p:nvPicPr>
          <p:blipFill>
            <a:blip r:embed="rId3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15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Rectangle 16"/>
          <p:cNvSpPr/>
          <p:nvPr/>
        </p:nvSpPr>
        <p:spPr>
          <a:xfrm>
            <a:off x="1143000" y="762120"/>
            <a:ext cx="74674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16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读一读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勾股定理的证明</a:t>
            </a:r>
            <a:r>
              <a:rPr b="0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724280" y="60120"/>
            <a:ext cx="41911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学无止境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68" name="Group 6"/>
          <p:cNvGrpSpPr/>
          <p:nvPr/>
        </p:nvGrpSpPr>
        <p:grpSpPr>
          <a:xfrm>
            <a:off x="1219320" y="152280"/>
            <a:ext cx="3581280" cy="685800"/>
            <a:chOff x="1219320" y="152280"/>
            <a:chExt cx="3581280" cy="685800"/>
          </a:xfrm>
        </p:grpSpPr>
        <p:sp>
          <p:nvSpPr>
            <p:cNvPr id="769" name="Rectangle 7"/>
            <p:cNvSpPr/>
            <p:nvPr/>
          </p:nvSpPr>
          <p:spPr>
            <a:xfrm>
              <a:off x="1219320" y="1998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读一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8"/>
            <p:cNvSpPr/>
            <p:nvPr/>
          </p:nvSpPr>
          <p:spPr>
            <a:xfrm>
              <a:off x="3200400" y="1904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1" name="Picture 9" descr="678"/>
            <p:cNvPicPr/>
            <p:nvPr/>
          </p:nvPicPr>
          <p:blipFill>
            <a:blip r:embed="rId1"/>
            <a:stretch/>
          </p:blipFill>
          <p:spPr>
            <a:xfrm>
              <a:off x="3581280" y="152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Picture 10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19320" y="304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3" name="Rectangle 11"/>
          <p:cNvSpPr/>
          <p:nvPr/>
        </p:nvSpPr>
        <p:spPr>
          <a:xfrm>
            <a:off x="990720" y="1857240"/>
            <a:ext cx="76197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学习永远是件快乐而有趣的事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勾股定理的魅力将把你引入一个奇妙的境界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4" name="Group 13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775" name="Picture 14" descr="20"/>
            <p:cNvPicPr/>
            <p:nvPr/>
          </p:nvPicPr>
          <p:blipFill>
            <a:blip r:embed="rId3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Text Box 15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Rectangle 16"/>
          <p:cNvSpPr/>
          <p:nvPr/>
        </p:nvSpPr>
        <p:spPr>
          <a:xfrm>
            <a:off x="1143000" y="1004760"/>
            <a:ext cx="7467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P16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读一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勾股定理的证明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4"/>
          <p:cNvSpPr/>
          <p:nvPr/>
        </p:nvSpPr>
        <p:spPr>
          <a:xfrm>
            <a:off x="114300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723920" y="76320"/>
            <a:ext cx="4038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梦想成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80" name="Group 15"/>
          <p:cNvGrpSpPr/>
          <p:nvPr/>
        </p:nvGrpSpPr>
        <p:grpSpPr>
          <a:xfrm>
            <a:off x="1219320" y="76320"/>
            <a:ext cx="3581280" cy="685800"/>
            <a:chOff x="1219320" y="76320"/>
            <a:chExt cx="3581280" cy="685800"/>
          </a:xfrm>
        </p:grpSpPr>
        <p:sp>
          <p:nvSpPr>
            <p:cNvPr id="781" name="Rectangle 16"/>
            <p:cNvSpPr/>
            <p:nvPr/>
          </p:nvSpPr>
          <p:spPr>
            <a:xfrm>
              <a:off x="1219320" y="12384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试一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Rectangle 17"/>
            <p:cNvSpPr/>
            <p:nvPr/>
          </p:nvSpPr>
          <p:spPr>
            <a:xfrm>
              <a:off x="3200400" y="11448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3" name="Picture 18" descr="678"/>
            <p:cNvPicPr/>
            <p:nvPr/>
          </p:nvPicPr>
          <p:blipFill>
            <a:blip r:embed="rId1"/>
            <a:stretch/>
          </p:blipFill>
          <p:spPr>
            <a:xfrm>
              <a:off x="3581280" y="763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Picture 19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19320" y="2286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5" name="Rectangle 34"/>
          <p:cNvSpPr/>
          <p:nvPr/>
        </p:nvSpPr>
        <p:spPr>
          <a:xfrm>
            <a:off x="785880" y="10717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位：英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一个长方体的房间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只蜘蛛在一面墙的正中间离天花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英尺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苍蝇则在对面墙的正中间离地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英尺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蜘蛛为了捕获苍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爬行的最短距离是多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86"/>
          <p:cNvGrpSpPr/>
          <p:nvPr/>
        </p:nvGrpSpPr>
        <p:grpSpPr>
          <a:xfrm>
            <a:off x="2971800" y="3733920"/>
            <a:ext cx="3657600" cy="1906920"/>
            <a:chOff x="2971800" y="3733920"/>
            <a:chExt cx="3657600" cy="1906920"/>
          </a:xfrm>
        </p:grpSpPr>
        <p:sp>
          <p:nvSpPr>
            <p:cNvPr id="787" name="AutoShape 77"/>
            <p:cNvSpPr/>
            <p:nvPr/>
          </p:nvSpPr>
          <p:spPr>
            <a:xfrm>
              <a:off x="2971800" y="3733920"/>
              <a:ext cx="3048120" cy="152388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78"/>
            <p:cNvSpPr/>
            <p:nvPr/>
          </p:nvSpPr>
          <p:spPr>
            <a:xfrm>
              <a:off x="3352680" y="37339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79"/>
            <p:cNvSpPr/>
            <p:nvPr/>
          </p:nvSpPr>
          <p:spPr>
            <a:xfrm flipH="1">
              <a:off x="3352320" y="487692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80"/>
            <p:cNvSpPr/>
            <p:nvPr/>
          </p:nvSpPr>
          <p:spPr>
            <a:xfrm flipH="1">
              <a:off x="2971800" y="48769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Text Box 81"/>
            <p:cNvSpPr/>
            <p:nvPr/>
          </p:nvSpPr>
          <p:spPr>
            <a:xfrm>
              <a:off x="5715000" y="3962520"/>
              <a:ext cx="6858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82"/>
            <p:cNvSpPr/>
            <p:nvPr/>
          </p:nvSpPr>
          <p:spPr>
            <a:xfrm>
              <a:off x="2971800" y="4449600"/>
              <a:ext cx="6858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Text Box 83"/>
            <p:cNvSpPr/>
            <p:nvPr/>
          </p:nvSpPr>
          <p:spPr>
            <a:xfrm>
              <a:off x="4038480" y="5254560"/>
              <a:ext cx="685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84"/>
            <p:cNvSpPr/>
            <p:nvPr/>
          </p:nvSpPr>
          <p:spPr>
            <a:xfrm>
              <a:off x="5791320" y="4952880"/>
              <a:ext cx="685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Text Box 85"/>
            <p:cNvSpPr/>
            <p:nvPr/>
          </p:nvSpPr>
          <p:spPr>
            <a:xfrm>
              <a:off x="5943600" y="4114800"/>
              <a:ext cx="685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190760" y="151920"/>
            <a:ext cx="4724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回味无穷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21932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勾股定理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隶书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直角三角形两直角边分别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斜边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那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直角三角形两直角边的平方和等于斜边的平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勾股定理在西方文献中又称为毕达哥拉斯定理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ythagoras theore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勾股定理的逆定理</a:t>
            </a:r>
            <a:r>
              <a:rPr b="0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三角形两边的平方和等于第三边平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那么这个三角形是直角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命题与逆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两个命题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一个命题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结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是另一个命题的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结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条件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那么这两个命题称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互逆命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一个命题称为另一个命题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逆命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定理与逆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一个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定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逆命题经过证明是真命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那么它是一个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定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两个定理称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互逆定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一个定理称另一个定理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逆定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5"/>
          <p:cNvGrpSpPr/>
          <p:nvPr/>
        </p:nvGrpSpPr>
        <p:grpSpPr>
          <a:xfrm>
            <a:off x="1295280" y="0"/>
            <a:ext cx="2819160" cy="1297440"/>
            <a:chOff x="1295280" y="0"/>
            <a:chExt cx="2819160" cy="1297440"/>
          </a:xfrm>
        </p:grpSpPr>
        <p:grpSp>
          <p:nvGrpSpPr>
            <p:cNvPr id="799" name="Group 6"/>
            <p:cNvGrpSpPr/>
            <p:nvPr/>
          </p:nvGrpSpPr>
          <p:grpSpPr>
            <a:xfrm>
              <a:off x="1295280" y="0"/>
              <a:ext cx="2666520" cy="929880"/>
              <a:chOff x="1295280" y="0"/>
              <a:chExt cx="2666520" cy="929880"/>
            </a:xfrm>
          </p:grpSpPr>
          <p:sp>
            <p:nvSpPr>
              <p:cNvPr id="800" name="AutoShape 7"/>
              <p:cNvSpPr/>
              <p:nvPr/>
            </p:nvSpPr>
            <p:spPr>
              <a:xfrm>
                <a:off x="1295280" y="101880"/>
                <a:ext cx="2605680" cy="828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Text Box 8"/>
              <p:cNvSpPr/>
              <p:nvPr/>
            </p:nvSpPr>
            <p:spPr>
              <a:xfrm>
                <a:off x="1325160" y="0"/>
                <a:ext cx="263664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02" name="Picture 9" descr="打开书"/>
            <p:cNvPicPr/>
            <p:nvPr/>
          </p:nvPicPr>
          <p:blipFill>
            <a:blip r:embed="rId2"/>
            <a:stretch/>
          </p:blipFill>
          <p:spPr>
            <a:xfrm>
              <a:off x="2361960" y="228600"/>
              <a:ext cx="628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Text Box 10"/>
            <p:cNvSpPr/>
            <p:nvPr/>
          </p:nvSpPr>
          <p:spPr>
            <a:xfrm>
              <a:off x="1371240" y="22860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       拓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7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7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7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624560" y="850680"/>
            <a:ext cx="4208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知识的升华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05" name="Group 5"/>
          <p:cNvGrpSpPr/>
          <p:nvPr/>
        </p:nvGrpSpPr>
        <p:grpSpPr>
          <a:xfrm>
            <a:off x="1295280" y="0"/>
            <a:ext cx="3009960" cy="1523520"/>
            <a:chOff x="1295280" y="0"/>
            <a:chExt cx="3009960" cy="1523520"/>
          </a:xfrm>
        </p:grpSpPr>
        <p:pic>
          <p:nvPicPr>
            <p:cNvPr id="806" name="Picture 6" descr="AG00029_"/>
            <p:cNvPicPr/>
            <p:nvPr/>
          </p:nvPicPr>
          <p:blipFill>
            <a:blip r:embed="rId1"/>
            <a:stretch/>
          </p:blipFill>
          <p:spPr>
            <a:xfrm>
              <a:off x="2590920" y="87480"/>
              <a:ext cx="171432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7" name="Group 7"/>
            <p:cNvGrpSpPr/>
            <p:nvPr/>
          </p:nvGrpSpPr>
          <p:grpSpPr>
            <a:xfrm>
              <a:off x="1295280" y="0"/>
              <a:ext cx="1295640" cy="1523520"/>
              <a:chOff x="1295280" y="0"/>
              <a:chExt cx="1295640" cy="1523520"/>
            </a:xfrm>
          </p:grpSpPr>
          <p:sp>
            <p:nvSpPr>
              <p:cNvPr id="808" name="AutoShape 8"/>
              <p:cNvSpPr/>
              <p:nvPr/>
            </p:nvSpPr>
            <p:spPr>
              <a:xfrm>
                <a:off x="1295280" y="0"/>
                <a:ext cx="1266120" cy="15235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Text Box 9"/>
              <p:cNvSpPr/>
              <p:nvPr/>
            </p:nvSpPr>
            <p:spPr>
              <a:xfrm>
                <a:off x="1309320" y="57240"/>
                <a:ext cx="128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Text Box 10"/>
            <p:cNvSpPr/>
            <p:nvPr/>
          </p:nvSpPr>
          <p:spPr>
            <a:xfrm>
              <a:off x="1447920" y="182520"/>
              <a:ext cx="1066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独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作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Rectangle 11"/>
          <p:cNvSpPr/>
          <p:nvPr/>
        </p:nvSpPr>
        <p:spPr>
          <a:xfrm>
            <a:off x="1295280" y="18288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P</a:t>
            </a:r>
            <a:r>
              <a:rPr b="0" lang="en-US" sz="4800" spc="-1" strike="noStrike" baseline="-25000">
                <a:solidFill>
                  <a:srgbClr val="ff0000"/>
                </a:solidFill>
                <a:latin typeface="Times New Roman"/>
                <a:ea typeface="隶书"/>
              </a:rPr>
              <a:t>17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习题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1.5   1,2,3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题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祝你成功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809880" y="120240"/>
            <a:ext cx="502920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Times New Roman"/>
                <a:ea typeface="隶书"/>
              </a:rPr>
              <a:t>结束寄语</a:t>
            </a:r>
            <a:endParaRPr b="0" lang="en-US" sz="5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严格性之于数学家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犹如道德之于人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证明的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规范性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在于：条理清晰，因果相应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言必有据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这是初学证明者谨记和遵循的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原则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4"/>
          <p:cNvGrpSpPr/>
          <p:nvPr/>
        </p:nvGrpSpPr>
        <p:grpSpPr>
          <a:xfrm>
            <a:off x="1239840" y="0"/>
            <a:ext cx="2646360" cy="1547640"/>
            <a:chOff x="1239840" y="0"/>
            <a:chExt cx="2646360" cy="1547640"/>
          </a:xfrm>
        </p:grpSpPr>
        <p:pic>
          <p:nvPicPr>
            <p:cNvPr id="815" name="Picture 5" descr="gif1450"/>
            <p:cNvPicPr/>
            <p:nvPr/>
          </p:nvPicPr>
          <p:blipFill>
            <a:blip r:embed="rId1"/>
            <a:stretch/>
          </p:blipFill>
          <p:spPr>
            <a:xfrm>
              <a:off x="2687760" y="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6" name="Group 6"/>
            <p:cNvGrpSpPr/>
            <p:nvPr/>
          </p:nvGrpSpPr>
          <p:grpSpPr>
            <a:xfrm>
              <a:off x="1239840" y="42840"/>
              <a:ext cx="1676520" cy="1191960"/>
              <a:chOff x="1239840" y="42840"/>
              <a:chExt cx="1676520" cy="1191960"/>
            </a:xfrm>
          </p:grpSpPr>
          <p:sp>
            <p:nvSpPr>
              <p:cNvPr id="817" name="AutoShape 7"/>
              <p:cNvSpPr/>
              <p:nvPr/>
            </p:nvSpPr>
            <p:spPr>
              <a:xfrm>
                <a:off x="1239840" y="6732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Text Box 8"/>
              <p:cNvSpPr/>
              <p:nvPr/>
            </p:nvSpPr>
            <p:spPr>
              <a:xfrm>
                <a:off x="1258560" y="42840"/>
                <a:ext cx="1657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9" name="Text Box 9"/>
            <p:cNvSpPr/>
            <p:nvPr/>
          </p:nvSpPr>
          <p:spPr>
            <a:xfrm>
              <a:off x="1392120" y="38088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en-US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Group 10"/>
          <p:cNvGrpSpPr/>
          <p:nvPr/>
        </p:nvGrpSpPr>
        <p:grpSpPr>
          <a:xfrm>
            <a:off x="2362320" y="4343400"/>
            <a:ext cx="5333400" cy="2133000"/>
            <a:chOff x="2362320" y="4343400"/>
            <a:chExt cx="5333400" cy="2133000"/>
          </a:xfrm>
        </p:grpSpPr>
        <p:grpSp>
          <p:nvGrpSpPr>
            <p:cNvPr id="821" name="Group 11"/>
            <p:cNvGrpSpPr/>
            <p:nvPr/>
          </p:nvGrpSpPr>
          <p:grpSpPr>
            <a:xfrm>
              <a:off x="2362320" y="4343400"/>
              <a:ext cx="5333400" cy="2133000"/>
              <a:chOff x="2362320" y="4343400"/>
              <a:chExt cx="5333400" cy="2133000"/>
            </a:xfrm>
          </p:grpSpPr>
          <p:sp>
            <p:nvSpPr>
              <p:cNvPr id="822" name="AutoShape 12"/>
              <p:cNvSpPr/>
              <p:nvPr/>
            </p:nvSpPr>
            <p:spPr>
              <a:xfrm>
                <a:off x="2362320" y="4343400"/>
                <a:ext cx="5333400" cy="2133000"/>
              </a:xfrm>
              <a:prstGeom prst="horizont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eded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  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23" name="Picture 13" descr="GTH_001"/>
              <p:cNvPicPr/>
              <p:nvPr/>
            </p:nvPicPr>
            <p:blipFill>
              <a:blip r:embed="rId3"/>
              <a:stretch/>
            </p:blipFill>
            <p:spPr>
              <a:xfrm>
                <a:off x="5799240" y="4871160"/>
                <a:ext cx="879120" cy="1011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4" name="Group 14"/>
            <p:cNvGrpSpPr/>
            <p:nvPr/>
          </p:nvGrpSpPr>
          <p:grpSpPr>
            <a:xfrm>
              <a:off x="3048120" y="4647960"/>
              <a:ext cx="2971800" cy="1524240"/>
              <a:chOff x="3048120" y="4647960"/>
              <a:chExt cx="2971800" cy="1524240"/>
            </a:xfrm>
          </p:grpSpPr>
          <p:sp>
            <p:nvSpPr>
              <p:cNvPr id="825" name="WordArt 15"/>
              <p:cNvSpPr txBox="1"/>
              <p:nvPr/>
            </p:nvSpPr>
            <p:spPr>
              <a:xfrm>
                <a:off x="3048120" y="4647960"/>
                <a:ext cx="2971800" cy="1524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FadeRight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0000"/>
                    </a:solidFill>
                    <a:latin typeface="宋体"/>
                  </a:rPr>
                  <a:t>再    见</a:t>
                </a:r>
                <a:endPara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ff0000"/>
                  </a:solidFill>
                  <a:latin typeface="宋体"/>
                  <a:ea typeface="宋体"/>
                </a:endParaRPr>
              </a:p>
            </p:txBody>
          </p:sp>
          <p:pic>
            <p:nvPicPr>
              <p:cNvPr id="826" name="Picture 16" descr="051（致敬）"/>
              <p:cNvPicPr/>
              <p:nvPr/>
            </p:nvPicPr>
            <p:blipFill>
              <a:blip r:embed="rId4"/>
              <a:stretch/>
            </p:blipFill>
            <p:spPr>
              <a:xfrm>
                <a:off x="3819600" y="4724280"/>
                <a:ext cx="676080" cy="12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7" name="Picture 17" descr="052（致敬）"/>
              <p:cNvPicPr/>
              <p:nvPr/>
            </p:nvPicPr>
            <p:blipFill>
              <a:blip r:embed="rId5"/>
              <a:stretch/>
            </p:blipFill>
            <p:spPr>
              <a:xfrm>
                <a:off x="4648320" y="4800600"/>
                <a:ext cx="652320" cy="11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130"/>
          <p:cNvGrpSpPr/>
          <p:nvPr/>
        </p:nvGrpSpPr>
        <p:grpSpPr>
          <a:xfrm>
            <a:off x="3143160" y="71280"/>
            <a:ext cx="2276640" cy="958680"/>
            <a:chOff x="3143160" y="71280"/>
            <a:chExt cx="2276640" cy="958680"/>
          </a:xfrm>
        </p:grpSpPr>
        <p:sp>
          <p:nvSpPr>
            <p:cNvPr id="547" name="AutoShape 131"/>
            <p:cNvSpPr/>
            <p:nvPr/>
          </p:nvSpPr>
          <p:spPr>
            <a:xfrm>
              <a:off x="3143160" y="71280"/>
              <a:ext cx="227664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133"/>
            <p:cNvSpPr/>
            <p:nvPr/>
          </p:nvSpPr>
          <p:spPr>
            <a:xfrm>
              <a:off x="3344400" y="213120"/>
              <a:ext cx="199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复习回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TextBox 5"/>
          <p:cNvSpPr/>
          <p:nvPr/>
        </p:nvSpPr>
        <p:spPr>
          <a:xfrm>
            <a:off x="1285920" y="107172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曾经探索过的直角三角形的哪些性质和判定方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圆角矩形 6"/>
          <p:cNvSpPr/>
          <p:nvPr/>
        </p:nvSpPr>
        <p:spPr>
          <a:xfrm>
            <a:off x="1285920" y="1714680"/>
            <a:ext cx="6072120" cy="2571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d5c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直角三角形的性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在直角三角形中，两锐角互余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在直角三角形中，斜边上的中线等于斜边的一半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在直角三角形中，如果一个锐角等于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30°</a:t>
            </a: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，那么它所对的直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边等于斜边的一半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在直角三角形中，如果一条直角边等于斜边的一半，那么这条直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边所对的角等于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30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圆角矩形 7"/>
          <p:cNvGrpSpPr/>
          <p:nvPr/>
        </p:nvGrpSpPr>
        <p:grpSpPr>
          <a:xfrm>
            <a:off x="4084560" y="4322880"/>
            <a:ext cx="4541760" cy="1968480"/>
            <a:chOff x="4084560" y="4322880"/>
            <a:chExt cx="4541760" cy="1968480"/>
          </a:xfrm>
        </p:grpSpPr>
        <p:pic>
          <p:nvPicPr>
            <p:cNvPr id="552" name="圆角矩形 7" descr=""/>
            <p:cNvPicPr/>
            <p:nvPr/>
          </p:nvPicPr>
          <p:blipFill>
            <a:blip r:embed="rId2"/>
            <a:stretch/>
          </p:blipFill>
          <p:spPr>
            <a:xfrm>
              <a:off x="4084560" y="4322880"/>
              <a:ext cx="454176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4233960" y="4448160"/>
              <a:ext cx="424800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33cc"/>
                  </a:solidFill>
                  <a:latin typeface="Times New Roman"/>
                </a:rPr>
                <a:t>直角三角形的判定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cc"/>
                  </a:solidFill>
                  <a:latin typeface="Times New Roman"/>
                </a:rPr>
                <a:t>1.</a:t>
              </a:r>
              <a:r>
                <a:rPr b="1" lang="zh-CN" sz="1400" spc="-1" strike="noStrike">
                  <a:solidFill>
                    <a:srgbClr val="ff33cc"/>
                  </a:solidFill>
                  <a:latin typeface="Times New Roman"/>
                </a:rPr>
                <a:t>有一个角等于</a:t>
              </a:r>
              <a:r>
                <a:rPr b="1" lang="en-US" sz="1400" spc="-1" strike="noStrike">
                  <a:solidFill>
                    <a:srgbClr val="ff33cc"/>
                  </a:solidFill>
                  <a:latin typeface="Times New Roman"/>
                </a:rPr>
                <a:t>90°</a:t>
              </a:r>
              <a:r>
                <a:rPr b="1" lang="zh-CN" sz="1400" spc="-1" strike="noStrike">
                  <a:solidFill>
                    <a:srgbClr val="ff33cc"/>
                  </a:solidFill>
                  <a:latin typeface="Times New Roman"/>
                </a:rPr>
                <a:t>的三角形是直角三角形</a:t>
              </a:r>
              <a:r>
                <a:rPr b="1" lang="en-US" sz="1400" spc="-1" strike="noStrike">
                  <a:solidFill>
                    <a:srgbClr val="ff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cc"/>
                  </a:solidFill>
                  <a:latin typeface="Times New Roman"/>
                </a:rPr>
                <a:t>2.</a:t>
              </a:r>
              <a:r>
                <a:rPr b="1" lang="zh-CN" sz="1400" spc="-1" strike="noStrike">
                  <a:solidFill>
                    <a:srgbClr val="ff33cc"/>
                  </a:solidFill>
                  <a:latin typeface="Times New Roman"/>
                </a:rPr>
                <a:t>有两个角互余的三角形是直角三角形</a:t>
              </a:r>
              <a:r>
                <a:rPr b="1" lang="en-US" sz="1400" spc="-1" strike="noStrike">
                  <a:solidFill>
                    <a:srgbClr val="ff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cc"/>
                  </a:solidFill>
                  <a:latin typeface="Times New Roman"/>
                </a:rPr>
                <a:t>3.</a:t>
              </a:r>
              <a:r>
                <a:rPr b="1" lang="zh-CN" sz="1400" spc="-1" strike="noStrike">
                  <a:solidFill>
                    <a:srgbClr val="ff33cc"/>
                  </a:solidFill>
                  <a:latin typeface="Times New Roman"/>
                </a:rPr>
                <a:t>如果三角形一边上的中线等于这条边的一半，那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33cc"/>
                  </a:solidFill>
                  <a:latin typeface="Times New Roman"/>
                </a:rPr>
                <a:t>这个三角形是直角三角形</a:t>
              </a:r>
              <a:r>
                <a:rPr b="1" lang="en-US" sz="1400" spc="-1" strike="noStrike">
                  <a:solidFill>
                    <a:srgbClr val="ff33cc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6781680" y="3886200"/>
            <a:ext cx="2362320" cy="2485800"/>
            <a:chOff x="6781680" y="3886200"/>
            <a:chExt cx="2362320" cy="2485800"/>
          </a:xfrm>
        </p:grpSpPr>
        <p:pic>
          <p:nvPicPr>
            <p:cNvPr id="555" name="Picture 3" descr="20"/>
            <p:cNvPicPr/>
            <p:nvPr/>
          </p:nvPicPr>
          <p:blipFill>
            <a:blip r:embed="rId1"/>
            <a:stretch/>
          </p:blipFill>
          <p:spPr>
            <a:xfrm>
              <a:off x="6781680" y="453708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Text Box 4"/>
            <p:cNvSpPr/>
            <p:nvPr/>
          </p:nvSpPr>
          <p:spPr>
            <a:xfrm>
              <a:off x="7238880" y="388620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43400" y="-16200"/>
            <a:ext cx="44956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勾股定理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1143000" y="137160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直角三角形两直角边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斜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那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直角三角形两直角边的平方和等于斜边的平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勾股定理在西方文献中又称为毕达哥拉斯定理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ythagoras theore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130"/>
          <p:cNvGrpSpPr/>
          <p:nvPr/>
        </p:nvGrpSpPr>
        <p:grpSpPr>
          <a:xfrm>
            <a:off x="1295280" y="-136800"/>
            <a:ext cx="3124440" cy="1095480"/>
            <a:chOff x="1295280" y="-136800"/>
            <a:chExt cx="3124440" cy="1095480"/>
          </a:xfrm>
        </p:grpSpPr>
        <p:sp>
          <p:nvSpPr>
            <p:cNvPr id="560" name="AutoShape 131"/>
            <p:cNvSpPr/>
            <p:nvPr/>
          </p:nvSpPr>
          <p:spPr>
            <a:xfrm>
              <a:off x="1295280" y="0"/>
              <a:ext cx="312444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1" name="Picture 132" descr="钥匙"/>
            <p:cNvPicPr/>
            <p:nvPr/>
          </p:nvPicPr>
          <p:blipFill>
            <a:blip r:embed="rId3"/>
            <a:stretch/>
          </p:blipFill>
          <p:spPr>
            <a:xfrm>
              <a:off x="2362320" y="181080"/>
              <a:ext cx="8380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 Box 133"/>
            <p:cNvSpPr/>
            <p:nvPr/>
          </p:nvSpPr>
          <p:spPr>
            <a:xfrm>
              <a:off x="1447920" y="-13680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开启        智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153"/>
          <p:cNvGrpSpPr/>
          <p:nvPr/>
        </p:nvGrpSpPr>
        <p:grpSpPr>
          <a:xfrm>
            <a:off x="1371600" y="4114800"/>
            <a:ext cx="2514600" cy="1755000"/>
            <a:chOff x="1371600" y="4114800"/>
            <a:chExt cx="2514600" cy="1755000"/>
          </a:xfrm>
        </p:grpSpPr>
        <p:sp>
          <p:nvSpPr>
            <p:cNvPr id="564" name="AutoShape 154"/>
            <p:cNvSpPr/>
            <p:nvPr/>
          </p:nvSpPr>
          <p:spPr>
            <a:xfrm>
              <a:off x="1828800" y="4114800"/>
              <a:ext cx="2057400" cy="129528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55"/>
            <p:cNvSpPr/>
            <p:nvPr/>
          </p:nvSpPr>
          <p:spPr>
            <a:xfrm>
              <a:off x="1828800" y="5257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156"/>
            <p:cNvSpPr/>
            <p:nvPr/>
          </p:nvSpPr>
          <p:spPr>
            <a:xfrm>
              <a:off x="1981080" y="5257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157"/>
            <p:cNvSpPr/>
            <p:nvPr/>
          </p:nvSpPr>
          <p:spPr>
            <a:xfrm>
              <a:off x="1371600" y="4572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158"/>
            <p:cNvSpPr/>
            <p:nvPr/>
          </p:nvSpPr>
          <p:spPr>
            <a:xfrm>
              <a:off x="2743200" y="4343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159"/>
            <p:cNvSpPr/>
            <p:nvPr/>
          </p:nvSpPr>
          <p:spPr>
            <a:xfrm>
              <a:off x="25146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160"/>
          <p:cNvGrpSpPr/>
          <p:nvPr/>
        </p:nvGrpSpPr>
        <p:grpSpPr>
          <a:xfrm>
            <a:off x="4267080" y="4038480"/>
            <a:ext cx="2514600" cy="1755000"/>
            <a:chOff x="4267080" y="4038480"/>
            <a:chExt cx="2514600" cy="1755000"/>
          </a:xfrm>
        </p:grpSpPr>
        <p:sp>
          <p:nvSpPr>
            <p:cNvPr id="571" name="AutoShape 161"/>
            <p:cNvSpPr/>
            <p:nvPr/>
          </p:nvSpPr>
          <p:spPr>
            <a:xfrm>
              <a:off x="4724280" y="4038480"/>
              <a:ext cx="2057400" cy="129528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162"/>
            <p:cNvSpPr/>
            <p:nvPr/>
          </p:nvSpPr>
          <p:spPr>
            <a:xfrm>
              <a:off x="4724280" y="5181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63"/>
            <p:cNvSpPr/>
            <p:nvPr/>
          </p:nvSpPr>
          <p:spPr>
            <a:xfrm>
              <a:off x="4876560" y="5181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164"/>
            <p:cNvSpPr/>
            <p:nvPr/>
          </p:nvSpPr>
          <p:spPr>
            <a:xfrm>
              <a:off x="4267080" y="4495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165"/>
            <p:cNvSpPr/>
            <p:nvPr/>
          </p:nvSpPr>
          <p:spPr>
            <a:xfrm>
              <a:off x="563868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166"/>
            <p:cNvSpPr/>
            <p:nvPr/>
          </p:nvSpPr>
          <p:spPr>
            <a:xfrm>
              <a:off x="5410080" y="5333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191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578" name="Picture 20" descr="20"/>
            <p:cNvPicPr/>
            <p:nvPr/>
          </p:nvPicPr>
          <p:blipFill>
            <a:blip r:embed="rId1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 Box 21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724280" y="60120"/>
            <a:ext cx="41911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勾股定理的证明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81" name="Group 74"/>
          <p:cNvGrpSpPr/>
          <p:nvPr/>
        </p:nvGrpSpPr>
        <p:grpSpPr>
          <a:xfrm>
            <a:off x="1071720" y="142920"/>
            <a:ext cx="3581280" cy="685800"/>
            <a:chOff x="1071720" y="142920"/>
            <a:chExt cx="3581280" cy="685800"/>
          </a:xfrm>
        </p:grpSpPr>
        <p:sp>
          <p:nvSpPr>
            <p:cNvPr id="582" name="Rectangle 75"/>
            <p:cNvSpPr/>
            <p:nvPr/>
          </p:nvSpPr>
          <p:spPr>
            <a:xfrm>
              <a:off x="1071720" y="19044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我能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76"/>
            <p:cNvSpPr/>
            <p:nvPr/>
          </p:nvSpPr>
          <p:spPr>
            <a:xfrm>
              <a:off x="3052800" y="18108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4" name="Picture 77" descr="678"/>
            <p:cNvPicPr/>
            <p:nvPr/>
          </p:nvPicPr>
          <p:blipFill>
            <a:blip r:embed="rId2"/>
            <a:stretch/>
          </p:blipFill>
          <p:spPr>
            <a:xfrm>
              <a:off x="3433680" y="1429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78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1071720" y="2952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6" name="Rectangle 79"/>
          <p:cNvSpPr/>
          <p:nvPr/>
        </p:nvSpPr>
        <p:spPr>
          <a:xfrm>
            <a:off x="3276720" y="1143000"/>
            <a:ext cx="4800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99ccff"/>
                </a:solidFill>
                <a:uFillTx/>
                <a:latin typeface="Times New Roman"/>
                <a:hlinkClick r:id="rId4" action="ppaction://hlinksldjump"/>
              </a:rPr>
              <a:t>方法一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拼图计算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99ccff"/>
                </a:solidFill>
                <a:uFillTx/>
                <a:latin typeface="Times New Roman"/>
                <a:hlinkClick r:id="rId5" action="ppaction://hlinksldjump"/>
              </a:rPr>
              <a:t>方法二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：割补法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99ccff"/>
                </a:solidFill>
                <a:uFillTx/>
                <a:latin typeface="Times New Roman"/>
                <a:hlinkClick r:id="rId6" action="ppaction://hlinksldjump"/>
              </a:rPr>
              <a:t>方法三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：赵爽的弦图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99ccff"/>
                </a:solidFill>
                <a:uFillTx/>
                <a:latin typeface="Times New Roman"/>
                <a:hlinkClick r:id="rId7" action="ppaction://hlinksldjump"/>
              </a:rPr>
              <a:t>方法四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：总统证法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方法五：青朱出入图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方法六：折纸法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方法七：拼图计算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1"/>
          <p:cNvSpPr/>
          <p:nvPr/>
        </p:nvSpPr>
        <p:spPr>
          <a:xfrm>
            <a:off x="1828800" y="5105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些证法你还能记得多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你最喜欢哪种证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47960" y="60120"/>
            <a:ext cx="4343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总统证法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89" name="Group 1030"/>
          <p:cNvGrpSpPr/>
          <p:nvPr/>
        </p:nvGrpSpPr>
        <p:grpSpPr>
          <a:xfrm>
            <a:off x="1219320" y="228600"/>
            <a:ext cx="3581280" cy="685800"/>
            <a:chOff x="1219320" y="228600"/>
            <a:chExt cx="3581280" cy="685800"/>
          </a:xfrm>
        </p:grpSpPr>
        <p:sp>
          <p:nvSpPr>
            <p:cNvPr id="590" name="Rectangle 1031"/>
            <p:cNvSpPr/>
            <p:nvPr/>
          </p:nvSpPr>
          <p:spPr>
            <a:xfrm>
              <a:off x="1219320" y="2761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回顾反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1032"/>
            <p:cNvSpPr/>
            <p:nvPr/>
          </p:nvSpPr>
          <p:spPr>
            <a:xfrm>
              <a:off x="3200400" y="26676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2" name="Picture 1033" descr="678"/>
            <p:cNvPicPr/>
            <p:nvPr/>
          </p:nvPicPr>
          <p:blipFill>
            <a:blip r:embed="rId1"/>
            <a:stretch/>
          </p:blipFill>
          <p:spPr>
            <a:xfrm>
              <a:off x="3581280" y="2286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034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19320" y="3808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4" name="Group 1037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595" name="Picture 1038" descr="20"/>
            <p:cNvPicPr/>
            <p:nvPr/>
          </p:nvPicPr>
          <p:blipFill>
            <a:blip r:embed="rId3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039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Rectangle 1040"/>
          <p:cNvSpPr/>
          <p:nvPr/>
        </p:nvSpPr>
        <p:spPr>
          <a:xfrm>
            <a:off x="1143000" y="1047600"/>
            <a:ext cx="79246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这个证明方法出自一位总统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, 1881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年，伽菲尔德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(J.A. Garfield )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就任美国第二十任总统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在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876 , 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利用了梯形面积公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图中三个三角形面积的和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×ab/2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c/2;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梯形面积为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(a+b)(a+b)/2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比较可得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050"/>
          <p:cNvSpPr/>
          <p:nvPr/>
        </p:nvSpPr>
        <p:spPr>
          <a:xfrm>
            <a:off x="1371600" y="411480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伽菲尔德的证法在数学史上被传为佳话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后来，人们为了纪念他对勾股定理直观、简捷、易懂、明了的证明，就把这一证法称为“总统”证法。 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勾股定理不只是数学家爱好，魅力真大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Group 1109"/>
          <p:cNvGrpSpPr/>
          <p:nvPr/>
        </p:nvGrpSpPr>
        <p:grpSpPr>
          <a:xfrm>
            <a:off x="6172200" y="2437920"/>
            <a:ext cx="2971800" cy="1831680"/>
            <a:chOff x="6172200" y="2437920"/>
            <a:chExt cx="2971800" cy="1831680"/>
          </a:xfrm>
        </p:grpSpPr>
        <p:sp>
          <p:nvSpPr>
            <p:cNvPr id="600" name="AutoShape 1110"/>
            <p:cNvSpPr/>
            <p:nvPr/>
          </p:nvSpPr>
          <p:spPr>
            <a:xfrm>
              <a:off x="6476760" y="3124080"/>
              <a:ext cx="1447920" cy="761760"/>
            </a:xfrm>
            <a:prstGeom prst="rtTriangl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AutoShape 1111"/>
            <p:cNvSpPr/>
            <p:nvPr/>
          </p:nvSpPr>
          <p:spPr>
            <a:xfrm rot="16200000">
              <a:off x="7581960" y="2780640"/>
              <a:ext cx="1447560" cy="762120"/>
            </a:xfrm>
            <a:prstGeom prst="rtTriangl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112"/>
            <p:cNvSpPr/>
            <p:nvPr/>
          </p:nvSpPr>
          <p:spPr>
            <a:xfrm flipV="1">
              <a:off x="6476760" y="2437920"/>
              <a:ext cx="221004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 Box 1113"/>
            <p:cNvSpPr/>
            <p:nvPr/>
          </p:nvSpPr>
          <p:spPr>
            <a:xfrm>
              <a:off x="6172200" y="327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1114"/>
            <p:cNvSpPr/>
            <p:nvPr/>
          </p:nvSpPr>
          <p:spPr>
            <a:xfrm>
              <a:off x="6858000" y="38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1115"/>
            <p:cNvSpPr/>
            <p:nvPr/>
          </p:nvSpPr>
          <p:spPr>
            <a:xfrm>
              <a:off x="8153280" y="373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1116"/>
            <p:cNvSpPr/>
            <p:nvPr/>
          </p:nvSpPr>
          <p:spPr>
            <a:xfrm>
              <a:off x="8686800" y="2895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1117"/>
            <p:cNvSpPr/>
            <p:nvPr/>
          </p:nvSpPr>
          <p:spPr>
            <a:xfrm>
              <a:off x="7086600" y="3124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118"/>
            <p:cNvSpPr/>
            <p:nvPr/>
          </p:nvSpPr>
          <p:spPr>
            <a:xfrm>
              <a:off x="8001000" y="2895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Group 2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610" name="Picture 3" descr="20"/>
            <p:cNvPicPr/>
            <p:nvPr/>
          </p:nvPicPr>
          <p:blipFill>
            <a:blip r:embed="rId1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 Box 4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419720" y="60120"/>
            <a:ext cx="4572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勾股定理的逆定理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13" name="Group 9"/>
          <p:cNvGrpSpPr/>
          <p:nvPr/>
        </p:nvGrpSpPr>
        <p:grpSpPr>
          <a:xfrm>
            <a:off x="1219320" y="76320"/>
            <a:ext cx="3581280" cy="685800"/>
            <a:chOff x="1219320" y="76320"/>
            <a:chExt cx="3581280" cy="685800"/>
          </a:xfrm>
        </p:grpSpPr>
        <p:sp>
          <p:nvSpPr>
            <p:cNvPr id="614" name="Rectangle 10"/>
            <p:cNvSpPr/>
            <p:nvPr/>
          </p:nvSpPr>
          <p:spPr>
            <a:xfrm>
              <a:off x="1219320" y="12384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我能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11"/>
            <p:cNvSpPr/>
            <p:nvPr/>
          </p:nvSpPr>
          <p:spPr>
            <a:xfrm>
              <a:off x="3200400" y="11448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6" name="Picture 12" descr="678"/>
            <p:cNvPicPr/>
            <p:nvPr/>
          </p:nvPicPr>
          <p:blipFill>
            <a:blip r:embed="rId2"/>
            <a:stretch/>
          </p:blipFill>
          <p:spPr>
            <a:xfrm>
              <a:off x="3581280" y="763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13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1219320" y="2286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8" name="Rectangle 14"/>
          <p:cNvSpPr/>
          <p:nvPr/>
        </p:nvSpPr>
        <p:spPr>
          <a:xfrm>
            <a:off x="1143000" y="9144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如果三角形两边的平方和等于第三边平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那么这个三角形是直角三角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16"/>
          <p:cNvSpPr/>
          <p:nvPr/>
        </p:nvSpPr>
        <p:spPr>
          <a:xfrm>
            <a:off x="1143000" y="1676520"/>
            <a:ext cx="6477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1)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A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B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A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:△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直角三角形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58"/>
          <p:cNvGrpSpPr/>
          <p:nvPr/>
        </p:nvGrpSpPr>
        <p:grpSpPr>
          <a:xfrm>
            <a:off x="2057400" y="2895480"/>
            <a:ext cx="2971800" cy="2517120"/>
            <a:chOff x="2057400" y="2895480"/>
            <a:chExt cx="2971800" cy="2517120"/>
          </a:xfrm>
        </p:grpSpPr>
        <p:sp>
          <p:nvSpPr>
            <p:cNvPr id="621" name="AutoShape 37"/>
            <p:cNvSpPr/>
            <p:nvPr/>
          </p:nvSpPr>
          <p:spPr>
            <a:xfrm>
              <a:off x="2514600" y="3276360"/>
              <a:ext cx="2057400" cy="1295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40"/>
            <p:cNvSpPr/>
            <p:nvPr/>
          </p:nvSpPr>
          <p:spPr>
            <a:xfrm>
              <a:off x="2057400" y="373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Text Box 41"/>
            <p:cNvSpPr/>
            <p:nvPr/>
          </p:nvSpPr>
          <p:spPr>
            <a:xfrm>
              <a:off x="3429000" y="3504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Text Box 42"/>
            <p:cNvSpPr/>
            <p:nvPr/>
          </p:nvSpPr>
          <p:spPr>
            <a:xfrm>
              <a:off x="3200400" y="4572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Text Box 43"/>
            <p:cNvSpPr/>
            <p:nvPr/>
          </p:nvSpPr>
          <p:spPr>
            <a:xfrm>
              <a:off x="46483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44"/>
            <p:cNvSpPr/>
            <p:nvPr/>
          </p:nvSpPr>
          <p:spPr>
            <a:xfrm>
              <a:off x="228600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45"/>
            <p:cNvSpPr/>
            <p:nvPr/>
          </p:nvSpPr>
          <p:spPr>
            <a:xfrm>
              <a:off x="2133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57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Group 2"/>
          <p:cNvGrpSpPr/>
          <p:nvPr/>
        </p:nvGrpSpPr>
        <p:grpSpPr>
          <a:xfrm>
            <a:off x="7067520" y="5022720"/>
            <a:ext cx="2362320" cy="1835280"/>
            <a:chOff x="7067520" y="5022720"/>
            <a:chExt cx="2362320" cy="1835280"/>
          </a:xfrm>
        </p:grpSpPr>
        <p:pic>
          <p:nvPicPr>
            <p:cNvPr id="630" name="Picture 3" descr="20"/>
            <p:cNvPicPr/>
            <p:nvPr/>
          </p:nvPicPr>
          <p:blipFill>
            <a:blip r:embed="rId1"/>
            <a:stretch/>
          </p:blipFill>
          <p:spPr>
            <a:xfrm>
              <a:off x="7067520" y="502272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Text Box 4"/>
            <p:cNvSpPr/>
            <p:nvPr/>
          </p:nvSpPr>
          <p:spPr>
            <a:xfrm>
              <a:off x="7524720" y="575928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419720" y="60120"/>
            <a:ext cx="4572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逆定理的证明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33" name="Group 9"/>
          <p:cNvGrpSpPr/>
          <p:nvPr/>
        </p:nvGrpSpPr>
        <p:grpSpPr>
          <a:xfrm>
            <a:off x="714240" y="76320"/>
            <a:ext cx="3581280" cy="685800"/>
            <a:chOff x="714240" y="76320"/>
            <a:chExt cx="3581280" cy="685800"/>
          </a:xfrm>
        </p:grpSpPr>
        <p:sp>
          <p:nvSpPr>
            <p:cNvPr id="634" name="Rectangle 10"/>
            <p:cNvSpPr/>
            <p:nvPr/>
          </p:nvSpPr>
          <p:spPr>
            <a:xfrm>
              <a:off x="714240" y="12384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我能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11"/>
            <p:cNvSpPr/>
            <p:nvPr/>
          </p:nvSpPr>
          <p:spPr>
            <a:xfrm>
              <a:off x="2695320" y="11448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6" name="Picture 12" descr="678"/>
            <p:cNvPicPr/>
            <p:nvPr/>
          </p:nvPicPr>
          <p:blipFill>
            <a:blip r:embed="rId2"/>
            <a:stretch/>
          </p:blipFill>
          <p:spPr>
            <a:xfrm>
              <a:off x="3076200" y="763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Picture 13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714240" y="2286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8" name="Rectangle 14"/>
          <p:cNvSpPr/>
          <p:nvPr/>
        </p:nvSpPr>
        <p:spPr>
          <a:xfrm>
            <a:off x="642960" y="1600200"/>
            <a:ext cx="533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△A′B′C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AC,B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BC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6"/>
          <p:cNvSpPr/>
          <p:nvPr/>
        </p:nvSpPr>
        <p:spPr>
          <a:xfrm>
            <a:off x="642960" y="685800"/>
            <a:ext cx="6477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1)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,A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+B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=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△AB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直角三角形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Group 17"/>
          <p:cNvGrpSpPr/>
          <p:nvPr/>
        </p:nvGrpSpPr>
        <p:grpSpPr>
          <a:xfrm>
            <a:off x="6172200" y="838080"/>
            <a:ext cx="2971800" cy="2517120"/>
            <a:chOff x="6172200" y="838080"/>
            <a:chExt cx="2971800" cy="2517120"/>
          </a:xfrm>
        </p:grpSpPr>
        <p:sp>
          <p:nvSpPr>
            <p:cNvPr id="641" name="AutoShape 18"/>
            <p:cNvSpPr/>
            <p:nvPr/>
          </p:nvSpPr>
          <p:spPr>
            <a:xfrm>
              <a:off x="6629400" y="1218960"/>
              <a:ext cx="2057400" cy="1295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19"/>
            <p:cNvSpPr/>
            <p:nvPr/>
          </p:nvSpPr>
          <p:spPr>
            <a:xfrm>
              <a:off x="6172200" y="1676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Text Box 20"/>
            <p:cNvSpPr/>
            <p:nvPr/>
          </p:nvSpPr>
          <p:spPr>
            <a:xfrm>
              <a:off x="7543800" y="1447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Text Box 21"/>
            <p:cNvSpPr/>
            <p:nvPr/>
          </p:nvSpPr>
          <p:spPr>
            <a:xfrm>
              <a:off x="731520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22"/>
            <p:cNvSpPr/>
            <p:nvPr/>
          </p:nvSpPr>
          <p:spPr>
            <a:xfrm>
              <a:off x="8763120" y="2286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Text Box 23"/>
            <p:cNvSpPr/>
            <p:nvPr/>
          </p:nvSpPr>
          <p:spPr>
            <a:xfrm>
              <a:off x="6400800" y="838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Text Box 24"/>
            <p:cNvSpPr/>
            <p:nvPr/>
          </p:nvSpPr>
          <p:spPr>
            <a:xfrm>
              <a:off x="6248520" y="2286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Text Box 25"/>
            <p:cNvSpPr/>
            <p:nvPr/>
          </p:nvSpPr>
          <p:spPr>
            <a:xfrm>
              <a:off x="71629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Group 26"/>
          <p:cNvGrpSpPr/>
          <p:nvPr/>
        </p:nvGrpSpPr>
        <p:grpSpPr>
          <a:xfrm>
            <a:off x="5791320" y="3048120"/>
            <a:ext cx="3352680" cy="2517120"/>
            <a:chOff x="5791320" y="3048120"/>
            <a:chExt cx="3352680" cy="2517120"/>
          </a:xfrm>
        </p:grpSpPr>
        <p:grpSp>
          <p:nvGrpSpPr>
            <p:cNvPr id="650" name="Group 27"/>
            <p:cNvGrpSpPr/>
            <p:nvPr/>
          </p:nvGrpSpPr>
          <p:grpSpPr>
            <a:xfrm>
              <a:off x="5867640" y="3429000"/>
              <a:ext cx="2514600" cy="1755000"/>
              <a:chOff x="5867640" y="3429000"/>
              <a:chExt cx="2514600" cy="1755000"/>
            </a:xfrm>
          </p:grpSpPr>
          <p:sp>
            <p:nvSpPr>
              <p:cNvPr id="651" name="AutoShape 28"/>
              <p:cNvSpPr/>
              <p:nvPr/>
            </p:nvSpPr>
            <p:spPr>
              <a:xfrm>
                <a:off x="6324840" y="3429000"/>
                <a:ext cx="2057400" cy="129528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Line 29"/>
              <p:cNvSpPr/>
              <p:nvPr/>
            </p:nvSpPr>
            <p:spPr>
              <a:xfrm>
                <a:off x="6324840" y="4572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30"/>
              <p:cNvSpPr/>
              <p:nvPr/>
            </p:nvSpPr>
            <p:spPr>
              <a:xfrm>
                <a:off x="6477120" y="45720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31"/>
              <p:cNvSpPr/>
              <p:nvPr/>
            </p:nvSpPr>
            <p:spPr>
              <a:xfrm>
                <a:off x="5867640" y="3886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32"/>
              <p:cNvSpPr/>
              <p:nvPr/>
            </p:nvSpPr>
            <p:spPr>
              <a:xfrm>
                <a:off x="7239240" y="3657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33"/>
              <p:cNvSpPr/>
              <p:nvPr/>
            </p:nvSpPr>
            <p:spPr>
              <a:xfrm>
                <a:off x="7010640" y="47242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Text Box 34"/>
            <p:cNvSpPr/>
            <p:nvPr/>
          </p:nvSpPr>
          <p:spPr>
            <a:xfrm>
              <a:off x="586764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 Box 35"/>
            <p:cNvSpPr/>
            <p:nvPr/>
          </p:nvSpPr>
          <p:spPr>
            <a:xfrm>
              <a:off x="8305920" y="4495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 Box 36"/>
            <p:cNvSpPr/>
            <p:nvPr/>
          </p:nvSpPr>
          <p:spPr>
            <a:xfrm>
              <a:off x="5791320" y="4572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 Box 37"/>
            <p:cNvSpPr/>
            <p:nvPr/>
          </p:nvSpPr>
          <p:spPr>
            <a:xfrm>
              <a:off x="6934320" y="51055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Rectangle 38"/>
          <p:cNvSpPr/>
          <p:nvPr/>
        </p:nvSpPr>
        <p:spPr>
          <a:xfrm>
            <a:off x="642960" y="2362320"/>
            <a:ext cx="5943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勾股定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39"/>
          <p:cNvSpPr/>
          <p:nvPr/>
        </p:nvSpPr>
        <p:spPr>
          <a:xfrm>
            <a:off x="785880" y="2743200"/>
            <a:ext cx="4876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∵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+B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=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AC,B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B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图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40"/>
          <p:cNvSpPr/>
          <p:nvPr/>
        </p:nvSpPr>
        <p:spPr>
          <a:xfrm>
            <a:off x="785880" y="350532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等式性质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41"/>
          <p:cNvSpPr/>
          <p:nvPr/>
        </p:nvSpPr>
        <p:spPr>
          <a:xfrm>
            <a:off x="785880" y="388620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B=A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′(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等式性质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42"/>
          <p:cNvSpPr/>
          <p:nvPr/>
        </p:nvSpPr>
        <p:spPr>
          <a:xfrm>
            <a:off x="785880" y="434340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△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≌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△A′B′C′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(SS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43"/>
          <p:cNvSpPr/>
          <p:nvPr/>
        </p:nvSpPr>
        <p:spPr>
          <a:xfrm>
            <a:off x="785880" y="4800600"/>
            <a:ext cx="487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=∠A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全等三角形的对应边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44"/>
          <p:cNvSpPr/>
          <p:nvPr/>
        </p:nvSpPr>
        <p:spPr>
          <a:xfrm>
            <a:off x="1219320" y="5562720"/>
            <a:ext cx="487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△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是直角三角形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直角三角形意义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647960" y="60120"/>
            <a:ext cx="4343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几何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三种语言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69" name="Group 6"/>
          <p:cNvGrpSpPr/>
          <p:nvPr/>
        </p:nvGrpSpPr>
        <p:grpSpPr>
          <a:xfrm>
            <a:off x="1219320" y="228600"/>
            <a:ext cx="3581280" cy="685800"/>
            <a:chOff x="1219320" y="228600"/>
            <a:chExt cx="3581280" cy="685800"/>
          </a:xfrm>
        </p:grpSpPr>
        <p:sp>
          <p:nvSpPr>
            <p:cNvPr id="670" name="Rectangle 7"/>
            <p:cNvSpPr/>
            <p:nvPr/>
          </p:nvSpPr>
          <p:spPr>
            <a:xfrm>
              <a:off x="1219320" y="2761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回顾反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8"/>
            <p:cNvSpPr/>
            <p:nvPr/>
          </p:nvSpPr>
          <p:spPr>
            <a:xfrm>
              <a:off x="3200400" y="26676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2" name="Picture 9" descr="678"/>
            <p:cNvPicPr/>
            <p:nvPr/>
          </p:nvPicPr>
          <p:blipFill>
            <a:blip r:embed="rId1"/>
            <a:stretch/>
          </p:blipFill>
          <p:spPr>
            <a:xfrm>
              <a:off x="3581280" y="2286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10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19320" y="3808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Rectangle 11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2"/>
          <p:cNvGrpSpPr/>
          <p:nvPr/>
        </p:nvGrpSpPr>
        <p:grpSpPr>
          <a:xfrm>
            <a:off x="6781680" y="4879800"/>
            <a:ext cx="2362320" cy="1835280"/>
            <a:chOff x="6781680" y="4879800"/>
            <a:chExt cx="2362320" cy="1835280"/>
          </a:xfrm>
        </p:grpSpPr>
        <p:pic>
          <p:nvPicPr>
            <p:cNvPr id="676" name="Picture 13" descr="20"/>
            <p:cNvPicPr/>
            <p:nvPr/>
          </p:nvPicPr>
          <p:blipFill>
            <a:blip r:embed="rId3"/>
            <a:stretch/>
          </p:blipFill>
          <p:spPr>
            <a:xfrm>
              <a:off x="6781680" y="48798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Text Box 14"/>
            <p:cNvSpPr/>
            <p:nvPr/>
          </p:nvSpPr>
          <p:spPr>
            <a:xfrm>
              <a:off x="7238880" y="56163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Rectangle 15"/>
          <p:cNvSpPr/>
          <p:nvPr/>
        </p:nvSpPr>
        <p:spPr>
          <a:xfrm>
            <a:off x="1219320" y="1123920"/>
            <a:ext cx="44956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勾股定理的逆定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三角形两边的平方和等于第三边平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那么这个三角形是直角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17"/>
          <p:cNvSpPr/>
          <p:nvPr/>
        </p:nvSpPr>
        <p:spPr>
          <a:xfrm>
            <a:off x="1219320" y="5029200"/>
            <a:ext cx="5486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是判定直角三角形的根据之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38"/>
          <p:cNvSpPr/>
          <p:nvPr/>
        </p:nvSpPr>
        <p:spPr>
          <a:xfrm>
            <a:off x="1219320" y="2971800"/>
            <a:ext cx="73152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∵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B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A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∴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直角三角形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三角形两边的平方和等于第三边平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那么这个三角形是直角三角形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39"/>
          <p:cNvGrpSpPr/>
          <p:nvPr/>
        </p:nvGrpSpPr>
        <p:grpSpPr>
          <a:xfrm>
            <a:off x="5791320" y="1219320"/>
            <a:ext cx="2971800" cy="2517120"/>
            <a:chOff x="5791320" y="1219320"/>
            <a:chExt cx="2971800" cy="2517120"/>
          </a:xfrm>
        </p:grpSpPr>
        <p:sp>
          <p:nvSpPr>
            <p:cNvPr id="682" name="AutoShape 40"/>
            <p:cNvSpPr/>
            <p:nvPr/>
          </p:nvSpPr>
          <p:spPr>
            <a:xfrm>
              <a:off x="6248520" y="1600200"/>
              <a:ext cx="2057400" cy="1295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Text Box 41"/>
            <p:cNvSpPr/>
            <p:nvPr/>
          </p:nvSpPr>
          <p:spPr>
            <a:xfrm>
              <a:off x="5791320" y="2057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Text Box 42"/>
            <p:cNvSpPr/>
            <p:nvPr/>
          </p:nvSpPr>
          <p:spPr>
            <a:xfrm>
              <a:off x="716292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Text Box 43"/>
            <p:cNvSpPr/>
            <p:nvPr/>
          </p:nvSpPr>
          <p:spPr>
            <a:xfrm>
              <a:off x="6934320" y="2895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Text Box 44"/>
            <p:cNvSpPr/>
            <p:nvPr/>
          </p:nvSpPr>
          <p:spPr>
            <a:xfrm>
              <a:off x="8382240" y="2667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Text Box 45"/>
            <p:cNvSpPr/>
            <p:nvPr/>
          </p:nvSpPr>
          <p:spPr>
            <a:xfrm>
              <a:off x="6019920" y="1219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 Box 46"/>
            <p:cNvSpPr/>
            <p:nvPr/>
          </p:nvSpPr>
          <p:spPr>
            <a:xfrm>
              <a:off x="5867640" y="2667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 Box 47"/>
            <p:cNvSpPr/>
            <p:nvPr/>
          </p:nvSpPr>
          <p:spPr>
            <a:xfrm>
              <a:off x="6782040" y="3276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6996240" y="4951440"/>
            <a:ext cx="2361960" cy="1835280"/>
            <a:chOff x="6996240" y="4951440"/>
            <a:chExt cx="2361960" cy="1835280"/>
          </a:xfrm>
        </p:grpSpPr>
        <p:pic>
          <p:nvPicPr>
            <p:cNvPr id="691" name="Picture 3" descr="20"/>
            <p:cNvPicPr/>
            <p:nvPr/>
          </p:nvPicPr>
          <p:blipFill>
            <a:blip r:embed="rId1"/>
            <a:stretch/>
          </p:blipFill>
          <p:spPr>
            <a:xfrm>
              <a:off x="6996240" y="4951440"/>
              <a:ext cx="236196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Text Box 4"/>
            <p:cNvSpPr/>
            <p:nvPr/>
          </p:nvSpPr>
          <p:spPr>
            <a:xfrm>
              <a:off x="7453080" y="56880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724280" y="60120"/>
            <a:ext cx="41911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命题与逆命题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Rectangle 14"/>
          <p:cNvSpPr/>
          <p:nvPr/>
        </p:nvSpPr>
        <p:spPr>
          <a:xfrm>
            <a:off x="762120" y="97164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直角三角形两直角边的平方和等于斜边的平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72"/>
          <p:cNvSpPr/>
          <p:nvPr/>
        </p:nvSpPr>
        <p:spPr>
          <a:xfrm>
            <a:off x="762120" y="1295280"/>
            <a:ext cx="8381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三角形两边的平方和等于第三边平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那么这个三角形是直角三角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73"/>
          <p:cNvSpPr/>
          <p:nvPr/>
        </p:nvSpPr>
        <p:spPr>
          <a:xfrm>
            <a:off x="762120" y="1785960"/>
            <a:ext cx="788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观察上面两个命题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它们的条件与结论之间有怎样的关系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?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与同伴交流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74"/>
          <p:cNvSpPr/>
          <p:nvPr/>
        </p:nvSpPr>
        <p:spPr>
          <a:xfrm>
            <a:off x="785880" y="22860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再观察下面三组命题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75"/>
          <p:cNvSpPr/>
          <p:nvPr/>
        </p:nvSpPr>
        <p:spPr>
          <a:xfrm>
            <a:off x="838080" y="2714760"/>
            <a:ext cx="4448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66"/>
              </a:buClr>
              <a:buSzPct val="14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两个角是对顶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那么它们相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SzPct val="14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两个角相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那么它们是对顶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76"/>
          <p:cNvSpPr/>
          <p:nvPr/>
        </p:nvSpPr>
        <p:spPr>
          <a:xfrm>
            <a:off x="838080" y="3571920"/>
            <a:ext cx="473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66"/>
              </a:buClr>
              <a:buSzPct val="14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小明患了肺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那么他一定会发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SzPct val="14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小明发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那么他一定患了肺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77"/>
          <p:cNvSpPr/>
          <p:nvPr/>
        </p:nvSpPr>
        <p:spPr>
          <a:xfrm>
            <a:off x="838080" y="4500720"/>
            <a:ext cx="416268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66"/>
              </a:buClr>
              <a:buSzPct val="14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三角形中相等的边所对的角相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SzPct val="14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三角形中相等的角所对的边相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78"/>
          <p:cNvSpPr/>
          <p:nvPr/>
        </p:nvSpPr>
        <p:spPr>
          <a:xfrm>
            <a:off x="1190520" y="5143680"/>
            <a:ext cx="6096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cc"/>
                </a:solidFill>
                <a:latin typeface="Times New Roman"/>
              </a:rPr>
              <a:t>上面每组中两个命题的条件和结论之间也有类似的关系吗</a:t>
            </a:r>
            <a:r>
              <a:rPr b="1" lang="en-US" sz="2000" spc="-1" strike="noStrike">
                <a:solidFill>
                  <a:srgbClr val="ff33cc"/>
                </a:solidFill>
                <a:latin typeface="Times New Roman"/>
              </a:rPr>
              <a:t>?</a:t>
            </a:r>
            <a:r>
              <a:rPr b="1" lang="zh-CN" sz="2000" spc="-1" strike="noStrike">
                <a:solidFill>
                  <a:srgbClr val="ff33cc"/>
                </a:solidFill>
                <a:latin typeface="Times New Roman"/>
              </a:rPr>
              <a:t>与同伴进行交流</a:t>
            </a:r>
            <a:r>
              <a:rPr b="1" lang="en-US" sz="2000" spc="-1" strike="noStrike">
                <a:solidFill>
                  <a:srgbClr val="ff33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Group 84"/>
          <p:cNvGrpSpPr/>
          <p:nvPr/>
        </p:nvGrpSpPr>
        <p:grpSpPr>
          <a:xfrm>
            <a:off x="1295280" y="-136800"/>
            <a:ext cx="3124440" cy="1095480"/>
            <a:chOff x="1295280" y="-136800"/>
            <a:chExt cx="3124440" cy="1095480"/>
          </a:xfrm>
        </p:grpSpPr>
        <p:sp>
          <p:nvSpPr>
            <p:cNvPr id="703" name="AutoShape 85"/>
            <p:cNvSpPr/>
            <p:nvPr/>
          </p:nvSpPr>
          <p:spPr>
            <a:xfrm>
              <a:off x="1295280" y="0"/>
              <a:ext cx="312444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4" name="Picture 86" descr="钥匙"/>
            <p:cNvPicPr/>
            <p:nvPr/>
          </p:nvPicPr>
          <p:blipFill>
            <a:blip r:embed="rId3"/>
            <a:stretch/>
          </p:blipFill>
          <p:spPr>
            <a:xfrm>
              <a:off x="2362320" y="181080"/>
              <a:ext cx="8380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Text Box 87"/>
            <p:cNvSpPr/>
            <p:nvPr/>
          </p:nvSpPr>
          <p:spPr>
            <a:xfrm>
              <a:off x="1447920" y="-13680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开启        智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2:36:07Z</dcterms:created>
  <dc:creator/>
  <dc:description/>
  <dc:language>en-US</dc:language>
  <cp:lastModifiedBy/>
  <dcterms:modified xsi:type="dcterms:W3CDTF">2014-02-21T02:36:15Z</dcterms:modified>
  <cp:revision>1</cp:revision>
  <dc:subject/>
  <dc:title/>
</cp:coreProperties>
</file>