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chimes.wav" ContentType="audio/x-wav"/>
  <Override PartName="/ppt/media/image8.png" ContentType="image/png"/>
  <Override PartName="/ppt/media/image10.gif" ContentType="image/gif"/>
  <Override PartName="/ppt/media/image13.png" ContentType="image/pn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type.wav" ContentType="audio/x-wav"/>
  <Override PartName="/ppt/media/image9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3090-58B1-4EB8-9702-6B56693C849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3ED8-31F5-42AB-BEAA-5E8A9DA240A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1D3D-0055-4803-9AB1-4FED0C348C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E1FA-667B-45A0-9A50-C963CCB1CAE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A929-5FCF-4DCB-9A68-6C2E94158FD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E581-9DBB-4124-8D0C-D150FC8769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6DD5-BD44-491D-B508-5116D5D112D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ECB5-D8C6-4930-A9B5-BC2B16ED642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12F0-F48A-47B6-A09D-1DE5838921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A1FF-EE22-4E70-AF16-3CA2E29BA54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357F-24E4-4F22-8CBD-73016F8737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AC7B-0452-47FE-B8A7-754A45CCD1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7BCC-A764-4DF4-A962-1F73FBF0789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7E73-ADB7-474C-A424-5C14C6D58F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81DA-D2C1-4FA8-8825-59BDA5A012B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D515-1DEC-48D3-9C07-DF5BB97667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B460-D263-44EB-A774-601FD18276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B5F8-083D-4AFA-8975-DF6373C0C3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3DA9-E8F7-48C1-8A0C-B1C58EBCDF8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9D32-52DF-4FA3-89D0-5B17DFB05B7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F21E-92DB-4164-8E0C-BB6EFBE01C4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395A-61ED-4FE5-A325-F6BF0CA580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3447-7572-47A5-9736-E82C4EF960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6C86-63AA-40A3-AB9F-53EDD4BD48F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B68-1DA5-4C26-9426-6D6C0DDA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F66E-F531-4260-B53D-0D6C0E13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D94C2-54C7-4EA9-835A-F36F1D27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1DD90-1CB9-4E84-8EBA-ADF16FDD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D3BB9-45AA-484F-8A85-6ED136D6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8DEBA-4123-4E46-A2AF-0F7AA0A5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30FEA-BC09-4FD0-9A5C-042D5DD9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E15B8-7020-405F-AAA1-5E750A7E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192FC-9A79-4F4B-858D-E21CC8DF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03670-B9B3-4E4A-892C-4A12D62D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AEE0A-E79D-4D24-8A05-D03D81A3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81FBE-47F9-4B98-8D2A-38A1F5DC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CD4-63BA-4086-A961-729A9E1E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73FAE-F08F-4A1C-B51D-F316B84C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22BB5-4CFA-4A7F-A15A-8D9745CD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1CCCE-AF40-44F1-A20C-82BD427A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766FB-1E3C-4EBD-AFAF-DBB0816A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33AE3-C8D3-431E-826D-042EA9E1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A50E1-D243-49D1-BBEE-D6A7265E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45317-9F7D-491D-A4A9-080A48D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C7568-7C12-4371-B0D2-C86F2A61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1913A-221C-459C-B796-9828ED13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1116C-D546-4A41-AE6F-763C839B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C4D-5376-4FDC-B341-C5F01CE2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14392-64AC-46CC-9AEA-5BF21A64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45159-7B85-4409-A2B8-E68F28E5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B05AC-9109-44DD-ABC3-5FA190AE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BEBEF-11B6-4D84-AAB5-969F10E9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B4F10-B31F-4CD2-8EC0-86ACA94B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64E65-547B-45D2-81BE-D1A880D7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8A79D-33AA-4CA8-AFCA-CC13A64B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4678B-EE58-4089-B539-D1BD1B5F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A14DA-8938-40C6-B82C-F1C04AB7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BB174-7424-46E6-8909-43855336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B538-5B41-4EB6-93BA-87EC5A74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BF29C-E41A-496F-8DFC-1CCE257E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92F51-CAF0-4B8F-B5A9-D2591C27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CD725-04B7-4F4C-A18F-088DAF16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4C035-27A2-4B19-B757-A0FE592B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0EF6B-FCF7-49B1-9DEB-2A284E80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49926-4449-4D1E-9533-5BE7F1B8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3FB69-D95E-4010-9760-318C4431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9165F-9565-4A6E-A6BC-BE8A956B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97539-A9B9-4A15-89DE-C44D23FF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FF5C4-BC37-48EB-A65D-E4E6576C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E182-A142-414A-9239-2880BDCC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112D8-DCD1-45F0-98E9-C2A1A431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9DFE1-15F5-44BF-8074-40E5781A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E7887-6E65-4BC2-9616-939DEF33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B35DC-8F65-439E-92A5-53D67B3B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353C4-537B-4DD4-9C5E-3F46AF36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FDC55-BA85-46CA-A0B8-1D78FFEA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AF849-6329-42C3-85A4-6415EA43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6C83C-17FD-431A-883D-2D827EFC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4BFCF-1CA2-44F8-B5E7-423C64C1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2C417-255F-45E6-BE24-88A40CA7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4576-529A-4B1B-ACE4-FD6BA7BE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E40B1-8467-4CAC-9AE0-8BB4C8D6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F8F5A-DB71-4731-B2A6-D95A5CC1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129D0-4DDB-4D04-92AC-C95D05DB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8A1A7-9D3D-42F9-9BF3-501B1428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FCC65-6CE0-4CD4-ABF6-5EB02256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FE8DC-7304-4BD6-9DFF-325C6565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C11D8-5CE5-4505-9F17-D7B5755C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7FD23-F245-4B99-817B-097FCDF1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86F16-C0A1-4C07-B6BF-899ACA03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789FD-5DA1-4F3E-9CB6-6F970819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D100-5D36-44A4-AF92-FF526821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A439D-EDDB-40BE-B8E2-6F48938B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25935-25D7-4A21-9F43-A5C873B1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4E2BB0-3981-4FE6-A72D-66EC1AB9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09D40-13B7-4750-A425-E235AE9E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235F1-5058-431E-BB61-8E010579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9216F-DAD8-429E-B7DB-AB1B0703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7121A-D674-476B-AB11-D8A5E354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D777BE-C32D-40D7-9090-657B9071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B1D67-CB30-4861-9DF1-33727B4F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111D73-608B-468F-8E02-D6CF59C3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2E7F-D7D5-4EBE-8E49-BB258C73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BB6268-93E2-4CB0-A7EB-CE879AC7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1530F-3DC7-4F4E-BA39-0BA12450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4BA8B3-E2BB-49DB-8A38-771BB7E8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265070-BCC9-4585-8F04-DF306910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FE2DB4-A9D7-4CA7-9806-B9EB3DC6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215578-4A7A-4E61-B9B2-BBA65F8F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B5B2CF-4F41-4F31-A2B1-0F2BD612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3D576-FF0A-4794-9E6F-107F318A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08F3F7-442D-48BC-9563-68BB3ADA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42260-CE27-4B78-A07F-48E84CEE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FB50-5F85-4723-93E4-8A02B601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D44A97-4BBB-430F-A1BB-D440F194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0397-063B-4EA1-B939-A45DFFCE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DB42-A4D0-4529-BC4C-2484498F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16F4-D4E7-4B0A-A487-91E25062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4680-3362-4515-9443-542DDAE1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E4F2-DC46-4FC7-BC85-BEF1E0B6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18EE-670A-411D-A1D3-792E53D8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4F82-7F90-4207-A69E-C69506C7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23421-EFA5-4280-A379-C5F3F74F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F2E5E-4818-4D2C-A91F-294B70B3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ED343-658A-4ACB-83E4-F75030A5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CD104-A458-4B4C-82C4-7C0ADDDF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D0DA-6DE2-4C8E-A130-4691906E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7FA-8B5D-42E2-95D0-A2D3F141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13674-B117-4BD2-9324-DA997D5E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BC36D-4D27-4753-A35E-99FC5FC4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50A8D-934C-413F-ABBC-0704355D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895B7-69E8-4C87-9C18-575A053E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982E6-3BBC-40B3-BA4F-0769B745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463FB-F846-42CE-809B-0BA5B19B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A8529-EA9E-4C7F-A395-F6DCEE8C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16F26-A574-4133-8A07-AA83412C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E29AE-F98C-4BAA-B04E-DF4734D7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738D1-2C4D-4165-AED6-017BB6AC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7E1-CCB6-4C71-B4B6-9ECC938E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48204-5877-44FF-A636-272ECBA1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A8199-EC98-4C7E-85EF-80936639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EFEC5-AFB2-4D42-8AED-44E53DB1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90F7C-2A05-4C56-ADE6-9DCD95B5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D0C48-040F-44CB-8A46-C9568677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D1276-4330-46F7-8F99-9CD4936B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28C54-6F2F-439E-8978-7AAB12F8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4C87C-F338-4C08-96E1-8028C115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3A1F6-3EAA-426B-A529-18123853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C84DF-4191-4BDF-9255-328DC6BF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936-E2F8-4DA1-B4EB-B8FC3FF1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A87C8-8DF8-42B2-806C-4A4F993A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68631-3883-4575-AE8C-92D1E9AB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8430D-4F38-4FE3-9B77-0D333572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53ED7-3D5C-49CB-A858-06A15E79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1E8C1-6727-485B-8515-5A70439E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4AE73-1741-46E2-A3ED-AE51602A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00F44-4EA9-4CA3-94D3-7344AFFB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0B2E8-2F2B-4C4F-8A76-98C2A6D0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F4BF1-F1F5-41BC-B91C-D4918791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5D581-EFB2-4A16-BB2E-E04AF28D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784-10AF-472F-B59C-409F6AF4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01995-6914-4AAE-B7EA-C3EF1E62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682BB-68C2-4B39-8F0C-C3DE374D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5E87A-C610-4336-A801-FF5A265F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BC4BF-72C5-4E88-9A40-0F32454F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3F62B-95B9-4AAC-A770-E966D321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E92F9-92C3-4B5F-B1B9-F778F32F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DCBFE-495C-431A-811C-D8502241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101AE-0327-4E8A-AF0F-57E86828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C9C34-6A71-4F10-B298-C1544221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DAEE9-F212-45ED-9BCD-F124684C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BDC-35A6-4BD2-B5E5-8B121CD1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CA5B1-6DF6-49CD-8E85-71FFD703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A4D4C-3902-405C-893C-30322772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DBA2E-8573-4755-A44B-BCB3778F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64E9E-8C0B-43D9-BFCB-EB75C7D2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86E79-9FE3-413C-960C-905C5E3A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D03BC-E599-4611-B350-ED9E8EC6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8D515-7CCD-410A-AED1-AD4B9CE2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41D2D-879E-4689-931C-B99B7ABF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16FDD-7524-4935-B1B5-42FE7E64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0CE48-85CF-4AA5-B401-464449E2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4E7-BBEA-4AD1-B1D6-1DB46A02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B627A-9595-457D-BB0C-A72FC3C6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84514-11FE-4273-97E9-FE84BE1E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9A4A2-3648-4C76-B537-C2C8C5C8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7155D-FBE9-4219-B17F-7C2DA44F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E2058-4DB6-42B3-AE37-FE97E2E3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5FE8E-DD9B-4DC2-8F39-81B5D7E3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1EF3B-AA33-45CA-A7C9-D057621A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A9566-8196-4D5E-AFB2-8C5FD264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488CB-0FFA-4272-AD4A-7C46555E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3B461-AEB4-4CA4-8F90-5C9DD64D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36B-8B69-45E2-81BF-9A311648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1EB3E-51DD-43D2-93CB-07904708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708AE-EB36-4145-8294-13996B9E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B6DF9-1A10-4713-BAC9-8166A26B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3768C-1FC4-4A20-8891-B3150438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D1A73-3AF3-42E7-9DE3-805A2368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AB5CF-744D-44F2-80AE-31439DC8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BCC26-25DA-410D-B5EB-0582D745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DEEFE-6BCA-4D6E-BCD7-30C628D4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FD21C-00E1-40D3-AD1C-E402544D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9E256-3A57-4709-A422-6E2033BE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8D56-CDD4-4A7E-B709-EA1EC18191A5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DED2-F382-41FA-8977-3F9F82BF0290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2C7F-31A2-4BA1-824D-28B330ECAA2F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1D5E-34F5-412E-B3EE-763C31F26597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AF90-0774-4C45-9269-18DF778393A4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1549-5937-46DF-BA37-BAD525360AE1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3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4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7A45-A589-4BCB-AD99-2D9A5D73DB4B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E0ED-FAC8-4843-8CCB-62E31B1785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CF0E-2135-4B76-A456-255E327846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126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2B99-DD44-491F-9C07-336A4C796E85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7034-7E9B-4FB6-9783-9DE8080008B6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0C9C-AA12-47E5-9957-527ED704C7DD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E1CF-CF85-43B1-A5CA-99B07A65F204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B855-4C4D-4820-9C33-28B18BD9B498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ADA5-A2F0-41AD-8235-6142D77BA357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3"/>
          <p:cNvSpPr/>
          <p:nvPr/>
        </p:nvSpPr>
        <p:spPr>
          <a:xfrm>
            <a:off x="684360" y="2421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线段的垂直平分线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1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2"/>
          <p:cNvSpPr/>
          <p:nvPr/>
        </p:nvSpPr>
        <p:spPr>
          <a:xfrm>
            <a:off x="685800" y="693720"/>
            <a:ext cx="76960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逆定理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到一条线段两个端点距离相等的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这条线段的垂直平分线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1219320" y="5410080"/>
            <a:ext cx="5867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762120" y="1700280"/>
            <a:ext cx="73911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几何语言描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A=PB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垂直平分线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到一条线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端点距离相等的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这条线段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垂直平分线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762120" y="42228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老师提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个结论是经常用来证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点在直线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直线经过某一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根据之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5562720" y="2806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7"/>
          <p:cNvSpPr/>
          <p:nvPr/>
        </p:nvSpPr>
        <p:spPr>
          <a:xfrm>
            <a:off x="8153280" y="2806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8"/>
          <p:cNvSpPr/>
          <p:nvPr/>
        </p:nvSpPr>
        <p:spPr>
          <a:xfrm>
            <a:off x="7162920" y="135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9"/>
          <p:cNvSpPr/>
          <p:nvPr/>
        </p:nvSpPr>
        <p:spPr>
          <a:xfrm>
            <a:off x="7086600" y="120636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0"/>
          <p:cNvSpPr/>
          <p:nvPr/>
        </p:nvSpPr>
        <p:spPr>
          <a:xfrm>
            <a:off x="6019920" y="295920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11"/>
          <p:cNvSpPr/>
          <p:nvPr/>
        </p:nvSpPr>
        <p:spPr>
          <a:xfrm flipH="1">
            <a:off x="6019560" y="1587600"/>
            <a:ext cx="10666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12"/>
          <p:cNvSpPr/>
          <p:nvPr/>
        </p:nvSpPr>
        <p:spPr>
          <a:xfrm>
            <a:off x="7086600" y="1587600"/>
            <a:ext cx="10666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4"/>
          <p:cNvSpPr/>
          <p:nvPr/>
        </p:nvSpPr>
        <p:spPr>
          <a:xfrm>
            <a:off x="1071720" y="285840"/>
            <a:ext cx="35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1" descr=""/>
          <p:cNvPicPr/>
          <p:nvPr/>
        </p:nvPicPr>
        <p:blipFill>
          <a:blip r:embed="rId1"/>
          <a:stretch/>
        </p:blipFill>
        <p:spPr>
          <a:xfrm>
            <a:off x="6858000" y="1571760"/>
            <a:ext cx="1487520" cy="1496880"/>
          </a:xfrm>
          <a:prstGeom prst="rect">
            <a:avLst/>
          </a:prstGeom>
          <a:ln w="0">
            <a:noFill/>
          </a:ln>
        </p:spPr>
      </p:pic>
      <p:sp>
        <p:nvSpPr>
          <p:cNvPr id="741" name="Rectangle 3"/>
          <p:cNvSpPr/>
          <p:nvPr/>
        </p:nvSpPr>
        <p:spPr>
          <a:xfrm>
            <a:off x="428760" y="1567080"/>
            <a:ext cx="7429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已知：如图，在 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C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 = A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是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C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内一点，且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 = 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求证：直线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O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垂直平分线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证明：∵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 = A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∴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点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在线段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垂直平分线上（到一条线段两个端点距离相等的点，在这条线段的垂直平分线上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同理，点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在线段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垂直平分线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∴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直线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O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是线段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C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垂直平分线（两点确定一条直线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云形标注 6"/>
          <p:cNvSpPr/>
          <p:nvPr/>
        </p:nvSpPr>
        <p:spPr>
          <a:xfrm>
            <a:off x="4500720" y="5357880"/>
            <a:ext cx="2428560" cy="9288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Times New Roman"/>
              </a:rPr>
              <a:t>你还有其他证明方法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"/>
          <p:cNvSpPr/>
          <p:nvPr/>
        </p:nvSpPr>
        <p:spPr>
          <a:xfrm>
            <a:off x="684360" y="765000"/>
            <a:ext cx="6173640" cy="38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加强练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如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线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垂直平分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的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EC=7cm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ED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m;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ECD=6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么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EDC=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870120" y="4559400"/>
            <a:ext cx="7359480" cy="13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老师期望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说出填空结果的根据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Group 4"/>
          <p:cNvGrpSpPr/>
          <p:nvPr/>
        </p:nvGrpSpPr>
        <p:grpSpPr>
          <a:xfrm>
            <a:off x="5143680" y="1557360"/>
            <a:ext cx="3276000" cy="2288520"/>
            <a:chOff x="5143680" y="1557360"/>
            <a:chExt cx="3276000" cy="2288520"/>
          </a:xfrm>
        </p:grpSpPr>
        <p:sp>
          <p:nvSpPr>
            <p:cNvPr id="746" name="Text Box 5"/>
            <p:cNvSpPr/>
            <p:nvPr/>
          </p:nvSpPr>
          <p:spPr>
            <a:xfrm>
              <a:off x="5676840" y="262404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Text Box 6"/>
            <p:cNvSpPr/>
            <p:nvPr/>
          </p:nvSpPr>
          <p:spPr>
            <a:xfrm>
              <a:off x="7418160" y="33861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Text Box 7"/>
            <p:cNvSpPr/>
            <p:nvPr/>
          </p:nvSpPr>
          <p:spPr>
            <a:xfrm>
              <a:off x="5143680" y="247176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Text Box 8"/>
            <p:cNvSpPr/>
            <p:nvPr/>
          </p:nvSpPr>
          <p:spPr>
            <a:xfrm>
              <a:off x="803880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Text Box 9"/>
            <p:cNvSpPr/>
            <p:nvPr/>
          </p:nvSpPr>
          <p:spPr>
            <a:xfrm>
              <a:off x="7429320" y="155736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AutoShape 10"/>
            <p:cNvSpPr/>
            <p:nvPr/>
          </p:nvSpPr>
          <p:spPr>
            <a:xfrm rot="16200000">
              <a:off x="5781960" y="1934280"/>
              <a:ext cx="1752480" cy="15159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11"/>
            <p:cNvSpPr/>
            <p:nvPr/>
          </p:nvSpPr>
          <p:spPr>
            <a:xfrm flipH="1">
              <a:off x="5600520" y="2700360"/>
              <a:ext cx="243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12"/>
            <p:cNvSpPr/>
            <p:nvPr/>
          </p:nvSpPr>
          <p:spPr>
            <a:xfrm>
              <a:off x="7277040" y="2700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13"/>
            <p:cNvSpPr/>
            <p:nvPr/>
          </p:nvSpPr>
          <p:spPr>
            <a:xfrm>
              <a:off x="7277040" y="2928960"/>
              <a:ext cx="15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Text Box 14"/>
          <p:cNvSpPr/>
          <p:nvPr/>
        </p:nvSpPr>
        <p:spPr>
          <a:xfrm>
            <a:off x="1312920" y="33242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5"/>
          <p:cNvSpPr/>
          <p:nvPr/>
        </p:nvSpPr>
        <p:spPr>
          <a:xfrm>
            <a:off x="2587680" y="398952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2"/>
          <p:cNvSpPr/>
          <p:nvPr/>
        </p:nvSpPr>
        <p:spPr>
          <a:xfrm>
            <a:off x="838080" y="11430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C=27,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垂直平分线交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E,△BC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周长等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0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3"/>
          <p:cNvSpPr/>
          <p:nvPr/>
        </p:nvSpPr>
        <p:spPr>
          <a:xfrm>
            <a:off x="7086600" y="4191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Group 4"/>
          <p:cNvGrpSpPr/>
          <p:nvPr/>
        </p:nvGrpSpPr>
        <p:grpSpPr>
          <a:xfrm>
            <a:off x="3060720" y="2819520"/>
            <a:ext cx="2438280" cy="2745720"/>
            <a:chOff x="3060720" y="2819520"/>
            <a:chExt cx="2438280" cy="2745720"/>
          </a:xfrm>
        </p:grpSpPr>
        <p:sp>
          <p:nvSpPr>
            <p:cNvPr id="760" name="Text Box 5"/>
            <p:cNvSpPr/>
            <p:nvPr/>
          </p:nvSpPr>
          <p:spPr>
            <a:xfrm>
              <a:off x="306072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Text Box 6"/>
            <p:cNvSpPr/>
            <p:nvPr/>
          </p:nvSpPr>
          <p:spPr>
            <a:xfrm>
              <a:off x="4508640" y="2819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Text Box 7"/>
            <p:cNvSpPr/>
            <p:nvPr/>
          </p:nvSpPr>
          <p:spPr>
            <a:xfrm>
              <a:off x="48895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Text Box 8"/>
            <p:cNvSpPr/>
            <p:nvPr/>
          </p:nvSpPr>
          <p:spPr>
            <a:xfrm>
              <a:off x="3746520" y="3733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Text Box 9"/>
            <p:cNvSpPr/>
            <p:nvPr/>
          </p:nvSpPr>
          <p:spPr>
            <a:xfrm>
              <a:off x="4737240" y="5105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0"/>
            <p:cNvSpPr/>
            <p:nvPr/>
          </p:nvSpPr>
          <p:spPr>
            <a:xfrm>
              <a:off x="3365640" y="3810240"/>
              <a:ext cx="2133360" cy="136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1"/>
            <p:cNvSpPr/>
            <p:nvPr/>
          </p:nvSpPr>
          <p:spPr>
            <a:xfrm flipV="1">
              <a:off x="3365640" y="3206880"/>
              <a:ext cx="1218960" cy="196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2"/>
            <p:cNvSpPr/>
            <p:nvPr/>
          </p:nvSpPr>
          <p:spPr>
            <a:xfrm>
              <a:off x="3365640" y="5181840"/>
              <a:ext cx="159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13"/>
            <p:cNvSpPr/>
            <p:nvPr/>
          </p:nvSpPr>
          <p:spPr>
            <a:xfrm>
              <a:off x="4584600" y="3206880"/>
              <a:ext cx="381240" cy="197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4"/>
            <p:cNvSpPr/>
            <p:nvPr/>
          </p:nvSpPr>
          <p:spPr>
            <a:xfrm flipV="1">
              <a:off x="3365640" y="4790880"/>
              <a:ext cx="1520640" cy="39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15"/>
            <p:cNvSpPr/>
            <p:nvPr/>
          </p:nvSpPr>
          <p:spPr>
            <a:xfrm>
              <a:off x="3897360" y="4305600"/>
              <a:ext cx="16812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16"/>
            <p:cNvSpPr/>
            <p:nvPr/>
          </p:nvSpPr>
          <p:spPr>
            <a:xfrm flipH="1">
              <a:off x="4028760" y="4307040"/>
              <a:ext cx="74520" cy="11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分析提示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是一道计算题，题目中出现了线段垂直平分线，你首先应该想到我们刚刚学习的有关线段垂直平分线的性质，得出相关的结论，再结合已知的三角形的周长，将两个条件有机结合，进行转化，得出最后的结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试一试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能独立完成这道题目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612360" y="836280"/>
            <a:ext cx="776916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垂直平分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E=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∵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C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周长等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E+EC+BC=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即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E+EC+BC=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C+BC=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C=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C=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一比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的写作过程完整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7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7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7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3"/>
          <p:cNvSpPr/>
          <p:nvPr/>
        </p:nvSpPr>
        <p:spPr>
          <a:xfrm>
            <a:off x="566640" y="682200"/>
            <a:ext cx="825336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9932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=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D=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1785960" y="1642680"/>
            <a:ext cx="244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证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B=PC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Group 6"/>
          <p:cNvGrpSpPr/>
          <p:nvPr/>
        </p:nvGrpSpPr>
        <p:grpSpPr>
          <a:xfrm>
            <a:off x="3635280" y="2060640"/>
            <a:ext cx="3027600" cy="3549600"/>
            <a:chOff x="3635280" y="2060640"/>
            <a:chExt cx="3027600" cy="3549600"/>
          </a:xfrm>
        </p:grpSpPr>
        <p:sp>
          <p:nvSpPr>
            <p:cNvPr id="777" name="AutoShape 5"/>
            <p:cNvSpPr/>
            <p:nvPr/>
          </p:nvSpPr>
          <p:spPr>
            <a:xfrm>
              <a:off x="3635280" y="2060640"/>
              <a:ext cx="3027600" cy="35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7"/>
            <p:cNvSpPr/>
            <p:nvPr/>
          </p:nvSpPr>
          <p:spPr>
            <a:xfrm>
              <a:off x="5102280" y="2433600"/>
              <a:ext cx="1440" cy="23274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8"/>
            <p:cNvSpPr/>
            <p:nvPr/>
          </p:nvSpPr>
          <p:spPr>
            <a:xfrm flipH="1">
              <a:off x="4298760" y="2433600"/>
              <a:ext cx="803160" cy="1687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9"/>
            <p:cNvSpPr/>
            <p:nvPr/>
          </p:nvSpPr>
          <p:spPr>
            <a:xfrm>
              <a:off x="5102280" y="2433600"/>
              <a:ext cx="826920" cy="1639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0"/>
            <p:cNvSpPr/>
            <p:nvPr/>
          </p:nvSpPr>
          <p:spPr>
            <a:xfrm flipH="1">
              <a:off x="4298760" y="3270240"/>
              <a:ext cx="803160" cy="8510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1"/>
            <p:cNvSpPr/>
            <p:nvPr/>
          </p:nvSpPr>
          <p:spPr>
            <a:xfrm>
              <a:off x="5102280" y="3270240"/>
              <a:ext cx="803160" cy="757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2"/>
            <p:cNvSpPr/>
            <p:nvPr/>
          </p:nvSpPr>
          <p:spPr>
            <a:xfrm>
              <a:off x="4299120" y="4121280"/>
              <a:ext cx="803160" cy="6397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3"/>
            <p:cNvSpPr/>
            <p:nvPr/>
          </p:nvSpPr>
          <p:spPr>
            <a:xfrm flipH="1">
              <a:off x="5101920" y="4073400"/>
              <a:ext cx="826920" cy="687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14"/>
            <p:cNvSpPr/>
            <p:nvPr/>
          </p:nvSpPr>
          <p:spPr>
            <a:xfrm>
              <a:off x="5276880" y="311940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15"/>
            <p:cNvSpPr/>
            <p:nvPr/>
          </p:nvSpPr>
          <p:spPr>
            <a:xfrm>
              <a:off x="3799080" y="396864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16"/>
            <p:cNvSpPr/>
            <p:nvPr/>
          </p:nvSpPr>
          <p:spPr>
            <a:xfrm>
              <a:off x="5056200" y="49705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17"/>
            <p:cNvSpPr/>
            <p:nvPr/>
          </p:nvSpPr>
          <p:spPr>
            <a:xfrm>
              <a:off x="6197760" y="392256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18"/>
            <p:cNvSpPr/>
            <p:nvPr/>
          </p:nvSpPr>
          <p:spPr>
            <a:xfrm>
              <a:off x="5381640" y="22003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Oval 19"/>
            <p:cNvSpPr/>
            <p:nvPr/>
          </p:nvSpPr>
          <p:spPr>
            <a:xfrm>
              <a:off x="4275000" y="4097160"/>
              <a:ext cx="59040" cy="590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20"/>
            <p:cNvSpPr/>
            <p:nvPr/>
          </p:nvSpPr>
          <p:spPr>
            <a:xfrm>
              <a:off x="5905440" y="4051440"/>
              <a:ext cx="58680" cy="56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Oval 21"/>
            <p:cNvSpPr/>
            <p:nvPr/>
          </p:nvSpPr>
          <p:spPr>
            <a:xfrm>
              <a:off x="5078520" y="2409840"/>
              <a:ext cx="58680" cy="58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22"/>
            <p:cNvSpPr/>
            <p:nvPr/>
          </p:nvSpPr>
          <p:spPr>
            <a:xfrm>
              <a:off x="5078520" y="4737240"/>
              <a:ext cx="58680" cy="58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Oval 23"/>
            <p:cNvSpPr/>
            <p:nvPr/>
          </p:nvSpPr>
          <p:spPr>
            <a:xfrm>
              <a:off x="5078520" y="3247920"/>
              <a:ext cx="58680" cy="57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Oval 24"/>
            <p:cNvSpPr/>
            <p:nvPr/>
          </p:nvSpPr>
          <p:spPr>
            <a:xfrm>
              <a:off x="5883120" y="4003560"/>
              <a:ext cx="57240" cy="58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1187280" y="693360"/>
            <a:ext cx="64072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=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线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垂直平分线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D=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∴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线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垂直平分线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∴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线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垂直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一点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B=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2"/>
          <p:cNvSpPr/>
          <p:nvPr/>
        </p:nvSpPr>
        <p:spPr>
          <a:xfrm>
            <a:off x="612720" y="973800"/>
            <a:ext cx="8253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9932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=A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D=C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3"/>
          <p:cNvSpPr/>
          <p:nvPr/>
        </p:nvSpPr>
        <p:spPr>
          <a:xfrm>
            <a:off x="1569960" y="1428120"/>
            <a:ext cx="244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证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B=PC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Group 4"/>
          <p:cNvGrpSpPr/>
          <p:nvPr/>
        </p:nvGrpSpPr>
        <p:grpSpPr>
          <a:xfrm>
            <a:off x="3589200" y="1317600"/>
            <a:ext cx="3027600" cy="3549600"/>
            <a:chOff x="3589200" y="1317600"/>
            <a:chExt cx="3027600" cy="3549600"/>
          </a:xfrm>
        </p:grpSpPr>
        <p:sp>
          <p:nvSpPr>
            <p:cNvPr id="800" name="AutoShape 5"/>
            <p:cNvSpPr/>
            <p:nvPr/>
          </p:nvSpPr>
          <p:spPr>
            <a:xfrm>
              <a:off x="3589200" y="1317600"/>
              <a:ext cx="3027600" cy="35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6"/>
            <p:cNvSpPr/>
            <p:nvPr/>
          </p:nvSpPr>
          <p:spPr>
            <a:xfrm>
              <a:off x="5056200" y="1690560"/>
              <a:ext cx="1440" cy="23274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7"/>
            <p:cNvSpPr/>
            <p:nvPr/>
          </p:nvSpPr>
          <p:spPr>
            <a:xfrm flipH="1">
              <a:off x="4252680" y="1690560"/>
              <a:ext cx="803160" cy="16876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8"/>
            <p:cNvSpPr/>
            <p:nvPr/>
          </p:nvSpPr>
          <p:spPr>
            <a:xfrm>
              <a:off x="5056200" y="1690560"/>
              <a:ext cx="826920" cy="1639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9"/>
            <p:cNvSpPr/>
            <p:nvPr/>
          </p:nvSpPr>
          <p:spPr>
            <a:xfrm flipH="1">
              <a:off x="4252680" y="2527200"/>
              <a:ext cx="803160" cy="8510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0"/>
            <p:cNvSpPr/>
            <p:nvPr/>
          </p:nvSpPr>
          <p:spPr>
            <a:xfrm>
              <a:off x="5056200" y="2527200"/>
              <a:ext cx="803160" cy="757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11"/>
            <p:cNvSpPr/>
            <p:nvPr/>
          </p:nvSpPr>
          <p:spPr>
            <a:xfrm>
              <a:off x="4253040" y="3378240"/>
              <a:ext cx="803160" cy="6397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12"/>
            <p:cNvSpPr/>
            <p:nvPr/>
          </p:nvSpPr>
          <p:spPr>
            <a:xfrm flipH="1">
              <a:off x="5055840" y="3330360"/>
              <a:ext cx="826920" cy="6876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13"/>
            <p:cNvSpPr/>
            <p:nvPr/>
          </p:nvSpPr>
          <p:spPr>
            <a:xfrm>
              <a:off x="5230800" y="237636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Rectangle 14"/>
            <p:cNvSpPr/>
            <p:nvPr/>
          </p:nvSpPr>
          <p:spPr>
            <a:xfrm>
              <a:off x="3753000" y="322560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Rectangle 15"/>
            <p:cNvSpPr/>
            <p:nvPr/>
          </p:nvSpPr>
          <p:spPr>
            <a:xfrm>
              <a:off x="5010120" y="422748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16"/>
            <p:cNvSpPr/>
            <p:nvPr/>
          </p:nvSpPr>
          <p:spPr>
            <a:xfrm>
              <a:off x="6151680" y="317952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17"/>
            <p:cNvSpPr/>
            <p:nvPr/>
          </p:nvSpPr>
          <p:spPr>
            <a:xfrm>
              <a:off x="5335560" y="145728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Oval 18"/>
            <p:cNvSpPr/>
            <p:nvPr/>
          </p:nvSpPr>
          <p:spPr>
            <a:xfrm>
              <a:off x="4228920" y="3354120"/>
              <a:ext cx="59040" cy="590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Oval 19"/>
            <p:cNvSpPr/>
            <p:nvPr/>
          </p:nvSpPr>
          <p:spPr>
            <a:xfrm>
              <a:off x="5859360" y="3308400"/>
              <a:ext cx="58680" cy="56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20"/>
            <p:cNvSpPr/>
            <p:nvPr/>
          </p:nvSpPr>
          <p:spPr>
            <a:xfrm>
              <a:off x="5032440" y="1666800"/>
              <a:ext cx="58680" cy="58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21"/>
            <p:cNvSpPr/>
            <p:nvPr/>
          </p:nvSpPr>
          <p:spPr>
            <a:xfrm>
              <a:off x="5032440" y="3994200"/>
              <a:ext cx="58680" cy="58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Oval 22"/>
            <p:cNvSpPr/>
            <p:nvPr/>
          </p:nvSpPr>
          <p:spPr>
            <a:xfrm>
              <a:off x="5032440" y="2504880"/>
              <a:ext cx="58680" cy="57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Oval 23"/>
            <p:cNvSpPr/>
            <p:nvPr/>
          </p:nvSpPr>
          <p:spPr>
            <a:xfrm>
              <a:off x="5837040" y="3260520"/>
              <a:ext cx="57240" cy="58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Rectangle 24"/>
          <p:cNvSpPr/>
          <p:nvPr/>
        </p:nvSpPr>
        <p:spPr>
          <a:xfrm>
            <a:off x="933480" y="4453920"/>
            <a:ext cx="831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深入探索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还有其他的证明方法吗？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533520" y="693720"/>
            <a:ext cx="83818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曾经利用折纸的方法得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段垂直平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上的点到这条线段两个端点距离相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证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一结论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定理：线段垂直平分线上的点到这条线段两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端点的距离相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533520" y="2709720"/>
            <a:ext cx="632448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MN⊥AB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垂足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C=BC,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M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任意一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求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PA=P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Group 16"/>
          <p:cNvGrpSpPr/>
          <p:nvPr/>
        </p:nvGrpSpPr>
        <p:grpSpPr>
          <a:xfrm>
            <a:off x="5334120" y="2925720"/>
            <a:ext cx="3047760" cy="2898000"/>
            <a:chOff x="5334120" y="2925720"/>
            <a:chExt cx="3047760" cy="2898000"/>
          </a:xfrm>
        </p:grpSpPr>
        <p:sp>
          <p:nvSpPr>
            <p:cNvPr id="632" name="Text Box 4"/>
            <p:cNvSpPr/>
            <p:nvPr/>
          </p:nvSpPr>
          <p:spPr>
            <a:xfrm>
              <a:off x="5334120" y="4678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"/>
            <p:cNvSpPr/>
            <p:nvPr/>
          </p:nvSpPr>
          <p:spPr>
            <a:xfrm>
              <a:off x="6858000" y="4754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6"/>
            <p:cNvSpPr/>
            <p:nvPr/>
          </p:nvSpPr>
          <p:spPr>
            <a:xfrm>
              <a:off x="7924680" y="4678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7"/>
            <p:cNvSpPr/>
            <p:nvPr/>
          </p:nvSpPr>
          <p:spPr>
            <a:xfrm>
              <a:off x="6858000" y="467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8"/>
            <p:cNvSpPr/>
            <p:nvPr/>
          </p:nvSpPr>
          <p:spPr>
            <a:xfrm>
              <a:off x="7010280" y="46782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9"/>
            <p:cNvSpPr/>
            <p:nvPr/>
          </p:nvSpPr>
          <p:spPr>
            <a:xfrm>
              <a:off x="6934320" y="3230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 Box 10"/>
            <p:cNvSpPr/>
            <p:nvPr/>
          </p:nvSpPr>
          <p:spPr>
            <a:xfrm>
              <a:off x="6400800" y="2925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1"/>
            <p:cNvSpPr/>
            <p:nvPr/>
          </p:nvSpPr>
          <p:spPr>
            <a:xfrm>
              <a:off x="6477120" y="5364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2"/>
            <p:cNvSpPr/>
            <p:nvPr/>
          </p:nvSpPr>
          <p:spPr>
            <a:xfrm>
              <a:off x="6858000" y="3078000"/>
              <a:ext cx="0" cy="259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3"/>
            <p:cNvSpPr/>
            <p:nvPr/>
          </p:nvSpPr>
          <p:spPr>
            <a:xfrm>
              <a:off x="5791320" y="4830840"/>
              <a:ext cx="213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4"/>
            <p:cNvSpPr/>
            <p:nvPr/>
          </p:nvSpPr>
          <p:spPr>
            <a:xfrm flipH="1">
              <a:off x="5790960" y="3459240"/>
              <a:ext cx="10666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5"/>
            <p:cNvSpPr/>
            <p:nvPr/>
          </p:nvSpPr>
          <p:spPr>
            <a:xfrm>
              <a:off x="6858000" y="3459240"/>
              <a:ext cx="10666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2"/>
          <p:cNvSpPr/>
          <p:nvPr/>
        </p:nvSpPr>
        <p:spPr>
          <a:xfrm>
            <a:off x="612720" y="549360"/>
            <a:ext cx="7632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拓广探索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线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垂直平分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M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的一点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M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OB=4c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PB+3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=210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求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距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1"/>
          <p:cNvSpPr/>
          <p:nvPr/>
        </p:nvSpPr>
        <p:spPr>
          <a:xfrm>
            <a:off x="3419640" y="2421000"/>
            <a:ext cx="43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3"/>
          <p:cNvSpPr/>
          <p:nvPr/>
        </p:nvSpPr>
        <p:spPr>
          <a:xfrm>
            <a:off x="2627280" y="328464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4"/>
          <p:cNvSpPr/>
          <p:nvPr/>
        </p:nvSpPr>
        <p:spPr>
          <a:xfrm>
            <a:off x="3922560" y="263700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5"/>
          <p:cNvSpPr/>
          <p:nvPr/>
        </p:nvSpPr>
        <p:spPr>
          <a:xfrm>
            <a:off x="2627280" y="3284640"/>
            <a:ext cx="129528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6"/>
          <p:cNvSpPr/>
          <p:nvPr/>
        </p:nvSpPr>
        <p:spPr>
          <a:xfrm flipV="1">
            <a:off x="3922560" y="3284640"/>
            <a:ext cx="129708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7"/>
          <p:cNvSpPr/>
          <p:nvPr/>
        </p:nvSpPr>
        <p:spPr>
          <a:xfrm>
            <a:off x="3922560" y="4076640"/>
            <a:ext cx="1152720" cy="64764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8"/>
          <p:cNvSpPr/>
          <p:nvPr/>
        </p:nvSpPr>
        <p:spPr>
          <a:xfrm>
            <a:off x="2266920" y="3068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9"/>
          <p:cNvSpPr/>
          <p:nvPr/>
        </p:nvSpPr>
        <p:spPr>
          <a:xfrm>
            <a:off x="5291280" y="31417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10"/>
          <p:cNvSpPr/>
          <p:nvPr/>
        </p:nvSpPr>
        <p:spPr>
          <a:xfrm>
            <a:off x="3419640" y="4005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12"/>
          <p:cNvSpPr/>
          <p:nvPr/>
        </p:nvSpPr>
        <p:spPr>
          <a:xfrm>
            <a:off x="3490920" y="45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13"/>
          <p:cNvSpPr/>
          <p:nvPr/>
        </p:nvSpPr>
        <p:spPr>
          <a:xfrm rot="10800000">
            <a:off x="3924000" y="293868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Group 14"/>
          <p:cNvGrpSpPr/>
          <p:nvPr/>
        </p:nvGrpSpPr>
        <p:grpSpPr>
          <a:xfrm>
            <a:off x="4111920" y="3284640"/>
            <a:ext cx="1107360" cy="1744560"/>
            <a:chOff x="4111920" y="3284640"/>
            <a:chExt cx="1107360" cy="1744560"/>
          </a:xfrm>
        </p:grpSpPr>
        <p:grpSp>
          <p:nvGrpSpPr>
            <p:cNvPr id="833" name="Group 15"/>
            <p:cNvGrpSpPr/>
            <p:nvPr/>
          </p:nvGrpSpPr>
          <p:grpSpPr>
            <a:xfrm>
              <a:off x="4356000" y="3284640"/>
              <a:ext cx="863280" cy="1744560"/>
              <a:chOff x="4356000" y="3284640"/>
              <a:chExt cx="863280" cy="1744560"/>
            </a:xfrm>
          </p:grpSpPr>
          <p:sp>
            <p:nvSpPr>
              <p:cNvPr id="834" name="Line 16"/>
              <p:cNvSpPr/>
              <p:nvPr/>
            </p:nvSpPr>
            <p:spPr>
              <a:xfrm flipH="1">
                <a:off x="4571640" y="3284640"/>
                <a:ext cx="647640" cy="115236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Text Box 17"/>
              <p:cNvSpPr/>
              <p:nvPr/>
            </p:nvSpPr>
            <p:spPr>
              <a:xfrm>
                <a:off x="4356000" y="45086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黑体"/>
                    <a:ea typeface="黑体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Rectangle 18"/>
            <p:cNvSpPr/>
            <p:nvPr/>
          </p:nvSpPr>
          <p:spPr>
            <a:xfrm rot="7257000">
              <a:off x="4194720" y="401040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Text Box 19"/>
          <p:cNvSpPr/>
          <p:nvPr/>
        </p:nvSpPr>
        <p:spPr>
          <a:xfrm>
            <a:off x="3576960" y="3211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2"/>
          <p:cNvSpPr/>
          <p:nvPr/>
        </p:nvSpPr>
        <p:spPr>
          <a:xfrm>
            <a:off x="1187280" y="90792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今天你收获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3"/>
          <p:cNvSpPr/>
          <p:nvPr/>
        </p:nvSpPr>
        <p:spPr>
          <a:xfrm>
            <a:off x="1116000" y="1844640"/>
            <a:ext cx="66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线段垂直平分线的定理及证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线段垂直平分线的逆定理及证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两个定理之间的区别与联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2"/>
          <p:cNvGrpSpPr/>
          <p:nvPr/>
        </p:nvGrpSpPr>
        <p:grpSpPr>
          <a:xfrm>
            <a:off x="684360" y="762120"/>
            <a:ext cx="3009240" cy="1523520"/>
            <a:chOff x="684360" y="762120"/>
            <a:chExt cx="3009240" cy="1523520"/>
          </a:xfrm>
        </p:grpSpPr>
        <p:pic>
          <p:nvPicPr>
            <p:cNvPr id="841" name="Picture 3" descr="AG00029_"/>
            <p:cNvPicPr/>
            <p:nvPr/>
          </p:nvPicPr>
          <p:blipFill>
            <a:blip r:embed="rId1"/>
            <a:stretch/>
          </p:blipFill>
          <p:spPr>
            <a:xfrm>
              <a:off x="1979280" y="84960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2" name="Group 4"/>
            <p:cNvGrpSpPr/>
            <p:nvPr/>
          </p:nvGrpSpPr>
          <p:grpSpPr>
            <a:xfrm>
              <a:off x="684360" y="762120"/>
              <a:ext cx="1294920" cy="1523520"/>
              <a:chOff x="684360" y="762120"/>
              <a:chExt cx="1294920" cy="1523520"/>
            </a:xfrm>
          </p:grpSpPr>
          <p:sp>
            <p:nvSpPr>
              <p:cNvPr id="843" name="AutoShape 5"/>
              <p:cNvSpPr/>
              <p:nvPr/>
            </p:nvSpPr>
            <p:spPr>
              <a:xfrm>
                <a:off x="684360" y="762120"/>
                <a:ext cx="126540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Text Box 6"/>
              <p:cNvSpPr/>
              <p:nvPr/>
            </p:nvSpPr>
            <p:spPr>
              <a:xfrm>
                <a:off x="698400" y="819360"/>
                <a:ext cx="12808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Text Box 7"/>
            <p:cNvSpPr/>
            <p:nvPr/>
          </p:nvSpPr>
          <p:spPr>
            <a:xfrm>
              <a:off x="836280" y="94464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Rectangle 8"/>
          <p:cNvSpPr/>
          <p:nvPr/>
        </p:nvSpPr>
        <p:spPr>
          <a:xfrm>
            <a:off x="1295280" y="2286000"/>
            <a:ext cx="77724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习题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1,2,4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题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祝你成功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WordArt 5"/>
          <p:cNvSpPr txBox="1"/>
          <p:nvPr/>
        </p:nvSpPr>
        <p:spPr>
          <a:xfrm>
            <a:off x="2987640" y="907920"/>
            <a:ext cx="309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黑体"/>
              </a:rPr>
              <a:t>结束寄语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394920" y="1773000"/>
            <a:ext cx="7921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条理清晰，因果相应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言必有据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初学证明者谨记和遵循的原则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1447920" y="541008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762120" y="4495680"/>
            <a:ext cx="510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4"/>
          <p:cNvSpPr/>
          <p:nvPr/>
        </p:nvSpPr>
        <p:spPr>
          <a:xfrm>
            <a:off x="635040" y="625320"/>
            <a:ext cx="789768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920"/>
                <a:tab algn="l" pos="805824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324000" y="625320"/>
            <a:ext cx="81849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 algn="just">
              <a:lnSpc>
                <a:spcPct val="13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析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想证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A=PB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以考虑去证明这条线段所在的三角形是否全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就是想办法证明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PC≌△BPC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PC≌△BP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条件由已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C=BC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MN⊥AB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推知其能满足三角形全等公理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AS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故结论可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 algn="just">
              <a:lnSpc>
                <a:spcPct val="13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能写出它的证明过程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612360" y="764640"/>
            <a:ext cx="821844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证明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MN⊥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∴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PCA=∠PCB=90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C=BC,PC=P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∴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PC≌△BPC(SA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PA=PB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全等三角形的对应边相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16"/>
          <p:cNvGrpSpPr/>
          <p:nvPr/>
        </p:nvGrpSpPr>
        <p:grpSpPr>
          <a:xfrm>
            <a:off x="5334120" y="1204920"/>
            <a:ext cx="3809880" cy="2898000"/>
            <a:chOff x="5334120" y="1204920"/>
            <a:chExt cx="3809880" cy="2898000"/>
          </a:xfrm>
        </p:grpSpPr>
        <mc:AlternateContent>
          <mc:Choice xmlns:a14="http://schemas.microsoft.com/office/drawing/2010/main" Requires="a14">
            <p:sp>
              <p:nvSpPr>
                <p:cNvPr id="650" name="Object 3"/>
                <p:cNvSpPr txBox="1"/>
                <p:nvPr/>
              </p:nvSpPr>
              <p:spPr>
                <a:xfrm>
                  <a:off x="9029880" y="2652840"/>
                  <a:ext cx="1141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651" name="Text Box 4"/>
            <p:cNvSpPr/>
            <p:nvPr/>
          </p:nvSpPr>
          <p:spPr>
            <a:xfrm>
              <a:off x="5334120" y="295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5"/>
            <p:cNvSpPr/>
            <p:nvPr/>
          </p:nvSpPr>
          <p:spPr>
            <a:xfrm>
              <a:off x="6858000" y="3033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7924680" y="2957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7"/>
            <p:cNvSpPr/>
            <p:nvPr/>
          </p:nvSpPr>
          <p:spPr>
            <a:xfrm>
              <a:off x="6858000" y="2957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8"/>
            <p:cNvSpPr/>
            <p:nvPr/>
          </p:nvSpPr>
          <p:spPr>
            <a:xfrm>
              <a:off x="7010280" y="295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9"/>
            <p:cNvSpPr/>
            <p:nvPr/>
          </p:nvSpPr>
          <p:spPr>
            <a:xfrm>
              <a:off x="6934320" y="1509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10"/>
            <p:cNvSpPr/>
            <p:nvPr/>
          </p:nvSpPr>
          <p:spPr>
            <a:xfrm>
              <a:off x="6400800" y="120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11"/>
            <p:cNvSpPr/>
            <p:nvPr/>
          </p:nvSpPr>
          <p:spPr>
            <a:xfrm>
              <a:off x="6477120" y="3643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"/>
            <p:cNvSpPr/>
            <p:nvPr/>
          </p:nvSpPr>
          <p:spPr>
            <a:xfrm>
              <a:off x="6858000" y="1357200"/>
              <a:ext cx="0" cy="259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"/>
            <p:cNvSpPr/>
            <p:nvPr/>
          </p:nvSpPr>
          <p:spPr>
            <a:xfrm>
              <a:off x="5791320" y="3110040"/>
              <a:ext cx="213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4"/>
            <p:cNvSpPr/>
            <p:nvPr/>
          </p:nvSpPr>
          <p:spPr>
            <a:xfrm flipH="1">
              <a:off x="5790960" y="1738440"/>
              <a:ext cx="10666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5"/>
            <p:cNvSpPr/>
            <p:nvPr/>
          </p:nvSpPr>
          <p:spPr>
            <a:xfrm>
              <a:off x="6858000" y="1738440"/>
              <a:ext cx="10666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云形标注 16"/>
          <p:cNvSpPr/>
          <p:nvPr/>
        </p:nvSpPr>
        <p:spPr>
          <a:xfrm rot="3270000">
            <a:off x="7208280" y="457920"/>
            <a:ext cx="1770120" cy="14954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c6ae"/>
              </a:gs>
              <a:gs pos="100000">
                <a:srgbClr val="ffeee7"/>
              </a:gs>
            </a:gsLst>
            <a:lin ang="12930000"/>
          </a:gradFill>
          <a:ln w="9360">
            <a:solidFill>
              <a:srgbClr val="d397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4"/>
          <p:cNvSpPr/>
          <p:nvPr/>
        </p:nvSpPr>
        <p:spPr>
          <a:xfrm>
            <a:off x="7527960" y="744480"/>
            <a:ext cx="118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Times New Roman"/>
              </a:rPr>
              <a:t>如果点</a:t>
            </a: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zh-CN" sz="1400" spc="-1" strike="noStrike">
                <a:solidFill>
                  <a:srgbClr val="0033cc"/>
                </a:solidFill>
                <a:latin typeface="Times New Roman"/>
              </a:rPr>
              <a:t>与点</a:t>
            </a: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1400" spc="-1" strike="noStrike">
                <a:solidFill>
                  <a:srgbClr val="0033cc"/>
                </a:solidFill>
                <a:latin typeface="Times New Roman"/>
              </a:rPr>
              <a:t>重合，那么结论显然成立</a:t>
            </a: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762120" y="838080"/>
            <a:ext cx="7840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黑体"/>
              </a:rPr>
              <a:t>几何语言描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824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824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762120" y="4221000"/>
            <a:ext cx="64753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7440" indent="-165744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老师提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个结论是经常用来证明两条                线段相等的根据之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5638680" y="28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7162920" y="2881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8229600" y="28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7"/>
          <p:cNvSpPr/>
          <p:nvPr/>
        </p:nvSpPr>
        <p:spPr>
          <a:xfrm>
            <a:off x="7162920" y="2805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7315200" y="28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7238880" y="135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6705720" y="1052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6781680" y="34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7162920" y="120492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3"/>
          <p:cNvSpPr/>
          <p:nvPr/>
        </p:nvSpPr>
        <p:spPr>
          <a:xfrm>
            <a:off x="6095880" y="29574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4"/>
          <p:cNvSpPr/>
          <p:nvPr/>
        </p:nvSpPr>
        <p:spPr>
          <a:xfrm flipH="1">
            <a:off x="6095880" y="1585800"/>
            <a:ext cx="106704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5"/>
          <p:cNvSpPr/>
          <p:nvPr/>
        </p:nvSpPr>
        <p:spPr>
          <a:xfrm>
            <a:off x="7162920" y="1585800"/>
            <a:ext cx="10666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16"/>
          <p:cNvSpPr/>
          <p:nvPr/>
        </p:nvSpPr>
        <p:spPr>
          <a:xfrm>
            <a:off x="623880" y="1413000"/>
            <a:ext cx="524340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C=BC,MN⊥AB,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任意一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A=PB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段垂直平分线上的点到这条线段两个端点距离相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3"/>
          <p:cNvSpPr/>
          <p:nvPr/>
        </p:nvSpPr>
        <p:spPr>
          <a:xfrm>
            <a:off x="685800" y="765000"/>
            <a:ext cx="601992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深入思考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能写出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定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线段垂直平分线上的点到这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段两个端点距离相等”的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命题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824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571680" y="320040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逆命题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到一条线段两个端点距离相等的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这条线段的垂直平分线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690480" y="4581360"/>
            <a:ext cx="7551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是真命题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你证明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2019240" y="4797360"/>
            <a:ext cx="419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Group 7"/>
          <p:cNvGrpSpPr/>
          <p:nvPr/>
        </p:nvGrpSpPr>
        <p:grpSpPr>
          <a:xfrm>
            <a:off x="6330240" y="765000"/>
            <a:ext cx="2599200" cy="2059920"/>
            <a:chOff x="6330240" y="765000"/>
            <a:chExt cx="2599200" cy="2059920"/>
          </a:xfrm>
        </p:grpSpPr>
        <p:grpSp>
          <p:nvGrpSpPr>
            <p:cNvPr id="685" name="Group 8"/>
            <p:cNvGrpSpPr/>
            <p:nvPr/>
          </p:nvGrpSpPr>
          <p:grpSpPr>
            <a:xfrm>
              <a:off x="6330240" y="765000"/>
              <a:ext cx="2599200" cy="2059920"/>
              <a:chOff x="6330240" y="765000"/>
              <a:chExt cx="2599200" cy="2059920"/>
            </a:xfrm>
          </p:grpSpPr>
          <p:grpSp>
            <p:nvGrpSpPr>
              <p:cNvPr id="686" name="Group 9"/>
              <p:cNvGrpSpPr/>
              <p:nvPr/>
            </p:nvGrpSpPr>
            <p:grpSpPr>
              <a:xfrm>
                <a:off x="6513480" y="765000"/>
                <a:ext cx="1113480" cy="2059920"/>
                <a:chOff x="6513480" y="765000"/>
                <a:chExt cx="1113480" cy="2059920"/>
              </a:xfrm>
            </p:grpSpPr>
            <p:sp>
              <p:nvSpPr>
                <p:cNvPr id="687" name="AutoShape 10"/>
                <p:cNvSpPr/>
                <p:nvPr/>
              </p:nvSpPr>
              <p:spPr>
                <a:xfrm>
                  <a:off x="6705000" y="765000"/>
                  <a:ext cx="896400" cy="2059920"/>
                </a:xfrm>
                <a:prstGeom prst="horizontalScroll">
                  <a:avLst>
                    <a:gd name="adj" fmla="val 12500"/>
                  </a:avLst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Text Box 11"/>
                <p:cNvSpPr/>
                <p:nvPr/>
              </p:nvSpPr>
              <p:spPr>
                <a:xfrm>
                  <a:off x="6513480" y="944640"/>
                  <a:ext cx="1113480" cy="58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9" name="Text Box 12"/>
              <p:cNvSpPr/>
              <p:nvPr/>
            </p:nvSpPr>
            <p:spPr>
              <a:xfrm>
                <a:off x="6330240" y="920520"/>
                <a:ext cx="1155240" cy="17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思考分析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0" name="Picture 13" descr="ry03tzf4[1]"/>
              <p:cNvPicPr/>
              <p:nvPr/>
            </p:nvPicPr>
            <p:blipFill>
              <a:blip r:embed="rId2"/>
              <a:stretch/>
            </p:blipFill>
            <p:spPr>
              <a:xfrm>
                <a:off x="7626960" y="844200"/>
                <a:ext cx="1302480" cy="1810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1" name="Picture 14" descr="Q_011"/>
            <p:cNvPicPr/>
            <p:nvPr/>
          </p:nvPicPr>
          <p:blipFill>
            <a:blip r:embed="rId3"/>
            <a:stretch/>
          </p:blipFill>
          <p:spPr>
            <a:xfrm>
              <a:off x="7943400" y="993600"/>
              <a:ext cx="30240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685800" y="777960"/>
            <a:ext cx="5864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PA=P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垂直平分线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687240" y="2494080"/>
            <a:ext cx="79423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想证明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线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垂直平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线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以先作出过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垂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或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然后证明另一个结论正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试一试：你能自己写出这两个证明过程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4"/>
          <p:cNvGrpSpPr/>
          <p:nvPr/>
        </p:nvGrpSpPr>
        <p:grpSpPr>
          <a:xfrm>
            <a:off x="5580000" y="777960"/>
            <a:ext cx="3048120" cy="1907280"/>
            <a:chOff x="5580000" y="777960"/>
            <a:chExt cx="3048120" cy="1907280"/>
          </a:xfrm>
        </p:grpSpPr>
        <p:sp>
          <p:nvSpPr>
            <p:cNvPr id="695" name="Text Box 5"/>
            <p:cNvSpPr/>
            <p:nvPr/>
          </p:nvSpPr>
          <p:spPr>
            <a:xfrm>
              <a:off x="5580000" y="222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8170920" y="222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 Box 7"/>
            <p:cNvSpPr/>
            <p:nvPr/>
          </p:nvSpPr>
          <p:spPr>
            <a:xfrm>
              <a:off x="7180200" y="777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8"/>
            <p:cNvSpPr/>
            <p:nvPr/>
          </p:nvSpPr>
          <p:spPr>
            <a:xfrm>
              <a:off x="6037200" y="237780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9"/>
            <p:cNvSpPr/>
            <p:nvPr/>
          </p:nvSpPr>
          <p:spPr>
            <a:xfrm flipH="1">
              <a:off x="6036840" y="1006200"/>
              <a:ext cx="106668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10"/>
            <p:cNvSpPr/>
            <p:nvPr/>
          </p:nvSpPr>
          <p:spPr>
            <a:xfrm>
              <a:off x="7103880" y="1006200"/>
              <a:ext cx="106704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599760" y="977400"/>
            <a:ext cx="814860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5720" indent="0">
              <a:spcBef>
                <a:spcPts val="700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C⊥AB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垂足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C⊥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∴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P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P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都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Rt△              ∵PC=PC,PA=P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Rt△APC≌Rt△BPC(H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C=BC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等三角形的对应边相等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∴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垂直平分线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2935440" y="2487600"/>
            <a:ext cx="1807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5"/>
          <p:cNvSpPr/>
          <p:nvPr/>
        </p:nvSpPr>
        <p:spPr>
          <a:xfrm>
            <a:off x="5508720" y="2228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7032600" y="2305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7"/>
          <p:cNvSpPr/>
          <p:nvPr/>
        </p:nvSpPr>
        <p:spPr>
          <a:xfrm>
            <a:off x="8099280" y="2228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8"/>
          <p:cNvSpPr/>
          <p:nvPr/>
        </p:nvSpPr>
        <p:spPr>
          <a:xfrm>
            <a:off x="7032600" y="22287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9"/>
          <p:cNvSpPr/>
          <p:nvPr/>
        </p:nvSpPr>
        <p:spPr>
          <a:xfrm>
            <a:off x="7184880" y="22287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0"/>
          <p:cNvSpPr/>
          <p:nvPr/>
        </p:nvSpPr>
        <p:spPr>
          <a:xfrm>
            <a:off x="7108920" y="781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1"/>
          <p:cNvSpPr/>
          <p:nvPr/>
        </p:nvSpPr>
        <p:spPr>
          <a:xfrm>
            <a:off x="6575400" y="476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2"/>
          <p:cNvSpPr/>
          <p:nvPr/>
        </p:nvSpPr>
        <p:spPr>
          <a:xfrm>
            <a:off x="6651720" y="29145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3"/>
          <p:cNvSpPr/>
          <p:nvPr/>
        </p:nvSpPr>
        <p:spPr>
          <a:xfrm>
            <a:off x="7032600" y="62856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4"/>
          <p:cNvSpPr/>
          <p:nvPr/>
        </p:nvSpPr>
        <p:spPr>
          <a:xfrm>
            <a:off x="5965920" y="238140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5"/>
          <p:cNvSpPr/>
          <p:nvPr/>
        </p:nvSpPr>
        <p:spPr>
          <a:xfrm flipH="1">
            <a:off x="5965560" y="1009800"/>
            <a:ext cx="10666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6"/>
          <p:cNvSpPr/>
          <p:nvPr/>
        </p:nvSpPr>
        <p:spPr>
          <a:xfrm>
            <a:off x="7032600" y="1009800"/>
            <a:ext cx="10666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9200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线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中点记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连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中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C=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A=PB,PC=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∴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PC≌△BPC(S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∴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CA=∠PCB=9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C⊥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垂直平分线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6622920" y="10540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6699240" y="34923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5334120" y="29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6858000" y="30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7"/>
          <p:cNvSpPr/>
          <p:nvPr/>
        </p:nvSpPr>
        <p:spPr>
          <a:xfrm>
            <a:off x="7924680" y="29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6934320" y="1509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9"/>
          <p:cNvSpPr/>
          <p:nvPr/>
        </p:nvSpPr>
        <p:spPr>
          <a:xfrm>
            <a:off x="6858000" y="135720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10"/>
          <p:cNvSpPr/>
          <p:nvPr/>
        </p:nvSpPr>
        <p:spPr>
          <a:xfrm>
            <a:off x="5791320" y="3110040"/>
            <a:ext cx="2133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1"/>
          <p:cNvSpPr/>
          <p:nvPr/>
        </p:nvSpPr>
        <p:spPr>
          <a:xfrm flipH="1">
            <a:off x="5790960" y="1738440"/>
            <a:ext cx="10666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2"/>
          <p:cNvSpPr/>
          <p:nvPr/>
        </p:nvSpPr>
        <p:spPr>
          <a:xfrm>
            <a:off x="6858000" y="1738440"/>
            <a:ext cx="10666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13"/>
          <p:cNvSpPr/>
          <p:nvPr/>
        </p:nvSpPr>
        <p:spPr>
          <a:xfrm>
            <a:off x="6713640" y="2709720"/>
            <a:ext cx="4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01:29:13Z</dcterms:created>
  <dc:creator/>
  <dc:description/>
  <cp:keywords/>
  <dc:language>en-US</dc:language>
  <cp:lastModifiedBy/>
  <dcterms:modified xsi:type="dcterms:W3CDTF">2014-02-24T01:22:17Z</dcterms:modified>
  <cp:revision>1</cp:revision>
  <dc:subject/>
  <dc:title/>
</cp:coreProperties>
</file>