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2.png" ContentType="image/png"/>
  <Override PartName="/ppt/media/image6.wmf" ContentType="image/x-wmf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type.wav" ContentType="audio/x-wav"/>
  <Override PartName="/ppt/media/chimes.wav" ContentType="audio/x-wav"/>
  <Override PartName="/ppt/media/image7.gif" ContentType="image/gif"/>
  <Override PartName="/ppt/media/image8.wmf" ContentType="image/x-wmf"/>
  <Override PartName="/ppt/media/image9.wmf" ContentType="image/x-wmf"/>
  <Override PartName="/ppt/media/image11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DEC0-09F7-4A3A-ABBF-273BA2A52CF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D533-C9E3-4A1C-BD0D-36599EC9E240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3EE4-3C71-4B3F-9078-5AA908532409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00FF-BD0D-4F5D-BCC7-C702389E7475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E02E-DBBD-4EF3-A7A7-85E24544947C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58B4-BFE6-4F0A-B1AF-2F611CBD28AF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E775-8AD6-4354-8ED4-405590C9A5CD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1557-3168-4E5B-82B2-90E661B64084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6568-EB37-4733-BDC9-351F965365ED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A256-A4C9-4D26-B14B-3DA0F32EBD5C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B3E2-C5E9-44B3-94D9-DFB73877FB3D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9A6D-0D6F-444D-9A4D-A460A9BFEDC6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5145-C96C-4F72-9D41-7ADB30D93457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344D-863C-4B68-B135-56E37B23B914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0BC2-EC4D-4331-B58A-E98F6C775559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66BD-3F73-4AD7-AC7B-AEC90F25E3D3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B33E-DCFB-4D0A-A051-6E5D4DFB6A3E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2073-7A2B-4203-96AE-9B3FAEE06627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97E9-DC74-433E-87DC-F1D9210E1298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FD15-7927-4E0D-A1C6-506CAE1E2057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28EC-05BD-49C7-9342-4F82AD008D2B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0BA1-3375-4061-BAB9-64B3DAD2EF13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C4A2-896E-4783-AEB5-AF11BFF08562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97C6-8FCD-4392-A291-0F573B18F5B2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4180-AF5C-4294-B713-7F82E240BCAC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BAD2-EBD2-489D-8DD1-F774059440DE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A1C1-9A06-4FD1-A543-9B91D913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643-7F5E-45FC-B2ED-0DBA5834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B9030-D618-4519-95A1-344817CC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30207-575F-4FAE-B2F3-7093FD7D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D4FFA-35AB-4499-A1FC-B5B82162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752BC-B9F6-4B65-A91E-55F5A297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58D0F-F72D-4190-B65B-8BCF17DE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D2049-489C-4D5D-ABC5-1F192072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E6B0B-614F-48CD-BA21-B0D6500E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C2C46-63BB-4D7A-9872-4E05A13D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0E066-3BCF-46F4-8744-139B60AB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C4CB2-6DB8-4AEF-9473-B7AFA013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9C1-BA13-4970-A049-BC1E7FB6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DA30C-3576-41DA-8AF4-4FB7A5D6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843C0-DBF4-450B-A602-C770130D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D75DD-06EC-43D4-91AD-5A665F66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6F309-C6DF-4210-9230-647A619D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FE03D-868E-4720-8B83-D1485704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3D77D-67A3-4DCB-AC59-0F56E8D1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8FBC5-84EA-4FC5-B947-8A6E7183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3B532-FC47-4558-AA51-DE9DB489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FE9E8-8E9B-4A7C-A22E-708572BB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0A108-AB5F-44AF-8E34-C08F449B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511-23D2-43DF-983F-84C93C0C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0A1E6-44B3-4E08-B9CA-24F49CE6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02A64-CA45-4E2F-8EFA-24AB1B43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B0902-B2F2-4326-9F6E-A5C673CE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C3CE0-3DD8-41F8-9EF1-725DC87D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AE833-752D-483E-8A6C-F4E0E05D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5D58C-FBDD-4CB8-B991-DDCF6C63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96AC3-26A0-45AB-9545-AE999AFF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0120C-665E-451F-85AD-065AD51F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C56ED-6BE3-4217-9C5F-8BAAEA61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083EC-D504-4CE6-BE2E-0E745AC7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BF06-CD36-4563-8A11-340378E8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A1782-6E6D-47C2-9575-8B205410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57951-8F6B-4FCF-BF95-A9CBA563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F0877-4CF5-496E-9B61-106F57A5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CD430-A656-404A-9C69-A2D674B2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B6153-5A4F-4BA8-9011-533BA12F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3D0FF-7AAB-49C9-9C5F-ADC2C899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D9F6D-C09F-4596-8B19-FF01F58A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3FF7D-65B3-4542-9288-B0428DC6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E7D1F-4832-4E20-84DE-D50B2276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37381-0E1C-44D6-A746-74BB5023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40B4-FEA5-446C-BF1C-44401888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FB7A9-06B7-4F1F-8476-67A3809D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E67E4-856E-476B-A083-BB0AAD4C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2BE07-DFB5-4544-A132-3FAC903F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775E4-FD9D-4676-B487-1A07D482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E9B4F-C081-43FA-99D5-943E02B8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CE115-BBD7-4421-9AB3-56F10E4B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C28B9-51A6-41B7-85AD-E1859415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DAA3C-4556-46C4-A37B-5E8BE385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6B5D2-7ECA-44A9-A79C-E9C8FB36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E5971-A9B9-4722-A22E-AF0C4229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7177-C36B-446E-8C02-0E14E8C0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3399C-FBDF-4588-98F3-132290C0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0A295-60E1-4C12-BCD3-D4F448BF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C7074-1BDC-4225-A488-6CD409B1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681B3-5BC6-4688-AAAF-1A738420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FD657-778D-40A7-B182-AD9A0320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330D2-3604-4255-89F8-7A3B60C9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6E1F7-A06D-4167-874D-9B6494D4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2C89-3251-4FF0-B3E0-78E011C5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2614-BA46-4C00-AC4F-2BB7381C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208E-CF30-497D-B9AD-DFBB192F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6C6E-9F04-4733-9F52-59819881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4BB-6ABA-48B8-A743-B7203E30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0F1C-92C0-4DD0-89BF-16323D2C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66C9-63FC-44A0-B50E-AE3128E2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2C91-0C06-4622-A9F4-F7AF9158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5EF6-94CA-4C34-BC70-02D25468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8BEF-57B2-4CF2-98AB-8B9B6C54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6682B-3799-4732-8106-2FCB690C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51994-4BDA-4DA7-841F-28DE3254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35C33-CDD9-4561-9797-606CDB65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3E9B5-5BED-486E-AEA0-6CCED8FA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7524F-7F00-420F-A2D0-D6380879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414-541A-44B9-84BA-96E8E8D5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ABE9D-E184-492E-AD72-62A0B66F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B2AC0-23C8-4A27-8040-9B55D5C8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7E7E4-6B65-4080-B2A3-D10082CA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0EE1-9EE6-4F25-BB0F-73B82E1B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3C73E-6AC9-4CC5-BD25-A1050712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A273D-514C-43AA-AAE0-298AB044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75ACD-A8B1-4517-AF97-DBF8DB9B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2A934-5995-4393-97AC-1D6AE203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0DBC1-FD3C-423C-B147-97712BA2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44C65-D652-4852-8187-A7F08E16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3A0-DCE1-4F39-80C7-C292F937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04FFC-AD8D-4026-88F5-3432FF29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78A23-AB14-4101-B99D-A0877990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74EF8-E246-44E0-8DBD-47481259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920CE-B0BF-4373-A0B6-C1A2BFEC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D6547-CCF4-41E1-B281-0A7BAE69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C404E-49B8-4926-A8B9-98CD85EB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B81A-9AF2-48A7-B496-2973933D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732FD-5DB7-4CC8-9A8F-061F406C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5988C-D79C-426F-8D5D-B3EE2A11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8C2FF-34B6-438F-A7C1-0359DD31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CAA-035B-4EDA-99E1-4D61F1FC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9B3F1-B7F6-4C49-82F1-A56A3B70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CF744-6047-4757-8F4D-B9A9C3C2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7EE51-252E-4464-9A07-AB051173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15A73-DDFF-43A0-8EE6-3407F860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9D640-FD12-4DF4-B14D-CC35D1F1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36977-D7F6-4335-861B-9B9D6CC0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E2938-8093-4FA8-8719-40708BBA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E18C1-500D-4EA8-B58E-E47FF80D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91E98-5A45-4628-A983-33CD810A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99C98-5D3B-42AE-B48F-31E63645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A4D-960C-4A1A-8639-E8973218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3E685-7706-4462-88E5-C9FB6DDC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389DC-0A07-448D-B467-B13412C1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3FF1C-3CF0-4C02-9B1E-B419192E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D1EE2-6602-41AE-9374-E61F5A92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6CB8A-E504-43C1-994A-0F283ACD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5C5E3-A449-4334-916E-DE874F58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967CD-482A-4E39-9332-79EEAE2B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5E4CF-C7E0-4E61-8C81-B3443BE6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336BE-48ED-41C3-92D3-45F69346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824EF-831B-4541-BF28-CE0F1F4C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FD1-477C-4C5F-95FB-100F0C5B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8310F-0859-4FE0-9ED3-66C0A53D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5A523-5F7A-42C5-8B2C-219F28A7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98AC3-781D-4568-BE19-92237DFB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C7C35-387F-4AAB-AC0A-8B4BCD7A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87C5C-405A-4B38-BE16-1909CF1B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51665-D763-4135-99FD-57A35BBF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E319B-EDF8-4A8F-A8C0-DABA06E4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9CD11-1873-4C1E-BA16-0BF70ABD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BDCA6-B098-4890-A3F8-AF3D7D10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271A6-FB53-484C-9C89-489A05A2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161-2164-42D9-A781-82CA3DA6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D431B-978C-45FA-A16A-8D97BD47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2B0B6-5A08-4DEE-B004-9798CCE9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88959-81C2-45B7-A422-32E10FDE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73291-2EAB-4C04-A60A-F37CBF25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184E8-DF74-4F77-B14C-0F1FC2D0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04E70-A8DB-46B4-9D5E-E130A1FC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0B763-2C4B-4934-8EF9-4594E1DF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B4D32-387D-41E1-970B-A4F57918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1C182-C278-413D-8288-7974E034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52444-5803-4ED5-803B-A8B80A13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ED6-ED17-462E-9683-6784DB7F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F170E-61D7-4C7D-90BC-26208228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0DA72-58B2-4326-B239-5F060433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B29F8-B1B9-4E65-AA7A-475DBC08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727C7-C8EA-4454-969D-D8FDC8B9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08F30-DD2B-429F-A64F-5DC96A89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18BCA-281A-4215-91D1-60C19EFC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C5A90-3A92-4092-857B-A3C00E7A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B8C27-0459-4745-8543-8854D73C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F2BDF-62A4-418F-BCC8-BB69201E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7E6E5-60B8-4881-99FA-20B34E07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B471-6E94-4CA7-913D-8C59D8A08157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F35D-D3A1-4FC5-BA30-EAE1907336CE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31B8-3288-41DC-9027-4891E4568440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4FF5-63F7-4E12-9283-328018233731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D8C6-AB68-4530-A045-DD1EA44F8A5D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7DE8-7473-4974-BB4C-1A97BB5B99B5}" type="slidenum">
              <a:rPr b="0" lang="en-US" sz="1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0DAF-3CAA-437D-92FD-90838A138150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62B1-19B3-409C-9795-E30E63BB8AF7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122E-F8A9-4810-ABEB-CFE8C95C5350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C421-2BB3-47AF-AFD2-1B76EF6FF40A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90B7-3F97-4D7D-8CAA-0CF639AF4DA4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56FD-CE73-4483-964B-91BCAECA4C8E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978E-FD81-4BDD-B890-5A1EE7404279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3"/>
          <p:cNvSpPr/>
          <p:nvPr/>
        </p:nvSpPr>
        <p:spPr>
          <a:xfrm>
            <a:off x="684360" y="2421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1.4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角平分线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(2)</a:t>
            </a:r>
            <a:endParaRPr b="1" lang="en-US" sz="54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8"/>
          <p:cNvSpPr/>
          <p:nvPr/>
        </p:nvSpPr>
        <p:spPr>
          <a:xfrm>
            <a:off x="468360" y="395280"/>
            <a:ext cx="80773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定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三角形的三条角平分线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并且这一点到三边的距离相等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 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533520" y="1512720"/>
            <a:ext cx="526896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如图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在△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中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∵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BM,CN,AH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分别是△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的三条角平分且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D⊥AB,PE⊥BC,PF⊥AC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78" name="Rectangle 10"/>
          <p:cNvSpPr/>
          <p:nvPr/>
        </p:nvSpPr>
        <p:spPr>
          <a:xfrm>
            <a:off x="755640" y="4508640"/>
            <a:ext cx="80946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老师提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这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又是一个证明三条直线交于一点的根据之一这个交点叫做三角形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内心</a:t>
            </a:r>
            <a:r>
              <a:rPr b="1" lang="en-US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679" name="Group 59"/>
          <p:cNvGrpSpPr/>
          <p:nvPr/>
        </p:nvGrpSpPr>
        <p:grpSpPr>
          <a:xfrm>
            <a:off x="5621400" y="735120"/>
            <a:ext cx="3112920" cy="2449440"/>
            <a:chOff x="5621400" y="735120"/>
            <a:chExt cx="3112920" cy="2449440"/>
          </a:xfrm>
        </p:grpSpPr>
        <p:grpSp>
          <p:nvGrpSpPr>
            <p:cNvPr id="680" name="Group 60"/>
            <p:cNvGrpSpPr/>
            <p:nvPr/>
          </p:nvGrpSpPr>
          <p:grpSpPr>
            <a:xfrm>
              <a:off x="5621400" y="735120"/>
              <a:ext cx="3112920" cy="2449440"/>
              <a:chOff x="5621400" y="735120"/>
              <a:chExt cx="3112920" cy="2449440"/>
            </a:xfrm>
          </p:grpSpPr>
          <p:grpSp>
            <p:nvGrpSpPr>
              <p:cNvPr id="681" name="Group 61"/>
              <p:cNvGrpSpPr/>
              <p:nvPr/>
            </p:nvGrpSpPr>
            <p:grpSpPr>
              <a:xfrm>
                <a:off x="6046920" y="1037880"/>
                <a:ext cx="2133360" cy="1537200"/>
                <a:chOff x="6046920" y="1037880"/>
                <a:chExt cx="2133360" cy="1537200"/>
              </a:xfrm>
            </p:grpSpPr>
            <p:sp>
              <p:nvSpPr>
                <p:cNvPr id="682" name="Line 62"/>
                <p:cNvSpPr/>
                <p:nvPr/>
              </p:nvSpPr>
              <p:spPr>
                <a:xfrm>
                  <a:off x="6046920" y="2575080"/>
                  <a:ext cx="213336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83" name="Line 63"/>
                <p:cNvSpPr/>
                <p:nvPr/>
              </p:nvSpPr>
              <p:spPr>
                <a:xfrm>
                  <a:off x="7264080" y="1038240"/>
                  <a:ext cx="885600" cy="1523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84" name="Line 64"/>
                <p:cNvSpPr/>
                <p:nvPr/>
              </p:nvSpPr>
              <p:spPr>
                <a:xfrm flipV="1">
                  <a:off x="6046920" y="1037880"/>
                  <a:ext cx="1218960" cy="15368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  <p:sp>
            <p:nvSpPr>
              <p:cNvPr id="685" name="Text Box 65"/>
              <p:cNvSpPr/>
              <p:nvPr/>
            </p:nvSpPr>
            <p:spPr>
              <a:xfrm>
                <a:off x="6905520" y="7351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b5249"/>
                    </a:solidFill>
                    <a:latin typeface="黑体"/>
                  </a:rPr>
                  <a:t>A</a:t>
                </a: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86" name="Text Box 66"/>
              <p:cNvSpPr/>
              <p:nvPr/>
            </p:nvSpPr>
            <p:spPr>
              <a:xfrm>
                <a:off x="5621400" y="227016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b5249"/>
                    </a:solidFill>
                    <a:latin typeface="黑体"/>
                  </a:rPr>
                  <a:t>B</a:t>
                </a: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87" name="Text Box 67"/>
              <p:cNvSpPr/>
              <p:nvPr/>
            </p:nvSpPr>
            <p:spPr>
              <a:xfrm>
                <a:off x="8201160" y="234648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b5249"/>
                    </a:solidFill>
                    <a:latin typeface="黑体"/>
                  </a:rPr>
                  <a:t>C</a:t>
                </a: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88" name="Text Box 68"/>
              <p:cNvSpPr/>
              <p:nvPr/>
            </p:nvSpPr>
            <p:spPr>
              <a:xfrm>
                <a:off x="6905520" y="15433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24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grpSp>
            <p:nvGrpSpPr>
              <p:cNvPr id="689" name="Group 69"/>
              <p:cNvGrpSpPr/>
              <p:nvPr/>
            </p:nvGrpSpPr>
            <p:grpSpPr>
              <a:xfrm>
                <a:off x="5861160" y="735120"/>
                <a:ext cx="2568600" cy="2449440"/>
                <a:chOff x="5861160" y="735120"/>
                <a:chExt cx="2568600" cy="2449440"/>
              </a:xfrm>
            </p:grpSpPr>
            <p:sp>
              <p:nvSpPr>
                <p:cNvPr id="690" name="Line 70"/>
                <p:cNvSpPr/>
                <p:nvPr/>
              </p:nvSpPr>
              <p:spPr>
                <a:xfrm flipH="1">
                  <a:off x="7113240" y="735120"/>
                  <a:ext cx="179640" cy="24494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91" name="Line 71"/>
                <p:cNvSpPr/>
                <p:nvPr/>
              </p:nvSpPr>
              <p:spPr>
                <a:xfrm flipV="1">
                  <a:off x="5861160" y="1553760"/>
                  <a:ext cx="2319480" cy="1109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92" name="Line 72"/>
                <p:cNvSpPr/>
                <p:nvPr/>
              </p:nvSpPr>
              <p:spPr>
                <a:xfrm>
                  <a:off x="6058080" y="1432080"/>
                  <a:ext cx="2371680" cy="1280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93" name="Line 73"/>
                <p:cNvSpPr/>
                <p:nvPr/>
              </p:nvSpPr>
              <p:spPr>
                <a:xfrm>
                  <a:off x="6046920" y="2575080"/>
                  <a:ext cx="213372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94" name="Line 74"/>
                <p:cNvSpPr/>
                <p:nvPr/>
              </p:nvSpPr>
              <p:spPr>
                <a:xfrm>
                  <a:off x="7264440" y="1038240"/>
                  <a:ext cx="885960" cy="1523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95" name="Line 75"/>
                <p:cNvSpPr/>
                <p:nvPr/>
              </p:nvSpPr>
              <p:spPr>
                <a:xfrm flipV="1">
                  <a:off x="6046920" y="1037880"/>
                  <a:ext cx="1219320" cy="15368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</p:grpSp>
        <p:sp>
          <p:nvSpPr>
            <p:cNvPr id="696" name="Text Box 76"/>
            <p:cNvSpPr/>
            <p:nvPr/>
          </p:nvSpPr>
          <p:spPr>
            <a:xfrm>
              <a:off x="7667640" y="1268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黑体"/>
                </a:rPr>
                <a:t>M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97" name="Text Box 77"/>
            <p:cNvSpPr/>
            <p:nvPr/>
          </p:nvSpPr>
          <p:spPr>
            <a:xfrm>
              <a:off x="6296040" y="1268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黑体"/>
                </a:rPr>
                <a:t>N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  <p:grpSp>
        <p:nvGrpSpPr>
          <p:cNvPr id="698" name="Group 78"/>
          <p:cNvGrpSpPr/>
          <p:nvPr/>
        </p:nvGrpSpPr>
        <p:grpSpPr>
          <a:xfrm>
            <a:off x="6516720" y="1185840"/>
            <a:ext cx="1633680" cy="1721880"/>
            <a:chOff x="6516720" y="1185840"/>
            <a:chExt cx="1633680" cy="1721880"/>
          </a:xfrm>
        </p:grpSpPr>
        <p:grpSp>
          <p:nvGrpSpPr>
            <p:cNvPr id="699" name="Group 79"/>
            <p:cNvGrpSpPr/>
            <p:nvPr/>
          </p:nvGrpSpPr>
          <p:grpSpPr>
            <a:xfrm>
              <a:off x="6735960" y="1511280"/>
              <a:ext cx="1025280" cy="1049040"/>
              <a:chOff x="6735960" y="1511280"/>
              <a:chExt cx="1025280" cy="1049040"/>
            </a:xfrm>
          </p:grpSpPr>
          <p:sp>
            <p:nvSpPr>
              <p:cNvPr id="700" name="Line 80"/>
              <p:cNvSpPr/>
              <p:nvPr/>
            </p:nvSpPr>
            <p:spPr>
              <a:xfrm flipH="1" flipV="1">
                <a:off x="7164000" y="1982520"/>
                <a:ext cx="3240" cy="577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01" name="Line 81"/>
              <p:cNvSpPr/>
              <p:nvPr/>
            </p:nvSpPr>
            <p:spPr>
              <a:xfrm flipV="1">
                <a:off x="7164360" y="1721880"/>
                <a:ext cx="447840" cy="279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02" name="Line 82"/>
              <p:cNvSpPr/>
              <p:nvPr/>
            </p:nvSpPr>
            <p:spPr>
              <a:xfrm>
                <a:off x="6735960" y="1647720"/>
                <a:ext cx="428400" cy="335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03" name="Line 83"/>
              <p:cNvSpPr/>
              <p:nvPr/>
            </p:nvSpPr>
            <p:spPr>
              <a:xfrm>
                <a:off x="7164360" y="2309760"/>
                <a:ext cx="2239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04" name="Line 84"/>
              <p:cNvSpPr/>
              <p:nvPr/>
            </p:nvSpPr>
            <p:spPr>
              <a:xfrm>
                <a:off x="7407360" y="2314440"/>
                <a:ext cx="0" cy="223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05" name="Line 85"/>
              <p:cNvSpPr/>
              <p:nvPr/>
            </p:nvSpPr>
            <p:spPr>
              <a:xfrm>
                <a:off x="6810480" y="1511280"/>
                <a:ext cx="149040" cy="1317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06" name="Line 86"/>
              <p:cNvSpPr/>
              <p:nvPr/>
            </p:nvSpPr>
            <p:spPr>
              <a:xfrm flipH="1">
                <a:off x="6865920" y="1623960"/>
                <a:ext cx="93600" cy="1303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07" name="Line 87"/>
              <p:cNvSpPr/>
              <p:nvPr/>
            </p:nvSpPr>
            <p:spPr>
              <a:xfrm>
                <a:off x="7462800" y="1828800"/>
                <a:ext cx="130320" cy="168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08" name="Line 88"/>
              <p:cNvSpPr/>
              <p:nvPr/>
            </p:nvSpPr>
            <p:spPr>
              <a:xfrm flipV="1">
                <a:off x="7593120" y="1883880"/>
                <a:ext cx="168120" cy="1177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sp>
          <p:nvSpPr>
            <p:cNvPr id="709" name="Text Box 89"/>
            <p:cNvSpPr/>
            <p:nvPr/>
          </p:nvSpPr>
          <p:spPr>
            <a:xfrm>
              <a:off x="6516720" y="118584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10" name="Text Box 90"/>
            <p:cNvSpPr/>
            <p:nvPr/>
          </p:nvSpPr>
          <p:spPr>
            <a:xfrm>
              <a:off x="7062840" y="244800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11" name="Text Box 91"/>
            <p:cNvSpPr/>
            <p:nvPr/>
          </p:nvSpPr>
          <p:spPr>
            <a:xfrm>
              <a:off x="7713720" y="154476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F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  <p:sp>
        <p:nvSpPr>
          <p:cNvPr id="712" name="Rectangle 93"/>
          <p:cNvSpPr/>
          <p:nvPr/>
        </p:nvSpPr>
        <p:spPr>
          <a:xfrm>
            <a:off x="533520" y="3084480"/>
            <a:ext cx="7797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BM,CN,AH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且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D=PE=PF(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三角形的三条角平分线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并且这一点到三边的距离相等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)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713" name="Text Box 94"/>
          <p:cNvSpPr/>
          <p:nvPr/>
        </p:nvSpPr>
        <p:spPr>
          <a:xfrm>
            <a:off x="7127280" y="267192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H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468360" y="620640"/>
            <a:ext cx="7388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[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例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3]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如图，在△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中．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AC=BC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C=90°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AD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是△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的角平分线，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DE⊥AB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，垂足为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．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已知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CD=4 cm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，求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的长；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求证：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AB=AC+CD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． 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715" name="Rectangle 5"/>
          <p:cNvSpPr/>
          <p:nvPr/>
        </p:nvSpPr>
        <p:spPr>
          <a:xfrm>
            <a:off x="684360" y="5076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练一练</a:t>
            </a:r>
            <a:endParaRPr b="1" lang="en-US" sz="36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716" name="Group 39"/>
          <p:cNvGrpSpPr/>
          <p:nvPr/>
        </p:nvGrpSpPr>
        <p:grpSpPr>
          <a:xfrm>
            <a:off x="7418160" y="571680"/>
            <a:ext cx="1654920" cy="2233080"/>
            <a:chOff x="7418160" y="571680"/>
            <a:chExt cx="1654920" cy="2233080"/>
          </a:xfrm>
        </p:grpSpPr>
        <p:grpSp>
          <p:nvGrpSpPr>
            <p:cNvPr id="717" name="Group 22"/>
            <p:cNvGrpSpPr/>
            <p:nvPr/>
          </p:nvGrpSpPr>
          <p:grpSpPr>
            <a:xfrm>
              <a:off x="7962480" y="2357280"/>
              <a:ext cx="212400" cy="431280"/>
              <a:chOff x="7962480" y="2357280"/>
              <a:chExt cx="212400" cy="431280"/>
            </a:xfrm>
          </p:grpSpPr>
          <p:sp>
            <p:nvSpPr>
              <p:cNvPr id="718" name="Rectangle 20"/>
              <p:cNvSpPr/>
              <p:nvPr/>
            </p:nvSpPr>
            <p:spPr>
              <a:xfrm>
                <a:off x="7962840" y="2357280"/>
                <a:ext cx="3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19" name="Rectangle 21"/>
              <p:cNvSpPr/>
              <p:nvPr/>
            </p:nvSpPr>
            <p:spPr>
              <a:xfrm>
                <a:off x="7962480" y="2357280"/>
                <a:ext cx="2124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ff0000"/>
                    </a:solidFill>
                    <a:latin typeface="Times New Roman"/>
                  </a:rPr>
                  <a:t>D</a:t>
                </a:r>
                <a:endParaRPr b="1" lang="en-US" sz="23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sp>
          <p:nvSpPr>
            <p:cNvPr id="720" name="Line 9"/>
            <p:cNvSpPr/>
            <p:nvPr/>
          </p:nvSpPr>
          <p:spPr>
            <a:xfrm>
              <a:off x="7548840" y="2396880"/>
              <a:ext cx="1319040" cy="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21" name="Line 10"/>
            <p:cNvSpPr/>
            <p:nvPr/>
          </p:nvSpPr>
          <p:spPr>
            <a:xfrm>
              <a:off x="7548840" y="893520"/>
              <a:ext cx="0" cy="150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22" name="Line 11"/>
            <p:cNvSpPr/>
            <p:nvPr/>
          </p:nvSpPr>
          <p:spPr>
            <a:xfrm>
              <a:off x="7548840" y="893520"/>
              <a:ext cx="0" cy="150300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23" name="Line 12"/>
            <p:cNvSpPr/>
            <p:nvPr/>
          </p:nvSpPr>
          <p:spPr>
            <a:xfrm>
              <a:off x="7548840" y="893520"/>
              <a:ext cx="1319040" cy="150300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24" name="Line 13"/>
            <p:cNvSpPr/>
            <p:nvPr/>
          </p:nvSpPr>
          <p:spPr>
            <a:xfrm>
              <a:off x="7548840" y="893520"/>
              <a:ext cx="529920" cy="150300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25" name="Line 14"/>
            <p:cNvSpPr/>
            <p:nvPr/>
          </p:nvSpPr>
          <p:spPr>
            <a:xfrm flipH="1">
              <a:off x="8078400" y="1941480"/>
              <a:ext cx="398520" cy="45504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26" name="Line 15"/>
            <p:cNvSpPr/>
            <p:nvPr/>
          </p:nvSpPr>
          <p:spPr>
            <a:xfrm flipH="1">
              <a:off x="8374320" y="1887480"/>
              <a:ext cx="54000" cy="6300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27" name="Line 16"/>
            <p:cNvSpPr/>
            <p:nvPr/>
          </p:nvSpPr>
          <p:spPr>
            <a:xfrm>
              <a:off x="8374320" y="1950840"/>
              <a:ext cx="48960" cy="5508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grpSp>
          <p:nvGrpSpPr>
            <p:cNvPr id="728" name="Group 19"/>
            <p:cNvGrpSpPr/>
            <p:nvPr/>
          </p:nvGrpSpPr>
          <p:grpSpPr>
            <a:xfrm>
              <a:off x="7418160" y="571680"/>
              <a:ext cx="195840" cy="431640"/>
              <a:chOff x="7418160" y="571680"/>
              <a:chExt cx="195840" cy="431640"/>
            </a:xfrm>
          </p:grpSpPr>
          <p:sp>
            <p:nvSpPr>
              <p:cNvPr id="729" name="Rectangle 17"/>
              <p:cNvSpPr/>
              <p:nvPr/>
            </p:nvSpPr>
            <p:spPr>
              <a:xfrm>
                <a:off x="7418520" y="57168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30" name="Rectangle 18"/>
              <p:cNvSpPr/>
              <p:nvPr/>
            </p:nvSpPr>
            <p:spPr>
              <a:xfrm>
                <a:off x="7418160" y="571680"/>
                <a:ext cx="195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1" lang="en-US" sz="23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grpSp>
          <p:nvGrpSpPr>
            <p:cNvPr id="731" name="Group 25"/>
            <p:cNvGrpSpPr/>
            <p:nvPr/>
          </p:nvGrpSpPr>
          <p:grpSpPr>
            <a:xfrm>
              <a:off x="8877240" y="2355840"/>
              <a:ext cx="195840" cy="431280"/>
              <a:chOff x="8877240" y="2355840"/>
              <a:chExt cx="195840" cy="431280"/>
            </a:xfrm>
          </p:grpSpPr>
          <p:sp>
            <p:nvSpPr>
              <p:cNvPr id="732" name="Rectangle 23"/>
              <p:cNvSpPr/>
              <p:nvPr/>
            </p:nvSpPr>
            <p:spPr>
              <a:xfrm>
                <a:off x="8877240" y="2355840"/>
                <a:ext cx="3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33" name="Rectangle 24"/>
              <p:cNvSpPr/>
              <p:nvPr/>
            </p:nvSpPr>
            <p:spPr>
              <a:xfrm>
                <a:off x="8877240" y="2355840"/>
                <a:ext cx="195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1" lang="en-US" sz="23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grpSp>
          <p:nvGrpSpPr>
            <p:cNvPr id="734" name="Group 28"/>
            <p:cNvGrpSpPr/>
            <p:nvPr/>
          </p:nvGrpSpPr>
          <p:grpSpPr>
            <a:xfrm>
              <a:off x="8504280" y="1557360"/>
              <a:ext cx="196200" cy="435960"/>
              <a:chOff x="8504280" y="1557360"/>
              <a:chExt cx="196200" cy="435960"/>
            </a:xfrm>
          </p:grpSpPr>
          <p:sp>
            <p:nvSpPr>
              <p:cNvPr id="735" name="Rectangle 26"/>
              <p:cNvSpPr/>
              <p:nvPr/>
            </p:nvSpPr>
            <p:spPr>
              <a:xfrm>
                <a:off x="8504280" y="1562400"/>
                <a:ext cx="36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36" name="Rectangle 27"/>
              <p:cNvSpPr/>
              <p:nvPr/>
            </p:nvSpPr>
            <p:spPr>
              <a:xfrm>
                <a:off x="8504640" y="1557360"/>
                <a:ext cx="195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endParaRPr b="1" lang="en-US" sz="23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grpSp>
          <p:nvGrpSpPr>
            <p:cNvPr id="737" name="Group 31"/>
            <p:cNvGrpSpPr/>
            <p:nvPr/>
          </p:nvGrpSpPr>
          <p:grpSpPr>
            <a:xfrm>
              <a:off x="7418160" y="2373120"/>
              <a:ext cx="195840" cy="431640"/>
              <a:chOff x="7418160" y="2373120"/>
              <a:chExt cx="195840" cy="431640"/>
            </a:xfrm>
          </p:grpSpPr>
          <p:sp>
            <p:nvSpPr>
              <p:cNvPr id="738" name="Rectangle 29"/>
              <p:cNvSpPr/>
              <p:nvPr/>
            </p:nvSpPr>
            <p:spPr>
              <a:xfrm>
                <a:off x="7418520" y="237312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39" name="Rectangle 30"/>
              <p:cNvSpPr/>
              <p:nvPr/>
            </p:nvSpPr>
            <p:spPr>
              <a:xfrm>
                <a:off x="7418160" y="2373120"/>
                <a:ext cx="195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1" lang="en-US" sz="23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</p:grpSp>
      <p:grpSp>
        <p:nvGrpSpPr>
          <p:cNvPr id="740" name="Group 41"/>
          <p:cNvGrpSpPr/>
          <p:nvPr/>
        </p:nvGrpSpPr>
        <p:grpSpPr>
          <a:xfrm>
            <a:off x="500040" y="2643120"/>
            <a:ext cx="8064360" cy="3970440"/>
            <a:chOff x="500040" y="2643120"/>
            <a:chExt cx="8064360" cy="3970440"/>
          </a:xfrm>
        </p:grpSpPr>
        <p:sp>
          <p:nvSpPr>
            <p:cNvPr id="741" name="Rectangle 33"/>
            <p:cNvSpPr/>
            <p:nvPr/>
          </p:nvSpPr>
          <p:spPr>
            <a:xfrm>
              <a:off x="500040" y="2643120"/>
              <a:ext cx="80643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(1)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解：∵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AD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是△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ABC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的角平分线，∠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C=90°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，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DE⊥AB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∴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DE=CD=4cm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∵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AC=BC  ∴∠B=∠BAC(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等边对等角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)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∵∠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C=90°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，∴∠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B=   ×90°=45°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．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∴∠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BDE=90°-45°=45°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．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∴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BE=DE(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等角对等边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．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在等腰直角三角形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BDE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中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                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勾股定理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，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∴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AC=BC=CD+BD=(4+     )cm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．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graphicFrame>
          <p:nvGraphicFramePr>
            <p:cNvPr id="742" name="Object 35"/>
            <p:cNvGraphicFramePr/>
            <p:nvPr/>
          </p:nvGraphicFramePr>
          <p:xfrm>
            <a:off x="3555720" y="3929040"/>
            <a:ext cx="230400" cy="64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3" name="Object 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55720" y="3929040"/>
                      <a:ext cx="2304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4" name="Object 36"/>
            <p:cNvGraphicFramePr/>
            <p:nvPr/>
          </p:nvGraphicFramePr>
          <p:xfrm>
            <a:off x="3371760" y="5667480"/>
            <a:ext cx="3031920" cy="54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5" name="Object 3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71760" y="5667480"/>
                      <a:ext cx="303192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6" name="Object 40"/>
            <p:cNvGraphicFramePr/>
            <p:nvPr/>
          </p:nvGraphicFramePr>
          <p:xfrm>
            <a:off x="3270240" y="6122880"/>
            <a:ext cx="722160" cy="490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7" name="Object 4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0240" y="6122880"/>
                      <a:ext cx="722160" cy="4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684360" y="907920"/>
            <a:ext cx="7387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[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3]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如图，在△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中．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AC=BC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C=90°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AD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是△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的角平分线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DE⊥AB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，垂足为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．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已知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CD=4 cm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，求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的长；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求证：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AB=AC+CD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． 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749" name="Rectangle 3"/>
          <p:cNvSpPr/>
          <p:nvPr/>
        </p:nvSpPr>
        <p:spPr>
          <a:xfrm>
            <a:off x="684360" y="18900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练一练</a:t>
            </a:r>
            <a:endParaRPr b="1" lang="en-US" sz="36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750" name="Group 4"/>
          <p:cNvGrpSpPr/>
          <p:nvPr/>
        </p:nvGrpSpPr>
        <p:grpSpPr>
          <a:xfrm>
            <a:off x="5918040" y="1773360"/>
            <a:ext cx="2757960" cy="2926800"/>
            <a:chOff x="5918040" y="1773360"/>
            <a:chExt cx="2757960" cy="2926800"/>
          </a:xfrm>
        </p:grpSpPr>
        <p:grpSp>
          <p:nvGrpSpPr>
            <p:cNvPr id="751" name="Group 5"/>
            <p:cNvGrpSpPr/>
            <p:nvPr/>
          </p:nvGrpSpPr>
          <p:grpSpPr>
            <a:xfrm>
              <a:off x="6938280" y="4270320"/>
              <a:ext cx="212400" cy="429840"/>
              <a:chOff x="6938280" y="4270320"/>
              <a:chExt cx="212400" cy="429840"/>
            </a:xfrm>
          </p:grpSpPr>
          <p:sp>
            <p:nvSpPr>
              <p:cNvPr id="752" name="Rectangle 6"/>
              <p:cNvSpPr/>
              <p:nvPr/>
            </p:nvSpPr>
            <p:spPr>
              <a:xfrm>
                <a:off x="6939000" y="4270320"/>
                <a:ext cx="360" cy="42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53" name="Rectangle 7"/>
              <p:cNvSpPr/>
              <p:nvPr/>
            </p:nvSpPr>
            <p:spPr>
              <a:xfrm>
                <a:off x="6938280" y="4270320"/>
                <a:ext cx="2124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ff0000"/>
                    </a:solidFill>
                    <a:latin typeface="Times New Roman"/>
                  </a:rPr>
                  <a:t>D</a:t>
                </a:r>
                <a:endParaRPr b="1" lang="en-US" sz="23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grpSp>
          <p:nvGrpSpPr>
            <p:cNvPr id="754" name="Group 8"/>
            <p:cNvGrpSpPr/>
            <p:nvPr/>
          </p:nvGrpSpPr>
          <p:grpSpPr>
            <a:xfrm>
              <a:off x="5918040" y="1773360"/>
              <a:ext cx="2757960" cy="2898000"/>
              <a:chOff x="5918040" y="1773360"/>
              <a:chExt cx="2757960" cy="2898000"/>
            </a:xfrm>
          </p:grpSpPr>
          <p:sp>
            <p:nvSpPr>
              <p:cNvPr id="755" name="Line 9"/>
              <p:cNvSpPr/>
              <p:nvPr/>
            </p:nvSpPr>
            <p:spPr>
              <a:xfrm>
                <a:off x="6146640" y="4289400"/>
                <a:ext cx="2320920" cy="1080"/>
              </a:xfrm>
              <a:prstGeom prst="line">
                <a:avLst/>
              </a:prstGeom>
              <a:ln w="38160">
                <a:solidFill>
                  <a:srgbClr val="4c45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56" name="Line 10"/>
              <p:cNvSpPr/>
              <p:nvPr/>
            </p:nvSpPr>
            <p:spPr>
              <a:xfrm>
                <a:off x="6146640" y="1966680"/>
                <a:ext cx="1800" cy="2322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57" name="Line 11"/>
              <p:cNvSpPr/>
              <p:nvPr/>
            </p:nvSpPr>
            <p:spPr>
              <a:xfrm>
                <a:off x="6146640" y="1966680"/>
                <a:ext cx="1800" cy="2322360"/>
              </a:xfrm>
              <a:prstGeom prst="line">
                <a:avLst/>
              </a:prstGeom>
              <a:ln w="38160">
                <a:solidFill>
                  <a:srgbClr val="4c45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58" name="Line 12"/>
              <p:cNvSpPr/>
              <p:nvPr/>
            </p:nvSpPr>
            <p:spPr>
              <a:xfrm>
                <a:off x="6146640" y="1966680"/>
                <a:ext cx="2320920" cy="2322360"/>
              </a:xfrm>
              <a:prstGeom prst="line">
                <a:avLst/>
              </a:prstGeom>
              <a:ln w="38160">
                <a:solidFill>
                  <a:srgbClr val="4c45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59" name="Line 13"/>
              <p:cNvSpPr/>
              <p:nvPr/>
            </p:nvSpPr>
            <p:spPr>
              <a:xfrm>
                <a:off x="6146640" y="1966680"/>
                <a:ext cx="932040" cy="2322360"/>
              </a:xfrm>
              <a:prstGeom prst="line">
                <a:avLst/>
              </a:prstGeom>
              <a:ln w="38160">
                <a:solidFill>
                  <a:srgbClr val="4c45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60" name="Line 14"/>
              <p:cNvSpPr/>
              <p:nvPr/>
            </p:nvSpPr>
            <p:spPr>
              <a:xfrm flipH="1">
                <a:off x="7078320" y="3587400"/>
                <a:ext cx="700200" cy="701640"/>
              </a:xfrm>
              <a:prstGeom prst="line">
                <a:avLst/>
              </a:prstGeom>
              <a:ln w="38160">
                <a:solidFill>
                  <a:srgbClr val="4c45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61" name="Line 15"/>
              <p:cNvSpPr/>
              <p:nvPr/>
            </p:nvSpPr>
            <p:spPr>
              <a:xfrm flipH="1">
                <a:off x="7597440" y="3503520"/>
                <a:ext cx="96840" cy="96480"/>
              </a:xfrm>
              <a:prstGeom prst="line">
                <a:avLst/>
              </a:prstGeom>
              <a:ln w="38160">
                <a:solidFill>
                  <a:srgbClr val="4c45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62" name="Line 16"/>
              <p:cNvSpPr/>
              <p:nvPr/>
            </p:nvSpPr>
            <p:spPr>
              <a:xfrm>
                <a:off x="7597800" y="3600360"/>
                <a:ext cx="84240" cy="83520"/>
              </a:xfrm>
              <a:prstGeom prst="line">
                <a:avLst/>
              </a:prstGeom>
              <a:ln w="38160">
                <a:solidFill>
                  <a:srgbClr val="4c45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grpSp>
            <p:nvGrpSpPr>
              <p:cNvPr id="763" name="Group 17"/>
              <p:cNvGrpSpPr/>
              <p:nvPr/>
            </p:nvGrpSpPr>
            <p:grpSpPr>
              <a:xfrm>
                <a:off x="5918040" y="1773360"/>
                <a:ext cx="195840" cy="429840"/>
                <a:chOff x="5918040" y="1773360"/>
                <a:chExt cx="195840" cy="429840"/>
              </a:xfrm>
            </p:grpSpPr>
            <p:sp>
              <p:nvSpPr>
                <p:cNvPr id="764" name="Rectangle 18"/>
                <p:cNvSpPr/>
                <p:nvPr/>
              </p:nvSpPr>
              <p:spPr>
                <a:xfrm>
                  <a:off x="5918040" y="1773360"/>
                  <a:ext cx="360" cy="42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765" name="Rectangle 19"/>
                <p:cNvSpPr/>
                <p:nvPr/>
              </p:nvSpPr>
              <p:spPr>
                <a:xfrm>
                  <a:off x="5918040" y="1773360"/>
                  <a:ext cx="1958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3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1" lang="en-US" sz="23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766" name="Group 20"/>
              <p:cNvGrpSpPr/>
              <p:nvPr/>
            </p:nvGrpSpPr>
            <p:grpSpPr>
              <a:xfrm>
                <a:off x="8480160" y="4216320"/>
                <a:ext cx="195840" cy="429840"/>
                <a:chOff x="8480160" y="4216320"/>
                <a:chExt cx="195840" cy="429840"/>
              </a:xfrm>
            </p:grpSpPr>
            <p:sp>
              <p:nvSpPr>
                <p:cNvPr id="767" name="Rectangle 21"/>
                <p:cNvSpPr/>
                <p:nvPr/>
              </p:nvSpPr>
              <p:spPr>
                <a:xfrm>
                  <a:off x="8480520" y="4216320"/>
                  <a:ext cx="360" cy="42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768" name="Rectangle 22"/>
                <p:cNvSpPr/>
                <p:nvPr/>
              </p:nvSpPr>
              <p:spPr>
                <a:xfrm>
                  <a:off x="8480160" y="4216320"/>
                  <a:ext cx="1958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3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1" lang="en-US" sz="23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769" name="Group 23"/>
              <p:cNvGrpSpPr/>
              <p:nvPr/>
            </p:nvGrpSpPr>
            <p:grpSpPr>
              <a:xfrm>
                <a:off x="7838640" y="3249360"/>
                <a:ext cx="195840" cy="429840"/>
                <a:chOff x="7838640" y="3249360"/>
                <a:chExt cx="195840" cy="429840"/>
              </a:xfrm>
            </p:grpSpPr>
            <p:sp>
              <p:nvSpPr>
                <p:cNvPr id="770" name="Rectangle 24"/>
                <p:cNvSpPr/>
                <p:nvPr/>
              </p:nvSpPr>
              <p:spPr>
                <a:xfrm>
                  <a:off x="7839000" y="3249360"/>
                  <a:ext cx="360" cy="42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771" name="Rectangle 25"/>
                <p:cNvSpPr/>
                <p:nvPr/>
              </p:nvSpPr>
              <p:spPr>
                <a:xfrm>
                  <a:off x="7838640" y="3249360"/>
                  <a:ext cx="1958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300" spc="-1" strike="noStrike">
                      <a:solidFill>
                        <a:srgbClr val="ff0000"/>
                      </a:solidFill>
                      <a:latin typeface="Times New Roman"/>
                    </a:rPr>
                    <a:t>E</a:t>
                  </a:r>
                  <a:endParaRPr b="1" lang="en-US" sz="23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772" name="Group 26"/>
              <p:cNvGrpSpPr/>
              <p:nvPr/>
            </p:nvGrpSpPr>
            <p:grpSpPr>
              <a:xfrm>
                <a:off x="5918040" y="4241520"/>
                <a:ext cx="195840" cy="429840"/>
                <a:chOff x="5918040" y="4241520"/>
                <a:chExt cx="195840" cy="429840"/>
              </a:xfrm>
            </p:grpSpPr>
            <p:sp>
              <p:nvSpPr>
                <p:cNvPr id="773" name="Rectangle 27"/>
                <p:cNvSpPr/>
                <p:nvPr/>
              </p:nvSpPr>
              <p:spPr>
                <a:xfrm>
                  <a:off x="5918040" y="4241520"/>
                  <a:ext cx="360" cy="42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774" name="Rectangle 28"/>
                <p:cNvSpPr/>
                <p:nvPr/>
              </p:nvSpPr>
              <p:spPr>
                <a:xfrm>
                  <a:off x="5918040" y="4241520"/>
                  <a:ext cx="1958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3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1" lang="en-US" sz="23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</p:grpSp>
      </p:grpSp>
      <p:sp>
        <p:nvSpPr>
          <p:cNvPr id="775" name="Rectangle 30"/>
          <p:cNvSpPr/>
          <p:nvPr/>
        </p:nvSpPr>
        <p:spPr>
          <a:xfrm>
            <a:off x="857160" y="3254400"/>
            <a:ext cx="5060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证明：由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的求解过程可知，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Rt△ACD≌Rt△AED(HL)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AC=A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（全等三角形的对应边相等）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BE=DE=C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，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AB=AE+BE=AC+C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．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714240" y="13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三  挑战自我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14"/>
          <p:cNvSpPr/>
          <p:nvPr/>
        </p:nvSpPr>
        <p:spPr>
          <a:xfrm>
            <a:off x="533520" y="642960"/>
            <a:ext cx="80708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   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1.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已知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如图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,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∠C=90</a:t>
            </a:r>
            <a:r>
              <a:rPr b="1" lang="en-US" sz="2800" spc="-1" strike="noStrike" baseline="30000">
                <a:solidFill>
                  <a:srgbClr val="080808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, ∠B=30</a:t>
            </a:r>
            <a:r>
              <a:rPr b="1" lang="en-US" sz="2800" spc="-1" strike="noStrike" baseline="30000">
                <a:solidFill>
                  <a:srgbClr val="080808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, A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Rt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△ABC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的角平分线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   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求证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:BD=2CD.</a:t>
            </a:r>
            <a:r>
              <a:rPr b="0" lang="en-US" sz="2800" spc="-1" strike="noStrike">
                <a:solidFill>
                  <a:srgbClr val="5b5249"/>
                </a:solidFill>
                <a:latin typeface="隶书"/>
                <a:ea typeface="隶书"/>
              </a:rPr>
              <a:t>  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778" name="Rectangle 49"/>
          <p:cNvSpPr/>
          <p:nvPr/>
        </p:nvSpPr>
        <p:spPr>
          <a:xfrm>
            <a:off x="914400" y="4730760"/>
            <a:ext cx="7323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老师期望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能写出规范的证明过程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779" name="Group 58"/>
          <p:cNvGrpSpPr/>
          <p:nvPr/>
        </p:nvGrpSpPr>
        <p:grpSpPr>
          <a:xfrm>
            <a:off x="2987640" y="2141640"/>
            <a:ext cx="3312720" cy="2281320"/>
            <a:chOff x="2987640" y="2141640"/>
            <a:chExt cx="3312720" cy="2281320"/>
          </a:xfrm>
        </p:grpSpPr>
        <p:sp>
          <p:nvSpPr>
            <p:cNvPr id="780" name="AutoShape 50"/>
            <p:cNvSpPr/>
            <p:nvPr/>
          </p:nvSpPr>
          <p:spPr>
            <a:xfrm flipH="1">
              <a:off x="3401280" y="2656800"/>
              <a:ext cx="2319120" cy="1334160"/>
            </a:xfrm>
            <a:prstGeom prst="rtTriangl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81" name="Line 51"/>
            <p:cNvSpPr/>
            <p:nvPr/>
          </p:nvSpPr>
          <p:spPr>
            <a:xfrm flipH="1">
              <a:off x="4889160" y="2675160"/>
              <a:ext cx="810720" cy="13287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82" name="Text Box 52"/>
            <p:cNvSpPr/>
            <p:nvPr/>
          </p:nvSpPr>
          <p:spPr>
            <a:xfrm>
              <a:off x="5472000" y="2141640"/>
              <a:ext cx="57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83" name="Text Box 53"/>
            <p:cNvSpPr/>
            <p:nvPr/>
          </p:nvSpPr>
          <p:spPr>
            <a:xfrm>
              <a:off x="2987640" y="3635640"/>
              <a:ext cx="57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84" name="Text Box 54"/>
            <p:cNvSpPr/>
            <p:nvPr/>
          </p:nvSpPr>
          <p:spPr>
            <a:xfrm>
              <a:off x="5720760" y="3737160"/>
              <a:ext cx="57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85" name="Text Box 55"/>
            <p:cNvSpPr/>
            <p:nvPr/>
          </p:nvSpPr>
          <p:spPr>
            <a:xfrm>
              <a:off x="4726800" y="3902400"/>
              <a:ext cx="57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86" name="Line 56"/>
            <p:cNvSpPr/>
            <p:nvPr/>
          </p:nvSpPr>
          <p:spPr>
            <a:xfrm>
              <a:off x="5578920" y="3807720"/>
              <a:ext cx="0" cy="1738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87" name="Line 57"/>
            <p:cNvSpPr/>
            <p:nvPr/>
          </p:nvSpPr>
          <p:spPr>
            <a:xfrm>
              <a:off x="5578920" y="3830040"/>
              <a:ext cx="18288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77240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证明 ∵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 ∠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C=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90°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∴ 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B= 30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∴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Rt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△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中，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AB=2BC, 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BAC= 60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∵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是△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的角平分线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∴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∠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BAD= 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DAC= 30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°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,AD=B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∴ 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Rt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△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ACD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中，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AD=2C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∴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BD=2C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14"/>
          <p:cNvSpPr/>
          <p:nvPr/>
        </p:nvSpPr>
        <p:spPr>
          <a:xfrm>
            <a:off x="455760" y="376200"/>
            <a:ext cx="792612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已知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如图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△ABC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的外角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CBD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和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BCE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的角平分线相交于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F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求证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F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在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DAE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的平分线上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 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790" name="Group 72"/>
          <p:cNvGrpSpPr/>
          <p:nvPr/>
        </p:nvGrpSpPr>
        <p:grpSpPr>
          <a:xfrm>
            <a:off x="2212920" y="1893960"/>
            <a:ext cx="4622760" cy="3375000"/>
            <a:chOff x="2212920" y="1893960"/>
            <a:chExt cx="4622760" cy="3375000"/>
          </a:xfrm>
        </p:grpSpPr>
        <p:sp>
          <p:nvSpPr>
            <p:cNvPr id="791" name="Text Box 60"/>
            <p:cNvSpPr/>
            <p:nvPr/>
          </p:nvSpPr>
          <p:spPr>
            <a:xfrm>
              <a:off x="4778280" y="1893960"/>
              <a:ext cx="3812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隶书"/>
                </a:rPr>
                <a:t>A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92" name="Line 61"/>
            <p:cNvSpPr/>
            <p:nvPr/>
          </p:nvSpPr>
          <p:spPr>
            <a:xfrm>
              <a:off x="3637080" y="3664080"/>
              <a:ext cx="1839960" cy="18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93" name="Line 62"/>
            <p:cNvSpPr/>
            <p:nvPr/>
          </p:nvSpPr>
          <p:spPr>
            <a:xfrm flipH="1">
              <a:off x="2479320" y="2233800"/>
              <a:ext cx="2373480" cy="27734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94" name="Line 63"/>
            <p:cNvSpPr/>
            <p:nvPr/>
          </p:nvSpPr>
          <p:spPr>
            <a:xfrm>
              <a:off x="4853160" y="2233800"/>
              <a:ext cx="1322280" cy="29034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95" name="Text Box 64"/>
            <p:cNvSpPr/>
            <p:nvPr/>
          </p:nvSpPr>
          <p:spPr>
            <a:xfrm>
              <a:off x="3102120" y="3567240"/>
              <a:ext cx="3808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隶书"/>
                </a:rPr>
                <a:t>B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96" name="Text Box 65"/>
            <p:cNvSpPr/>
            <p:nvPr/>
          </p:nvSpPr>
          <p:spPr>
            <a:xfrm>
              <a:off x="5540400" y="3418200"/>
              <a:ext cx="3808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隶书"/>
                </a:rPr>
                <a:t>C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97" name="Line 66"/>
            <p:cNvSpPr/>
            <p:nvPr/>
          </p:nvSpPr>
          <p:spPr>
            <a:xfrm>
              <a:off x="3637080" y="3664080"/>
              <a:ext cx="914400" cy="16048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98" name="Line 67"/>
            <p:cNvSpPr/>
            <p:nvPr/>
          </p:nvSpPr>
          <p:spPr>
            <a:xfrm flipH="1">
              <a:off x="4122720" y="3664080"/>
              <a:ext cx="1354320" cy="15670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99" name="Text Box 69"/>
            <p:cNvSpPr/>
            <p:nvPr/>
          </p:nvSpPr>
          <p:spPr>
            <a:xfrm>
              <a:off x="4473720" y="47134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Times New Roman"/>
                </a:rPr>
                <a:t>F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00" name="Text Box 70"/>
            <p:cNvSpPr/>
            <p:nvPr/>
          </p:nvSpPr>
          <p:spPr>
            <a:xfrm>
              <a:off x="2212920" y="4681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01" name="Text Box 71"/>
            <p:cNvSpPr/>
            <p:nvPr/>
          </p:nvSpPr>
          <p:spPr>
            <a:xfrm>
              <a:off x="6302520" y="4681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Times New Roman"/>
                </a:rPr>
                <a:t>E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证明： ∵ 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BF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是∠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CBD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的角平分线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    ∴ 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到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BC,AD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的距离相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    ∵ 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BF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是∠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CBD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的角平分线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    ∴ 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到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BC,AE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的距离相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    ∴ 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到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AD,AE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的距离相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从而点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在∠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DAE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的平分线上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14"/>
          <p:cNvSpPr/>
          <p:nvPr/>
        </p:nvSpPr>
        <p:spPr>
          <a:xfrm>
            <a:off x="838080" y="765000"/>
            <a:ext cx="4527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已知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如图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是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AOB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平分线上的一个点，并且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C⊥OA,PD⊥OB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垂足分别是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C,D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求证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: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(1)OC=OD;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(2)O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是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CD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的垂直平分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 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04" name="Text Box 51"/>
          <p:cNvSpPr/>
          <p:nvPr/>
        </p:nvSpPr>
        <p:spPr>
          <a:xfrm>
            <a:off x="7086600" y="4191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05" name="Text Box 50"/>
          <p:cNvSpPr/>
          <p:nvPr/>
        </p:nvSpPr>
        <p:spPr>
          <a:xfrm>
            <a:off x="7831080" y="3929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06" name="Text Box 52"/>
          <p:cNvSpPr/>
          <p:nvPr/>
        </p:nvSpPr>
        <p:spPr>
          <a:xfrm>
            <a:off x="7831080" y="14144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07" name="Text Box 60"/>
          <p:cNvSpPr/>
          <p:nvPr/>
        </p:nvSpPr>
        <p:spPr>
          <a:xfrm>
            <a:off x="7754760" y="2843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P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08" name="Text Box 61"/>
          <p:cNvSpPr/>
          <p:nvPr/>
        </p:nvSpPr>
        <p:spPr>
          <a:xfrm>
            <a:off x="7068960" y="36241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09" name="Text Box 70"/>
          <p:cNvSpPr/>
          <p:nvPr/>
        </p:nvSpPr>
        <p:spPr>
          <a:xfrm>
            <a:off x="7145280" y="1700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C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10" name="Line 81"/>
          <p:cNvSpPr/>
          <p:nvPr/>
        </p:nvSpPr>
        <p:spPr>
          <a:xfrm>
            <a:off x="5711760" y="2933640"/>
            <a:ext cx="2692440" cy="46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11" name="Line 82"/>
          <p:cNvSpPr/>
          <p:nvPr/>
        </p:nvSpPr>
        <p:spPr>
          <a:xfrm flipV="1">
            <a:off x="5730840" y="1717200"/>
            <a:ext cx="2543040" cy="12193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12" name="Line 84"/>
          <p:cNvSpPr/>
          <p:nvPr/>
        </p:nvSpPr>
        <p:spPr>
          <a:xfrm>
            <a:off x="5692680" y="2925720"/>
            <a:ext cx="2208240" cy="107964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13" name="Line 86"/>
          <p:cNvSpPr/>
          <p:nvPr/>
        </p:nvSpPr>
        <p:spPr>
          <a:xfrm>
            <a:off x="7453440" y="2127240"/>
            <a:ext cx="344520" cy="8352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14" name="Line 87"/>
          <p:cNvSpPr/>
          <p:nvPr/>
        </p:nvSpPr>
        <p:spPr>
          <a:xfrm flipV="1">
            <a:off x="7377120" y="2937960"/>
            <a:ext cx="420840" cy="8002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15" name="Text Box 91"/>
          <p:cNvSpPr/>
          <p:nvPr/>
        </p:nvSpPr>
        <p:spPr>
          <a:xfrm>
            <a:off x="5330880" y="2697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16" name="Line 100"/>
          <p:cNvSpPr/>
          <p:nvPr/>
        </p:nvSpPr>
        <p:spPr>
          <a:xfrm flipH="1">
            <a:off x="7373880" y="2127240"/>
            <a:ext cx="76320" cy="16113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证明</a:t>
            </a:r>
            <a:r>
              <a:rPr b="1" lang="en-US" sz="2800" spc="-1" strike="noStrike">
                <a:solidFill>
                  <a:srgbClr val="5b5249"/>
                </a:solidFill>
                <a:latin typeface="黑体"/>
                <a:ea typeface="黑体"/>
              </a:rPr>
              <a:t>(1)  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∵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为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是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AOB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平分线上的一个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PC⊥OA,PD⊥OB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          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PC=P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Rt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△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PO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和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Rt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△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PO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          ∵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OP=OP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Rt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△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POC 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≌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Rt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△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POD  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∴OC=O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(2)  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PC=PD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得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的垂直平分线上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O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C=OD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得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的垂直平分线上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          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O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是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的垂直平分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78588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一  回顾与思考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2"/>
          <p:cNvSpPr/>
          <p:nvPr/>
        </p:nvSpPr>
        <p:spPr>
          <a:xfrm>
            <a:off x="990720" y="2549520"/>
            <a:ext cx="762768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533520" y="692280"/>
            <a:ext cx="808488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</a:rPr>
              <a:t>拓展探索：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如图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已知△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ABC,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作△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一个内角和与它不相邻的两个外角的平分线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看它们是否交于一点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这样的点有几个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如果以这个点为圆心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这一点到三角形一边的距离为半径作圆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你能作出这个图形吗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?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820" name="Group 11"/>
          <p:cNvGrpSpPr/>
          <p:nvPr/>
        </p:nvGrpSpPr>
        <p:grpSpPr>
          <a:xfrm>
            <a:off x="3053880" y="3560760"/>
            <a:ext cx="3102480" cy="1944720"/>
            <a:chOff x="3053880" y="3560760"/>
            <a:chExt cx="3102480" cy="1944720"/>
          </a:xfrm>
        </p:grpSpPr>
        <p:sp>
          <p:nvSpPr>
            <p:cNvPr id="821" name="Text Box 5"/>
            <p:cNvSpPr/>
            <p:nvPr/>
          </p:nvSpPr>
          <p:spPr>
            <a:xfrm>
              <a:off x="4410000" y="3560760"/>
              <a:ext cx="3812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黑体"/>
                </a:rPr>
                <a:t>A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22" name="Line 6"/>
            <p:cNvSpPr/>
            <p:nvPr/>
          </p:nvSpPr>
          <p:spPr>
            <a:xfrm>
              <a:off x="3054240" y="4809960"/>
              <a:ext cx="31021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23" name="Line 7"/>
            <p:cNvSpPr/>
            <p:nvPr/>
          </p:nvSpPr>
          <p:spPr>
            <a:xfrm flipH="1">
              <a:off x="3053880" y="3560760"/>
              <a:ext cx="2156040" cy="16826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24" name="Line 8"/>
            <p:cNvSpPr/>
            <p:nvPr/>
          </p:nvSpPr>
          <p:spPr>
            <a:xfrm>
              <a:off x="4140360" y="3560760"/>
              <a:ext cx="1641240" cy="19447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25" name="Text Box 9"/>
            <p:cNvSpPr/>
            <p:nvPr/>
          </p:nvSpPr>
          <p:spPr>
            <a:xfrm>
              <a:off x="3533760" y="4809960"/>
              <a:ext cx="3808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隶书"/>
                </a:rPr>
                <a:t>B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26" name="Text Box 10"/>
            <p:cNvSpPr/>
            <p:nvPr/>
          </p:nvSpPr>
          <p:spPr>
            <a:xfrm>
              <a:off x="5210280" y="4771800"/>
              <a:ext cx="3808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黑体"/>
                </a:rPr>
                <a:t>C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/>
          </p:nvPr>
        </p:nvSpPr>
        <p:spPr>
          <a:xfrm>
            <a:off x="78588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四    回顾与小结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黑体"/>
              </a:rPr>
              <a:t>定理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黑体"/>
              </a:rPr>
              <a:t>: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黑体"/>
              </a:rPr>
              <a:t>三角形的三条角平分线相交于一点</a:t>
            </a:r>
            <a:r>
              <a:rPr b="1" lang="en-US" sz="3200" spc="-1" strike="noStrike">
                <a:solidFill>
                  <a:srgbClr val="080808"/>
                </a:solidFill>
                <a:latin typeface="隶书"/>
                <a:ea typeface="黑体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黑体"/>
              </a:rPr>
              <a:t>并且这一点到三边的距离相等</a:t>
            </a:r>
            <a:r>
              <a:rPr b="1" lang="en-US" sz="3200" spc="-1" strike="noStrike">
                <a:solidFill>
                  <a:srgbClr val="080808"/>
                </a:solidFill>
                <a:latin typeface="隶书"/>
                <a:ea typeface="黑体"/>
              </a:rPr>
              <a:t>(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黑体"/>
              </a:rPr>
              <a:t>这个交点叫做三角形的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内心</a:t>
            </a:r>
            <a:r>
              <a:rPr b="1" lang="en-US" sz="3200" spc="-1" strike="noStrike">
                <a:solidFill>
                  <a:srgbClr val="080808"/>
                </a:solidFill>
                <a:latin typeface="隶书"/>
                <a:ea typeface="黑体"/>
              </a:rPr>
              <a:t>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829" name="Group 4"/>
          <p:cNvGrpSpPr/>
          <p:nvPr/>
        </p:nvGrpSpPr>
        <p:grpSpPr>
          <a:xfrm>
            <a:off x="3322800" y="2924280"/>
            <a:ext cx="2567880" cy="2449440"/>
            <a:chOff x="3322800" y="2924280"/>
            <a:chExt cx="2567880" cy="2449440"/>
          </a:xfrm>
        </p:grpSpPr>
        <p:sp>
          <p:nvSpPr>
            <p:cNvPr id="830" name="Line 5"/>
            <p:cNvSpPr/>
            <p:nvPr/>
          </p:nvSpPr>
          <p:spPr>
            <a:xfrm flipH="1">
              <a:off x="4574880" y="2924280"/>
              <a:ext cx="179280" cy="244944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31" name="Line 6"/>
            <p:cNvSpPr/>
            <p:nvPr/>
          </p:nvSpPr>
          <p:spPr>
            <a:xfrm flipV="1">
              <a:off x="3322800" y="3742920"/>
              <a:ext cx="2319120" cy="110988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32" name="Line 7"/>
            <p:cNvSpPr/>
            <p:nvPr/>
          </p:nvSpPr>
          <p:spPr>
            <a:xfrm>
              <a:off x="3519360" y="3621240"/>
              <a:ext cx="2371320" cy="128088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33" name="Line 8"/>
            <p:cNvSpPr/>
            <p:nvPr/>
          </p:nvSpPr>
          <p:spPr>
            <a:xfrm>
              <a:off x="3508200" y="4764240"/>
              <a:ext cx="213336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34" name="Line 9"/>
            <p:cNvSpPr/>
            <p:nvPr/>
          </p:nvSpPr>
          <p:spPr>
            <a:xfrm>
              <a:off x="4725720" y="3227400"/>
              <a:ext cx="885600" cy="15238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35" name="Line 10"/>
            <p:cNvSpPr/>
            <p:nvPr/>
          </p:nvSpPr>
          <p:spPr>
            <a:xfrm flipV="1">
              <a:off x="3508200" y="3227040"/>
              <a:ext cx="1218960" cy="15368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533520" y="912960"/>
            <a:ext cx="526896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如图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在△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中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∵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BM,CN,AH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分别是△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的三条角平分且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D⊥AB,PE⊥BC,PF⊥AC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755640" y="4508640"/>
            <a:ext cx="80946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老师提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这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又是一个证明三条直线交于一点的根据之一这个交点叫做三角形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内心</a:t>
            </a:r>
            <a:r>
              <a:rPr b="1" lang="en-US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838" name="Group 5"/>
          <p:cNvGrpSpPr/>
          <p:nvPr/>
        </p:nvGrpSpPr>
        <p:grpSpPr>
          <a:xfrm>
            <a:off x="5556240" y="198360"/>
            <a:ext cx="3112920" cy="2449440"/>
            <a:chOff x="5556240" y="198360"/>
            <a:chExt cx="3112920" cy="2449440"/>
          </a:xfrm>
        </p:grpSpPr>
        <p:grpSp>
          <p:nvGrpSpPr>
            <p:cNvPr id="839" name="Group 6"/>
            <p:cNvGrpSpPr/>
            <p:nvPr/>
          </p:nvGrpSpPr>
          <p:grpSpPr>
            <a:xfrm>
              <a:off x="5556240" y="198360"/>
              <a:ext cx="3112920" cy="2449440"/>
              <a:chOff x="5556240" y="198360"/>
              <a:chExt cx="3112920" cy="2449440"/>
            </a:xfrm>
          </p:grpSpPr>
          <p:grpSp>
            <p:nvGrpSpPr>
              <p:cNvPr id="840" name="Group 7"/>
              <p:cNvGrpSpPr/>
              <p:nvPr/>
            </p:nvGrpSpPr>
            <p:grpSpPr>
              <a:xfrm>
                <a:off x="5981760" y="501120"/>
                <a:ext cx="2133360" cy="1537200"/>
                <a:chOff x="5981760" y="501120"/>
                <a:chExt cx="2133360" cy="1537200"/>
              </a:xfrm>
            </p:grpSpPr>
            <p:sp>
              <p:nvSpPr>
                <p:cNvPr id="841" name="Line 8"/>
                <p:cNvSpPr/>
                <p:nvPr/>
              </p:nvSpPr>
              <p:spPr>
                <a:xfrm>
                  <a:off x="5981760" y="2038320"/>
                  <a:ext cx="213336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842" name="Line 9"/>
                <p:cNvSpPr/>
                <p:nvPr/>
              </p:nvSpPr>
              <p:spPr>
                <a:xfrm>
                  <a:off x="7198920" y="501480"/>
                  <a:ext cx="885600" cy="1523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843" name="Line 10"/>
                <p:cNvSpPr/>
                <p:nvPr/>
              </p:nvSpPr>
              <p:spPr>
                <a:xfrm flipV="1">
                  <a:off x="5981760" y="501120"/>
                  <a:ext cx="1218960" cy="15368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  <p:sp>
            <p:nvSpPr>
              <p:cNvPr id="844" name="Text Box 11"/>
              <p:cNvSpPr/>
              <p:nvPr/>
            </p:nvSpPr>
            <p:spPr>
              <a:xfrm>
                <a:off x="6840360" y="19836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b5249"/>
                    </a:solidFill>
                    <a:latin typeface="黑体"/>
                  </a:rPr>
                  <a:t>A</a:t>
                </a: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45" name="Text Box 12"/>
              <p:cNvSpPr/>
              <p:nvPr/>
            </p:nvSpPr>
            <p:spPr>
              <a:xfrm>
                <a:off x="5556240" y="17334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b5249"/>
                    </a:solidFill>
                    <a:latin typeface="黑体"/>
                  </a:rPr>
                  <a:t>B</a:t>
                </a: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46" name="Text Box 13"/>
              <p:cNvSpPr/>
              <p:nvPr/>
            </p:nvSpPr>
            <p:spPr>
              <a:xfrm>
                <a:off x="8136000" y="18097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b5249"/>
                    </a:solidFill>
                    <a:latin typeface="黑体"/>
                  </a:rPr>
                  <a:t>C</a:t>
                </a: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47" name="Text Box 14"/>
              <p:cNvSpPr/>
              <p:nvPr/>
            </p:nvSpPr>
            <p:spPr>
              <a:xfrm>
                <a:off x="6840360" y="10065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24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grpSp>
            <p:nvGrpSpPr>
              <p:cNvPr id="848" name="Group 15"/>
              <p:cNvGrpSpPr/>
              <p:nvPr/>
            </p:nvGrpSpPr>
            <p:grpSpPr>
              <a:xfrm>
                <a:off x="5796000" y="198360"/>
                <a:ext cx="2568600" cy="2449440"/>
                <a:chOff x="5796000" y="198360"/>
                <a:chExt cx="2568600" cy="2449440"/>
              </a:xfrm>
            </p:grpSpPr>
            <p:sp>
              <p:nvSpPr>
                <p:cNvPr id="849" name="Line 16"/>
                <p:cNvSpPr/>
                <p:nvPr/>
              </p:nvSpPr>
              <p:spPr>
                <a:xfrm flipH="1">
                  <a:off x="7048080" y="198360"/>
                  <a:ext cx="179640" cy="24494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850" name="Line 17"/>
                <p:cNvSpPr/>
                <p:nvPr/>
              </p:nvSpPr>
              <p:spPr>
                <a:xfrm flipV="1">
                  <a:off x="5796000" y="1017000"/>
                  <a:ext cx="2319480" cy="1109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851" name="Line 18"/>
                <p:cNvSpPr/>
                <p:nvPr/>
              </p:nvSpPr>
              <p:spPr>
                <a:xfrm>
                  <a:off x="5992920" y="895320"/>
                  <a:ext cx="2371680" cy="1280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852" name="Line 19"/>
                <p:cNvSpPr/>
                <p:nvPr/>
              </p:nvSpPr>
              <p:spPr>
                <a:xfrm>
                  <a:off x="5981760" y="2038320"/>
                  <a:ext cx="213372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853" name="Line 20"/>
                <p:cNvSpPr/>
                <p:nvPr/>
              </p:nvSpPr>
              <p:spPr>
                <a:xfrm>
                  <a:off x="7199280" y="501480"/>
                  <a:ext cx="885960" cy="1523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854" name="Line 21"/>
                <p:cNvSpPr/>
                <p:nvPr/>
              </p:nvSpPr>
              <p:spPr>
                <a:xfrm flipV="1">
                  <a:off x="5981760" y="501120"/>
                  <a:ext cx="1219320" cy="15368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</p:grpSp>
        <p:sp>
          <p:nvSpPr>
            <p:cNvPr id="855" name="Text Box 22"/>
            <p:cNvSpPr/>
            <p:nvPr/>
          </p:nvSpPr>
          <p:spPr>
            <a:xfrm>
              <a:off x="7602480" y="731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黑体"/>
                </a:rPr>
                <a:t>M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56" name="Text Box 23"/>
            <p:cNvSpPr/>
            <p:nvPr/>
          </p:nvSpPr>
          <p:spPr>
            <a:xfrm>
              <a:off x="6230880" y="731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黑体"/>
                </a:rPr>
                <a:t>N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  <p:grpSp>
        <p:nvGrpSpPr>
          <p:cNvPr id="857" name="Group 24"/>
          <p:cNvGrpSpPr/>
          <p:nvPr/>
        </p:nvGrpSpPr>
        <p:grpSpPr>
          <a:xfrm>
            <a:off x="6451560" y="671400"/>
            <a:ext cx="1633680" cy="1721880"/>
            <a:chOff x="6451560" y="671400"/>
            <a:chExt cx="1633680" cy="1721880"/>
          </a:xfrm>
        </p:grpSpPr>
        <p:grpSp>
          <p:nvGrpSpPr>
            <p:cNvPr id="858" name="Group 25"/>
            <p:cNvGrpSpPr/>
            <p:nvPr/>
          </p:nvGrpSpPr>
          <p:grpSpPr>
            <a:xfrm>
              <a:off x="6670800" y="996840"/>
              <a:ext cx="1025280" cy="1049040"/>
              <a:chOff x="6670800" y="996840"/>
              <a:chExt cx="1025280" cy="1049040"/>
            </a:xfrm>
          </p:grpSpPr>
          <p:sp>
            <p:nvSpPr>
              <p:cNvPr id="859" name="Line 26"/>
              <p:cNvSpPr/>
              <p:nvPr/>
            </p:nvSpPr>
            <p:spPr>
              <a:xfrm flipH="1" flipV="1">
                <a:off x="7098840" y="1468080"/>
                <a:ext cx="3240" cy="577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60" name="Line 27"/>
              <p:cNvSpPr/>
              <p:nvPr/>
            </p:nvSpPr>
            <p:spPr>
              <a:xfrm flipV="1">
                <a:off x="7099200" y="1207440"/>
                <a:ext cx="447840" cy="279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61" name="Line 28"/>
              <p:cNvSpPr/>
              <p:nvPr/>
            </p:nvSpPr>
            <p:spPr>
              <a:xfrm>
                <a:off x="6670800" y="1133280"/>
                <a:ext cx="428400" cy="335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62" name="Line 29"/>
              <p:cNvSpPr/>
              <p:nvPr/>
            </p:nvSpPr>
            <p:spPr>
              <a:xfrm>
                <a:off x="7099200" y="1795320"/>
                <a:ext cx="2239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63" name="Line 30"/>
              <p:cNvSpPr/>
              <p:nvPr/>
            </p:nvSpPr>
            <p:spPr>
              <a:xfrm>
                <a:off x="7342200" y="1800000"/>
                <a:ext cx="0" cy="223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64" name="Line 31"/>
              <p:cNvSpPr/>
              <p:nvPr/>
            </p:nvSpPr>
            <p:spPr>
              <a:xfrm>
                <a:off x="6745320" y="996840"/>
                <a:ext cx="149040" cy="1317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65" name="Line 32"/>
              <p:cNvSpPr/>
              <p:nvPr/>
            </p:nvSpPr>
            <p:spPr>
              <a:xfrm flipH="1">
                <a:off x="6800760" y="1109520"/>
                <a:ext cx="93600" cy="1303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66" name="Line 33"/>
              <p:cNvSpPr/>
              <p:nvPr/>
            </p:nvSpPr>
            <p:spPr>
              <a:xfrm>
                <a:off x="7397640" y="1314360"/>
                <a:ext cx="130320" cy="168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67" name="Line 34"/>
              <p:cNvSpPr/>
              <p:nvPr/>
            </p:nvSpPr>
            <p:spPr>
              <a:xfrm flipV="1">
                <a:off x="7527960" y="1369440"/>
                <a:ext cx="168120" cy="1177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sp>
          <p:nvSpPr>
            <p:cNvPr id="868" name="Text Box 35"/>
            <p:cNvSpPr/>
            <p:nvPr/>
          </p:nvSpPr>
          <p:spPr>
            <a:xfrm>
              <a:off x="6451560" y="67140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69" name="Text Box 36"/>
            <p:cNvSpPr/>
            <p:nvPr/>
          </p:nvSpPr>
          <p:spPr>
            <a:xfrm>
              <a:off x="6997680" y="193356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70" name="Text Box 37"/>
            <p:cNvSpPr/>
            <p:nvPr/>
          </p:nvSpPr>
          <p:spPr>
            <a:xfrm>
              <a:off x="7648560" y="10303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F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  <p:sp>
        <p:nvSpPr>
          <p:cNvPr id="871" name="Rectangle 38"/>
          <p:cNvSpPr/>
          <p:nvPr/>
        </p:nvSpPr>
        <p:spPr>
          <a:xfrm>
            <a:off x="533520" y="2712960"/>
            <a:ext cx="7797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BM,CN,AH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且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D=PE=PF(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三角形的三条角平分线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并且这一点到三边的距离相等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)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72" name="Text Box 39"/>
          <p:cNvSpPr/>
          <p:nvPr/>
        </p:nvSpPr>
        <p:spPr>
          <a:xfrm>
            <a:off x="7173360" y="2484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H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Group 5"/>
          <p:cNvGrpSpPr/>
          <p:nvPr/>
        </p:nvGrpSpPr>
        <p:grpSpPr>
          <a:xfrm>
            <a:off x="1295280" y="0"/>
            <a:ext cx="3009960" cy="1523520"/>
            <a:chOff x="1295280" y="0"/>
            <a:chExt cx="3009960" cy="1523520"/>
          </a:xfrm>
        </p:grpSpPr>
        <p:pic>
          <p:nvPicPr>
            <p:cNvPr id="874" name="Picture 6" descr="AG00029_"/>
            <p:cNvPicPr/>
            <p:nvPr/>
          </p:nvPicPr>
          <p:blipFill>
            <a:blip r:embed="rId1"/>
            <a:stretch/>
          </p:blipFill>
          <p:spPr>
            <a:xfrm>
              <a:off x="2590920" y="8748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5" name="Group 7"/>
            <p:cNvGrpSpPr/>
            <p:nvPr/>
          </p:nvGrpSpPr>
          <p:grpSpPr>
            <a:xfrm>
              <a:off x="1295280" y="0"/>
              <a:ext cx="1295640" cy="1523520"/>
              <a:chOff x="1295280" y="0"/>
              <a:chExt cx="1295640" cy="1523520"/>
            </a:xfrm>
          </p:grpSpPr>
          <p:sp>
            <p:nvSpPr>
              <p:cNvPr id="876" name="AutoShape 8"/>
              <p:cNvSpPr/>
              <p:nvPr/>
            </p:nvSpPr>
            <p:spPr>
              <a:xfrm>
                <a:off x="1295280" y="0"/>
                <a:ext cx="126612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77" name="Text Box 9"/>
              <p:cNvSpPr/>
              <p:nvPr/>
            </p:nvSpPr>
            <p:spPr>
              <a:xfrm>
                <a:off x="1309320" y="57240"/>
                <a:ext cx="128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sp>
          <p:nvSpPr>
            <p:cNvPr id="878" name="Text Box 10"/>
            <p:cNvSpPr/>
            <p:nvPr/>
          </p:nvSpPr>
          <p:spPr>
            <a:xfrm>
              <a:off x="1447920" y="18252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1" lang="en-US" sz="32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1" lang="en-US" sz="32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  <p:sp>
        <p:nvSpPr>
          <p:cNvPr id="879" name="Rectangle 11"/>
          <p:cNvSpPr/>
          <p:nvPr/>
        </p:nvSpPr>
        <p:spPr>
          <a:xfrm>
            <a:off x="1295280" y="18288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复习题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4,6,7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题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endParaRPr b="1" lang="en-US" sz="4800" spc="-1" strike="noStrike">
              <a:solidFill>
                <a:srgbClr val="080808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80808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你成功！</a:t>
            </a:r>
            <a:endParaRPr b="1" lang="en-US" sz="60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050920" y="686880"/>
            <a:ext cx="50292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结束寄语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042560" y="1884240"/>
            <a:ext cx="7777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格性之于数学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犹如道德之于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证明的规范性在于：条理清晰，因果相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言必有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是初学证明者谨记和遵循的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685800" y="69696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定理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角平分线上的点到这个角的两边距离相等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684360" y="4221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老师提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这个结论是经常用来证明两条线段相等的根据之一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631800" y="1558800"/>
            <a:ext cx="487692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如图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∵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O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是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OB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平分线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P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是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O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上任意一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PD⊥OA,PE⊥OB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垂足分别是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D,E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已知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∴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PD=PE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角平分线上的点到这个角的两边距离相等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5599080" y="1413000"/>
            <a:ext cx="2886120" cy="2958840"/>
            <a:chOff x="5599080" y="1413000"/>
            <a:chExt cx="2886120" cy="2958840"/>
          </a:xfrm>
        </p:grpSpPr>
        <p:sp>
          <p:nvSpPr>
            <p:cNvPr id="555" name="Line 6"/>
            <p:cNvSpPr/>
            <p:nvPr/>
          </p:nvSpPr>
          <p:spPr>
            <a:xfrm flipH="1" flipV="1">
              <a:off x="7056000" y="2177640"/>
              <a:ext cx="438120" cy="682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56" name="Line 7"/>
            <p:cNvSpPr/>
            <p:nvPr/>
          </p:nvSpPr>
          <p:spPr>
            <a:xfrm>
              <a:off x="6859440" y="2307960"/>
              <a:ext cx="111240" cy="168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 flipV="1">
              <a:off x="6956280" y="2327040"/>
              <a:ext cx="209520" cy="1490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58" name="Text Box 9"/>
            <p:cNvSpPr/>
            <p:nvPr/>
          </p:nvSpPr>
          <p:spPr>
            <a:xfrm>
              <a:off x="8028000" y="2784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C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59" name="Text Box 10"/>
            <p:cNvSpPr/>
            <p:nvPr/>
          </p:nvSpPr>
          <p:spPr>
            <a:xfrm>
              <a:off x="7342200" y="385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B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0" name="Text Box 11"/>
            <p:cNvSpPr/>
            <p:nvPr/>
          </p:nvSpPr>
          <p:spPr>
            <a:xfrm>
              <a:off x="6427800" y="2479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1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1" name="Text Box 12"/>
            <p:cNvSpPr/>
            <p:nvPr/>
          </p:nvSpPr>
          <p:spPr>
            <a:xfrm>
              <a:off x="7331040" y="1413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A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2" name="Line 13"/>
            <p:cNvSpPr/>
            <p:nvPr/>
          </p:nvSpPr>
          <p:spPr>
            <a:xfrm>
              <a:off x="5970600" y="2860560"/>
              <a:ext cx="21337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3" name="Line 14"/>
            <p:cNvSpPr/>
            <p:nvPr/>
          </p:nvSpPr>
          <p:spPr>
            <a:xfrm flipH="1">
              <a:off x="5970600" y="1869840"/>
              <a:ext cx="1589040" cy="9903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4" name="Line 15"/>
            <p:cNvSpPr/>
            <p:nvPr/>
          </p:nvSpPr>
          <p:spPr>
            <a:xfrm flipH="1" flipV="1">
              <a:off x="5981760" y="2860200"/>
              <a:ext cx="1589040" cy="9903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5" name="Arc 16"/>
            <p:cNvSpPr/>
            <p:nvPr/>
          </p:nvSpPr>
          <p:spPr>
            <a:xfrm>
              <a:off x="6351480" y="2631960"/>
              <a:ext cx="150840" cy="22824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6" name="Arc 17"/>
            <p:cNvSpPr/>
            <p:nvPr/>
          </p:nvSpPr>
          <p:spPr>
            <a:xfrm>
              <a:off x="6275520" y="2860560"/>
              <a:ext cx="75960" cy="19656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6427800" y="2784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2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8" name="Text Box 19"/>
            <p:cNvSpPr/>
            <p:nvPr/>
          </p:nvSpPr>
          <p:spPr>
            <a:xfrm>
              <a:off x="7491240" y="24476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P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9" name="Line 20"/>
            <p:cNvSpPr/>
            <p:nvPr/>
          </p:nvSpPr>
          <p:spPr>
            <a:xfrm flipH="1">
              <a:off x="7052760" y="2863800"/>
              <a:ext cx="438120" cy="682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70" name="Line 21"/>
            <p:cNvSpPr/>
            <p:nvPr/>
          </p:nvSpPr>
          <p:spPr>
            <a:xfrm flipV="1">
              <a:off x="6870600" y="3272760"/>
              <a:ext cx="111240" cy="168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71" name="Line 22"/>
            <p:cNvSpPr/>
            <p:nvPr/>
          </p:nvSpPr>
          <p:spPr>
            <a:xfrm>
              <a:off x="6967440" y="3249360"/>
              <a:ext cx="209520" cy="1490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72" name="Text Box 23"/>
            <p:cNvSpPr/>
            <p:nvPr/>
          </p:nvSpPr>
          <p:spPr>
            <a:xfrm>
              <a:off x="6767640" y="1793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D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73" name="Text Box 24"/>
            <p:cNvSpPr/>
            <p:nvPr/>
          </p:nvSpPr>
          <p:spPr>
            <a:xfrm>
              <a:off x="6770520" y="3470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E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74" name="Text Box 25"/>
            <p:cNvSpPr/>
            <p:nvPr/>
          </p:nvSpPr>
          <p:spPr>
            <a:xfrm>
              <a:off x="5599080" y="25588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O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503280" y="647640"/>
            <a:ext cx="8031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逆定理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一个角的内部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且到角的两边距离               相等的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这个角的平分线上</a:t>
            </a:r>
            <a:r>
              <a:rPr b="1" lang="en-US" sz="2800" spc="-1" strike="noStrike">
                <a:solidFill>
                  <a:srgbClr val="5b5249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762120" y="1579680"/>
            <a:ext cx="5489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如图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∵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PD=PE, PD⊥OA,PE⊥OB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垂足分别是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D,E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已知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,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∴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P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OB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平分线上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一个角的内部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且到角的两边距离相等的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这个角的平分线上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762120" y="4094280"/>
            <a:ext cx="77724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老师提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这个结论又是经常用来证明点在直线上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或直线经过某一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根据之一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578" name="Group 5"/>
          <p:cNvGrpSpPr/>
          <p:nvPr/>
        </p:nvGrpSpPr>
        <p:grpSpPr>
          <a:xfrm>
            <a:off x="5770440" y="1386000"/>
            <a:ext cx="2886120" cy="2958840"/>
            <a:chOff x="5770440" y="1386000"/>
            <a:chExt cx="2886120" cy="2958840"/>
          </a:xfrm>
        </p:grpSpPr>
        <p:sp>
          <p:nvSpPr>
            <p:cNvPr id="579" name="Line 6"/>
            <p:cNvSpPr/>
            <p:nvPr/>
          </p:nvSpPr>
          <p:spPr>
            <a:xfrm flipH="1" flipV="1">
              <a:off x="7227360" y="2150640"/>
              <a:ext cx="438120" cy="682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0" name="Line 7"/>
            <p:cNvSpPr/>
            <p:nvPr/>
          </p:nvSpPr>
          <p:spPr>
            <a:xfrm>
              <a:off x="7030800" y="2280960"/>
              <a:ext cx="111240" cy="168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1" name="Line 8"/>
            <p:cNvSpPr/>
            <p:nvPr/>
          </p:nvSpPr>
          <p:spPr>
            <a:xfrm flipV="1">
              <a:off x="7127640" y="2300040"/>
              <a:ext cx="209520" cy="1490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2" name="Text Box 9"/>
            <p:cNvSpPr/>
            <p:nvPr/>
          </p:nvSpPr>
          <p:spPr>
            <a:xfrm>
              <a:off x="8199360" y="2757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C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3" name="Text Box 10"/>
            <p:cNvSpPr/>
            <p:nvPr/>
          </p:nvSpPr>
          <p:spPr>
            <a:xfrm>
              <a:off x="7513560" y="38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B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4" name="Text Box 11"/>
            <p:cNvSpPr/>
            <p:nvPr/>
          </p:nvSpPr>
          <p:spPr>
            <a:xfrm>
              <a:off x="6599160" y="24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1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5" name="Text Box 12"/>
            <p:cNvSpPr/>
            <p:nvPr/>
          </p:nvSpPr>
          <p:spPr>
            <a:xfrm>
              <a:off x="7502400" y="1386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A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6" name="Line 13"/>
            <p:cNvSpPr/>
            <p:nvPr/>
          </p:nvSpPr>
          <p:spPr>
            <a:xfrm>
              <a:off x="6141960" y="2833560"/>
              <a:ext cx="21337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7" name="Line 14"/>
            <p:cNvSpPr/>
            <p:nvPr/>
          </p:nvSpPr>
          <p:spPr>
            <a:xfrm flipH="1">
              <a:off x="6141960" y="1842840"/>
              <a:ext cx="1589040" cy="9903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8" name="Line 15"/>
            <p:cNvSpPr/>
            <p:nvPr/>
          </p:nvSpPr>
          <p:spPr>
            <a:xfrm flipH="1" flipV="1">
              <a:off x="6153120" y="2833200"/>
              <a:ext cx="1589040" cy="9903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9" name="Arc 16"/>
            <p:cNvSpPr/>
            <p:nvPr/>
          </p:nvSpPr>
          <p:spPr>
            <a:xfrm>
              <a:off x="6522840" y="2604960"/>
              <a:ext cx="150840" cy="22824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0" name="Arc 17"/>
            <p:cNvSpPr/>
            <p:nvPr/>
          </p:nvSpPr>
          <p:spPr>
            <a:xfrm>
              <a:off x="6446880" y="2833560"/>
              <a:ext cx="75960" cy="19656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1" name="Text Box 18"/>
            <p:cNvSpPr/>
            <p:nvPr/>
          </p:nvSpPr>
          <p:spPr>
            <a:xfrm>
              <a:off x="6599160" y="2757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2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2" name="Text Box 19"/>
            <p:cNvSpPr/>
            <p:nvPr/>
          </p:nvSpPr>
          <p:spPr>
            <a:xfrm>
              <a:off x="7662600" y="24206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P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3" name="Line 20"/>
            <p:cNvSpPr/>
            <p:nvPr/>
          </p:nvSpPr>
          <p:spPr>
            <a:xfrm flipH="1">
              <a:off x="7224120" y="2836800"/>
              <a:ext cx="438120" cy="682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4" name="Line 21"/>
            <p:cNvSpPr/>
            <p:nvPr/>
          </p:nvSpPr>
          <p:spPr>
            <a:xfrm flipV="1">
              <a:off x="7041960" y="3245760"/>
              <a:ext cx="111240" cy="168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5" name="Line 22"/>
            <p:cNvSpPr/>
            <p:nvPr/>
          </p:nvSpPr>
          <p:spPr>
            <a:xfrm>
              <a:off x="7138800" y="3222360"/>
              <a:ext cx="209520" cy="1490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6" name="Text Box 23"/>
            <p:cNvSpPr/>
            <p:nvPr/>
          </p:nvSpPr>
          <p:spPr>
            <a:xfrm>
              <a:off x="6939000" y="17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D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7" name="Text Box 24"/>
            <p:cNvSpPr/>
            <p:nvPr/>
          </p:nvSpPr>
          <p:spPr>
            <a:xfrm>
              <a:off x="6941880" y="3443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E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8" name="Text Box 25"/>
            <p:cNvSpPr/>
            <p:nvPr/>
          </p:nvSpPr>
          <p:spPr>
            <a:xfrm>
              <a:off x="5770440" y="25318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O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85716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二  探究新知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652320" y="901800"/>
            <a:ext cx="5227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剪一个三角形纸片通过折叠找出每个角的平分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01" name="Rectangle 179"/>
          <p:cNvSpPr/>
          <p:nvPr/>
        </p:nvSpPr>
        <p:spPr>
          <a:xfrm>
            <a:off x="762120" y="3254400"/>
            <a:ext cx="77706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结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三角形三个角的平分线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02" name="Rectangle 182"/>
          <p:cNvSpPr/>
          <p:nvPr/>
        </p:nvSpPr>
        <p:spPr>
          <a:xfrm>
            <a:off x="652320" y="4657680"/>
            <a:ext cx="7770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03" name="Rectangle 184"/>
          <p:cNvSpPr/>
          <p:nvPr/>
        </p:nvSpPr>
        <p:spPr>
          <a:xfrm>
            <a:off x="401760" y="4005360"/>
            <a:ext cx="529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想证明这个命题吗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?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04" name="Rectangle 190"/>
          <p:cNvSpPr/>
          <p:nvPr/>
        </p:nvSpPr>
        <p:spPr>
          <a:xfrm>
            <a:off x="652320" y="2108160"/>
            <a:ext cx="50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观察这三条角平分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发现了什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?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605" name="Group 212"/>
          <p:cNvGrpSpPr/>
          <p:nvPr/>
        </p:nvGrpSpPr>
        <p:grpSpPr>
          <a:xfrm>
            <a:off x="5694480" y="638280"/>
            <a:ext cx="2568600" cy="2449440"/>
            <a:chOff x="5694480" y="638280"/>
            <a:chExt cx="2568600" cy="2449440"/>
          </a:xfrm>
        </p:grpSpPr>
        <p:sp>
          <p:nvSpPr>
            <p:cNvPr id="606" name="Line 213"/>
            <p:cNvSpPr/>
            <p:nvPr/>
          </p:nvSpPr>
          <p:spPr>
            <a:xfrm flipH="1">
              <a:off x="6946560" y="638280"/>
              <a:ext cx="179640" cy="244944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07" name="Line 214"/>
            <p:cNvSpPr/>
            <p:nvPr/>
          </p:nvSpPr>
          <p:spPr>
            <a:xfrm flipV="1">
              <a:off x="5694480" y="1456920"/>
              <a:ext cx="2319480" cy="110988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08" name="Line 215"/>
            <p:cNvSpPr/>
            <p:nvPr/>
          </p:nvSpPr>
          <p:spPr>
            <a:xfrm>
              <a:off x="5891400" y="1335240"/>
              <a:ext cx="2371680" cy="128088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09" name="Line 216"/>
            <p:cNvSpPr/>
            <p:nvPr/>
          </p:nvSpPr>
          <p:spPr>
            <a:xfrm>
              <a:off x="5880240" y="2478240"/>
              <a:ext cx="21337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10" name="Line 217"/>
            <p:cNvSpPr/>
            <p:nvPr/>
          </p:nvSpPr>
          <p:spPr>
            <a:xfrm>
              <a:off x="7097760" y="941400"/>
              <a:ext cx="885960" cy="15238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11" name="Line 218"/>
            <p:cNvSpPr/>
            <p:nvPr/>
          </p:nvSpPr>
          <p:spPr>
            <a:xfrm flipV="1">
              <a:off x="5880240" y="941040"/>
              <a:ext cx="1219320" cy="15368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  <p:sp>
        <p:nvSpPr>
          <p:cNvPr id="612" name="Rectangle 220"/>
          <p:cNvSpPr/>
          <p:nvPr/>
        </p:nvSpPr>
        <p:spPr>
          <a:xfrm>
            <a:off x="1861920" y="465768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能证明这个命题吗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?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0"/>
          <p:cNvSpPr/>
          <p:nvPr/>
        </p:nvSpPr>
        <p:spPr>
          <a:xfrm>
            <a:off x="539640" y="730080"/>
            <a:ext cx="468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利用尺规作出三角形三个角的角平分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14" name="Rectangle 11"/>
          <p:cNvSpPr/>
          <p:nvPr/>
        </p:nvSpPr>
        <p:spPr>
          <a:xfrm>
            <a:off x="652320" y="3179880"/>
            <a:ext cx="756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结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三角形三个角的角平分线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971640" y="4653000"/>
            <a:ext cx="7504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老师期望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能写出规范的证明过程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16" name="Rectangle 13"/>
          <p:cNvSpPr/>
          <p:nvPr/>
        </p:nvSpPr>
        <p:spPr>
          <a:xfrm>
            <a:off x="652320" y="4022640"/>
            <a:ext cx="7697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想证明这个命题吗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能证明这个命题吗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?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17" name="Rectangle 20"/>
          <p:cNvSpPr/>
          <p:nvPr/>
        </p:nvSpPr>
        <p:spPr>
          <a:xfrm>
            <a:off x="539640" y="1978200"/>
            <a:ext cx="4876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再观察这三条角平分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又发现了什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与同伴交流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618" name="Group 39"/>
          <p:cNvGrpSpPr/>
          <p:nvPr/>
        </p:nvGrpSpPr>
        <p:grpSpPr>
          <a:xfrm>
            <a:off x="5648400" y="730080"/>
            <a:ext cx="2568600" cy="2449440"/>
            <a:chOff x="5648400" y="730080"/>
            <a:chExt cx="2568600" cy="2449440"/>
          </a:xfrm>
        </p:grpSpPr>
        <p:sp>
          <p:nvSpPr>
            <p:cNvPr id="619" name="Line 40"/>
            <p:cNvSpPr/>
            <p:nvPr/>
          </p:nvSpPr>
          <p:spPr>
            <a:xfrm flipH="1">
              <a:off x="6900480" y="730080"/>
              <a:ext cx="179640" cy="244944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20" name="Line 41"/>
            <p:cNvSpPr/>
            <p:nvPr/>
          </p:nvSpPr>
          <p:spPr>
            <a:xfrm flipV="1">
              <a:off x="5648400" y="1548720"/>
              <a:ext cx="2319480" cy="110988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21" name="Line 42"/>
            <p:cNvSpPr/>
            <p:nvPr/>
          </p:nvSpPr>
          <p:spPr>
            <a:xfrm>
              <a:off x="5845320" y="1427040"/>
              <a:ext cx="2371680" cy="128088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22" name="Line 43"/>
            <p:cNvSpPr/>
            <p:nvPr/>
          </p:nvSpPr>
          <p:spPr>
            <a:xfrm>
              <a:off x="5834160" y="2570040"/>
              <a:ext cx="21337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23" name="Line 44"/>
            <p:cNvSpPr/>
            <p:nvPr/>
          </p:nvSpPr>
          <p:spPr>
            <a:xfrm>
              <a:off x="7051680" y="1033200"/>
              <a:ext cx="885960" cy="15238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24" name="Line 45"/>
            <p:cNvSpPr/>
            <p:nvPr/>
          </p:nvSpPr>
          <p:spPr>
            <a:xfrm flipV="1">
              <a:off x="5834160" y="1032840"/>
              <a:ext cx="1219320" cy="15368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1122"/>
          <p:cNvGrpSpPr/>
          <p:nvPr/>
        </p:nvGrpSpPr>
        <p:grpSpPr>
          <a:xfrm>
            <a:off x="634680" y="431640"/>
            <a:ext cx="2717640" cy="2059920"/>
            <a:chOff x="634680" y="431640"/>
            <a:chExt cx="2717640" cy="2059920"/>
          </a:xfrm>
        </p:grpSpPr>
        <p:grpSp>
          <p:nvGrpSpPr>
            <p:cNvPr id="626" name="Group 1123"/>
            <p:cNvGrpSpPr/>
            <p:nvPr/>
          </p:nvGrpSpPr>
          <p:grpSpPr>
            <a:xfrm>
              <a:off x="634680" y="431640"/>
              <a:ext cx="2717640" cy="2059920"/>
              <a:chOff x="634680" y="431640"/>
              <a:chExt cx="2717640" cy="2059920"/>
            </a:xfrm>
          </p:grpSpPr>
          <p:grpSp>
            <p:nvGrpSpPr>
              <p:cNvPr id="627" name="Group 1124"/>
              <p:cNvGrpSpPr/>
              <p:nvPr/>
            </p:nvGrpSpPr>
            <p:grpSpPr>
              <a:xfrm>
                <a:off x="723960" y="431640"/>
                <a:ext cx="1218960" cy="2059920"/>
                <a:chOff x="723960" y="431640"/>
                <a:chExt cx="1218960" cy="2059920"/>
              </a:xfrm>
            </p:grpSpPr>
            <p:sp>
              <p:nvSpPr>
                <p:cNvPr id="628" name="AutoShape 1125"/>
                <p:cNvSpPr/>
                <p:nvPr/>
              </p:nvSpPr>
              <p:spPr>
                <a:xfrm>
                  <a:off x="723960" y="431640"/>
                  <a:ext cx="1191240" cy="2059920"/>
                </a:xfrm>
                <a:prstGeom prst="horizontalScroll">
                  <a:avLst>
                    <a:gd name="adj" fmla="val 12500"/>
                  </a:avLst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29" name="Text Box 1126"/>
                <p:cNvSpPr/>
                <p:nvPr/>
              </p:nvSpPr>
              <p:spPr>
                <a:xfrm>
                  <a:off x="738000" y="611280"/>
                  <a:ext cx="1204920" cy="58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  <p:sp>
            <p:nvSpPr>
              <p:cNvPr id="630" name="Text Box 1127"/>
              <p:cNvSpPr/>
              <p:nvPr/>
            </p:nvSpPr>
            <p:spPr>
              <a:xfrm>
                <a:off x="634680" y="587160"/>
                <a:ext cx="1155240" cy="17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思考分析</a:t>
                </a:r>
                <a:endParaRPr b="1" lang="en-US" sz="32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pic>
            <p:nvPicPr>
              <p:cNvPr id="631" name="Picture 1128" descr="ry03tzf4[1]"/>
              <p:cNvPicPr/>
              <p:nvPr/>
            </p:nvPicPr>
            <p:blipFill>
              <a:blip r:embed="rId2"/>
              <a:stretch/>
            </p:blipFill>
            <p:spPr>
              <a:xfrm>
                <a:off x="1942920" y="510840"/>
                <a:ext cx="1409400" cy="1809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2" name="Picture 1129" descr="Q_011"/>
            <p:cNvPicPr/>
            <p:nvPr/>
          </p:nvPicPr>
          <p:blipFill>
            <a:blip r:embed="rId3"/>
            <a:stretch/>
          </p:blipFill>
          <p:spPr>
            <a:xfrm>
              <a:off x="2286000" y="660240"/>
              <a:ext cx="3268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Rectangle 1130"/>
          <p:cNvSpPr/>
          <p:nvPr/>
        </p:nvSpPr>
        <p:spPr>
          <a:xfrm>
            <a:off x="876240" y="2492280"/>
            <a:ext cx="751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命题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三角形三个角的平分线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34" name="Rectangle 1131"/>
          <p:cNvSpPr/>
          <p:nvPr/>
        </p:nvSpPr>
        <p:spPr>
          <a:xfrm>
            <a:off x="723960" y="3213000"/>
            <a:ext cx="78804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基本思路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我们知道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两条直线相交只有一个交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要想证明三条直线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只要能证明两条直线的交点在第三条直线上即可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这时可以考   虑前面刚刚学到的逆定理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35" name="Rectangle 1236"/>
          <p:cNvSpPr/>
          <p:nvPr/>
        </p:nvSpPr>
        <p:spPr>
          <a:xfrm>
            <a:off x="3352680" y="925560"/>
            <a:ext cx="46753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36" name="Rectangle 1237"/>
          <p:cNvSpPr/>
          <p:nvPr/>
        </p:nvSpPr>
        <p:spPr>
          <a:xfrm>
            <a:off x="3352680" y="932040"/>
            <a:ext cx="52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如何证三条直线交于一点？</a:t>
            </a:r>
            <a:endParaRPr b="1" lang="en-US" sz="3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4"/>
          <p:cNvGrpSpPr/>
          <p:nvPr/>
        </p:nvGrpSpPr>
        <p:grpSpPr>
          <a:xfrm>
            <a:off x="5722920" y="1509840"/>
            <a:ext cx="3112920" cy="2449440"/>
            <a:chOff x="5722920" y="1509840"/>
            <a:chExt cx="3112920" cy="2449440"/>
          </a:xfrm>
        </p:grpSpPr>
        <p:grpSp>
          <p:nvGrpSpPr>
            <p:cNvPr id="638" name="Group 5"/>
            <p:cNvGrpSpPr/>
            <p:nvPr/>
          </p:nvGrpSpPr>
          <p:grpSpPr>
            <a:xfrm>
              <a:off x="5722920" y="1509840"/>
              <a:ext cx="3112920" cy="2449440"/>
              <a:chOff x="5722920" y="1509840"/>
              <a:chExt cx="3112920" cy="2449440"/>
            </a:xfrm>
          </p:grpSpPr>
          <p:grpSp>
            <p:nvGrpSpPr>
              <p:cNvPr id="639" name="Group 6"/>
              <p:cNvGrpSpPr/>
              <p:nvPr/>
            </p:nvGrpSpPr>
            <p:grpSpPr>
              <a:xfrm>
                <a:off x="6148440" y="1812600"/>
                <a:ext cx="2133360" cy="1537200"/>
                <a:chOff x="6148440" y="1812600"/>
                <a:chExt cx="2133360" cy="1537200"/>
              </a:xfrm>
            </p:grpSpPr>
            <p:sp>
              <p:nvSpPr>
                <p:cNvPr id="640" name="Line 7"/>
                <p:cNvSpPr/>
                <p:nvPr/>
              </p:nvSpPr>
              <p:spPr>
                <a:xfrm>
                  <a:off x="6148440" y="3349800"/>
                  <a:ext cx="213336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41" name="Line 8"/>
                <p:cNvSpPr/>
                <p:nvPr/>
              </p:nvSpPr>
              <p:spPr>
                <a:xfrm>
                  <a:off x="7365600" y="1812960"/>
                  <a:ext cx="885600" cy="1523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42" name="Line 9"/>
                <p:cNvSpPr/>
                <p:nvPr/>
              </p:nvSpPr>
              <p:spPr>
                <a:xfrm flipV="1">
                  <a:off x="6148440" y="1812600"/>
                  <a:ext cx="1218960" cy="15368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  <p:sp>
            <p:nvSpPr>
              <p:cNvPr id="643" name="Text Box 10"/>
              <p:cNvSpPr/>
              <p:nvPr/>
            </p:nvSpPr>
            <p:spPr>
              <a:xfrm>
                <a:off x="7007040" y="15098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5722920" y="3044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45" name="Text Box 12"/>
              <p:cNvSpPr/>
              <p:nvPr/>
            </p:nvSpPr>
            <p:spPr>
              <a:xfrm>
                <a:off x="8302680" y="31212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46" name="Text Box 13"/>
              <p:cNvSpPr/>
              <p:nvPr/>
            </p:nvSpPr>
            <p:spPr>
              <a:xfrm>
                <a:off x="7007040" y="23180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  <a:ea typeface="宋体"/>
                  </a:rPr>
                  <a:t>P</a:t>
                </a:r>
                <a:endParaRPr b="1" lang="en-US" sz="24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grpSp>
            <p:nvGrpSpPr>
              <p:cNvPr id="647" name="Group 14"/>
              <p:cNvGrpSpPr/>
              <p:nvPr/>
            </p:nvGrpSpPr>
            <p:grpSpPr>
              <a:xfrm>
                <a:off x="5962680" y="1509840"/>
                <a:ext cx="2568600" cy="2449440"/>
                <a:chOff x="5962680" y="1509840"/>
                <a:chExt cx="2568600" cy="2449440"/>
              </a:xfrm>
            </p:grpSpPr>
            <p:sp>
              <p:nvSpPr>
                <p:cNvPr id="648" name="Line 15"/>
                <p:cNvSpPr/>
                <p:nvPr/>
              </p:nvSpPr>
              <p:spPr>
                <a:xfrm flipH="1">
                  <a:off x="7214760" y="1509840"/>
                  <a:ext cx="179640" cy="24494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49" name="Line 16"/>
                <p:cNvSpPr/>
                <p:nvPr/>
              </p:nvSpPr>
              <p:spPr>
                <a:xfrm flipV="1">
                  <a:off x="5962680" y="2328480"/>
                  <a:ext cx="2319480" cy="1109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50" name="Line 17"/>
                <p:cNvSpPr/>
                <p:nvPr/>
              </p:nvSpPr>
              <p:spPr>
                <a:xfrm>
                  <a:off x="6159600" y="2206800"/>
                  <a:ext cx="2371680" cy="1280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51" name="Line 18"/>
                <p:cNvSpPr/>
                <p:nvPr/>
              </p:nvSpPr>
              <p:spPr>
                <a:xfrm>
                  <a:off x="6148440" y="3349800"/>
                  <a:ext cx="213372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52" name="Line 19"/>
                <p:cNvSpPr/>
                <p:nvPr/>
              </p:nvSpPr>
              <p:spPr>
                <a:xfrm>
                  <a:off x="7365960" y="1812960"/>
                  <a:ext cx="885960" cy="1523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53" name="Line 20"/>
                <p:cNvSpPr/>
                <p:nvPr/>
              </p:nvSpPr>
              <p:spPr>
                <a:xfrm flipV="1">
                  <a:off x="6148440" y="1812600"/>
                  <a:ext cx="1219320" cy="15368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</p:grpSp>
        <p:sp>
          <p:nvSpPr>
            <p:cNvPr id="654" name="Text Box 21"/>
            <p:cNvSpPr/>
            <p:nvPr/>
          </p:nvSpPr>
          <p:spPr>
            <a:xfrm>
              <a:off x="7769160" y="20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M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55" name="Text Box 22"/>
            <p:cNvSpPr/>
            <p:nvPr/>
          </p:nvSpPr>
          <p:spPr>
            <a:xfrm>
              <a:off x="6397560" y="20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N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  <p:grpSp>
        <p:nvGrpSpPr>
          <p:cNvPr id="656" name="Group 23"/>
          <p:cNvGrpSpPr/>
          <p:nvPr/>
        </p:nvGrpSpPr>
        <p:grpSpPr>
          <a:xfrm>
            <a:off x="6629400" y="1967040"/>
            <a:ext cx="1633680" cy="1721520"/>
            <a:chOff x="6629400" y="1967040"/>
            <a:chExt cx="1633680" cy="1721520"/>
          </a:xfrm>
        </p:grpSpPr>
        <p:grpSp>
          <p:nvGrpSpPr>
            <p:cNvPr id="657" name="Group 24"/>
            <p:cNvGrpSpPr/>
            <p:nvPr/>
          </p:nvGrpSpPr>
          <p:grpSpPr>
            <a:xfrm>
              <a:off x="6848640" y="2292120"/>
              <a:ext cx="1025280" cy="1048680"/>
              <a:chOff x="6848640" y="2292120"/>
              <a:chExt cx="1025280" cy="1048680"/>
            </a:xfrm>
          </p:grpSpPr>
          <p:sp>
            <p:nvSpPr>
              <p:cNvPr id="658" name="Line 25"/>
              <p:cNvSpPr/>
              <p:nvPr/>
            </p:nvSpPr>
            <p:spPr>
              <a:xfrm flipH="1" flipV="1">
                <a:off x="7276680" y="2763360"/>
                <a:ext cx="3240" cy="577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59" name="Line 26"/>
              <p:cNvSpPr/>
              <p:nvPr/>
            </p:nvSpPr>
            <p:spPr>
              <a:xfrm flipV="1">
                <a:off x="7277040" y="2502720"/>
                <a:ext cx="447840" cy="279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60" name="Line 27"/>
              <p:cNvSpPr/>
              <p:nvPr/>
            </p:nvSpPr>
            <p:spPr>
              <a:xfrm>
                <a:off x="6848640" y="2428200"/>
                <a:ext cx="428400" cy="334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61" name="Line 28"/>
              <p:cNvSpPr/>
              <p:nvPr/>
            </p:nvSpPr>
            <p:spPr>
              <a:xfrm>
                <a:off x="7277040" y="3090240"/>
                <a:ext cx="223920" cy="4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62" name="Line 29"/>
              <p:cNvSpPr/>
              <p:nvPr/>
            </p:nvSpPr>
            <p:spPr>
              <a:xfrm>
                <a:off x="7520040" y="3094920"/>
                <a:ext cx="0" cy="2235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63" name="Line 30"/>
              <p:cNvSpPr/>
              <p:nvPr/>
            </p:nvSpPr>
            <p:spPr>
              <a:xfrm>
                <a:off x="6923160" y="2292120"/>
                <a:ext cx="149040" cy="131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64" name="Line 31"/>
              <p:cNvSpPr/>
              <p:nvPr/>
            </p:nvSpPr>
            <p:spPr>
              <a:xfrm flipH="1">
                <a:off x="6978600" y="2404440"/>
                <a:ext cx="93600" cy="1299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65" name="Line 32"/>
              <p:cNvSpPr/>
              <p:nvPr/>
            </p:nvSpPr>
            <p:spPr>
              <a:xfrm>
                <a:off x="7575480" y="2609280"/>
                <a:ext cx="130320" cy="1677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66" name="Line 33"/>
              <p:cNvSpPr/>
              <p:nvPr/>
            </p:nvSpPr>
            <p:spPr>
              <a:xfrm flipV="1">
                <a:off x="7705800" y="2664720"/>
                <a:ext cx="168120" cy="1173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sp>
          <p:nvSpPr>
            <p:cNvPr id="667" name="Text Box 34"/>
            <p:cNvSpPr/>
            <p:nvPr/>
          </p:nvSpPr>
          <p:spPr>
            <a:xfrm>
              <a:off x="6629400" y="196704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68" name="Text Box 35"/>
            <p:cNvSpPr/>
            <p:nvPr/>
          </p:nvSpPr>
          <p:spPr>
            <a:xfrm>
              <a:off x="7175520" y="322884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69" name="Text Box 36"/>
            <p:cNvSpPr/>
            <p:nvPr/>
          </p:nvSpPr>
          <p:spPr>
            <a:xfrm>
              <a:off x="7826400" y="232560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F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457200" y="655200"/>
            <a:ext cx="8026560" cy="16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如图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设△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的角平分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BM,CN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相交于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P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过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分别作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BC,AC,AB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的垂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垂足分别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E,F,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1" name="Rectangle 38"/>
          <p:cNvSpPr/>
          <p:nvPr/>
        </p:nvSpPr>
        <p:spPr>
          <a:xfrm>
            <a:off x="671400" y="1708200"/>
            <a:ext cx="5950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∵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BM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是△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的角平分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在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BM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上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72" name="Rectangle 39"/>
          <p:cNvSpPr/>
          <p:nvPr/>
        </p:nvSpPr>
        <p:spPr>
          <a:xfrm>
            <a:off x="817560" y="2246400"/>
            <a:ext cx="5376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D=PE(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角平分线上的点到这个角的两边距离相等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)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73" name="Rectangle 40"/>
          <p:cNvSpPr/>
          <p:nvPr/>
        </p:nvSpPr>
        <p:spPr>
          <a:xfrm>
            <a:off x="817560" y="3252960"/>
            <a:ext cx="55627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同理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,PE=PF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∴PD=PF</a:t>
            </a:r>
            <a:r>
              <a:rPr b="0" lang="en-US" sz="2800" spc="-1" strike="noStrike">
                <a:solidFill>
                  <a:srgbClr val="5b5249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74" name="Rectangle 42"/>
          <p:cNvSpPr/>
          <p:nvPr/>
        </p:nvSpPr>
        <p:spPr>
          <a:xfrm>
            <a:off x="671400" y="3686040"/>
            <a:ext cx="7812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∴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在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BAC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的平分线上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在一个角的内部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且    到角两边距离相等的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在这个角的平分线上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)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75" name="Rectangle 43"/>
          <p:cNvSpPr/>
          <p:nvPr/>
        </p:nvSpPr>
        <p:spPr>
          <a:xfrm>
            <a:off x="1079640" y="4809960"/>
            <a:ext cx="60958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∴△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的三条角平分线相交于一点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P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4T01:52:34Z</dcterms:created>
  <dc:creator/>
  <dc:description/>
  <dc:language>en-US</dc:language>
  <cp:lastModifiedBy/>
  <dcterms:modified xsi:type="dcterms:W3CDTF">2014-02-24T01:52:41Z</dcterms:modified>
  <cp:revision>1</cp:revision>
  <dc:subject/>
  <dc:title/>
</cp:coreProperties>
</file>