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notesMasterIdLst>
    <p:notesMasterId r:id="rId26"/>
  </p:notesMasterIdLst>
  <p:sldIdLst>
    <p:sldId id="256" r:id="rId27"/>
    <p:sldId id="257" r:id="rId28"/>
    <p:sldId id="258" r:id="rId29"/>
    <p:sldId id="259" r:id="rId30"/>
    <p:sldId id="260" r:id="rId31"/>
    <p:sldId id="261" r:id="rId32"/>
    <p:sldId id="262" r:id="rId33"/>
    <p:sldId id="263" r:id="rId34"/>
    <p:sldId id="264" r:id="rId35"/>
    <p:sldId id="265" r:id="rId36"/>
    <p:sldId id="266" r:id="rId37"/>
    <p:sldId id="267" r:id="rId38"/>
    <p:sldId id="268" r:id="rId39"/>
    <p:sldId id="269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notesMaster" Target="notesMasters/notesMaster1.xml"/><Relationship Id="rId27" Type="http://schemas.openxmlformats.org/officeDocument/2006/relationships/slide" Target="slides/slide1.xml"/><Relationship Id="rId28" Type="http://schemas.openxmlformats.org/officeDocument/2006/relationships/slide" Target="slides/slide2.xml"/><Relationship Id="rId29" Type="http://schemas.openxmlformats.org/officeDocument/2006/relationships/slide" Target="slides/slide3.xml"/><Relationship Id="rId30" Type="http://schemas.openxmlformats.org/officeDocument/2006/relationships/slide" Target="slides/slide4.xml"/><Relationship Id="rId31" Type="http://schemas.openxmlformats.org/officeDocument/2006/relationships/slide" Target="slides/slide5.xml"/><Relationship Id="rId32" Type="http://schemas.openxmlformats.org/officeDocument/2006/relationships/slide" Target="slides/slide6.xml"/><Relationship Id="rId33" Type="http://schemas.openxmlformats.org/officeDocument/2006/relationships/slide" Target="slides/slide7.xml"/><Relationship Id="rId34" Type="http://schemas.openxmlformats.org/officeDocument/2006/relationships/slide" Target="slides/slide8.xml"/><Relationship Id="rId35" Type="http://schemas.openxmlformats.org/officeDocument/2006/relationships/slide" Target="slides/slide9.xml"/><Relationship Id="rId36" Type="http://schemas.openxmlformats.org/officeDocument/2006/relationships/slide" Target="slides/slide10.xml"/><Relationship Id="rId37" Type="http://schemas.openxmlformats.org/officeDocument/2006/relationships/slide" Target="slides/slide11.xml"/><Relationship Id="rId38" Type="http://schemas.openxmlformats.org/officeDocument/2006/relationships/slide" Target="slides/slide12.xml"/><Relationship Id="rId39" Type="http://schemas.openxmlformats.org/officeDocument/2006/relationships/slide" Target="slides/slide13.xml"/><Relationship Id="rId40" Type="http://schemas.openxmlformats.org/officeDocument/2006/relationships/slide" Target="slides/slide14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 type="dt" idx="7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PlaceHolder 5"/>
          <p:cNvSpPr>
            <a:spLocks noGrp="1"/>
          </p:cNvSpPr>
          <p:nvPr>
            <p:ph type="ftr" idx="7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PlaceHolder 6"/>
          <p:cNvSpPr>
            <a:spLocks noGrp="1"/>
          </p:cNvSpPr>
          <p:nvPr>
            <p:ph type="sldNum" idx="7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59107-680E-43B0-AAEE-8DA2D8A85D3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7FE53-FDB7-4A41-AD10-2272E3551DE2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E4C82-B743-4667-9602-DEA321605D02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74DC0-059C-4FEC-BB1C-2E84B5F3146F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41620-912C-465C-B04F-00DA61858113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27CF2-3D06-413D-9812-DFA28E627D76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B2C20-F906-4ADA-A8EF-626F3C050FF5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82BF9-F2B3-4061-8985-2A5AC1136ACE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73C16-F35A-4E92-A9C0-51C8053750EF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86864-A0C4-45C3-91E3-68BB2E4DB38E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F4834-58F9-4D37-8EF9-962C7D338BA4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97EAB-E919-4EDF-907B-3E3E0195F3CE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EFBF2-39F6-4182-81CF-36580710A2EA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FB075-9985-4033-94CB-58B13F922EF6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B1128-DF69-4D5F-B321-4D422E3F7590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A595-79C5-45E1-BB18-C8C10A25A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66EC-AF01-44EB-8823-8B814135D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0D0484-C067-4D1A-8818-62A2B1401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EB49C2-5EE0-4246-A78A-E1C33AA62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A19886-308F-4304-A7B2-EAD9F9877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516AD6-1BC3-43B3-8031-024A58EE3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2D2499-F9DC-490C-B511-457791227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6256C1-028A-452D-883C-FD1A05BE4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C70EF6-6FB2-47F2-9121-8E7AC0F35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260E09-11D0-4F34-A79E-A40095D1B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537510-7DCE-495B-8074-00E88D7DA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0703A9-0793-47AA-A035-F2DD145BE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A3EA-8F5E-41F1-AC31-72A821271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EC0697-A22C-4B20-9D97-EB48A7EED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43F888-5197-4F75-BA57-AB2134388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0A4344-DCA8-4798-A57F-3ED332FDB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D78EDC-C837-4956-9639-A2C157E26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FAC27B-093B-4E9E-BE53-0AB9FEF8E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ACA6CB-F4F0-4B56-9E4F-38BB457E0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D60743-87C1-40B5-8C68-375F890B2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D27780-C85C-4DE6-8C20-E00AF0E0C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3C6738-E03D-438A-805B-D76EED57C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5CBDA0-861A-487A-AA13-EE9D1F1F0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A38E-2E26-4ADA-82A7-25FE71905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9E82E9-1AD0-4B4A-A3A6-2E15E9728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8E3675-45B8-4BFA-884E-972A37179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320458-4AE5-4B30-B1FA-0AD239450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D89458-94F7-48A4-9756-90D2A220E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9CD67B-2EF8-45D4-9653-5B3FA1434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9E3BBC-BCF2-4B0E-B383-C7F15BB2F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A3069A-7D22-4A48-90D3-39D949F98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505D91-1493-4EBC-A8F0-D92A78264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D29D7C-46D3-42F2-8902-D797A911A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90679B-1C4E-4B31-8797-E56B0A126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FA8AA-2C12-401C-BE14-9325DA30E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CCABF9-CF0D-4A75-A71B-3DE2C26AA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C637AB-AB55-4812-82FF-36EF245FC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C11FB4-9B20-4E41-9BAC-68434329F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13E158-D2FB-4E17-A25F-6605BA471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47DE31-F1D0-4203-B359-2157A9D7D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D51D8B-9C82-47D9-B84D-26F68729F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4DFB07-5CDD-4F05-9FA1-9496BEB84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4107F6-35F4-4ECD-93D6-868466AFB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84BA77-0CB9-4116-AB59-C804A4839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76684E-4919-4D73-8415-6C330BF8A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DE960-8E1C-47CE-89C8-79001C907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4B67A2-9C99-4F75-BE56-3E2975833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68763C-EA67-44CB-9FCE-5C8DCDF1D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29959F-1797-4081-A78A-5306A1AB4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E9B542-632C-4F73-9F08-B99809664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256528-01C2-4D99-BBCE-B1CA753E8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DC6B40-DE8F-4B9A-A1AB-5598CB49B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979731-E492-40DB-AEB9-E6965DB1B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BE9390-DE9F-4799-8767-17A96D125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3A7E48-9B77-4642-8F17-C9CE536C0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87FD5A-AFAB-40C3-8409-664D8B651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9EC3C-5561-468E-AA65-CC9D46168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4A4864-E214-4A47-AB27-09CBC2D54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B46566-ABCE-4179-9522-BA7FF443D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E10385-4A2E-41CA-9CBF-600CC6ED1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C26D24-0DD3-4393-8F90-0BCA99AEE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7046B2-F07E-4207-8036-D9D3C00A7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326617-53D9-4330-8340-017E974FE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AB2CA0-DEF6-4C6F-90FD-04FFC0ED7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EBE6DAC-B90D-40D8-BB06-8672A2142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8678FE-36C2-4DE8-9193-C9857CDCB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C3D666-C120-4484-AC82-B8821B6A3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089CC-9486-4E67-A825-A2466D7BC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28586B-6B01-498A-B78A-9ACC69FE8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2008E3-3ED7-4326-9110-9F066D5E7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E500716-DAE4-4746-A8A2-67DF5249C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9E1E67A-F807-4CFC-88DA-FDE8F1999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19663B-31BE-4D65-9C5D-60A6B8492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A693ED-B424-4CAB-8DEF-2D08DC6E4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5E1F50-2142-4E0D-9E1B-66F00FEAB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56EF86-0D79-47B9-970E-3F8C6A855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D9B360-6D2A-4B07-86A9-6878D7A22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015648C-D82A-4F8F-9F75-48587516A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65CDB-2F0E-4019-86E7-E41C733E7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473E46F-FAD6-4F6A-AD30-0C74ADEDA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F3E86D3-CFAB-477A-8E1B-65267B767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26E50D5-4AA9-45AB-A418-B1C4838C3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CBA73E9-5ADF-4675-99B1-58A043682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BC9DC3A-8269-4399-8783-E17C6A4DB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D36A637-F5E9-4E38-B8BB-EBAEDF21C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79574F6-8A21-40C9-A9A1-D85B620C6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2DF8C14-04F3-4745-8061-401A3AD75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9083122-3E58-4862-892F-B69E67764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49F921E-984D-4EFE-8069-466EFB9C3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9146B-D1E0-4B65-A9B5-7F224F2EB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3A1FF06-7A2C-4E30-AF82-AA5F6B8A6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B252449-422E-4A1D-8C5E-3EE60A028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47D62E6-70D0-4004-B289-F6600A075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9A30D1F-B7D2-48C1-AC57-3BA210A01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0D3238C-CAC8-499A-99F5-9AA6C6036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D55621A-CBB0-40DE-95F5-522028A76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7B3CE2B-6F55-41BA-B299-A6C6A9EA8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AB0443B-FE4E-4018-8609-846953140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A2663E3-2B36-4DC0-BC96-CDED6DFA7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1F60CF2-1B6B-4DB9-95F5-FA7E26BBE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0F886-CEFD-48E7-9CBB-A36043E51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1227B84-6EB2-4271-BE38-583B8D3DD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92B4E33-9465-430D-A676-7C890D4EE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F9A55B0-DC18-4E26-824C-079E97DEB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32D1057-172D-4C24-956A-C5F596A9C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12A7E45-CAB9-411A-A87F-8730D9531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5A1593A-5461-430A-900B-682CFE700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8F7B119-F379-48E9-B79B-A1F15624B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178CBE8-541F-466D-B69D-27D5106E5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810214A-34FE-40BE-9899-7FCBF8AAD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030EA3E-028F-4AB6-B861-D5512E270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3A09-F15C-4572-A132-A354CE575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322B2-1B80-401C-A78F-4CD8BADD1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86E687F-F0DF-45D1-AC73-32FE81830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443344B-ADAC-4B08-B429-C99A8C82A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B7F852A-A7BF-47A3-A052-6160DC9C0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6FD57C7-626B-4180-939F-96BF12BE2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6C31544-F2FB-42C7-942E-8B93EDF44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9629C8E-B062-4250-B415-1B31420A8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8161F16-AE1D-4274-8FCC-5926FA7A5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261AECD-A338-448B-A854-53A11685B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AD38496-C227-482A-BCCB-C91C28C75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8249435-8B07-49D9-B038-191D18F59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C53D1-ED13-4ECA-A80D-528FBFF57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ECB3B3F-478D-4B6B-BC66-88E1253CE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A8C3742-2E82-4191-8E46-216752B20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17B450E-9448-41CF-AA5E-6D159AB63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740D0FA-93AA-4199-8E38-3268BAF1C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049DD07-A618-4BFE-9E3A-2F96EF877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A0083B4-978F-44FF-86DE-9177AF77E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398AE7C-64C6-4C36-9D87-37C2A03B9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51CE7AF-F6FA-4F11-B654-C504C509C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D92D844-7AC6-4E30-8D5C-91D244A33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B0D1C45-21FB-484C-95F3-39EE0719F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E305A-119A-431E-8B73-30F9DD254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14255ED-C318-42FA-9CFD-3F19ECE0D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3BFAAE2-BDF4-412F-BBF6-EF851B651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E0ED6E2-D44C-4159-8384-EFE21AC3E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0CAEEA2-AFE9-4F93-BD0F-910B37277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DED319A-5476-4BFB-8021-E42567AEB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8E89664-9CD8-46B0-8C7D-D9DFD641A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D6322AD-B68F-4E89-BCA6-0AD6D1BB4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4C02190-6AC1-47EF-B7FE-E8863FB96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EAA11DC-3AA5-4E78-92E8-F3420BE7D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4C14628-5E82-47BE-ABA1-A1A65ABAE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396BA-745E-4CC6-8B8F-18E64C299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B13AEE6-E443-4FC9-BA0E-C51C41572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B6157EB-CEE9-4800-B0F5-FF0CA32F1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88FDDF1-46F4-4EE8-83CF-D0C6A263B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479D0D5-FFD9-4173-84E1-CB2900800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67A906F-DF70-4BF0-BDC8-2A47A78AB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2F5A554-9B21-4BB5-B216-6DA72ED2E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FD63882-C97F-4B06-B87E-64C71D10F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4305BE8-1E7E-479C-9799-345ED7087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4B8F7C2-8B50-48D5-A6E2-A1AE2E5A6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A9A3FD4-8921-4D24-8310-98530B61E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E165F-3C49-4F2D-AE0F-5FCE69755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3C36714-B447-4CFE-972A-9776D0F13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077BD4B-9E34-406B-A92A-790549EA8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671E2CB-1BCC-4F25-886C-B7C1C0B6C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939BF5A-BF9F-4BE3-82EA-95137548F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46E51A6-B40D-4B22-BE45-36A7C900D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1856E35-C22A-494C-996C-354DBCD84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E91DECA-E7D0-4F50-AE97-D817D3DEE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6F4C5B9-63D3-41C4-9D38-EA7EEB5E7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75F424B-6D25-4653-A34E-147841C3B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2D05BEC-7C31-4F5C-993F-637872EF5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6292D3-9519-4088-B92D-BD89F608F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683AE5F-3790-463B-B352-C99F78A54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DBA1683-68F8-417A-8655-023F66ACF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FD2C395-5F9D-4BEE-8FF0-0B3D881BC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FFB31F7-F7C8-41F2-8C4E-806504541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F2D6F09-ED67-4820-AE2E-9E6A22F96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B394E73-2D75-4418-A95F-3A089B2BE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E30AD18-BE5B-48C0-B650-03A08EE51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F50D8CD-97EF-473F-8F2E-A947AD6F3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B70EE8C-80BD-44D5-B9CD-73149FFE4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26BE738-20E1-4264-9ADF-3529D98CA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B1BDCF-5288-41C5-9C52-F361FEACC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DA74372-67AF-440B-BC30-D3E500BD1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565CE05-8E4B-4515-B742-F9C264F0B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F223060-07D5-41AB-9E1B-6CFBE411F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08819C8-C159-4652-A538-B5C13A0FC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D7EA07F-34F8-4922-8252-0F785A942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E457AA8-2618-4377-AF13-7D1AD1DD1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84E40B1-C2FB-4280-9E8C-D7EDD2B15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CECF538-3250-4D0F-96E3-C6EFAA45B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64CAF2F-AC64-4D53-AF0E-1870B1F60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0043E15-5CF5-4684-AEA5-130D4FAD6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1992E9-1B38-48E2-A5AD-26E1F920B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A448A68-2492-4CE2-B94A-C72CD30D8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0943D07-90B6-4381-B4F9-44BE70352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0DF9DF0-CC19-401A-9159-52438EA1D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2698A26-B629-4FEB-9C68-AB205238B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E0248AE-02D8-45D7-B46F-FE1E0F109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19A64AD-2985-4635-8C0B-C707BF19F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B22B889-E886-4128-B5F7-67C0891EC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1C0B366-64B6-45DC-A9CA-4875B3B82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9C9AD84-48C6-494A-A073-A70D31CE4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8F86DF2-0DB2-4B19-93C7-292A4EEE1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C8D5A8-8276-45C9-8A94-CA6B12073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DB9B901-00D4-40A0-9411-2CF99E159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1DD9D45-5B5E-4A79-A26F-6700C86A5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ACA842B-3ACA-4F06-8B63-50BB286D0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F3F2637-56CD-4482-BABC-24D3B3816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7351ABA-8584-4D49-BC34-E53B0297F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4C4A020-6F51-4CC3-8B42-5B1D5A434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18E48A3-CD38-4269-8394-E392C82C0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7F7ED75-7FFB-43D5-B81B-AB3438EB1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C8BE4C9-E5FA-47B4-B020-E3F18662E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459323-1370-4250-B6F7-EAF567D78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AE20-60BC-41D1-857C-C72C7FD5E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621F10-B8C7-463B-9318-F8DA4C52D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871C88-5274-428E-A366-72D70D20D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524C0B-1131-4874-92F0-527CD2302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7A9D67-A14A-4F7A-90E7-CF05DE524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09D94D-87FD-4623-8C42-95FA2391B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DD7D4F-3EDB-4FD2-B5BA-77690E626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67E64D-E1C6-4A3D-8424-30D44509D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FC1E70-416D-42DC-BC68-6DBAADBE6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A7A5A9-2D27-4955-89AA-BF1EAC821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128CB5-67DD-4074-83AD-204B6EDA4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FF03-25F6-4820-9BFD-4E3E79E03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46A8C3-51F9-413A-848F-C4B725B10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06FF46-7BA9-43D1-9325-B6B3CA490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ED2877-1B42-4EB8-AC42-B026337A4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B9BAAC-D054-448A-8D45-9671D7461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1F228C-BE9D-44C9-9D7A-F87892D51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EBC297-DF77-40D8-ADB2-0A0FE8F76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B18F1B-BCF7-49A0-B37E-BDF891075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603CB8-F28E-48AB-9958-1DAB00EF5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6E94BB-0ED1-4C5C-8B94-86DA2D7ED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61E473-5EE4-44EA-9D67-71B3D1306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532B-DD87-430D-B777-7989C7B22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24E123-296F-4CB8-8E93-BD4BD4E8C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FDACAB-2422-47BE-864C-37736E7BA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B14BF6-6301-4FE3-B624-28427E12F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52A9F4-F3D7-4F4F-BA3F-4566F4E74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4A8B0E-513C-4781-8CA8-6FBC32178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64936E-699E-4A63-8B24-97E89D9CA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1FA8CC-5552-4459-89E5-3CA9AA52D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E3F61C-7F18-42BE-AB13-DE00E778B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6A03D3-C18F-40E8-9FD2-B0178FCF1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CA3AB8-DFDF-4733-B067-49CE68F73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E4EC-CE23-41D0-9483-81A98FAF6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4AF7B8-DB49-4FE5-8995-A4322F535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5181CC-18EB-4C2C-A683-41F058864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151D05-FC52-4E23-A7AB-88F9D0870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1CF767-A29B-4999-A666-F8368ACAF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6B5CB0-0EB6-496C-AD73-A8A75ACDC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D67220-EC61-4930-BB82-C8337BD09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FECA4E-78E6-49E8-A88A-AC4C3BE55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546824-03F8-4D97-B387-714C46D49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4FF289-DDF6-4B1A-9151-ADD4DC8DE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4C77F4-7785-446E-A830-8A6A98811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5520-8221-4AB7-A15F-09ACCEB14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EB471C-9B03-4634-8D0F-A5089C62B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6F998F-A0CB-48E2-8E82-7E38C9785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963C4C-4324-44B7-9339-688553A78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4DC281-80A9-4BCF-9EAA-D3FA55D09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EEEDFA-684C-42E1-A2A3-8730CA526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158510-642C-4955-9D27-07596347C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76BF3B-E498-4D6A-B155-6B3F87CF2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3E8374-456A-447E-8E72-368F88207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FE0362-D7AA-4EFA-A04F-F4477429E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005D13-BD0C-4552-BCB3-08DAB68E8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69D0-165A-4185-B9F3-CA699D3B6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04AB14-CB32-417F-BE53-B88B94EA3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0F300D-7E36-474D-BB7E-091401029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55BF75-C8E3-4BA3-A149-2F0F1D926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119536-DAB8-4B17-AFB7-09C6D00E4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6EA1EE-8BD3-4C3F-A985-081C66610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471DB3-27A9-4C75-BC12-88C312F7E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E37D1B-7703-4F85-9F5A-99DB6557F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B4868E-46D5-44C5-A23E-4F929814A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962117-2D93-4799-A75A-C1D477D62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88AA0B-7B58-4A7D-90D6-B57A70714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099E-2E70-47B4-AEC2-0EAD6648B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B1A49D-F84F-420F-B858-8E1B8DB93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50B29D-A7E5-4363-92C7-15FE483E1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40CE45-48EC-4B5E-9D1C-E1975B1D9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443958-EF36-4D41-AEC7-34276A846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519F3C-2E9E-40D1-8A61-D9E5D5FD5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A441BD-8CF1-4081-BF03-25267DFE0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74E280-5E33-4C8D-8EB5-1E0415F90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72759C-BEB2-4DD4-ACA2-D92C381C0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D6D157-13DD-4CC1-B589-1353390AA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FD08B4-35DD-4DC4-BB24-BB04FCCC6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B1B22-9517-4B61-BD7C-7AB72A1E954A}" type="slidenum">
              <a:rPr b="0" lang="zh-CN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图片 6" descr="透明社标.png"/>
          <p:cNvPicPr/>
          <p:nvPr/>
        </p:nvPicPr>
        <p:blipFill>
          <a:blip r:embed="rId3"/>
          <a:stretch/>
        </p:blipFill>
        <p:spPr>
          <a:xfrm>
            <a:off x="6156360" y="6093000"/>
            <a:ext cx="2808360" cy="595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BD784-794B-431F-90D2-13A2FA4FA3E2}" type="slidenum">
              <a:rPr b="0" lang="zh-CN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6543E-ACF4-4E58-9856-A34F334A55CC}" type="slidenum">
              <a:rPr b="0" lang="zh-CN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C54C0-4C1E-4332-A100-7602680A2C30}" type="slidenum">
              <a:rPr b="0" lang="zh-CN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48023-0402-4FFE-9567-58419FC049AE}" type="slidenum">
              <a:rPr b="0" lang="zh-CN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4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61BFF-E2A8-4863-A371-59397930C260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dt" idx="43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ftr" idx="44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sldNum" idx="45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01673-4EB9-41AD-897A-2288943F0D1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dt" idx="46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ftr" idx="47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sldNum" idx="48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E580D-1E5C-4368-8E7A-E364F2D3308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 type="dt" idx="49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 type="ftr" idx="50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 type="sldNum" idx="51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1145C-C5B5-4DC6-BBC4-D6E4AD351A7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 type="dt" idx="52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 type="ftr" idx="53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 type="sldNum" idx="54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6682B-3E1D-4FE6-AEB9-61926DEAB80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55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56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57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8CF45-67BC-4748-BDDF-7460D8910C6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941ED-C422-4614-835E-4EA1537844B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6" descr="strtegic1"/>
          <p:cNvPicPr/>
          <p:nvPr/>
        </p:nvPicPr>
        <p:blipFill>
          <a:blip r:embed="rId2"/>
          <a:stretch/>
        </p:blipFill>
        <p:spPr>
          <a:xfrm>
            <a:off x="0" y="0"/>
            <a:ext cx="121932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 type="dt" idx="58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 type="ftr" idx="59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 type="sldNum" idx="60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01A40-3E26-4BA3-9594-34A7FF4D481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61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62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63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F4423-893A-4E66-A408-BB533E345E5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 type="dt" idx="64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 type="ftr" idx="65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 type="sldNum" idx="66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477BA-A231-4957-B7D1-0989157650D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 type="dt" idx="67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 type="ftr" idx="68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 type="sldNum" idx="69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C9293-6076-472E-BC81-61FC2FC9DA0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 type="dt" idx="70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 type="ftr" idx="71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 type="sldNum" idx="72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F99D6-D38E-478F-8F47-08F865534A0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E3282-53F0-4081-86CF-B5B56E4911D4}" type="slidenum">
              <a:rPr b="0" lang="zh-CN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9EFB5-AC87-4B5E-91BA-1636B2B017AC}" type="slidenum">
              <a:rPr b="0" lang="zh-CN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05D45-2B85-4DC3-92E8-B9D57DC54582}" type="slidenum">
              <a:rPr b="0" lang="zh-CN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1404E-674C-43F6-815B-3532D503E3D8}" type="slidenum">
              <a:rPr b="0" lang="zh-CN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9A083-0A3E-45D1-93E4-810280451F86}" type="slidenum">
              <a:rPr b="0" lang="zh-CN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A99D1-6734-423D-A040-C5766CAFABF0}" type="slidenum">
              <a:rPr b="0" lang="zh-CN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91728-BE1F-4046-AFBE-B531AACEA96B}" type="slidenum">
              <a:rPr b="0" lang="zh-CN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3" name="WordArt 2" descr=""/>
          <p:cNvPicPr/>
          <p:nvPr/>
        </p:nvPicPr>
        <p:blipFill>
          <a:blip r:embed="rId1"/>
          <a:stretch/>
        </p:blipFill>
        <p:spPr>
          <a:xfrm>
            <a:off x="981000" y="3273480"/>
            <a:ext cx="6986520" cy="774720"/>
          </a:xfrm>
          <a:prstGeom prst="rect">
            <a:avLst/>
          </a:prstGeom>
          <a:ln w="0">
            <a:noFill/>
          </a:ln>
        </p:spPr>
      </p:pic>
      <p:sp>
        <p:nvSpPr>
          <p:cNvPr id="994" name="WordArt 3"/>
          <p:cNvSpPr txBox="1"/>
          <p:nvPr/>
        </p:nvSpPr>
        <p:spPr>
          <a:xfrm>
            <a:off x="755640" y="1268280"/>
            <a:ext cx="7620120" cy="89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8000"/>
                    </a:srgbClr>
                  </a:outerShdw>
                </a:effectLst>
                <a:latin typeface="隶书"/>
              </a:rPr>
              <a:t>第一章  三角形的证明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8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Rectangle 2"/>
          <p:cNvSpPr/>
          <p:nvPr/>
        </p:nvSpPr>
        <p:spPr>
          <a:xfrm>
            <a:off x="466560" y="1521000"/>
            <a:ext cx="849816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求证：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等边三角形三个内角都相等并且每个内角都等于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60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已知：如图，在△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BC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中，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B=BC=AC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求证：∠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=∠B=∠C=60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证明：在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ΔABC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中，∵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B=AC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∴∠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=∠C(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等边对等角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同理：∠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=∠A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∴∠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=∠B=∠C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（等量代换）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又∵∠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+∠B+∠C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＝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180°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（三角形内角和定理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∴∠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=∠B=∠C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＝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60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WordArt 3"/>
          <p:cNvSpPr txBox="1"/>
          <p:nvPr/>
        </p:nvSpPr>
        <p:spPr>
          <a:xfrm>
            <a:off x="539640" y="620640"/>
            <a:ext cx="4114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8000"/>
                    </a:srgbClr>
                  </a:outerShdw>
                </a:effectLst>
                <a:latin typeface="黑体"/>
              </a:rPr>
              <a:t>大胆尝试，练一练！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8000"/>
                  </a:srgbClr>
                </a:outerShdw>
              </a:effectLst>
              <a:latin typeface="黑体"/>
              <a:ea typeface="黑体"/>
            </a:endParaRPr>
          </a:p>
        </p:txBody>
      </p:sp>
      <p:grpSp>
        <p:nvGrpSpPr>
          <p:cNvPr id="1161" name="Group 4"/>
          <p:cNvGrpSpPr/>
          <p:nvPr/>
        </p:nvGrpSpPr>
        <p:grpSpPr>
          <a:xfrm>
            <a:off x="5940000" y="2276640"/>
            <a:ext cx="1541880" cy="1492200"/>
            <a:chOff x="5940000" y="2276640"/>
            <a:chExt cx="1541880" cy="1492200"/>
          </a:xfrm>
        </p:grpSpPr>
        <p:sp>
          <p:nvSpPr>
            <p:cNvPr id="1162" name="Line 5"/>
            <p:cNvSpPr/>
            <p:nvPr/>
          </p:nvSpPr>
          <p:spPr>
            <a:xfrm flipH="1">
              <a:off x="6208560" y="2559600"/>
              <a:ext cx="551520" cy="9388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3" name="Line 6"/>
            <p:cNvSpPr/>
            <p:nvPr/>
          </p:nvSpPr>
          <p:spPr>
            <a:xfrm>
              <a:off x="6208560" y="3498480"/>
              <a:ext cx="1105920" cy="21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4" name="Line 7"/>
            <p:cNvSpPr/>
            <p:nvPr/>
          </p:nvSpPr>
          <p:spPr>
            <a:xfrm>
              <a:off x="6760080" y="2559600"/>
              <a:ext cx="554040" cy="9388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65" name="Group 8"/>
            <p:cNvGrpSpPr/>
            <p:nvPr/>
          </p:nvGrpSpPr>
          <p:grpSpPr>
            <a:xfrm>
              <a:off x="7311960" y="3463560"/>
              <a:ext cx="169920" cy="305280"/>
              <a:chOff x="7311960" y="3463560"/>
              <a:chExt cx="169920" cy="305280"/>
            </a:xfrm>
          </p:grpSpPr>
          <p:sp>
            <p:nvSpPr>
              <p:cNvPr id="1166" name="Rectangle 9"/>
              <p:cNvSpPr/>
              <p:nvPr/>
            </p:nvSpPr>
            <p:spPr>
              <a:xfrm>
                <a:off x="7312320" y="3463560"/>
                <a:ext cx="14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7" name="Rectangle 10"/>
              <p:cNvSpPr/>
              <p:nvPr/>
            </p:nvSpPr>
            <p:spPr>
              <a:xfrm>
                <a:off x="7311960" y="3463560"/>
                <a:ext cx="1699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2000" spc="-1" strike="noStrike">
                    <a:solidFill>
                      <a:srgbClr val="ffffff"/>
                    </a:solidFill>
                    <a:latin typeface="Times New Roman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68" name="Group 11"/>
            <p:cNvGrpSpPr/>
            <p:nvPr/>
          </p:nvGrpSpPr>
          <p:grpSpPr>
            <a:xfrm>
              <a:off x="5940000" y="3463560"/>
              <a:ext cx="169920" cy="305280"/>
              <a:chOff x="5940000" y="3463560"/>
              <a:chExt cx="169920" cy="305280"/>
            </a:xfrm>
          </p:grpSpPr>
          <p:sp>
            <p:nvSpPr>
              <p:cNvPr id="1169" name="Rectangle 12"/>
              <p:cNvSpPr/>
              <p:nvPr/>
            </p:nvSpPr>
            <p:spPr>
              <a:xfrm>
                <a:off x="5940360" y="3463560"/>
                <a:ext cx="14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0" name="Rectangle 13"/>
              <p:cNvSpPr/>
              <p:nvPr/>
            </p:nvSpPr>
            <p:spPr>
              <a:xfrm>
                <a:off x="5940000" y="3463560"/>
                <a:ext cx="1699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2000" spc="-1" strike="noStrike">
                    <a:solidFill>
                      <a:srgbClr val="ffffff"/>
                    </a:solidFill>
                    <a:latin typeface="Times New Roman"/>
                  </a:rPr>
                  <a:t>B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71" name="Rectangle 14"/>
            <p:cNvSpPr/>
            <p:nvPr/>
          </p:nvSpPr>
          <p:spPr>
            <a:xfrm>
              <a:off x="6656040" y="2276640"/>
              <a:ext cx="35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0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5000"/>
                                        <p:tgtEl>
                                          <p:spTgt spid="1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0"/>
                                        <p:tgtEl>
                                          <p:spTgt spid="1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0"/>
                                        <p:tgtEl>
                                          <p:spTgt spid="1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0"/>
                                        <p:tgtEl>
                                          <p:spTgt spid="1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5000"/>
                                        <p:tgtEl>
                                          <p:spTgt spid="1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5000"/>
                                        <p:tgtEl>
                                          <p:spTgt spid="1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随堂练习  及时巩固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39672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如图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已知△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ABC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和△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BDE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都是等边三角形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求证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:AE=CD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174" name="Group 4"/>
          <p:cNvGrpSpPr/>
          <p:nvPr/>
        </p:nvGrpSpPr>
        <p:grpSpPr>
          <a:xfrm>
            <a:off x="5869080" y="1413000"/>
            <a:ext cx="2286000" cy="2425320"/>
            <a:chOff x="5869080" y="1413000"/>
            <a:chExt cx="2286000" cy="2425320"/>
          </a:xfrm>
        </p:grpSpPr>
        <p:grpSp>
          <p:nvGrpSpPr>
            <p:cNvPr id="1175" name="Group 5"/>
            <p:cNvGrpSpPr/>
            <p:nvPr/>
          </p:nvGrpSpPr>
          <p:grpSpPr>
            <a:xfrm>
              <a:off x="6174000" y="1945800"/>
              <a:ext cx="1523880" cy="1447200"/>
              <a:chOff x="6174000" y="1945800"/>
              <a:chExt cx="1523880" cy="1447200"/>
            </a:xfrm>
          </p:grpSpPr>
          <p:grpSp>
            <p:nvGrpSpPr>
              <p:cNvPr id="1176" name="Group 6"/>
              <p:cNvGrpSpPr/>
              <p:nvPr/>
            </p:nvGrpSpPr>
            <p:grpSpPr>
              <a:xfrm>
                <a:off x="6174000" y="1945800"/>
                <a:ext cx="1523880" cy="1066320"/>
                <a:chOff x="6174000" y="1945800"/>
                <a:chExt cx="1523880" cy="1066320"/>
              </a:xfrm>
            </p:grpSpPr>
            <p:sp>
              <p:nvSpPr>
                <p:cNvPr id="1177" name="Line 7"/>
                <p:cNvSpPr/>
                <p:nvPr/>
              </p:nvSpPr>
              <p:spPr>
                <a:xfrm>
                  <a:off x="6174000" y="3012120"/>
                  <a:ext cx="15238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8" name="Line 8"/>
                <p:cNvSpPr/>
                <p:nvPr/>
              </p:nvSpPr>
              <p:spPr>
                <a:xfrm flipV="1">
                  <a:off x="6174000" y="1945800"/>
                  <a:ext cx="762120" cy="106596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9" name="Line 9"/>
                <p:cNvSpPr/>
                <p:nvPr/>
              </p:nvSpPr>
              <p:spPr>
                <a:xfrm>
                  <a:off x="6936120" y="1946160"/>
                  <a:ext cx="761760" cy="106596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0" name="Line 10"/>
              <p:cNvSpPr/>
              <p:nvPr/>
            </p:nvSpPr>
            <p:spPr>
              <a:xfrm>
                <a:off x="6174000" y="3012120"/>
                <a:ext cx="380880" cy="3808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1" name="Line 11"/>
              <p:cNvSpPr/>
              <p:nvPr/>
            </p:nvSpPr>
            <p:spPr>
              <a:xfrm flipV="1">
                <a:off x="6554880" y="3012120"/>
                <a:ext cx="228600" cy="3808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2" name="Line 12"/>
              <p:cNvSpPr/>
              <p:nvPr/>
            </p:nvSpPr>
            <p:spPr>
              <a:xfrm flipH="1">
                <a:off x="6783480" y="1946160"/>
                <a:ext cx="152640" cy="10659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3" name="Line 13"/>
              <p:cNvSpPr/>
              <p:nvPr/>
            </p:nvSpPr>
            <p:spPr>
              <a:xfrm flipV="1">
                <a:off x="6554880" y="3012120"/>
                <a:ext cx="1143000" cy="3808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84" name="Text Box 14"/>
            <p:cNvSpPr/>
            <p:nvPr/>
          </p:nvSpPr>
          <p:spPr>
            <a:xfrm>
              <a:off x="6783480" y="141300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宋体"/>
                </a:rPr>
                <a:t>A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5" name="Text Box 15"/>
            <p:cNvSpPr/>
            <p:nvPr/>
          </p:nvSpPr>
          <p:spPr>
            <a:xfrm>
              <a:off x="5869080" y="278424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宋体"/>
                </a:rPr>
                <a:t>B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6" name="Text Box 16"/>
            <p:cNvSpPr/>
            <p:nvPr/>
          </p:nvSpPr>
          <p:spPr>
            <a:xfrm>
              <a:off x="7621560" y="278424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宋体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7" name="Text Box 17"/>
            <p:cNvSpPr/>
            <p:nvPr/>
          </p:nvSpPr>
          <p:spPr>
            <a:xfrm>
              <a:off x="6402600" y="331776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宋体"/>
                </a:rPr>
                <a:t>D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8" name="Text Box 18"/>
            <p:cNvSpPr/>
            <p:nvPr/>
          </p:nvSpPr>
          <p:spPr>
            <a:xfrm>
              <a:off x="6783480" y="255564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宋体"/>
                </a:rPr>
                <a:t>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89" name="Rectangle 19"/>
          <p:cNvSpPr/>
          <p:nvPr/>
        </p:nvSpPr>
        <p:spPr>
          <a:xfrm>
            <a:off x="153000" y="3789360"/>
            <a:ext cx="90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证明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0" name="Rectangle 20"/>
          <p:cNvSpPr/>
          <p:nvPr/>
        </p:nvSpPr>
        <p:spPr>
          <a:xfrm>
            <a:off x="2122920" y="3789360"/>
            <a:ext cx="494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∵ △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ABC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和△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BDE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都是等边三角形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1" name="Rectangle 21"/>
          <p:cNvSpPr/>
          <p:nvPr/>
        </p:nvSpPr>
        <p:spPr>
          <a:xfrm>
            <a:off x="1488240" y="4581360"/>
            <a:ext cx="700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∴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AB=BC,∠ABC=∠DBE=60°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BE=B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2" name="Rectangle 22"/>
          <p:cNvSpPr/>
          <p:nvPr/>
        </p:nvSpPr>
        <p:spPr>
          <a:xfrm>
            <a:off x="1595520" y="5229360"/>
            <a:ext cx="328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∴ △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ABE≌△CB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3" name="Rectangle 23"/>
          <p:cNvSpPr/>
          <p:nvPr/>
        </p:nvSpPr>
        <p:spPr>
          <a:xfrm>
            <a:off x="1467720" y="5950080"/>
            <a:ext cx="185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∴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AE=C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Text Box 2"/>
          <p:cNvSpPr/>
          <p:nvPr/>
        </p:nvSpPr>
        <p:spPr>
          <a:xfrm>
            <a:off x="0" y="10526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将不全等的两个等边三角形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△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ABC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和等边三角形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△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DEF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任意摆放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请你画出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不少于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种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的摆放示意图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使得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AE=CF,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同时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满足在重合的一条直线上有且只有三个顶点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重合的顶点算一个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),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并说明理由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95" name="Group 3"/>
          <p:cNvGrpSpPr/>
          <p:nvPr/>
        </p:nvGrpSpPr>
        <p:grpSpPr>
          <a:xfrm>
            <a:off x="253080" y="1987560"/>
            <a:ext cx="3174120" cy="2115360"/>
            <a:chOff x="253080" y="1987560"/>
            <a:chExt cx="3174120" cy="2115360"/>
          </a:xfrm>
        </p:grpSpPr>
        <p:sp>
          <p:nvSpPr>
            <p:cNvPr id="1196" name="AutoShape 4"/>
            <p:cNvSpPr/>
            <p:nvPr/>
          </p:nvSpPr>
          <p:spPr>
            <a:xfrm>
              <a:off x="468360" y="2276640"/>
              <a:ext cx="1657440" cy="1584000"/>
            </a:xfrm>
            <a:prstGeom prst="triangle">
              <a:avLst>
                <a:gd name="adj" fmla="val 50000"/>
              </a:avLst>
            </a:prstGeom>
            <a:solidFill>
              <a:srgbClr val="727de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7" name="AutoShape 5"/>
            <p:cNvSpPr/>
            <p:nvPr/>
          </p:nvSpPr>
          <p:spPr>
            <a:xfrm>
              <a:off x="2124000" y="2997360"/>
              <a:ext cx="1008360" cy="863280"/>
            </a:xfrm>
            <a:prstGeom prst="triangle">
              <a:avLst>
                <a:gd name="adj" fmla="val 50000"/>
              </a:avLst>
            </a:prstGeom>
            <a:solidFill>
              <a:srgbClr val="727de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8" name="Text Box 6"/>
            <p:cNvSpPr/>
            <p:nvPr/>
          </p:nvSpPr>
          <p:spPr>
            <a:xfrm>
              <a:off x="253080" y="35719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9" name="Text Box 7"/>
            <p:cNvSpPr/>
            <p:nvPr/>
          </p:nvSpPr>
          <p:spPr>
            <a:xfrm>
              <a:off x="2053440" y="36432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0" name="Text Box 8"/>
            <p:cNvSpPr/>
            <p:nvPr/>
          </p:nvSpPr>
          <p:spPr>
            <a:xfrm>
              <a:off x="1334160" y="19875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1" name="Text Box 9"/>
            <p:cNvSpPr/>
            <p:nvPr/>
          </p:nvSpPr>
          <p:spPr>
            <a:xfrm>
              <a:off x="2413440" y="25639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2" name="Text Box 10"/>
            <p:cNvSpPr/>
            <p:nvPr/>
          </p:nvSpPr>
          <p:spPr>
            <a:xfrm>
              <a:off x="3060720" y="350028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F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3" name="Line 11"/>
            <p:cNvSpPr/>
            <p:nvPr/>
          </p:nvSpPr>
          <p:spPr>
            <a:xfrm>
              <a:off x="1258920" y="2276640"/>
              <a:ext cx="1873440" cy="1584000"/>
            </a:xfrm>
            <a:prstGeom prst="line">
              <a:avLst/>
            </a:prstGeom>
            <a:ln w="507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4" name="Line 12"/>
            <p:cNvSpPr/>
            <p:nvPr/>
          </p:nvSpPr>
          <p:spPr>
            <a:xfrm flipV="1">
              <a:off x="395280" y="2997360"/>
              <a:ext cx="2305080" cy="863280"/>
            </a:xfrm>
            <a:prstGeom prst="line">
              <a:avLst/>
            </a:prstGeom>
            <a:ln w="507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05" name="Group 13"/>
          <p:cNvGrpSpPr/>
          <p:nvPr/>
        </p:nvGrpSpPr>
        <p:grpSpPr>
          <a:xfrm>
            <a:off x="4502520" y="1987560"/>
            <a:ext cx="2919600" cy="2404440"/>
            <a:chOff x="4502520" y="1987560"/>
            <a:chExt cx="2919600" cy="2404440"/>
          </a:xfrm>
        </p:grpSpPr>
        <p:sp>
          <p:nvSpPr>
            <p:cNvPr id="1206" name="AutoShape 14"/>
            <p:cNvSpPr/>
            <p:nvPr/>
          </p:nvSpPr>
          <p:spPr>
            <a:xfrm>
              <a:off x="4787640" y="2276640"/>
              <a:ext cx="2231640" cy="1726920"/>
            </a:xfrm>
            <a:prstGeom prst="triangle">
              <a:avLst>
                <a:gd name="adj" fmla="val 50000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7" name="AutoShape 15"/>
            <p:cNvSpPr/>
            <p:nvPr/>
          </p:nvSpPr>
          <p:spPr>
            <a:xfrm>
              <a:off x="5724360" y="2997360"/>
              <a:ext cx="1293480" cy="100620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8" name="Text Box 16"/>
            <p:cNvSpPr/>
            <p:nvPr/>
          </p:nvSpPr>
          <p:spPr>
            <a:xfrm>
              <a:off x="4502520" y="37162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9" name="Text Box 17"/>
            <p:cNvSpPr/>
            <p:nvPr/>
          </p:nvSpPr>
          <p:spPr>
            <a:xfrm>
              <a:off x="7021800" y="37162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0" name="Text Box 18"/>
            <p:cNvSpPr/>
            <p:nvPr/>
          </p:nvSpPr>
          <p:spPr>
            <a:xfrm>
              <a:off x="6373800" y="26352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1" name="Text Box 19"/>
            <p:cNvSpPr/>
            <p:nvPr/>
          </p:nvSpPr>
          <p:spPr>
            <a:xfrm>
              <a:off x="5869080" y="19875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2" name="Text Box 20"/>
            <p:cNvSpPr/>
            <p:nvPr/>
          </p:nvSpPr>
          <p:spPr>
            <a:xfrm>
              <a:off x="5652720" y="393228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F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13" name="Group 21"/>
          <p:cNvGrpSpPr/>
          <p:nvPr/>
        </p:nvGrpSpPr>
        <p:grpSpPr>
          <a:xfrm>
            <a:off x="6877080" y="3933720"/>
            <a:ext cx="1727280" cy="2211480"/>
            <a:chOff x="6877080" y="3933720"/>
            <a:chExt cx="1727280" cy="2211480"/>
          </a:xfrm>
        </p:grpSpPr>
        <p:sp>
          <p:nvSpPr>
            <p:cNvPr id="1214" name="AutoShape 22"/>
            <p:cNvSpPr/>
            <p:nvPr/>
          </p:nvSpPr>
          <p:spPr>
            <a:xfrm>
              <a:off x="6877080" y="3933720"/>
              <a:ext cx="1727280" cy="156384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5" name="AutoShape 23"/>
            <p:cNvSpPr/>
            <p:nvPr/>
          </p:nvSpPr>
          <p:spPr>
            <a:xfrm>
              <a:off x="7236000" y="5518080"/>
              <a:ext cx="934920" cy="627120"/>
            </a:xfrm>
            <a:prstGeom prst="triangle">
              <a:avLst>
                <a:gd name="adj" fmla="val 50000"/>
              </a:avLst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16" name="Group 24"/>
          <p:cNvGrpSpPr/>
          <p:nvPr/>
        </p:nvGrpSpPr>
        <p:grpSpPr>
          <a:xfrm>
            <a:off x="971640" y="4292640"/>
            <a:ext cx="1729440" cy="2345400"/>
            <a:chOff x="971640" y="4292640"/>
            <a:chExt cx="1729440" cy="2345400"/>
          </a:xfrm>
        </p:grpSpPr>
        <p:sp>
          <p:nvSpPr>
            <p:cNvPr id="1217" name="AutoShape 25"/>
            <p:cNvSpPr/>
            <p:nvPr/>
          </p:nvSpPr>
          <p:spPr>
            <a:xfrm>
              <a:off x="971640" y="4292640"/>
              <a:ext cx="1728720" cy="137088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AutoShape 26"/>
            <p:cNvSpPr/>
            <p:nvPr/>
          </p:nvSpPr>
          <p:spPr>
            <a:xfrm rot="18453000">
              <a:off x="1402200" y="5516280"/>
              <a:ext cx="1224720" cy="790560"/>
            </a:xfrm>
            <a:prstGeom prst="triangle">
              <a:avLst>
                <a:gd name="adj" fmla="val 50000"/>
              </a:avLst>
            </a:prstGeom>
            <a:solidFill>
              <a:srgbClr val="99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19" name="Group 27"/>
          <p:cNvGrpSpPr/>
          <p:nvPr/>
        </p:nvGrpSpPr>
        <p:grpSpPr>
          <a:xfrm>
            <a:off x="2941920" y="4303800"/>
            <a:ext cx="2694600" cy="1788480"/>
            <a:chOff x="2941920" y="4303800"/>
            <a:chExt cx="2694600" cy="1788480"/>
          </a:xfrm>
        </p:grpSpPr>
        <p:sp>
          <p:nvSpPr>
            <p:cNvPr id="1220" name="AutoShape 28"/>
            <p:cNvSpPr/>
            <p:nvPr/>
          </p:nvSpPr>
          <p:spPr>
            <a:xfrm rot="20061000">
              <a:off x="3131640" y="4581360"/>
              <a:ext cx="1563120" cy="1233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AutoShape 29"/>
            <p:cNvSpPr/>
            <p:nvPr/>
          </p:nvSpPr>
          <p:spPr>
            <a:xfrm rot="16528800">
              <a:off x="4695840" y="5104800"/>
              <a:ext cx="1056600" cy="727200"/>
            </a:xfrm>
            <a:prstGeom prst="triangle">
              <a:avLst>
                <a:gd name="adj" fmla="val 50000"/>
              </a:avLst>
            </a:prstGeom>
            <a:solidFill>
              <a:srgbClr val="d6009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2" name="AutoShape 30"/>
          <p:cNvSpPr/>
          <p:nvPr/>
        </p:nvSpPr>
        <p:spPr>
          <a:xfrm>
            <a:off x="2916360" y="117360"/>
            <a:ext cx="1079280" cy="933480"/>
          </a:xfrm>
          <a:prstGeom prst="triangle">
            <a:avLst>
              <a:gd name="adj" fmla="val 50000"/>
            </a:avLst>
          </a:prstGeom>
          <a:solidFill>
            <a:srgbClr val="727d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3" name="AutoShape 31"/>
          <p:cNvSpPr/>
          <p:nvPr/>
        </p:nvSpPr>
        <p:spPr>
          <a:xfrm>
            <a:off x="4716360" y="404640"/>
            <a:ext cx="576360" cy="498600"/>
          </a:xfrm>
          <a:prstGeom prst="triangle">
            <a:avLst>
              <a:gd name="adj" fmla="val 50000"/>
            </a:avLst>
          </a:prstGeom>
          <a:solidFill>
            <a:srgbClr val="727d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4" name="Text Box 32"/>
          <p:cNvSpPr/>
          <p:nvPr/>
        </p:nvSpPr>
        <p:spPr>
          <a:xfrm>
            <a:off x="747720" y="5446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5" name="Text Box 33"/>
          <p:cNvSpPr/>
          <p:nvPr/>
        </p:nvSpPr>
        <p:spPr>
          <a:xfrm>
            <a:off x="2805120" y="5446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6" name="Text Box 34"/>
          <p:cNvSpPr/>
          <p:nvPr/>
        </p:nvSpPr>
        <p:spPr>
          <a:xfrm>
            <a:off x="2043360" y="42274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7" name="Text Box 35"/>
          <p:cNvSpPr/>
          <p:nvPr/>
        </p:nvSpPr>
        <p:spPr>
          <a:xfrm>
            <a:off x="1433520" y="55990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8" name="Text Box 36"/>
          <p:cNvSpPr/>
          <p:nvPr/>
        </p:nvSpPr>
        <p:spPr>
          <a:xfrm>
            <a:off x="1738440" y="6589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Rectangle 2"/>
          <p:cNvSpPr/>
          <p:nvPr/>
        </p:nvSpPr>
        <p:spPr>
          <a:xfrm>
            <a:off x="1042920" y="836640"/>
            <a:ext cx="209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课时小结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Rectangle 3"/>
          <p:cNvSpPr/>
          <p:nvPr/>
        </p:nvSpPr>
        <p:spPr>
          <a:xfrm>
            <a:off x="1044720" y="1989000"/>
            <a:ext cx="74898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等腰三角形中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还有那些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相等的线段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等边三角形有哪些性质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本节课你学到的探索问题的方法是什么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5" dur="5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1" name="图片 1" descr="FFURBM_J}QI9@]YL]FNZ}FD.jpg"/>
          <p:cNvPicPr/>
          <p:nvPr/>
        </p:nvPicPr>
        <p:blipFill>
          <a:blip r:embed="rId1"/>
          <a:stretch/>
        </p:blipFill>
        <p:spPr>
          <a:xfrm>
            <a:off x="2500200" y="1071720"/>
            <a:ext cx="3714840" cy="1000080"/>
          </a:xfrm>
          <a:prstGeom prst="rect">
            <a:avLst/>
          </a:prstGeom>
          <a:ln w="0">
            <a:noFill/>
          </a:ln>
        </p:spPr>
      </p:pic>
      <p:sp>
        <p:nvSpPr>
          <p:cNvPr id="1232" name="TextBox 2"/>
          <p:cNvSpPr/>
          <p:nvPr/>
        </p:nvSpPr>
        <p:spPr>
          <a:xfrm>
            <a:off x="2571840" y="2357280"/>
            <a:ext cx="48578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华文隶书"/>
                <a:ea typeface="华文隶书"/>
              </a:rPr>
              <a:t>习题</a:t>
            </a:r>
            <a:r>
              <a:rPr b="0" lang="en-US" sz="3600" spc="-1" strike="noStrike">
                <a:solidFill>
                  <a:srgbClr val="ffff00"/>
                </a:solidFill>
                <a:latin typeface="华文隶书"/>
                <a:ea typeface="华文隶书"/>
              </a:rPr>
              <a:t>1.2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华文隶书"/>
                <a:ea typeface="华文隶书"/>
              </a:rPr>
              <a:t>知识技能</a:t>
            </a:r>
            <a:r>
              <a:rPr b="0" lang="en-US" sz="3600" spc="-1" strike="noStrike">
                <a:solidFill>
                  <a:srgbClr val="ffff00"/>
                </a:solidFill>
                <a:latin typeface="华文隶书"/>
                <a:ea typeface="华文隶书"/>
              </a:rPr>
              <a:t>1</a:t>
            </a:r>
            <a:r>
              <a:rPr b="0" lang="zh-CN" sz="3600" spc="-1" strike="noStrike">
                <a:solidFill>
                  <a:srgbClr val="ffff00"/>
                </a:solidFill>
                <a:latin typeface="华文隶书"/>
                <a:ea typeface="华文隶书"/>
              </a:rPr>
              <a:t>、</a:t>
            </a:r>
            <a:r>
              <a:rPr b="0" lang="en-US" sz="3600" spc="-1" strike="noStrike">
                <a:solidFill>
                  <a:srgbClr val="ffff00"/>
                </a:solidFill>
                <a:latin typeface="华文隶书"/>
                <a:ea typeface="华文隶书"/>
              </a:rPr>
              <a:t>2</a:t>
            </a:r>
            <a:r>
              <a:rPr b="0" lang="zh-CN" sz="3600" spc="-1" strike="noStrike">
                <a:solidFill>
                  <a:srgbClr val="ffff00"/>
                </a:solidFill>
                <a:latin typeface="华文隶书"/>
                <a:ea typeface="华文隶书"/>
              </a:rPr>
              <a:t>、</a:t>
            </a:r>
            <a:r>
              <a:rPr b="0" lang="en-US" sz="3600" spc="-1" strike="noStrike">
                <a:solidFill>
                  <a:srgbClr val="ffff00"/>
                </a:solidFill>
                <a:latin typeface="华文隶书"/>
                <a:ea typeface="华文隶书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华文隶书"/>
                <a:ea typeface="华文隶书"/>
              </a:rPr>
              <a:t>数学理解</a:t>
            </a:r>
            <a:r>
              <a:rPr b="0" lang="en-US" sz="3600" spc="-1" strike="noStrike">
                <a:solidFill>
                  <a:srgbClr val="ffff00"/>
                </a:solidFill>
                <a:latin typeface="华文隶书"/>
                <a:ea typeface="华文隶书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Rectangle 2"/>
          <p:cNvSpPr/>
          <p:nvPr/>
        </p:nvSpPr>
        <p:spPr>
          <a:xfrm>
            <a:off x="1143000" y="228600"/>
            <a:ext cx="422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想一想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,   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做一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Rectangle 3"/>
          <p:cNvSpPr/>
          <p:nvPr/>
        </p:nvSpPr>
        <p:spPr>
          <a:xfrm>
            <a:off x="826920" y="119700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在等腰三角形中作出一些线段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(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如角平分线、中线、高等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)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，你能发现其中一些相等的线段吗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?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你能证明你的结论吗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Rectangle 4"/>
          <p:cNvSpPr/>
          <p:nvPr/>
        </p:nvSpPr>
        <p:spPr>
          <a:xfrm>
            <a:off x="879480" y="2822400"/>
            <a:ext cx="78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作图观察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,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我们可以发现：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等腰三角形两底角的平分线相等；两腰上的高、中线也分别相等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．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8" name="Rectangle 5"/>
          <p:cNvSpPr/>
          <p:nvPr/>
        </p:nvSpPr>
        <p:spPr>
          <a:xfrm>
            <a:off x="900000" y="4005360"/>
            <a:ext cx="76215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我们知道，观察或度量是不够的，感觉不可靠．这就需要以公理和已证明的定理为基础去证明它，让人们坚定不移地去承认它，相信它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下面我们就来证明上面提到的线段中的一种：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等腰三角形两底角的平分线相等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2"/>
          <p:cNvSpPr/>
          <p:nvPr/>
        </p:nvSpPr>
        <p:spPr>
          <a:xfrm>
            <a:off x="539640" y="1628640"/>
            <a:ext cx="58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已知：如图，在△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BC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中，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B=AC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D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、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E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是△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BC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的角平分线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Rectangle 3"/>
          <p:cNvSpPr/>
          <p:nvPr/>
        </p:nvSpPr>
        <p:spPr>
          <a:xfrm>
            <a:off x="1477440" y="981000"/>
            <a:ext cx="426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例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1.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证明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: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等腰三角形两底角的平分线相等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Rectangle 4"/>
          <p:cNvSpPr/>
          <p:nvPr/>
        </p:nvSpPr>
        <p:spPr>
          <a:xfrm>
            <a:off x="855720" y="157320"/>
            <a:ext cx="573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用心想一想，马到功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02" name="Group 5"/>
          <p:cNvGrpSpPr/>
          <p:nvPr/>
        </p:nvGrpSpPr>
        <p:grpSpPr>
          <a:xfrm>
            <a:off x="6443640" y="692280"/>
            <a:ext cx="2259000" cy="2321280"/>
            <a:chOff x="6443640" y="692280"/>
            <a:chExt cx="2259000" cy="2321280"/>
          </a:xfrm>
        </p:grpSpPr>
        <p:grpSp>
          <p:nvGrpSpPr>
            <p:cNvPr id="1003" name="Group 6"/>
            <p:cNvGrpSpPr/>
            <p:nvPr/>
          </p:nvGrpSpPr>
          <p:grpSpPr>
            <a:xfrm>
              <a:off x="6659280" y="981360"/>
              <a:ext cx="1855800" cy="1791360"/>
              <a:chOff x="6659280" y="981360"/>
              <a:chExt cx="1855800" cy="1791360"/>
            </a:xfrm>
          </p:grpSpPr>
          <p:sp>
            <p:nvSpPr>
              <p:cNvPr id="1004" name="Line 7"/>
              <p:cNvSpPr/>
              <p:nvPr/>
            </p:nvSpPr>
            <p:spPr>
              <a:xfrm flipH="1">
                <a:off x="6659280" y="981360"/>
                <a:ext cx="786600" cy="178956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5" name="Line 8"/>
              <p:cNvSpPr/>
              <p:nvPr/>
            </p:nvSpPr>
            <p:spPr>
              <a:xfrm>
                <a:off x="6659640" y="2770920"/>
                <a:ext cx="1855440" cy="18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6" name="Line 9"/>
              <p:cNvSpPr/>
              <p:nvPr/>
            </p:nvSpPr>
            <p:spPr>
              <a:xfrm>
                <a:off x="7446240" y="981360"/>
                <a:ext cx="1068480" cy="178956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7" name="Line 10"/>
              <p:cNvSpPr/>
              <p:nvPr/>
            </p:nvSpPr>
            <p:spPr>
              <a:xfrm flipH="1">
                <a:off x="6659280" y="1901880"/>
                <a:ext cx="1340280" cy="8690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8" name="Line 11"/>
              <p:cNvSpPr/>
              <p:nvPr/>
            </p:nvSpPr>
            <p:spPr>
              <a:xfrm>
                <a:off x="7044840" y="1901880"/>
                <a:ext cx="1469880" cy="8690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09" name="Group 12"/>
            <p:cNvGrpSpPr/>
            <p:nvPr/>
          </p:nvGrpSpPr>
          <p:grpSpPr>
            <a:xfrm>
              <a:off x="8116920" y="2260800"/>
              <a:ext cx="1440" cy="304560"/>
              <a:chOff x="8116920" y="2260800"/>
              <a:chExt cx="1440" cy="304560"/>
            </a:xfrm>
          </p:grpSpPr>
          <p:sp>
            <p:nvSpPr>
              <p:cNvPr id="1010" name="Rectangle 13"/>
              <p:cNvSpPr/>
              <p:nvPr/>
            </p:nvSpPr>
            <p:spPr>
              <a:xfrm>
                <a:off x="8116920" y="2260800"/>
                <a:ext cx="14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1" name="Rectangle 14"/>
              <p:cNvSpPr/>
              <p:nvPr/>
            </p:nvSpPr>
            <p:spPr>
              <a:xfrm>
                <a:off x="8116920" y="2260800"/>
                <a:ext cx="14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12" name="Group 15"/>
            <p:cNvGrpSpPr/>
            <p:nvPr/>
          </p:nvGrpSpPr>
          <p:grpSpPr>
            <a:xfrm>
              <a:off x="7973280" y="2492640"/>
              <a:ext cx="128880" cy="305280"/>
              <a:chOff x="7973280" y="2492640"/>
              <a:chExt cx="128880" cy="305280"/>
            </a:xfrm>
          </p:grpSpPr>
          <p:sp>
            <p:nvSpPr>
              <p:cNvPr id="1013" name="Rectangle 16"/>
              <p:cNvSpPr/>
              <p:nvPr/>
            </p:nvSpPr>
            <p:spPr>
              <a:xfrm>
                <a:off x="7974000" y="2492640"/>
                <a:ext cx="14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4" name="Rectangle 17"/>
              <p:cNvSpPr/>
              <p:nvPr/>
            </p:nvSpPr>
            <p:spPr>
              <a:xfrm>
                <a:off x="7973280" y="2492640"/>
                <a:ext cx="1288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15" name="Group 18"/>
            <p:cNvGrpSpPr/>
            <p:nvPr/>
          </p:nvGrpSpPr>
          <p:grpSpPr>
            <a:xfrm>
              <a:off x="6875280" y="2260800"/>
              <a:ext cx="1440" cy="304560"/>
              <a:chOff x="6875280" y="2260800"/>
              <a:chExt cx="1440" cy="304560"/>
            </a:xfrm>
          </p:grpSpPr>
          <p:sp>
            <p:nvSpPr>
              <p:cNvPr id="1016" name="Rectangle 19"/>
              <p:cNvSpPr/>
              <p:nvPr/>
            </p:nvSpPr>
            <p:spPr>
              <a:xfrm>
                <a:off x="6875280" y="2260800"/>
                <a:ext cx="14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7" name="Rectangle 20"/>
              <p:cNvSpPr/>
              <p:nvPr/>
            </p:nvSpPr>
            <p:spPr>
              <a:xfrm>
                <a:off x="6875280" y="2260800"/>
                <a:ext cx="14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18" name="Group 21"/>
            <p:cNvGrpSpPr/>
            <p:nvPr/>
          </p:nvGrpSpPr>
          <p:grpSpPr>
            <a:xfrm>
              <a:off x="6965280" y="2492640"/>
              <a:ext cx="128880" cy="305280"/>
              <a:chOff x="6965280" y="2492640"/>
              <a:chExt cx="128880" cy="305280"/>
            </a:xfrm>
          </p:grpSpPr>
          <p:sp>
            <p:nvSpPr>
              <p:cNvPr id="1019" name="Rectangle 22"/>
              <p:cNvSpPr/>
              <p:nvPr/>
            </p:nvSpPr>
            <p:spPr>
              <a:xfrm>
                <a:off x="6966000" y="2492640"/>
                <a:ext cx="14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0" name="Rectangle 23"/>
              <p:cNvSpPr/>
              <p:nvPr/>
            </p:nvSpPr>
            <p:spPr>
              <a:xfrm>
                <a:off x="6965280" y="2492640"/>
                <a:ext cx="1288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ff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21" name="Group 24"/>
            <p:cNvGrpSpPr/>
            <p:nvPr/>
          </p:nvGrpSpPr>
          <p:grpSpPr>
            <a:xfrm>
              <a:off x="6804000" y="1700280"/>
              <a:ext cx="169920" cy="305280"/>
              <a:chOff x="6804000" y="1700280"/>
              <a:chExt cx="169920" cy="305280"/>
            </a:xfrm>
          </p:grpSpPr>
          <p:sp>
            <p:nvSpPr>
              <p:cNvPr id="1022" name="Rectangle 25"/>
              <p:cNvSpPr/>
              <p:nvPr/>
            </p:nvSpPr>
            <p:spPr>
              <a:xfrm>
                <a:off x="6804000" y="1700280"/>
                <a:ext cx="144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3" name="Rectangle 26"/>
              <p:cNvSpPr/>
              <p:nvPr/>
            </p:nvSpPr>
            <p:spPr>
              <a:xfrm>
                <a:off x="6804000" y="1700280"/>
                <a:ext cx="1699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2000" spc="-1" strike="noStrike">
                    <a:solidFill>
                      <a:srgbClr val="ffffff"/>
                    </a:solidFill>
                    <a:latin typeface="Times New Roman"/>
                  </a:rPr>
                  <a:t>E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24" name="Group 27"/>
            <p:cNvGrpSpPr/>
            <p:nvPr/>
          </p:nvGrpSpPr>
          <p:grpSpPr>
            <a:xfrm>
              <a:off x="8100720" y="1700280"/>
              <a:ext cx="185040" cy="305280"/>
              <a:chOff x="8100720" y="1700280"/>
              <a:chExt cx="185040" cy="305280"/>
            </a:xfrm>
          </p:grpSpPr>
          <p:sp>
            <p:nvSpPr>
              <p:cNvPr id="1025" name="Rectangle 28"/>
              <p:cNvSpPr/>
              <p:nvPr/>
            </p:nvSpPr>
            <p:spPr>
              <a:xfrm>
                <a:off x="8101080" y="1700280"/>
                <a:ext cx="10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Rectangle 29"/>
              <p:cNvSpPr/>
              <p:nvPr/>
            </p:nvSpPr>
            <p:spPr>
              <a:xfrm>
                <a:off x="8100720" y="1700280"/>
                <a:ext cx="1850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2000" spc="-1" strike="noStrike">
                    <a:solidFill>
                      <a:srgbClr val="ffffff"/>
                    </a:solidFill>
                    <a:latin typeface="Times New Roman"/>
                  </a:rPr>
                  <a:t>D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27" name="Group 30"/>
            <p:cNvGrpSpPr/>
            <p:nvPr/>
          </p:nvGrpSpPr>
          <p:grpSpPr>
            <a:xfrm>
              <a:off x="8532720" y="2708280"/>
              <a:ext cx="169920" cy="305280"/>
              <a:chOff x="8532720" y="2708280"/>
              <a:chExt cx="169920" cy="305280"/>
            </a:xfrm>
          </p:grpSpPr>
          <p:sp>
            <p:nvSpPr>
              <p:cNvPr id="1028" name="Rectangle 31"/>
              <p:cNvSpPr/>
              <p:nvPr/>
            </p:nvSpPr>
            <p:spPr>
              <a:xfrm>
                <a:off x="8532720" y="2708280"/>
                <a:ext cx="144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9" name="Rectangle 32"/>
              <p:cNvSpPr/>
              <p:nvPr/>
            </p:nvSpPr>
            <p:spPr>
              <a:xfrm>
                <a:off x="8532720" y="2708280"/>
                <a:ext cx="1699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2000" spc="-1" strike="noStrike">
                    <a:solidFill>
                      <a:srgbClr val="ffffff"/>
                    </a:solidFill>
                    <a:latin typeface="Times New Roman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30" name="Group 33"/>
            <p:cNvGrpSpPr/>
            <p:nvPr/>
          </p:nvGrpSpPr>
          <p:grpSpPr>
            <a:xfrm>
              <a:off x="6443640" y="2708280"/>
              <a:ext cx="169920" cy="305280"/>
              <a:chOff x="6443640" y="2708280"/>
              <a:chExt cx="169920" cy="305280"/>
            </a:xfrm>
          </p:grpSpPr>
          <p:sp>
            <p:nvSpPr>
              <p:cNvPr id="1031" name="Rectangle 34"/>
              <p:cNvSpPr/>
              <p:nvPr/>
            </p:nvSpPr>
            <p:spPr>
              <a:xfrm>
                <a:off x="6443640" y="2708280"/>
                <a:ext cx="144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2" name="Rectangle 35"/>
              <p:cNvSpPr/>
              <p:nvPr/>
            </p:nvSpPr>
            <p:spPr>
              <a:xfrm>
                <a:off x="6443640" y="2708280"/>
                <a:ext cx="1699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2000" spc="-1" strike="noStrike">
                    <a:solidFill>
                      <a:srgbClr val="ffffff"/>
                    </a:solidFill>
                    <a:latin typeface="Times New Roman"/>
                  </a:rPr>
                  <a:t>B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33" name="Group 36"/>
            <p:cNvGrpSpPr/>
            <p:nvPr/>
          </p:nvGrpSpPr>
          <p:grpSpPr>
            <a:xfrm>
              <a:off x="7380360" y="692280"/>
              <a:ext cx="169920" cy="305280"/>
              <a:chOff x="7380360" y="692280"/>
              <a:chExt cx="169920" cy="305280"/>
            </a:xfrm>
          </p:grpSpPr>
          <p:sp>
            <p:nvSpPr>
              <p:cNvPr id="1034" name="Rectangle 37"/>
              <p:cNvSpPr/>
              <p:nvPr/>
            </p:nvSpPr>
            <p:spPr>
              <a:xfrm>
                <a:off x="7380360" y="692280"/>
                <a:ext cx="144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5" name="Rectangle 38"/>
              <p:cNvSpPr/>
              <p:nvPr/>
            </p:nvSpPr>
            <p:spPr>
              <a:xfrm>
                <a:off x="7380360" y="692280"/>
                <a:ext cx="1699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2000" spc="-1" strike="noStrike">
                    <a:solidFill>
                      <a:srgbClr val="ffffff"/>
                    </a:solidFill>
                    <a:latin typeface="Times New Roman"/>
                  </a:rPr>
                  <a:t>A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36" name="Rectangle 39"/>
          <p:cNvSpPr/>
          <p:nvPr/>
        </p:nvSpPr>
        <p:spPr>
          <a:xfrm>
            <a:off x="607320" y="2421000"/>
            <a:ext cx="231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求证：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D=CE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37" name="Group 40"/>
          <p:cNvGrpSpPr/>
          <p:nvPr/>
        </p:nvGrpSpPr>
        <p:grpSpPr>
          <a:xfrm>
            <a:off x="539640" y="3141720"/>
            <a:ext cx="8064360" cy="3277080"/>
            <a:chOff x="539640" y="3141720"/>
            <a:chExt cx="8064360" cy="3277080"/>
          </a:xfrm>
        </p:grpSpPr>
        <p:sp>
          <p:nvSpPr>
            <p:cNvPr id="1038" name="Rectangle 41"/>
            <p:cNvSpPr/>
            <p:nvPr/>
          </p:nvSpPr>
          <p:spPr>
            <a:xfrm>
              <a:off x="539640" y="3141720"/>
              <a:ext cx="8064360" cy="32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证明：∵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AB=AC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，∴∠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ABC=∠ACB(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等边对等角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)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．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              ∵∠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1=    ∠ABC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，∠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2=     ∠ACB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，∴∠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1=∠2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．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              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在△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BDC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和△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CEB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中，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              ∵∠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ACB=∠ABC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，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BC=CB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，∠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1=∠2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．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              ∴△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BDC≌△CEB(ASA)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．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              ∴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BD=CE(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全等三角形的对应边相等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)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．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39" name="Object 42"/>
                <p:cNvSpPr txBox="1"/>
                <p:nvPr/>
              </p:nvSpPr>
              <p:spPr>
                <a:xfrm>
                  <a:off x="2763720" y="3573360"/>
                  <a:ext cx="512640" cy="792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40" name="Object 43"/>
                <p:cNvSpPr txBox="1"/>
                <p:nvPr/>
              </p:nvSpPr>
              <p:spPr>
                <a:xfrm>
                  <a:off x="5003640" y="3573360"/>
                  <a:ext cx="512640" cy="792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Rectangle 2"/>
          <p:cNvSpPr/>
          <p:nvPr/>
        </p:nvSpPr>
        <p:spPr>
          <a:xfrm>
            <a:off x="539640" y="1628640"/>
            <a:ext cx="58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已知：如图，在△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BC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中，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B=AC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D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、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E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是△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BC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的角平分线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2" name="Rectangle 3"/>
          <p:cNvSpPr/>
          <p:nvPr/>
        </p:nvSpPr>
        <p:spPr>
          <a:xfrm>
            <a:off x="1477440" y="981000"/>
            <a:ext cx="426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例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1.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证明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: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等腰三角形两底角的平分线相等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3" name="Rectangle 4"/>
          <p:cNvSpPr/>
          <p:nvPr/>
        </p:nvSpPr>
        <p:spPr>
          <a:xfrm>
            <a:off x="855720" y="157320"/>
            <a:ext cx="573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用心想一想，马到功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44" name="Group 5"/>
          <p:cNvGrpSpPr/>
          <p:nvPr/>
        </p:nvGrpSpPr>
        <p:grpSpPr>
          <a:xfrm>
            <a:off x="6300720" y="907920"/>
            <a:ext cx="2259000" cy="2321280"/>
            <a:chOff x="6300720" y="907920"/>
            <a:chExt cx="2259000" cy="2321280"/>
          </a:xfrm>
        </p:grpSpPr>
        <p:grpSp>
          <p:nvGrpSpPr>
            <p:cNvPr id="1045" name="Group 6"/>
            <p:cNvGrpSpPr/>
            <p:nvPr/>
          </p:nvGrpSpPr>
          <p:grpSpPr>
            <a:xfrm>
              <a:off x="6516360" y="1197000"/>
              <a:ext cx="1855800" cy="1791360"/>
              <a:chOff x="6516360" y="1197000"/>
              <a:chExt cx="1855800" cy="1791360"/>
            </a:xfrm>
          </p:grpSpPr>
          <p:sp>
            <p:nvSpPr>
              <p:cNvPr id="1046" name="Line 7"/>
              <p:cNvSpPr/>
              <p:nvPr/>
            </p:nvSpPr>
            <p:spPr>
              <a:xfrm flipH="1">
                <a:off x="6516360" y="1197000"/>
                <a:ext cx="786600" cy="178956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7" name="Line 8"/>
              <p:cNvSpPr/>
              <p:nvPr/>
            </p:nvSpPr>
            <p:spPr>
              <a:xfrm>
                <a:off x="6516720" y="2986560"/>
                <a:ext cx="1855440" cy="18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8" name="Line 9"/>
              <p:cNvSpPr/>
              <p:nvPr/>
            </p:nvSpPr>
            <p:spPr>
              <a:xfrm>
                <a:off x="7303320" y="1197000"/>
                <a:ext cx="1068480" cy="178956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9" name="Line 10"/>
              <p:cNvSpPr/>
              <p:nvPr/>
            </p:nvSpPr>
            <p:spPr>
              <a:xfrm flipH="1">
                <a:off x="6516360" y="2117520"/>
                <a:ext cx="1340280" cy="8690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0" name="Line 11"/>
              <p:cNvSpPr/>
              <p:nvPr/>
            </p:nvSpPr>
            <p:spPr>
              <a:xfrm>
                <a:off x="6901920" y="2117520"/>
                <a:ext cx="1469880" cy="8690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51" name="Group 12"/>
            <p:cNvGrpSpPr/>
            <p:nvPr/>
          </p:nvGrpSpPr>
          <p:grpSpPr>
            <a:xfrm>
              <a:off x="7973280" y="2476440"/>
              <a:ext cx="128880" cy="305280"/>
              <a:chOff x="7973280" y="2476440"/>
              <a:chExt cx="128880" cy="305280"/>
            </a:xfrm>
          </p:grpSpPr>
          <p:sp>
            <p:nvSpPr>
              <p:cNvPr id="1052" name="Rectangle 13"/>
              <p:cNvSpPr/>
              <p:nvPr/>
            </p:nvSpPr>
            <p:spPr>
              <a:xfrm>
                <a:off x="7974000" y="2476440"/>
                <a:ext cx="14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3" name="Rectangle 14"/>
              <p:cNvSpPr/>
              <p:nvPr/>
            </p:nvSpPr>
            <p:spPr>
              <a:xfrm>
                <a:off x="7973280" y="2476440"/>
                <a:ext cx="1288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ff"/>
                    </a:solidFill>
                    <a:latin typeface="Times New Roman"/>
                  </a:rPr>
                  <a:t>4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54" name="Group 15"/>
            <p:cNvGrpSpPr/>
            <p:nvPr/>
          </p:nvGrpSpPr>
          <p:grpSpPr>
            <a:xfrm>
              <a:off x="7831080" y="2708280"/>
              <a:ext cx="1440" cy="304560"/>
              <a:chOff x="7831080" y="2708280"/>
              <a:chExt cx="1440" cy="304560"/>
            </a:xfrm>
          </p:grpSpPr>
          <p:sp>
            <p:nvSpPr>
              <p:cNvPr id="1055" name="Rectangle 16"/>
              <p:cNvSpPr/>
              <p:nvPr/>
            </p:nvSpPr>
            <p:spPr>
              <a:xfrm>
                <a:off x="7831080" y="2708280"/>
                <a:ext cx="14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6" name="Rectangle 17"/>
              <p:cNvSpPr/>
              <p:nvPr/>
            </p:nvSpPr>
            <p:spPr>
              <a:xfrm>
                <a:off x="7831080" y="2708280"/>
                <a:ext cx="14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57" name="Group 18"/>
            <p:cNvGrpSpPr/>
            <p:nvPr/>
          </p:nvGrpSpPr>
          <p:grpSpPr>
            <a:xfrm>
              <a:off x="6731640" y="2476440"/>
              <a:ext cx="128880" cy="305280"/>
              <a:chOff x="6731640" y="2476440"/>
              <a:chExt cx="128880" cy="305280"/>
            </a:xfrm>
          </p:grpSpPr>
          <p:sp>
            <p:nvSpPr>
              <p:cNvPr id="1058" name="Rectangle 19"/>
              <p:cNvSpPr/>
              <p:nvPr/>
            </p:nvSpPr>
            <p:spPr>
              <a:xfrm>
                <a:off x="6732360" y="2476440"/>
                <a:ext cx="14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9" name="Rectangle 20"/>
              <p:cNvSpPr/>
              <p:nvPr/>
            </p:nvSpPr>
            <p:spPr>
              <a:xfrm>
                <a:off x="6731640" y="2476440"/>
                <a:ext cx="1288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ff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60" name="Group 21"/>
            <p:cNvGrpSpPr/>
            <p:nvPr/>
          </p:nvGrpSpPr>
          <p:grpSpPr>
            <a:xfrm>
              <a:off x="6823080" y="2708280"/>
              <a:ext cx="1440" cy="304560"/>
              <a:chOff x="6823080" y="2708280"/>
              <a:chExt cx="1440" cy="304560"/>
            </a:xfrm>
          </p:grpSpPr>
          <p:sp>
            <p:nvSpPr>
              <p:cNvPr id="1061" name="Rectangle 22"/>
              <p:cNvSpPr/>
              <p:nvPr/>
            </p:nvSpPr>
            <p:spPr>
              <a:xfrm>
                <a:off x="6823080" y="2708280"/>
                <a:ext cx="14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2" name="Rectangle 23"/>
              <p:cNvSpPr/>
              <p:nvPr/>
            </p:nvSpPr>
            <p:spPr>
              <a:xfrm>
                <a:off x="6823080" y="2708280"/>
                <a:ext cx="14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63" name="Group 24"/>
            <p:cNvGrpSpPr/>
            <p:nvPr/>
          </p:nvGrpSpPr>
          <p:grpSpPr>
            <a:xfrm>
              <a:off x="6661080" y="1915920"/>
              <a:ext cx="169920" cy="305280"/>
              <a:chOff x="6661080" y="1915920"/>
              <a:chExt cx="169920" cy="305280"/>
            </a:xfrm>
          </p:grpSpPr>
          <p:sp>
            <p:nvSpPr>
              <p:cNvPr id="1064" name="Rectangle 25"/>
              <p:cNvSpPr/>
              <p:nvPr/>
            </p:nvSpPr>
            <p:spPr>
              <a:xfrm>
                <a:off x="6661080" y="1915920"/>
                <a:ext cx="144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5" name="Rectangle 26"/>
              <p:cNvSpPr/>
              <p:nvPr/>
            </p:nvSpPr>
            <p:spPr>
              <a:xfrm>
                <a:off x="6661080" y="1915920"/>
                <a:ext cx="1699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2000" spc="-1" strike="noStrike">
                    <a:solidFill>
                      <a:srgbClr val="ffffff"/>
                    </a:solidFill>
                    <a:latin typeface="Times New Roman"/>
                  </a:rPr>
                  <a:t>E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66" name="Group 27"/>
            <p:cNvGrpSpPr/>
            <p:nvPr/>
          </p:nvGrpSpPr>
          <p:grpSpPr>
            <a:xfrm>
              <a:off x="7957800" y="1915920"/>
              <a:ext cx="185040" cy="305280"/>
              <a:chOff x="7957800" y="1915920"/>
              <a:chExt cx="185040" cy="305280"/>
            </a:xfrm>
          </p:grpSpPr>
          <p:sp>
            <p:nvSpPr>
              <p:cNvPr id="1067" name="Rectangle 28"/>
              <p:cNvSpPr/>
              <p:nvPr/>
            </p:nvSpPr>
            <p:spPr>
              <a:xfrm>
                <a:off x="7958160" y="1915920"/>
                <a:ext cx="10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8" name="Rectangle 29"/>
              <p:cNvSpPr/>
              <p:nvPr/>
            </p:nvSpPr>
            <p:spPr>
              <a:xfrm>
                <a:off x="7957800" y="1915920"/>
                <a:ext cx="1850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2000" spc="-1" strike="noStrike">
                    <a:solidFill>
                      <a:srgbClr val="ffffff"/>
                    </a:solidFill>
                    <a:latin typeface="Times New Roman"/>
                  </a:rPr>
                  <a:t>D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69" name="Group 30"/>
            <p:cNvGrpSpPr/>
            <p:nvPr/>
          </p:nvGrpSpPr>
          <p:grpSpPr>
            <a:xfrm>
              <a:off x="8389800" y="2923920"/>
              <a:ext cx="169920" cy="305280"/>
              <a:chOff x="8389800" y="2923920"/>
              <a:chExt cx="169920" cy="305280"/>
            </a:xfrm>
          </p:grpSpPr>
          <p:sp>
            <p:nvSpPr>
              <p:cNvPr id="1070" name="Rectangle 31"/>
              <p:cNvSpPr/>
              <p:nvPr/>
            </p:nvSpPr>
            <p:spPr>
              <a:xfrm>
                <a:off x="8389800" y="2923920"/>
                <a:ext cx="144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1" name="Rectangle 32"/>
              <p:cNvSpPr/>
              <p:nvPr/>
            </p:nvSpPr>
            <p:spPr>
              <a:xfrm>
                <a:off x="8389800" y="2923920"/>
                <a:ext cx="1699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2000" spc="-1" strike="noStrike">
                    <a:solidFill>
                      <a:srgbClr val="ffffff"/>
                    </a:solidFill>
                    <a:latin typeface="Times New Roman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72" name="Group 33"/>
            <p:cNvGrpSpPr/>
            <p:nvPr/>
          </p:nvGrpSpPr>
          <p:grpSpPr>
            <a:xfrm>
              <a:off x="6300720" y="2923920"/>
              <a:ext cx="169920" cy="305280"/>
              <a:chOff x="6300720" y="2923920"/>
              <a:chExt cx="169920" cy="305280"/>
            </a:xfrm>
          </p:grpSpPr>
          <p:sp>
            <p:nvSpPr>
              <p:cNvPr id="1073" name="Rectangle 34"/>
              <p:cNvSpPr/>
              <p:nvPr/>
            </p:nvSpPr>
            <p:spPr>
              <a:xfrm>
                <a:off x="6300720" y="2923920"/>
                <a:ext cx="144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4" name="Rectangle 35"/>
              <p:cNvSpPr/>
              <p:nvPr/>
            </p:nvSpPr>
            <p:spPr>
              <a:xfrm>
                <a:off x="6300720" y="2923920"/>
                <a:ext cx="1699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2000" spc="-1" strike="noStrike">
                    <a:solidFill>
                      <a:srgbClr val="ffffff"/>
                    </a:solidFill>
                    <a:latin typeface="Times New Roman"/>
                  </a:rPr>
                  <a:t>B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75" name="Group 36"/>
            <p:cNvGrpSpPr/>
            <p:nvPr/>
          </p:nvGrpSpPr>
          <p:grpSpPr>
            <a:xfrm>
              <a:off x="7237440" y="907920"/>
              <a:ext cx="169920" cy="305280"/>
              <a:chOff x="7237440" y="907920"/>
              <a:chExt cx="169920" cy="305280"/>
            </a:xfrm>
          </p:grpSpPr>
          <p:sp>
            <p:nvSpPr>
              <p:cNvPr id="1076" name="Rectangle 37"/>
              <p:cNvSpPr/>
              <p:nvPr/>
            </p:nvSpPr>
            <p:spPr>
              <a:xfrm>
                <a:off x="7237440" y="907920"/>
                <a:ext cx="144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7" name="Rectangle 38"/>
              <p:cNvSpPr/>
              <p:nvPr/>
            </p:nvSpPr>
            <p:spPr>
              <a:xfrm>
                <a:off x="7237440" y="907920"/>
                <a:ext cx="1699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2000" spc="-1" strike="noStrike">
                    <a:solidFill>
                      <a:srgbClr val="ffffff"/>
                    </a:solidFill>
                    <a:latin typeface="Times New Roman"/>
                  </a:rPr>
                  <a:t>A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78" name="Rectangle 39"/>
          <p:cNvSpPr/>
          <p:nvPr/>
        </p:nvSpPr>
        <p:spPr>
          <a:xfrm>
            <a:off x="678960" y="2421000"/>
            <a:ext cx="231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求证：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D=CE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9" name="WordArt 40"/>
          <p:cNvSpPr txBox="1"/>
          <p:nvPr/>
        </p:nvSpPr>
        <p:spPr>
          <a:xfrm rot="1138800">
            <a:off x="7315200" y="333360"/>
            <a:ext cx="1828800" cy="52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ffcc99"/>
                  </a:solidFill>
                  <a:miter/>
                </a:ln>
                <a:solidFill>
                  <a:srgbClr val="0000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黑体"/>
              </a:rPr>
              <a:t>一题多解</a:t>
            </a:r>
            <a:endParaRPr b="1" lang="en-US" sz="1800" spc="1" strike="noStrike">
              <a:ln w="12600">
                <a:solidFill>
                  <a:srgbClr val="ffcc99"/>
                </a:solidFill>
                <a:miter/>
              </a:ln>
              <a:solidFill>
                <a:srgbClr val="0000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黑体"/>
              <a:ea typeface="黑体"/>
            </a:endParaRPr>
          </a:p>
        </p:txBody>
      </p:sp>
      <p:grpSp>
        <p:nvGrpSpPr>
          <p:cNvPr id="1080" name="Group 41"/>
          <p:cNvGrpSpPr/>
          <p:nvPr/>
        </p:nvGrpSpPr>
        <p:grpSpPr>
          <a:xfrm>
            <a:off x="612720" y="3141720"/>
            <a:ext cx="8280360" cy="3240720"/>
            <a:chOff x="612720" y="3141720"/>
            <a:chExt cx="8280360" cy="3240720"/>
          </a:xfrm>
        </p:grpSpPr>
        <p:sp>
          <p:nvSpPr>
            <p:cNvPr id="1081" name="Rectangle 42"/>
            <p:cNvSpPr/>
            <p:nvPr/>
          </p:nvSpPr>
          <p:spPr>
            <a:xfrm>
              <a:off x="612720" y="3141720"/>
              <a:ext cx="8280360" cy="32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证明：∵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AB=AC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，∴∠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ABC=∠ACB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．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           ∵∠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3=    ∠ABC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，∠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4=    ∠ACB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， ∴∠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3=∠4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．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           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在△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ABD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和△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ACE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中，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           ∵∠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3=∠4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，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AB=AC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，∠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A=∠A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．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           ∴△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ABD≌△ACE(ASA)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．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           ∴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BD=CE(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全等三角形的对应边相等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)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．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82" name="Object 43"/>
                <p:cNvSpPr txBox="1"/>
                <p:nvPr/>
              </p:nvSpPr>
              <p:spPr>
                <a:xfrm>
                  <a:off x="2627280" y="3500640"/>
                  <a:ext cx="512640" cy="792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83" name="Object 44"/>
                <p:cNvSpPr txBox="1"/>
                <p:nvPr/>
              </p:nvSpPr>
              <p:spPr>
                <a:xfrm>
                  <a:off x="4859280" y="3500640"/>
                  <a:ext cx="512640" cy="792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WordArt 2"/>
          <p:cNvSpPr txBox="1"/>
          <p:nvPr/>
        </p:nvSpPr>
        <p:spPr>
          <a:xfrm>
            <a:off x="539640" y="620640"/>
            <a:ext cx="4114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8000"/>
                    </a:srgbClr>
                  </a:outerShdw>
                </a:effectLst>
                <a:latin typeface="黑体"/>
              </a:rPr>
              <a:t>大胆尝试，练一练！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8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085" name="Rectangle 3"/>
          <p:cNvSpPr/>
          <p:nvPr/>
        </p:nvSpPr>
        <p:spPr>
          <a:xfrm>
            <a:off x="615960" y="2276640"/>
            <a:ext cx="583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已知：如图，在△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BC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中，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B=AC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D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、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E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是△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BC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的高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6" name="Rectangle 4"/>
          <p:cNvSpPr/>
          <p:nvPr/>
        </p:nvSpPr>
        <p:spPr>
          <a:xfrm>
            <a:off x="1360440" y="1557360"/>
            <a:ext cx="364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1.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证明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: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等腰三角形两腰上的高相等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7" name="Rectangle 5"/>
          <p:cNvSpPr/>
          <p:nvPr/>
        </p:nvSpPr>
        <p:spPr>
          <a:xfrm>
            <a:off x="823320" y="3187800"/>
            <a:ext cx="231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求证：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D=CE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88" name="Group 6"/>
          <p:cNvGrpSpPr/>
          <p:nvPr/>
        </p:nvGrpSpPr>
        <p:grpSpPr>
          <a:xfrm>
            <a:off x="6377040" y="1555920"/>
            <a:ext cx="2259000" cy="2321280"/>
            <a:chOff x="6377040" y="1555920"/>
            <a:chExt cx="2259000" cy="2321280"/>
          </a:xfrm>
        </p:grpSpPr>
        <p:sp>
          <p:nvSpPr>
            <p:cNvPr id="1089" name="Line 7"/>
            <p:cNvSpPr/>
            <p:nvPr/>
          </p:nvSpPr>
          <p:spPr>
            <a:xfrm flipH="1">
              <a:off x="6592680" y="1845000"/>
              <a:ext cx="787320" cy="17906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Line 8"/>
            <p:cNvSpPr/>
            <p:nvPr/>
          </p:nvSpPr>
          <p:spPr>
            <a:xfrm>
              <a:off x="6593040" y="3635640"/>
              <a:ext cx="185580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Line 9"/>
            <p:cNvSpPr/>
            <p:nvPr/>
          </p:nvSpPr>
          <p:spPr>
            <a:xfrm>
              <a:off x="7380360" y="1845000"/>
              <a:ext cx="1068480" cy="17906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Line 10"/>
            <p:cNvSpPr/>
            <p:nvPr/>
          </p:nvSpPr>
          <p:spPr>
            <a:xfrm flipH="1">
              <a:off x="6593040" y="2924280"/>
              <a:ext cx="1363680" cy="7113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3" name="Line 11"/>
            <p:cNvSpPr/>
            <p:nvPr/>
          </p:nvSpPr>
          <p:spPr>
            <a:xfrm>
              <a:off x="6877080" y="2924280"/>
              <a:ext cx="1571760" cy="7113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94" name="Group 12"/>
            <p:cNvGrpSpPr/>
            <p:nvPr/>
          </p:nvGrpSpPr>
          <p:grpSpPr>
            <a:xfrm>
              <a:off x="6737400" y="2563920"/>
              <a:ext cx="169920" cy="305280"/>
              <a:chOff x="6737400" y="2563920"/>
              <a:chExt cx="169920" cy="305280"/>
            </a:xfrm>
          </p:grpSpPr>
          <p:sp>
            <p:nvSpPr>
              <p:cNvPr id="1095" name="Rectangle 13"/>
              <p:cNvSpPr/>
              <p:nvPr/>
            </p:nvSpPr>
            <p:spPr>
              <a:xfrm>
                <a:off x="6737400" y="2563920"/>
                <a:ext cx="144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6" name="Rectangle 14"/>
              <p:cNvSpPr/>
              <p:nvPr/>
            </p:nvSpPr>
            <p:spPr>
              <a:xfrm>
                <a:off x="6737400" y="2563920"/>
                <a:ext cx="1699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2000" spc="-1" strike="noStrike">
                    <a:solidFill>
                      <a:srgbClr val="ffffff"/>
                    </a:solidFill>
                    <a:latin typeface="Times New Roman"/>
                  </a:rPr>
                  <a:t>E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97" name="Group 15"/>
            <p:cNvGrpSpPr/>
            <p:nvPr/>
          </p:nvGrpSpPr>
          <p:grpSpPr>
            <a:xfrm>
              <a:off x="8034120" y="2563920"/>
              <a:ext cx="185040" cy="305280"/>
              <a:chOff x="8034120" y="2563920"/>
              <a:chExt cx="185040" cy="305280"/>
            </a:xfrm>
          </p:grpSpPr>
          <p:sp>
            <p:nvSpPr>
              <p:cNvPr id="1098" name="Rectangle 16"/>
              <p:cNvSpPr/>
              <p:nvPr/>
            </p:nvSpPr>
            <p:spPr>
              <a:xfrm>
                <a:off x="8034480" y="2563920"/>
                <a:ext cx="10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9" name="Rectangle 17"/>
              <p:cNvSpPr/>
              <p:nvPr/>
            </p:nvSpPr>
            <p:spPr>
              <a:xfrm>
                <a:off x="8034120" y="2563920"/>
                <a:ext cx="1850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2000" spc="-1" strike="noStrike">
                    <a:solidFill>
                      <a:srgbClr val="ffffff"/>
                    </a:solidFill>
                    <a:latin typeface="Times New Roman"/>
                  </a:rPr>
                  <a:t>D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00" name="Group 18"/>
            <p:cNvGrpSpPr/>
            <p:nvPr/>
          </p:nvGrpSpPr>
          <p:grpSpPr>
            <a:xfrm>
              <a:off x="8466120" y="3571920"/>
              <a:ext cx="169920" cy="305280"/>
              <a:chOff x="8466120" y="3571920"/>
              <a:chExt cx="169920" cy="305280"/>
            </a:xfrm>
          </p:grpSpPr>
          <p:sp>
            <p:nvSpPr>
              <p:cNvPr id="1101" name="Rectangle 19"/>
              <p:cNvSpPr/>
              <p:nvPr/>
            </p:nvSpPr>
            <p:spPr>
              <a:xfrm>
                <a:off x="8466120" y="3571920"/>
                <a:ext cx="144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2" name="Rectangle 20"/>
              <p:cNvSpPr/>
              <p:nvPr/>
            </p:nvSpPr>
            <p:spPr>
              <a:xfrm>
                <a:off x="8466120" y="3571920"/>
                <a:ext cx="1699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2000" spc="-1" strike="noStrike">
                    <a:solidFill>
                      <a:srgbClr val="ffffff"/>
                    </a:solidFill>
                    <a:latin typeface="Times New Roman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03" name="Group 21"/>
            <p:cNvGrpSpPr/>
            <p:nvPr/>
          </p:nvGrpSpPr>
          <p:grpSpPr>
            <a:xfrm>
              <a:off x="6377040" y="3571920"/>
              <a:ext cx="169920" cy="305280"/>
              <a:chOff x="6377040" y="3571920"/>
              <a:chExt cx="169920" cy="305280"/>
            </a:xfrm>
          </p:grpSpPr>
          <p:sp>
            <p:nvSpPr>
              <p:cNvPr id="1104" name="Rectangle 22"/>
              <p:cNvSpPr/>
              <p:nvPr/>
            </p:nvSpPr>
            <p:spPr>
              <a:xfrm>
                <a:off x="6377040" y="3571920"/>
                <a:ext cx="144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5" name="Rectangle 23"/>
              <p:cNvSpPr/>
              <p:nvPr/>
            </p:nvSpPr>
            <p:spPr>
              <a:xfrm>
                <a:off x="6377040" y="3571920"/>
                <a:ext cx="1699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2000" spc="-1" strike="noStrike">
                    <a:solidFill>
                      <a:srgbClr val="ffffff"/>
                    </a:solidFill>
                    <a:latin typeface="Times New Roman"/>
                  </a:rPr>
                  <a:t>B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06" name="Group 24"/>
            <p:cNvGrpSpPr/>
            <p:nvPr/>
          </p:nvGrpSpPr>
          <p:grpSpPr>
            <a:xfrm>
              <a:off x="7313760" y="1555920"/>
              <a:ext cx="169920" cy="305280"/>
              <a:chOff x="7313760" y="1555920"/>
              <a:chExt cx="169920" cy="305280"/>
            </a:xfrm>
          </p:grpSpPr>
          <p:sp>
            <p:nvSpPr>
              <p:cNvPr id="1107" name="Rectangle 25"/>
              <p:cNvSpPr/>
              <p:nvPr/>
            </p:nvSpPr>
            <p:spPr>
              <a:xfrm>
                <a:off x="7313760" y="1555920"/>
                <a:ext cx="144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8" name="Rectangle 26"/>
              <p:cNvSpPr/>
              <p:nvPr/>
            </p:nvSpPr>
            <p:spPr>
              <a:xfrm>
                <a:off x="7313760" y="1555920"/>
                <a:ext cx="1699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2000" spc="-1" strike="noStrike">
                    <a:solidFill>
                      <a:srgbClr val="ffffff"/>
                    </a:solidFill>
                    <a:latin typeface="Times New Roman"/>
                  </a:rPr>
                  <a:t>A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09" name="Rectangle 27"/>
            <p:cNvSpPr/>
            <p:nvPr/>
          </p:nvSpPr>
          <p:spPr>
            <a:xfrm rot="1252200">
              <a:off x="6862680" y="2981520"/>
              <a:ext cx="157320" cy="15696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0" name="Rectangle 28"/>
            <p:cNvSpPr/>
            <p:nvPr/>
          </p:nvSpPr>
          <p:spPr>
            <a:xfrm flipH="1" rot="3282600">
              <a:off x="7879680" y="2918880"/>
              <a:ext cx="157320" cy="15768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1" name="Rectangle 29"/>
          <p:cNvSpPr/>
          <p:nvPr/>
        </p:nvSpPr>
        <p:spPr>
          <a:xfrm>
            <a:off x="900000" y="4437000"/>
            <a:ext cx="720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分析：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要证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D=CE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，就需证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D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和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E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所在的两个三角形的全等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WordArt 2"/>
          <p:cNvSpPr txBox="1"/>
          <p:nvPr/>
        </p:nvSpPr>
        <p:spPr>
          <a:xfrm>
            <a:off x="539640" y="620640"/>
            <a:ext cx="4114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8000"/>
                    </a:srgbClr>
                  </a:outerShdw>
                </a:effectLst>
                <a:latin typeface="黑体"/>
              </a:rPr>
              <a:t>大胆尝试，练一练！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8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113" name="Rectangle 3"/>
          <p:cNvSpPr/>
          <p:nvPr/>
        </p:nvSpPr>
        <p:spPr>
          <a:xfrm>
            <a:off x="615960" y="2276640"/>
            <a:ext cx="583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已知：如图，在△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BC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中，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B=AC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D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、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E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是△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BC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的中线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1565280" y="1557360"/>
            <a:ext cx="382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2.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证明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: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等腰三角形两腰上的中线相等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5" name="Rectangle 5"/>
          <p:cNvSpPr/>
          <p:nvPr/>
        </p:nvSpPr>
        <p:spPr>
          <a:xfrm>
            <a:off x="752040" y="3187800"/>
            <a:ext cx="231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求证：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D=CE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16" name="Group 6"/>
          <p:cNvGrpSpPr/>
          <p:nvPr/>
        </p:nvGrpSpPr>
        <p:grpSpPr>
          <a:xfrm>
            <a:off x="6377040" y="1555920"/>
            <a:ext cx="2259000" cy="2321280"/>
            <a:chOff x="6377040" y="1555920"/>
            <a:chExt cx="2259000" cy="2321280"/>
          </a:xfrm>
        </p:grpSpPr>
        <p:sp>
          <p:nvSpPr>
            <p:cNvPr id="1117" name="Line 7"/>
            <p:cNvSpPr/>
            <p:nvPr/>
          </p:nvSpPr>
          <p:spPr>
            <a:xfrm flipH="1">
              <a:off x="6592680" y="1845000"/>
              <a:ext cx="787320" cy="17906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8" name="Line 8"/>
            <p:cNvSpPr/>
            <p:nvPr/>
          </p:nvSpPr>
          <p:spPr>
            <a:xfrm>
              <a:off x="6593040" y="3635640"/>
              <a:ext cx="185580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9" name="Line 9"/>
            <p:cNvSpPr/>
            <p:nvPr/>
          </p:nvSpPr>
          <p:spPr>
            <a:xfrm>
              <a:off x="7380360" y="1845000"/>
              <a:ext cx="1068480" cy="17906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0" name="Line 10"/>
            <p:cNvSpPr/>
            <p:nvPr/>
          </p:nvSpPr>
          <p:spPr>
            <a:xfrm flipH="1">
              <a:off x="6593040" y="2781360"/>
              <a:ext cx="1363680" cy="854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1" name="Line 11"/>
            <p:cNvSpPr/>
            <p:nvPr/>
          </p:nvSpPr>
          <p:spPr>
            <a:xfrm>
              <a:off x="6948720" y="2781360"/>
              <a:ext cx="1500120" cy="854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22" name="Group 12"/>
            <p:cNvGrpSpPr/>
            <p:nvPr/>
          </p:nvGrpSpPr>
          <p:grpSpPr>
            <a:xfrm>
              <a:off x="6732720" y="2548080"/>
              <a:ext cx="169920" cy="305280"/>
              <a:chOff x="6732720" y="2548080"/>
              <a:chExt cx="169920" cy="305280"/>
            </a:xfrm>
          </p:grpSpPr>
          <p:sp>
            <p:nvSpPr>
              <p:cNvPr id="1123" name="Rectangle 13"/>
              <p:cNvSpPr/>
              <p:nvPr/>
            </p:nvSpPr>
            <p:spPr>
              <a:xfrm>
                <a:off x="6732720" y="2548080"/>
                <a:ext cx="144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4" name="Rectangle 14"/>
              <p:cNvSpPr/>
              <p:nvPr/>
            </p:nvSpPr>
            <p:spPr>
              <a:xfrm>
                <a:off x="6732720" y="2548080"/>
                <a:ext cx="1699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2000" spc="-1" strike="noStrike">
                    <a:solidFill>
                      <a:srgbClr val="ffffff"/>
                    </a:solidFill>
                    <a:latin typeface="Times New Roman"/>
                  </a:rPr>
                  <a:t>E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25" name="Group 15"/>
            <p:cNvGrpSpPr/>
            <p:nvPr/>
          </p:nvGrpSpPr>
          <p:grpSpPr>
            <a:xfrm>
              <a:off x="7988040" y="2548080"/>
              <a:ext cx="185040" cy="305280"/>
              <a:chOff x="7988040" y="2548080"/>
              <a:chExt cx="185040" cy="305280"/>
            </a:xfrm>
          </p:grpSpPr>
          <p:sp>
            <p:nvSpPr>
              <p:cNvPr id="1126" name="Rectangle 16"/>
              <p:cNvSpPr/>
              <p:nvPr/>
            </p:nvSpPr>
            <p:spPr>
              <a:xfrm>
                <a:off x="7988400" y="2548080"/>
                <a:ext cx="10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7" name="Rectangle 17"/>
              <p:cNvSpPr/>
              <p:nvPr/>
            </p:nvSpPr>
            <p:spPr>
              <a:xfrm>
                <a:off x="7988040" y="2548080"/>
                <a:ext cx="1850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2000" spc="-1" strike="noStrike">
                    <a:solidFill>
                      <a:srgbClr val="ffffff"/>
                    </a:solidFill>
                    <a:latin typeface="Times New Roman"/>
                  </a:rPr>
                  <a:t>D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28" name="Group 18"/>
            <p:cNvGrpSpPr/>
            <p:nvPr/>
          </p:nvGrpSpPr>
          <p:grpSpPr>
            <a:xfrm>
              <a:off x="8466120" y="3571920"/>
              <a:ext cx="169920" cy="305280"/>
              <a:chOff x="8466120" y="3571920"/>
              <a:chExt cx="169920" cy="305280"/>
            </a:xfrm>
          </p:grpSpPr>
          <p:sp>
            <p:nvSpPr>
              <p:cNvPr id="1129" name="Rectangle 19"/>
              <p:cNvSpPr/>
              <p:nvPr/>
            </p:nvSpPr>
            <p:spPr>
              <a:xfrm>
                <a:off x="8466120" y="3571920"/>
                <a:ext cx="144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0" name="Rectangle 20"/>
              <p:cNvSpPr/>
              <p:nvPr/>
            </p:nvSpPr>
            <p:spPr>
              <a:xfrm>
                <a:off x="8466120" y="3571920"/>
                <a:ext cx="1699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2000" spc="-1" strike="noStrike">
                    <a:solidFill>
                      <a:srgbClr val="ffffff"/>
                    </a:solidFill>
                    <a:latin typeface="Times New Roman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31" name="Group 21"/>
            <p:cNvGrpSpPr/>
            <p:nvPr/>
          </p:nvGrpSpPr>
          <p:grpSpPr>
            <a:xfrm>
              <a:off x="6377040" y="3571920"/>
              <a:ext cx="169920" cy="305280"/>
              <a:chOff x="6377040" y="3571920"/>
              <a:chExt cx="169920" cy="305280"/>
            </a:xfrm>
          </p:grpSpPr>
          <p:sp>
            <p:nvSpPr>
              <p:cNvPr id="1132" name="Rectangle 22"/>
              <p:cNvSpPr/>
              <p:nvPr/>
            </p:nvSpPr>
            <p:spPr>
              <a:xfrm>
                <a:off x="6377040" y="3571920"/>
                <a:ext cx="144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3" name="Rectangle 23"/>
              <p:cNvSpPr/>
              <p:nvPr/>
            </p:nvSpPr>
            <p:spPr>
              <a:xfrm>
                <a:off x="6377040" y="3571920"/>
                <a:ext cx="1699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2000" spc="-1" strike="noStrike">
                    <a:solidFill>
                      <a:srgbClr val="ffffff"/>
                    </a:solidFill>
                    <a:latin typeface="Times New Roman"/>
                  </a:rPr>
                  <a:t>B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34" name="Group 24"/>
            <p:cNvGrpSpPr/>
            <p:nvPr/>
          </p:nvGrpSpPr>
          <p:grpSpPr>
            <a:xfrm>
              <a:off x="7313760" y="1555920"/>
              <a:ext cx="169920" cy="305280"/>
              <a:chOff x="7313760" y="1555920"/>
              <a:chExt cx="169920" cy="305280"/>
            </a:xfrm>
          </p:grpSpPr>
          <p:sp>
            <p:nvSpPr>
              <p:cNvPr id="1135" name="Rectangle 25"/>
              <p:cNvSpPr/>
              <p:nvPr/>
            </p:nvSpPr>
            <p:spPr>
              <a:xfrm>
                <a:off x="7313760" y="1555920"/>
                <a:ext cx="144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6" name="Rectangle 26"/>
              <p:cNvSpPr/>
              <p:nvPr/>
            </p:nvSpPr>
            <p:spPr>
              <a:xfrm>
                <a:off x="7313760" y="1555920"/>
                <a:ext cx="1699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2000" spc="-1" strike="noStrike">
                    <a:solidFill>
                      <a:srgbClr val="ffffff"/>
                    </a:solidFill>
                    <a:latin typeface="Times New Roman"/>
                  </a:rPr>
                  <a:t>A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37" name="Rectangle 27"/>
          <p:cNvSpPr/>
          <p:nvPr/>
        </p:nvSpPr>
        <p:spPr>
          <a:xfrm>
            <a:off x="900000" y="4437000"/>
            <a:ext cx="720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分析：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要证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D=CE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，就需证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D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和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E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所在的两个三角形的全等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" dur="20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Rectangle 2"/>
          <p:cNvSpPr/>
          <p:nvPr/>
        </p:nvSpPr>
        <p:spPr>
          <a:xfrm>
            <a:off x="612720" y="1628640"/>
            <a:ext cx="79200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刚才，我们只是发现并证明了等腰三角形中比较特殊的线段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角平分线、中线、高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)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相等，还有其他的结论吗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?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你能从上述证明的过程中得到什么启示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把腰二等分的线段相等，把底角二等分的线段相等．如果是三等分、四等分……结果如何呢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9" name="Rectangle 3"/>
          <p:cNvSpPr/>
          <p:nvPr/>
        </p:nvSpPr>
        <p:spPr>
          <a:xfrm>
            <a:off x="1143000" y="627120"/>
            <a:ext cx="422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想一想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,   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做一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Rectangle 2"/>
          <p:cNvSpPr/>
          <p:nvPr/>
        </p:nvSpPr>
        <p:spPr>
          <a:xfrm>
            <a:off x="784080" y="482760"/>
            <a:ext cx="191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议一议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41" name="Group 3"/>
          <p:cNvGrpSpPr/>
          <p:nvPr/>
        </p:nvGrpSpPr>
        <p:grpSpPr>
          <a:xfrm>
            <a:off x="684360" y="1555920"/>
            <a:ext cx="8137440" cy="3960720"/>
            <a:chOff x="684360" y="1555920"/>
            <a:chExt cx="8137440" cy="3960720"/>
          </a:xfrm>
        </p:grpSpPr>
        <p:sp>
          <p:nvSpPr>
            <p:cNvPr id="1142" name="Rectangle 4"/>
            <p:cNvSpPr/>
            <p:nvPr/>
          </p:nvSpPr>
          <p:spPr>
            <a:xfrm>
              <a:off x="684360" y="1555920"/>
              <a:ext cx="8137440" cy="340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        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1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．在等腰三角形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ABC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中，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(1)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如果∠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ABD=     ∠ABC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，∠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ACE=     ∠ACB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，那么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BD=CE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吗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?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如果∠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ABD=     ∠ABC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，∠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ACE=     ∠ACB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呢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?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由此，你能得到一个什么结论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?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(2)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如果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AD=      AC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，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AE=      AB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，那么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BD=CE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吗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?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如果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AD=      AC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，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AE=     AB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呢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?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由此你得到什么结论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?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43" name="Object 5"/>
                <p:cNvSpPr txBox="1"/>
                <p:nvPr/>
              </p:nvSpPr>
              <p:spPr>
                <a:xfrm>
                  <a:off x="2908440" y="2060640"/>
                  <a:ext cx="512640" cy="792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44" name="Object 6"/>
                <p:cNvSpPr txBox="1"/>
                <p:nvPr/>
              </p:nvSpPr>
              <p:spPr>
                <a:xfrm>
                  <a:off x="2413080" y="4003920"/>
                  <a:ext cx="513000" cy="792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45" name="Object 7"/>
                <p:cNvSpPr txBox="1"/>
                <p:nvPr/>
              </p:nvSpPr>
              <p:spPr>
                <a:xfrm>
                  <a:off x="5745240" y="2060640"/>
                  <a:ext cx="513000" cy="792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46" name="Object 8"/>
                <p:cNvSpPr txBox="1"/>
                <p:nvPr/>
              </p:nvSpPr>
              <p:spPr>
                <a:xfrm>
                  <a:off x="4213440" y="4003920"/>
                  <a:ext cx="512640" cy="792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47" name="Object 9"/>
                <p:cNvSpPr txBox="1"/>
                <p:nvPr/>
              </p:nvSpPr>
              <p:spPr>
                <a:xfrm>
                  <a:off x="1374840" y="4724640"/>
                  <a:ext cx="555840" cy="792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48" name="Object 10"/>
                <p:cNvSpPr txBox="1"/>
                <p:nvPr/>
              </p:nvSpPr>
              <p:spPr>
                <a:xfrm>
                  <a:off x="3184560" y="4722840"/>
                  <a:ext cx="555840" cy="792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49" name="Object 11"/>
                <p:cNvSpPr txBox="1"/>
                <p:nvPr/>
              </p:nvSpPr>
              <p:spPr>
                <a:xfrm>
                  <a:off x="4048200" y="2637000"/>
                  <a:ext cx="555840" cy="792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50" name="Object 12"/>
                <p:cNvSpPr txBox="1"/>
                <p:nvPr/>
              </p:nvSpPr>
              <p:spPr>
                <a:xfrm>
                  <a:off x="6885000" y="2637000"/>
                  <a:ext cx="555840" cy="792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Rectangle 2"/>
          <p:cNvSpPr/>
          <p:nvPr/>
        </p:nvSpPr>
        <p:spPr>
          <a:xfrm>
            <a:off x="1187280" y="195120"/>
            <a:ext cx="191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小结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52" name="Group 3"/>
          <p:cNvGrpSpPr/>
          <p:nvPr/>
        </p:nvGrpSpPr>
        <p:grpSpPr>
          <a:xfrm>
            <a:off x="395280" y="836640"/>
            <a:ext cx="8569440" cy="3240000"/>
            <a:chOff x="395280" y="836640"/>
            <a:chExt cx="8569440" cy="3240000"/>
          </a:xfrm>
        </p:grpSpPr>
        <p:sp>
          <p:nvSpPr>
            <p:cNvPr id="1153" name="Rectangle 4"/>
            <p:cNvSpPr/>
            <p:nvPr/>
          </p:nvSpPr>
          <p:spPr>
            <a:xfrm>
              <a:off x="395280" y="836640"/>
              <a:ext cx="8569440" cy="321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        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（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1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）在△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ABC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中，如果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AB=AC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，∠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ABD=     ∠ABC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，∠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ACE=     ∠ACB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，那么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BD=CE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        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（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2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）在△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ABC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中，如果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AB=AC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，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AD=      AC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，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AE=      AB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，那么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BD=CE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54" name="Object 5"/>
                <p:cNvSpPr txBox="1"/>
                <p:nvPr/>
              </p:nvSpPr>
              <p:spPr>
                <a:xfrm>
                  <a:off x="6948360" y="907920"/>
                  <a:ext cx="513000" cy="792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n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55" name="Object 6"/>
                <p:cNvSpPr txBox="1"/>
                <p:nvPr/>
              </p:nvSpPr>
              <p:spPr>
                <a:xfrm>
                  <a:off x="1611360" y="1700280"/>
                  <a:ext cx="512640" cy="792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n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56" name="Object 7"/>
                <p:cNvSpPr txBox="1"/>
                <p:nvPr/>
              </p:nvSpPr>
              <p:spPr>
                <a:xfrm>
                  <a:off x="1106640" y="3284640"/>
                  <a:ext cx="512640" cy="792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n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57" name="Object 8"/>
                <p:cNvSpPr txBox="1"/>
                <p:nvPr/>
              </p:nvSpPr>
              <p:spPr>
                <a:xfrm>
                  <a:off x="6443640" y="2563920"/>
                  <a:ext cx="512640" cy="792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n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158" name="Rectangle 9"/>
          <p:cNvSpPr/>
          <p:nvPr/>
        </p:nvSpPr>
        <p:spPr>
          <a:xfrm>
            <a:off x="395280" y="4248000"/>
            <a:ext cx="856944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简述为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（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）在△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BC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中，如果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B=AC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，∠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BD=∠ACE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，那么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D=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（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）在△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BC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中，如果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B=AC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，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D=AE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，那么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D=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4-02-21T01:33:49Z</dcterms:modified>
  <cp:revision>1</cp:revision>
  <dc:subject/>
  <dc:title/>
</cp:coreProperties>
</file>