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type.wav" ContentType="audio/x-wav"/>
  <Override PartName="/ppt/media/chimes.wav" ContentType="audio/x-wav"/>
  <Override PartName="/ppt/media/image4.gif" ContentType="image/gif"/>
  <Override PartName="/ppt/media/image6.jpeg" ContentType="image/jpeg"/>
  <Override PartName="/ppt/media/image5.gif" ContentType="image/gi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EA00-EDD2-4FC9-9994-D5AA2DAF76A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994A-75EE-4E6D-90C9-2DC6596BB689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205E-2773-4631-94A0-F749315E9D2B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3AFF-852D-4AE3-8FC3-88EE94EB5E7E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26DE-B13E-446D-AEA9-6A8E30EA9B08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1436-9D1B-4870-9AC1-208FC733EF3F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19E1-4DF2-45BC-BC20-3FFF6CCFFFAC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D87A-CB80-420B-BB29-0EE81B3DCDF4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B912-9813-4CCB-8D58-69BAFC0562E2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BAC9-039E-4B14-97E0-A22B50FD0437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7F37-9A2C-44DC-81FC-7973CB6CDBB6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73EE-62A7-4AEA-B72D-F904FC163310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4330-30FC-4905-8ED7-F3817C8C8043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5493-2A3D-43CA-9ED4-A7CCF088828A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1405-BE29-4250-8403-1BE272378275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5717-C64F-4B44-B62A-59A0715C4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A3AB-957F-4AF4-BFC2-90D09F7A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F4B8E-8109-4748-BFBB-FC4E042F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9FD67B-F84D-43B4-8E7F-A78FBD4F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C2413-86B8-445D-9AFC-93ADDF3E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CDCCE-987F-4E6E-B555-C827D02A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62B32-8FBB-4B2C-B392-55897F75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B5F11-46F1-4E28-8D7B-9C10A349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62EBB-5A8B-4110-AF5A-7A4E977D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8DEE94-B4F9-4F77-8D5C-214123530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CD5E5-AE91-43BC-866D-BE561568C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FFA68-626B-49A5-BC95-3061F5B00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2A31-253B-4B67-9154-EDC6DA4CE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FCAC8-A8AC-4CFA-91A9-2D01F316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98CFB-416D-42B8-A530-4D1763A2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10A94-6FC1-48AC-ADAC-C2FF0B0F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27B72B-962E-483C-922A-2D2EDA7E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EE77DA-8C7D-479C-A0EE-B7EBE122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14A443-07AB-4620-B675-1ADDAE36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D43314-0B34-485C-A686-F67D674C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BA490-C66E-4151-95DB-D47ECA3B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0199A1-52D3-49D2-AC39-B4D74260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99568-3BC0-4E38-BC7E-1E2E74B2E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05B4-F91C-4012-A15A-5E3EBE409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FC4E0D-FFA3-4111-B3EE-2A13192E0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60C8C-EABF-485A-A2E3-30E34BE62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D82C7-AFC7-4501-B8C4-4B67B9D3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6B173-70DA-4CF0-BE29-6C01B534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73B96-36F8-49F0-8B8C-A601833A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D61FC-01D1-4370-BFEE-CD682D32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3AB73-098F-48FD-9C03-5532A8A9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75F10-743D-4224-883F-3600AA8D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6C461-8CFF-4B55-B584-937AAD93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582A4-AA32-4591-9E16-C885FACD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6D28-66F5-406D-841B-270DDE6C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55B01-D7BD-4568-8FD2-78EAF3F4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41D12-AD96-4422-9A3D-2DD92EE09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AFF8C-C5B4-405E-86EA-42920FF35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90DF32-AA4C-43A7-A673-E7AAABCC0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3A7274-571D-4CA6-B4BE-F1C8E008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C56B9-B78C-476A-BD62-6E220AAF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A361BD-7CD3-4099-A378-C0FD69E2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38D570-0E54-41A3-9724-B52D7D64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49FF0-40F2-4ABD-B0A5-69225F0B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74B66D-E921-467C-9E03-C4CC7D6B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8F53-FBD7-4947-BCE1-4A7A0A2F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4D7953-36FD-487D-BBA7-67F619A3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1E303B-FBFA-41F5-9D3F-9064F909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5327DD-6B1C-423B-ADA8-D14FF679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B3946F-3140-4BE1-972B-BDC88910F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7CC47-E7C1-4F80-8E61-C63B51BE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480C-CFCB-4B1D-ADB3-7FD12DB7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37EB-646A-47B5-9B22-62806440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638B-B513-44C6-8A8D-BE63C1AF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870E-8377-452A-860C-9FC2FCA9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9DF6-7E09-4786-A1A5-F1817F46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A2D4-46F1-4E83-9DE8-B9C2A325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6AF4-B0F4-4F26-B14A-846864CB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E20C-1E42-4B78-928E-64159535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981A-6648-4595-8136-1653959D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74FB-849B-46AC-8ECB-573A02D93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D706-7A82-4035-9173-F402B6B88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24BEF-53B6-4A81-91E5-2943E4DA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87A02-4CC8-4756-B693-5FE22F31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6B59F-ADA9-4E08-A07A-FDFFCB6C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7063A-8B0D-465C-8D24-9D0B1946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B7B5E-78F8-43FA-8D9B-0F0091CD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97BE-409E-4654-80C5-FE729663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F750D-E0AA-4E2B-BD7C-6F5256EF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AEAE1-B02A-4FD7-A746-824E40D5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E0E6C-1A9F-4B51-B342-7D659DEB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84013-0291-411E-BA61-FFD859B2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3B464-75B9-42C1-9C61-65C0A891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7E571-16EE-4252-8B12-AB342F6D8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C6975-5D84-4913-A127-269824995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F8282-8AAC-46D1-AEDB-D274E3986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6E199-36EE-42BF-A611-44426E77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FAE29-A897-418C-AFB7-C81C9353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BA36-E01B-44E1-8591-AD118A96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3F068-519F-498C-922A-724BD3A1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DD6DA-8C9E-42D8-8C98-DBE4A3F8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A00CA-3893-4508-832A-03316FE3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FC4C5-84CF-48E9-BEA6-7DC10697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02437-A7B7-410A-859F-0AF992B2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206DA-B814-47F9-8FCF-A5E115A7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F199E-80F1-49F8-9067-72132875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96D97-959F-4761-B77F-C2A26B8D2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441C6-D094-4C7B-AAD0-1DB860B73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5CE13-50A9-4B54-9F79-35F9598E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D548-429A-4C92-B96C-225DA3AD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D836B-02F8-447C-BFB4-5E92E7E9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2C793-CC25-4981-A81B-C415C3BA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0BADD-BEBC-4ED7-BABA-761FFA33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0832B-88B1-40FF-9146-E56F4B0E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ADC19-38F4-4CF6-B48E-44C5873E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B1C85-4509-43FB-AA0E-23C5951B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64681-8A2B-4BAF-8EDE-66A047F6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67D27-09EF-48B5-8A9F-22E7926D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14B10-D1B2-4F6D-BA48-BAA652B4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D8D3F-1B3E-4EE5-96B1-D733C04C5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41C4-D6B6-4C09-9FA2-30D8DF38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63BAB-E971-4DCC-AA1D-3C527E3DF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D2C0D-2632-400D-8517-F32C7760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53835-4FF8-442E-944A-63095B51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7FD70-F046-4661-BEDF-90AAA8A1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5DCA5-4404-4807-BCD3-036B9F3C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86C03-C477-4525-98BA-8B8CA21B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F6B94-421A-4C7A-AE1D-D3D494FF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93C75-9FB3-4875-B038-D538108A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D9063-764F-4A63-8F5D-4DF7D315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0F658-48ED-4F5E-A68B-DEA7562D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866B-D663-435A-8010-66AB04F9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F9BD9-DFAA-4371-ADC9-9F5C7E98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5450D-3D35-44A4-9A5E-D136F6F7D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F8124-2274-4140-B3D1-9DA4BE6F0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2A962-C415-4C78-952A-A25EDCF73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8EF2F-6301-4896-8A4F-28E2E616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DED9F-BAE1-48EC-9CD2-F1440327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16C2F-E8E1-46B7-9DB6-A55C177E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737AF-F92B-49F3-B700-BDBD1E8B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C8DFF-60BB-4794-9E71-4E7E8B4E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D3F29-7292-4150-9C6C-5A2E160B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5423-EE5C-4B4E-BE01-9F5CD2C8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BB3EE-33A8-48F5-BE7F-E6CD6F8E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AE10A-2C5F-4639-AE44-83C28902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CC3DF-C6F7-40B8-AF88-DBA6C906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E5B17-9406-4E24-9FEB-8D14FD18D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08772-3C11-4BE6-B466-9A7EC109D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548EE-5DB1-4DC8-9DD9-05A077B5F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217A0-80BD-4CB8-BD2C-49A80EC2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21F3B-63A5-4AB2-926B-B46AE3B6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75294-AF74-4682-8B8F-7D5D07A2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3B61C-7D34-4BA5-9402-4A5778D0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2378-C617-4D5C-A51B-812B3722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775C7-F88A-4603-AD1F-47AD8028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6865F-3C26-44C3-9BF7-7350DF8B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D4F32-D8C1-4BBB-914C-0DDEBDA7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AACAE-CCD0-41B9-8464-D063AE2B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13E1F-4486-4006-B649-3B877E58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0EE1A-AA26-4582-9475-E897115E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663A2-D1AC-4476-8C84-D0D8DD48D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B8612-93CE-4082-96C3-AA33544E8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7737D-B23B-4F85-9567-4177F6FE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C15C32-093C-4837-A501-3989CFA4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24A8-EFBB-42BF-9148-9940AE925DCB}" type="datetime">
              <a:rPr b="0" lang="zh-CN" sz="1200" spc="-1" strike="noStrike">
                <a:solidFill>
                  <a:srgbClr val="ffffff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B48B-FE55-492B-B55B-998825ECC137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图片 6" descr="透明社标.png"/>
          <p:cNvPicPr/>
          <p:nvPr/>
        </p:nvPicPr>
        <p:blipFill>
          <a:blip r:embed="rId3"/>
          <a:stretch/>
        </p:blipFill>
        <p:spPr>
          <a:xfrm>
            <a:off x="6156360" y="6093000"/>
            <a:ext cx="280836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49A1-1A9D-4892-A5C8-31DDA23BE54F}" type="datetime">
              <a:rPr b="0" lang="zh-CN" sz="1200" spc="-1" strike="noStrike">
                <a:solidFill>
                  <a:srgbClr val="ffffff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BAB7-830D-4398-BF1C-BBC06EE0B6BA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A503-B4AF-4872-BCDB-0A62BFF5129D}" type="datetime">
              <a:rPr b="0" lang="zh-CN" sz="1200" spc="-1" strike="noStrike">
                <a:solidFill>
                  <a:srgbClr val="ffffff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2C9B-2BFF-4195-B2FB-7D6EF24E6CE6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D33B-7476-431E-9DB0-E53B73335650}" type="datetime">
              <a:rPr b="0" lang="zh-CN" sz="1200" spc="-1" strike="noStrike">
                <a:solidFill>
                  <a:srgbClr val="ffffff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0478-6ED4-4C64-8D49-7D7F9B1311BC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6CF1-DE33-4E2D-9A92-D28BB68CF44E}" type="datetime">
              <a:rPr b="0" lang="zh-CN" sz="1200" spc="-1" strike="noStrike">
                <a:solidFill>
                  <a:srgbClr val="ffffff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A40A-1DE2-420F-850A-42C82B95C4A7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B1B4-9C0A-4B64-AAAE-4AC778187D9D}" type="datetime">
              <a:rPr b="0" lang="zh-CN" sz="1200" spc="-1" strike="noStrike">
                <a:solidFill>
                  <a:srgbClr val="ffffff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70FC-07F3-432E-88DD-9A1E599D9597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4299-C8E2-4A61-9374-D8B3E9AF850D}" type="datetime">
              <a:rPr b="0" lang="zh-CN" sz="1200" spc="-1" strike="noStrike">
                <a:solidFill>
                  <a:srgbClr val="ffffff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43B7-3584-4EA3-A1B3-44B324AB8BE2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EFCB-87A1-4B5B-BB5B-ABA32FB9737C}" type="datetime">
              <a:rPr b="0" lang="zh-CN" sz="1200" spc="-1" strike="noStrike">
                <a:solidFill>
                  <a:srgbClr val="ffffff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B81D-80BD-4C43-89AC-6EC8121DE67E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5444-2A0C-4D12-994E-778CB78A290E}" type="datetime">
              <a:rPr b="0" lang="zh-CN" sz="1200" spc="-1" strike="noStrike">
                <a:solidFill>
                  <a:srgbClr val="ffffff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CEE5-4994-4904-ACBE-2D96130DC9BB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7CC0-DE7A-4A95-863F-0C2C3DFE7ADD}" type="datetime">
              <a:rPr b="0" lang="zh-CN" sz="1200" spc="-1" strike="noStrike">
                <a:solidFill>
                  <a:srgbClr val="ffffff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88E3-7D1F-4964-82CB-63A3B0FFA6D8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2C98-35E9-497C-9093-6CE8B0374006}" type="datetime">
              <a:rPr b="0" lang="zh-CN" sz="1200" spc="-1" strike="noStrike">
                <a:solidFill>
                  <a:srgbClr val="ffffff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82BA-E2E2-4FC2-8508-CBDBB334FE37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5514-AD2B-4AB6-9FD3-EAB2768F8681}" type="datetime">
              <a:rPr b="0" lang="zh-CN" sz="1200" spc="-1" strike="noStrike">
                <a:solidFill>
                  <a:srgbClr val="ffffff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C257-EF5C-4099-A6EB-DE9B1DFCA23D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WordArt 2" descr=""/>
          <p:cNvPicPr/>
          <p:nvPr/>
        </p:nvPicPr>
        <p:blipFill>
          <a:blip r:embed="rId1"/>
          <a:stretch/>
        </p:blipFill>
        <p:spPr>
          <a:xfrm>
            <a:off x="981000" y="3273480"/>
            <a:ext cx="6986520" cy="774720"/>
          </a:xfrm>
          <a:prstGeom prst="rect">
            <a:avLst/>
          </a:prstGeom>
          <a:ln w="0">
            <a:noFill/>
          </a:ln>
        </p:spPr>
      </p:pic>
      <p:sp>
        <p:nvSpPr>
          <p:cNvPr id="501" name="WordArt 3"/>
          <p:cNvSpPr txBox="1"/>
          <p:nvPr/>
        </p:nvSpPr>
        <p:spPr>
          <a:xfrm>
            <a:off x="755640" y="1268280"/>
            <a:ext cx="7620120" cy="89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第一章  三角形的证明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1143000" y="137160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8" name="Group 3"/>
          <p:cNvGrpSpPr/>
          <p:nvPr/>
        </p:nvGrpSpPr>
        <p:grpSpPr>
          <a:xfrm>
            <a:off x="701640" y="577800"/>
            <a:ext cx="3300120" cy="614160"/>
            <a:chOff x="701640" y="577800"/>
            <a:chExt cx="3300120" cy="614160"/>
          </a:xfrm>
        </p:grpSpPr>
        <p:sp>
          <p:nvSpPr>
            <p:cNvPr id="589" name="Rectangle 4"/>
            <p:cNvSpPr/>
            <p:nvPr/>
          </p:nvSpPr>
          <p:spPr>
            <a:xfrm>
              <a:off x="701640" y="610560"/>
              <a:ext cx="217692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隶书"/>
                </a:rPr>
                <a:t>隋堂练习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Rectangle 5"/>
            <p:cNvSpPr/>
            <p:nvPr/>
          </p:nvSpPr>
          <p:spPr>
            <a:xfrm>
              <a:off x="2527200" y="604800"/>
              <a:ext cx="26748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91" name="Picture 6" descr="678"/>
            <p:cNvPicPr/>
            <p:nvPr/>
          </p:nvPicPr>
          <p:blipFill>
            <a:blip r:embed="rId1"/>
            <a:stretch/>
          </p:blipFill>
          <p:spPr>
            <a:xfrm>
              <a:off x="2878560" y="577800"/>
              <a:ext cx="1123200" cy="47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Picture 7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701640" y="682920"/>
              <a:ext cx="49140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3" name="Rectangle 8"/>
          <p:cNvSpPr/>
          <p:nvPr/>
        </p:nvSpPr>
        <p:spPr>
          <a:xfrm>
            <a:off x="250920" y="1773360"/>
            <a:ext cx="8604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用反证法证明：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一个三角形中不能有两个角是直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已知：△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求证：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中不能有两个角是直角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Rectangle 9"/>
          <p:cNvSpPr/>
          <p:nvPr/>
        </p:nvSpPr>
        <p:spPr>
          <a:xfrm>
            <a:off x="250920" y="3429000"/>
            <a:ext cx="88930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证明：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假设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中有两个角是直角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，不妨设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=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=90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°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，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+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+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=90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°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90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°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＞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80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°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这与三角形内角和定理矛盾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所以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=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=90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°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不成立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所以一个三角形中不能有两个角是直角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2"/>
          <p:cNvSpPr/>
          <p:nvPr/>
        </p:nvSpPr>
        <p:spPr>
          <a:xfrm>
            <a:off x="2000160" y="47628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活动与探究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Rectangle 3"/>
          <p:cNvSpPr/>
          <p:nvPr/>
        </p:nvSpPr>
        <p:spPr>
          <a:xfrm>
            <a:off x="396720" y="174636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如图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D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平分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BA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D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平分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CB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，且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N∥BC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，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=1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C=18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△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MN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的周长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    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Rectangle 4"/>
          <p:cNvSpPr/>
          <p:nvPr/>
        </p:nvSpPr>
        <p:spPr>
          <a:xfrm>
            <a:off x="396720" y="3373560"/>
            <a:ext cx="482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8f61d"/>
                </a:solidFill>
                <a:latin typeface="Arial"/>
                <a:ea typeface="Times New Roman"/>
              </a:rPr>
              <a:t>       </a:t>
            </a:r>
            <a:r>
              <a:rPr b="1" lang="zh-CN" sz="2400" spc="-1" strike="noStrike">
                <a:solidFill>
                  <a:srgbClr val="18f61d"/>
                </a:solidFill>
                <a:latin typeface="Arial"/>
                <a:ea typeface="Times New Roman"/>
              </a:rPr>
              <a:t>分析：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要求△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MN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的周长，则需求出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M+MN+AN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，而这三条边都是未知的．由已知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B=12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，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C=18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，可使我们联想到△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MN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的周长需转化成与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、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C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有关系的形式．而已知中的角平分线和平行线告诉我们图形中有等腰三角形出现，因此，找到问题的突破口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8" name="Group 5"/>
          <p:cNvGrpSpPr/>
          <p:nvPr/>
        </p:nvGrpSpPr>
        <p:grpSpPr>
          <a:xfrm>
            <a:off x="5210280" y="3057480"/>
            <a:ext cx="3682800" cy="2819520"/>
            <a:chOff x="5210280" y="3057480"/>
            <a:chExt cx="3682800" cy="2819520"/>
          </a:xfrm>
        </p:grpSpPr>
        <p:sp>
          <p:nvSpPr>
            <p:cNvPr id="599" name="AutoShape 6"/>
            <p:cNvSpPr/>
            <p:nvPr/>
          </p:nvSpPr>
          <p:spPr>
            <a:xfrm>
              <a:off x="5210280" y="3057480"/>
              <a:ext cx="368280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Line 7"/>
            <p:cNvSpPr/>
            <p:nvPr/>
          </p:nvSpPr>
          <p:spPr>
            <a:xfrm>
              <a:off x="5654520" y="5421240"/>
              <a:ext cx="2779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Line 8"/>
            <p:cNvSpPr/>
            <p:nvPr/>
          </p:nvSpPr>
          <p:spPr>
            <a:xfrm>
              <a:off x="6349680" y="3568680"/>
              <a:ext cx="2084040" cy="185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Line 9"/>
            <p:cNvSpPr/>
            <p:nvPr/>
          </p:nvSpPr>
          <p:spPr>
            <a:xfrm flipH="1">
              <a:off x="5654520" y="3568680"/>
              <a:ext cx="694800" cy="185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Line 10"/>
            <p:cNvSpPr/>
            <p:nvPr/>
          </p:nvSpPr>
          <p:spPr>
            <a:xfrm>
              <a:off x="5876640" y="4813200"/>
              <a:ext cx="187596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Line 11"/>
            <p:cNvSpPr/>
            <p:nvPr/>
          </p:nvSpPr>
          <p:spPr>
            <a:xfrm flipH="1">
              <a:off x="5654520" y="4825800"/>
              <a:ext cx="1112400" cy="59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Line 12"/>
            <p:cNvSpPr/>
            <p:nvPr/>
          </p:nvSpPr>
          <p:spPr>
            <a:xfrm>
              <a:off x="6767280" y="4825800"/>
              <a:ext cx="1666440" cy="59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6" name="Group 13"/>
            <p:cNvGrpSpPr/>
            <p:nvPr/>
          </p:nvGrpSpPr>
          <p:grpSpPr>
            <a:xfrm>
              <a:off x="7848720" y="4564080"/>
              <a:ext cx="240120" cy="396360"/>
              <a:chOff x="7848720" y="4564080"/>
              <a:chExt cx="240120" cy="396360"/>
            </a:xfrm>
          </p:grpSpPr>
          <p:sp>
            <p:nvSpPr>
              <p:cNvPr id="607" name="Rectangle 14"/>
              <p:cNvSpPr/>
              <p:nvPr/>
            </p:nvSpPr>
            <p:spPr>
              <a:xfrm>
                <a:off x="7849800" y="4564080"/>
                <a:ext cx="1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Rectangle 15"/>
              <p:cNvSpPr/>
              <p:nvPr/>
            </p:nvSpPr>
            <p:spPr>
              <a:xfrm>
                <a:off x="7848720" y="4564080"/>
                <a:ext cx="2401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9" name="Group 16"/>
            <p:cNvGrpSpPr/>
            <p:nvPr/>
          </p:nvGrpSpPr>
          <p:grpSpPr>
            <a:xfrm>
              <a:off x="5542560" y="4605120"/>
              <a:ext cx="294840" cy="396360"/>
              <a:chOff x="5542560" y="4605120"/>
              <a:chExt cx="294840" cy="396360"/>
            </a:xfrm>
          </p:grpSpPr>
          <p:sp>
            <p:nvSpPr>
              <p:cNvPr id="610" name="Rectangle 17"/>
              <p:cNvSpPr/>
              <p:nvPr/>
            </p:nvSpPr>
            <p:spPr>
              <a:xfrm>
                <a:off x="5543280" y="4605120"/>
                <a:ext cx="1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Rectangle 18"/>
              <p:cNvSpPr/>
              <p:nvPr/>
            </p:nvSpPr>
            <p:spPr>
              <a:xfrm>
                <a:off x="5542560" y="4605120"/>
                <a:ext cx="2948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6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2" name="Group 19"/>
            <p:cNvGrpSpPr/>
            <p:nvPr/>
          </p:nvGrpSpPr>
          <p:grpSpPr>
            <a:xfrm>
              <a:off x="8433360" y="5324400"/>
              <a:ext cx="221760" cy="396360"/>
              <a:chOff x="8433360" y="5324400"/>
              <a:chExt cx="221760" cy="396360"/>
            </a:xfrm>
          </p:grpSpPr>
          <p:sp>
            <p:nvSpPr>
              <p:cNvPr id="613" name="Rectangle 20"/>
              <p:cNvSpPr/>
              <p:nvPr/>
            </p:nvSpPr>
            <p:spPr>
              <a:xfrm>
                <a:off x="8434080" y="5324400"/>
                <a:ext cx="1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Rectangle 21"/>
              <p:cNvSpPr/>
              <p:nvPr/>
            </p:nvSpPr>
            <p:spPr>
              <a:xfrm>
                <a:off x="8433360" y="5324400"/>
                <a:ext cx="2217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5" name="Group 22"/>
            <p:cNvGrpSpPr/>
            <p:nvPr/>
          </p:nvGrpSpPr>
          <p:grpSpPr>
            <a:xfrm>
              <a:off x="5404320" y="5324400"/>
              <a:ext cx="221760" cy="396360"/>
              <a:chOff x="5404320" y="5324400"/>
              <a:chExt cx="221760" cy="396360"/>
            </a:xfrm>
          </p:grpSpPr>
          <p:sp>
            <p:nvSpPr>
              <p:cNvPr id="616" name="Rectangle 23"/>
              <p:cNvSpPr/>
              <p:nvPr/>
            </p:nvSpPr>
            <p:spPr>
              <a:xfrm>
                <a:off x="5405040" y="5324400"/>
                <a:ext cx="1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Rectangle 24"/>
              <p:cNvSpPr/>
              <p:nvPr/>
            </p:nvSpPr>
            <p:spPr>
              <a:xfrm>
                <a:off x="5404320" y="5324400"/>
                <a:ext cx="2217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8" name="Group 25"/>
            <p:cNvGrpSpPr/>
            <p:nvPr/>
          </p:nvGrpSpPr>
          <p:grpSpPr>
            <a:xfrm>
              <a:off x="6126840" y="3224160"/>
              <a:ext cx="221760" cy="396360"/>
              <a:chOff x="6126840" y="3224160"/>
              <a:chExt cx="221760" cy="396360"/>
            </a:xfrm>
          </p:grpSpPr>
          <p:sp>
            <p:nvSpPr>
              <p:cNvPr id="619" name="Rectangle 26"/>
              <p:cNvSpPr/>
              <p:nvPr/>
            </p:nvSpPr>
            <p:spPr>
              <a:xfrm>
                <a:off x="6127560" y="3224160"/>
                <a:ext cx="1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Rectangle 27"/>
              <p:cNvSpPr/>
              <p:nvPr/>
            </p:nvSpPr>
            <p:spPr>
              <a:xfrm>
                <a:off x="6126840" y="3224160"/>
                <a:ext cx="2217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1" name="Group 28"/>
            <p:cNvGrpSpPr/>
            <p:nvPr/>
          </p:nvGrpSpPr>
          <p:grpSpPr>
            <a:xfrm>
              <a:off x="6654960" y="4452840"/>
              <a:ext cx="240120" cy="396360"/>
              <a:chOff x="6654960" y="4452840"/>
              <a:chExt cx="240120" cy="396360"/>
            </a:xfrm>
          </p:grpSpPr>
          <p:sp>
            <p:nvSpPr>
              <p:cNvPr id="622" name="Rectangle 29"/>
              <p:cNvSpPr/>
              <p:nvPr/>
            </p:nvSpPr>
            <p:spPr>
              <a:xfrm>
                <a:off x="6656040" y="4452840"/>
                <a:ext cx="1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Rectangle 30"/>
              <p:cNvSpPr/>
              <p:nvPr/>
            </p:nvSpPr>
            <p:spPr>
              <a:xfrm>
                <a:off x="6654960" y="4452840"/>
                <a:ext cx="2401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6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144360" y="1628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现有等腰三角形纸片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如果能从一个角的顶点出发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将原纸片一次剪开成两块等腰三角形纸片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问此时的等腰三角形的顶角的度数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?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AutoShape 3"/>
          <p:cNvSpPr/>
          <p:nvPr/>
        </p:nvSpPr>
        <p:spPr>
          <a:xfrm>
            <a:off x="3851280" y="3716280"/>
            <a:ext cx="1057320" cy="201636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AutoShape 4"/>
          <p:cNvSpPr/>
          <p:nvPr/>
        </p:nvSpPr>
        <p:spPr>
          <a:xfrm rot="8091000">
            <a:off x="1043280" y="4507560"/>
            <a:ext cx="1726920" cy="1728720"/>
          </a:xfrm>
          <a:prstGeom prst="rtTriangl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Text Box 5"/>
          <p:cNvSpPr/>
          <p:nvPr/>
        </p:nvSpPr>
        <p:spPr>
          <a:xfrm>
            <a:off x="5059440" y="3182760"/>
            <a:ext cx="406692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36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Arial"/>
              </a:rPr>
              <a:t>°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Arial"/>
              </a:rPr>
              <a:t>90°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Arial"/>
              </a:rPr>
              <a:t>108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AutoShape 6"/>
          <p:cNvSpPr/>
          <p:nvPr/>
        </p:nvSpPr>
        <p:spPr>
          <a:xfrm>
            <a:off x="5580000" y="4437000"/>
            <a:ext cx="3024360" cy="79236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Line 7"/>
          <p:cNvSpPr/>
          <p:nvPr/>
        </p:nvSpPr>
        <p:spPr>
          <a:xfrm>
            <a:off x="1879560" y="4149720"/>
            <a:ext cx="0" cy="122400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Line 8"/>
          <p:cNvSpPr/>
          <p:nvPr/>
        </p:nvSpPr>
        <p:spPr>
          <a:xfrm flipV="1">
            <a:off x="3851280" y="4941360"/>
            <a:ext cx="865080" cy="79236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Line 9"/>
          <p:cNvSpPr/>
          <p:nvPr/>
        </p:nvSpPr>
        <p:spPr>
          <a:xfrm flipH="1">
            <a:off x="6659640" y="4437000"/>
            <a:ext cx="433440" cy="79236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Rectangle 10"/>
          <p:cNvSpPr/>
          <p:nvPr/>
        </p:nvSpPr>
        <p:spPr>
          <a:xfrm>
            <a:off x="2351160" y="79704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活动与探究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Rectangle 40"/>
          <p:cNvSpPr/>
          <p:nvPr/>
        </p:nvSpPr>
        <p:spPr>
          <a:xfrm>
            <a:off x="23760" y="1833840"/>
            <a:ext cx="914400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）本节课学习了哪些内容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）等腰三角形的判定方法有哪几种？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）结合本节课的学习，谈谈等腰三角形性质和判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定的区别和联系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）举例谈谈用反证法说理的基本思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矩形 6"/>
          <p:cNvSpPr/>
          <p:nvPr/>
        </p:nvSpPr>
        <p:spPr>
          <a:xfrm>
            <a:off x="2428920" y="654120"/>
            <a:ext cx="1893960" cy="582120"/>
          </a:xfrm>
          <a:prstGeom prst="rect">
            <a:avLst/>
          </a:prstGeom>
          <a:noFill/>
          <a:ln w="73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课堂小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图片 1" descr="FFURBM_J}QI9@]YL]FNZ}FD.jpg"/>
          <p:cNvPicPr/>
          <p:nvPr/>
        </p:nvPicPr>
        <p:blipFill>
          <a:blip r:embed="rId1"/>
          <a:stretch/>
        </p:blipFill>
        <p:spPr>
          <a:xfrm>
            <a:off x="2714760" y="1143000"/>
            <a:ext cx="3714480" cy="876240"/>
          </a:xfrm>
          <a:prstGeom prst="rect">
            <a:avLst/>
          </a:prstGeom>
          <a:ln w="0">
            <a:noFill/>
          </a:ln>
        </p:spPr>
      </p:pic>
      <p:sp>
        <p:nvSpPr>
          <p:cNvPr id="637" name="TextBox 2"/>
          <p:cNvSpPr/>
          <p:nvPr/>
        </p:nvSpPr>
        <p:spPr>
          <a:xfrm>
            <a:off x="2357280" y="2214720"/>
            <a:ext cx="39294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华文隶书"/>
                <a:ea typeface="华文隶书"/>
              </a:rPr>
              <a:t>习题</a:t>
            </a:r>
            <a:r>
              <a:rPr b="0" lang="en-US" sz="4000" spc="-1" strike="noStrike">
                <a:solidFill>
                  <a:srgbClr val="ffff00"/>
                </a:solidFill>
                <a:latin typeface="华文隶书"/>
                <a:ea typeface="华文隶书"/>
              </a:rPr>
              <a:t>1.3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华文隶书"/>
                <a:ea typeface="华文隶书"/>
              </a:rPr>
              <a:t>知识技能</a:t>
            </a:r>
            <a:r>
              <a:rPr b="0" lang="en-US" sz="4000" spc="-1" strike="noStrike">
                <a:solidFill>
                  <a:srgbClr val="ffff00"/>
                </a:solidFill>
                <a:latin typeface="华文隶书"/>
                <a:ea typeface="华文隶书"/>
              </a:rPr>
              <a:t>1</a:t>
            </a:r>
            <a:r>
              <a:rPr b="0" lang="zh-CN" sz="4000" spc="-1" strike="noStrike">
                <a:solidFill>
                  <a:srgbClr val="ffff00"/>
                </a:solidFill>
                <a:latin typeface="华文隶书"/>
                <a:ea typeface="华文隶书"/>
              </a:rPr>
              <a:t>、</a:t>
            </a:r>
            <a:r>
              <a:rPr b="0" lang="en-US" sz="4000" spc="-1" strike="noStrike">
                <a:solidFill>
                  <a:srgbClr val="ffff00"/>
                </a:solidFill>
                <a:latin typeface="华文隶书"/>
                <a:ea typeface="华文隶书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华文隶书"/>
                <a:ea typeface="华文隶书"/>
              </a:rPr>
              <a:t>数学理解</a:t>
            </a:r>
            <a:r>
              <a:rPr b="0" lang="en-US" sz="4000" spc="-1" strike="noStrike">
                <a:solidFill>
                  <a:srgbClr val="ffff00"/>
                </a:solidFill>
                <a:latin typeface="华文隶书"/>
                <a:ea typeface="华文隶书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18920" y="274320"/>
            <a:ext cx="259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想一想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20320" y="1417680"/>
            <a:ext cx="8923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宋体"/>
              </a:rPr>
              <a:t>问题</a:t>
            </a:r>
            <a:r>
              <a:rPr b="1" lang="zh-CN" sz="2600" spc="-1" strike="noStrike">
                <a:solidFill>
                  <a:srgbClr val="ffff00"/>
                </a:solidFill>
                <a:latin typeface="宋体"/>
              </a:rPr>
              <a:t>1.</a:t>
            </a:r>
            <a:r>
              <a:rPr b="1" lang="zh-CN" sz="2600" spc="-1" strike="noStrike">
                <a:solidFill>
                  <a:srgbClr val="ffff00"/>
                </a:solidFill>
                <a:latin typeface="宋体"/>
              </a:rPr>
              <a:t>等腰三角形性质定理的内容是什么？这个命题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宋体"/>
              </a:rPr>
              <a:t>         </a:t>
            </a:r>
            <a:r>
              <a:rPr b="1" lang="zh-CN" sz="2600" spc="-1" strike="noStrike">
                <a:solidFill>
                  <a:srgbClr val="ffff00"/>
                </a:solidFill>
                <a:latin typeface="宋体"/>
              </a:rPr>
              <a:t>的题设和结论分别是什么？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宋体"/>
              </a:rPr>
              <a:t>问题</a:t>
            </a:r>
            <a:r>
              <a:rPr b="1" lang="zh-CN" sz="2600" spc="-1" strike="noStrike">
                <a:solidFill>
                  <a:srgbClr val="ffff00"/>
                </a:solidFill>
                <a:latin typeface="宋体"/>
              </a:rPr>
              <a:t>2.</a:t>
            </a:r>
            <a:r>
              <a:rPr b="1" lang="zh-CN" sz="2600" spc="-1" strike="noStrike">
                <a:solidFill>
                  <a:srgbClr val="ffff00"/>
                </a:solidFill>
                <a:latin typeface="宋体"/>
              </a:rPr>
              <a:t>我们是如何证明上述定理的？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宋体"/>
              </a:rPr>
              <a:t>问题</a:t>
            </a:r>
            <a:r>
              <a:rPr b="1" lang="zh-CN" sz="2600" spc="-1" strike="noStrike">
                <a:solidFill>
                  <a:srgbClr val="ffff00"/>
                </a:solidFill>
                <a:latin typeface="宋体"/>
              </a:rPr>
              <a:t>3.</a:t>
            </a:r>
            <a:r>
              <a:rPr b="1" lang="zh-CN" sz="2600" spc="-1" strike="noStrike">
                <a:solidFill>
                  <a:srgbClr val="ffff00"/>
                </a:solidFill>
                <a:latin typeface="宋体"/>
              </a:rPr>
              <a:t>我们把性质定理的条件和结论反过来还成立么？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宋体"/>
                <a:ea typeface="Times New Roman"/>
              </a:rPr>
              <a:t>         </a:t>
            </a:r>
            <a:r>
              <a:rPr b="1" lang="zh-CN" sz="2600" spc="-1" strike="noStrike">
                <a:solidFill>
                  <a:srgbClr val="ffff00"/>
                </a:solidFill>
                <a:latin typeface="宋体"/>
                <a:ea typeface="Times New Roman"/>
              </a:rPr>
              <a:t>如果一个三角形有两个角相等，那么这两个角所         对的边也相等？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826920" y="131112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前面已经证明了等腰三角形的两个底角相等，反过来，有两个角相等的三角形是等腰三角形吗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403280" y="669960"/>
            <a:ext cx="19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议一议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4"/>
          <p:cNvSpPr/>
          <p:nvPr/>
        </p:nvSpPr>
        <p:spPr>
          <a:xfrm>
            <a:off x="836640" y="2568600"/>
            <a:ext cx="4815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已知：在△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中，∠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=∠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求证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=A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539640" y="422100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      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分析：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只要构造两个全等的三角形，使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与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C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成为对应边就可以了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.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作角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的平分线，或作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C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上的高，都可以把△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分成两个全等的三角形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8" name="Group 6"/>
          <p:cNvGrpSpPr/>
          <p:nvPr/>
        </p:nvGrpSpPr>
        <p:grpSpPr>
          <a:xfrm>
            <a:off x="6588000" y="2205000"/>
            <a:ext cx="1274760" cy="1743120"/>
            <a:chOff x="6588000" y="2205000"/>
            <a:chExt cx="1274760" cy="1743120"/>
          </a:xfrm>
        </p:grpSpPr>
        <p:sp>
          <p:nvSpPr>
            <p:cNvPr id="509" name="Line 7"/>
            <p:cNvSpPr/>
            <p:nvPr/>
          </p:nvSpPr>
          <p:spPr>
            <a:xfrm flipH="1">
              <a:off x="6804000" y="2547720"/>
              <a:ext cx="444240" cy="1137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Line 8"/>
            <p:cNvSpPr/>
            <p:nvPr/>
          </p:nvSpPr>
          <p:spPr>
            <a:xfrm>
              <a:off x="6804000" y="3685320"/>
              <a:ext cx="890640" cy="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Line 9"/>
            <p:cNvSpPr/>
            <p:nvPr/>
          </p:nvSpPr>
          <p:spPr>
            <a:xfrm>
              <a:off x="7248240" y="2547720"/>
              <a:ext cx="446400" cy="1137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2" name="Group 10"/>
            <p:cNvGrpSpPr/>
            <p:nvPr/>
          </p:nvGrpSpPr>
          <p:grpSpPr>
            <a:xfrm>
              <a:off x="7692840" y="3642840"/>
              <a:ext cx="169920" cy="305280"/>
              <a:chOff x="7692840" y="3642840"/>
              <a:chExt cx="169920" cy="305280"/>
            </a:xfrm>
          </p:grpSpPr>
          <p:sp>
            <p:nvSpPr>
              <p:cNvPr id="513" name="Rectangle 11"/>
              <p:cNvSpPr/>
              <p:nvPr/>
            </p:nvSpPr>
            <p:spPr>
              <a:xfrm>
                <a:off x="7692840" y="3642840"/>
                <a:ext cx="1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Rectangle 12"/>
              <p:cNvSpPr/>
              <p:nvPr/>
            </p:nvSpPr>
            <p:spPr>
              <a:xfrm>
                <a:off x="7692840" y="364284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5" name="Group 13"/>
            <p:cNvGrpSpPr/>
            <p:nvPr/>
          </p:nvGrpSpPr>
          <p:grpSpPr>
            <a:xfrm>
              <a:off x="6588000" y="3642840"/>
              <a:ext cx="169920" cy="305280"/>
              <a:chOff x="6588000" y="3642840"/>
              <a:chExt cx="169920" cy="305280"/>
            </a:xfrm>
          </p:grpSpPr>
          <p:sp>
            <p:nvSpPr>
              <p:cNvPr id="516" name="Rectangle 14"/>
              <p:cNvSpPr/>
              <p:nvPr/>
            </p:nvSpPr>
            <p:spPr>
              <a:xfrm>
                <a:off x="6588000" y="3642840"/>
                <a:ext cx="1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Rectangle 15"/>
              <p:cNvSpPr/>
              <p:nvPr/>
            </p:nvSpPr>
            <p:spPr>
              <a:xfrm>
                <a:off x="6588000" y="364284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8" name="Rectangle 16"/>
            <p:cNvSpPr/>
            <p:nvPr/>
          </p:nvSpPr>
          <p:spPr>
            <a:xfrm>
              <a:off x="7164360" y="2205000"/>
              <a:ext cx="287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2"/>
          <p:cNvSpPr/>
          <p:nvPr/>
        </p:nvSpPr>
        <p:spPr>
          <a:xfrm>
            <a:off x="468360" y="1901880"/>
            <a:ext cx="79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定理：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有两个角相等的三角形是等腰三角形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等角对等边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1247760" y="717480"/>
            <a:ext cx="551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等腰三角形的判定定理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4"/>
          <p:cNvSpPr/>
          <p:nvPr/>
        </p:nvSpPr>
        <p:spPr>
          <a:xfrm>
            <a:off x="878040" y="354348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在△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ABC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∵∠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＝∠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已知）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∴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AB=AC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等角对等边）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5"/>
          <p:cNvSpPr/>
          <p:nvPr/>
        </p:nvSpPr>
        <p:spPr>
          <a:xfrm>
            <a:off x="6084720" y="879480"/>
            <a:ext cx="3411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隶书"/>
              </a:rPr>
              <a:t>几何的</a:t>
            </a:r>
            <a:r>
              <a:rPr b="1" lang="zh-CN" sz="2800" spc="-1" strike="noStrike">
                <a:solidFill>
                  <a:srgbClr val="ffff00"/>
                </a:solidFill>
                <a:latin typeface="Calibri"/>
                <a:ea typeface="隶书"/>
              </a:rPr>
              <a:t>三种语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3" name="Group 6"/>
          <p:cNvGrpSpPr/>
          <p:nvPr/>
        </p:nvGrpSpPr>
        <p:grpSpPr>
          <a:xfrm>
            <a:off x="6516720" y="3213000"/>
            <a:ext cx="1676520" cy="2059920"/>
            <a:chOff x="6516720" y="3213000"/>
            <a:chExt cx="1676520" cy="2059920"/>
          </a:xfrm>
        </p:grpSpPr>
        <p:sp>
          <p:nvSpPr>
            <p:cNvPr id="524" name="Line 7"/>
            <p:cNvSpPr/>
            <p:nvPr/>
          </p:nvSpPr>
          <p:spPr>
            <a:xfrm>
              <a:off x="6834240" y="5041800"/>
              <a:ext cx="1152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Line 8"/>
            <p:cNvSpPr/>
            <p:nvPr/>
          </p:nvSpPr>
          <p:spPr>
            <a:xfrm flipH="1">
              <a:off x="6833880" y="3593880"/>
              <a:ext cx="576360" cy="144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Text Box 9"/>
            <p:cNvSpPr/>
            <p:nvPr/>
          </p:nvSpPr>
          <p:spPr>
            <a:xfrm>
              <a:off x="7126200" y="3213000"/>
              <a:ext cx="24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Text Box 10"/>
            <p:cNvSpPr/>
            <p:nvPr/>
          </p:nvSpPr>
          <p:spPr>
            <a:xfrm>
              <a:off x="7945560" y="4813200"/>
              <a:ext cx="24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11"/>
            <p:cNvSpPr/>
            <p:nvPr/>
          </p:nvSpPr>
          <p:spPr>
            <a:xfrm>
              <a:off x="7410600" y="3593880"/>
              <a:ext cx="576000" cy="144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Text Box 12"/>
            <p:cNvSpPr/>
            <p:nvPr/>
          </p:nvSpPr>
          <p:spPr>
            <a:xfrm>
              <a:off x="6516720" y="4813200"/>
              <a:ext cx="24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  <a:ea typeface="Times New Roman"/>
              </a:rPr>
              <a:t>练习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  <a:ea typeface="Times New Roman"/>
              </a:rPr>
              <a:t>　如图，∠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  <a:ea typeface="楷体"/>
              </a:rPr>
              <a:t>A 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  <a:ea typeface="楷体"/>
              </a:rPr>
              <a:t>=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楷体"/>
              </a:rPr>
              <a:t>36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  <a:ea typeface="楷体"/>
              </a:rPr>
              <a:t>°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  <a:ea typeface="楷体"/>
              </a:rPr>
              <a:t>，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  <a:ea typeface="Times New Roman"/>
              </a:rPr>
              <a:t>∠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  <a:ea typeface="楷体"/>
              </a:rPr>
              <a:t>DBC 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  <a:ea typeface="楷体"/>
              </a:rPr>
              <a:t>=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楷体"/>
              </a:rPr>
              <a:t>36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  <a:ea typeface="楷体"/>
              </a:rPr>
              <a:t>°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  <a:ea typeface="楷体"/>
              </a:rPr>
              <a:t>，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  <a:ea typeface="Times New Roman"/>
              </a:rPr>
              <a:t>∠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  <a:ea typeface="楷体"/>
              </a:rPr>
              <a:t>C 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  <a:ea typeface="楷体"/>
              </a:rPr>
              <a:t>=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楷体"/>
              </a:rPr>
              <a:t>72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  <a:ea typeface="楷体"/>
              </a:rPr>
              <a:t>°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  <a:ea typeface="Times New Roman"/>
              </a:rPr>
              <a:t>，图中一共有几个等腰三角形？找出其中的一个等腰三角形给予证明．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31" name="Group 3"/>
          <p:cNvGrpSpPr/>
          <p:nvPr/>
        </p:nvGrpSpPr>
        <p:grpSpPr>
          <a:xfrm>
            <a:off x="3889800" y="3270240"/>
            <a:ext cx="2030040" cy="3007800"/>
            <a:chOff x="3889800" y="3270240"/>
            <a:chExt cx="2030040" cy="3007800"/>
          </a:xfrm>
        </p:grpSpPr>
        <p:sp>
          <p:nvSpPr>
            <p:cNvPr id="532" name="Rectangle 4"/>
            <p:cNvSpPr/>
            <p:nvPr/>
          </p:nvSpPr>
          <p:spPr>
            <a:xfrm>
              <a:off x="4756680" y="327024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Rectangle 5"/>
            <p:cNvSpPr/>
            <p:nvPr/>
          </p:nvSpPr>
          <p:spPr>
            <a:xfrm>
              <a:off x="3889800" y="57574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Rectangle 6"/>
            <p:cNvSpPr/>
            <p:nvPr/>
          </p:nvSpPr>
          <p:spPr>
            <a:xfrm>
              <a:off x="5646240" y="5748480"/>
              <a:ext cx="27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Rectangle 7"/>
            <p:cNvSpPr/>
            <p:nvPr/>
          </p:nvSpPr>
          <p:spPr>
            <a:xfrm>
              <a:off x="5391720" y="48247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6" name="Group 8"/>
            <p:cNvGrpSpPr/>
            <p:nvPr/>
          </p:nvGrpSpPr>
          <p:grpSpPr>
            <a:xfrm>
              <a:off x="4177440" y="3607560"/>
              <a:ext cx="1420200" cy="2333160"/>
              <a:chOff x="4177440" y="3607560"/>
              <a:chExt cx="1420200" cy="2333160"/>
            </a:xfrm>
          </p:grpSpPr>
          <p:sp>
            <p:nvSpPr>
              <p:cNvPr id="537" name="AutoShape 9"/>
              <p:cNvSpPr/>
              <p:nvPr/>
            </p:nvSpPr>
            <p:spPr>
              <a:xfrm>
                <a:off x="4177440" y="3607560"/>
                <a:ext cx="1420200" cy="233316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Line 10"/>
              <p:cNvSpPr/>
              <p:nvPr/>
            </p:nvSpPr>
            <p:spPr>
              <a:xfrm flipV="1">
                <a:off x="4177440" y="5070960"/>
                <a:ext cx="1154160" cy="869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9" name="Rectangle 11"/>
          <p:cNvSpPr/>
          <p:nvPr/>
        </p:nvSpPr>
        <p:spPr>
          <a:xfrm>
            <a:off x="1577880" y="549360"/>
            <a:ext cx="23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随堂练习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2"/>
          <p:cNvSpPr/>
          <p:nvPr/>
        </p:nvSpPr>
        <p:spPr>
          <a:xfrm>
            <a:off x="539640" y="1447920"/>
            <a:ext cx="80661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练习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已知：如图，∠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CAE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是△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ABC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的外角，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AD∥BC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且∠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1=∠2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求证：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AB=AC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1692360" y="549360"/>
            <a:ext cx="23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随堂练习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2" name="Group 7"/>
          <p:cNvGrpSpPr/>
          <p:nvPr/>
        </p:nvGrpSpPr>
        <p:grpSpPr>
          <a:xfrm>
            <a:off x="5772240" y="1876320"/>
            <a:ext cx="2609640" cy="3733560"/>
            <a:chOff x="5772240" y="1876320"/>
            <a:chExt cx="2609640" cy="3733560"/>
          </a:xfrm>
        </p:grpSpPr>
        <p:sp>
          <p:nvSpPr>
            <p:cNvPr id="543" name="AutoShape 6"/>
            <p:cNvSpPr/>
            <p:nvPr/>
          </p:nvSpPr>
          <p:spPr>
            <a:xfrm>
              <a:off x="5772240" y="1876320"/>
              <a:ext cx="2609640" cy="37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Arc 8"/>
            <p:cNvSpPr/>
            <p:nvPr/>
          </p:nvSpPr>
          <p:spPr>
            <a:xfrm>
              <a:off x="6972480" y="3457440"/>
              <a:ext cx="199800" cy="1839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Rectangle 9"/>
            <p:cNvSpPr/>
            <p:nvPr/>
          </p:nvSpPr>
          <p:spPr>
            <a:xfrm>
              <a:off x="7163280" y="3457440"/>
              <a:ext cx="191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Arc 10"/>
            <p:cNvSpPr/>
            <p:nvPr/>
          </p:nvSpPr>
          <p:spPr>
            <a:xfrm>
              <a:off x="6972480" y="3311280"/>
              <a:ext cx="161640" cy="1461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Rectangle 11"/>
            <p:cNvSpPr/>
            <p:nvPr/>
          </p:nvSpPr>
          <p:spPr>
            <a:xfrm>
              <a:off x="7125120" y="3057480"/>
              <a:ext cx="191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Line 12"/>
            <p:cNvSpPr/>
            <p:nvPr/>
          </p:nvSpPr>
          <p:spPr>
            <a:xfrm>
              <a:off x="6972480" y="3457440"/>
              <a:ext cx="799920" cy="18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Line 13"/>
            <p:cNvSpPr/>
            <p:nvPr/>
          </p:nvSpPr>
          <p:spPr>
            <a:xfrm>
              <a:off x="6172200" y="5276520"/>
              <a:ext cx="1600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Line 14"/>
            <p:cNvSpPr/>
            <p:nvPr/>
          </p:nvSpPr>
          <p:spPr>
            <a:xfrm flipH="1">
              <a:off x="6171840" y="3457440"/>
              <a:ext cx="800280" cy="18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Line 15"/>
            <p:cNvSpPr/>
            <p:nvPr/>
          </p:nvSpPr>
          <p:spPr>
            <a:xfrm flipH="1">
              <a:off x="6972480" y="2314440"/>
              <a:ext cx="50472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Line 16"/>
            <p:cNvSpPr/>
            <p:nvPr/>
          </p:nvSpPr>
          <p:spPr>
            <a:xfrm>
              <a:off x="6972480" y="345744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Oval 17"/>
            <p:cNvSpPr/>
            <p:nvPr/>
          </p:nvSpPr>
          <p:spPr>
            <a:xfrm>
              <a:off x="6153120" y="5257440"/>
              <a:ext cx="47880" cy="47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Rectangle 18"/>
            <p:cNvSpPr/>
            <p:nvPr/>
          </p:nvSpPr>
          <p:spPr>
            <a:xfrm>
              <a:off x="5868720" y="5095800"/>
              <a:ext cx="2476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00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Oval 19"/>
            <p:cNvSpPr/>
            <p:nvPr/>
          </p:nvSpPr>
          <p:spPr>
            <a:xfrm>
              <a:off x="6953400" y="5257440"/>
              <a:ext cx="47520" cy="47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Oval 20"/>
            <p:cNvSpPr/>
            <p:nvPr/>
          </p:nvSpPr>
          <p:spPr>
            <a:xfrm>
              <a:off x="6953400" y="3438360"/>
              <a:ext cx="47520" cy="47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Rectangle 21"/>
            <p:cNvSpPr/>
            <p:nvPr/>
          </p:nvSpPr>
          <p:spPr>
            <a:xfrm>
              <a:off x="6659640" y="3200040"/>
              <a:ext cx="2476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Oval 22"/>
            <p:cNvSpPr/>
            <p:nvPr/>
          </p:nvSpPr>
          <p:spPr>
            <a:xfrm>
              <a:off x="7753320" y="5257440"/>
              <a:ext cx="47880" cy="47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Rectangle 23"/>
            <p:cNvSpPr/>
            <p:nvPr/>
          </p:nvSpPr>
          <p:spPr>
            <a:xfrm>
              <a:off x="7840440" y="5095800"/>
              <a:ext cx="2476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00"/>
                  </a:solidFill>
                  <a:latin typeface="Arial"/>
                </a:rPr>
                <a:t>C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Oval 24"/>
            <p:cNvSpPr/>
            <p:nvPr/>
          </p:nvSpPr>
          <p:spPr>
            <a:xfrm>
              <a:off x="7458120" y="2295360"/>
              <a:ext cx="47520" cy="47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Rectangle 25"/>
            <p:cNvSpPr/>
            <p:nvPr/>
          </p:nvSpPr>
          <p:spPr>
            <a:xfrm>
              <a:off x="7353720" y="1904760"/>
              <a:ext cx="2293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00"/>
                  </a:solidFill>
                  <a:latin typeface="Arial"/>
                </a:rPr>
                <a:t>E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Oval 26"/>
            <p:cNvSpPr/>
            <p:nvPr/>
          </p:nvSpPr>
          <p:spPr>
            <a:xfrm>
              <a:off x="7943760" y="3438360"/>
              <a:ext cx="47880" cy="47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Rectangle 27"/>
            <p:cNvSpPr/>
            <p:nvPr/>
          </p:nvSpPr>
          <p:spPr>
            <a:xfrm>
              <a:off x="8040600" y="3219120"/>
              <a:ext cx="2476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00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2428920" y="484200"/>
            <a:ext cx="19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想一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539640" y="1125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小明说，在一个三角形中，如果两个角不相等，那么这两个角所对的边也不相等．你认为这个结论成立吗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?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如果成立，你能证明它吗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Rectangle 5"/>
          <p:cNvSpPr/>
          <p:nvPr/>
        </p:nvSpPr>
        <p:spPr>
          <a:xfrm>
            <a:off x="611280" y="2719440"/>
            <a:ext cx="62658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我们来看一位同学的想法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如图，在△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中，已知∠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≠∠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，此时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与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要么相等，要么不相等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假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=A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，那么根据“等边对等角”定理可得∠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=∠B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，但已知条件是∠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≠∠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．“∠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=∠B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与已知条件“∠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≠∠C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相矛盾，因此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≠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你能理解他的推理过程吗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8" name="Group 6"/>
          <p:cNvGrpSpPr/>
          <p:nvPr/>
        </p:nvGrpSpPr>
        <p:grpSpPr>
          <a:xfrm>
            <a:off x="6916680" y="3284640"/>
            <a:ext cx="1544040" cy="1585800"/>
            <a:chOff x="6916680" y="3284640"/>
            <a:chExt cx="1544040" cy="1585800"/>
          </a:xfrm>
        </p:grpSpPr>
        <p:sp>
          <p:nvSpPr>
            <p:cNvPr id="569" name="Line 7"/>
            <p:cNvSpPr/>
            <p:nvPr/>
          </p:nvSpPr>
          <p:spPr>
            <a:xfrm>
              <a:off x="7164360" y="4538880"/>
              <a:ext cx="10922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Line 8"/>
            <p:cNvSpPr/>
            <p:nvPr/>
          </p:nvSpPr>
          <p:spPr>
            <a:xfrm>
              <a:off x="7907400" y="3746520"/>
              <a:ext cx="349200" cy="7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Line 9"/>
            <p:cNvSpPr/>
            <p:nvPr/>
          </p:nvSpPr>
          <p:spPr>
            <a:xfrm flipH="1">
              <a:off x="7164360" y="3746520"/>
              <a:ext cx="743040" cy="7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2" name="Group 10"/>
            <p:cNvGrpSpPr/>
            <p:nvPr/>
          </p:nvGrpSpPr>
          <p:grpSpPr>
            <a:xfrm>
              <a:off x="8256600" y="4500720"/>
              <a:ext cx="204120" cy="369720"/>
              <a:chOff x="8256600" y="4500720"/>
              <a:chExt cx="204120" cy="369720"/>
            </a:xfrm>
          </p:grpSpPr>
          <p:sp>
            <p:nvSpPr>
              <p:cNvPr id="573" name="Rectangle 11"/>
              <p:cNvSpPr/>
              <p:nvPr/>
            </p:nvSpPr>
            <p:spPr>
              <a:xfrm>
                <a:off x="8256600" y="4500720"/>
                <a:ext cx="36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Rectangle 12"/>
              <p:cNvSpPr/>
              <p:nvPr/>
            </p:nvSpPr>
            <p:spPr>
              <a:xfrm>
                <a:off x="8257320" y="4500720"/>
                <a:ext cx="2034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400" spc="-1" strike="noStrike">
                    <a:solidFill>
                      <a:srgbClr val="ffff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5" name="Group 13"/>
            <p:cNvGrpSpPr/>
            <p:nvPr/>
          </p:nvGrpSpPr>
          <p:grpSpPr>
            <a:xfrm>
              <a:off x="6916680" y="4500720"/>
              <a:ext cx="204120" cy="369720"/>
              <a:chOff x="6916680" y="4500720"/>
              <a:chExt cx="204120" cy="369720"/>
            </a:xfrm>
          </p:grpSpPr>
          <p:sp>
            <p:nvSpPr>
              <p:cNvPr id="576" name="Rectangle 14"/>
              <p:cNvSpPr/>
              <p:nvPr/>
            </p:nvSpPr>
            <p:spPr>
              <a:xfrm>
                <a:off x="6916680" y="4500720"/>
                <a:ext cx="36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Rectangle 15"/>
              <p:cNvSpPr/>
              <p:nvPr/>
            </p:nvSpPr>
            <p:spPr>
              <a:xfrm>
                <a:off x="6917400" y="4500720"/>
                <a:ext cx="2034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400" spc="-1" strike="noStrike">
                    <a:solidFill>
                      <a:srgbClr val="ffff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16"/>
            <p:cNvGrpSpPr/>
            <p:nvPr/>
          </p:nvGrpSpPr>
          <p:grpSpPr>
            <a:xfrm>
              <a:off x="7781760" y="3284640"/>
              <a:ext cx="204120" cy="369720"/>
              <a:chOff x="7781760" y="3284640"/>
              <a:chExt cx="204120" cy="369720"/>
            </a:xfrm>
          </p:grpSpPr>
          <p:sp>
            <p:nvSpPr>
              <p:cNvPr id="579" name="Rectangle 17"/>
              <p:cNvSpPr/>
              <p:nvPr/>
            </p:nvSpPr>
            <p:spPr>
              <a:xfrm>
                <a:off x="7781760" y="3284640"/>
                <a:ext cx="36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Rectangle 18"/>
              <p:cNvSpPr/>
              <p:nvPr/>
            </p:nvSpPr>
            <p:spPr>
              <a:xfrm>
                <a:off x="7782480" y="3284640"/>
                <a:ext cx="2034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400" spc="-1" strike="noStrike">
                    <a:solidFill>
                      <a:srgbClr val="ffff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1" name="Oval 19"/>
            <p:cNvSpPr/>
            <p:nvPr/>
          </p:nvSpPr>
          <p:spPr>
            <a:xfrm>
              <a:off x="7896240" y="3735360"/>
              <a:ext cx="22320" cy="223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3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611280" y="1341360"/>
            <a:ext cx="828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再例如，我们要证明△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中不可能有两个直角，也可以采用这位同学的证法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假设有两个角是直角，不妨设∠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=90°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，∠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=90°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可得∠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+∠B=180°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，但△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中∠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+∠B+∠C=180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“∠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+∠B=180°”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与“∠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+∠B+∠C=180°”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相矛盾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因此△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中不可能有两个直角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3"/>
          <p:cNvSpPr/>
          <p:nvPr/>
        </p:nvSpPr>
        <p:spPr>
          <a:xfrm>
            <a:off x="1116000" y="4521240"/>
            <a:ext cx="47419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Calibri"/>
                <a:ea typeface="Times New Roman"/>
              </a:rPr>
              <a:t>上面的证法有什么共同的特点呢</a:t>
            </a:r>
            <a:r>
              <a:rPr b="1" lang="zh-CN" sz="2400" spc="-1" strike="noStrike">
                <a:solidFill>
                  <a:srgbClr val="cc0000"/>
                </a:solidFill>
                <a:latin typeface="Calibri"/>
                <a:ea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561960" y="5084640"/>
            <a:ext cx="78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在上面的证法中，都是先假设命题的结论不成立，然后由此推导出了与已知或公理或已证明过的定理相矛盾，从而证明命题的结论一定成立．我们把它叫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反证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2"/>
          <p:cNvSpPr/>
          <p:nvPr/>
        </p:nvSpPr>
        <p:spPr>
          <a:xfrm>
            <a:off x="755640" y="928800"/>
            <a:ext cx="813744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eeece1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例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证明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如果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a</a:t>
            </a:r>
            <a:r>
              <a:rPr b="1" lang="zh-CN" sz="2800" spc="-1" strike="noStrike" baseline="-25000">
                <a:solidFill>
                  <a:srgbClr val="ffff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,a</a:t>
            </a:r>
            <a:r>
              <a:rPr b="1" lang="zh-CN" sz="2800" spc="-1" strike="noStrike" baseline="-25000">
                <a:solidFill>
                  <a:srgbClr val="ffff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,a</a:t>
            </a:r>
            <a:r>
              <a:rPr b="1" lang="zh-CN" sz="2800" spc="-1" strike="noStrike" baseline="-25000">
                <a:solidFill>
                  <a:srgbClr val="ffff00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,a</a:t>
            </a:r>
            <a:r>
              <a:rPr b="1" lang="zh-CN" sz="2800" spc="-1" strike="noStrike" baseline="-25000">
                <a:solidFill>
                  <a:srgbClr val="ffff00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,a</a:t>
            </a:r>
            <a:r>
              <a:rPr b="1" lang="zh-CN" sz="2800" spc="-1" strike="noStrike" baseline="-25000">
                <a:solidFill>
                  <a:srgbClr val="ffff00"/>
                </a:solidFill>
                <a:latin typeface="隶书"/>
                <a:ea typeface="隶书"/>
              </a:rPr>
              <a:t>5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都是正数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且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a</a:t>
            </a:r>
            <a:r>
              <a:rPr b="1" lang="zh-CN" sz="2800" spc="-1" strike="noStrike" baseline="-25000">
                <a:solidFill>
                  <a:srgbClr val="ffff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+a</a:t>
            </a:r>
            <a:r>
              <a:rPr b="1" lang="zh-CN" sz="2800" spc="-1" strike="noStrike" baseline="-25000">
                <a:solidFill>
                  <a:srgbClr val="ffff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+a</a:t>
            </a:r>
            <a:r>
              <a:rPr b="1" lang="zh-CN" sz="2800" spc="-1" strike="noStrike" baseline="-25000">
                <a:solidFill>
                  <a:srgbClr val="ffff00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+a</a:t>
            </a:r>
            <a:r>
              <a:rPr b="1" lang="zh-CN" sz="2800" spc="-1" strike="noStrike" baseline="-25000">
                <a:solidFill>
                  <a:srgbClr val="ffff00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+a</a:t>
            </a:r>
            <a:r>
              <a:rPr b="1" lang="zh-CN" sz="2800" spc="-1" strike="noStrike" baseline="-25000">
                <a:solidFill>
                  <a:srgbClr val="ffff00"/>
                </a:solidFill>
                <a:latin typeface="隶书"/>
                <a:ea typeface="隶书"/>
              </a:rPr>
              <a:t>5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=1,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那么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这五个数中至少有一个大于或等于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1/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Rectangle 3"/>
          <p:cNvSpPr/>
          <p:nvPr/>
        </p:nvSpPr>
        <p:spPr>
          <a:xfrm>
            <a:off x="755640" y="2928960"/>
            <a:ext cx="78501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用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反证法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来证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证明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假设这五个数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全部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小于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1/5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那么这五个数的和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a</a:t>
            </a:r>
            <a:r>
              <a:rPr b="1" lang="zh-CN" sz="2800" spc="-1" strike="noStrike" baseline="-25000">
                <a:solidFill>
                  <a:srgbClr val="ffff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+a</a:t>
            </a:r>
            <a:r>
              <a:rPr b="1" lang="zh-CN" sz="2800" spc="-1" strike="noStrike" baseline="-25000">
                <a:solidFill>
                  <a:srgbClr val="ffff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+a</a:t>
            </a:r>
            <a:r>
              <a:rPr b="1" lang="zh-CN" sz="2800" spc="-1" strike="noStrike" baseline="-25000">
                <a:solidFill>
                  <a:srgbClr val="ffff00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+a</a:t>
            </a:r>
            <a:r>
              <a:rPr b="1" lang="zh-CN" sz="2800" spc="-1" strike="noStrike" baseline="-25000">
                <a:solidFill>
                  <a:srgbClr val="ffff00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+a</a:t>
            </a:r>
            <a:r>
              <a:rPr b="1" lang="zh-CN" sz="2800" spc="-1" strike="noStrike" baseline="-25000">
                <a:solidFill>
                  <a:srgbClr val="ffff00"/>
                </a:solidFill>
                <a:latin typeface="隶书"/>
                <a:ea typeface="隶书"/>
              </a:rPr>
              <a:t>5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就小于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这与已知这五个数的和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a</a:t>
            </a:r>
            <a:r>
              <a:rPr b="1" lang="zh-CN" sz="2800" spc="-1" strike="noStrike" baseline="-25000">
                <a:solidFill>
                  <a:srgbClr val="ffff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+a</a:t>
            </a:r>
            <a:r>
              <a:rPr b="1" lang="zh-CN" sz="2800" spc="-1" strike="noStrike" baseline="-25000">
                <a:solidFill>
                  <a:srgbClr val="ffff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+a</a:t>
            </a:r>
            <a:r>
              <a:rPr b="1" lang="zh-CN" sz="2800" spc="-1" strike="noStrike" baseline="-25000">
                <a:solidFill>
                  <a:srgbClr val="ffff00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+a</a:t>
            </a:r>
            <a:r>
              <a:rPr b="1" lang="zh-CN" sz="2800" spc="-1" strike="noStrike" baseline="-25000">
                <a:solidFill>
                  <a:srgbClr val="ffff00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+a</a:t>
            </a:r>
            <a:r>
              <a:rPr b="1" lang="zh-CN" sz="2800" spc="-1" strike="noStrike" baseline="-25000">
                <a:solidFill>
                  <a:srgbClr val="ffff00"/>
                </a:solidFill>
                <a:latin typeface="隶书"/>
                <a:ea typeface="隶书"/>
              </a:rPr>
              <a:t>5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=1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相矛盾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.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因此假设不成立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, 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原命题成立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即这五个数中至少有下个大于或等于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1/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4-02-21T01:34:52Z</dcterms:modified>
  <cp:revision>1</cp:revision>
  <dc:subject/>
  <dc:title/>
</cp:coreProperties>
</file>