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826A-DE5C-4192-8063-0C3287571FB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A4D4-609C-49A4-9CAC-CCBDE3A3F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5E31-BBB4-4E36-8731-9B1AB915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FDBF-4282-4A65-9978-38D79D775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54FF-AEF8-4856-88E8-065DE5530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AF86-7E59-467F-82B5-6C2D8B16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E74C-F4E8-4470-95CE-0F248439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837A-E48E-433E-8FA9-8276081D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7C83-720F-4CB6-A93A-FD8A32BD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4587-9011-4643-B276-0F90CB2F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59A7-9539-46B1-899D-AD8E3BB1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32B4-37E7-4577-8BCA-4BDAC1B4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CB73-0912-4F57-B406-A0E4584C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7AA3-D7A2-4FCF-9641-1C24FE951E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753480" cy="702936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2379600" y="1353960"/>
            <a:ext cx="4859280" cy="4514040"/>
            <a:chOff x="2379600" y="1353960"/>
            <a:chExt cx="4859280" cy="4514040"/>
          </a:xfrm>
        </p:grpSpPr>
        <p:sp>
          <p:nvSpPr>
            <p:cNvPr id="50" name=""/>
            <p:cNvSpPr/>
            <p:nvPr/>
          </p:nvSpPr>
          <p:spPr>
            <a:xfrm>
              <a:off x="5006880" y="3441600"/>
              <a:ext cx="50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379600" y="3514320"/>
              <a:ext cx="485928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10160" y="3441600"/>
              <a:ext cx="50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14880" y="344160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518160" y="344160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30520" y="2865240"/>
              <a:ext cx="50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430520" y="3514320"/>
              <a:ext cx="50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430520" y="1353960"/>
              <a:ext cx="50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30520" y="1857240"/>
              <a:ext cx="50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430520" y="2433240"/>
              <a:ext cx="50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52680" y="3441600"/>
              <a:ext cx="40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55960" y="3441600"/>
              <a:ext cx="50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287600" y="3946320"/>
              <a:ext cx="50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87600" y="4522680"/>
              <a:ext cx="4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289400" y="5025600"/>
              <a:ext cx="40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87600" y="5530680"/>
              <a:ext cx="4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49760" y="3441600"/>
              <a:ext cx="40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379600" y="3441600"/>
              <a:ext cx="4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 flipV="1">
            <a:off x="4684680" y="1139400"/>
            <a:ext cx="0" cy="4535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149960" y="3276720"/>
            <a:ext cx="54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1295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32000" y="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Arial"/>
                <a:ea typeface="华文行楷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51280" y="530064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东关中学： 李小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74640" y="189000"/>
            <a:ext cx="413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平 面 直 角 坐 标 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539640" y="3789360"/>
            <a:ext cx="151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3348000" y="115920"/>
            <a:ext cx="5402160" cy="3944880"/>
            <a:chOff x="3348000" y="115920"/>
            <a:chExt cx="5402160" cy="3944880"/>
          </a:xfrm>
        </p:grpSpPr>
        <p:grpSp>
          <p:nvGrpSpPr>
            <p:cNvPr id="527" name=""/>
            <p:cNvGrpSpPr/>
            <p:nvPr/>
          </p:nvGrpSpPr>
          <p:grpSpPr>
            <a:xfrm>
              <a:off x="3348000" y="115920"/>
              <a:ext cx="5402160" cy="3944880"/>
              <a:chOff x="3348000" y="115920"/>
              <a:chExt cx="5402160" cy="3944880"/>
            </a:xfrm>
          </p:grpSpPr>
          <p:grpSp>
            <p:nvGrpSpPr>
              <p:cNvPr id="528" name=""/>
              <p:cNvGrpSpPr/>
              <p:nvPr/>
            </p:nvGrpSpPr>
            <p:grpSpPr>
              <a:xfrm>
                <a:off x="3348000" y="115920"/>
                <a:ext cx="5402160" cy="3944880"/>
                <a:chOff x="3348000" y="115920"/>
                <a:chExt cx="5402160" cy="394488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4859280" y="1136520"/>
                  <a:ext cx="3384720" cy="0"/>
                </a:xfrm>
                <a:prstGeom prst="line">
                  <a:avLst/>
                </a:prstGeom>
                <a:ln w="381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30" name=""/>
                <p:cNvGrpSpPr/>
                <p:nvPr/>
              </p:nvGrpSpPr>
              <p:grpSpPr>
                <a:xfrm>
                  <a:off x="3348000" y="115920"/>
                  <a:ext cx="5402160" cy="3944880"/>
                  <a:chOff x="3348000" y="115920"/>
                  <a:chExt cx="5402160" cy="3944880"/>
                </a:xfrm>
              </p:grpSpPr>
              <p:graphicFrame>
                <p:nvGraphicFramePr>
                  <p:cNvPr id="531" name=""/>
                  <p:cNvGraphicFramePr/>
                  <p:nvPr/>
                </p:nvGraphicFramePr>
                <p:xfrm>
                  <a:off x="3348000" y="115920"/>
                  <a:ext cx="5402160" cy="3944880"/>
                </p:xfrm>
                <a:graphic>
                  <a:graphicData uri="http://schemas.openxmlformats.org/presentationml/2006/ole">
                    <p:oleObj r:id="rId2" spid="">
                      <p:embed/>
                      <p:pic>
                        <p:nvPicPr>
                          <p:cNvPr id="532" name="" descr=""/>
                          <p:cNvPicPr/>
                          <p:nvPr/>
                        </p:nvPicPr>
                        <p:blipFill>
                          <a:blip r:embed="rId3"/>
                          <a:stretch/>
                        </p:blipFill>
                        <p:spPr>
                          <a:xfrm>
                            <a:off x="3348000" y="115920"/>
                            <a:ext cx="5402160" cy="394488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33" name=""/>
                  <p:cNvSpPr/>
                  <p:nvPr/>
                </p:nvSpPr>
                <p:spPr>
                  <a:xfrm>
                    <a:off x="3492360" y="2089080"/>
                    <a:ext cx="496908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 flipV="1">
                    <a:off x="5797440" y="404640"/>
                    <a:ext cx="0" cy="35287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 flipH="1">
                    <a:off x="3852360" y="1123920"/>
                    <a:ext cx="1008360" cy="1944000"/>
                  </a:xfrm>
                  <a:prstGeom prst="line">
                    <a:avLst/>
                  </a:prstGeom>
                  <a:ln w="3816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flipH="1">
                    <a:off x="7237440" y="1123920"/>
                    <a:ext cx="1008000" cy="1944000"/>
                  </a:xfrm>
                  <a:prstGeom prst="line">
                    <a:avLst/>
                  </a:prstGeom>
                  <a:ln w="3816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3852720" y="3068280"/>
                    <a:ext cx="3384720" cy="0"/>
                  </a:xfrm>
                  <a:prstGeom prst="line">
                    <a:avLst/>
                  </a:prstGeom>
                  <a:ln w="3816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8" name=""/>
              <p:cNvSpPr/>
              <p:nvPr/>
            </p:nvSpPr>
            <p:spPr>
              <a:xfrm>
                <a:off x="4481640" y="7110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545280" y="28699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290360" y="2943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1" name=""/>
            <p:cNvSpPr/>
            <p:nvPr/>
          </p:nvSpPr>
          <p:spPr>
            <a:xfrm>
              <a:off x="8172360" y="836280"/>
              <a:ext cx="40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"/>
          <p:cNvSpPr txBox="1"/>
          <p:nvPr/>
        </p:nvSpPr>
        <p:spPr>
          <a:xfrm>
            <a:off x="324000" y="260280"/>
            <a:ext cx="2735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58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>
                    <a:alphaModFix amt="22000"/>
                  </a:blip>
                  <a:srcRect/>
                  <a:stretch/>
                </a:blipFill>
                <a:latin typeface="隶书"/>
              </a:rPr>
              <a:t>想一想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>
                  <a:alphaModFix amt="22000"/>
                </a:blip>
                <a:srcRect/>
                <a:stretch/>
              </a:blipFill>
              <a:latin typeface="隶书"/>
              <a:ea typeface="隶书"/>
            </a:endParaRPr>
          </a:p>
        </p:txBody>
      </p:sp>
      <p:sp>
        <p:nvSpPr>
          <p:cNvPr id="543" name=""/>
          <p:cNvSpPr/>
          <p:nvPr/>
        </p:nvSpPr>
        <p:spPr>
          <a:xfrm>
            <a:off x="324000" y="1773360"/>
            <a:ext cx="2879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写出右图中的平行四边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各个顶点的坐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纵坐标相同吗？为什么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,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横坐标相同吗？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6084720" y="6858000"/>
          <a:ext cx="6626160" cy="1824120"/>
        </p:xfrm>
        <a:graphic>
          <a:graphicData uri="http://schemas.openxmlformats.org/drawingml/2006/table">
            <a:tbl>
              <a:tblPr/>
              <a:tblGrid>
                <a:gridCol w="2208240"/>
                <a:gridCol w="2209680"/>
                <a:gridCol w="2208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99cc00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28080">
                      <a:solidFill>
                        <a:srgbClr val="99cc00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28080">
                      <a:solidFill>
                        <a:srgbClr val="99cc00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28080">
                      <a:solidFill>
                        <a:srgbClr val="99cc00"/>
                      </a:solidFill>
                    </a:lnR>
                    <a:lnT w="28080">
                      <a:solidFill>
                        <a:srgbClr val="99cc00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99cc00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28080">
                      <a:solidFill>
                        <a:srgbClr val="99cc00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三象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99cc00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28080">
                      <a:solidFill>
                        <a:srgbClr val="99cc00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四象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99cc00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2808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2808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28080">
                      <a:solidFill>
                        <a:srgbClr val="99cc00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2808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5" name=""/>
          <p:cNvSpPr/>
          <p:nvPr/>
        </p:nvSpPr>
        <p:spPr>
          <a:xfrm>
            <a:off x="8245800" y="20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850360" y="208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229800" y="20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97800" y="134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0" y="3789360"/>
            <a:ext cx="8915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判断下列说法是否正确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坐标轴上的点的横坐标和纵坐标至少有一个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如图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是第一象限的点。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如图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-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。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6320" y="144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04920" y="60948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55640" y="692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28600" y="1066680"/>
            <a:ext cx="107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2492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若点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在第四象限内，则（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29242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是正数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是负数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正数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负数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负数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正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132000" y="620640"/>
            <a:ext cx="381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364000" y="234936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6019920" y="4723920"/>
            <a:ext cx="2514600" cy="1816560"/>
            <a:chOff x="6019920" y="4723920"/>
            <a:chExt cx="2514600" cy="1816560"/>
          </a:xfrm>
        </p:grpSpPr>
        <p:sp>
          <p:nvSpPr>
            <p:cNvPr id="559" name=""/>
            <p:cNvSpPr/>
            <p:nvPr/>
          </p:nvSpPr>
          <p:spPr>
            <a:xfrm>
              <a:off x="6934320" y="6172200"/>
              <a:ext cx="152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0" name=""/>
            <p:cNvGrpSpPr/>
            <p:nvPr/>
          </p:nvGrpSpPr>
          <p:grpSpPr>
            <a:xfrm>
              <a:off x="6019920" y="4723920"/>
              <a:ext cx="2514600" cy="1816560"/>
              <a:chOff x="6019920" y="4723920"/>
              <a:chExt cx="2514600" cy="1816560"/>
            </a:xfrm>
          </p:grpSpPr>
          <p:sp>
            <p:nvSpPr>
              <p:cNvPr id="561" name=""/>
              <p:cNvSpPr/>
              <p:nvPr/>
            </p:nvSpPr>
            <p:spPr>
              <a:xfrm>
                <a:off x="7543800" y="601992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095880" y="5562720"/>
                <a:ext cx="236232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>
                <a:off x="6934320" y="4723920"/>
                <a:ext cx="0" cy="17528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848720" y="5410080"/>
                <a:ext cx="0" cy="1526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391520" y="487692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019920" y="5867280"/>
                <a:ext cx="914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-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15200" y="5943600"/>
                <a:ext cx="914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 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848720" y="5562720"/>
                <a:ext cx="0" cy="53316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934320" y="6172200"/>
                <a:ext cx="99036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248520" y="548640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001000" y="556272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248520" y="472428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3" name=""/>
          <p:cNvSpPr/>
          <p:nvPr/>
        </p:nvSpPr>
        <p:spPr>
          <a:xfrm>
            <a:off x="395280" y="2602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9685440" y="407664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9972720" y="28526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9695160" y="6278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1484280"/>
            <a:ext cx="83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(x, y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第一象限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正数还是负数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正数还是负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324000" y="0"/>
            <a:ext cx="342900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看谁学会了！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79" name=""/>
          <p:cNvSpPr/>
          <p:nvPr/>
        </p:nvSpPr>
        <p:spPr>
          <a:xfrm>
            <a:off x="10019160" y="49417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9925200" y="5175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85 0.06776 L -0.25885 0.06776 E">
                                      <p:cBhvr>
                                        <p:cTn id="315" dur="2000" fill="hold"/>
                                        <p:tgtEl>
                                          <p:spTgt spid="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58 -0.00439 L -0.23142 -0.00439 E">
                                      <p:cBhvr>
                                        <p:cTn id="319" dur="2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0.03145 L -0.25069 0.03145 E">
                                      <p:cBhvr>
                                        <p:cTn id="323" dur="2000" fill="hold"/>
                                        <p:tgtEl>
                                          <p:spTgt spid="5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337 0.29371 L -0.41337 0.29371 E">
                                      <p:cBhvr>
                                        <p:cTn id="327" dur="2000" fill="hold"/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57 -0.13205 L -0.5757 -0.13205 E">
                                      <p:cBhvr>
                                        <p:cTn id="331" dur="2000" fill="hold"/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900000" y="2133720"/>
            <a:ext cx="6985080" cy="17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304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这节课的学习你有何收获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平面直角坐标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012000" y="306864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仿宋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4572000" y="1557360"/>
            <a:ext cx="4073760" cy="2807640"/>
            <a:chOff x="4572000" y="1557360"/>
            <a:chExt cx="4073760" cy="2807640"/>
          </a:xfrm>
        </p:grpSpPr>
        <p:grpSp>
          <p:nvGrpSpPr>
            <p:cNvPr id="585" name=""/>
            <p:cNvGrpSpPr/>
            <p:nvPr/>
          </p:nvGrpSpPr>
          <p:grpSpPr>
            <a:xfrm>
              <a:off x="4716360" y="2905200"/>
              <a:ext cx="3929400" cy="555840"/>
              <a:chOff x="4716360" y="2905200"/>
              <a:chExt cx="3929400" cy="555840"/>
            </a:xfrm>
          </p:grpSpPr>
          <p:sp>
            <p:nvSpPr>
              <p:cNvPr id="586" name=""/>
              <p:cNvSpPr/>
              <p:nvPr/>
            </p:nvSpPr>
            <p:spPr>
              <a:xfrm>
                <a:off x="7861680" y="3001320"/>
                <a:ext cx="35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华文中宋"/>
                    <a:ea typeface="华文中宋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7" name=""/>
              <p:cNvGrpSpPr/>
              <p:nvPr/>
            </p:nvGrpSpPr>
            <p:grpSpPr>
              <a:xfrm>
                <a:off x="4716360" y="2905200"/>
                <a:ext cx="3929400" cy="371520"/>
                <a:chOff x="4716360" y="2905200"/>
                <a:chExt cx="3929400" cy="371520"/>
              </a:xfrm>
            </p:grpSpPr>
            <p:grpSp>
              <p:nvGrpSpPr>
                <p:cNvPr id="588" name=""/>
                <p:cNvGrpSpPr/>
                <p:nvPr/>
              </p:nvGrpSpPr>
              <p:grpSpPr>
                <a:xfrm>
                  <a:off x="4716360" y="2905200"/>
                  <a:ext cx="3863520" cy="276480"/>
                  <a:chOff x="4716360" y="2905200"/>
                  <a:chExt cx="3863520" cy="276480"/>
                </a:xfrm>
              </p:grpSpPr>
              <p:sp>
                <p:nvSpPr>
                  <p:cNvPr id="589" name=""/>
                  <p:cNvSpPr/>
                  <p:nvPr/>
                </p:nvSpPr>
                <p:spPr>
                  <a:xfrm>
                    <a:off x="4716360" y="3064680"/>
                    <a:ext cx="3340800" cy="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5351760" y="2905200"/>
                    <a:ext cx="32281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|        |        |        |        |        |        |        |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1" name=""/>
                <p:cNvSpPr/>
                <p:nvPr/>
              </p:nvSpPr>
              <p:spPr>
                <a:xfrm>
                  <a:off x="8190720" y="290844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横轴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2" name=""/>
            <p:cNvGrpSpPr/>
            <p:nvPr/>
          </p:nvGrpSpPr>
          <p:grpSpPr>
            <a:xfrm>
              <a:off x="6050880" y="1557360"/>
              <a:ext cx="954000" cy="2807640"/>
              <a:chOff x="6050880" y="1557360"/>
              <a:chExt cx="954000" cy="2807640"/>
            </a:xfrm>
          </p:grpSpPr>
          <p:grpSp>
            <p:nvGrpSpPr>
              <p:cNvPr id="593" name=""/>
              <p:cNvGrpSpPr/>
              <p:nvPr/>
            </p:nvGrpSpPr>
            <p:grpSpPr>
              <a:xfrm>
                <a:off x="6050880" y="1662840"/>
                <a:ext cx="585000" cy="2702160"/>
                <a:chOff x="6050880" y="1662840"/>
                <a:chExt cx="585000" cy="2702160"/>
              </a:xfrm>
            </p:grpSpPr>
            <p:grpSp>
              <p:nvGrpSpPr>
                <p:cNvPr id="594" name=""/>
                <p:cNvGrpSpPr/>
                <p:nvPr/>
              </p:nvGrpSpPr>
              <p:grpSpPr>
                <a:xfrm>
                  <a:off x="6298920" y="1806840"/>
                  <a:ext cx="336960" cy="2558160"/>
                  <a:chOff x="6298920" y="1806840"/>
                  <a:chExt cx="336960" cy="255816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 flipV="1">
                    <a:off x="6359040" y="1806840"/>
                    <a:ext cx="0" cy="2558160"/>
                  </a:xfrm>
                  <a:prstGeom prst="line">
                    <a:avLst/>
                  </a:prstGeom>
                  <a:ln w="38160">
                    <a:solidFill>
                      <a:srgbClr val="ff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96" name=""/>
                  <p:cNvGrpSpPr/>
                  <p:nvPr/>
                </p:nvGrpSpPr>
                <p:grpSpPr>
                  <a:xfrm>
                    <a:off x="6298920" y="2127240"/>
                    <a:ext cx="336960" cy="1927800"/>
                    <a:chOff x="6298920" y="2127240"/>
                    <a:chExt cx="336960" cy="1927800"/>
                  </a:xfrm>
                </p:grpSpPr>
                <p:sp>
                  <p:nvSpPr>
                    <p:cNvPr id="597" name=""/>
                    <p:cNvSpPr/>
                    <p:nvPr/>
                  </p:nvSpPr>
                  <p:spPr>
                    <a:xfrm>
                      <a:off x="6298920" y="2701440"/>
                      <a:ext cx="33300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" name=""/>
                    <p:cNvSpPr/>
                    <p:nvPr/>
                  </p:nvSpPr>
                  <p:spPr>
                    <a:xfrm>
                      <a:off x="6302880" y="2392200"/>
                      <a:ext cx="33300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9" name=""/>
                    <p:cNvSpPr/>
                    <p:nvPr/>
                  </p:nvSpPr>
                  <p:spPr>
                    <a:xfrm>
                      <a:off x="6302880" y="2127240"/>
                      <a:ext cx="33300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"/>
                    <p:cNvSpPr/>
                    <p:nvPr/>
                  </p:nvSpPr>
                  <p:spPr>
                    <a:xfrm>
                      <a:off x="6302880" y="3224160"/>
                      <a:ext cx="33300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"/>
                    <p:cNvSpPr/>
                    <p:nvPr/>
                  </p:nvSpPr>
                  <p:spPr>
                    <a:xfrm>
                      <a:off x="6302880" y="3511800"/>
                      <a:ext cx="33300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2" name=""/>
                    <p:cNvSpPr/>
                    <p:nvPr/>
                  </p:nvSpPr>
                  <p:spPr>
                    <a:xfrm>
                      <a:off x="6302880" y="3778560"/>
                      <a:ext cx="33300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03" name=""/>
                <p:cNvSpPr/>
                <p:nvPr/>
              </p:nvSpPr>
              <p:spPr>
                <a:xfrm>
                  <a:off x="6050880" y="166284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中宋"/>
                      <a:ea typeface="华文中宋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4" name=""/>
              <p:cNvSpPr/>
              <p:nvPr/>
            </p:nvSpPr>
            <p:spPr>
              <a:xfrm>
                <a:off x="6549840" y="15573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华文中宋"/>
                  </a:rPr>
                  <a:t>纵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5" name=""/>
            <p:cNvSpPr/>
            <p:nvPr/>
          </p:nvSpPr>
          <p:spPr>
            <a:xfrm>
              <a:off x="6796080" y="2021040"/>
              <a:ext cx="126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第一象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572000" y="2036880"/>
              <a:ext cx="156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第二象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643280" y="3208320"/>
              <a:ext cx="14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第三象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813360" y="3208320"/>
              <a:ext cx="135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第四象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468360" y="170028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一、平面直角坐标系的概念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76200" y="2997360"/>
            <a:ext cx="318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二、点的坐标的确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76200" y="3716280"/>
            <a:ext cx="44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三、坐标轴上点的坐标的特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95280" y="465300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四、各象限内点的坐标的特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25840" y="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本节主要内容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11280" y="544500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五、平行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轴或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轴的线段上的点的坐标有什么特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 flipV="1">
            <a:off x="6156360" y="2708280"/>
            <a:ext cx="0" cy="9907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708360" y="2708280"/>
            <a:ext cx="244944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988600" y="227664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229800" y="2492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3278160" y="549000"/>
            <a:ext cx="686520" cy="5638680"/>
            <a:chOff x="3278160" y="549000"/>
            <a:chExt cx="686520" cy="5638680"/>
          </a:xfrm>
        </p:grpSpPr>
        <p:sp>
          <p:nvSpPr>
            <p:cNvPr id="620" name=""/>
            <p:cNvSpPr/>
            <p:nvPr/>
          </p:nvSpPr>
          <p:spPr>
            <a:xfrm flipV="1">
              <a:off x="3733920" y="549000"/>
              <a:ext cx="0" cy="5638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354840" y="1997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354840" y="3063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354840" y="1463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354840" y="2454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354840" y="930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6" name=""/>
            <p:cNvGrpSpPr/>
            <p:nvPr/>
          </p:nvGrpSpPr>
          <p:grpSpPr>
            <a:xfrm>
              <a:off x="3693240" y="1157760"/>
              <a:ext cx="271440" cy="497880"/>
              <a:chOff x="3693240" y="1157760"/>
              <a:chExt cx="271440" cy="497880"/>
            </a:xfrm>
          </p:grpSpPr>
          <p:sp>
            <p:nvSpPr>
              <p:cNvPr id="627" name=""/>
              <p:cNvSpPr/>
              <p:nvPr/>
            </p:nvSpPr>
            <p:spPr>
              <a:xfrm>
                <a:off x="3693240" y="165276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698280" y="115776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3693240" y="2224800"/>
              <a:ext cx="271440" cy="497880"/>
              <a:chOff x="3693240" y="2224800"/>
              <a:chExt cx="271440" cy="497880"/>
            </a:xfrm>
          </p:grpSpPr>
          <p:sp>
            <p:nvSpPr>
              <p:cNvPr id="630" name=""/>
              <p:cNvSpPr/>
              <p:nvPr/>
            </p:nvSpPr>
            <p:spPr>
              <a:xfrm>
                <a:off x="3693240" y="271980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698280" y="222480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3693240" y="3253320"/>
              <a:ext cx="271440" cy="497880"/>
              <a:chOff x="3693240" y="3253320"/>
              <a:chExt cx="271440" cy="497880"/>
            </a:xfrm>
          </p:grpSpPr>
          <p:sp>
            <p:nvSpPr>
              <p:cNvPr id="633" name=""/>
              <p:cNvSpPr/>
              <p:nvPr/>
            </p:nvSpPr>
            <p:spPr>
              <a:xfrm>
                <a:off x="3693240" y="374832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698280" y="325332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5" name=""/>
            <p:cNvSpPr/>
            <p:nvPr/>
          </p:nvSpPr>
          <p:spPr>
            <a:xfrm>
              <a:off x="3278160" y="45878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278160" y="56548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278160" y="40546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278160" y="50450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9" name=""/>
            <p:cNvGrpSpPr/>
            <p:nvPr/>
          </p:nvGrpSpPr>
          <p:grpSpPr>
            <a:xfrm>
              <a:off x="3693240" y="4282200"/>
              <a:ext cx="271440" cy="497880"/>
              <a:chOff x="3693240" y="4282200"/>
              <a:chExt cx="271440" cy="497880"/>
            </a:xfrm>
          </p:grpSpPr>
          <p:sp>
            <p:nvSpPr>
              <p:cNvPr id="640" name=""/>
              <p:cNvSpPr/>
              <p:nvPr/>
            </p:nvSpPr>
            <p:spPr>
              <a:xfrm>
                <a:off x="3693240" y="477720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698280" y="428220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3693240" y="5348880"/>
              <a:ext cx="271440" cy="497880"/>
              <a:chOff x="3693240" y="5348880"/>
              <a:chExt cx="271440" cy="497880"/>
            </a:xfrm>
          </p:grpSpPr>
          <p:sp>
            <p:nvSpPr>
              <p:cNvPr id="643" name=""/>
              <p:cNvSpPr/>
              <p:nvPr/>
            </p:nvSpPr>
            <p:spPr>
              <a:xfrm>
                <a:off x="3693240" y="584388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698280" y="534888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5" name=""/>
          <p:cNvGrpSpPr/>
          <p:nvPr/>
        </p:nvGrpSpPr>
        <p:grpSpPr>
          <a:xfrm>
            <a:off x="755640" y="3500280"/>
            <a:ext cx="6858000" cy="764640"/>
            <a:chOff x="755640" y="3500280"/>
            <a:chExt cx="6858000" cy="764640"/>
          </a:xfrm>
        </p:grpSpPr>
        <p:sp>
          <p:nvSpPr>
            <p:cNvPr id="646" name=""/>
            <p:cNvSpPr/>
            <p:nvPr/>
          </p:nvSpPr>
          <p:spPr>
            <a:xfrm>
              <a:off x="3424320" y="3652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"/>
            <p:cNvGrpSpPr/>
            <p:nvPr/>
          </p:nvGrpSpPr>
          <p:grpSpPr>
            <a:xfrm>
              <a:off x="755640" y="3500280"/>
              <a:ext cx="6858000" cy="764640"/>
              <a:chOff x="755640" y="3500280"/>
              <a:chExt cx="6858000" cy="764640"/>
            </a:xfrm>
          </p:grpSpPr>
          <p:sp>
            <p:nvSpPr>
              <p:cNvPr id="648" name=""/>
              <p:cNvSpPr/>
              <p:nvPr/>
            </p:nvSpPr>
            <p:spPr>
              <a:xfrm>
                <a:off x="755640" y="3728880"/>
                <a:ext cx="6858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9" name=""/>
              <p:cNvGrpSpPr/>
              <p:nvPr/>
            </p:nvGrpSpPr>
            <p:grpSpPr>
              <a:xfrm>
                <a:off x="3727440" y="3500280"/>
                <a:ext cx="609120" cy="228240"/>
                <a:chOff x="3727440" y="3500280"/>
                <a:chExt cx="609120" cy="22824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3727440" y="350028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336560" y="350028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2" name=""/>
              <p:cNvGrpSpPr/>
              <p:nvPr/>
            </p:nvGrpSpPr>
            <p:grpSpPr>
              <a:xfrm>
                <a:off x="4946760" y="3500280"/>
                <a:ext cx="609120" cy="228240"/>
                <a:chOff x="4946760" y="3500280"/>
                <a:chExt cx="609120" cy="22824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4946760" y="350028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555880" y="350028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5" name=""/>
              <p:cNvGrpSpPr/>
              <p:nvPr/>
            </p:nvGrpSpPr>
            <p:grpSpPr>
              <a:xfrm>
                <a:off x="6165720" y="3500280"/>
                <a:ext cx="609480" cy="228240"/>
                <a:chOff x="6165720" y="3500280"/>
                <a:chExt cx="609480" cy="22824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6165720" y="350028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6775200" y="350028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8" name=""/>
              <p:cNvSpPr/>
              <p:nvPr/>
            </p:nvSpPr>
            <p:spPr>
              <a:xfrm>
                <a:off x="4186440" y="3805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795920" y="3805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405760" y="3805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015240" y="3805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624720" y="3805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3" name=""/>
              <p:cNvGrpSpPr/>
              <p:nvPr/>
            </p:nvGrpSpPr>
            <p:grpSpPr>
              <a:xfrm>
                <a:off x="1212840" y="3500280"/>
                <a:ext cx="609120" cy="228240"/>
                <a:chOff x="1212840" y="3500280"/>
                <a:chExt cx="609120" cy="228240"/>
              </a:xfrm>
            </p:grpSpPr>
            <p:sp>
              <p:nvSpPr>
                <p:cNvPr id="664" name=""/>
                <p:cNvSpPr/>
                <p:nvPr/>
              </p:nvSpPr>
              <p:spPr>
                <a:xfrm>
                  <a:off x="1212840" y="350028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1821960" y="350028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6" name=""/>
              <p:cNvGrpSpPr/>
              <p:nvPr/>
            </p:nvGrpSpPr>
            <p:grpSpPr>
              <a:xfrm>
                <a:off x="2432160" y="3500280"/>
                <a:ext cx="609120" cy="228240"/>
                <a:chOff x="2432160" y="3500280"/>
                <a:chExt cx="609120" cy="22824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2432160" y="350028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3041280" y="350028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" name=""/>
              <p:cNvSpPr/>
              <p:nvPr/>
            </p:nvSpPr>
            <p:spPr>
              <a:xfrm>
                <a:off x="909360" y="380520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519200" y="380520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128680" y="380520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738160" y="380520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3" name=""/>
          <p:cNvSpPr/>
          <p:nvPr/>
        </p:nvSpPr>
        <p:spPr>
          <a:xfrm>
            <a:off x="7164360" y="3213000"/>
            <a:ext cx="3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020000" y="3860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横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2968560" y="476280"/>
            <a:ext cx="1162080" cy="536040"/>
            <a:chOff x="2968560" y="476280"/>
            <a:chExt cx="1162080" cy="536040"/>
          </a:xfrm>
        </p:grpSpPr>
        <p:sp>
          <p:nvSpPr>
            <p:cNvPr id="676" name=""/>
            <p:cNvSpPr/>
            <p:nvPr/>
          </p:nvSpPr>
          <p:spPr>
            <a:xfrm>
              <a:off x="3797640" y="476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968560" y="552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纵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3203640" y="40464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086160" y="69228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497120" y="119232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-827280" y="2781360"/>
            <a:ext cx="28296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-2700360" y="692280"/>
            <a:ext cx="23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坐标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-4176720" y="213372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你能找出 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关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轴的对称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吗？它的坐标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-3565440" y="4437000"/>
            <a:ext cx="31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你能找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关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轴的对称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吗？你知道它 的坐标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-3924360" y="335772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你能找出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关于原点的对称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吗？它的坐标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 rot="7685400">
            <a:off x="-1440" y="946080"/>
            <a:ext cx="2019240" cy="504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华文行楷"/>
              </a:rPr>
              <a:t>课外扩充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华文行楷"/>
              <a:ea typeface="华文行楷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3108 -0.09135 L 0.98108 -0.09135 E">
                                      <p:cBhvr>
                                        <p:cTn id="337" dur="2000" fill="hold"/>
                                        <p:tgtEl>
                                          <p:spTgt spid="6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9132 -0.14963 L 1.04132 -0.14963 E">
                                      <p:cBhvr>
                                        <p:cTn id="341" dur="2000" fill="hold"/>
                                        <p:tgtEl>
                                          <p:spTgt spid="6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4219 -0.05018 L 0.99219 -0.05018 E">
                                      <p:cBhvr>
                                        <p:cTn id="345" dur="2000" fill="hold"/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59 0.28053 L 1.0059 0.28053 E">
                                      <p:cBhvr>
                                        <p:cTn id="349" dur="2000" fill="hold"/>
                                        <p:tgtEl>
                                          <p:spTgt spid="6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765000"/>
            <a:ext cx="9144000" cy="609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421080" y="907560"/>
            <a:ext cx="686520" cy="5638680"/>
            <a:chOff x="3421080" y="907560"/>
            <a:chExt cx="686520" cy="5638680"/>
          </a:xfrm>
        </p:grpSpPr>
        <p:sp>
          <p:nvSpPr>
            <p:cNvPr id="76" name=""/>
            <p:cNvSpPr/>
            <p:nvPr/>
          </p:nvSpPr>
          <p:spPr>
            <a:xfrm flipV="1">
              <a:off x="3876840" y="907560"/>
              <a:ext cx="0" cy="56386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97760" y="2355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97760" y="3422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97760" y="1822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97760" y="2813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497760" y="128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3836160" y="1516320"/>
              <a:ext cx="271440" cy="497880"/>
              <a:chOff x="3836160" y="1516320"/>
              <a:chExt cx="271440" cy="497880"/>
            </a:xfrm>
          </p:grpSpPr>
          <p:sp>
            <p:nvSpPr>
              <p:cNvPr id="83" name=""/>
              <p:cNvSpPr/>
              <p:nvPr/>
            </p:nvSpPr>
            <p:spPr>
              <a:xfrm>
                <a:off x="3836160" y="2011320"/>
                <a:ext cx="266400" cy="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841200" y="1516320"/>
                <a:ext cx="266400" cy="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3836160" y="2583360"/>
              <a:ext cx="271440" cy="497880"/>
              <a:chOff x="3836160" y="2583360"/>
              <a:chExt cx="271440" cy="497880"/>
            </a:xfrm>
          </p:grpSpPr>
          <p:sp>
            <p:nvSpPr>
              <p:cNvPr id="86" name=""/>
              <p:cNvSpPr/>
              <p:nvPr/>
            </p:nvSpPr>
            <p:spPr>
              <a:xfrm>
                <a:off x="3836160" y="3078360"/>
                <a:ext cx="266400" cy="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841200" y="2583360"/>
                <a:ext cx="266400" cy="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3836160" y="3611880"/>
              <a:ext cx="271440" cy="497880"/>
              <a:chOff x="3836160" y="3611880"/>
              <a:chExt cx="271440" cy="497880"/>
            </a:xfrm>
          </p:grpSpPr>
          <p:sp>
            <p:nvSpPr>
              <p:cNvPr id="89" name=""/>
              <p:cNvSpPr/>
              <p:nvPr/>
            </p:nvSpPr>
            <p:spPr>
              <a:xfrm>
                <a:off x="3836160" y="4106880"/>
                <a:ext cx="266400" cy="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41200" y="3611880"/>
                <a:ext cx="266400" cy="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3421080" y="49464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21080" y="60134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21080" y="44132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21080" y="5403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3836160" y="4640760"/>
              <a:ext cx="271440" cy="497880"/>
              <a:chOff x="3836160" y="4640760"/>
              <a:chExt cx="271440" cy="497880"/>
            </a:xfrm>
          </p:grpSpPr>
          <p:sp>
            <p:nvSpPr>
              <p:cNvPr id="96" name=""/>
              <p:cNvSpPr/>
              <p:nvPr/>
            </p:nvSpPr>
            <p:spPr>
              <a:xfrm>
                <a:off x="3836160" y="5135760"/>
                <a:ext cx="266400" cy="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841200" y="4640760"/>
                <a:ext cx="266400" cy="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3836160" y="5707440"/>
              <a:ext cx="271440" cy="497880"/>
              <a:chOff x="3836160" y="5707440"/>
              <a:chExt cx="271440" cy="497880"/>
            </a:xfrm>
          </p:grpSpPr>
          <p:sp>
            <p:nvSpPr>
              <p:cNvPr id="99" name=""/>
              <p:cNvSpPr/>
              <p:nvPr/>
            </p:nvSpPr>
            <p:spPr>
              <a:xfrm>
                <a:off x="3836160" y="6202440"/>
                <a:ext cx="266400" cy="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841200" y="5707440"/>
                <a:ext cx="266400" cy="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"/>
          <p:cNvGrpSpPr/>
          <p:nvPr/>
        </p:nvGrpSpPr>
        <p:grpSpPr>
          <a:xfrm>
            <a:off x="900000" y="3860640"/>
            <a:ext cx="6858000" cy="764640"/>
            <a:chOff x="900000" y="3860640"/>
            <a:chExt cx="6858000" cy="764640"/>
          </a:xfrm>
        </p:grpSpPr>
        <p:sp>
          <p:nvSpPr>
            <p:cNvPr id="102" name=""/>
            <p:cNvSpPr/>
            <p:nvPr/>
          </p:nvSpPr>
          <p:spPr>
            <a:xfrm>
              <a:off x="3568680" y="4012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900000" y="3860640"/>
              <a:ext cx="6858000" cy="764640"/>
              <a:chOff x="900000" y="3860640"/>
              <a:chExt cx="6858000" cy="764640"/>
            </a:xfrm>
          </p:grpSpPr>
          <p:sp>
            <p:nvSpPr>
              <p:cNvPr id="104" name=""/>
              <p:cNvSpPr/>
              <p:nvPr/>
            </p:nvSpPr>
            <p:spPr>
              <a:xfrm>
                <a:off x="900000" y="4089240"/>
                <a:ext cx="68580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3871800" y="3860640"/>
                <a:ext cx="609120" cy="228240"/>
                <a:chOff x="3871800" y="3860640"/>
                <a:chExt cx="609120" cy="22824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871800" y="3860640"/>
                  <a:ext cx="0" cy="228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4480920" y="3860640"/>
                  <a:ext cx="0" cy="228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5091120" y="3860640"/>
                <a:ext cx="609120" cy="228240"/>
                <a:chOff x="5091120" y="3860640"/>
                <a:chExt cx="609120" cy="22824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5091120" y="3860640"/>
                  <a:ext cx="0" cy="228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5700240" y="3860640"/>
                  <a:ext cx="0" cy="228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6310080" y="3860640"/>
                <a:ext cx="609480" cy="228240"/>
                <a:chOff x="6310080" y="3860640"/>
                <a:chExt cx="609480" cy="22824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310080" y="3860640"/>
                  <a:ext cx="0" cy="228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6919560" y="3860640"/>
                  <a:ext cx="0" cy="228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" name=""/>
              <p:cNvSpPr/>
              <p:nvPr/>
            </p:nvSpPr>
            <p:spPr>
              <a:xfrm>
                <a:off x="4330800" y="4165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940280" y="4165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550120" y="4165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159600" y="4165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769080" y="4165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1357200" y="3860640"/>
                <a:ext cx="609120" cy="228240"/>
                <a:chOff x="1357200" y="3860640"/>
                <a:chExt cx="609120" cy="22824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1357200" y="3860640"/>
                  <a:ext cx="0" cy="228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966320" y="3860640"/>
                  <a:ext cx="0" cy="228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2576520" y="3860640"/>
                <a:ext cx="609120" cy="228240"/>
                <a:chOff x="2576520" y="3860640"/>
                <a:chExt cx="609120" cy="22824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2576520" y="3860640"/>
                  <a:ext cx="0" cy="228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3185640" y="3860640"/>
                  <a:ext cx="0" cy="228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" name=""/>
              <p:cNvSpPr/>
              <p:nvPr/>
            </p:nvSpPr>
            <p:spPr>
              <a:xfrm>
                <a:off x="1053720" y="41655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-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663560" y="41655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-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273040" y="41655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882520" y="41655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" name=""/>
          <p:cNvGrpSpPr/>
          <p:nvPr/>
        </p:nvGrpSpPr>
        <p:grpSpPr>
          <a:xfrm>
            <a:off x="7382160" y="4076640"/>
            <a:ext cx="1241280" cy="459720"/>
            <a:chOff x="7382160" y="4076640"/>
            <a:chExt cx="1241280" cy="459720"/>
          </a:xfrm>
        </p:grpSpPr>
        <p:sp>
          <p:nvSpPr>
            <p:cNvPr id="130" name=""/>
            <p:cNvSpPr/>
            <p:nvPr/>
          </p:nvSpPr>
          <p:spPr>
            <a:xfrm>
              <a:off x="7382160" y="407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76960" y="40766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横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184200" y="692280"/>
            <a:ext cx="1109160" cy="535680"/>
            <a:chOff x="3184200" y="692280"/>
            <a:chExt cx="1109160" cy="535680"/>
          </a:xfrm>
        </p:grpSpPr>
        <p:sp>
          <p:nvSpPr>
            <p:cNvPr id="133" name=""/>
            <p:cNvSpPr/>
            <p:nvPr/>
          </p:nvSpPr>
          <p:spPr>
            <a:xfrm>
              <a:off x="3960360" y="692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184200" y="7682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纵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563640" y="3573000"/>
            <a:ext cx="1227600" cy="1001880"/>
            <a:chOff x="3563640" y="3573000"/>
            <a:chExt cx="1227600" cy="1001880"/>
          </a:xfrm>
        </p:grpSpPr>
        <p:sp>
          <p:nvSpPr>
            <p:cNvPr id="136" name=""/>
            <p:cNvSpPr/>
            <p:nvPr/>
          </p:nvSpPr>
          <p:spPr>
            <a:xfrm>
              <a:off x="3563640" y="40543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原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4181400" y="3573000"/>
              <a:ext cx="609840" cy="533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5715000" y="12193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第一象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91320" y="4648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第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四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象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4567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第三象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30400" y="1214280"/>
            <a:ext cx="22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第二象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59166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871380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定义：在平面内，两条互相垂直且有公共原点的数轴组成平面直角坐标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7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7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7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7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 flipV="1">
            <a:off x="5715000" y="2666880"/>
            <a:ext cx="0" cy="9907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259092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39320" y="214776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93120" y="21477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30440" y="456840"/>
            <a:ext cx="686520" cy="5638680"/>
            <a:chOff x="3430440" y="456840"/>
            <a:chExt cx="686520" cy="5638680"/>
          </a:xfrm>
        </p:grpSpPr>
        <p:sp>
          <p:nvSpPr>
            <p:cNvPr id="149" name=""/>
            <p:cNvSpPr/>
            <p:nvPr/>
          </p:nvSpPr>
          <p:spPr>
            <a:xfrm flipV="1">
              <a:off x="3886200" y="456840"/>
              <a:ext cx="0" cy="5638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507120" y="1905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07120" y="2971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07120" y="1371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07120" y="2362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507120" y="838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3845520" y="1065600"/>
              <a:ext cx="271440" cy="497880"/>
              <a:chOff x="3845520" y="1065600"/>
              <a:chExt cx="271440" cy="497880"/>
            </a:xfrm>
          </p:grpSpPr>
          <p:sp>
            <p:nvSpPr>
              <p:cNvPr id="156" name=""/>
              <p:cNvSpPr/>
              <p:nvPr/>
            </p:nvSpPr>
            <p:spPr>
              <a:xfrm>
                <a:off x="3845520" y="156060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850560" y="106560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845520" y="2132640"/>
              <a:ext cx="271440" cy="497880"/>
              <a:chOff x="3845520" y="2132640"/>
              <a:chExt cx="271440" cy="497880"/>
            </a:xfrm>
          </p:grpSpPr>
          <p:sp>
            <p:nvSpPr>
              <p:cNvPr id="159" name=""/>
              <p:cNvSpPr/>
              <p:nvPr/>
            </p:nvSpPr>
            <p:spPr>
              <a:xfrm>
                <a:off x="3845520" y="262764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850560" y="213264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3845520" y="3161160"/>
              <a:ext cx="271440" cy="497880"/>
              <a:chOff x="3845520" y="3161160"/>
              <a:chExt cx="271440" cy="497880"/>
            </a:xfrm>
          </p:grpSpPr>
          <p:sp>
            <p:nvSpPr>
              <p:cNvPr id="162" name=""/>
              <p:cNvSpPr/>
              <p:nvPr/>
            </p:nvSpPr>
            <p:spPr>
              <a:xfrm>
                <a:off x="3845520" y="365616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850560" y="316116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3430440" y="44956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30440" y="55627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30440" y="39625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30440" y="49528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3845520" y="4190040"/>
              <a:ext cx="271440" cy="497880"/>
              <a:chOff x="3845520" y="4190040"/>
              <a:chExt cx="271440" cy="497880"/>
            </a:xfrm>
          </p:grpSpPr>
          <p:sp>
            <p:nvSpPr>
              <p:cNvPr id="169" name=""/>
              <p:cNvSpPr/>
              <p:nvPr/>
            </p:nvSpPr>
            <p:spPr>
              <a:xfrm>
                <a:off x="3845520" y="468504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850560" y="419004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3845520" y="5256720"/>
              <a:ext cx="271440" cy="497880"/>
              <a:chOff x="3845520" y="5256720"/>
              <a:chExt cx="271440" cy="497880"/>
            </a:xfrm>
          </p:grpSpPr>
          <p:sp>
            <p:nvSpPr>
              <p:cNvPr id="172" name=""/>
              <p:cNvSpPr/>
              <p:nvPr/>
            </p:nvSpPr>
            <p:spPr>
              <a:xfrm>
                <a:off x="3845520" y="575172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850560" y="525672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4" name=""/>
          <p:cNvGrpSpPr/>
          <p:nvPr/>
        </p:nvGrpSpPr>
        <p:grpSpPr>
          <a:xfrm>
            <a:off x="914400" y="3429000"/>
            <a:ext cx="6858000" cy="764640"/>
            <a:chOff x="914400" y="3429000"/>
            <a:chExt cx="6858000" cy="764640"/>
          </a:xfrm>
        </p:grpSpPr>
        <p:sp>
          <p:nvSpPr>
            <p:cNvPr id="175" name=""/>
            <p:cNvSpPr/>
            <p:nvPr/>
          </p:nvSpPr>
          <p:spPr>
            <a:xfrm>
              <a:off x="3583080" y="3581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914400" y="3429000"/>
              <a:ext cx="6858000" cy="764640"/>
              <a:chOff x="914400" y="3429000"/>
              <a:chExt cx="6858000" cy="764640"/>
            </a:xfrm>
          </p:grpSpPr>
          <p:sp>
            <p:nvSpPr>
              <p:cNvPr id="177" name=""/>
              <p:cNvSpPr/>
              <p:nvPr/>
            </p:nvSpPr>
            <p:spPr>
              <a:xfrm>
                <a:off x="914400" y="3657600"/>
                <a:ext cx="6858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3886200" y="3429000"/>
                <a:ext cx="609120" cy="228240"/>
                <a:chOff x="3886200" y="3429000"/>
                <a:chExt cx="609120" cy="22824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886200" y="342900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495320" y="342900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5105520" y="3429000"/>
                <a:ext cx="609120" cy="228240"/>
                <a:chOff x="5105520" y="3429000"/>
                <a:chExt cx="609120" cy="22824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5105520" y="342900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714640" y="342900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6324480" y="3429000"/>
                <a:ext cx="609480" cy="228240"/>
                <a:chOff x="6324480" y="3429000"/>
                <a:chExt cx="609480" cy="22824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6324480" y="342900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6933960" y="342900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7" name=""/>
              <p:cNvSpPr/>
              <p:nvPr/>
            </p:nvSpPr>
            <p:spPr>
              <a:xfrm>
                <a:off x="4345200" y="3733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954680" y="3733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4520" y="3733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174000" y="3733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783480" y="3733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" name=""/>
              <p:cNvGrpSpPr/>
              <p:nvPr/>
            </p:nvGrpSpPr>
            <p:grpSpPr>
              <a:xfrm>
                <a:off x="1371600" y="3429000"/>
                <a:ext cx="609120" cy="228240"/>
                <a:chOff x="1371600" y="3429000"/>
                <a:chExt cx="609120" cy="22824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1371600" y="342900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980720" y="342900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2590920" y="3429000"/>
                <a:ext cx="609120" cy="228240"/>
                <a:chOff x="2590920" y="3429000"/>
                <a:chExt cx="609120" cy="22824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2590920" y="342900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3200040" y="342900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"/>
              <p:cNvSpPr/>
              <p:nvPr/>
            </p:nvSpPr>
            <p:spPr>
              <a:xfrm>
                <a:off x="1068120" y="373392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677960" y="373392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287440" y="373392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896920" y="373392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2" name=""/>
          <p:cNvGrpSpPr/>
          <p:nvPr/>
        </p:nvGrpSpPr>
        <p:grpSpPr>
          <a:xfrm>
            <a:off x="7237800" y="3645000"/>
            <a:ext cx="1241280" cy="459720"/>
            <a:chOff x="7237800" y="3645000"/>
            <a:chExt cx="1241280" cy="459720"/>
          </a:xfrm>
        </p:grpSpPr>
        <p:sp>
          <p:nvSpPr>
            <p:cNvPr id="203" name=""/>
            <p:cNvSpPr/>
            <p:nvPr/>
          </p:nvSpPr>
          <p:spPr>
            <a:xfrm>
              <a:off x="7237800" y="364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932600" y="36450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横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112920" y="189000"/>
            <a:ext cx="1144800" cy="535680"/>
            <a:chOff x="3112920" y="189000"/>
            <a:chExt cx="1144800" cy="535680"/>
          </a:xfrm>
        </p:grpSpPr>
        <p:sp>
          <p:nvSpPr>
            <p:cNvPr id="206" name=""/>
            <p:cNvSpPr/>
            <p:nvPr/>
          </p:nvSpPr>
          <p:spPr>
            <a:xfrm>
              <a:off x="394128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112920" y="2649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纵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4506840" y="277920"/>
            <a:ext cx="316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点在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轴上的坐标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22680" y="692280"/>
            <a:ext cx="31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点在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轴上的坐标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145120" y="1192320"/>
            <a:ext cx="316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点在平面直角坐标系中的坐标为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(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记作：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803640" y="1729800"/>
            <a:ext cx="2407320" cy="1830240"/>
            <a:chOff x="6803640" y="1729800"/>
            <a:chExt cx="2407320" cy="1830240"/>
          </a:xfrm>
        </p:grpSpPr>
        <p:sp>
          <p:nvSpPr>
            <p:cNvPr id="212" name=""/>
            <p:cNvSpPr/>
            <p:nvPr/>
          </p:nvSpPr>
          <p:spPr>
            <a:xfrm rot="5766600">
              <a:off x="7207200" y="1519560"/>
              <a:ext cx="1600200" cy="2250000"/>
            </a:xfrm>
            <a:prstGeom prst="wedgeEllipseCallout">
              <a:avLst>
                <a:gd name="adj1" fmla="val -36379"/>
                <a:gd name="adj2" fmla="val 76986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77080" y="2252520"/>
              <a:ext cx="2266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00"/>
                  </a:solidFill>
                  <a:latin typeface="Times New Roman"/>
                </a:rPr>
                <a:t>X</a:t>
              </a: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轴上的坐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写在前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-757080" y="6021360"/>
            <a:ext cx="43308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75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75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75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75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75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75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 flipV="1">
            <a:off x="5715000" y="3047760"/>
            <a:ext cx="0" cy="99036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86200" y="297180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32480" y="242244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93120" y="252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430440" y="837720"/>
            <a:ext cx="686520" cy="5638680"/>
            <a:chOff x="3430440" y="837720"/>
            <a:chExt cx="686520" cy="5638680"/>
          </a:xfrm>
        </p:grpSpPr>
        <p:sp>
          <p:nvSpPr>
            <p:cNvPr id="220" name=""/>
            <p:cNvSpPr/>
            <p:nvPr/>
          </p:nvSpPr>
          <p:spPr>
            <a:xfrm flipV="1">
              <a:off x="3886200" y="837720"/>
              <a:ext cx="0" cy="5638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507120" y="2286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507120" y="3352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07120" y="1752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07120" y="2743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07120" y="1218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3845520" y="1446480"/>
              <a:ext cx="271440" cy="497880"/>
              <a:chOff x="3845520" y="1446480"/>
              <a:chExt cx="271440" cy="497880"/>
            </a:xfrm>
          </p:grpSpPr>
          <p:sp>
            <p:nvSpPr>
              <p:cNvPr id="227" name=""/>
              <p:cNvSpPr/>
              <p:nvPr/>
            </p:nvSpPr>
            <p:spPr>
              <a:xfrm>
                <a:off x="3845520" y="194148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850560" y="144648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3845520" y="2513520"/>
              <a:ext cx="271440" cy="497880"/>
              <a:chOff x="3845520" y="2513520"/>
              <a:chExt cx="271440" cy="497880"/>
            </a:xfrm>
          </p:grpSpPr>
          <p:sp>
            <p:nvSpPr>
              <p:cNvPr id="230" name=""/>
              <p:cNvSpPr/>
              <p:nvPr/>
            </p:nvSpPr>
            <p:spPr>
              <a:xfrm>
                <a:off x="3845520" y="300852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850560" y="251352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3845520" y="3542040"/>
              <a:ext cx="271440" cy="497880"/>
              <a:chOff x="3845520" y="3542040"/>
              <a:chExt cx="271440" cy="497880"/>
            </a:xfrm>
          </p:grpSpPr>
          <p:sp>
            <p:nvSpPr>
              <p:cNvPr id="233" name=""/>
              <p:cNvSpPr/>
              <p:nvPr/>
            </p:nvSpPr>
            <p:spPr>
              <a:xfrm>
                <a:off x="3845520" y="403704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850560" y="354204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3430440" y="48765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30440" y="5943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430440" y="43434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430440" y="53337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845520" y="4570920"/>
              <a:ext cx="271440" cy="497880"/>
              <a:chOff x="3845520" y="4570920"/>
              <a:chExt cx="271440" cy="497880"/>
            </a:xfrm>
          </p:grpSpPr>
          <p:sp>
            <p:nvSpPr>
              <p:cNvPr id="240" name=""/>
              <p:cNvSpPr/>
              <p:nvPr/>
            </p:nvSpPr>
            <p:spPr>
              <a:xfrm>
                <a:off x="3845520" y="506592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850560" y="457092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845520" y="5637600"/>
              <a:ext cx="271440" cy="497880"/>
              <a:chOff x="3845520" y="5637600"/>
              <a:chExt cx="271440" cy="497880"/>
            </a:xfrm>
          </p:grpSpPr>
          <p:sp>
            <p:nvSpPr>
              <p:cNvPr id="243" name=""/>
              <p:cNvSpPr/>
              <p:nvPr/>
            </p:nvSpPr>
            <p:spPr>
              <a:xfrm>
                <a:off x="3845520" y="613260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850560" y="5637600"/>
                <a:ext cx="266400" cy="2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5" name=""/>
          <p:cNvGrpSpPr/>
          <p:nvPr/>
        </p:nvGrpSpPr>
        <p:grpSpPr>
          <a:xfrm>
            <a:off x="914400" y="3809880"/>
            <a:ext cx="6858000" cy="764640"/>
            <a:chOff x="914400" y="3809880"/>
            <a:chExt cx="6858000" cy="764640"/>
          </a:xfrm>
        </p:grpSpPr>
        <p:sp>
          <p:nvSpPr>
            <p:cNvPr id="246" name=""/>
            <p:cNvSpPr/>
            <p:nvPr/>
          </p:nvSpPr>
          <p:spPr>
            <a:xfrm>
              <a:off x="3583080" y="3962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914400" y="3809880"/>
              <a:ext cx="6858000" cy="764640"/>
              <a:chOff x="914400" y="3809880"/>
              <a:chExt cx="6858000" cy="764640"/>
            </a:xfrm>
          </p:grpSpPr>
          <p:sp>
            <p:nvSpPr>
              <p:cNvPr id="248" name=""/>
              <p:cNvSpPr/>
              <p:nvPr/>
            </p:nvSpPr>
            <p:spPr>
              <a:xfrm>
                <a:off x="914400" y="4038480"/>
                <a:ext cx="6858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9" name=""/>
              <p:cNvGrpSpPr/>
              <p:nvPr/>
            </p:nvGrpSpPr>
            <p:grpSpPr>
              <a:xfrm>
                <a:off x="3886200" y="3809880"/>
                <a:ext cx="609120" cy="228240"/>
                <a:chOff x="3886200" y="3809880"/>
                <a:chExt cx="609120" cy="22824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3886200" y="380988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495320" y="380988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5105520" y="3809880"/>
                <a:ext cx="609120" cy="228240"/>
                <a:chOff x="5105520" y="3809880"/>
                <a:chExt cx="609120" cy="2282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5105520" y="380988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714640" y="380988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6324480" y="3809880"/>
                <a:ext cx="609480" cy="228240"/>
                <a:chOff x="6324480" y="3809880"/>
                <a:chExt cx="609480" cy="22824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6324480" y="380988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6933960" y="380988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8" name=""/>
              <p:cNvSpPr/>
              <p:nvPr/>
            </p:nvSpPr>
            <p:spPr>
              <a:xfrm>
                <a:off x="4345200" y="41148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954680" y="41148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564520" y="41148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174000" y="41148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783480" y="41148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3" name=""/>
              <p:cNvGrpSpPr/>
              <p:nvPr/>
            </p:nvGrpSpPr>
            <p:grpSpPr>
              <a:xfrm>
                <a:off x="1371600" y="3809880"/>
                <a:ext cx="609120" cy="228240"/>
                <a:chOff x="1371600" y="3809880"/>
                <a:chExt cx="609120" cy="2282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1371600" y="380988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1980720" y="380988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2590920" y="3809880"/>
                <a:ext cx="609120" cy="228240"/>
                <a:chOff x="2590920" y="3809880"/>
                <a:chExt cx="609120" cy="22824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2590920" y="380988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200040" y="380988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9" name=""/>
              <p:cNvSpPr/>
              <p:nvPr/>
            </p:nvSpPr>
            <p:spPr>
              <a:xfrm>
                <a:off x="1068120" y="411480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677960" y="411480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287440" y="411480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896920" y="411480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3" name=""/>
          <p:cNvGrpSpPr/>
          <p:nvPr/>
        </p:nvGrpSpPr>
        <p:grpSpPr>
          <a:xfrm>
            <a:off x="7165800" y="4076640"/>
            <a:ext cx="1604880" cy="459720"/>
            <a:chOff x="7165800" y="4076640"/>
            <a:chExt cx="1604880" cy="459720"/>
          </a:xfrm>
        </p:grpSpPr>
        <p:sp>
          <p:nvSpPr>
            <p:cNvPr id="274" name=""/>
            <p:cNvSpPr/>
            <p:nvPr/>
          </p:nvSpPr>
          <p:spPr>
            <a:xfrm>
              <a:off x="7165800" y="407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33960" y="407664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横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112920" y="692280"/>
            <a:ext cx="1144800" cy="535680"/>
            <a:chOff x="3112920" y="692280"/>
            <a:chExt cx="1144800" cy="535680"/>
          </a:xfrm>
        </p:grpSpPr>
        <p:sp>
          <p:nvSpPr>
            <p:cNvPr id="277" name=""/>
            <p:cNvSpPr/>
            <p:nvPr/>
          </p:nvSpPr>
          <p:spPr>
            <a:xfrm>
              <a:off x="3941280" y="692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112920" y="7682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纵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 flipV="1">
            <a:off x="2590920" y="3504960"/>
            <a:ext cx="0" cy="53316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90920" y="3521160"/>
            <a:ext cx="129528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08040" y="297180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059200" y="2971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5105520" y="2514240"/>
            <a:ext cx="0" cy="15238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886200" y="251460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929120" y="196524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954680" y="1905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495680" y="4038480"/>
            <a:ext cx="0" cy="9907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886200" y="502920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313160" y="447984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97480" y="50292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1371600" y="4038480"/>
            <a:ext cx="0" cy="15242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371600" y="5638680"/>
            <a:ext cx="251460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95200" y="510552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61000" y="5638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1676520"/>
            <a:ext cx="1143000" cy="825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 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172200" y="2590920"/>
            <a:ext cx="129528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 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828800" y="2514600"/>
            <a:ext cx="129528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 -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676520" y="5791320"/>
            <a:ext cx="152388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 -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- 3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952880" y="5105520"/>
            <a:ext cx="144792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 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- 2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6588000" y="836640"/>
            <a:ext cx="2109600" cy="1066680"/>
            <a:chOff x="6588000" y="836640"/>
            <a:chExt cx="2109600" cy="1066680"/>
          </a:xfrm>
        </p:grpSpPr>
        <p:sp>
          <p:nvSpPr>
            <p:cNvPr id="301" name=""/>
            <p:cNvSpPr/>
            <p:nvPr/>
          </p:nvSpPr>
          <p:spPr>
            <a:xfrm>
              <a:off x="6588000" y="836640"/>
              <a:ext cx="2037600" cy="1066680"/>
            </a:xfrm>
            <a:prstGeom prst="wedgeRectCallout">
              <a:avLst>
                <a:gd name="adj1" fmla="val -44791"/>
                <a:gd name="adj2" fmla="val 69939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72600" y="912600"/>
              <a:ext cx="20250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坐标是</a:t>
              </a:r>
              <a:r>
                <a:rPr b="1" lang="zh-CN" sz="2800" spc="-1" strike="noStrike" u="sng">
                  <a:solidFill>
                    <a:srgbClr val="ffffff"/>
                  </a:solidFill>
                  <a:uFillTx/>
                  <a:latin typeface="Times New Roman"/>
                  <a:ea typeface="楷体_GB2312"/>
                </a:rPr>
                <a:t>有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的数对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2364840" y="95400"/>
            <a:ext cx="43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写出图中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各点的坐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"/>
          <p:cNvGrpSpPr/>
          <p:nvPr/>
        </p:nvGrpSpPr>
        <p:grpSpPr>
          <a:xfrm>
            <a:off x="564120" y="189000"/>
            <a:ext cx="8602560" cy="5218560"/>
            <a:chOff x="564120" y="189000"/>
            <a:chExt cx="8602560" cy="5218560"/>
          </a:xfrm>
        </p:grpSpPr>
        <p:sp>
          <p:nvSpPr>
            <p:cNvPr id="305" name=""/>
            <p:cNvSpPr/>
            <p:nvPr/>
          </p:nvSpPr>
          <p:spPr>
            <a:xfrm>
              <a:off x="564120" y="3424320"/>
              <a:ext cx="28198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858960" y="189000"/>
              <a:ext cx="8307720" cy="5218560"/>
              <a:chOff x="858960" y="189000"/>
              <a:chExt cx="8307720" cy="5218560"/>
            </a:xfrm>
          </p:grpSpPr>
          <p:sp>
            <p:nvSpPr>
              <p:cNvPr id="307" name=""/>
              <p:cNvSpPr/>
              <p:nvPr/>
            </p:nvSpPr>
            <p:spPr>
              <a:xfrm>
                <a:off x="7655760" y="243360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527520" y="1138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9" name=""/>
              <p:cNvGrpSpPr/>
              <p:nvPr/>
            </p:nvGrpSpPr>
            <p:grpSpPr>
              <a:xfrm>
                <a:off x="858960" y="189000"/>
                <a:ext cx="8307720" cy="5218560"/>
                <a:chOff x="858960" y="189000"/>
                <a:chExt cx="8307720" cy="5218560"/>
              </a:xfrm>
            </p:grpSpPr>
            <p:grpSp>
              <p:nvGrpSpPr>
                <p:cNvPr id="310" name=""/>
                <p:cNvGrpSpPr/>
                <p:nvPr/>
              </p:nvGrpSpPr>
              <p:grpSpPr>
                <a:xfrm>
                  <a:off x="7655760" y="833400"/>
                  <a:ext cx="591840" cy="764280"/>
                  <a:chOff x="7655760" y="833400"/>
                  <a:chExt cx="591840" cy="764280"/>
                </a:xfrm>
              </p:grpSpPr>
              <p:sp>
                <p:nvSpPr>
                  <p:cNvPr id="311" name=""/>
                  <p:cNvSpPr/>
                  <p:nvPr/>
                </p:nvSpPr>
                <p:spPr>
                  <a:xfrm>
                    <a:off x="7655760" y="833400"/>
                    <a:ext cx="320760" cy="76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</a:t>
                    </a:r>
                    <a:endParaRPr b="0" lang="en-US" sz="4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7897680" y="986040"/>
                    <a:ext cx="3499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3" name=""/>
                <p:cNvGrpSpPr/>
                <p:nvPr/>
              </p:nvGrpSpPr>
              <p:grpSpPr>
                <a:xfrm>
                  <a:off x="858960" y="189000"/>
                  <a:ext cx="8307720" cy="5218560"/>
                  <a:chOff x="858960" y="189000"/>
                  <a:chExt cx="8307720" cy="5218560"/>
                </a:xfrm>
              </p:grpSpPr>
              <p:sp>
                <p:nvSpPr>
                  <p:cNvPr id="314" name=""/>
                  <p:cNvSpPr/>
                  <p:nvPr/>
                </p:nvSpPr>
                <p:spPr>
                  <a:xfrm>
                    <a:off x="6848640" y="1366920"/>
                    <a:ext cx="88596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7815240" y="1443240"/>
                    <a:ext cx="0" cy="106668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858960" y="189000"/>
                    <a:ext cx="8307720" cy="5218560"/>
                    <a:chOff x="858960" y="189000"/>
                    <a:chExt cx="8307720" cy="521856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1063800" y="300240"/>
                      <a:ext cx="261900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平面上点的坐标的确定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1164240" y="1197000"/>
                      <a:ext cx="3806280" cy="2226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平面内任意一点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,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过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点分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向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、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轴作垂线，垂足在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轴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轴上对应的数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、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分别叫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点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的横坐标、纵坐标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则有序数对（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叫做点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的坐标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858960" y="3424320"/>
                      <a:ext cx="2971080" cy="642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记为</a:t>
                      </a: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，</a:t>
                      </a: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</a:t>
                      </a: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20" name=""/>
                    <p:cNvGrpSpPr/>
                    <p:nvPr/>
                  </p:nvGrpSpPr>
                  <p:grpSpPr>
                    <a:xfrm>
                      <a:off x="5397840" y="189000"/>
                      <a:ext cx="3768840" cy="3235320"/>
                      <a:chOff x="5397840" y="189000"/>
                      <a:chExt cx="3768840" cy="3235320"/>
                    </a:xfrm>
                  </p:grpSpPr>
                  <p:sp>
                    <p:nvSpPr>
                      <p:cNvPr id="321" name=""/>
                      <p:cNvSpPr/>
                      <p:nvPr/>
                    </p:nvSpPr>
                    <p:spPr>
                      <a:xfrm>
                        <a:off x="5397840" y="2509920"/>
                        <a:ext cx="346356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2" name=""/>
                      <p:cNvSpPr/>
                      <p:nvPr/>
                    </p:nvSpPr>
                    <p:spPr>
                      <a:xfrm flipV="1">
                        <a:off x="6847920" y="681120"/>
                        <a:ext cx="0" cy="274320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3" name=""/>
                      <p:cNvSpPr/>
                      <p:nvPr/>
                    </p:nvSpPr>
                    <p:spPr>
                      <a:xfrm>
                        <a:off x="6429600" y="2475000"/>
                        <a:ext cx="4003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O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4" name=""/>
                      <p:cNvSpPr/>
                      <p:nvPr/>
                    </p:nvSpPr>
                    <p:spPr>
                      <a:xfrm>
                        <a:off x="8766360" y="2475000"/>
                        <a:ext cx="4003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X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5" name=""/>
                      <p:cNvSpPr/>
                      <p:nvPr/>
                    </p:nvSpPr>
                    <p:spPr>
                      <a:xfrm>
                        <a:off x="6510600" y="189000"/>
                        <a:ext cx="4003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Y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26" name=""/>
                    <p:cNvSpPr/>
                    <p:nvPr/>
                  </p:nvSpPr>
                  <p:spPr>
                    <a:xfrm>
                      <a:off x="1389600" y="4338720"/>
                      <a:ext cx="4420800" cy="1068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注意</a:t>
                      </a:r>
                      <a:r>
                        <a:rPr b="1" lang="zh-CN" sz="32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:</a:t>
                      </a:r>
                      <a:r>
                        <a:rPr b="1" lang="zh-CN" sz="32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横坐标写在前</a:t>
                      </a:r>
                      <a:r>
                        <a:rPr b="1" lang="zh-CN" sz="32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,</a:t>
                      </a:r>
                      <a:r>
                        <a:rPr b="1" lang="zh-CN" sz="32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纵坐标写在后</a:t>
                      </a:r>
                      <a:r>
                        <a:rPr b="1" lang="zh-CN" sz="32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zh-CN" sz="32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中间用逗号隔开</a:t>
                      </a:r>
                      <a:r>
                        <a:rPr b="1" lang="zh-CN" sz="32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859280" y="3645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3,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211640" y="155736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260280"/>
            <a:ext cx="8893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请你写出点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E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F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G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H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M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所在的象限及各点的坐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172200" y="220968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5640" y="227664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00000" y="48690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334120" y="518148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916560" y="1218960"/>
            <a:ext cx="7689240" cy="5638680"/>
            <a:chOff x="916560" y="1218960"/>
            <a:chExt cx="7689240" cy="5638680"/>
          </a:xfrm>
        </p:grpSpPr>
        <p:grpSp>
          <p:nvGrpSpPr>
            <p:cNvPr id="335" name=""/>
            <p:cNvGrpSpPr/>
            <p:nvPr/>
          </p:nvGrpSpPr>
          <p:grpSpPr>
            <a:xfrm>
              <a:off x="1146240" y="1218960"/>
              <a:ext cx="7459560" cy="5638680"/>
              <a:chOff x="1146240" y="1218960"/>
              <a:chExt cx="7459560" cy="5638680"/>
            </a:xfrm>
          </p:grpSpPr>
          <p:grpSp>
            <p:nvGrpSpPr>
              <p:cNvPr id="336" name=""/>
              <p:cNvGrpSpPr/>
              <p:nvPr/>
            </p:nvGrpSpPr>
            <p:grpSpPr>
              <a:xfrm>
                <a:off x="1146240" y="1218960"/>
                <a:ext cx="7459560" cy="5638680"/>
                <a:chOff x="1146240" y="1218960"/>
                <a:chExt cx="7459560" cy="5638680"/>
              </a:xfrm>
            </p:grpSpPr>
            <p:grpSp>
              <p:nvGrpSpPr>
                <p:cNvPr id="337" name=""/>
                <p:cNvGrpSpPr/>
                <p:nvPr/>
              </p:nvGrpSpPr>
              <p:grpSpPr>
                <a:xfrm>
                  <a:off x="1146240" y="4191120"/>
                  <a:ext cx="6858000" cy="764280"/>
                  <a:chOff x="1146240" y="4191120"/>
                  <a:chExt cx="6858000" cy="764280"/>
                </a:xfrm>
              </p:grpSpPr>
              <p:sp>
                <p:nvSpPr>
                  <p:cNvPr id="338" name=""/>
                  <p:cNvSpPr/>
                  <p:nvPr/>
                </p:nvSpPr>
                <p:spPr>
                  <a:xfrm>
                    <a:off x="3814920" y="434304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0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39" name=""/>
                  <p:cNvGrpSpPr/>
                  <p:nvPr/>
                </p:nvGrpSpPr>
                <p:grpSpPr>
                  <a:xfrm>
                    <a:off x="1146240" y="4191120"/>
                    <a:ext cx="6858000" cy="764280"/>
                    <a:chOff x="1146240" y="4191120"/>
                    <a:chExt cx="6858000" cy="764280"/>
                  </a:xfrm>
                </p:grpSpPr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1146240" y="4419360"/>
                      <a:ext cx="6858000" cy="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41" name=""/>
                    <p:cNvGrpSpPr/>
                    <p:nvPr/>
                  </p:nvGrpSpPr>
                  <p:grpSpPr>
                    <a:xfrm>
                      <a:off x="4118040" y="4191120"/>
                      <a:ext cx="609120" cy="227880"/>
                      <a:chOff x="4118040" y="4191120"/>
                      <a:chExt cx="609120" cy="227880"/>
                    </a:xfrm>
                  </p:grpSpPr>
                  <p:sp>
                    <p:nvSpPr>
                      <p:cNvPr id="342" name=""/>
                      <p:cNvSpPr/>
                      <p:nvPr/>
                    </p:nvSpPr>
                    <p:spPr>
                      <a:xfrm>
                        <a:off x="4118040" y="4191120"/>
                        <a:ext cx="0" cy="227880"/>
                      </a:xfrm>
                      <a:prstGeom prst="line">
                        <a:avLst/>
                      </a:prstGeom>
                      <a:ln w="3816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3" name=""/>
                      <p:cNvSpPr/>
                      <p:nvPr/>
                    </p:nvSpPr>
                    <p:spPr>
                      <a:xfrm>
                        <a:off x="4727160" y="4191120"/>
                        <a:ext cx="0" cy="227880"/>
                      </a:xfrm>
                      <a:prstGeom prst="line">
                        <a:avLst/>
                      </a:prstGeom>
                      <a:ln w="3816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44" name=""/>
                    <p:cNvGrpSpPr/>
                    <p:nvPr/>
                  </p:nvGrpSpPr>
                  <p:grpSpPr>
                    <a:xfrm>
                      <a:off x="5337360" y="4191120"/>
                      <a:ext cx="609120" cy="227880"/>
                      <a:chOff x="5337360" y="4191120"/>
                      <a:chExt cx="609120" cy="227880"/>
                    </a:xfrm>
                  </p:grpSpPr>
                  <p:sp>
                    <p:nvSpPr>
                      <p:cNvPr id="345" name=""/>
                      <p:cNvSpPr/>
                      <p:nvPr/>
                    </p:nvSpPr>
                    <p:spPr>
                      <a:xfrm>
                        <a:off x="5337360" y="4191120"/>
                        <a:ext cx="0" cy="227880"/>
                      </a:xfrm>
                      <a:prstGeom prst="line">
                        <a:avLst/>
                      </a:prstGeom>
                      <a:ln w="3816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6" name=""/>
                      <p:cNvSpPr/>
                      <p:nvPr/>
                    </p:nvSpPr>
                    <p:spPr>
                      <a:xfrm>
                        <a:off x="5946480" y="4191120"/>
                        <a:ext cx="0" cy="227880"/>
                      </a:xfrm>
                      <a:prstGeom prst="line">
                        <a:avLst/>
                      </a:prstGeom>
                      <a:ln w="3816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47" name=""/>
                    <p:cNvGrpSpPr/>
                    <p:nvPr/>
                  </p:nvGrpSpPr>
                  <p:grpSpPr>
                    <a:xfrm>
                      <a:off x="6556320" y="4191120"/>
                      <a:ext cx="609480" cy="227880"/>
                      <a:chOff x="6556320" y="4191120"/>
                      <a:chExt cx="609480" cy="227880"/>
                    </a:xfrm>
                  </p:grpSpPr>
                  <p:sp>
                    <p:nvSpPr>
                      <p:cNvPr id="348" name=""/>
                      <p:cNvSpPr/>
                      <p:nvPr/>
                    </p:nvSpPr>
                    <p:spPr>
                      <a:xfrm>
                        <a:off x="6556320" y="4191120"/>
                        <a:ext cx="0" cy="227880"/>
                      </a:xfrm>
                      <a:prstGeom prst="line">
                        <a:avLst/>
                      </a:prstGeom>
                      <a:ln w="3816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9" name=""/>
                      <p:cNvSpPr/>
                      <p:nvPr/>
                    </p:nvSpPr>
                    <p:spPr>
                      <a:xfrm>
                        <a:off x="7165800" y="4191120"/>
                        <a:ext cx="0" cy="227880"/>
                      </a:xfrm>
                      <a:prstGeom prst="line">
                        <a:avLst/>
                      </a:prstGeom>
                      <a:ln w="3816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50" name=""/>
                    <p:cNvSpPr/>
                    <p:nvPr/>
                  </p:nvSpPr>
                  <p:spPr>
                    <a:xfrm>
                      <a:off x="4577040" y="4495680"/>
                      <a:ext cx="333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>
                      <a:off x="5186520" y="4495680"/>
                      <a:ext cx="333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>
                      <a:off x="5796360" y="4495680"/>
                      <a:ext cx="333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>
                      <a:off x="6405840" y="4495680"/>
                      <a:ext cx="333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"/>
                    <p:cNvSpPr/>
                    <p:nvPr/>
                  </p:nvSpPr>
                  <p:spPr>
                    <a:xfrm>
                      <a:off x="7015320" y="4495680"/>
                      <a:ext cx="333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55" name=""/>
                    <p:cNvGrpSpPr/>
                    <p:nvPr/>
                  </p:nvGrpSpPr>
                  <p:grpSpPr>
                    <a:xfrm>
                      <a:off x="1603440" y="4191120"/>
                      <a:ext cx="609120" cy="227880"/>
                      <a:chOff x="1603440" y="4191120"/>
                      <a:chExt cx="609120" cy="227880"/>
                    </a:xfrm>
                  </p:grpSpPr>
                  <p:sp>
                    <p:nvSpPr>
                      <p:cNvPr id="356" name=""/>
                      <p:cNvSpPr/>
                      <p:nvPr/>
                    </p:nvSpPr>
                    <p:spPr>
                      <a:xfrm>
                        <a:off x="1603440" y="4191120"/>
                        <a:ext cx="0" cy="227880"/>
                      </a:xfrm>
                      <a:prstGeom prst="line">
                        <a:avLst/>
                      </a:prstGeom>
                      <a:ln w="3816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7" name=""/>
                      <p:cNvSpPr/>
                      <p:nvPr/>
                    </p:nvSpPr>
                    <p:spPr>
                      <a:xfrm>
                        <a:off x="2212560" y="4191120"/>
                        <a:ext cx="0" cy="227880"/>
                      </a:xfrm>
                      <a:prstGeom prst="line">
                        <a:avLst/>
                      </a:prstGeom>
                      <a:ln w="3816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58" name=""/>
                    <p:cNvGrpSpPr/>
                    <p:nvPr/>
                  </p:nvGrpSpPr>
                  <p:grpSpPr>
                    <a:xfrm>
                      <a:off x="2822760" y="4191120"/>
                      <a:ext cx="609120" cy="227880"/>
                      <a:chOff x="2822760" y="4191120"/>
                      <a:chExt cx="609120" cy="227880"/>
                    </a:xfrm>
                  </p:grpSpPr>
                  <p:sp>
                    <p:nvSpPr>
                      <p:cNvPr id="359" name=""/>
                      <p:cNvSpPr/>
                      <p:nvPr/>
                    </p:nvSpPr>
                    <p:spPr>
                      <a:xfrm>
                        <a:off x="2822760" y="4191120"/>
                        <a:ext cx="0" cy="227880"/>
                      </a:xfrm>
                      <a:prstGeom prst="line">
                        <a:avLst/>
                      </a:prstGeom>
                      <a:ln w="3816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60" name=""/>
                      <p:cNvSpPr/>
                      <p:nvPr/>
                    </p:nvSpPr>
                    <p:spPr>
                      <a:xfrm>
                        <a:off x="3431880" y="4191120"/>
                        <a:ext cx="0" cy="227880"/>
                      </a:xfrm>
                      <a:prstGeom prst="line">
                        <a:avLst/>
                      </a:prstGeom>
                      <a:ln w="3816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61" name=""/>
                    <p:cNvSpPr/>
                    <p:nvPr/>
                  </p:nvSpPr>
                  <p:spPr>
                    <a:xfrm>
                      <a:off x="1299960" y="4495680"/>
                      <a:ext cx="43524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>
                      <a:off x="1909800" y="4495680"/>
                      <a:ext cx="43524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"/>
                    <p:cNvSpPr/>
                    <p:nvPr/>
                  </p:nvSpPr>
                  <p:spPr>
                    <a:xfrm>
                      <a:off x="2519280" y="4495680"/>
                      <a:ext cx="43524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>
                      <a:off x="3128760" y="4495680"/>
                      <a:ext cx="43524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3662280" y="1218960"/>
                  <a:ext cx="686520" cy="5638680"/>
                  <a:chOff x="3662280" y="1218960"/>
                  <a:chExt cx="686520" cy="563868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 flipV="1">
                    <a:off x="4118040" y="1218960"/>
                    <a:ext cx="0" cy="56386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3738960" y="266724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3738960" y="373392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3738960" y="213372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3738960" y="312444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3738960" y="160020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72" name=""/>
                  <p:cNvGrpSpPr/>
                  <p:nvPr/>
                </p:nvGrpSpPr>
                <p:grpSpPr>
                  <a:xfrm>
                    <a:off x="4077360" y="1827720"/>
                    <a:ext cx="271440" cy="497880"/>
                    <a:chOff x="4077360" y="1827720"/>
                    <a:chExt cx="271440" cy="497880"/>
                  </a:xfrm>
                </p:grpSpPr>
                <p:sp>
                  <p:nvSpPr>
                    <p:cNvPr id="373" name=""/>
                    <p:cNvSpPr/>
                    <p:nvPr/>
                  </p:nvSpPr>
                  <p:spPr>
                    <a:xfrm>
                      <a:off x="4077360" y="2322720"/>
                      <a:ext cx="266400" cy="288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>
                      <a:off x="4082400" y="1827720"/>
                      <a:ext cx="266400" cy="288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5" name=""/>
                  <p:cNvGrpSpPr/>
                  <p:nvPr/>
                </p:nvGrpSpPr>
                <p:grpSpPr>
                  <a:xfrm>
                    <a:off x="4077360" y="2894760"/>
                    <a:ext cx="271440" cy="497880"/>
                    <a:chOff x="4077360" y="2894760"/>
                    <a:chExt cx="271440" cy="497880"/>
                  </a:xfrm>
                </p:grpSpPr>
                <p:sp>
                  <p:nvSpPr>
                    <p:cNvPr id="376" name=""/>
                    <p:cNvSpPr/>
                    <p:nvPr/>
                  </p:nvSpPr>
                  <p:spPr>
                    <a:xfrm>
                      <a:off x="4077360" y="3389760"/>
                      <a:ext cx="266400" cy="288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>
                      <a:off x="4082400" y="2894760"/>
                      <a:ext cx="266400" cy="288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8" name=""/>
                  <p:cNvGrpSpPr/>
                  <p:nvPr/>
                </p:nvGrpSpPr>
                <p:grpSpPr>
                  <a:xfrm>
                    <a:off x="4077360" y="3923280"/>
                    <a:ext cx="271440" cy="497880"/>
                    <a:chOff x="4077360" y="3923280"/>
                    <a:chExt cx="271440" cy="497880"/>
                  </a:xfrm>
                </p:grpSpPr>
                <p:sp>
                  <p:nvSpPr>
                    <p:cNvPr id="379" name=""/>
                    <p:cNvSpPr/>
                    <p:nvPr/>
                  </p:nvSpPr>
                  <p:spPr>
                    <a:xfrm>
                      <a:off x="4077360" y="4418280"/>
                      <a:ext cx="266400" cy="288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>
                      <a:off x="4082400" y="3923280"/>
                      <a:ext cx="266400" cy="288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1" name=""/>
                  <p:cNvSpPr/>
                  <p:nvPr/>
                </p:nvSpPr>
                <p:spPr>
                  <a:xfrm>
                    <a:off x="3662280" y="5257800"/>
                    <a:ext cx="435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-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3662280" y="6324840"/>
                    <a:ext cx="435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-4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3662280" y="4724640"/>
                    <a:ext cx="435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-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3662280" y="5715000"/>
                    <a:ext cx="435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-3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85" name=""/>
                  <p:cNvGrpSpPr/>
                  <p:nvPr/>
                </p:nvGrpSpPr>
                <p:grpSpPr>
                  <a:xfrm>
                    <a:off x="4077360" y="4952160"/>
                    <a:ext cx="271440" cy="497880"/>
                    <a:chOff x="4077360" y="4952160"/>
                    <a:chExt cx="271440" cy="497880"/>
                  </a:xfrm>
                </p:grpSpPr>
                <p:sp>
                  <p:nvSpPr>
                    <p:cNvPr id="386" name=""/>
                    <p:cNvSpPr/>
                    <p:nvPr/>
                  </p:nvSpPr>
                  <p:spPr>
                    <a:xfrm>
                      <a:off x="4077360" y="5447160"/>
                      <a:ext cx="266400" cy="288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4082400" y="4952160"/>
                      <a:ext cx="266400" cy="288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8" name=""/>
                  <p:cNvGrpSpPr/>
                  <p:nvPr/>
                </p:nvGrpSpPr>
                <p:grpSpPr>
                  <a:xfrm>
                    <a:off x="4077360" y="6018840"/>
                    <a:ext cx="271440" cy="497880"/>
                    <a:chOff x="4077360" y="6018840"/>
                    <a:chExt cx="271440" cy="497880"/>
                  </a:xfrm>
                </p:grpSpPr>
                <p:sp>
                  <p:nvSpPr>
                    <p:cNvPr id="389" name=""/>
                    <p:cNvSpPr/>
                    <p:nvPr/>
                  </p:nvSpPr>
                  <p:spPr>
                    <a:xfrm>
                      <a:off x="4077360" y="6513840"/>
                      <a:ext cx="266400" cy="288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4082400" y="6018840"/>
                      <a:ext cx="266400" cy="288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91" name=""/>
                <p:cNvGrpSpPr/>
                <p:nvPr/>
              </p:nvGrpSpPr>
              <p:grpSpPr>
                <a:xfrm>
                  <a:off x="7777440" y="4495680"/>
                  <a:ext cx="828360" cy="480240"/>
                  <a:chOff x="7777440" y="4495680"/>
                  <a:chExt cx="828360" cy="480240"/>
                </a:xfrm>
              </p:grpSpPr>
              <p:sp>
                <p:nvSpPr>
                  <p:cNvPr id="392" name=""/>
                  <p:cNvSpPr/>
                  <p:nvPr/>
                </p:nvSpPr>
                <p:spPr>
                  <a:xfrm>
                    <a:off x="7777440" y="449568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x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8348760" y="4516200"/>
                    <a:ext cx="257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4" name=""/>
              <p:cNvGrpSpPr/>
              <p:nvPr/>
            </p:nvGrpSpPr>
            <p:grpSpPr>
              <a:xfrm>
                <a:off x="2709720" y="1219320"/>
                <a:ext cx="1285920" cy="556560"/>
                <a:chOff x="2709720" y="1219320"/>
                <a:chExt cx="1285920" cy="55656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3662640" y="12193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3300"/>
                      </a:solidFill>
                      <a:latin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2709720" y="1316160"/>
                  <a:ext cx="257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3300"/>
                      </a:solidFill>
                      <a:latin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"/>
            <p:cNvGrpSpPr/>
            <p:nvPr/>
          </p:nvGrpSpPr>
          <p:grpSpPr>
            <a:xfrm>
              <a:off x="916560" y="4343040"/>
              <a:ext cx="3274200" cy="1084680"/>
              <a:chOff x="916560" y="4343040"/>
              <a:chExt cx="3274200" cy="1084680"/>
            </a:xfrm>
          </p:grpSpPr>
          <p:grpSp>
            <p:nvGrpSpPr>
              <p:cNvPr id="398" name=""/>
              <p:cNvGrpSpPr/>
              <p:nvPr/>
            </p:nvGrpSpPr>
            <p:grpSpPr>
              <a:xfrm>
                <a:off x="1600200" y="4343040"/>
                <a:ext cx="2590560" cy="669960"/>
                <a:chOff x="1600200" y="4343040"/>
                <a:chExt cx="2590560" cy="669960"/>
              </a:xfrm>
            </p:grpSpPr>
            <p:sp>
              <p:nvSpPr>
                <p:cNvPr id="399" name=""/>
                <p:cNvSpPr/>
                <p:nvPr/>
              </p:nvSpPr>
              <p:spPr>
                <a:xfrm flipV="1">
                  <a:off x="1600200" y="4343040"/>
                  <a:ext cx="0" cy="5173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1600200" y="5013000"/>
                  <a:ext cx="259056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916560" y="4419360"/>
                <a:ext cx="866520" cy="1008360"/>
                <a:chOff x="916560" y="4419360"/>
                <a:chExt cx="866520" cy="100836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1347840" y="4419360"/>
                  <a:ext cx="43524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0" spc="-1" strike="noStrike">
                      <a:solidFill>
                        <a:srgbClr val="0000ff"/>
                      </a:solidFill>
                      <a:latin typeface="Times New Roman"/>
                    </a:rPr>
                    <a:t>·</a:t>
                  </a: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916560" y="479988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ff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4" name=""/>
            <p:cNvGrpSpPr/>
            <p:nvPr/>
          </p:nvGrpSpPr>
          <p:grpSpPr>
            <a:xfrm>
              <a:off x="4114800" y="2209680"/>
              <a:ext cx="2691000" cy="2210040"/>
              <a:chOff x="4114800" y="2209680"/>
              <a:chExt cx="2691000" cy="2210040"/>
            </a:xfrm>
          </p:grpSpPr>
          <p:sp>
            <p:nvSpPr>
              <p:cNvPr id="405" name=""/>
              <p:cNvSpPr/>
              <p:nvPr/>
            </p:nvSpPr>
            <p:spPr>
              <a:xfrm flipV="1">
                <a:off x="6553080" y="2971800"/>
                <a:ext cx="0" cy="144792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6" name=""/>
              <p:cNvGrpSpPr/>
              <p:nvPr/>
            </p:nvGrpSpPr>
            <p:grpSpPr>
              <a:xfrm>
                <a:off x="4114800" y="2209680"/>
                <a:ext cx="2691000" cy="1145160"/>
                <a:chOff x="4114800" y="2209680"/>
                <a:chExt cx="2691000" cy="114516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6370560" y="2346480"/>
                  <a:ext cx="43524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0" spc="-1" strike="noStrike">
                      <a:solidFill>
                        <a:srgbClr val="0000ff"/>
                      </a:solidFill>
                      <a:latin typeface="Times New Roman"/>
                    </a:rPr>
                    <a:t>·</a:t>
                  </a: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326640" y="220968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ff"/>
                      </a:solidFill>
                      <a:latin typeface="Times New Roman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4114800" y="2895480"/>
                  <a:ext cx="243828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0" name=""/>
            <p:cNvGrpSpPr/>
            <p:nvPr/>
          </p:nvGrpSpPr>
          <p:grpSpPr>
            <a:xfrm>
              <a:off x="2364120" y="2286000"/>
              <a:ext cx="1747080" cy="2174040"/>
              <a:chOff x="2364120" y="2286000"/>
              <a:chExt cx="1747080" cy="2174040"/>
            </a:xfrm>
          </p:grpSpPr>
          <p:sp>
            <p:nvSpPr>
              <p:cNvPr id="411" name=""/>
              <p:cNvSpPr/>
              <p:nvPr/>
            </p:nvSpPr>
            <p:spPr>
              <a:xfrm>
                <a:off x="2639880" y="2362320"/>
                <a:ext cx="43524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0000ff"/>
                    </a:solidFill>
                    <a:latin typeface="Times New Roman"/>
                  </a:rPr>
                  <a:t>·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2" name=""/>
              <p:cNvGrpSpPr/>
              <p:nvPr/>
            </p:nvGrpSpPr>
            <p:grpSpPr>
              <a:xfrm>
                <a:off x="2819520" y="2895120"/>
                <a:ext cx="1291680" cy="1564920"/>
                <a:chOff x="2819520" y="2895120"/>
                <a:chExt cx="1291680" cy="1564920"/>
              </a:xfrm>
            </p:grpSpPr>
            <p:sp>
              <p:nvSpPr>
                <p:cNvPr id="413" name=""/>
                <p:cNvSpPr/>
                <p:nvPr/>
              </p:nvSpPr>
              <p:spPr>
                <a:xfrm flipV="1">
                  <a:off x="2819520" y="2895120"/>
                  <a:ext cx="0" cy="15649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892240" y="2895480"/>
                  <a:ext cx="121896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2364120" y="228600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4114800" y="4419720"/>
              <a:ext cx="1965240" cy="1416240"/>
              <a:chOff x="4114800" y="4419720"/>
              <a:chExt cx="1965240" cy="1416240"/>
            </a:xfrm>
          </p:grpSpPr>
          <p:sp>
            <p:nvSpPr>
              <p:cNvPr id="417" name=""/>
              <p:cNvSpPr/>
              <p:nvPr/>
            </p:nvSpPr>
            <p:spPr>
              <a:xfrm>
                <a:off x="5562720" y="5181480"/>
                <a:ext cx="51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8" name=""/>
              <p:cNvGrpSpPr/>
              <p:nvPr/>
            </p:nvGrpSpPr>
            <p:grpSpPr>
              <a:xfrm>
                <a:off x="4114800" y="4419720"/>
                <a:ext cx="1514520" cy="1416240"/>
                <a:chOff x="4114800" y="4419720"/>
                <a:chExt cx="1514520" cy="1416240"/>
              </a:xfrm>
            </p:grpSpPr>
            <p:sp>
              <p:nvSpPr>
                <p:cNvPr id="419" name=""/>
                <p:cNvSpPr/>
                <p:nvPr/>
              </p:nvSpPr>
              <p:spPr>
                <a:xfrm flipV="1">
                  <a:off x="5396040" y="4419720"/>
                  <a:ext cx="1440" cy="10173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114800" y="5437080"/>
                  <a:ext cx="1281240" cy="180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5194080" y="4827600"/>
                  <a:ext cx="43524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0" spc="-1" strike="noStrike">
                      <a:solidFill>
                        <a:srgbClr val="0000ff"/>
                      </a:solidFill>
                      <a:latin typeface="Times New Roman"/>
                    </a:rPr>
                    <a:t>·</a:t>
                  </a: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2" name=""/>
          <p:cNvGrpSpPr/>
          <p:nvPr/>
        </p:nvGrpSpPr>
        <p:grpSpPr>
          <a:xfrm>
            <a:off x="3564000" y="1484280"/>
            <a:ext cx="1600200" cy="642600"/>
            <a:chOff x="3564000" y="1484280"/>
            <a:chExt cx="1600200" cy="642600"/>
          </a:xfrm>
        </p:grpSpPr>
        <p:sp>
          <p:nvSpPr>
            <p:cNvPr id="423" name=""/>
            <p:cNvSpPr/>
            <p:nvPr/>
          </p:nvSpPr>
          <p:spPr>
            <a:xfrm>
              <a:off x="3944880" y="151596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宋体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564000" y="148428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宋体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5292720" y="407664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219640" y="3933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292720" y="2276640"/>
            <a:ext cx="71280" cy="7272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364000" y="2349360"/>
            <a:ext cx="0" cy="1943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140360" y="2276640"/>
            <a:ext cx="129672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2195640" y="1844280"/>
            <a:ext cx="0" cy="259236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124000" y="1844640"/>
            <a:ext cx="194472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419640" y="4365720"/>
            <a:ext cx="0" cy="1655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419640" y="6021360"/>
            <a:ext cx="79200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164360" y="4365720"/>
            <a:ext cx="0" cy="216036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066920" y="6524640"/>
            <a:ext cx="309708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097720" y="17002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148360" y="2133720"/>
            <a:ext cx="41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3132000" y="5803200"/>
            <a:ext cx="5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995160" y="630864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408280" y="20606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763640" y="1557360"/>
            <a:ext cx="3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89080" y="5877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093080" y="623736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-1211760" y="200808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-3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-1841760" y="29955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-2126520" y="452772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-1,-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-2070720" y="494028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5,-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-4213080" y="644688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注  意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坐标轴上的点不属于任何象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970800" y="580536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50080" y="422100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356000" y="580536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117080" y="3933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-2147040" y="531972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-4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-2291400" y="568008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0,-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143960" y="1029240"/>
            <a:ext cx="48528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纵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467120" y="386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横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8.69565E-007 L -2.77778E-007 -0.02082 E">
                                      <p:cBhvr>
                                        <p:cTn id="187" dur="2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142 -0.1235 L 0.48142 -0.1235 E">
                                      <p:cBhvr>
                                        <p:cTn id="191" dur="2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83 -0.12742 L 0.8283 -0.12742 E">
                                      <p:cBhvr>
                                        <p:cTn id="195" dur="20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26 -0.06753 L 0.35226 -0.06753 E">
                                      <p:cBhvr>
                                        <p:cTn id="199" dur="2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854 0.20536 L 0.58854 0.20536 E">
                                      <p:cBhvr>
                                        <p:cTn id="203" dur="20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868 0.18709 L 1.0368 0.18709 E">
                                      <p:cBhvr>
                                        <p:cTn id="207" dur="2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1163 0.02682 L 0.76163 0.02682 E">
                                      <p:cBhvr>
                                        <p:cTn id="211" dur="2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948 -0.21439 L 0.39948 -0.21439 E">
                                      <p:cBhvr>
                                        <p:cTn id="215" dur="2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思考与交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各个象限内的点的坐标有什么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数轴上的点的坐标有什么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-776160" y="3002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4859280" y="1628640"/>
          <a:ext cx="4038480" cy="4525560"/>
        </p:xfrm>
        <a:graphic>
          <a:graphicData uri="http://schemas.openxmlformats.org/drawingml/2006/table">
            <a:tbl>
              <a:tblPr/>
              <a:tblGrid>
                <a:gridCol w="1345680"/>
                <a:gridCol w="1346760"/>
                <a:gridCol w="1346040"/>
              </a:tblGrid>
              <a:tr h="90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象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99cc00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28080">
                      <a:solidFill>
                        <a:srgbClr val="99cc00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横坐标符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28080">
                      <a:solidFill>
                        <a:srgbClr val="99cc00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纵坐标符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28080">
                      <a:solidFill>
                        <a:srgbClr val="99cc00"/>
                      </a:solidFill>
                    </a:lnR>
                    <a:lnT w="28080">
                      <a:solidFill>
                        <a:srgbClr val="99cc00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一象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99cc00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28080">
                      <a:solidFill>
                        <a:srgbClr val="99cc00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二象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99cc00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28080">
                      <a:solidFill>
                        <a:srgbClr val="99cc00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三象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99cc00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28080">
                      <a:solidFill>
                        <a:srgbClr val="99cc00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18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四象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99cc00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2808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18720">
                      <a:solidFill>
                        <a:srgbClr val="ff00ff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2808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ff"/>
                      </a:solidFill>
                    </a:lnL>
                    <a:lnR w="28080">
                      <a:solidFill>
                        <a:srgbClr val="99cc00"/>
                      </a:solidFill>
                    </a:lnR>
                    <a:lnT w="18720">
                      <a:solidFill>
                        <a:srgbClr val="ff00ff"/>
                      </a:solidFill>
                    </a:lnT>
                    <a:lnB w="2808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1" name=""/>
          <p:cNvSpPr/>
          <p:nvPr/>
        </p:nvSpPr>
        <p:spPr>
          <a:xfrm>
            <a:off x="-3349800" y="4724280"/>
            <a:ext cx="28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坐标轴上的点的坐标中至少有一个是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，横轴上点的纵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标为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；纵轴上的点的横坐标为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-1347120" y="17780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-1490040" y="2714760"/>
            <a:ext cx="31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-1347120" y="2859120"/>
            <a:ext cx="31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-1347120" y="3651120"/>
            <a:ext cx="31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-1490040" y="122400"/>
            <a:ext cx="31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-1418760" y="625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-1563120" y="12016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-1563120" y="40831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2986 0.15101 L 0.87986 0.15101 E">
                                      <p:cBhvr>
                                        <p:cTn id="221" dur="2000" fill="hold"/>
                                        <p:tgtEl>
                                          <p:spTgt spid="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8732 0.23496 L 1.03732 0.23496 E">
                                      <p:cBhvr>
                                        <p:cTn id="225" dur="2000" fill="hold"/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2986 -0.00555 L 0.87986 -0.00555 E">
                                      <p:cBhvr>
                                        <p:cTn id="229" dur="20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7152 0.45536 L 1.02152 0.45536 E">
                                      <p:cBhvr>
                                        <p:cTn id="233" dur="2000" fill="hold"/>
                                        <p:tgtEl>
                                          <p:spTgt spid="4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1406 0.23566 L 0.86406 0.23566 E">
                                      <p:cBhvr>
                                        <p:cTn id="237" dur="2000" fill="hold"/>
                                        <p:tgtEl>
                                          <p:spTgt spid="4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8716 0.25671 L 1.03716 0.25671 E">
                                      <p:cBhvr>
                                        <p:cTn id="241" dur="20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3767 0.22432 L 0.88767 0.22432 E">
                                      <p:cBhvr>
                                        <p:cTn id="245" dur="2000" fill="hold"/>
                                        <p:tgtEl>
                                          <p:spTgt spid="4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8716 0.78122 L 1.03716 0.78122 E">
                                      <p:cBhvr>
                                        <p:cTn id="249" dur="2000" fill="hold"/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885 -0.03469 L 0.45885 -0.03469 E">
                                      <p:cBhvr>
                                        <p:cTn id="253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-36360" y="620640"/>
            <a:ext cx="91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1: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写出下图中的多边形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ABCDEF</a:t>
            </a:r>
            <a:r>
              <a:rPr b="1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各个顶点的坐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003080" y="3890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仿宋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3564000" y="2004840"/>
            <a:ext cx="5402160" cy="3945240"/>
            <a:chOff x="3564000" y="2004840"/>
            <a:chExt cx="5402160" cy="3945240"/>
          </a:xfrm>
        </p:grpSpPr>
        <p:graphicFrame>
          <p:nvGraphicFramePr>
            <p:cNvPr id="473" name=""/>
            <p:cNvGraphicFramePr/>
            <p:nvPr/>
          </p:nvGraphicFramePr>
          <p:xfrm>
            <a:off x="3564000" y="2004840"/>
            <a:ext cx="5402160" cy="3945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564000" y="2004840"/>
                      <a:ext cx="5402160" cy="394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5" name=""/>
            <p:cNvSpPr/>
            <p:nvPr/>
          </p:nvSpPr>
          <p:spPr>
            <a:xfrm>
              <a:off x="3564000" y="3963960"/>
              <a:ext cx="496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5062680" y="2277720"/>
              <a:ext cx="0" cy="3529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4067280" y="2508120"/>
              <a:ext cx="1009440" cy="144144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067280" y="3949560"/>
              <a:ext cx="1009440" cy="151128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076720" y="2522520"/>
              <a:ext cx="144000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516720" y="2508120"/>
              <a:ext cx="503280" cy="144144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6516720" y="3949560"/>
              <a:ext cx="503280" cy="151128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003640" y="5432400"/>
              <a:ext cx="151308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781800" y="39783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691160" y="52750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503040" y="5273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498000" y="2178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708440" y="22510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158760" y="2008080"/>
            <a:ext cx="3117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解：如图，各个顶点的坐标分别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A(-2,0)    B(0,-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C(3,-3)    D(4,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E(3,3)     F(0,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461800" y="3932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058000" y="2008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51052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07888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0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"/>
          <p:cNvGrpSpPr/>
          <p:nvPr/>
        </p:nvGrpSpPr>
        <p:grpSpPr>
          <a:xfrm>
            <a:off x="3348000" y="44280"/>
            <a:ext cx="5402160" cy="3945240"/>
            <a:chOff x="3348000" y="44280"/>
            <a:chExt cx="5402160" cy="3945240"/>
          </a:xfrm>
        </p:grpSpPr>
        <p:graphicFrame>
          <p:nvGraphicFramePr>
            <p:cNvPr id="494" name=""/>
            <p:cNvGraphicFramePr/>
            <p:nvPr/>
          </p:nvGraphicFramePr>
          <p:xfrm>
            <a:off x="3348000" y="44280"/>
            <a:ext cx="5402160" cy="3945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48000" y="44280"/>
                      <a:ext cx="5402160" cy="394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6" name=""/>
            <p:cNvSpPr/>
            <p:nvPr/>
          </p:nvSpPr>
          <p:spPr>
            <a:xfrm>
              <a:off x="3348000" y="2003400"/>
              <a:ext cx="496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4846680" y="317160"/>
              <a:ext cx="0" cy="3529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3851280" y="547560"/>
              <a:ext cx="1009440" cy="144144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851280" y="1989000"/>
              <a:ext cx="1009440" cy="151128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860720" y="561960"/>
              <a:ext cx="144000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300720" y="547560"/>
              <a:ext cx="503280" cy="144144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6300720" y="1989000"/>
              <a:ext cx="503280" cy="151128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787640" y="3471840"/>
              <a:ext cx="151308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565800" y="2017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475160" y="3314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287040" y="3313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282000" y="217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492440" y="2905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3277440" y="234936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  <a:ea typeface="楷体_GB2312"/>
              </a:rPr>
              <a:t>(-2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812480" y="306864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  <a:ea typeface="楷体_GB2312"/>
              </a:rPr>
              <a:t>(0,-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539760" y="328464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  <a:ea typeface="楷体_GB2312"/>
              </a:rPr>
              <a:t>(3,-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710400" y="20350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D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  <a:ea typeface="楷体_GB2312"/>
              </a:rPr>
              <a:t>(4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517800" y="2602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  <a:ea typeface="楷体_GB2312"/>
              </a:rPr>
              <a:t>(3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789080" y="921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  <a:ea typeface="楷体_GB2312"/>
              </a:rPr>
              <a:t>(0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79280" y="189000"/>
            <a:ext cx="302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58760" y="331920"/>
            <a:ext cx="30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想一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58760" y="907920"/>
            <a:ext cx="3044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线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位置有什么特点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,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两点的坐标有什么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线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C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位置有什么特点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C,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两点的坐标有什么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24000" y="407664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：线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平行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轴，垂直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y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轴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,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两点的纵坐标相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24000" y="465300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：线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C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平行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轴，垂直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轴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C,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两点的横坐标相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56720" y="52293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8174520" y="198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553280" y="-8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148360" y="191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789800" y="126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2T12:40:20Z</dcterms:created>
  <dc:creator>lenovo</dc:creator>
  <dc:description/>
  <dc:language>en-US</dc:language>
  <cp:lastModifiedBy> </cp:lastModifiedBy>
  <dcterms:modified xsi:type="dcterms:W3CDTF">2009-10-28T13:50:02Z</dcterms:modified>
  <cp:revision>41</cp:revision>
  <dc:subject/>
  <dc:title>幻灯片 1</dc:title>
</cp:coreProperties>
</file>