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C79-483C-49C7-B424-0F6FAEF8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E73-2AD9-480B-BEEA-2FCA2D3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B3B-D7CD-4C7E-B083-9777C31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42E-6539-4EE6-BF09-D54F7180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9FB-9C5F-4DB9-A37C-8B7EA71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E8-248E-489D-B293-418492F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0C4-25F7-4DFD-AB64-415481D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E4E-DA84-430B-8014-A924108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6D4-DCC7-4762-9A8C-D808439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F5-C388-48F6-A81A-6749DE8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F3-023F-4BDE-A8BF-E03350F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086-B291-442F-9F5D-529B3A6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CD2-25E8-475F-BEA3-F8B44066E653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标题 1"/>
          <p:cNvSpPr/>
          <p:nvPr/>
        </p:nvSpPr>
        <p:spPr>
          <a:xfrm>
            <a:off x="785880" y="1785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实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1428840" y="378612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估   算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835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设梯子稳定摆放时的高度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时梯子底端离墙恰好为梯子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4"/>
              <p:cNvSpPr txBox="1"/>
              <p:nvPr/>
            </p:nvSpPr>
            <p:spPr>
              <a:xfrm>
                <a:off x="5867280" y="3213000"/>
                <a:ext cx="327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Group 5"/>
          <p:cNvGrpSpPr/>
          <p:nvPr/>
        </p:nvGrpSpPr>
        <p:grpSpPr>
          <a:xfrm>
            <a:off x="5940360" y="2060640"/>
            <a:ext cx="1981440" cy="1988640"/>
            <a:chOff x="5940360" y="2060640"/>
            <a:chExt cx="1981440" cy="1988640"/>
          </a:xfrm>
        </p:grpSpPr>
        <p:sp>
          <p:nvSpPr>
            <p:cNvPr id="131" name="Line 6"/>
            <p:cNvSpPr/>
            <p:nvPr/>
          </p:nvSpPr>
          <p:spPr>
            <a:xfrm>
              <a:off x="5940360" y="4004280"/>
              <a:ext cx="1981440" cy="0"/>
            </a:xfrm>
            <a:prstGeom prst="line">
              <a:avLst/>
            </a:prstGeom>
            <a:ln cap="rnd" w="63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7"/>
            <p:cNvGrpSpPr/>
            <p:nvPr/>
          </p:nvGrpSpPr>
          <p:grpSpPr>
            <a:xfrm>
              <a:off x="6294240" y="2060640"/>
              <a:ext cx="1131840" cy="1988640"/>
              <a:chOff x="6294240" y="2060640"/>
              <a:chExt cx="1131840" cy="1988640"/>
            </a:xfrm>
          </p:grpSpPr>
          <p:sp>
            <p:nvSpPr>
              <p:cNvPr id="133" name="Line 8"/>
              <p:cNvSpPr/>
              <p:nvPr/>
            </p:nvSpPr>
            <p:spPr>
              <a:xfrm>
                <a:off x="6294240" y="2060640"/>
                <a:ext cx="0" cy="1943640"/>
              </a:xfrm>
              <a:prstGeom prst="line">
                <a:avLst/>
              </a:prstGeom>
              <a:ln w="76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6294240" y="2648160"/>
                <a:ext cx="1131840" cy="1401120"/>
              </a:xfrm>
              <a:prstGeom prst="line">
                <a:avLst/>
              </a:prstGeom>
              <a:ln w="889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1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3"/>
              <p:cNvSpPr txBox="1"/>
              <p:nvPr/>
            </p:nvSpPr>
            <p:spPr>
              <a:xfrm>
                <a:off x="755640" y="2060640"/>
                <a:ext cx="39211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5"/>
              <p:cNvSpPr txBox="1"/>
              <p:nvPr/>
            </p:nvSpPr>
            <p:spPr>
              <a:xfrm>
                <a:off x="1403280" y="3213000"/>
                <a:ext cx="165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68436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7"/>
              <p:cNvSpPr txBox="1"/>
              <p:nvPr/>
            </p:nvSpPr>
            <p:spPr>
              <a:xfrm>
                <a:off x="1403280" y="3789360"/>
                <a:ext cx="1586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8"/>
          <p:cNvSpPr/>
          <p:nvPr/>
        </p:nvSpPr>
        <p:spPr>
          <a:xfrm>
            <a:off x="687708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010280" y="3886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5724360" y="2421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5940360" y="4005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7308720" y="40766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6443640" y="4149720"/>
                <a:ext cx="72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Group 38"/>
          <p:cNvGrpSpPr/>
          <p:nvPr/>
        </p:nvGrpSpPr>
        <p:grpSpPr>
          <a:xfrm>
            <a:off x="1999800" y="1197000"/>
            <a:ext cx="3144960" cy="934920"/>
            <a:chOff x="1999800" y="1197000"/>
            <a:chExt cx="3144960" cy="934920"/>
          </a:xfrm>
        </p:grpSpPr>
        <mc:AlternateContent>
          <mc:Choice xmlns:a14="http://schemas.microsoft.com/office/drawing/2010/main" Requires="a14">
            <p:sp>
              <p:nvSpPr>
                <p:cNvPr id="149" name="Object 35"/>
                <p:cNvSpPr txBox="1"/>
                <p:nvPr/>
              </p:nvSpPr>
              <p:spPr>
                <a:xfrm>
                  <a:off x="2482560" y="1197000"/>
                  <a:ext cx="52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Text Box 37"/>
            <p:cNvSpPr/>
            <p:nvPr/>
          </p:nvSpPr>
          <p:spPr>
            <a:xfrm>
              <a:off x="1999800" y="1339920"/>
              <a:ext cx="314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长度的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    ，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根据勾股定理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1187280" y="4292640"/>
                <a:ext cx="2629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44"/>
          <p:cNvSpPr/>
          <p:nvPr/>
        </p:nvSpPr>
        <p:spPr>
          <a:xfrm>
            <a:off x="59220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2957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能办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6"/>
              <p:cNvSpPr txBox="1"/>
              <p:nvPr/>
            </p:nvSpPr>
            <p:spPr>
              <a:xfrm>
                <a:off x="1187280" y="4869000"/>
                <a:ext cx="2629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7"/>
              <p:cNvSpPr txBox="1"/>
              <p:nvPr/>
            </p:nvSpPr>
            <p:spPr>
              <a:xfrm>
                <a:off x="971640" y="5734080"/>
                <a:ext cx="1376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8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反馈练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估算下列数的大小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755640" y="2708280"/>
            <a:ext cx="6912000" cy="2881440"/>
            <a:chOff x="755640" y="2708280"/>
            <a:chExt cx="6912000" cy="2881440"/>
          </a:xfrm>
        </p:grpSpPr>
        <p:sp>
          <p:nvSpPr>
            <p:cNvPr id="158" name="Rectangle 5"/>
            <p:cNvSpPr/>
            <p:nvPr/>
          </p:nvSpPr>
          <p:spPr>
            <a:xfrm>
              <a:off x="755640" y="2708280"/>
              <a:ext cx="69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解：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spcBef>
                  <a:spcPts val="799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6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7(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实际上只要在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6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7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之间的数都可以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；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2)             9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0(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实际上只要在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9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0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之间的数都可以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．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6"/>
                <p:cNvSpPr txBox="1"/>
                <p:nvPr/>
              </p:nvSpPr>
              <p:spPr>
                <a:xfrm>
                  <a:off x="1403280" y="3284640"/>
                  <a:ext cx="12240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e>
                      </m:rad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Object 7"/>
                <p:cNvSpPr txBox="1"/>
                <p:nvPr/>
              </p:nvSpPr>
              <p:spPr>
                <a:xfrm>
                  <a:off x="1403280" y="4365720"/>
                  <a:ext cx="1225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e>
                      </m:rad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Group 13"/>
          <p:cNvGrpSpPr/>
          <p:nvPr/>
        </p:nvGrpSpPr>
        <p:grpSpPr>
          <a:xfrm>
            <a:off x="539640" y="1916280"/>
            <a:ext cx="9217080" cy="581400"/>
            <a:chOff x="539640" y="1916280"/>
            <a:chExt cx="9217080" cy="581400"/>
          </a:xfrm>
        </p:grpSpPr>
        <p:sp>
          <p:nvSpPr>
            <p:cNvPr id="162" name="Rectangle 9"/>
            <p:cNvSpPr/>
            <p:nvPr/>
          </p:nvSpPr>
          <p:spPr>
            <a:xfrm>
              <a:off x="539640" y="1916280"/>
              <a:ext cx="921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    (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误差小于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0.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；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    (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误差小于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3"/>
                <p:cNvSpPr txBox="1"/>
                <p:nvPr/>
              </p:nvSpPr>
              <p:spPr>
                <a:xfrm>
                  <a:off x="5508360" y="1916280"/>
                  <a:ext cx="10083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10"/>
                <p:cNvSpPr txBox="1"/>
                <p:nvPr/>
              </p:nvSpPr>
              <p:spPr>
                <a:xfrm>
                  <a:off x="1116000" y="1916280"/>
                  <a:ext cx="11206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83628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估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较下面各组数的大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826920" y="1628640"/>
                <a:ext cx="6553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，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;    </m:t>
                    </m:r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，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00000" y="2781360"/>
                <a:ext cx="6846840" cy="31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t xml:space="preserve">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   , 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∴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；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∵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25</m:t>
                        </m:r>
                        <m:r>
                          <m:rPr>
                            <m:lit/>
                            <m:nor/>
                          </m:rPr>
                          <m:t xml:space="preserve">   ,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,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个人一生平均要饮用的液体总量大约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立方米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用一圆柱形的容器（底面直径等于高）来装这些液体，这个容器大约有多高？（误差小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解：设圆柱的高为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那么它的底面半径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.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宋体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1187280" y="2781360"/>
                <a:ext cx="613260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332000" y="522936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988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通过这节课的学习，你掌握了哪些知识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869480" y="2879640"/>
            <a:ext cx="54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通过学习这些知识，对你有怎样的启发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787400" y="3816360"/>
            <a:ext cx="52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对于这节课的学习，你还有哪些疑问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rganization Chart 2"/>
          <p:cNvGrpSpPr/>
          <p:nvPr/>
        </p:nvGrpSpPr>
        <p:grpSpPr>
          <a:xfrm>
            <a:off x="0" y="793800"/>
            <a:ext cx="9142560" cy="4160520"/>
            <a:chOff x="0" y="793800"/>
            <a:chExt cx="9142560" cy="4160520"/>
          </a:xfrm>
        </p:grpSpPr>
        <p:cxnSp>
          <p:nvCxnSpPr>
            <p:cNvPr id="178" name="_s11268"/>
            <p:cNvCxnSpPr>
              <a:stCxn id="179" idx="1"/>
              <a:endCxn id="180" idx="2"/>
            </p:cNvCxnSpPr>
            <p:nvPr/>
          </p:nvCxnSpPr>
          <p:spPr>
            <a:xfrm rot="10800000">
              <a:off x="2742120" y="1549440"/>
              <a:ext cx="914760" cy="302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11269"/>
            <p:cNvCxnSpPr>
              <a:stCxn id="182" idx="1"/>
              <a:endCxn id="180" idx="2"/>
            </p:cNvCxnSpPr>
            <p:nvPr/>
          </p:nvCxnSpPr>
          <p:spPr>
            <a:xfrm rot="10800000">
              <a:off x="2742120" y="1549440"/>
              <a:ext cx="914760" cy="1891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11270"/>
            <p:cNvCxnSpPr>
              <a:stCxn id="184" idx="1"/>
              <a:endCxn id="180" idx="2"/>
            </p:cNvCxnSpPr>
            <p:nvPr/>
          </p:nvCxnSpPr>
          <p:spPr>
            <a:xfrm rot="10800000">
              <a:off x="2742120" y="1549440"/>
              <a:ext cx="914760" cy="757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0" name="_s11271"/>
            <p:cNvSpPr/>
            <p:nvPr/>
          </p:nvSpPr>
          <p:spPr>
            <a:xfrm>
              <a:off x="0" y="79380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估算一个无理数的大小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11272"/>
            <p:cNvSpPr/>
            <p:nvPr/>
          </p:nvSpPr>
          <p:spPr>
            <a:xfrm>
              <a:off x="3656880" y="192852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探求无理数估算结果的合理性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11273"/>
            <p:cNvSpPr/>
            <p:nvPr/>
          </p:nvSpPr>
          <p:spPr>
            <a:xfrm>
              <a:off x="3656880" y="306324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学会估算一个无理数的大致范围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1274"/>
            <p:cNvSpPr/>
            <p:nvPr/>
          </p:nvSpPr>
          <p:spPr>
            <a:xfrm>
              <a:off x="3656880" y="419796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用估算来解决实际问题和数学问题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1"/>
          <p:cNvSpPr/>
          <p:nvPr/>
        </p:nvSpPr>
        <p:spPr>
          <a:xfrm>
            <a:off x="1403280" y="551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作业巩固：习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.6  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5724360" y="2708280"/>
            <a:ext cx="297180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400000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某市开辟了一块长方形的荒地用来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以环保为主题的公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已知这块地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是宽的两倍，它的面积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00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0025"/>
          <p:cNvPicPr/>
          <p:nvPr/>
        </p:nvPicPr>
        <p:blipFill>
          <a:blip r:embed="rId1"/>
          <a:stretch/>
        </p:blipFill>
        <p:spPr>
          <a:xfrm>
            <a:off x="324000" y="260280"/>
            <a:ext cx="82224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50920" y="450864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时公园的宽是多少？长是多少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2924280"/>
            <a:ext cx="69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公园的宽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00 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996640" y="361152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公园的宽为</a:t>
            </a:r>
            <a:r>
              <a:rPr b="1" i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则它的长为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987640" y="2133720"/>
                <a:ext cx="3260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0</m:t>
                    </m:r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Picture 4" descr="按钮想一想-2"/>
          <p:cNvPicPr/>
          <p:nvPr/>
        </p:nvPicPr>
        <p:blipFill>
          <a:blip r:embed="rId1"/>
          <a:stretch/>
        </p:blipFill>
        <p:spPr>
          <a:xfrm>
            <a:off x="179280" y="260280"/>
            <a:ext cx="187812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184560" y="558972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3059280" y="2924280"/>
                <a:ext cx="31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0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2987640" y="3860640"/>
                <a:ext cx="3097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916360" y="4941720"/>
                <a:ext cx="2781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Text Box 14"/>
          <p:cNvSpPr/>
          <p:nvPr/>
        </p:nvSpPr>
        <p:spPr>
          <a:xfrm>
            <a:off x="533520" y="5029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3924360" y="1341360"/>
            <a:ext cx="3906720" cy="455760"/>
            <a:chOff x="3924360" y="1341360"/>
            <a:chExt cx="3906720" cy="455760"/>
          </a:xfrm>
        </p:grpSpPr>
        <mc:AlternateContent>
          <mc:Choice xmlns:a14="http://schemas.microsoft.com/office/drawing/2010/main" Requires="a14">
            <p:sp>
              <p:nvSpPr>
                <p:cNvPr id="63" name="Object 16"/>
                <p:cNvSpPr txBox="1"/>
                <p:nvPr/>
              </p:nvSpPr>
              <p:spPr>
                <a:xfrm>
                  <a:off x="3924360" y="1413000"/>
                  <a:ext cx="3268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7"/>
                <p:cNvSpPr txBox="1"/>
                <p:nvPr/>
              </p:nvSpPr>
              <p:spPr>
                <a:xfrm>
                  <a:off x="7308720" y="1341360"/>
                  <a:ext cx="5223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：下列结果正确吗？你是怎样判断的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同伴交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按钮议一议-2"/>
          <p:cNvPicPr/>
          <p:nvPr/>
        </p:nvPicPr>
        <p:blipFill>
          <a:blip r:embed="rId1"/>
          <a:stretch/>
        </p:blipFill>
        <p:spPr>
          <a:xfrm>
            <a:off x="250920" y="260280"/>
            <a:ext cx="187776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4395960" y="2708280"/>
                <a:ext cx="2296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890640" y="2708280"/>
                <a:ext cx="2179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1"/>
              <p:cNvSpPr txBox="1"/>
              <p:nvPr/>
            </p:nvSpPr>
            <p:spPr>
              <a:xfrm>
                <a:off x="696960" y="3933720"/>
                <a:ext cx="3249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1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4281480" y="3860640"/>
                <a:ext cx="245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14"/>
          <p:cNvSpPr/>
          <p:nvPr/>
        </p:nvSpPr>
        <p:spPr>
          <a:xfrm>
            <a:off x="1187280" y="5516640"/>
            <a:ext cx="6048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怎样估算一个无理数的范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估算它们的大小吗？说出你的方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 ①②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③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④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10" descr="按钮议一议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684360" y="5013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就是指估算出来的值与准确值之间的差的绝对值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209600" y="2997360"/>
            <a:ext cx="5108760" cy="1873080"/>
            <a:chOff x="1209600" y="2997360"/>
            <a:chExt cx="5108760" cy="1873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076720" y="3068640"/>
                  <a:ext cx="115272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  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Object 7"/>
                <p:cNvSpPr txBox="1"/>
                <p:nvPr/>
              </p:nvSpPr>
              <p:spPr>
                <a:xfrm>
                  <a:off x="1979640" y="3141720"/>
                  <a:ext cx="11509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8"/>
                <p:cNvSpPr txBox="1"/>
                <p:nvPr/>
              </p:nvSpPr>
              <p:spPr>
                <a:xfrm>
                  <a:off x="1692360" y="4100400"/>
                  <a:ext cx="216036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00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Object 9"/>
                <p:cNvSpPr txBox="1"/>
                <p:nvPr/>
              </p:nvSpPr>
              <p:spPr>
                <a:xfrm>
                  <a:off x="4932360" y="4149720"/>
                  <a:ext cx="138600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20"/>
            <p:cNvSpPr/>
            <p:nvPr/>
          </p:nvSpPr>
          <p:spPr>
            <a:xfrm>
              <a:off x="1354680" y="30686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4307400" y="299736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1209600" y="422100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③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4307400" y="41497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187280" y="1330200"/>
                <a:ext cx="6985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和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1042920" y="2060640"/>
                <a:ext cx="7489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</m:t>
                    </m:r>
                    <m:r>
                      <m:t xml:space="preserve">和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rPr>
                        <m:lit/>
                        <m:nor/>
                      </m:rPr>
                      <m:t xml:space="preserve">之间的数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116000" y="2852640"/>
                <a:ext cx="777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32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0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320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187280" y="3728880"/>
                <a:ext cx="6624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9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10 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684360" y="69228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55640" y="1341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80840" y="2060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80840" y="2852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③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80840" y="3716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0"/>
          <p:cNvGrpSpPr/>
          <p:nvPr/>
        </p:nvGrpSpPr>
        <p:grpSpPr>
          <a:xfrm>
            <a:off x="755640" y="2924280"/>
            <a:ext cx="8388360" cy="3166560"/>
            <a:chOff x="755640" y="2924280"/>
            <a:chExt cx="8388360" cy="3166560"/>
          </a:xfrm>
        </p:grpSpPr>
        <p:sp>
          <p:nvSpPr>
            <p:cNvPr id="100" name="Text Box 12"/>
            <p:cNvSpPr/>
            <p:nvPr/>
          </p:nvSpPr>
          <p:spPr>
            <a:xfrm>
              <a:off x="755640" y="3068640"/>
              <a:ext cx="8388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小明是这样想的：         与     的分母相同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只要比较它们的分子就可以了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因为             ，所以                 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因此              ，你认为小明的想法正确吗？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14"/>
                <p:cNvSpPr txBox="1"/>
                <p:nvPr/>
              </p:nvSpPr>
              <p:spPr>
                <a:xfrm>
                  <a:off x="4572000" y="2924280"/>
                  <a:ext cx="8632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15"/>
                <p:cNvSpPr txBox="1"/>
                <p:nvPr/>
              </p:nvSpPr>
              <p:spPr>
                <a:xfrm>
                  <a:off x="6011640" y="2924280"/>
                  <a:ext cx="31932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16"/>
                <p:cNvSpPr txBox="1"/>
                <p:nvPr/>
              </p:nvSpPr>
              <p:spPr>
                <a:xfrm>
                  <a:off x="1690560" y="4508280"/>
                  <a:ext cx="129528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7"/>
                <p:cNvSpPr txBox="1"/>
                <p:nvPr/>
              </p:nvSpPr>
              <p:spPr>
                <a:xfrm>
                  <a:off x="4211640" y="4525920"/>
                  <a:ext cx="158400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8"/>
                <p:cNvSpPr txBox="1"/>
                <p:nvPr/>
              </p:nvSpPr>
              <p:spPr>
                <a:xfrm>
                  <a:off x="1618920" y="5155920"/>
                  <a:ext cx="1513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741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用估算来解决数学问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你能比较     与   的大小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你怎样想的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与同伴交流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3132000" y="1557360"/>
                <a:ext cx="86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Picture 5" descr="按钮议一议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643280" y="1557360"/>
                <a:ext cx="319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60560"/>
            <a:ext cx="8532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如果要求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 m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宽大约是？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4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50 m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实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4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5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的值都可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该公园中心有一个圆形花圃，它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积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800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你能估计它的半径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米）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12"/>
          <p:cNvGrpSpPr/>
          <p:nvPr/>
        </p:nvGrpSpPr>
        <p:grpSpPr>
          <a:xfrm>
            <a:off x="6156360" y="907920"/>
            <a:ext cx="1909800" cy="865440"/>
            <a:chOff x="6156360" y="907920"/>
            <a:chExt cx="1909800" cy="865440"/>
          </a:xfrm>
        </p:grpSpPr>
        <p:sp>
          <p:nvSpPr>
            <p:cNvPr id="114" name="Rectangle 4"/>
            <p:cNvSpPr/>
            <p:nvPr/>
          </p:nvSpPr>
          <p:spPr>
            <a:xfrm>
              <a:off x="6156360" y="907920"/>
              <a:ext cx="19098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5"/>
            <p:cNvSpPr/>
            <p:nvPr/>
          </p:nvSpPr>
          <p:spPr>
            <a:xfrm>
              <a:off x="6730200" y="1039680"/>
              <a:ext cx="636840" cy="665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6" descr="按钮想一想-2"/>
          <p:cNvPicPr/>
          <p:nvPr/>
        </p:nvPicPr>
        <p:blipFill>
          <a:blip r:embed="rId1"/>
          <a:stretch/>
        </p:blipFill>
        <p:spPr>
          <a:xfrm>
            <a:off x="0" y="0"/>
            <a:ext cx="187812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2916360" y="1052640"/>
                <a:ext cx="2214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10"/>
          <p:cNvSpPr/>
          <p:nvPr/>
        </p:nvSpPr>
        <p:spPr>
          <a:xfrm>
            <a:off x="826920" y="10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公园宽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979640" y="189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用估算来解决实际问题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058760" y="55166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5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6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的值都可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4"/>
          <p:cNvGraphicFramePr/>
          <p:nvPr/>
        </p:nvGraphicFramePr>
        <p:xfrm>
          <a:off x="2916360" y="4365720"/>
          <a:ext cx="53964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4365720"/>
                    <a:ext cx="53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生活表明，靠墙摆放梯子时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若梯子底端离墙距离为梯子长度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分之一，则梯子比较稳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现有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长度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 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梯子，当梯子稳定摆放时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他的顶端最多能到达多高（保留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现在如果请一个同学利用这个梯子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墙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.9 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地方张贴一副宣传画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他能办到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3" descr="按钮应用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梯子"/>
          <p:cNvPicPr/>
          <p:nvPr/>
        </p:nvPicPr>
        <p:blipFill>
          <a:blip r:embed="rId2"/>
          <a:stretch/>
        </p:blipFill>
        <p:spPr>
          <a:xfrm>
            <a:off x="6659640" y="620640"/>
            <a:ext cx="19587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dc:language>en-US</dc:language>
  <cp:lastModifiedBy>微软用户</cp:lastModifiedBy>
  <dcterms:modified xsi:type="dcterms:W3CDTF">2013-05-08T06:51:26Z</dcterms:modified>
  <cp:revision>86</cp:revision>
  <dc:subject/>
  <dc:title>第一章    物态及其变化</dc:title>
</cp:coreProperties>
</file>