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FCB-26CF-4575-9938-5881EC6F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B50-49AF-4733-BFDF-6F21C08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89F-F0D8-4400-9B90-25770077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C4B-AAD5-4459-9D5D-01FD70B3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EB44-3C34-4229-A032-7EEE8F18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D9F0-7D45-4C62-91D5-A9C9695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770D-FD9A-46CB-B627-1726FD0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D08-4C87-4FF3-8A39-D40657A7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C5C-F992-4722-84A6-FD0F06E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81E2-4AAA-4771-910E-B2740189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3B3-6A0B-41FF-818D-6AAE18F8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814-E7A2-4FE7-BDF0-EBF6736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938E-6DDD-4059-A68B-309A421C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2448-C407-4DD8-91A5-B4DAEA38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CEE5-6839-4628-9AA9-1C0F8203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BB07-A6D0-4710-A091-A55247E6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B09B-FFB5-443E-9965-9994DE37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5EE3-26AF-496D-AB44-BC98F792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E3A7-D05B-45EB-8763-EEBF31B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02EB-04FB-46B7-AC52-D7FC0014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E05B-62FA-4451-B942-5571700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54CB-7AB7-49ED-8B15-FFC8AD3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F00-72FD-48C8-ABEE-5D0C1F9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D370-89C0-4A0E-9355-E5D633E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1F6B-18AB-454D-AAE6-3D7F14F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BEB4-EDB3-4AD5-A77C-4C6C347E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021E-9F9B-4377-9300-A4169AC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874D-2671-4726-84A9-58FB3CCA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A239-1E2A-4DDB-8400-21C8F01A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7DC0-0EEB-457F-8BEA-E636C1A7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C79-71D9-4F0A-B192-A9AB3B66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8B1-E569-4657-B94C-58EB9D2F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E57-0526-4FC8-8782-BF7317F0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8AC-3462-4D19-AE6B-F6B5BC4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A13-6EF0-41CA-BD8D-997935F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CB0-1605-43B9-A65E-FCA40DF9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937-8EC2-4A8A-9EF0-75F7B951914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99B-6BD2-47D4-8FE7-A0C7C4D584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4F6A-46D9-49D1-87ED-00E5447597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  实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用计算器开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WordArt 6" descr=""/>
          <p:cNvPicPr/>
          <p:nvPr/>
        </p:nvPicPr>
        <p:blipFill>
          <a:blip r:embed="rId1"/>
          <a:stretch/>
        </p:blipFill>
        <p:spPr>
          <a:xfrm>
            <a:off x="1517760" y="1901880"/>
            <a:ext cx="580392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开方运算要用到键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键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4360" y="1916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对于开平方运算，按键顺序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3500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对于开立方运算，按键顺序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800600" y="5335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979640" y="2708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被开方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419640" y="4365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被开方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5435640" y="26370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219640" y="42210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851280" y="270828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6"/>
          <p:cNvGraphicFramePr/>
          <p:nvPr/>
        </p:nvGraphicFramePr>
        <p:xfrm>
          <a:off x="5219640" y="260280"/>
          <a:ext cx="6382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60280"/>
                    <a:ext cx="638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7"/>
          <p:cNvGraphicFramePr/>
          <p:nvPr/>
        </p:nvGraphicFramePr>
        <p:xfrm>
          <a:off x="2124000" y="907920"/>
          <a:ext cx="6368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907920"/>
                    <a:ext cx="6368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258920" y="2708280"/>
          <a:ext cx="63828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270828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3" name="Object 19"/>
          <p:cNvGraphicFramePr/>
          <p:nvPr/>
        </p:nvGraphicFramePr>
        <p:xfrm>
          <a:off x="2484360" y="4365720"/>
          <a:ext cx="63828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365720"/>
                    <a:ext cx="638280" cy="60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TextBox 20"/>
          <p:cNvSpPr/>
          <p:nvPr/>
        </p:nvSpPr>
        <p:spPr>
          <a:xfrm>
            <a:off x="755640" y="436572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16"/>
          <p:cNvGraphicFramePr/>
          <p:nvPr/>
        </p:nvGraphicFramePr>
        <p:xfrm>
          <a:off x="324000" y="5229360"/>
          <a:ext cx="849600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5229360"/>
                    <a:ext cx="8496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250920" y="18446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键顺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50920" y="2492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1979640" y="248436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89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324000" y="37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3419640" y="36450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÷7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50920" y="5013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4788000" y="1844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果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4716360" y="256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2.426 932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5219640" y="36576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658 633 7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5219640" y="508464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871 789 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28"/>
          <p:cNvGraphicFramePr/>
          <p:nvPr/>
        </p:nvGraphicFramePr>
        <p:xfrm>
          <a:off x="4427640" y="297000"/>
          <a:ext cx="720720" cy="11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97000"/>
                    <a:ext cx="72072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组合 34"/>
          <p:cNvGrpSpPr/>
          <p:nvPr/>
        </p:nvGrpSpPr>
        <p:grpSpPr>
          <a:xfrm>
            <a:off x="468360" y="0"/>
            <a:ext cx="7924680" cy="2013480"/>
            <a:chOff x="468360" y="0"/>
            <a:chExt cx="7924680" cy="2013480"/>
          </a:xfrm>
        </p:grpSpPr>
        <p:sp>
          <p:nvSpPr>
            <p:cNvPr id="164" name="Text Box 4"/>
            <p:cNvSpPr/>
            <p:nvPr/>
          </p:nvSpPr>
          <p:spPr>
            <a:xfrm>
              <a:off x="468360" y="0"/>
              <a:ext cx="7924680" cy="20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用计算器计算：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　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1)   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　　 　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2)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　   　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3)</a:t>
              </a:r>
              <a:r>
                <a:rPr b="0" lang="en-US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</a:t>
              </a:r>
              <a:r>
                <a:rPr b="0" lang="zh-CN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　　　　　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65" name="Object 27"/>
            <p:cNvGraphicFramePr/>
            <p:nvPr/>
          </p:nvGraphicFramePr>
          <p:xfrm>
            <a:off x="1908360" y="576000"/>
            <a:ext cx="1068120" cy="58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6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360" y="576000"/>
                      <a:ext cx="106812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29"/>
            <p:cNvGraphicFramePr/>
            <p:nvPr/>
          </p:nvGraphicFramePr>
          <p:xfrm>
            <a:off x="6373080" y="576000"/>
            <a:ext cx="1392120" cy="58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8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73080" y="576000"/>
                      <a:ext cx="139212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9" name="Object 32"/>
          <p:cNvGraphicFramePr/>
          <p:nvPr/>
        </p:nvGraphicFramePr>
        <p:xfrm>
          <a:off x="1187280" y="2492280"/>
          <a:ext cx="63828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249228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1" name="Object 33"/>
          <p:cNvGraphicFramePr/>
          <p:nvPr/>
        </p:nvGraphicFramePr>
        <p:xfrm>
          <a:off x="2556000" y="3716280"/>
          <a:ext cx="637920" cy="60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3716280"/>
                    <a:ext cx="63792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TextBox 33"/>
          <p:cNvSpPr/>
          <p:nvPr/>
        </p:nvSpPr>
        <p:spPr>
          <a:xfrm>
            <a:off x="3059280" y="256536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35"/>
          <p:cNvSpPr/>
          <p:nvPr/>
        </p:nvSpPr>
        <p:spPr>
          <a:xfrm>
            <a:off x="1042920" y="371628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6"/>
          <p:cNvSpPr/>
          <p:nvPr/>
        </p:nvSpPr>
        <p:spPr>
          <a:xfrm>
            <a:off x="971640" y="508464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34"/>
          <p:cNvGraphicFramePr/>
          <p:nvPr/>
        </p:nvGraphicFramePr>
        <p:xfrm>
          <a:off x="2484360" y="5084640"/>
          <a:ext cx="638280" cy="60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508464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8" name="Object 35"/>
          <p:cNvGraphicFramePr/>
          <p:nvPr/>
        </p:nvGraphicFramePr>
        <p:xfrm>
          <a:off x="3276720" y="5084640"/>
          <a:ext cx="1457280" cy="58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5084640"/>
                    <a:ext cx="14572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3357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50920" y="486900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979640" y="33717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547640" y="4869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×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611280" y="26028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用计算器计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585720" y="2205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按键顺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853160" y="22496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5651640" y="3325680"/>
            <a:ext cx="38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3.236 067 9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6227640" y="4861080"/>
            <a:ext cx="42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3.339 148 0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2484360" y="34416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右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276720" y="33274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2989440" y="5013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右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23"/>
          <p:cNvSpPr/>
          <p:nvPr/>
        </p:nvSpPr>
        <p:spPr>
          <a:xfrm>
            <a:off x="3783240" y="4869000"/>
            <a:ext cx="8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－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组合 24"/>
          <p:cNvGrpSpPr/>
          <p:nvPr/>
        </p:nvGrpSpPr>
        <p:grpSpPr>
          <a:xfrm>
            <a:off x="684360" y="1125360"/>
            <a:ext cx="7205400" cy="1068840"/>
            <a:chOff x="684360" y="1125360"/>
            <a:chExt cx="7205400" cy="1068840"/>
          </a:xfrm>
        </p:grpSpPr>
        <p:sp>
          <p:nvSpPr>
            <p:cNvPr id="194" name="Text Box 13"/>
            <p:cNvSpPr/>
            <p:nvPr/>
          </p:nvSpPr>
          <p:spPr>
            <a:xfrm>
              <a:off x="684360" y="1125360"/>
              <a:ext cx="101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4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4951440" y="1125360"/>
              <a:ext cx="1014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(5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" name="Object 23"/>
            <p:cNvGraphicFramePr/>
            <p:nvPr/>
          </p:nvGraphicFramePr>
          <p:xfrm>
            <a:off x="1698480" y="1225440"/>
            <a:ext cx="118728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8480" y="1225440"/>
                      <a:ext cx="118728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24"/>
            <p:cNvGraphicFramePr/>
            <p:nvPr/>
          </p:nvGraphicFramePr>
          <p:xfrm>
            <a:off x="6018480" y="1226520"/>
            <a:ext cx="1871280" cy="64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8480" y="1226520"/>
                      <a:ext cx="187128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0" name="Object 25"/>
          <p:cNvGraphicFramePr/>
          <p:nvPr/>
        </p:nvGraphicFramePr>
        <p:xfrm>
          <a:off x="1187280" y="3357720"/>
          <a:ext cx="63828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3357720"/>
                    <a:ext cx="638280" cy="60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2" name="Object 26"/>
          <p:cNvGraphicFramePr/>
          <p:nvPr/>
        </p:nvGraphicFramePr>
        <p:xfrm>
          <a:off x="828720" y="4869000"/>
          <a:ext cx="63828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8720" y="4869000"/>
                    <a:ext cx="638280" cy="60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TextBox 26"/>
          <p:cNvSpPr/>
          <p:nvPr/>
        </p:nvSpPr>
        <p:spPr>
          <a:xfrm>
            <a:off x="4067280" y="332568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7"/>
          <p:cNvSpPr/>
          <p:nvPr/>
        </p:nvSpPr>
        <p:spPr>
          <a:xfrm>
            <a:off x="4789440" y="486900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1231920" y="6246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利用计算器，求下列各式的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结果保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有效数字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860200" y="4430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781280" y="37893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084720" y="4076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6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979640" y="51195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7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5753160" y="52293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75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9"/>
          <p:cNvSpPr/>
          <p:nvPr/>
        </p:nvSpPr>
        <p:spPr>
          <a:xfrm>
            <a:off x="250920" y="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做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组合 20"/>
          <p:cNvGrpSpPr/>
          <p:nvPr/>
        </p:nvGrpSpPr>
        <p:grpSpPr>
          <a:xfrm>
            <a:off x="296640" y="1387440"/>
            <a:ext cx="5859720" cy="1212840"/>
            <a:chOff x="296640" y="1387440"/>
            <a:chExt cx="5859720" cy="1212840"/>
          </a:xfrm>
        </p:grpSpPr>
        <p:sp>
          <p:nvSpPr>
            <p:cNvPr id="214" name="Rectangle 9"/>
            <p:cNvSpPr/>
            <p:nvPr/>
          </p:nvSpPr>
          <p:spPr>
            <a:xfrm>
              <a:off x="3635280" y="1918440"/>
              <a:ext cx="140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）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96640" y="199476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）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16" name="Object 21"/>
            <p:cNvGraphicFramePr/>
            <p:nvPr/>
          </p:nvGraphicFramePr>
          <p:xfrm>
            <a:off x="1505520" y="1989000"/>
            <a:ext cx="1019160" cy="61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5520" y="1989000"/>
                      <a:ext cx="1019160" cy="6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22"/>
            <p:cNvGraphicFramePr/>
            <p:nvPr/>
          </p:nvGraphicFramePr>
          <p:xfrm>
            <a:off x="5220000" y="1387440"/>
            <a:ext cx="936360" cy="121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Object 2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20000" y="1387440"/>
                      <a:ext cx="93636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组合 21"/>
          <p:cNvGrpSpPr/>
          <p:nvPr/>
        </p:nvGrpSpPr>
        <p:grpSpPr>
          <a:xfrm>
            <a:off x="220320" y="2756520"/>
            <a:ext cx="6347160" cy="708840"/>
            <a:chOff x="220320" y="2756520"/>
            <a:chExt cx="6347160" cy="708840"/>
          </a:xfrm>
        </p:grpSpPr>
        <p:sp>
          <p:nvSpPr>
            <p:cNvPr id="221" name="Rectangle 10"/>
            <p:cNvSpPr/>
            <p:nvPr/>
          </p:nvSpPr>
          <p:spPr>
            <a:xfrm>
              <a:off x="220320" y="28324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）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877920" y="27565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）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23" name="Object 23"/>
            <p:cNvGraphicFramePr/>
            <p:nvPr/>
          </p:nvGraphicFramePr>
          <p:xfrm>
            <a:off x="1476000" y="2852640"/>
            <a:ext cx="1120680" cy="61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4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6000" y="2852640"/>
                      <a:ext cx="112068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24"/>
            <p:cNvGraphicFramePr/>
            <p:nvPr/>
          </p:nvGraphicFramePr>
          <p:xfrm>
            <a:off x="5004000" y="2852640"/>
            <a:ext cx="1563480" cy="61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6" name="Object 2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04000" y="2852640"/>
                      <a:ext cx="156348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7" name="Object 25"/>
          <p:cNvGraphicFramePr/>
          <p:nvPr/>
        </p:nvGraphicFramePr>
        <p:xfrm>
          <a:off x="4284720" y="5084640"/>
          <a:ext cx="156348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5084640"/>
                    <a:ext cx="1563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26"/>
          <p:cNvGraphicFramePr/>
          <p:nvPr/>
        </p:nvGraphicFramePr>
        <p:xfrm>
          <a:off x="5076720" y="3573360"/>
          <a:ext cx="936720" cy="12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3573360"/>
                    <a:ext cx="9367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27"/>
          <p:cNvGraphicFramePr/>
          <p:nvPr/>
        </p:nvGraphicFramePr>
        <p:xfrm>
          <a:off x="826920" y="3860640"/>
          <a:ext cx="1019520" cy="61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6920" y="3860640"/>
                    <a:ext cx="10195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8"/>
          <p:cNvGraphicFramePr/>
          <p:nvPr/>
        </p:nvGraphicFramePr>
        <p:xfrm>
          <a:off x="755640" y="5119560"/>
          <a:ext cx="1120680" cy="61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4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5640" y="5119560"/>
                    <a:ext cx="112068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1476720" y="6688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利用计算器比较下列两数的大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04920" y="2666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06668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716360" y="2492280"/>
            <a:ext cx="7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254400" y="376380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219640" y="2655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显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5427720" y="3763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显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106668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6283440" y="2637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42 249 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6516720" y="37130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14 213 5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06668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组合 20"/>
          <p:cNvGrpSpPr/>
          <p:nvPr/>
        </p:nvGrpSpPr>
        <p:grpSpPr>
          <a:xfrm>
            <a:off x="2336760" y="1558440"/>
            <a:ext cx="2022480" cy="646560"/>
            <a:chOff x="2336760" y="1558440"/>
            <a:chExt cx="2022480" cy="646560"/>
          </a:xfrm>
        </p:grpSpPr>
        <p:sp>
          <p:nvSpPr>
            <p:cNvPr id="247" name="Rectangle 7"/>
            <p:cNvSpPr/>
            <p:nvPr/>
          </p:nvSpPr>
          <p:spPr>
            <a:xfrm>
              <a:off x="3139560" y="1558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与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48" name="Object 21"/>
            <p:cNvGraphicFramePr/>
            <p:nvPr/>
          </p:nvGraphicFramePr>
          <p:xfrm>
            <a:off x="2336760" y="1629000"/>
            <a:ext cx="57636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36760" y="1629000"/>
                      <a:ext cx="57636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22"/>
            <p:cNvGraphicFramePr/>
            <p:nvPr/>
          </p:nvGraphicFramePr>
          <p:xfrm>
            <a:off x="3708360" y="1621080"/>
            <a:ext cx="650880" cy="58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Object 2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08360" y="1621080"/>
                      <a:ext cx="65088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2" name="Object 23"/>
          <p:cNvGraphicFramePr/>
          <p:nvPr/>
        </p:nvGraphicFramePr>
        <p:xfrm>
          <a:off x="2195640" y="4797360"/>
          <a:ext cx="165564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797360"/>
                    <a:ext cx="1655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4"/>
          <p:cNvGraphicFramePr/>
          <p:nvPr/>
        </p:nvGraphicFramePr>
        <p:xfrm>
          <a:off x="3852720" y="2637000"/>
          <a:ext cx="63828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2720" y="2637000"/>
                    <a:ext cx="638280" cy="60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6" name="TextBox 26"/>
          <p:cNvSpPr/>
          <p:nvPr/>
        </p:nvSpPr>
        <p:spPr>
          <a:xfrm>
            <a:off x="2340000" y="263700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Object 25"/>
          <p:cNvGraphicFramePr/>
          <p:nvPr/>
        </p:nvGraphicFramePr>
        <p:xfrm>
          <a:off x="2484360" y="3789360"/>
          <a:ext cx="638280" cy="60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78936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TextBox 28"/>
          <p:cNvSpPr/>
          <p:nvPr/>
        </p:nvSpPr>
        <p:spPr>
          <a:xfrm>
            <a:off x="3807000" y="378792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685800" y="12351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任意找一个你认为很大的正数，利用计算器对它进行开平方运算，对所得结果再进行开平方运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随着开方次数的增加，你发现了什么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858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改用另一个小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正数试一试，看看是否仍有类似规律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62120" y="33526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计算的结果越来越接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685800" y="5410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计算的结果越来越接近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143000" y="4191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任意一个正数，利用计算器对它不断进行开平方运算，其计算的结果越来越接近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395280" y="260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议一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611280" y="16286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任意找一个非零数，利用计算器对它不断进行开立方运算，你发现了什么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85800" y="3352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计算的结果越来越接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95280" y="260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议一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762120" y="14479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开方运算要用到键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键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2849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对于开平方运算，按键顺序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762120" y="4525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对于开立方运算，按键顺序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800600" y="533520"/>
            <a:ext cx="83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440080" y="3676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被开方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662280" y="5334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被开方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5838840" y="369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543564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395280" y="260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24"/>
          <p:cNvGraphicFramePr/>
          <p:nvPr/>
        </p:nvGraphicFramePr>
        <p:xfrm>
          <a:off x="5580000" y="1341360"/>
          <a:ext cx="6382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34136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0" name="Object 24"/>
          <p:cNvGraphicFramePr/>
          <p:nvPr/>
        </p:nvGraphicFramePr>
        <p:xfrm>
          <a:off x="1692360" y="3689280"/>
          <a:ext cx="6379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689280"/>
                    <a:ext cx="63792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Box 19"/>
          <p:cNvSpPr/>
          <p:nvPr/>
        </p:nvSpPr>
        <p:spPr>
          <a:xfrm>
            <a:off x="4356000" y="365904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1332000" y="532908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Object 24"/>
          <p:cNvGraphicFramePr/>
          <p:nvPr/>
        </p:nvGraphicFramePr>
        <p:xfrm>
          <a:off x="2916360" y="5300640"/>
          <a:ext cx="63792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300640"/>
                    <a:ext cx="637920" cy="60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Box 22"/>
          <p:cNvSpPr/>
          <p:nvPr/>
        </p:nvSpPr>
        <p:spPr>
          <a:xfrm>
            <a:off x="2195640" y="2060640"/>
            <a:ext cx="1441440" cy="58140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39:33Z</dcterms:created>
  <dc:creator>dell</dc:creator>
  <dc:description/>
  <dc:language>en-US</dc:language>
  <cp:lastModifiedBy>微软用户</cp:lastModifiedBy>
  <dcterms:modified xsi:type="dcterms:W3CDTF">2013-05-08T07:06:17Z</dcterms:modified>
  <cp:revision>27</cp:revision>
  <dc:subject/>
  <dc:title>第一章    物态及其变化</dc:title>
</cp:coreProperties>
</file>