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12.wmf" ContentType="image/x-wmf"/>
  <Override PartName="/ppt/media/image7.wmf" ContentType="image/x-wmf"/>
  <Override PartName="/ppt/media/image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gif" ContentType="image/gi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F0D-07A9-4AB4-B0AD-3808CBB1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8FD-3C95-40B5-884E-8F7056BB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C9C-733C-4A63-92F9-CE5747DB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75A-FFFB-47A3-84BE-78C1E719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8E0-AF64-4059-B29A-FAB59CAA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B35-9B68-4F53-B592-B2F91F0D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809-989E-4A1D-8902-1715C873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521-2A06-40B2-BF29-5FACD51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C61-A966-4520-B7EA-F1630871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F1A-0645-4A72-8EC5-2319DE9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801-AFEA-479F-B013-0738814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6E9-50DD-486B-A964-42C1609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35F9-BBCB-40AD-AA35-E7F8A84065F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一章    勾股定理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3429000"/>
            <a:ext cx="68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探索勾股定理（第</a:t>
            </a: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68480" y="2288520"/>
            <a:ext cx="712944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直角三角形两直角边的平方和等于斜边的平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如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分别表示直角三角形的两直角和斜边， 那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3203640" y="4221000"/>
          <a:ext cx="29494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221000"/>
                    <a:ext cx="29494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4"/>
          <p:cNvSpPr/>
          <p:nvPr/>
        </p:nvSpPr>
        <p:spPr>
          <a:xfrm>
            <a:off x="2197080" y="857160"/>
            <a:ext cx="4896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勾股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book9"/>
          <p:cNvPicPr/>
          <p:nvPr/>
        </p:nvPicPr>
        <p:blipFill>
          <a:blip r:embed="rId3"/>
          <a:stretch/>
        </p:blipFill>
        <p:spPr>
          <a:xfrm>
            <a:off x="611280" y="189000"/>
            <a:ext cx="150336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116000" y="1852560"/>
            <a:ext cx="453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国古代把直角三角形中较短的直角边称为勾，较长的直角边称为股，斜边称为弦，“勾股定理”因此而得名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在西方文献中称为毕达哥拉斯定理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752560" cy="1992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147680" y="526320"/>
            <a:ext cx="18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数学小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book9"/>
          <p:cNvPicPr/>
          <p:nvPr/>
        </p:nvPicPr>
        <p:blipFill>
          <a:blip r:embed="rId2"/>
          <a:stretch/>
        </p:blipFill>
        <p:spPr>
          <a:xfrm>
            <a:off x="7134120" y="260280"/>
            <a:ext cx="15033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369880" y="46908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三、简单应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96840" y="1125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如图所示，一棵大树在一次强烈台风中于离地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0 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处折断倒下，树顶落在离树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4 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大树在折断之前高多少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3059280" y="3703680"/>
          <a:ext cx="5473440" cy="24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703680"/>
                    <a:ext cx="54734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63720" y="467280"/>
            <a:ext cx="72723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巩固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求下列图形中未知正方形的面积或未知边的长度（口答）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352520" y="2421000"/>
            <a:ext cx="2735280" cy="25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3024360" cy="1913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476360" y="5229360"/>
            <a:ext cx="5975280" cy="5814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已知直角三角形两边，求第三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01600" y="1284480"/>
            <a:ext cx="7215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生活中的应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小明妈妈买了一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9 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74 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的电视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小明量了电视机的屏幕后，发现屏幕只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8 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长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6 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宽，他觉得一定是售货员搞错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你同意他的想法吗？你能解释这是为什么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71640" y="2436480"/>
            <a:ext cx="7488000" cy="155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．这一节课我们一起学习了哪些知识和思想方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．对这些内容你有什么体会？请与你的同伴交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194200" y="545400"/>
            <a:ext cx="53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四、课堂小结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755640" y="333360"/>
            <a:ext cx="7916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知识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如果直角三角形两直角边长分别为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斜边长为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那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4757760" y="1636560"/>
          <a:ext cx="262260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1636560"/>
                    <a:ext cx="26226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4"/>
          <p:cNvSpPr/>
          <p:nvPr/>
        </p:nvSpPr>
        <p:spPr>
          <a:xfrm>
            <a:off x="792000" y="2205000"/>
            <a:ext cx="8460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观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探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猜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验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归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应用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.  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割、补、拼、接”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36640" y="4073400"/>
            <a:ext cx="6840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特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特殊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形结合思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book9"/>
          <p:cNvPicPr/>
          <p:nvPr/>
        </p:nvPicPr>
        <p:blipFill>
          <a:blip r:embed="rId3"/>
          <a:stretch/>
        </p:blipFill>
        <p:spPr>
          <a:xfrm>
            <a:off x="6732720" y="4797360"/>
            <a:ext cx="15033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90640" y="903240"/>
            <a:ext cx="7345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．习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.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．观察下图，探究图中三角形的三边长是否满足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?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3492360" y="2395440"/>
          <a:ext cx="233712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395440"/>
                    <a:ext cx="23371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1984320" y="3078000"/>
            <a:ext cx="4824360" cy="29322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684360" y="459720"/>
            <a:ext cx="35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五、布置作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标题-1"/>
          <p:cNvPicPr/>
          <p:nvPr/>
        </p:nvPicPr>
        <p:blipFill>
          <a:blip r:embed="rId1"/>
          <a:stretch/>
        </p:blipFill>
        <p:spPr>
          <a:xfrm>
            <a:off x="1112760" y="2776680"/>
            <a:ext cx="2227320" cy="3024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539640" y="2234520"/>
            <a:ext cx="8070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4360" y="47628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一、情境引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686040" y="3359520"/>
            <a:ext cx="473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会标中央的图案是赵爽弦图，它与“勾股定理”有关，数学家曾建议用“勾股定理”的图来作为与“外星人”联系的信号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887400" y="1403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00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世界数学家大会在我国北京召开，下图是本届数学家大会的会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22200" y="2276640"/>
            <a:ext cx="2918160" cy="2923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647720" y="9928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探究活动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26920" y="15562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观察下面地板砖示意图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2720" y="3042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二、探索发现勾股定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90640" y="5472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发现图中三个正方形的面积之间存在什么关系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5008680" y="2251080"/>
            <a:ext cx="2846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017720" y="2139120"/>
            <a:ext cx="7489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结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等腰直角三角形两直角边为边长的小正方形的面积的和，等于以斜边为边长的正方形的面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book9"/>
          <p:cNvPicPr/>
          <p:nvPr/>
        </p:nvPicPr>
        <p:blipFill>
          <a:blip r:embed="rId1"/>
          <a:stretch/>
        </p:blipFill>
        <p:spPr>
          <a:xfrm>
            <a:off x="403200" y="189000"/>
            <a:ext cx="15764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95280" y="229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探究活动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924360" y="349200"/>
            <a:ext cx="4476600" cy="2806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95280" y="15105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观察右边两幅图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03200" y="3218400"/>
            <a:ext cx="79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填表（每个小正方形的面积为单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4005360"/>
          <a:ext cx="6281640" cy="2448000"/>
        </p:xfrm>
        <a:graphic>
          <a:graphicData uri="http://schemas.openxmlformats.org/drawingml/2006/table">
            <a:tbl>
              <a:tblPr/>
              <a:tblGrid>
                <a:gridCol w="1020600"/>
                <a:gridCol w="1702080"/>
                <a:gridCol w="1811160"/>
                <a:gridCol w="17478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左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右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29"/>
          <p:cNvSpPr/>
          <p:nvPr/>
        </p:nvSpPr>
        <p:spPr>
          <a:xfrm>
            <a:off x="2136600" y="4979880"/>
            <a:ext cx="43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5692320" y="50450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1" descr="图片7"/>
          <p:cNvPicPr/>
          <p:nvPr/>
        </p:nvPicPr>
        <p:blipFill>
          <a:blip r:embed="rId2"/>
          <a:stretch/>
        </p:blipFill>
        <p:spPr>
          <a:xfrm>
            <a:off x="6227640" y="5373720"/>
            <a:ext cx="838440" cy="1081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2"/>
          <p:cNvSpPr/>
          <p:nvPr/>
        </p:nvSpPr>
        <p:spPr>
          <a:xfrm>
            <a:off x="6804000" y="3500280"/>
            <a:ext cx="3166920" cy="2000520"/>
          </a:xfrm>
          <a:prstGeom prst="cloudCallout">
            <a:avLst>
              <a:gd name="adj1" fmla="val -37217"/>
              <a:gd name="adj2" fmla="val 8873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怎样计算正方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面积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3924360" y="4962600"/>
            <a:ext cx="43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2050920" y="5802480"/>
            <a:ext cx="649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6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3924360" y="5802480"/>
            <a:ext cx="43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397320" y="1050840"/>
            <a:ext cx="2228760" cy="223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19240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468360" y="28584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方法一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73560" y="2779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方法二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222960" y="277920"/>
            <a:ext cx="25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方法三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39640" y="342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分割为四个直角三角形和一个小正方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321000" y="3424320"/>
            <a:ext cx="23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补成大正方形，用大正方形的面积减去四个直角三角形的面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867280" y="3429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将几个小块拼成一个正方形，图中两块红色（或绿色）可拼成一个小正方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863640" y="39132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分析表中数据，你发现了什么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58920" y="1197000"/>
          <a:ext cx="6481800" cy="2095560"/>
        </p:xfrm>
        <a:graphic>
          <a:graphicData uri="http://schemas.openxmlformats.org/drawingml/2006/table">
            <a:tbl>
              <a:tblPr/>
              <a:tblGrid>
                <a:gridCol w="1057320"/>
                <a:gridCol w="1785960"/>
                <a:gridCol w="1830240"/>
                <a:gridCol w="180828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的面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左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右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Object 26"/>
          <p:cNvGraphicFramePr/>
          <p:nvPr/>
        </p:nvGraphicFramePr>
        <p:xfrm>
          <a:off x="2700360" y="3429000"/>
          <a:ext cx="33987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429000"/>
                    <a:ext cx="3398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27"/>
          <p:cNvSpPr/>
          <p:nvPr/>
        </p:nvSpPr>
        <p:spPr>
          <a:xfrm>
            <a:off x="925560" y="4392720"/>
            <a:ext cx="73436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结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以直角三角形两直角边为边长的小正方形的面积的和，等于以斜边为边长的正方形的面积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873000" y="127800"/>
            <a:ext cx="18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900000" y="938160"/>
            <a:ext cx="734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你能用直角三角形的两直角边的长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和斜边长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来表示图中正方形的面积吗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1832040" y="2587680"/>
            <a:ext cx="5400720" cy="3349440"/>
            <a:chOff x="1832040" y="2587680"/>
            <a:chExt cx="5400720" cy="3349440"/>
          </a:xfrm>
        </p:grpSpPr>
        <p:pic>
          <p:nvPicPr>
            <p:cNvPr id="88" name="Picture 5" descr=""/>
            <p:cNvPicPr/>
            <p:nvPr/>
          </p:nvPicPr>
          <p:blipFill>
            <a:blip r:embed="rId1"/>
            <a:stretch/>
          </p:blipFill>
          <p:spPr>
            <a:xfrm>
              <a:off x="1832040" y="2587680"/>
              <a:ext cx="5400720" cy="33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2700000" y="374796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7"/>
            <p:cNvSpPr/>
            <p:nvPr/>
          </p:nvSpPr>
          <p:spPr>
            <a:xfrm>
              <a:off x="2967120" y="414576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3062160" y="36370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5247360" y="401328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5496120" y="436680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5640840" y="3926880"/>
              <a:ext cx="4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042920" y="54936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你能发现直角三角形三边长度之间存在什么关系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178080" y="1889280"/>
          <a:ext cx="28558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8080" y="1889280"/>
                    <a:ext cx="2855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4"/>
          <p:cNvSpPr/>
          <p:nvPr/>
        </p:nvSpPr>
        <p:spPr>
          <a:xfrm>
            <a:off x="1044720" y="2871720"/>
            <a:ext cx="734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分别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 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2 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为直角边作出一个直角三角形，并测量斜边的长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中的规律对这个三角形仍然成立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dc:language>en-US</dc:language>
  <cp:lastModifiedBy>微软用户</cp:lastModifiedBy>
  <dcterms:modified xsi:type="dcterms:W3CDTF">2013-05-08T05:54:54Z</dcterms:modified>
  <cp:revision>22</cp:revision>
  <dc:subject/>
  <dc:title>第一章    物态及其变化</dc:title>
</cp:coreProperties>
</file>