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8.gif" ContentType="image/gif"/>
  <Override PartName="/ppt/media/image21.jpeg" ContentType="image/jpeg"/>
  <Override PartName="/ppt/media/image20.jpeg" ContentType="image/jpeg"/>
  <Override PartName="/ppt/media/image19.wmf" ContentType="image/x-wmf"/>
  <Override PartName="/ppt/media/image17.wmf" ContentType="image/x-wmf"/>
  <Override PartName="/ppt/media/image8.jpeg" ContentType="image/jpeg"/>
  <Override PartName="/ppt/media/image10.jpeg" ContentType="image/jpeg"/>
  <Override PartName="/ppt/media/image3.png" ContentType="image/png"/>
  <Override PartName="/ppt/media/image23.gif" ContentType="image/gif"/>
  <Override PartName="/ppt/media/image30.gif" ContentType="image/gif"/>
  <Override PartName="/ppt/media/image16.wmf" ContentType="image/x-wmf"/>
  <Override PartName="/ppt/media/image31.gif" ContentType="image/gif"/>
  <Override PartName="/ppt/media/image29.jpeg" ContentType="image/jpeg"/>
  <Override PartName="/ppt/media/image7.gif" ContentType="image/gif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4.jpeg" ContentType="image/jpeg"/>
  <Override PartName="/ppt/media/image35.gif" ContentType="image/gif"/>
  <Override PartName="/ppt/media/image18.wmf" ContentType="image/x-wmf"/>
  <Override PartName="/ppt/media/image36.jpeg" ContentType="image/jpeg"/>
  <Override PartName="/ppt/media/image9.jpeg" ContentType="image/jpeg"/>
  <Override PartName="/ppt/media/image12.wmf" ContentType="image/x-wmf"/>
  <Override PartName="/ppt/media/image4.png" ContentType="image/png"/>
  <Override PartName="/ppt/media/image2.png" ContentType="image/png"/>
  <Override PartName="/ppt/media/image22.gif" ContentType="image/gi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529-EF6A-4F46-923B-47643E0F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610-7BE6-40D2-82D3-D263C1B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047-CAA0-42DA-B2A3-18846BB2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6EB-720B-4DF2-92CE-3973D809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A25-12D2-4E7E-946B-4CD415E8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84A-4B51-4B09-A342-F3466065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82D7-1F22-480A-A1AB-1DFEA4BD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EECC-1FC8-46A7-A853-14473B9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9D91-2A64-4D61-B78C-E98D6CA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700-9D10-438E-AC7B-EA1DE81F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B1E3-301C-4104-9A42-158A6C1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227-2932-4C68-918A-8FB145C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063-FCAC-44A7-AB10-4D31896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12C7-CD88-4648-93EC-A08B182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4025-A9B7-4063-A5CB-3CDE6B71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D33B-FEE0-4394-8198-3F93E318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7B8C-D6CB-4C7B-BF9E-BE8B3279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6C2-EAEC-4993-BCB4-BEF4085C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DC7-F057-4A27-8A5D-40918803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0F4-7735-476D-9CD5-BDE6DE8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B15-E203-4E3D-8A3C-2F176DF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723-BA5C-48F2-99E6-57250D6B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727-0B0A-48B4-AFED-DC11DDB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78E-4E18-43A3-8A49-C9B2F31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1636560"/>
            <a:ext cx="9146880" cy="4618080"/>
            <a:chOff x="-6480" y="1636560"/>
            <a:chExt cx="91468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960" y="6180120"/>
              <a:ext cx="314244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6480" y="1636560"/>
              <a:ext cx="449496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E102-30FA-425D-A511-FFEBC60D655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B93-2EAD-4172-BB53-5C97BF1FC89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gif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476280"/>
            <a:ext cx="374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北师大版七年级数学下册</a:t>
            </a:r>
            <a:endParaRPr b="1" lang="en-US" sz="1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8240" y="1628640"/>
            <a:ext cx="7620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章   生活中的数据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32000" y="3573360"/>
            <a:ext cx="6172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节    认识百万分之一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42920" y="163440"/>
            <a:ext cx="3924360" cy="3194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597800" y="486900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35020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计算机的存储器完成一次存储的时间一般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分之一秒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分之一秒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为单位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484360" y="4365720"/>
            <a:ext cx="4174920" cy="1356840"/>
            <a:chOff x="2484360" y="4365720"/>
            <a:chExt cx="4174920" cy="135684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2517840" y="4489920"/>
              <a:ext cx="4141440" cy="12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484360" y="4365720"/>
              <a:ext cx="504720" cy="55872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78240" y="620640"/>
            <a:ext cx="4326120" cy="3600000"/>
            <a:chOff x="4278240" y="620640"/>
            <a:chExt cx="4326120" cy="3600000"/>
          </a:xfrm>
        </p:grpSpPr>
        <p:sp>
          <p:nvSpPr>
            <p:cNvPr id="163" name=""/>
            <p:cNvSpPr/>
            <p:nvPr/>
          </p:nvSpPr>
          <p:spPr>
            <a:xfrm>
              <a:off x="4278240" y="620640"/>
              <a:ext cx="4326120" cy="2353320"/>
            </a:xfrm>
            <a:prstGeom prst="horizontalScroll">
              <a:avLst>
                <a:gd name="adj" fmla="val 12500"/>
              </a:avLst>
            </a:prstGeom>
            <a:solidFill>
              <a:srgbClr val="ffcc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4686480" y="1174680"/>
              <a:ext cx="3843360" cy="12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10800000">
              <a:off x="5718960" y="2766240"/>
              <a:ext cx="1082880" cy="1454400"/>
            </a:xfrm>
            <a:prstGeom prst="downArrow">
              <a:avLst>
                <a:gd name="adj1" fmla="val 50000"/>
                <a:gd name="adj2" fmla="val 33577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2280" y="162864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 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大多数花粉的直径约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到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微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这相当于多少米？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8200" y="2324160"/>
            <a:ext cx="63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解：∵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微米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 10 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6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60560" y="35434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 2 ×10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6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6600" y="41529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 2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57120" y="2909880"/>
            <a:ext cx="3556440" cy="480240"/>
            <a:chOff x="1257120" y="2909880"/>
            <a:chExt cx="3556440" cy="480240"/>
          </a:xfrm>
        </p:grpSpPr>
        <p:sp>
          <p:nvSpPr>
            <p:cNvPr id="171" name=""/>
            <p:cNvSpPr/>
            <p:nvPr/>
          </p:nvSpPr>
          <p:spPr>
            <a:xfrm>
              <a:off x="1257120" y="29304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∴ </a:t>
              </a: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20</a:t>
              </a:r>
              <a:r>
                <a:rPr b="1" lang="zh-CN" sz="2400" spc="-1" strike="noStrike">
                  <a:solidFill>
                    <a:srgbClr val="4d4d4d"/>
                  </a:solidFill>
                  <a:latin typeface="宋体"/>
                </a:rPr>
                <a:t>微米 </a:t>
              </a: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1400" y="2909880"/>
              <a:ext cx="171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20 ×10</a:t>
              </a:r>
              <a:r>
                <a:rPr b="1" lang="en-US" sz="2400" spc="-1" strike="noStrike" baseline="30000">
                  <a:solidFill>
                    <a:srgbClr val="4d4d4d"/>
                  </a:solidFill>
                  <a:latin typeface="宋体"/>
                </a:rPr>
                <a:t>−6</a:t>
              </a: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4d4d4d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421720" y="53006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5 ×10 ×10 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6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38000" y="5877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5 ×10 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09520" y="4751280"/>
            <a:ext cx="3239640" cy="480240"/>
            <a:chOff x="1109520" y="4751280"/>
            <a:chExt cx="3239640" cy="480240"/>
          </a:xfrm>
        </p:grpSpPr>
        <p:sp>
          <p:nvSpPr>
            <p:cNvPr id="176" name=""/>
            <p:cNvSpPr/>
            <p:nvPr/>
          </p:nvSpPr>
          <p:spPr>
            <a:xfrm>
              <a:off x="1109520" y="4771800"/>
              <a:ext cx="23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50</a:t>
              </a:r>
              <a:r>
                <a:rPr b="1" lang="zh-CN" sz="2400" spc="-1" strike="noStrike">
                  <a:solidFill>
                    <a:srgbClr val="4d4d4d"/>
                  </a:solidFill>
                  <a:latin typeface="宋体"/>
                </a:rPr>
                <a:t>微米 </a:t>
              </a: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57800" y="4751280"/>
              <a:ext cx="17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50 ×10 </a:t>
              </a:r>
              <a:r>
                <a:rPr b="1" lang="en-US" sz="2400" spc="-1" strike="noStrike" baseline="30000">
                  <a:solidFill>
                    <a:srgbClr val="4d4d4d"/>
                  </a:solidFill>
                  <a:latin typeface="宋体"/>
                </a:rPr>
                <a:t>−6</a:t>
              </a:r>
              <a:r>
                <a:rPr b="1" lang="en-US" sz="2400" spc="-1" strike="noStrike">
                  <a:solidFill>
                    <a:srgbClr val="4d4d4d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4d4d4d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684360" y="477720"/>
            <a:ext cx="180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例题讲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229248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冠状病毒的直径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.2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纳米，用科学记数法表示为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______________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98440" y="26370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宋体"/>
              </a:rPr>
              <a:t>1.2×10</a:t>
            </a:r>
            <a:r>
              <a:rPr b="0" lang="en-US" sz="2400" spc="-1" strike="noStrike" baseline="30000">
                <a:solidFill>
                  <a:srgbClr val="4d4d4d"/>
                </a:solidFill>
                <a:latin typeface="宋体"/>
              </a:rPr>
              <a:t>-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2240" y="352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6560" y="2637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纳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-9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）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3357720"/>
            <a:ext cx="40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人的头发直径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微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_______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03360" y="328464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7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-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414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如果人的平均寿命按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岁计算，它的百万分之一大约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小时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8720" y="454500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宋体"/>
              </a:rPr>
              <a:t>0.613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8110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3716280"/>
            <a:ext cx="2819520" cy="203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47600" y="184320"/>
            <a:ext cx="3200400" cy="2813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95600" y="1089000"/>
            <a:ext cx="55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大象是世界上最大的陆栖动物，它的体重可达到好几吨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下面哪个动物的体重相当于大象体重的百万分之一？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48520" y="3716280"/>
            <a:ext cx="2590560" cy="1981080"/>
            <a:chOff x="6248520" y="3716280"/>
            <a:chExt cx="2590560" cy="1981080"/>
          </a:xfrm>
        </p:grpSpPr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6248520" y="3716280"/>
              <a:ext cx="25905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6553080" y="4249800"/>
              <a:ext cx="68544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3962520" y="196920"/>
            <a:ext cx="3733560" cy="642600"/>
            <a:chOff x="3962520" y="196920"/>
            <a:chExt cx="3733560" cy="642600"/>
          </a:xfrm>
        </p:grpSpPr>
        <p:sp>
          <p:nvSpPr>
            <p:cNvPr id="196" name=""/>
            <p:cNvSpPr/>
            <p:nvPr/>
          </p:nvSpPr>
          <p:spPr>
            <a:xfrm>
              <a:off x="3962520" y="196920"/>
              <a:ext cx="373356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猜一猜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7"/>
            <a:stretch/>
          </p:blipFill>
          <p:spPr>
            <a:xfrm>
              <a:off x="6476760" y="273240"/>
              <a:ext cx="761760" cy="52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3564000" y="23493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如：一头大象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吨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31161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吨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×10</a:t>
            </a:r>
            <a:r>
              <a:rPr b="1" lang="zh-CN" sz="2400" spc="-1" strike="noStrike" baseline="30000">
                <a:solidFill>
                  <a:srgbClr val="4d4d4d"/>
                </a:solidFill>
                <a:latin typeface="宋体"/>
              </a:rPr>
              <a:t>－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= 3×1000×1000×10</a:t>
            </a:r>
            <a:r>
              <a:rPr b="1" lang="zh-CN" sz="2400" spc="-1" strike="noStrike" baseline="30000">
                <a:solidFill>
                  <a:srgbClr val="4d4d4d"/>
                </a:solidFill>
                <a:latin typeface="宋体"/>
              </a:rPr>
              <a:t>－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6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克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 3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6021360"/>
            <a:ext cx="3959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果：当然是小蜜蜂了！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851280" y="2421000"/>
            <a:ext cx="2160720" cy="136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91960" y="333360"/>
            <a:ext cx="3200400" cy="554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56000" y="15228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）已知在现存的动物中最大的是生活在海洋中的蓝鲸，又叫长须鲸或剃刀鲸，这种动物长达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3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，体重超过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5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吨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你觉得它体重的百万分之一会和下列哪一种动物相近呢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372360" y="2349360"/>
            <a:ext cx="2447640" cy="1368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6.gif (2848 bytes)"/>
          <p:cNvPicPr/>
          <p:nvPr/>
        </p:nvPicPr>
        <p:blipFill>
          <a:blip r:embed="rId5"/>
          <a:stretch/>
        </p:blipFill>
        <p:spPr>
          <a:xfrm>
            <a:off x="3924360" y="4076640"/>
            <a:ext cx="1873080" cy="1084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29080" y="555948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5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吨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×10</a:t>
            </a:r>
            <a:r>
              <a:rPr b="1" lang="zh-CN" sz="2400" spc="-1" strike="noStrike" baseline="30000">
                <a:solidFill>
                  <a:srgbClr val="4d4d4d"/>
                </a:solidFill>
                <a:latin typeface="宋体"/>
              </a:rPr>
              <a:t>－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= 150×1000×10</a:t>
            </a:r>
            <a:r>
              <a:rPr b="1" lang="zh-CN" sz="2400" spc="-1" strike="noStrike" baseline="30000">
                <a:solidFill>
                  <a:srgbClr val="4d4d4d"/>
                </a:solidFill>
                <a:latin typeface="宋体"/>
              </a:rPr>
              <a:t>－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千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                    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 0.1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千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2349360"/>
            <a:ext cx="2665440" cy="1584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6372360" y="3859200"/>
            <a:ext cx="24476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11200" y="2755800"/>
            <a:ext cx="58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如何知道一张纸有多少微米厚？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4292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739800"/>
            <a:ext cx="3429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合作交流 试一试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57280" y="25401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通过具体的情境，从不同的角度感受了百万分之一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76440" y="739800"/>
            <a:ext cx="2743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感悟与反思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36384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学会了用科学记数法表示和计算一些较小的数据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1241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体会了估测微小事物的方法和策略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4360" y="12430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作业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49084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完成课本习题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.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收集有关百万分之一的事例，完成小论文《我看百万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之一》或自拟题目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66680" y="1447920"/>
            <a:ext cx="7391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隶书"/>
              </a:rPr>
              <a:t>谢谢合作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隶书"/>
              </a:rPr>
              <a:t>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76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8380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70640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据中央电视台《今日说法》栏目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Times New Roman"/>
              </a:rPr>
              <a:t>3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日报道，江苏省东海县农民时翠梅因患感冒，到当地的清湖镇医院治疗。谁料打了一针丁胺卡那，竟要了身体非常健康的时翠梅的性命。虽说丁胺卡那有过敏成分，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过敏者不过占百万分之一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，也就是说，这种情况几乎遇不到，所以使用这种药时，根本不做皮肤过敏试验。谁知这百万分之一，偏偏让时翠梅赶上了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全国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亿人口，它的百万分之一就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13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。这也就是说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具有这种特殊体质、对丁胺卡那过敏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13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，一旦他们有头痛脑热、感冒发烧，到医院就诊，则随时都有生命危险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2280" y="425520"/>
            <a:ext cx="513396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不能忽略的百万分之一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701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臭氧层是大气圈平流层中的一个臭氧含量相对较高的气体层，虽然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只占大气总质量的百万分之一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，在最密集的地方其浓度也低于十万分之一，但由于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臭氧层具有强烈的吸收紫外线的功能，可以有效地保护地球生物免遭杀伤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，得以生存和发展，因而它是地球上亿万种生命和人类的守护神。研究表明，地球上的臭氧层是地球演化至近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亿年形成的，是大气层圈中十分脆弱的气体层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臭氧层一旦消失，地球上的生态环境将返回至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亿年前的生态环境，包括人类在内的千万种陆地生物将面临灭绝，这是多么可怕的情景啊！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425520"/>
            <a:ext cx="513396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不能忽略的百万分之一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00320"/>
            <a:ext cx="320040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8000" y="47563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存在于生物体内的某种细胞的直径约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万分之一米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，即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微米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1440" y="18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00400" y="13003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1638360" y="-514368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819680" y="7286760"/>
            <a:ext cx="2684520" cy="4717800"/>
            <a:chOff x="4819680" y="7286760"/>
            <a:chExt cx="2684520" cy="4717800"/>
          </a:xfrm>
        </p:grpSpPr>
        <p:grpSp>
          <p:nvGrpSpPr>
            <p:cNvPr id="103" name=""/>
            <p:cNvGrpSpPr/>
            <p:nvPr/>
          </p:nvGrpSpPr>
          <p:grpSpPr>
            <a:xfrm>
              <a:off x="4824360" y="7291080"/>
              <a:ext cx="2674800" cy="4708080"/>
              <a:chOff x="4824360" y="7291080"/>
              <a:chExt cx="2674800" cy="47080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824360" y="7291080"/>
                <a:ext cx="2674800" cy="4708080"/>
                <a:chOff x="4824360" y="7291080"/>
                <a:chExt cx="2674800" cy="47080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824360" y="7291080"/>
                  <a:ext cx="2674800" cy="4708080"/>
                </a:xfrm>
                <a:prstGeom prst="rect">
                  <a:avLst/>
                </a:prstGeom>
                <a:solidFill>
                  <a:srgbClr val="ea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4824360" y="7291080"/>
                  <a:ext cx="2617920" cy="4674960"/>
                  <a:chOff x="4824360" y="7291080"/>
                  <a:chExt cx="2617920" cy="46749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4824360" y="7291080"/>
                    <a:ext cx="2617920" cy="360"/>
                  </a:xfrm>
                  <a:prstGeom prst="rect">
                    <a:avLst/>
                  </a:prstGeom>
                  <a:solidFill>
                    <a:srgbClr val="eaec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4824360" y="7291080"/>
                    <a:ext cx="2536920" cy="4674960"/>
                    <a:chOff x="4824360" y="7291080"/>
                    <a:chExt cx="2536920" cy="467496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824360" y="7291080"/>
                      <a:ext cx="2536920" cy="4674960"/>
                    </a:xfrm>
                    <a:prstGeom prst="rect">
                      <a:avLst/>
                    </a:prstGeom>
                    <a:solidFill>
                      <a:srgbClr val="ea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4824360" y="7291080"/>
                      <a:ext cx="2536920" cy="4674960"/>
                      <a:chOff x="4824360" y="7291080"/>
                      <a:chExt cx="2536920" cy="467496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824360" y="7291080"/>
                        <a:ext cx="2536920" cy="4674960"/>
                      </a:xfrm>
                      <a:prstGeom prst="rect">
                        <a:avLst/>
                      </a:prstGeom>
                      <a:solidFill>
                        <a:srgbClr val="eaece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824360" y="7291080"/>
                        <a:ext cx="2468520" cy="3017520"/>
                      </a:xfrm>
                      <a:prstGeom prst="rect">
                        <a:avLst/>
                      </a:prstGeom>
                      <a:solidFill>
                        <a:srgbClr val="eaece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ffffcc"/>
                            </a:solidFill>
                            <a:latin typeface="Times New Roman"/>
                          </a:rPr>
                          <a:t>  </a:t>
                        </a:r>
                        <a:r>
                          <a:rPr b="0" lang="en-US" sz="16800" spc="-1" strike="noStrike">
                            <a:solidFill>
                              <a:srgbClr val="ffffcc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ffffcc"/>
                            </a:solidFill>
                            <a:latin typeface="Times New Roman"/>
                          </a:rPr>
                          <a:t>                   </a:t>
                        </a:r>
                        <a:endParaRPr b="0" lang="en-US" sz="24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13" name=""/>
              <p:cNvSpPr/>
              <p:nvPr/>
            </p:nvSpPr>
            <p:spPr>
              <a:xfrm>
                <a:off x="4824360" y="7291080"/>
                <a:ext cx="2674800" cy="4708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819680" y="7286760"/>
              <a:ext cx="2684520" cy="471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53080" y="1300320"/>
            <a:ext cx="2590920" cy="3352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计算机的存储器完成一次存储的时间一般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分之一秒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分之一秒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为单位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18320" y="475632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本次中特等奖的概率只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分之一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，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00001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9440" y="-44280"/>
            <a:ext cx="488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260280"/>
            <a:ext cx="3429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知道吗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329000" y="868320"/>
            <a:ext cx="46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）珠穆朗玛峰是世界第一高峰，它的海拔高度约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8844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它高度的千分之一是多少？相当于几层楼的高度？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1680" y="26370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它的千分之一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(8.844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),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大约相当于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层楼的高度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9528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</a:rPr>
              <a:t>它的百万分之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8160" y="4005360"/>
            <a:ext cx="49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它高度的百万分之一是多少？你能直观地描述这个长度吗？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320" y="114480"/>
            <a:ext cx="4074840" cy="659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40360" y="11592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耐心算一算，用心体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153280" cy="35053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80880" y="4262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）天安门广场的面积约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万米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，计算它的百万分之一的面积，并用自己的语言对结果进行描述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1320" y="5300640"/>
            <a:ext cx="12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.4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93880" y="528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rial"/>
              </a:rPr>
              <a:t>它的百万分之一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5635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否可以用科学记数法表示日常生活中遇到的非常小的数呢？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00" y="2440080"/>
            <a:ext cx="84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0.001=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             =                 =                </a:t>
            </a:r>
            <a:r>
              <a:rPr b="1" lang="zh-CN" sz="4000" spc="-1" strike="noStrike" u="sng">
                <a:solidFill>
                  <a:srgbClr val="4d4d4d"/>
                </a:solidFill>
                <a:uFillTx/>
                <a:latin typeface="Times New Roman"/>
              </a:rPr>
              <a:t>；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680" y="3519360"/>
            <a:ext cx="82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0.000 000 001=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                =                </a:t>
            </a:r>
            <a:r>
              <a:rPr b="1" lang="zh-CN" sz="4000" spc="-1" strike="noStrike" u="sng">
                <a:solidFill>
                  <a:srgbClr val="4d4d4d"/>
                </a:solidFill>
                <a:uFillTx/>
                <a:latin typeface="Times New Roman"/>
              </a:rPr>
              <a:t>；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400" y="4527720"/>
            <a:ext cx="84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0.000 000 72=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                  =                  </a:t>
            </a:r>
            <a:r>
              <a:rPr b="1" lang="zh-CN" sz="4000" spc="-1" strike="noStrike" u="sng">
                <a:solidFill>
                  <a:srgbClr val="4d4d4d"/>
                </a:solidFill>
                <a:uFillTx/>
                <a:latin typeface="Times New Roman"/>
              </a:rPr>
              <a:t>；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00320" y="1959120"/>
            <a:ext cx="1001520" cy="1109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76600" y="1959120"/>
            <a:ext cx="752760" cy="1109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3052800"/>
            <a:ext cx="776160" cy="1096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394320" y="4292640"/>
            <a:ext cx="2138400" cy="72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497640" y="2322360"/>
            <a:ext cx="1027080" cy="746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504720" y="981000"/>
            <a:ext cx="8450280" cy="1135080"/>
            <a:chOff x="504720" y="981000"/>
            <a:chExt cx="8450280" cy="1135080"/>
          </a:xfrm>
        </p:grpSpPr>
        <p:sp>
          <p:nvSpPr>
            <p:cNvPr id="140" name=""/>
            <p:cNvSpPr/>
            <p:nvPr/>
          </p:nvSpPr>
          <p:spPr>
            <a:xfrm>
              <a:off x="504720" y="1412640"/>
              <a:ext cx="845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d4d4d"/>
                  </a:solidFill>
                  <a:latin typeface="Times New Roman"/>
                </a:rPr>
                <a:t>0.01=</a:t>
              </a:r>
              <a:r>
                <a:rPr b="1" lang="en-US" sz="40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              =                 =               </a:t>
              </a:r>
              <a:r>
                <a:rPr b="1" lang="zh-CN" sz="4000" spc="-1" strike="noStrike" u="sng">
                  <a:solidFill>
                    <a:srgbClr val="4d4d4d"/>
                  </a:solidFill>
                  <a:uFillTx/>
                  <a:latin typeface="Times New Roman"/>
                </a:rPr>
                <a:t>；</a:t>
              </a:r>
              <a:r>
                <a:rPr b="1" lang="en-US" sz="4000" spc="-1" strike="noStrike">
                  <a:solidFill>
                    <a:srgbClr val="4d4d4d"/>
                  </a:solidFill>
                  <a:latin typeface="Times New Roman"/>
                </a:rPr>
                <a:t>  </a:t>
              </a: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2243160" y="1054080"/>
              <a:ext cx="6858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403880" y="981000"/>
              <a:ext cx="72360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6488280" y="1361880"/>
              <a:ext cx="96336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 txBox="1"/>
          <p:nvPr/>
        </p:nvSpPr>
        <p:spPr>
          <a:xfrm>
            <a:off x="900000" y="404640"/>
            <a:ext cx="360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用心想一想，马到成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3387600"/>
            <a:ext cx="117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宋体"/>
              </a:rPr>
              <a:t>10</a:t>
            </a:r>
            <a:r>
              <a:rPr b="1" lang="en-US" sz="4400" spc="-1" strike="noStrike" baseline="30000">
                <a:solidFill>
                  <a:srgbClr val="4d4d4d"/>
                </a:solidFill>
                <a:latin typeface="宋体"/>
              </a:rPr>
              <a:t>-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067280" y="4137120"/>
            <a:ext cx="15127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160344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 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用科学记数法表示题中的数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319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⑴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太阳的半径为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700 000 00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太阳的主要成分是氢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而氢原子的半径大约只有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0.000 000 000 0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。      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733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解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:  700 000 000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7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 8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    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88960" y="44370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0.000 000 000 05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=5×10</a:t>
            </a:r>
            <a:r>
              <a:rPr b="1" lang="en-US" sz="2400" spc="-1" strike="noStrike" baseline="30000">
                <a:solidFill>
                  <a:srgbClr val="4d4d4d"/>
                </a:solidFill>
                <a:latin typeface="宋体"/>
              </a:rPr>
              <a:t>−1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477720"/>
            <a:ext cx="18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例题讲解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9680" y="76320"/>
            <a:ext cx="8896320" cy="2886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237960" y="3409920"/>
            <a:ext cx="2894040" cy="2683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419640" y="34704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存在于生物体内的某种细胞的直径约为百万分之一米，即</a:t>
            </a:r>
            <a:r>
              <a:rPr b="1" lang="en-US" sz="2400" spc="-1" strike="noStrike">
                <a:solidFill>
                  <a:srgbClr val="4d4d4d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微米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19400" y="46274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微米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3:11:38Z</dcterms:created>
  <dc:creator/>
  <dc:description/>
  <cp:keywords/>
  <dc:language>en-US</dc:language>
  <cp:lastModifiedBy>USER</cp:lastModifiedBy>
  <cp:lastPrinted>1899-12-30T00:00:00Z</cp:lastPrinted>
  <dcterms:modified xsi:type="dcterms:W3CDTF">2012-08-13T08:04:51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NXTAG2">
    <vt:lpwstr>0008001e0a0000000000010250600207f7000400038000</vt:lpwstr>
  </property>
</Properties>
</file>