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28C-8050-4E83-AC23-D9DA6C08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707-5C9D-4026-9542-79A5C266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06C-1D74-44BD-AE83-80CAAE8B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D83-C134-4738-81C2-24025E38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2DE-8105-497B-9BA4-61247AF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C7F-E441-4148-8682-EAB44A92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ED-495B-42FF-AD72-23A27C3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A5C-90F1-46AB-A667-AC06BD87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0EE-7726-43A2-8210-2D343D6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55F-57DA-4B1D-AE88-8C7BD4F5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325-EC22-4BFF-9E47-7331823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693-F67E-459A-820E-57FF4D4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6EA7-848E-487C-8F81-D36B6A97DD13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4120" y="5334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46200" y="2781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探索三角形全等的条件（第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55640" y="4581360"/>
            <a:ext cx="75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沈阳市南昌新世界学校   吕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871640" y="765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三章  三角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0968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280" y="620640"/>
            <a:ext cx="8991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明做了一个如图所示的风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中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DH=∠FDH, ED=FD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明不用测量就能知道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H=FH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340000" y="29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4"/>
          <p:cNvSpPr/>
          <p:nvPr/>
        </p:nvSpPr>
        <p:spPr>
          <a:xfrm>
            <a:off x="1467000" y="5222880"/>
            <a:ext cx="81252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15"/>
          <p:cNvSpPr/>
          <p:nvPr/>
        </p:nvSpPr>
        <p:spPr>
          <a:xfrm>
            <a:off x="2178000" y="5222880"/>
            <a:ext cx="1904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24"/>
          <p:cNvGrpSpPr/>
          <p:nvPr/>
        </p:nvGrpSpPr>
        <p:grpSpPr>
          <a:xfrm>
            <a:off x="1042920" y="3429000"/>
            <a:ext cx="3417840" cy="2638800"/>
            <a:chOff x="1042920" y="3429000"/>
            <a:chExt cx="3417840" cy="2638800"/>
          </a:xfrm>
        </p:grpSpPr>
        <p:sp>
          <p:nvSpPr>
            <p:cNvPr id="167" name="Line 4"/>
            <p:cNvSpPr/>
            <p:nvPr/>
          </p:nvSpPr>
          <p:spPr>
            <a:xfrm>
              <a:off x="1647720" y="4191120"/>
              <a:ext cx="2057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2638080" y="3429000"/>
              <a:ext cx="0" cy="21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 flipH="1">
              <a:off x="1647360" y="3429000"/>
              <a:ext cx="99036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638080" y="3429000"/>
              <a:ext cx="106704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1647720" y="4191120"/>
              <a:ext cx="99036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 flipH="1">
              <a:off x="2638080" y="4191120"/>
              <a:ext cx="106704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1042920" y="38401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3850920" y="39848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2485800" y="5486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1977840" y="3697560"/>
              <a:ext cx="2286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 flipH="1">
              <a:off x="3201480" y="3697560"/>
              <a:ext cx="22860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2554200" y="4560840"/>
              <a:ext cx="304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2482560" y="4705560"/>
              <a:ext cx="381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2482560" y="3552840"/>
              <a:ext cx="106560" cy="152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2698560" y="3624480"/>
              <a:ext cx="120600" cy="90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 Box 22"/>
          <p:cNvSpPr/>
          <p:nvPr/>
        </p:nvSpPr>
        <p:spPr>
          <a:xfrm>
            <a:off x="4716360" y="227664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6300720" y="5084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260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补充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 flipH="1">
            <a:off x="6190920" y="549360"/>
            <a:ext cx="1079640" cy="23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7270920" y="549360"/>
            <a:ext cx="1081080" cy="23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6191280" y="2852640"/>
            <a:ext cx="216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7270920" y="62064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164360" y="285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8352000" y="2708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5796000" y="285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910560" y="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0" y="1197000"/>
            <a:ext cx="6227640" cy="1944720"/>
            <a:chOff x="0" y="1197000"/>
            <a:chExt cx="6227640" cy="1944720"/>
          </a:xfrm>
        </p:grpSpPr>
        <p:sp>
          <p:nvSpPr>
            <p:cNvPr id="194" name="Text Box 12"/>
            <p:cNvSpPr/>
            <p:nvPr/>
          </p:nvSpPr>
          <p:spPr>
            <a:xfrm>
              <a:off x="0" y="1197000"/>
              <a:ext cx="62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在△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BC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中，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B=AC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0" y="1773360"/>
              <a:ext cx="56516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D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是∠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AC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的角平分线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那么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D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与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D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等吗？为什么？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Rectangle 14"/>
          <p:cNvSpPr/>
          <p:nvPr/>
        </p:nvSpPr>
        <p:spPr>
          <a:xfrm>
            <a:off x="360360" y="2924280"/>
            <a:ext cx="8783640" cy="71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相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理由：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角平分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∴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∴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D≌△AC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A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6316560" y="1346040"/>
            <a:ext cx="1904760" cy="2133720"/>
            <a:chOff x="6316560" y="1346040"/>
            <a:chExt cx="1904760" cy="2133720"/>
          </a:xfrm>
        </p:grpSpPr>
        <p:sp>
          <p:nvSpPr>
            <p:cNvPr id="198" name="Line 3"/>
            <p:cNvSpPr/>
            <p:nvPr/>
          </p:nvSpPr>
          <p:spPr>
            <a:xfrm>
              <a:off x="7187040" y="1346040"/>
              <a:ext cx="1034280" cy="21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"/>
            <p:cNvSpPr/>
            <p:nvPr/>
          </p:nvSpPr>
          <p:spPr>
            <a:xfrm flipH="1">
              <a:off x="6325200" y="1346040"/>
              <a:ext cx="861840" cy="21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6316560" y="2382480"/>
              <a:ext cx="1378800" cy="1067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 flipH="1" flipV="1">
              <a:off x="6756120" y="2382480"/>
              <a:ext cx="1465200" cy="1067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6013440" y="3228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8283600" y="3117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842240" y="216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318360" y="2085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93720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50920" y="33336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已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么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相等吗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38980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2700360" y="2565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34"/>
          <p:cNvSpPr/>
          <p:nvPr/>
        </p:nvSpPr>
        <p:spPr>
          <a:xfrm>
            <a:off x="395280" y="2924280"/>
            <a:ext cx="43434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5"/>
          <p:cNvGrpSpPr/>
          <p:nvPr/>
        </p:nvGrpSpPr>
        <p:grpSpPr>
          <a:xfrm>
            <a:off x="0" y="1916280"/>
            <a:ext cx="6084720" cy="4344480"/>
            <a:chOff x="0" y="1916280"/>
            <a:chExt cx="6084720" cy="4344480"/>
          </a:xfrm>
        </p:grpSpPr>
        <p:sp>
          <p:nvSpPr>
            <p:cNvPr id="212" name="Text Box 36"/>
            <p:cNvSpPr/>
            <p:nvPr/>
          </p:nvSpPr>
          <p:spPr>
            <a:xfrm>
              <a:off x="250920" y="1916280"/>
              <a:ext cx="58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解：相等 理由：在△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BD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和△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CE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中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37"/>
            <p:cNvSpPr/>
            <p:nvPr/>
          </p:nvSpPr>
          <p:spPr>
            <a:xfrm>
              <a:off x="0" y="5084640"/>
              <a:ext cx="58672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∴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△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BD≌△ACE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SAS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∴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∠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＝∠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38"/>
            <p:cNvGrpSpPr/>
            <p:nvPr/>
          </p:nvGrpSpPr>
          <p:grpSpPr>
            <a:xfrm>
              <a:off x="464760" y="2994120"/>
              <a:ext cx="2164320" cy="2031480"/>
              <a:chOff x="464760" y="2994120"/>
              <a:chExt cx="2164320" cy="2031480"/>
            </a:xfrm>
          </p:grpSpPr>
          <p:sp>
            <p:nvSpPr>
              <p:cNvPr id="215" name="Rectangle 39"/>
              <p:cNvSpPr/>
              <p:nvPr/>
            </p:nvSpPr>
            <p:spPr>
              <a:xfrm>
                <a:off x="464760" y="4159080"/>
                <a:ext cx="2264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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40"/>
              <p:cNvSpPr/>
              <p:nvPr/>
            </p:nvSpPr>
            <p:spPr>
              <a:xfrm>
                <a:off x="464760" y="4476600"/>
                <a:ext cx="2264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41"/>
              <p:cNvSpPr/>
              <p:nvPr/>
            </p:nvSpPr>
            <p:spPr>
              <a:xfrm>
                <a:off x="464760" y="3403440"/>
                <a:ext cx="2264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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42"/>
              <p:cNvSpPr/>
              <p:nvPr/>
            </p:nvSpPr>
            <p:spPr>
              <a:xfrm>
                <a:off x="464760" y="3735360"/>
                <a:ext cx="2264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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43"/>
              <p:cNvSpPr/>
              <p:nvPr/>
            </p:nvSpPr>
            <p:spPr>
              <a:xfrm>
                <a:off x="464760" y="2994120"/>
                <a:ext cx="2264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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44"/>
              <p:cNvSpPr/>
              <p:nvPr/>
            </p:nvSpPr>
            <p:spPr>
              <a:xfrm>
                <a:off x="1842840" y="3659040"/>
                <a:ext cx="351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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45"/>
              <p:cNvSpPr/>
              <p:nvPr/>
            </p:nvSpPr>
            <p:spPr>
              <a:xfrm>
                <a:off x="693720" y="3659040"/>
                <a:ext cx="351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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46"/>
              <p:cNvSpPr/>
              <p:nvPr/>
            </p:nvSpPr>
            <p:spPr>
              <a:xfrm>
                <a:off x="2465280" y="4400640"/>
                <a:ext cx="180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47"/>
              <p:cNvSpPr/>
              <p:nvPr/>
            </p:nvSpPr>
            <p:spPr>
              <a:xfrm>
                <a:off x="1456920" y="4400640"/>
                <a:ext cx="2750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宋体-方正超大字符集"/>
                    <a:ea typeface="宋体-方正超大字符集"/>
                  </a:rPr>
                  <a:t>＝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48"/>
              <p:cNvSpPr/>
              <p:nvPr/>
            </p:nvSpPr>
            <p:spPr>
              <a:xfrm>
                <a:off x="2627280" y="3789360"/>
                <a:ext cx="180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49"/>
              <p:cNvSpPr/>
              <p:nvPr/>
            </p:nvSpPr>
            <p:spPr>
              <a:xfrm>
                <a:off x="1471320" y="3722760"/>
                <a:ext cx="2750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宋体-方正超大字符集"/>
                    <a:ea typeface="宋体-方正超大字符集"/>
                  </a:rPr>
                  <a:t>＝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50"/>
              <p:cNvSpPr/>
              <p:nvPr/>
            </p:nvSpPr>
            <p:spPr>
              <a:xfrm>
                <a:off x="2465280" y="3044880"/>
                <a:ext cx="180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51"/>
              <p:cNvSpPr/>
              <p:nvPr/>
            </p:nvSpPr>
            <p:spPr>
              <a:xfrm>
                <a:off x="1434960" y="3044880"/>
                <a:ext cx="2750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宋体-方正超大字符集"/>
                    <a:ea typeface="宋体-方正超大字符集"/>
                  </a:rPr>
                  <a:t>＝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52"/>
              <p:cNvSpPr/>
              <p:nvPr/>
            </p:nvSpPr>
            <p:spPr>
              <a:xfrm>
                <a:off x="1828440" y="4386240"/>
                <a:ext cx="5662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A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53"/>
              <p:cNvSpPr/>
              <p:nvPr/>
            </p:nvSpPr>
            <p:spPr>
              <a:xfrm>
                <a:off x="707400" y="4386240"/>
                <a:ext cx="5889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A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54"/>
              <p:cNvSpPr/>
              <p:nvPr/>
            </p:nvSpPr>
            <p:spPr>
              <a:xfrm>
                <a:off x="2199600" y="3708360"/>
                <a:ext cx="331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55"/>
              <p:cNvSpPr/>
              <p:nvPr/>
            </p:nvSpPr>
            <p:spPr>
              <a:xfrm>
                <a:off x="1050120" y="3708360"/>
                <a:ext cx="331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56"/>
              <p:cNvSpPr/>
              <p:nvPr/>
            </p:nvSpPr>
            <p:spPr>
              <a:xfrm>
                <a:off x="1807560" y="3032280"/>
                <a:ext cx="5889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A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57"/>
              <p:cNvSpPr/>
              <p:nvPr/>
            </p:nvSpPr>
            <p:spPr>
              <a:xfrm>
                <a:off x="707760" y="3032280"/>
                <a:ext cx="5662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A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F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那么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E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全等吗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1484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C∥F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4211640" y="765000"/>
            <a:ext cx="4537080" cy="2308680"/>
            <a:chOff x="4211640" y="765000"/>
            <a:chExt cx="4537080" cy="2308680"/>
          </a:xfrm>
        </p:grpSpPr>
        <p:sp>
          <p:nvSpPr>
            <p:cNvPr id="237" name="Line 5"/>
            <p:cNvSpPr/>
            <p:nvPr/>
          </p:nvSpPr>
          <p:spPr>
            <a:xfrm>
              <a:off x="4572000" y="1989000"/>
              <a:ext cx="345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4572000" y="1989000"/>
              <a:ext cx="100800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 flipV="1">
              <a:off x="5580000" y="1988640"/>
              <a:ext cx="28728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 flipH="1" flipV="1">
              <a:off x="7091280" y="1123560"/>
              <a:ext cx="936720" cy="86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H="1">
              <a:off x="6804000" y="1123560"/>
              <a:ext cx="287280" cy="86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0"/>
            <p:cNvSpPr/>
            <p:nvPr/>
          </p:nvSpPr>
          <p:spPr>
            <a:xfrm>
              <a:off x="7164360" y="765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1"/>
            <p:cNvSpPr/>
            <p:nvPr/>
          </p:nvSpPr>
          <p:spPr>
            <a:xfrm>
              <a:off x="7956360" y="177300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2"/>
            <p:cNvSpPr/>
            <p:nvPr/>
          </p:nvSpPr>
          <p:spPr>
            <a:xfrm>
              <a:off x="6516720" y="19159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13"/>
            <p:cNvSpPr/>
            <p:nvPr/>
          </p:nvSpPr>
          <p:spPr>
            <a:xfrm>
              <a:off x="5435640" y="14839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14"/>
            <p:cNvSpPr/>
            <p:nvPr/>
          </p:nvSpPr>
          <p:spPr>
            <a:xfrm>
              <a:off x="4211640" y="18442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5651280" y="249228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6443640" y="148392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17"/>
            <p:cNvSpPr/>
            <p:nvPr/>
          </p:nvSpPr>
          <p:spPr>
            <a:xfrm>
              <a:off x="5796000" y="191592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18"/>
            <p:cNvGrpSpPr/>
            <p:nvPr/>
          </p:nvGrpSpPr>
          <p:grpSpPr>
            <a:xfrm>
              <a:off x="5364000" y="1915920"/>
              <a:ext cx="936720" cy="936720"/>
              <a:chOff x="5364000" y="1915920"/>
              <a:chExt cx="936720" cy="936720"/>
            </a:xfrm>
          </p:grpSpPr>
          <p:sp>
            <p:nvSpPr>
              <p:cNvPr id="251" name="Text Box 19"/>
              <p:cNvSpPr/>
              <p:nvPr/>
            </p:nvSpPr>
            <p:spPr>
              <a:xfrm>
                <a:off x="5364000" y="191592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20"/>
              <p:cNvSpPr/>
              <p:nvPr/>
            </p:nvSpPr>
            <p:spPr>
              <a:xfrm flipH="1">
                <a:off x="5580000" y="1989000"/>
                <a:ext cx="287280" cy="86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1"/>
            <p:cNvGrpSpPr/>
            <p:nvPr/>
          </p:nvGrpSpPr>
          <p:grpSpPr>
            <a:xfrm>
              <a:off x="6804000" y="1123560"/>
              <a:ext cx="1008000" cy="941760"/>
              <a:chOff x="6804000" y="1123560"/>
              <a:chExt cx="1008000" cy="941760"/>
            </a:xfrm>
          </p:grpSpPr>
          <p:sp>
            <p:nvSpPr>
              <p:cNvPr id="254" name="Text Box 22"/>
              <p:cNvSpPr/>
              <p:nvPr/>
            </p:nvSpPr>
            <p:spPr>
              <a:xfrm>
                <a:off x="6875280" y="148392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23"/>
              <p:cNvSpPr/>
              <p:nvPr/>
            </p:nvSpPr>
            <p:spPr>
              <a:xfrm flipH="1">
                <a:off x="6804000" y="1123560"/>
                <a:ext cx="287280" cy="86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Text Box 24"/>
          <p:cNvSpPr/>
          <p:nvPr/>
        </p:nvSpPr>
        <p:spPr>
          <a:xfrm>
            <a:off x="2411280" y="386064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371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△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△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E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8"/>
          <p:cNvSpPr/>
          <p:nvPr/>
        </p:nvSpPr>
        <p:spPr>
          <a:xfrm>
            <a:off x="0" y="2349360"/>
            <a:ext cx="87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解：全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∵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BD=EC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　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BD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EC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。即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BC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E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9"/>
          <p:cNvSpPr/>
          <p:nvPr/>
        </p:nvSpPr>
        <p:spPr>
          <a:xfrm>
            <a:off x="0" y="633888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ABC≌△FE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A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0"/>
          <p:cNvSpPr/>
          <p:nvPr/>
        </p:nvSpPr>
        <p:spPr>
          <a:xfrm>
            <a:off x="4788000" y="4365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1"/>
          <p:cNvSpPr/>
          <p:nvPr/>
        </p:nvSpPr>
        <p:spPr>
          <a:xfrm>
            <a:off x="4788000" y="501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∠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4788000" y="566100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C∥F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3"/>
              <p:cNvSpPr txBox="1"/>
              <p:nvPr/>
            </p:nvSpPr>
            <p:spPr>
              <a:xfrm>
                <a:off x="324000" y="4292640"/>
                <a:ext cx="381924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＝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知）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t xml:space="preserve">B</m:t>
                            </m:r>
                            <m:r>
                              <m:t xml:space="preserve">＝</m:t>
                            </m:r>
                            <m:r>
                              <m:t xml:space="preserve">∠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知）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395280" y="549360"/>
            <a:ext cx="381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以致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292720" y="69228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颖作业本上画的三角形被墨迹污染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她想画出一个与原来完全一样的三角形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她该怎么办呢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帮帮小颖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763640" y="2637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 rot="13229400">
            <a:off x="178560" y="4436640"/>
            <a:ext cx="4032360" cy="16574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6"/>
          <p:cNvSpPr/>
          <p:nvPr/>
        </p:nvSpPr>
        <p:spPr>
          <a:xfrm>
            <a:off x="1979640" y="3860640"/>
            <a:ext cx="1666800" cy="14875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268360" y="2852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004729"/>
          <p:cNvPicPr/>
          <p:nvPr/>
        </p:nvPicPr>
        <p:blipFill>
          <a:blip r:embed="rId2"/>
          <a:stretch/>
        </p:blipFill>
        <p:spPr>
          <a:xfrm>
            <a:off x="468360" y="620640"/>
            <a:ext cx="3235320" cy="28512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4716360" y="1989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3419640" y="2349360"/>
            <a:ext cx="480348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你的收获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58436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40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今天我们学习哪种方法判定两三角形全等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68360" y="105264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边角边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A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191628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通过这节课，判定三角形全等的条件有哪些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233360" y="2565360"/>
            <a:ext cx="79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A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S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这四种说明三角形全等的条件中，你发现了什么？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042920" y="4365720"/>
            <a:ext cx="76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少有一个条件：边相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468360" y="5229360"/>
            <a:ext cx="8064360" cy="581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边边角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能判定两个三角形全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268360" y="2852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716360" y="1989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95280" y="700920"/>
            <a:ext cx="7056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布置作业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习题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.8 1,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295280" y="533520"/>
            <a:ext cx="6553440" cy="1371600"/>
          </a:xfrm>
          <a:custGeom>
            <a:avLst/>
            <a:gdLst>
              <a:gd name="textAreaLeft" fmla="*/ 1638360 w 6553440"/>
              <a:gd name="textAreaRight" fmla="*/ 4915080 w 6553440"/>
              <a:gd name="textAreaTop" fmla="*/ 15228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00" stAng="16200000" swAng="5400000"/>
                <a:lnTo>
                  <a:pt x="8100" y="2400"/>
                </a:lnTo>
                <a:lnTo>
                  <a:pt x="13500" y="2400"/>
                </a:lnTo>
                <a:lnTo>
                  <a:pt x="13500" y="600"/>
                </a:lnTo>
                <a:arcTo wR="675" hR="600" stAng="10800000" swAng="5400000"/>
                <a:lnTo>
                  <a:pt x="21600" y="0"/>
                </a:lnTo>
                <a:lnTo>
                  <a:pt x="18900" y="9600"/>
                </a:lnTo>
                <a:lnTo>
                  <a:pt x="21600" y="19200"/>
                </a:lnTo>
                <a:lnTo>
                  <a:pt x="16200" y="19200"/>
                </a:lnTo>
                <a:lnTo>
                  <a:pt x="16200" y="21000"/>
                </a:lnTo>
                <a:arcTo wR="675" hR="600" stAng="0" swAng="5400000"/>
                <a:lnTo>
                  <a:pt x="6075" y="21600"/>
                </a:lnTo>
                <a:arcTo wR="675" hR="600" stAng="5400000" swAng="5400000"/>
                <a:lnTo>
                  <a:pt x="5400" y="19200"/>
                </a:lnTo>
                <a:lnTo>
                  <a:pt x="0" y="19200"/>
                </a:lnTo>
                <a:lnTo>
                  <a:pt x="2700" y="9600"/>
                </a:lnTo>
                <a:close/>
              </a:path>
              <a:path fill="none" w="21600" h="21600">
                <a:moveTo>
                  <a:pt x="8100" y="600"/>
                </a:moveTo>
                <a:arcTo wR="675" hR="600" stAng="0" swAng="5400000"/>
                <a:lnTo>
                  <a:pt x="6075" y="1200"/>
                </a:lnTo>
                <a:arcTo wR="675" hR="600" stAng="16200000" swAng="-5400000"/>
                <a:arcTo wR="675" hR="600" stAng="10800000" swAng="-5400000"/>
                <a:lnTo>
                  <a:pt x="8100" y="2400"/>
                </a:lnTo>
              </a:path>
              <a:path fill="none" w="21600" h="21600">
                <a:moveTo>
                  <a:pt x="13500" y="600"/>
                </a:moveTo>
                <a:arcTo wR="675" hR="600" stAng="10800000" swAng="-5400000"/>
                <a:lnTo>
                  <a:pt x="15525" y="1200"/>
                </a:lnTo>
                <a:arcTo wR="675" hR="600" stAng="16200000" swAng="5400000"/>
                <a:arcTo wR="675" hR="600" stAng="0" swAng="5400000"/>
                <a:lnTo>
                  <a:pt x="13500" y="2400"/>
                </a:lnTo>
              </a:path>
              <a:path fill="none" w="21600" h="21600">
                <a:moveTo>
                  <a:pt x="5400" y="1800"/>
                </a:moveTo>
                <a:lnTo>
                  <a:pt x="5400" y="19200"/>
                </a:lnTo>
              </a:path>
              <a:path fill="none" w="21600" h="21600">
                <a:moveTo>
                  <a:pt x="16200" y="1800"/>
                </a:moveTo>
                <a:lnTo>
                  <a:pt x="16200" y="19200"/>
                </a:lnTo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276720" y="9079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温故知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到目前为止，你知道哪些判定三角形全等的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59280" y="4221000"/>
            <a:ext cx="3809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边边边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角边角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S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角角边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A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50920" y="1557360"/>
            <a:ext cx="8762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根据探索三角形全等的条件，至少需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个条件，除了上述三种情况外，还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哪种情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95640" y="3645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两边一角相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55640" y="4797360"/>
            <a:ext cx="8134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两边及夹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两边及其一边的对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95280" y="765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755640" y="260280"/>
            <a:ext cx="35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26920" y="69228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260280"/>
            <a:ext cx="8999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）两边及夹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角形两边分别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5c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5c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它们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夹的角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0°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你能画出这个三角形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画的三角形与同伴画的一定全等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411280" y="3645000"/>
            <a:ext cx="3352680" cy="1983240"/>
            <a:chOff x="2411280" y="3645000"/>
            <a:chExt cx="3352680" cy="1983240"/>
          </a:xfrm>
        </p:grpSpPr>
        <p:grpSp>
          <p:nvGrpSpPr>
            <p:cNvPr id="58" name="Group 4"/>
            <p:cNvGrpSpPr/>
            <p:nvPr/>
          </p:nvGrpSpPr>
          <p:grpSpPr>
            <a:xfrm>
              <a:off x="2792160" y="3949560"/>
              <a:ext cx="2514600" cy="1678680"/>
              <a:chOff x="2792160" y="3949560"/>
              <a:chExt cx="2514600" cy="167868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868480" y="5168520"/>
                <a:ext cx="2438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 flipV="1">
                <a:off x="2868480" y="3949560"/>
                <a:ext cx="152388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7"/>
              <p:cNvSpPr/>
              <p:nvPr/>
            </p:nvSpPr>
            <p:spPr>
              <a:xfrm>
                <a:off x="3020760" y="5016240"/>
                <a:ext cx="254160" cy="1774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Text Box 8"/>
              <p:cNvSpPr/>
              <p:nvPr/>
            </p:nvSpPr>
            <p:spPr>
              <a:xfrm>
                <a:off x="3706560" y="51685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.5cm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Text Box 9"/>
              <p:cNvSpPr/>
              <p:nvPr/>
            </p:nvSpPr>
            <p:spPr>
              <a:xfrm>
                <a:off x="2792160" y="417780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.5cm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Text Box 10"/>
              <p:cNvSpPr/>
              <p:nvPr/>
            </p:nvSpPr>
            <p:spPr>
              <a:xfrm>
                <a:off x="3173040" y="471132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40°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4392360" y="3949560"/>
                <a:ext cx="91440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Line 12"/>
              <p:cNvSpPr/>
              <p:nvPr/>
            </p:nvSpPr>
            <p:spPr>
              <a:xfrm>
                <a:off x="4163760" y="509220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Line 13"/>
              <p:cNvSpPr/>
              <p:nvPr/>
            </p:nvSpPr>
            <p:spPr>
              <a:xfrm>
                <a:off x="3782880" y="4330440"/>
                <a:ext cx="75960" cy="75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Line 14"/>
              <p:cNvSpPr/>
              <p:nvPr/>
            </p:nvSpPr>
            <p:spPr>
              <a:xfrm>
                <a:off x="3706560" y="4406400"/>
                <a:ext cx="7632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Text Box 15"/>
            <p:cNvSpPr/>
            <p:nvPr/>
          </p:nvSpPr>
          <p:spPr>
            <a:xfrm>
              <a:off x="2411280" y="4940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5306760" y="501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4011480" y="3645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18"/>
          <p:cNvGrpSpPr/>
          <p:nvPr/>
        </p:nvGrpSpPr>
        <p:grpSpPr>
          <a:xfrm>
            <a:off x="2556000" y="3573360"/>
            <a:ext cx="3352680" cy="2059920"/>
            <a:chOff x="2556000" y="3573360"/>
            <a:chExt cx="3352680" cy="2059920"/>
          </a:xfrm>
        </p:grpSpPr>
        <p:grpSp>
          <p:nvGrpSpPr>
            <p:cNvPr id="73" name="Group 19"/>
            <p:cNvGrpSpPr/>
            <p:nvPr/>
          </p:nvGrpSpPr>
          <p:grpSpPr>
            <a:xfrm>
              <a:off x="2784600" y="3953880"/>
              <a:ext cx="2514600" cy="1679400"/>
              <a:chOff x="2784600" y="3953880"/>
              <a:chExt cx="2514600" cy="1679400"/>
            </a:xfrm>
          </p:grpSpPr>
          <p:grpSp>
            <p:nvGrpSpPr>
              <p:cNvPr id="74" name="Group 20"/>
              <p:cNvGrpSpPr/>
              <p:nvPr/>
            </p:nvGrpSpPr>
            <p:grpSpPr>
              <a:xfrm>
                <a:off x="2784600" y="3953880"/>
                <a:ext cx="2514600" cy="1679400"/>
                <a:chOff x="2784600" y="3953880"/>
                <a:chExt cx="2514600" cy="1679400"/>
              </a:xfrm>
            </p:grpSpPr>
            <p:sp>
              <p:nvSpPr>
                <p:cNvPr id="75" name="Line 21"/>
                <p:cNvSpPr/>
                <p:nvPr/>
              </p:nvSpPr>
              <p:spPr>
                <a:xfrm>
                  <a:off x="2860920" y="5173560"/>
                  <a:ext cx="2438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Line 22"/>
                <p:cNvSpPr/>
                <p:nvPr/>
              </p:nvSpPr>
              <p:spPr>
                <a:xfrm flipV="1">
                  <a:off x="2860920" y="3953880"/>
                  <a:ext cx="1523880" cy="1219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23"/>
                <p:cNvSpPr/>
                <p:nvPr/>
              </p:nvSpPr>
              <p:spPr>
                <a:xfrm>
                  <a:off x="3013200" y="5021280"/>
                  <a:ext cx="254160" cy="1778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Text Box 24"/>
                <p:cNvSpPr/>
                <p:nvPr/>
              </p:nvSpPr>
              <p:spPr>
                <a:xfrm>
                  <a:off x="3699000" y="5173560"/>
                  <a:ext cx="13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.5cm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25"/>
                <p:cNvSpPr/>
                <p:nvPr/>
              </p:nvSpPr>
              <p:spPr>
                <a:xfrm>
                  <a:off x="2784600" y="418284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.5cm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26"/>
                <p:cNvSpPr/>
                <p:nvPr/>
              </p:nvSpPr>
              <p:spPr>
                <a:xfrm>
                  <a:off x="3165840" y="471636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华文新魏"/>
                      <a:ea typeface="华文新魏"/>
                    </a:rPr>
                    <a:t>40°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Line 27"/>
                <p:cNvSpPr/>
                <p:nvPr/>
              </p:nvSpPr>
              <p:spPr>
                <a:xfrm>
                  <a:off x="4384800" y="3954240"/>
                  <a:ext cx="914400" cy="1219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Line 28"/>
              <p:cNvSpPr/>
              <p:nvPr/>
            </p:nvSpPr>
            <p:spPr>
              <a:xfrm>
                <a:off x="4232520" y="509724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9"/>
              <p:cNvSpPr/>
              <p:nvPr/>
            </p:nvSpPr>
            <p:spPr>
              <a:xfrm>
                <a:off x="3851640" y="4335480"/>
                <a:ext cx="7596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30"/>
              <p:cNvSpPr/>
              <p:nvPr/>
            </p:nvSpPr>
            <p:spPr>
              <a:xfrm>
                <a:off x="3775320" y="4411440"/>
                <a:ext cx="76320" cy="76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" name="Text Box 31"/>
            <p:cNvSpPr/>
            <p:nvPr/>
          </p:nvSpPr>
          <p:spPr>
            <a:xfrm>
              <a:off x="2556000" y="4944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32"/>
            <p:cNvSpPr/>
            <p:nvPr/>
          </p:nvSpPr>
          <p:spPr>
            <a:xfrm>
              <a:off x="5299200" y="494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33"/>
            <p:cNvSpPr/>
            <p:nvPr/>
          </p:nvSpPr>
          <p:spPr>
            <a:xfrm>
              <a:off x="4003560" y="3573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16000" y="227664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结论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两边和它们的夹角对应相等的两个三角形全等，简写为“边角边”或“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SA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981080" y="4572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1989000"/>
            <a:ext cx="8908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2.5c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3.5c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为三角形的两边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长度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2.5c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的边所对的角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40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情况又怎样？动手画一画，你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现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68436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边及其中一边的对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414520" y="4502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042920" y="2349360"/>
            <a:ext cx="2792880" cy="2505600"/>
            <a:chOff x="1042920" y="2349360"/>
            <a:chExt cx="2792880" cy="2505600"/>
          </a:xfrm>
        </p:grpSpPr>
        <p:sp>
          <p:nvSpPr>
            <p:cNvPr id="94" name="Text Box 6"/>
            <p:cNvSpPr/>
            <p:nvPr/>
          </p:nvSpPr>
          <p:spPr>
            <a:xfrm>
              <a:off x="2843280" y="23493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1423800" y="4578480"/>
              <a:ext cx="1027080" cy="2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 flipV="1">
              <a:off x="1423800" y="2825280"/>
              <a:ext cx="1752840" cy="175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9"/>
            <p:cNvSpPr/>
            <p:nvPr/>
          </p:nvSpPr>
          <p:spPr>
            <a:xfrm flipH="1">
              <a:off x="2414160" y="2825640"/>
              <a:ext cx="762120" cy="175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1042920" y="427356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 rot="17700000">
              <a:off x="2314080" y="3384360"/>
              <a:ext cx="176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2.5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 rot="18000000">
              <a:off x="1330560" y="3074760"/>
              <a:ext cx="160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3.5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1690560" y="4330800"/>
              <a:ext cx="61920" cy="247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643040" y="41688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40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4572000" y="2387880"/>
            <a:ext cx="3160440" cy="2770560"/>
            <a:chOff x="4572000" y="2387880"/>
            <a:chExt cx="3160440" cy="2770560"/>
          </a:xfrm>
        </p:grpSpPr>
        <p:sp>
          <p:nvSpPr>
            <p:cNvPr id="104" name="Text Box 16"/>
            <p:cNvSpPr/>
            <p:nvPr/>
          </p:nvSpPr>
          <p:spPr>
            <a:xfrm>
              <a:off x="7118280" y="4432320"/>
              <a:ext cx="58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4572000" y="457704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4846320" y="4569120"/>
              <a:ext cx="2549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V="1">
              <a:off x="4846320" y="2815920"/>
              <a:ext cx="1675440" cy="175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>
              <a:off x="6522120" y="2816280"/>
              <a:ext cx="835560" cy="1778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6230520" y="2435400"/>
              <a:ext cx="72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5064840" y="4340520"/>
              <a:ext cx="109080" cy="228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5071320" y="4091040"/>
              <a:ext cx="15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40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 rot="18000000">
              <a:off x="4718160" y="2963520"/>
              <a:ext cx="166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3.5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 rot="4440000">
              <a:off x="6295680" y="3398040"/>
              <a:ext cx="18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2.5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07 -0.00046 L -0.36788 -0.00046 E">
                                      <p:cBhvr>
                                        <p:cTn id="6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2492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结论：两边及其一边所对的角对应相等，两个三角形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不一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全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380880" y="304920"/>
            <a:ext cx="15782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练一练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050920" y="260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分别找出各题中的全等三角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704880" y="23652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704880" y="2365200"/>
            <a:ext cx="182880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2533680" y="2365200"/>
            <a:ext cx="838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1039680" y="2381400"/>
            <a:ext cx="104760" cy="196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24000" y="2060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371760" y="206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57360" y="35082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 flipV="1" rot="10800000">
            <a:off x="1186920" y="2275560"/>
            <a:ext cx="10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000160" y="228924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 flipH="1">
            <a:off x="1542960" y="2898720"/>
            <a:ext cx="763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H="1">
            <a:off x="1542960" y="28987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 flipH="1" flipV="1">
            <a:off x="667440" y="5029560"/>
            <a:ext cx="2626920" cy="46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 flipH="1" flipV="1">
            <a:off x="1705680" y="3972960"/>
            <a:ext cx="1589040" cy="151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 flipV="1">
            <a:off x="667440" y="3972600"/>
            <a:ext cx="1036800" cy="105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8"/>
          <p:cNvSpPr/>
          <p:nvPr/>
        </p:nvSpPr>
        <p:spPr>
          <a:xfrm rot="11400000">
            <a:off x="2878920" y="5213160"/>
            <a:ext cx="104760" cy="196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 flipV="1" rot="12000000">
            <a:off x="2179440" y="4890240"/>
            <a:ext cx="1023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V="1">
            <a:off x="2005920" y="5191920"/>
            <a:ext cx="26640" cy="15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2486160" y="4745880"/>
            <a:ext cx="88560" cy="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2411640" y="4670280"/>
            <a:ext cx="176400" cy="123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52388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32004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304920" y="4800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523880" y="5486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5334120" y="26668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 flipH="1">
            <a:off x="4571640" y="2666880"/>
            <a:ext cx="76212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4572000" y="388620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 flipV="1">
            <a:off x="6858000" y="2666520"/>
            <a:ext cx="76212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5334120" y="2666880"/>
            <a:ext cx="15238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426708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6948360" y="3860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4788000" y="2205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7543800" y="2438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5715000" y="4114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971640" y="6156360"/>
            <a:ext cx="70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≌△EFD (S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4114800" y="4572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C≌△CBA (S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716360" y="3213000"/>
            <a:ext cx="360360" cy="1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0"/>
          <p:cNvSpPr/>
          <p:nvPr/>
        </p:nvSpPr>
        <p:spPr>
          <a:xfrm>
            <a:off x="7093080" y="3213000"/>
            <a:ext cx="21564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42"/>
          <p:cNvGrpSpPr/>
          <p:nvPr/>
        </p:nvGrpSpPr>
        <p:grpSpPr>
          <a:xfrm>
            <a:off x="5292720" y="2781360"/>
            <a:ext cx="142920" cy="71280"/>
            <a:chOff x="5292720" y="2781360"/>
            <a:chExt cx="142920" cy="71280"/>
          </a:xfrm>
        </p:grpSpPr>
        <p:sp>
          <p:nvSpPr>
            <p:cNvPr id="156" name="Line 43"/>
            <p:cNvSpPr/>
            <p:nvPr/>
          </p:nvSpPr>
          <p:spPr>
            <a:xfrm>
              <a:off x="5292720" y="2781360"/>
              <a:ext cx="71280" cy="71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 flipV="1">
              <a:off x="5364000" y="2781360"/>
              <a:ext cx="71640" cy="71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45"/>
          <p:cNvGrpSpPr/>
          <p:nvPr/>
        </p:nvGrpSpPr>
        <p:grpSpPr>
          <a:xfrm>
            <a:off x="6732720" y="3644640"/>
            <a:ext cx="215640" cy="144360"/>
            <a:chOff x="6732720" y="3644640"/>
            <a:chExt cx="215640" cy="144360"/>
          </a:xfrm>
        </p:grpSpPr>
        <p:sp>
          <p:nvSpPr>
            <p:cNvPr id="159" name="Line 46"/>
            <p:cNvSpPr/>
            <p:nvPr/>
          </p:nvSpPr>
          <p:spPr>
            <a:xfrm flipV="1">
              <a:off x="6732720" y="3644640"/>
              <a:ext cx="14436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47"/>
            <p:cNvSpPr/>
            <p:nvPr/>
          </p:nvSpPr>
          <p:spPr>
            <a:xfrm>
              <a:off x="6877080" y="3645000"/>
              <a:ext cx="71280" cy="142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25:27Z</dcterms:modified>
  <cp:revision>15</cp:revision>
  <dc:subject/>
  <dc:title>幻灯片 1</dc:title>
</cp:coreProperties>
</file>