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927-8B86-4758-9CB5-821738F5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16E-01AC-4DDE-8751-2D99E63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505-87A8-41D2-865D-FB4DE4BB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365-A0E7-4AD3-BBA8-52A97A79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C83-1DED-42C0-A786-C979F239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895-F77E-4D14-8676-86EBC79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CF1-3815-4439-A186-41AC97F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AD5-59BB-4399-9AFA-B6217FC0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8E9-3AE9-4AFD-A858-4011071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137-1D0A-4C25-BD9C-75DAFCD7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CCA-771D-4F70-845E-89D6C0A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392-537E-4344-B983-F4010F9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CE24-5395-454B-8178-AF1D97389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54"/>
          <p:cNvSpPr/>
          <p:nvPr/>
        </p:nvSpPr>
        <p:spPr>
          <a:xfrm>
            <a:off x="179280" y="5516640"/>
            <a:ext cx="882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的折痕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89"/>
          <p:cNvSpPr/>
          <p:nvPr/>
        </p:nvSpPr>
        <p:spPr>
          <a:xfrm>
            <a:off x="395280" y="1052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一张纸上任意画一个角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90"/>
          <p:cNvSpPr/>
          <p:nvPr/>
        </p:nvSpPr>
        <p:spPr>
          <a:xfrm rot="16200000">
            <a:off x="4718160" y="1978200"/>
            <a:ext cx="2743200" cy="4038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91"/>
          <p:cNvSpPr/>
          <p:nvPr/>
        </p:nvSpPr>
        <p:spPr>
          <a:xfrm>
            <a:off x="7575480" y="4683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92"/>
          <p:cNvSpPr/>
          <p:nvPr/>
        </p:nvSpPr>
        <p:spPr>
          <a:xfrm>
            <a:off x="4222800" y="4835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3"/>
          <p:cNvSpPr/>
          <p:nvPr/>
        </p:nvSpPr>
        <p:spPr>
          <a:xfrm>
            <a:off x="6813720" y="26258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4"/>
          <p:cNvSpPr/>
          <p:nvPr/>
        </p:nvSpPr>
        <p:spPr>
          <a:xfrm>
            <a:off x="395280" y="1557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沿角的两边剪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95"/>
          <p:cNvSpPr/>
          <p:nvPr/>
        </p:nvSpPr>
        <p:spPr>
          <a:xfrm>
            <a:off x="4226400" y="1557360"/>
            <a:ext cx="33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这个角对折，使角的两边重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96"/>
          <p:cNvGrpSpPr/>
          <p:nvPr/>
        </p:nvGrpSpPr>
        <p:grpSpPr>
          <a:xfrm>
            <a:off x="4070520" y="4684680"/>
            <a:ext cx="4343400" cy="760320"/>
            <a:chOff x="4070520" y="4684680"/>
            <a:chExt cx="4343400" cy="760320"/>
          </a:xfrm>
        </p:grpSpPr>
        <p:sp>
          <p:nvSpPr>
            <p:cNvPr id="50" name="Rectangle 597"/>
            <p:cNvSpPr/>
            <p:nvPr/>
          </p:nvSpPr>
          <p:spPr>
            <a:xfrm>
              <a:off x="4070520" y="4911840"/>
              <a:ext cx="4343400" cy="533160"/>
            </a:xfrm>
            <a:prstGeom prst="rect">
              <a:avLst/>
            </a:prstGeom>
            <a:gradFill rotWithShape="0">
              <a:gsLst>
                <a:gs pos="0">
                  <a:srgbClr val="ddf3ff"/>
                </a:gs>
                <a:gs pos="100000">
                  <a:srgbClr val="e9f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98"/>
            <p:cNvSpPr/>
            <p:nvPr/>
          </p:nvSpPr>
          <p:spPr>
            <a:xfrm>
              <a:off x="4222800" y="4849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99"/>
            <p:cNvSpPr/>
            <p:nvPr/>
          </p:nvSpPr>
          <p:spPr>
            <a:xfrm>
              <a:off x="7587360" y="4684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0"/>
            <p:cNvSpPr/>
            <p:nvPr/>
          </p:nvSpPr>
          <p:spPr>
            <a:xfrm>
              <a:off x="6813720" y="49118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601"/>
          <p:cNvSpPr/>
          <p:nvPr/>
        </p:nvSpPr>
        <p:spPr>
          <a:xfrm>
            <a:off x="4451400" y="2778120"/>
            <a:ext cx="3124080" cy="213372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1968" h="1344">
                <a:moveTo>
                  <a:pt x="1968" y="1344"/>
                </a:moveTo>
                <a:lnTo>
                  <a:pt x="0" y="1344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02"/>
          <p:cNvSpPr/>
          <p:nvPr/>
        </p:nvSpPr>
        <p:spPr>
          <a:xfrm>
            <a:off x="4070520" y="254952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1824" h="1632">
                <a:moveTo>
                  <a:pt x="0" y="1632"/>
                </a:moveTo>
                <a:lnTo>
                  <a:pt x="1824" y="0"/>
                </a:lnTo>
                <a:lnTo>
                  <a:pt x="0" y="0"/>
                </a:lnTo>
                <a:lnTo>
                  <a:pt x="0" y="1632"/>
                </a:lnTo>
                <a:close/>
              </a:path>
            </a:pathLst>
          </a:custGeom>
          <a:gradFill rotWithShape="0">
            <a:gsLst>
              <a:gs pos="0">
                <a:srgbClr val="d9f1ff"/>
              </a:gs>
              <a:gs pos="100000">
                <a:srgbClr val="e9f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15"/>
          <p:cNvSpPr/>
          <p:nvPr/>
        </p:nvSpPr>
        <p:spPr>
          <a:xfrm>
            <a:off x="1258560" y="3164040"/>
            <a:ext cx="35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折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边的垂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16"/>
          <p:cNvSpPr/>
          <p:nvPr/>
        </p:nvSpPr>
        <p:spPr>
          <a:xfrm>
            <a:off x="688680" y="366696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新的折痕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19"/>
          <p:cNvSpPr/>
          <p:nvPr/>
        </p:nvSpPr>
        <p:spPr>
          <a:xfrm>
            <a:off x="1380600" y="55166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纸打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20"/>
          <p:cNvGrpSpPr/>
          <p:nvPr/>
        </p:nvGrpSpPr>
        <p:grpSpPr>
          <a:xfrm>
            <a:off x="4500720" y="2070000"/>
            <a:ext cx="4038480" cy="2841840"/>
            <a:chOff x="4500720" y="2070000"/>
            <a:chExt cx="4038480" cy="2841840"/>
          </a:xfrm>
        </p:grpSpPr>
        <p:grpSp>
          <p:nvGrpSpPr>
            <p:cNvPr id="60" name="Group 621"/>
            <p:cNvGrpSpPr/>
            <p:nvPr/>
          </p:nvGrpSpPr>
          <p:grpSpPr>
            <a:xfrm>
              <a:off x="4500720" y="2070000"/>
              <a:ext cx="4038480" cy="2841480"/>
              <a:chOff x="4500720" y="2070000"/>
              <a:chExt cx="4038480" cy="2841480"/>
            </a:xfrm>
          </p:grpSpPr>
          <p:sp>
            <p:nvSpPr>
              <p:cNvPr id="61" name="Freeform 622"/>
              <p:cNvSpPr/>
              <p:nvPr/>
            </p:nvSpPr>
            <p:spPr>
              <a:xfrm>
                <a:off x="4500720" y="2316600"/>
                <a:ext cx="4038480" cy="2594880"/>
              </a:xfrm>
              <a:custGeom>
                <a:avLst/>
                <a:gdLst>
                  <a:gd name="textAreaLeft" fmla="*/ 0 w 4038480"/>
                  <a:gd name="textAreaRight" fmla="*/ 4038840 w 4038480"/>
                  <a:gd name="textAreaTop" fmla="*/ 0 h 2594880"/>
                  <a:gd name="textAreaBottom" fmla="*/ 2595240 h 2594880"/>
                </a:gdLst>
                <a:ahLst/>
                <a:rect l="textAreaLeft" t="textAreaTop" r="textAreaRight" b="textAreaBottom"/>
                <a:pathLst>
                  <a:path w="2544" h="1680">
                    <a:moveTo>
                      <a:pt x="0" y="1680"/>
                    </a:moveTo>
                    <a:lnTo>
                      <a:pt x="2304" y="816"/>
                    </a:lnTo>
                    <a:lnTo>
                      <a:pt x="2544" y="192"/>
                    </a:lnTo>
                    <a:lnTo>
                      <a:pt x="1968" y="0"/>
                    </a:lnTo>
                    <a:lnTo>
                      <a:pt x="0" y="16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ee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623"/>
              <p:cNvSpPr/>
              <p:nvPr/>
            </p:nvSpPr>
            <p:spPr>
              <a:xfrm rot="802200">
                <a:off x="6706800" y="216864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24"/>
              <p:cNvSpPr/>
              <p:nvPr/>
            </p:nvSpPr>
            <p:spPr>
              <a:xfrm flipV="1">
                <a:off x="4500720" y="2539080"/>
                <a:ext cx="2819160" cy="237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Freeform 625"/>
            <p:cNvSpPr/>
            <p:nvPr/>
          </p:nvSpPr>
          <p:spPr>
            <a:xfrm>
              <a:off x="4500720" y="2625840"/>
              <a:ext cx="2742840" cy="22860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1728" h="1440">
                  <a:moveTo>
                    <a:pt x="0" y="1440"/>
                  </a:moveTo>
                  <a:lnTo>
                    <a:pt x="1728" y="0"/>
                  </a:lnTo>
                  <a:lnTo>
                    <a:pt x="1536" y="0"/>
                  </a:lnTo>
                  <a:lnTo>
                    <a:pt x="0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626"/>
          <p:cNvGrpSpPr/>
          <p:nvPr/>
        </p:nvGrpSpPr>
        <p:grpSpPr>
          <a:xfrm>
            <a:off x="4451400" y="2092320"/>
            <a:ext cx="4267080" cy="2819160"/>
            <a:chOff x="4451400" y="2092320"/>
            <a:chExt cx="4267080" cy="2819160"/>
          </a:xfrm>
        </p:grpSpPr>
        <p:grpSp>
          <p:nvGrpSpPr>
            <p:cNvPr id="66" name="Group 627"/>
            <p:cNvGrpSpPr/>
            <p:nvPr/>
          </p:nvGrpSpPr>
          <p:grpSpPr>
            <a:xfrm>
              <a:off x="4451400" y="2092320"/>
              <a:ext cx="4267080" cy="2819160"/>
              <a:chOff x="4451400" y="2092320"/>
              <a:chExt cx="4267080" cy="2819160"/>
            </a:xfrm>
          </p:grpSpPr>
          <p:grpSp>
            <p:nvGrpSpPr>
              <p:cNvPr id="67" name="Group 628"/>
              <p:cNvGrpSpPr/>
              <p:nvPr/>
            </p:nvGrpSpPr>
            <p:grpSpPr>
              <a:xfrm>
                <a:off x="4451400" y="2175480"/>
                <a:ext cx="4267080" cy="2735640"/>
                <a:chOff x="4451400" y="2175480"/>
                <a:chExt cx="4267080" cy="2735640"/>
              </a:xfrm>
            </p:grpSpPr>
            <p:sp>
              <p:nvSpPr>
                <p:cNvPr id="68" name="Freeform 629"/>
                <p:cNvSpPr/>
                <p:nvPr/>
              </p:nvSpPr>
              <p:spPr>
                <a:xfrm>
                  <a:off x="4451400" y="2466720"/>
                  <a:ext cx="4267080" cy="2444400"/>
                </a:xfrm>
                <a:custGeom>
                  <a:avLst/>
                  <a:gdLst>
                    <a:gd name="textAreaLeft" fmla="*/ 0 w 4267080"/>
                    <a:gd name="textAreaRight" fmla="*/ 4267440 w 4267080"/>
                    <a:gd name="textAreaTop" fmla="*/ 0 h 2444400"/>
                    <a:gd name="textAreaBottom" fmla="*/ 2444760 h 2444400"/>
                  </a:gdLst>
                  <a:ahLst/>
                  <a:rect l="textAreaLeft" t="textAreaTop" r="textAreaRight" b="textAreaBottom"/>
                  <a:pathLst>
                    <a:path w="2688" h="1584">
                      <a:moveTo>
                        <a:pt x="0" y="1584"/>
                      </a:moveTo>
                      <a:lnTo>
                        <a:pt x="2304" y="720"/>
                      </a:lnTo>
                      <a:lnTo>
                        <a:pt x="2688" y="384"/>
                      </a:lnTo>
                      <a:lnTo>
                        <a:pt x="2448" y="0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ddf3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630"/>
                <p:cNvSpPr/>
                <p:nvPr/>
              </p:nvSpPr>
              <p:spPr>
                <a:xfrm flipV="1">
                  <a:off x="4451400" y="2688480"/>
                  <a:ext cx="3581280" cy="22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631"/>
                <p:cNvSpPr/>
                <p:nvPr/>
              </p:nvSpPr>
              <p:spPr>
                <a:xfrm rot="2010000">
                  <a:off x="7795080" y="2242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632"/>
              <p:cNvSpPr/>
              <p:nvPr/>
            </p:nvSpPr>
            <p:spPr>
              <a:xfrm>
                <a:off x="4451400" y="2092320"/>
                <a:ext cx="3809880" cy="2819160"/>
              </a:xfrm>
              <a:custGeom>
                <a:avLst/>
                <a:gdLst>
                  <a:gd name="textAreaLeft" fmla="*/ 0 w 3809880"/>
                  <a:gd name="textAreaRight" fmla="*/ 3810240 w 3809880"/>
                  <a:gd name="textAreaTop" fmla="*/ 0 h 2819160"/>
                  <a:gd name="textAreaBottom" fmla="*/ 2819520 h 2819160"/>
                </a:gdLst>
                <a:ahLst/>
                <a:rect l="textAreaLeft" t="textAreaTop" r="textAreaRight" b="textAreaBottom"/>
                <a:pathLst>
                  <a:path w="2400" h="1776">
                    <a:moveTo>
                      <a:pt x="0" y="1776"/>
                    </a:moveTo>
                    <a:lnTo>
                      <a:pt x="2400" y="240"/>
                    </a:lnTo>
                    <a:lnTo>
                      <a:pt x="1680" y="0"/>
                    </a:lnTo>
                    <a:lnTo>
                      <a:pt x="0" y="17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1f4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633"/>
            <p:cNvSpPr/>
            <p:nvPr/>
          </p:nvSpPr>
          <p:spPr>
            <a:xfrm rot="20043000">
              <a:off x="7689600" y="2244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34"/>
          <p:cNvGrpSpPr/>
          <p:nvPr/>
        </p:nvGrpSpPr>
        <p:grpSpPr>
          <a:xfrm>
            <a:off x="4451400" y="2320920"/>
            <a:ext cx="4343400" cy="2729880"/>
            <a:chOff x="4451400" y="2320920"/>
            <a:chExt cx="4343400" cy="2729880"/>
          </a:xfrm>
        </p:grpSpPr>
        <p:grpSp>
          <p:nvGrpSpPr>
            <p:cNvPr id="74" name="Group 635"/>
            <p:cNvGrpSpPr/>
            <p:nvPr/>
          </p:nvGrpSpPr>
          <p:grpSpPr>
            <a:xfrm>
              <a:off x="4451400" y="3539880"/>
              <a:ext cx="4343400" cy="1510920"/>
              <a:chOff x="4451400" y="3539880"/>
              <a:chExt cx="4343400" cy="1510920"/>
            </a:xfrm>
          </p:grpSpPr>
          <p:sp>
            <p:nvSpPr>
              <p:cNvPr id="75" name="Freeform 636"/>
              <p:cNvSpPr/>
              <p:nvPr/>
            </p:nvSpPr>
            <p:spPr>
              <a:xfrm>
                <a:off x="4451400" y="3539880"/>
                <a:ext cx="4343400" cy="137160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736" h="864">
                    <a:moveTo>
                      <a:pt x="0" y="864"/>
                    </a:moveTo>
                    <a:lnTo>
                      <a:pt x="2304" y="0"/>
                    </a:lnTo>
                    <a:lnTo>
                      <a:pt x="2736" y="288"/>
                    </a:lnTo>
                    <a:lnTo>
                      <a:pt x="2544" y="480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ddf3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37"/>
              <p:cNvSpPr/>
              <p:nvPr/>
            </p:nvSpPr>
            <p:spPr>
              <a:xfrm flipV="1">
                <a:off x="4451400" y="4377960"/>
                <a:ext cx="373392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38"/>
              <p:cNvSpPr/>
              <p:nvPr/>
            </p:nvSpPr>
            <p:spPr>
              <a:xfrm flipV="1" rot="20092800">
                <a:off x="7727760" y="43765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639"/>
            <p:cNvSpPr/>
            <p:nvPr/>
          </p:nvSpPr>
          <p:spPr>
            <a:xfrm>
              <a:off x="4451400" y="2320920"/>
              <a:ext cx="4343400" cy="2590560"/>
            </a:xfrm>
            <a:custGeom>
              <a:avLst/>
              <a:gdLst>
                <a:gd name="textAreaLeft" fmla="*/ 0 w 4343400"/>
                <a:gd name="textAreaRight" fmla="*/ 4343760 w 4343400"/>
                <a:gd name="textAreaTop" fmla="*/ 0 h 2590560"/>
                <a:gd name="textAreaBottom" fmla="*/ 2590920 h 2590560"/>
              </a:gdLst>
              <a:ahLst/>
              <a:rect l="textAreaLeft" t="textAreaTop" r="textAreaRight" b="textAreaBottom"/>
              <a:pathLst>
                <a:path w="2688" h="1632">
                  <a:moveTo>
                    <a:pt x="0" y="1632"/>
                  </a:moveTo>
                  <a:lnTo>
                    <a:pt x="2304" y="768"/>
                  </a:lnTo>
                  <a:lnTo>
                    <a:pt x="2688" y="480"/>
                  </a:lnTo>
                  <a:lnTo>
                    <a:pt x="2448" y="48"/>
                  </a:lnTo>
                  <a:lnTo>
                    <a:pt x="2112" y="0"/>
                  </a:lnTo>
                  <a:lnTo>
                    <a:pt x="0" y="16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f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640"/>
          <p:cNvGrpSpPr/>
          <p:nvPr/>
        </p:nvGrpSpPr>
        <p:grpSpPr>
          <a:xfrm>
            <a:off x="4448160" y="3463920"/>
            <a:ext cx="4876560" cy="1904760"/>
            <a:chOff x="4448160" y="3463920"/>
            <a:chExt cx="4876560" cy="1904760"/>
          </a:xfrm>
        </p:grpSpPr>
        <p:grpSp>
          <p:nvGrpSpPr>
            <p:cNvPr id="80" name="Group 641"/>
            <p:cNvGrpSpPr/>
            <p:nvPr/>
          </p:nvGrpSpPr>
          <p:grpSpPr>
            <a:xfrm>
              <a:off x="4448160" y="3463920"/>
              <a:ext cx="4876560" cy="1904760"/>
              <a:chOff x="4448160" y="3463920"/>
              <a:chExt cx="4876560" cy="1904760"/>
            </a:xfrm>
          </p:grpSpPr>
          <p:grpSp>
            <p:nvGrpSpPr>
              <p:cNvPr id="81" name="Group 642"/>
              <p:cNvGrpSpPr/>
              <p:nvPr/>
            </p:nvGrpSpPr>
            <p:grpSpPr>
              <a:xfrm>
                <a:off x="4448160" y="3616200"/>
                <a:ext cx="4419360" cy="1297080"/>
                <a:chOff x="4448160" y="3616200"/>
                <a:chExt cx="4419360" cy="1297080"/>
              </a:xfrm>
            </p:grpSpPr>
            <p:sp>
              <p:nvSpPr>
                <p:cNvPr id="82" name="Freeform 643"/>
                <p:cNvSpPr/>
                <p:nvPr/>
              </p:nvSpPr>
              <p:spPr>
                <a:xfrm>
                  <a:off x="4448160" y="3616200"/>
                  <a:ext cx="4419360" cy="1295640"/>
                </a:xfrm>
                <a:custGeom>
                  <a:avLst/>
                  <a:gdLst>
                    <a:gd name="textAreaLeft" fmla="*/ 0 w 4419360"/>
                    <a:gd name="textAreaRight" fmla="*/ 4419720 w 441936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2784" h="816">
                      <a:moveTo>
                        <a:pt x="0" y="816"/>
                      </a:moveTo>
                      <a:lnTo>
                        <a:pt x="2304" y="0"/>
                      </a:lnTo>
                      <a:lnTo>
                        <a:pt x="2784" y="432"/>
                      </a:lnTo>
                      <a:lnTo>
                        <a:pt x="2208" y="816"/>
                      </a:lnTo>
                      <a:lnTo>
                        <a:pt x="0" y="8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fedff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644"/>
                <p:cNvSpPr/>
                <p:nvPr/>
              </p:nvSpPr>
              <p:spPr>
                <a:xfrm>
                  <a:off x="4524120" y="4911840"/>
                  <a:ext cx="304452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Rectangle 645"/>
              <p:cNvSpPr/>
              <p:nvPr/>
            </p:nvSpPr>
            <p:spPr>
              <a:xfrm flipV="1">
                <a:off x="7267320" y="4848120"/>
                <a:ext cx="42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646"/>
              <p:cNvSpPr/>
              <p:nvPr/>
            </p:nvSpPr>
            <p:spPr>
              <a:xfrm>
                <a:off x="8029440" y="3463920"/>
                <a:ext cx="1295280" cy="91440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720" h="480">
                    <a:moveTo>
                      <a:pt x="528" y="480"/>
                    </a:moveTo>
                    <a:lnTo>
                      <a:pt x="720" y="336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528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Freeform 647"/>
            <p:cNvSpPr/>
            <p:nvPr/>
          </p:nvSpPr>
          <p:spPr>
            <a:xfrm>
              <a:off x="4448160" y="3616200"/>
              <a:ext cx="4419360" cy="129528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2784" h="816">
                  <a:moveTo>
                    <a:pt x="0" y="816"/>
                  </a:moveTo>
                  <a:lnTo>
                    <a:pt x="2304" y="0"/>
                  </a:lnTo>
                  <a:lnTo>
                    <a:pt x="2784" y="432"/>
                  </a:lnTo>
                  <a:lnTo>
                    <a:pt x="2208" y="816"/>
                  </a:lnTo>
                  <a:lnTo>
                    <a:pt x="0" y="8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48"/>
          <p:cNvGrpSpPr/>
          <p:nvPr/>
        </p:nvGrpSpPr>
        <p:grpSpPr>
          <a:xfrm>
            <a:off x="6434640" y="3621240"/>
            <a:ext cx="436680" cy="547560"/>
            <a:chOff x="6434640" y="3621240"/>
            <a:chExt cx="436680" cy="547560"/>
          </a:xfrm>
        </p:grpSpPr>
        <p:sp>
          <p:nvSpPr>
            <p:cNvPr id="88" name="Oval 649"/>
            <p:cNvSpPr/>
            <p:nvPr/>
          </p:nvSpPr>
          <p:spPr>
            <a:xfrm>
              <a:off x="6570720" y="407844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50"/>
            <p:cNvSpPr/>
            <p:nvPr/>
          </p:nvSpPr>
          <p:spPr>
            <a:xfrm>
              <a:off x="6434640" y="3621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UI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51"/>
          <p:cNvGrpSpPr/>
          <p:nvPr/>
        </p:nvGrpSpPr>
        <p:grpSpPr>
          <a:xfrm>
            <a:off x="6585120" y="3159000"/>
            <a:ext cx="2438280" cy="2286000"/>
            <a:chOff x="6585120" y="3159000"/>
            <a:chExt cx="2438280" cy="2286000"/>
          </a:xfrm>
        </p:grpSpPr>
        <p:grpSp>
          <p:nvGrpSpPr>
            <p:cNvPr id="91" name="Group 652"/>
            <p:cNvGrpSpPr/>
            <p:nvPr/>
          </p:nvGrpSpPr>
          <p:grpSpPr>
            <a:xfrm>
              <a:off x="6585120" y="3159000"/>
              <a:ext cx="2438280" cy="2286000"/>
              <a:chOff x="6585120" y="3159000"/>
              <a:chExt cx="2438280" cy="2286000"/>
            </a:xfrm>
          </p:grpSpPr>
          <p:grpSp>
            <p:nvGrpSpPr>
              <p:cNvPr id="92" name="Group 653"/>
              <p:cNvGrpSpPr/>
              <p:nvPr/>
            </p:nvGrpSpPr>
            <p:grpSpPr>
              <a:xfrm>
                <a:off x="6585120" y="3159000"/>
                <a:ext cx="2438280" cy="2286000"/>
                <a:chOff x="6585120" y="3159000"/>
                <a:chExt cx="2438280" cy="2286000"/>
              </a:xfrm>
            </p:grpSpPr>
            <p:sp>
              <p:nvSpPr>
                <p:cNvPr id="93" name="Freeform 654"/>
                <p:cNvSpPr/>
                <p:nvPr/>
              </p:nvSpPr>
              <p:spPr>
                <a:xfrm>
                  <a:off x="6585120" y="3159000"/>
                  <a:ext cx="2133360" cy="1752480"/>
                </a:xfrm>
                <a:custGeom>
                  <a:avLst/>
                  <a:gdLst>
                    <a:gd name="textAreaLeft" fmla="*/ 0 w 2133360"/>
                    <a:gd name="textAreaRight" fmla="*/ 2133720 w 213336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344" h="1104">
                      <a:moveTo>
                        <a:pt x="0" y="1104"/>
                      </a:moveTo>
                      <a:lnTo>
                        <a:pt x="0" y="624"/>
                      </a:lnTo>
                      <a:lnTo>
                        <a:pt x="720" y="0"/>
                      </a:lnTo>
                      <a:lnTo>
                        <a:pt x="1344" y="240"/>
                      </a:lnTo>
                      <a:lnTo>
                        <a:pt x="816" y="816"/>
                      </a:lnTo>
                      <a:lnTo>
                        <a:pt x="0" y="110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655"/>
                <p:cNvSpPr/>
                <p:nvPr/>
              </p:nvSpPr>
              <p:spPr>
                <a:xfrm>
                  <a:off x="6585120" y="3768480"/>
                  <a:ext cx="2438280" cy="167652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676520"/>
                    <a:gd name="textAreaBottom" fmla="*/ 1676880 h 1676520"/>
                  </a:gdLst>
                  <a:ahLst/>
                  <a:rect l="textAreaLeft" t="textAreaTop" r="textAreaRight" b="textAreaBottom"/>
                  <a:pathLst>
                    <a:path w="1488" h="960">
                      <a:moveTo>
                        <a:pt x="0" y="672"/>
                      </a:moveTo>
                      <a:lnTo>
                        <a:pt x="624" y="960"/>
                      </a:lnTo>
                      <a:lnTo>
                        <a:pt x="1488" y="288"/>
                      </a:lnTo>
                      <a:lnTo>
                        <a:pt x="1200" y="0"/>
                      </a:lnTo>
                      <a:lnTo>
                        <a:pt x="864" y="384"/>
                      </a:lnTo>
                      <a:lnTo>
                        <a:pt x="0" y="6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Line 656"/>
              <p:cNvSpPr/>
              <p:nvPr/>
            </p:nvSpPr>
            <p:spPr>
              <a:xfrm flipV="1">
                <a:off x="6585120" y="4530600"/>
                <a:ext cx="10666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57"/>
            <p:cNvGrpSpPr/>
            <p:nvPr/>
          </p:nvGrpSpPr>
          <p:grpSpPr>
            <a:xfrm>
              <a:off x="7317000" y="4098240"/>
              <a:ext cx="1050120" cy="942120"/>
              <a:chOff x="7317000" y="4098240"/>
              <a:chExt cx="1050120" cy="942120"/>
            </a:xfrm>
          </p:grpSpPr>
          <p:sp>
            <p:nvSpPr>
              <p:cNvPr id="97" name="Text Box 658"/>
              <p:cNvSpPr/>
              <p:nvPr/>
            </p:nvSpPr>
            <p:spPr>
              <a:xfrm rot="20602200">
                <a:off x="7546680" y="41961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659"/>
              <p:cNvSpPr/>
              <p:nvPr/>
            </p:nvSpPr>
            <p:spPr>
              <a:xfrm flipH="1" rot="20602200">
                <a:off x="7381800" y="446508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60"/>
          <p:cNvGrpSpPr/>
          <p:nvPr/>
        </p:nvGrpSpPr>
        <p:grpSpPr>
          <a:xfrm>
            <a:off x="6585120" y="2320920"/>
            <a:ext cx="2286000" cy="2590560"/>
            <a:chOff x="6585120" y="2320920"/>
            <a:chExt cx="2286000" cy="2590560"/>
          </a:xfrm>
        </p:grpSpPr>
        <p:grpSp>
          <p:nvGrpSpPr>
            <p:cNvPr id="100" name="Group 661"/>
            <p:cNvGrpSpPr/>
            <p:nvPr/>
          </p:nvGrpSpPr>
          <p:grpSpPr>
            <a:xfrm>
              <a:off x="6585120" y="2320920"/>
              <a:ext cx="2286000" cy="2590560"/>
              <a:chOff x="6585120" y="2320920"/>
              <a:chExt cx="2286000" cy="2590560"/>
            </a:xfrm>
          </p:grpSpPr>
          <p:sp>
            <p:nvSpPr>
              <p:cNvPr id="101" name="Freeform 662"/>
              <p:cNvSpPr/>
              <p:nvPr/>
            </p:nvSpPr>
            <p:spPr>
              <a:xfrm>
                <a:off x="6585120" y="2320920"/>
                <a:ext cx="914400" cy="259056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2590560"/>
                  <a:gd name="textAreaBottom" fmla="*/ 2590920 h 2590560"/>
                </a:gdLst>
                <a:ahLst/>
                <a:rect l="textAreaLeft" t="textAreaTop" r="textAreaRight" b="textAreaBottom"/>
                <a:pathLst>
                  <a:path w="576" h="1632">
                    <a:moveTo>
                      <a:pt x="0" y="1632"/>
                    </a:moveTo>
                    <a:lnTo>
                      <a:pt x="0" y="1152"/>
                    </a:lnTo>
                    <a:lnTo>
                      <a:pt x="240" y="240"/>
                    </a:lnTo>
                    <a:lnTo>
                      <a:pt x="576" y="0"/>
                    </a:lnTo>
                    <a:lnTo>
                      <a:pt x="432" y="864"/>
                    </a:lnTo>
                    <a:lnTo>
                      <a:pt x="0" y="16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63"/>
              <p:cNvSpPr/>
              <p:nvPr/>
            </p:nvSpPr>
            <p:spPr>
              <a:xfrm>
                <a:off x="6661440" y="3082680"/>
                <a:ext cx="2209680" cy="1828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92" h="1152">
                    <a:moveTo>
                      <a:pt x="0" y="1152"/>
                    </a:moveTo>
                    <a:lnTo>
                      <a:pt x="720" y="1152"/>
                    </a:lnTo>
                    <a:lnTo>
                      <a:pt x="1392" y="288"/>
                    </a:lnTo>
                    <a:lnTo>
                      <a:pt x="720" y="0"/>
                    </a:lnTo>
                    <a:lnTo>
                      <a:pt x="432" y="192"/>
                    </a:lnTo>
                    <a:lnTo>
                      <a:pt x="432" y="336"/>
                    </a:lnTo>
                    <a:lnTo>
                      <a:pt x="0" y="1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64"/>
            <p:cNvGrpSpPr/>
            <p:nvPr/>
          </p:nvGrpSpPr>
          <p:grpSpPr>
            <a:xfrm>
              <a:off x="6877440" y="3205080"/>
              <a:ext cx="843120" cy="1203840"/>
              <a:chOff x="6877440" y="3205080"/>
              <a:chExt cx="843120" cy="1203840"/>
            </a:xfrm>
          </p:grpSpPr>
          <p:sp>
            <p:nvSpPr>
              <p:cNvPr id="104" name="Text Box 665"/>
              <p:cNvSpPr/>
              <p:nvPr/>
            </p:nvSpPr>
            <p:spPr>
              <a:xfrm rot="18100800">
                <a:off x="6917760" y="34056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66"/>
              <p:cNvSpPr/>
              <p:nvPr/>
            </p:nvSpPr>
            <p:spPr>
              <a:xfrm flipH="1" rot="18100800">
                <a:off x="7012080" y="3817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667"/>
          <p:cNvGrpSpPr/>
          <p:nvPr/>
        </p:nvGrpSpPr>
        <p:grpSpPr>
          <a:xfrm>
            <a:off x="4984920" y="1940040"/>
            <a:ext cx="2666880" cy="2971800"/>
            <a:chOff x="4984920" y="1940040"/>
            <a:chExt cx="2666880" cy="2971800"/>
          </a:xfrm>
        </p:grpSpPr>
        <p:grpSp>
          <p:nvGrpSpPr>
            <p:cNvPr id="107" name="Group 668"/>
            <p:cNvGrpSpPr/>
            <p:nvPr/>
          </p:nvGrpSpPr>
          <p:grpSpPr>
            <a:xfrm>
              <a:off x="5157720" y="3574440"/>
              <a:ext cx="1024920" cy="1228320"/>
              <a:chOff x="5157720" y="3574440"/>
              <a:chExt cx="1024920" cy="1228320"/>
            </a:xfrm>
          </p:grpSpPr>
          <p:sp>
            <p:nvSpPr>
              <p:cNvPr id="108" name="Text Box 669"/>
              <p:cNvSpPr/>
              <p:nvPr/>
            </p:nvSpPr>
            <p:spPr>
              <a:xfrm rot="2557200">
                <a:off x="5232960" y="376344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670"/>
              <p:cNvSpPr/>
              <p:nvPr/>
            </p:nvSpPr>
            <p:spPr>
              <a:xfrm rot="2557200">
                <a:off x="5609160" y="4196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71"/>
            <p:cNvGrpSpPr/>
            <p:nvPr/>
          </p:nvGrpSpPr>
          <p:grpSpPr>
            <a:xfrm>
              <a:off x="4984920" y="1940040"/>
              <a:ext cx="2666880" cy="2971800"/>
              <a:chOff x="4984920" y="1940040"/>
              <a:chExt cx="2666880" cy="2971800"/>
            </a:xfrm>
          </p:grpSpPr>
          <p:sp>
            <p:nvSpPr>
              <p:cNvPr id="111" name="Freeform 672"/>
              <p:cNvSpPr/>
              <p:nvPr/>
            </p:nvSpPr>
            <p:spPr>
              <a:xfrm>
                <a:off x="4984920" y="2702160"/>
                <a:ext cx="1600200" cy="220968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008" h="1392">
                    <a:moveTo>
                      <a:pt x="1008" y="1392"/>
                    </a:moveTo>
                    <a:lnTo>
                      <a:pt x="1008" y="912"/>
                    </a:lnTo>
                    <a:lnTo>
                      <a:pt x="432" y="144"/>
                    </a:lnTo>
                    <a:lnTo>
                      <a:pt x="0" y="0"/>
                    </a:lnTo>
                    <a:lnTo>
                      <a:pt x="384" y="768"/>
                    </a:lnTo>
                    <a:lnTo>
                      <a:pt x="1008" y="13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3"/>
              <p:cNvSpPr/>
              <p:nvPr/>
            </p:nvSpPr>
            <p:spPr>
              <a:xfrm>
                <a:off x="6661440" y="1940040"/>
                <a:ext cx="990360" cy="2895840"/>
              </a:xfrm>
              <a:custGeom>
                <a:avLst/>
                <a:gdLst>
                  <a:gd name="textAreaLeft" fmla="*/ 0 w 990360"/>
                  <a:gd name="textAreaRight" fmla="*/ 990720 w 990360"/>
                  <a:gd name="textAreaTop" fmla="*/ 0 h 2895840"/>
                  <a:gd name="textAreaBottom" fmla="*/ 2896200 h 2895840"/>
                </a:gdLst>
                <a:ahLst/>
                <a:rect l="textAreaLeft" t="textAreaTop" r="textAreaRight" b="textAreaBottom"/>
                <a:pathLst>
                  <a:path w="624" h="1728">
                    <a:moveTo>
                      <a:pt x="0" y="1728"/>
                    </a:moveTo>
                    <a:lnTo>
                      <a:pt x="0" y="1152"/>
                    </a:lnTo>
                    <a:lnTo>
                      <a:pt x="192" y="288"/>
                    </a:lnTo>
                    <a:lnTo>
                      <a:pt x="624" y="0"/>
                    </a:lnTo>
                    <a:lnTo>
                      <a:pt x="576" y="124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674"/>
            <p:cNvSpPr/>
            <p:nvPr/>
          </p:nvSpPr>
          <p:spPr>
            <a:xfrm flipH="1" flipV="1">
              <a:off x="5822640" y="4150080"/>
              <a:ext cx="7621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75"/>
          <p:cNvGrpSpPr/>
          <p:nvPr/>
        </p:nvGrpSpPr>
        <p:grpSpPr>
          <a:xfrm>
            <a:off x="4146480" y="2625840"/>
            <a:ext cx="2471040" cy="2744640"/>
            <a:chOff x="4146480" y="2625840"/>
            <a:chExt cx="2471040" cy="2744640"/>
          </a:xfrm>
        </p:grpSpPr>
        <p:grpSp>
          <p:nvGrpSpPr>
            <p:cNvPr id="115" name="Group 676"/>
            <p:cNvGrpSpPr/>
            <p:nvPr/>
          </p:nvGrpSpPr>
          <p:grpSpPr>
            <a:xfrm>
              <a:off x="4146480" y="2625840"/>
              <a:ext cx="2438280" cy="2744640"/>
              <a:chOff x="4146480" y="2625840"/>
              <a:chExt cx="2438280" cy="2744640"/>
            </a:xfrm>
          </p:grpSpPr>
          <p:grpSp>
            <p:nvGrpSpPr>
              <p:cNvPr id="116" name="Group 677"/>
              <p:cNvGrpSpPr/>
              <p:nvPr/>
            </p:nvGrpSpPr>
            <p:grpSpPr>
              <a:xfrm>
                <a:off x="4146480" y="2625840"/>
                <a:ext cx="2438280" cy="2286000"/>
                <a:chOff x="4146480" y="2625840"/>
                <a:chExt cx="2438280" cy="2286000"/>
              </a:xfrm>
            </p:grpSpPr>
            <p:sp>
              <p:nvSpPr>
                <p:cNvPr id="117" name="Freeform 678"/>
                <p:cNvSpPr/>
                <p:nvPr/>
              </p:nvSpPr>
              <p:spPr>
                <a:xfrm>
                  <a:off x="4146480" y="3540240"/>
                  <a:ext cx="2438280" cy="1371600"/>
                </a:xfrm>
                <a:custGeom>
                  <a:avLst/>
                  <a:gdLst>
                    <a:gd name="textAreaLeft" fmla="*/ 0 w 2438280"/>
                    <a:gd name="textAreaRight" fmla="*/ 2438640 w 2438280"/>
                    <a:gd name="textAreaTop" fmla="*/ 0 h 1371600"/>
                    <a:gd name="textAreaBottom" fmla="*/ 1371960 h 1371600"/>
                  </a:gdLst>
                  <a:ahLst/>
                  <a:rect l="textAreaLeft" t="textAreaTop" r="textAreaRight" b="textAreaBottom"/>
                  <a:pathLst>
                    <a:path w="1536" h="864">
                      <a:moveTo>
                        <a:pt x="1536" y="864"/>
                      </a:moveTo>
                      <a:lnTo>
                        <a:pt x="1536" y="384"/>
                      </a:lnTo>
                      <a:lnTo>
                        <a:pt x="576" y="0"/>
                      </a:lnTo>
                      <a:lnTo>
                        <a:pt x="0" y="336"/>
                      </a:lnTo>
                      <a:lnTo>
                        <a:pt x="624" y="864"/>
                      </a:lnTo>
                      <a:lnTo>
                        <a:pt x="1536" y="8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679"/>
                <p:cNvSpPr/>
                <p:nvPr/>
              </p:nvSpPr>
              <p:spPr>
                <a:xfrm>
                  <a:off x="4908240" y="2625840"/>
                  <a:ext cx="1676520" cy="2286000"/>
                </a:xfrm>
                <a:custGeom>
                  <a:avLst/>
                  <a:gdLst>
                    <a:gd name="textAreaLeft" fmla="*/ 0 w 1676520"/>
                    <a:gd name="textAreaRight" fmla="*/ 1676880 w 167652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w="1056" h="1440">
                      <a:moveTo>
                        <a:pt x="1056" y="1440"/>
                      </a:moveTo>
                      <a:lnTo>
                        <a:pt x="1056" y="864"/>
                      </a:lnTo>
                      <a:lnTo>
                        <a:pt x="480" y="144"/>
                      </a:lnTo>
                      <a:lnTo>
                        <a:pt x="0" y="0"/>
                      </a:lnTo>
                      <a:lnTo>
                        <a:pt x="336" y="672"/>
                      </a:lnTo>
                      <a:lnTo>
                        <a:pt x="1056" y="96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680"/>
              <p:cNvGrpSpPr/>
              <p:nvPr/>
            </p:nvGrpSpPr>
            <p:grpSpPr>
              <a:xfrm>
                <a:off x="4755960" y="4683240"/>
                <a:ext cx="1066320" cy="687240"/>
                <a:chOff x="4755960" y="4683240"/>
                <a:chExt cx="1066320" cy="687240"/>
              </a:xfrm>
            </p:grpSpPr>
            <p:sp>
              <p:nvSpPr>
                <p:cNvPr id="120" name="Text Box 681"/>
                <p:cNvSpPr/>
                <p:nvPr/>
              </p:nvSpPr>
              <p:spPr>
                <a:xfrm>
                  <a:off x="4755960" y="468324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682"/>
                <p:cNvSpPr/>
                <p:nvPr/>
              </p:nvSpPr>
              <p:spPr>
                <a:xfrm>
                  <a:off x="5365440" y="484992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Line 683"/>
            <p:cNvSpPr/>
            <p:nvPr/>
          </p:nvSpPr>
          <p:spPr>
            <a:xfrm flipH="1">
              <a:off x="5484600" y="4904640"/>
              <a:ext cx="11329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84"/>
            <p:cNvSpPr/>
            <p:nvPr/>
          </p:nvSpPr>
          <p:spPr>
            <a:xfrm>
              <a:off x="5060880" y="3540240"/>
              <a:ext cx="1523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85"/>
          <p:cNvGrpSpPr/>
          <p:nvPr/>
        </p:nvGrpSpPr>
        <p:grpSpPr>
          <a:xfrm>
            <a:off x="6051600" y="3519360"/>
            <a:ext cx="1066680" cy="1801800"/>
            <a:chOff x="6051600" y="3519360"/>
            <a:chExt cx="1066680" cy="1801800"/>
          </a:xfrm>
        </p:grpSpPr>
        <p:sp>
          <p:nvSpPr>
            <p:cNvPr id="125" name="Line 686"/>
            <p:cNvSpPr/>
            <p:nvPr/>
          </p:nvSpPr>
          <p:spPr>
            <a:xfrm>
              <a:off x="6584760" y="4114800"/>
              <a:ext cx="0" cy="761760"/>
            </a:xfrm>
            <a:prstGeom prst="line">
              <a:avLst/>
            </a:prstGeom>
            <a:ln w="57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87"/>
            <p:cNvSpPr/>
            <p:nvPr/>
          </p:nvSpPr>
          <p:spPr>
            <a:xfrm>
              <a:off x="6051600" y="3519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88"/>
            <p:cNvSpPr/>
            <p:nvPr/>
          </p:nvSpPr>
          <p:spPr>
            <a:xfrm>
              <a:off x="6051600" y="4800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689"/>
          <p:cNvSpPr/>
          <p:nvPr/>
        </p:nvSpPr>
        <p:spPr>
          <a:xfrm>
            <a:off x="6356520" y="468324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44" h="144">
                <a:moveTo>
                  <a:pt x="144" y="0"/>
                </a:move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0"/>
          <p:cNvGrpSpPr/>
          <p:nvPr/>
        </p:nvGrpSpPr>
        <p:grpSpPr>
          <a:xfrm>
            <a:off x="4070520" y="1940040"/>
            <a:ext cx="3581280" cy="3504600"/>
            <a:chOff x="4070520" y="1940040"/>
            <a:chExt cx="3581280" cy="3504600"/>
          </a:xfrm>
        </p:grpSpPr>
        <p:grpSp>
          <p:nvGrpSpPr>
            <p:cNvPr id="130" name="Group 691"/>
            <p:cNvGrpSpPr/>
            <p:nvPr/>
          </p:nvGrpSpPr>
          <p:grpSpPr>
            <a:xfrm>
              <a:off x="4070520" y="1940040"/>
              <a:ext cx="3581280" cy="3504600"/>
              <a:chOff x="4070520" y="1940040"/>
              <a:chExt cx="3581280" cy="3504600"/>
            </a:xfrm>
          </p:grpSpPr>
          <p:grpSp>
            <p:nvGrpSpPr>
              <p:cNvPr id="131" name="Group 692"/>
              <p:cNvGrpSpPr/>
              <p:nvPr/>
            </p:nvGrpSpPr>
            <p:grpSpPr>
              <a:xfrm>
                <a:off x="4070520" y="1940040"/>
                <a:ext cx="3581280" cy="3504600"/>
                <a:chOff x="4070520" y="1940040"/>
                <a:chExt cx="3581280" cy="3504600"/>
              </a:xfrm>
            </p:grpSpPr>
            <p:grpSp>
              <p:nvGrpSpPr>
                <p:cNvPr id="132" name="Group 693"/>
                <p:cNvGrpSpPr/>
                <p:nvPr/>
              </p:nvGrpSpPr>
              <p:grpSpPr>
                <a:xfrm>
                  <a:off x="4070520" y="1940040"/>
                  <a:ext cx="3581280" cy="3504600"/>
                  <a:chOff x="4070520" y="1940040"/>
                  <a:chExt cx="3581280" cy="3504600"/>
                </a:xfrm>
              </p:grpSpPr>
              <p:grpSp>
                <p:nvGrpSpPr>
                  <p:cNvPr id="133" name="Group 694"/>
                  <p:cNvGrpSpPr/>
                  <p:nvPr/>
                </p:nvGrpSpPr>
                <p:grpSpPr>
                  <a:xfrm>
                    <a:off x="4984920" y="1940040"/>
                    <a:ext cx="2666880" cy="2971080"/>
                    <a:chOff x="4984920" y="1940040"/>
                    <a:chExt cx="2666880" cy="2971080"/>
                  </a:xfrm>
                </p:grpSpPr>
                <p:grpSp>
                  <p:nvGrpSpPr>
                    <p:cNvPr id="134" name="Group 695"/>
                    <p:cNvGrpSpPr/>
                    <p:nvPr/>
                  </p:nvGrpSpPr>
                  <p:grpSpPr>
                    <a:xfrm>
                      <a:off x="5157720" y="3574080"/>
                      <a:ext cx="1025280" cy="1227960"/>
                      <a:chOff x="5157720" y="3574080"/>
                      <a:chExt cx="1025280" cy="1227960"/>
                    </a:xfrm>
                  </p:grpSpPr>
                  <p:sp>
                    <p:nvSpPr>
                      <p:cNvPr id="135" name="Text Box 696"/>
                      <p:cNvSpPr/>
                      <p:nvPr/>
                    </p:nvSpPr>
                    <p:spPr>
                      <a:xfrm rot="2557200">
                        <a:off x="5232960" y="3763080"/>
                        <a:ext cx="76212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Gothic"/>
                          </a:rPr>
                          <a:t>A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Text Box 697"/>
                      <p:cNvSpPr/>
                      <p:nvPr/>
                    </p:nvSpPr>
                    <p:spPr>
                      <a:xfrm rot="2557200">
                        <a:off x="5609520" y="4195440"/>
                        <a:ext cx="4572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MS Gothic"/>
                          </a:rPr>
                          <a:t>B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" name="Group 698"/>
                    <p:cNvGrpSpPr/>
                    <p:nvPr/>
                  </p:nvGrpSpPr>
                  <p:grpSpPr>
                    <a:xfrm>
                      <a:off x="4984920" y="1940040"/>
                      <a:ext cx="2666880" cy="2971080"/>
                      <a:chOff x="4984920" y="1940040"/>
                      <a:chExt cx="2666880" cy="2971080"/>
                    </a:xfrm>
                  </p:grpSpPr>
                  <p:sp>
                    <p:nvSpPr>
                      <p:cNvPr id="138" name="Freeform 699"/>
                      <p:cNvSpPr/>
                      <p:nvPr/>
                    </p:nvSpPr>
                    <p:spPr>
                      <a:xfrm>
                        <a:off x="4984920" y="2701800"/>
                        <a:ext cx="1600200" cy="2209320"/>
                      </a:xfrm>
                      <a:custGeom>
                        <a:avLst/>
                        <a:gdLst>
                          <a:gd name="textAreaLeft" fmla="*/ 0 w 1600200"/>
                          <a:gd name="textAreaRight" fmla="*/ 1600560 w 1600200"/>
                          <a:gd name="textAreaTop" fmla="*/ 0 h 2209320"/>
                          <a:gd name="textAreaBottom" fmla="*/ 2209680 h 2209320"/>
                        </a:gdLst>
                        <a:ahLst/>
                        <a:rect l="textAreaLeft" t="textAreaTop" r="textAreaRight" b="textAreaBottom"/>
                        <a:pathLst>
                          <a:path w="1008" h="1392">
                            <a:moveTo>
                              <a:pt x="1008" y="1392"/>
                            </a:moveTo>
                            <a:lnTo>
                              <a:pt x="1008" y="912"/>
                            </a:lnTo>
                            <a:lnTo>
                              <a:pt x="432" y="144"/>
                            </a:lnTo>
                            <a:lnTo>
                              <a:pt x="0" y="0"/>
                            </a:lnTo>
                            <a:lnTo>
                              <a:pt x="384" y="768"/>
                            </a:lnTo>
                            <a:lnTo>
                              <a:pt x="1008" y="1392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700"/>
                      <p:cNvSpPr/>
                      <p:nvPr/>
                    </p:nvSpPr>
                    <p:spPr>
                      <a:xfrm>
                        <a:off x="6661440" y="1940040"/>
                        <a:ext cx="990360" cy="2895480"/>
                      </a:xfrm>
                      <a:custGeom>
                        <a:avLst/>
                        <a:gdLst>
                          <a:gd name="textAreaLeft" fmla="*/ 0 w 990360"/>
                          <a:gd name="textAreaRight" fmla="*/ 990720 w 990360"/>
                          <a:gd name="textAreaTop" fmla="*/ 0 h 2895480"/>
                          <a:gd name="textAreaBottom" fmla="*/ 2895840 h 2895480"/>
                        </a:gdLst>
                        <a:ahLst/>
                        <a:rect l="textAreaLeft" t="textAreaTop" r="textAreaRight" b="textAreaBottom"/>
                        <a:pathLst>
                          <a:path w="624" h="1728">
                            <a:moveTo>
                              <a:pt x="0" y="1728"/>
                            </a:moveTo>
                            <a:lnTo>
                              <a:pt x="0" y="1152"/>
                            </a:lnTo>
                            <a:lnTo>
                              <a:pt x="192" y="288"/>
                            </a:lnTo>
                            <a:lnTo>
                              <a:pt x="624" y="0"/>
                            </a:lnTo>
                            <a:lnTo>
                              <a:pt x="576" y="1248"/>
                            </a:lnTo>
                            <a:lnTo>
                              <a:pt x="0" y="1728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cfed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" name="Line 701"/>
                    <p:cNvSpPr/>
                    <p:nvPr/>
                  </p:nvSpPr>
                  <p:spPr>
                    <a:xfrm flipH="1" flipV="1">
                      <a:off x="5822640" y="4149360"/>
                      <a:ext cx="762120" cy="761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" name="Freeform 702"/>
                  <p:cNvSpPr/>
                  <p:nvPr/>
                </p:nvSpPr>
                <p:spPr>
                  <a:xfrm>
                    <a:off x="4070520" y="3463920"/>
                    <a:ext cx="2514600" cy="1980720"/>
                  </a:xfrm>
                  <a:custGeom>
                    <a:avLst/>
                    <a:gdLst>
                      <a:gd name="textAreaLeft" fmla="*/ 0 w 2514600"/>
                      <a:gd name="textAreaRight" fmla="*/ 2514960 w 2514600"/>
                      <a:gd name="textAreaTop" fmla="*/ 0 h 1980720"/>
                      <a:gd name="textAreaBottom" fmla="*/ 1981080 h 1980720"/>
                    </a:gdLst>
                    <a:ahLst/>
                    <a:rect l="textAreaLeft" t="textAreaTop" r="textAreaRight" b="textAreaBottom"/>
                    <a:pathLst>
                      <a:path w="1584" h="1248">
                        <a:moveTo>
                          <a:pt x="1584" y="912"/>
                        </a:moveTo>
                        <a:lnTo>
                          <a:pt x="960" y="288"/>
                        </a:lnTo>
                        <a:lnTo>
                          <a:pt x="864" y="144"/>
                        </a:lnTo>
                        <a:lnTo>
                          <a:pt x="624" y="0"/>
                        </a:lnTo>
                        <a:lnTo>
                          <a:pt x="0" y="384"/>
                        </a:lnTo>
                        <a:lnTo>
                          <a:pt x="816" y="1248"/>
                        </a:lnTo>
                        <a:lnTo>
                          <a:pt x="1584" y="91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703"/>
                <p:cNvGrpSpPr/>
                <p:nvPr/>
              </p:nvGrpSpPr>
              <p:grpSpPr>
                <a:xfrm>
                  <a:off x="5184360" y="3538080"/>
                  <a:ext cx="1046520" cy="1299600"/>
                  <a:chOff x="5184360" y="3538080"/>
                  <a:chExt cx="1046520" cy="1299600"/>
                </a:xfrm>
              </p:grpSpPr>
              <p:sp>
                <p:nvSpPr>
                  <p:cNvPr id="143" name="Text Box 704"/>
                  <p:cNvSpPr/>
                  <p:nvPr/>
                </p:nvSpPr>
                <p:spPr>
                  <a:xfrm rot="2767800">
                    <a:off x="5266440" y="3705120"/>
                    <a:ext cx="685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Text Box 705"/>
                  <p:cNvSpPr/>
                  <p:nvPr/>
                </p:nvSpPr>
                <p:spPr>
                  <a:xfrm rot="2767800">
                    <a:off x="5333760" y="409500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5" name="Freeform 706"/>
              <p:cNvSpPr/>
              <p:nvPr/>
            </p:nvSpPr>
            <p:spPr>
              <a:xfrm>
                <a:off x="4375440" y="4378320"/>
                <a:ext cx="2209680" cy="532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1392" h="336">
                    <a:moveTo>
                      <a:pt x="1392" y="336"/>
                    </a:moveTo>
                    <a:lnTo>
                      <a:pt x="0" y="336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707"/>
            <p:cNvSpPr/>
            <p:nvPr/>
          </p:nvSpPr>
          <p:spPr>
            <a:xfrm flipH="1" flipV="1">
              <a:off x="5594400" y="3921120"/>
              <a:ext cx="99072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708"/>
          <p:cNvGrpSpPr/>
          <p:nvPr/>
        </p:nvGrpSpPr>
        <p:grpSpPr>
          <a:xfrm>
            <a:off x="4375080" y="2320920"/>
            <a:ext cx="4495680" cy="2666880"/>
            <a:chOff x="4375080" y="2320920"/>
            <a:chExt cx="4495680" cy="2666880"/>
          </a:xfrm>
        </p:grpSpPr>
        <p:sp>
          <p:nvSpPr>
            <p:cNvPr id="148" name="Freeform 709"/>
            <p:cNvSpPr/>
            <p:nvPr/>
          </p:nvSpPr>
          <p:spPr>
            <a:xfrm>
              <a:off x="4832280" y="2625480"/>
              <a:ext cx="1752480" cy="23623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2362320"/>
                <a:gd name="textAreaBottom" fmla="*/ 2362680 h 2362320"/>
              </a:gdLst>
              <a:ahLst/>
              <a:rect l="textAreaLeft" t="textAreaTop" r="textAreaRight" b="textAreaBottom"/>
              <a:pathLst>
                <a:path w="1056" h="1440">
                  <a:moveTo>
                    <a:pt x="1056" y="1440"/>
                  </a:moveTo>
                  <a:lnTo>
                    <a:pt x="1056" y="912"/>
                  </a:lnTo>
                  <a:lnTo>
                    <a:pt x="480" y="144"/>
                  </a:lnTo>
                  <a:lnTo>
                    <a:pt x="0" y="0"/>
                  </a:lnTo>
                  <a:lnTo>
                    <a:pt x="528" y="1248"/>
                  </a:lnTo>
                  <a:lnTo>
                    <a:pt x="1056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710"/>
            <p:cNvGrpSpPr/>
            <p:nvPr/>
          </p:nvGrpSpPr>
          <p:grpSpPr>
            <a:xfrm>
              <a:off x="4375080" y="2320920"/>
              <a:ext cx="4495680" cy="2590560"/>
              <a:chOff x="4375080" y="2320920"/>
              <a:chExt cx="4495680" cy="2590560"/>
            </a:xfrm>
          </p:grpSpPr>
          <p:grpSp>
            <p:nvGrpSpPr>
              <p:cNvPr id="150" name="Group 711"/>
              <p:cNvGrpSpPr/>
              <p:nvPr/>
            </p:nvGrpSpPr>
            <p:grpSpPr>
              <a:xfrm>
                <a:off x="6584760" y="2320920"/>
                <a:ext cx="2286000" cy="2590560"/>
                <a:chOff x="6584760" y="2320920"/>
                <a:chExt cx="2286000" cy="2590560"/>
              </a:xfrm>
            </p:grpSpPr>
            <p:grpSp>
              <p:nvGrpSpPr>
                <p:cNvPr id="151" name="Group 712"/>
                <p:cNvGrpSpPr/>
                <p:nvPr/>
              </p:nvGrpSpPr>
              <p:grpSpPr>
                <a:xfrm>
                  <a:off x="6584760" y="2320920"/>
                  <a:ext cx="2286000" cy="2590560"/>
                  <a:chOff x="6584760" y="2320920"/>
                  <a:chExt cx="2286000" cy="2590560"/>
                </a:xfrm>
              </p:grpSpPr>
              <p:sp>
                <p:nvSpPr>
                  <p:cNvPr id="152" name="Freeform 713"/>
                  <p:cNvSpPr/>
                  <p:nvPr/>
                </p:nvSpPr>
                <p:spPr>
                  <a:xfrm>
                    <a:off x="6584760" y="2320920"/>
                    <a:ext cx="914400" cy="2590560"/>
                  </a:xfrm>
                  <a:custGeom>
                    <a:avLst/>
                    <a:gdLst>
                      <a:gd name="textAreaLeft" fmla="*/ 0 w 914400"/>
                      <a:gd name="textAreaRight" fmla="*/ 914760 w 914400"/>
                      <a:gd name="textAreaTop" fmla="*/ 0 h 2590560"/>
                      <a:gd name="textAreaBottom" fmla="*/ 2590920 h 2590560"/>
                    </a:gdLst>
                    <a:ahLst/>
                    <a:rect l="textAreaLeft" t="textAreaTop" r="textAreaRight" b="textAreaBottom"/>
                    <a:pathLst>
                      <a:path w="576" h="1632">
                        <a:moveTo>
                          <a:pt x="0" y="1632"/>
                        </a:moveTo>
                        <a:lnTo>
                          <a:pt x="0" y="1152"/>
                        </a:lnTo>
                        <a:lnTo>
                          <a:pt x="240" y="240"/>
                        </a:lnTo>
                        <a:lnTo>
                          <a:pt x="576" y="0"/>
                        </a:lnTo>
                        <a:lnTo>
                          <a:pt x="432" y="864"/>
                        </a:lnTo>
                        <a:lnTo>
                          <a:pt x="0" y="163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14"/>
                  <p:cNvSpPr/>
                  <p:nvPr/>
                </p:nvSpPr>
                <p:spPr>
                  <a:xfrm>
                    <a:off x="6661080" y="3082680"/>
                    <a:ext cx="2209680" cy="1828800"/>
                  </a:xfrm>
                  <a:custGeom>
                    <a:avLst/>
                    <a:gdLst>
                      <a:gd name="textAreaLeft" fmla="*/ 0 w 2209680"/>
                      <a:gd name="textAreaRight" fmla="*/ 2210040 w 2209680"/>
                      <a:gd name="textAreaTop" fmla="*/ 0 h 1828800"/>
                      <a:gd name="textAreaBottom" fmla="*/ 1829160 h 1828800"/>
                    </a:gdLst>
                    <a:ahLst/>
                    <a:rect l="textAreaLeft" t="textAreaTop" r="textAreaRight" b="textAreaBottom"/>
                    <a:pathLst>
                      <a:path w="1392" h="1152">
                        <a:moveTo>
                          <a:pt x="0" y="1152"/>
                        </a:moveTo>
                        <a:lnTo>
                          <a:pt x="720" y="1152"/>
                        </a:lnTo>
                        <a:lnTo>
                          <a:pt x="1392" y="288"/>
                        </a:lnTo>
                        <a:lnTo>
                          <a:pt x="720" y="0"/>
                        </a:lnTo>
                        <a:lnTo>
                          <a:pt x="432" y="192"/>
                        </a:lnTo>
                        <a:lnTo>
                          <a:pt x="432" y="336"/>
                        </a:lnTo>
                        <a:lnTo>
                          <a:pt x="0" y="11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5"/>
                <p:cNvGrpSpPr/>
                <p:nvPr/>
              </p:nvGrpSpPr>
              <p:grpSpPr>
                <a:xfrm>
                  <a:off x="6877080" y="3205080"/>
                  <a:ext cx="843120" cy="1203840"/>
                  <a:chOff x="6877080" y="3205080"/>
                  <a:chExt cx="843120" cy="1203840"/>
                </a:xfrm>
              </p:grpSpPr>
              <p:sp>
                <p:nvSpPr>
                  <p:cNvPr id="155" name="Text Box 716"/>
                  <p:cNvSpPr/>
                  <p:nvPr/>
                </p:nvSpPr>
                <p:spPr>
                  <a:xfrm rot="18100800">
                    <a:off x="6917400" y="3405600"/>
                    <a:ext cx="762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717"/>
                  <p:cNvSpPr/>
                  <p:nvPr/>
                </p:nvSpPr>
                <p:spPr>
                  <a:xfrm flipH="1" rot="18100800">
                    <a:off x="7011720" y="381744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Freeform 718"/>
              <p:cNvSpPr/>
              <p:nvPr/>
            </p:nvSpPr>
            <p:spPr>
              <a:xfrm>
                <a:off x="4375080" y="2701800"/>
                <a:ext cx="2590560" cy="220968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2209680"/>
                  <a:gd name="textAreaBottom" fmla="*/ 2210040 h 2209680"/>
                </a:gdLst>
                <a:ahLst/>
                <a:rect l="textAreaLeft" t="textAreaTop" r="textAreaRight" b="textAreaBottom"/>
                <a:pathLst>
                  <a:path w="1632" h="1392">
                    <a:moveTo>
                      <a:pt x="0" y="1392"/>
                    </a:moveTo>
                    <a:lnTo>
                      <a:pt x="1392" y="960"/>
                    </a:lnTo>
                    <a:lnTo>
                      <a:pt x="16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719"/>
          <p:cNvGrpSpPr/>
          <p:nvPr/>
        </p:nvGrpSpPr>
        <p:grpSpPr>
          <a:xfrm>
            <a:off x="4375080" y="2244600"/>
            <a:ext cx="4647960" cy="3200400"/>
            <a:chOff x="4375080" y="2244600"/>
            <a:chExt cx="4647960" cy="3200400"/>
          </a:xfrm>
        </p:grpSpPr>
        <p:grpSp>
          <p:nvGrpSpPr>
            <p:cNvPr id="159" name="Group 720"/>
            <p:cNvGrpSpPr/>
            <p:nvPr/>
          </p:nvGrpSpPr>
          <p:grpSpPr>
            <a:xfrm>
              <a:off x="6584760" y="3159000"/>
              <a:ext cx="2438280" cy="2286000"/>
              <a:chOff x="6584760" y="3159000"/>
              <a:chExt cx="2438280" cy="2286000"/>
            </a:xfrm>
          </p:grpSpPr>
          <p:grpSp>
            <p:nvGrpSpPr>
              <p:cNvPr id="160" name="Group 721"/>
              <p:cNvGrpSpPr/>
              <p:nvPr/>
            </p:nvGrpSpPr>
            <p:grpSpPr>
              <a:xfrm>
                <a:off x="6584760" y="3159000"/>
                <a:ext cx="2438280" cy="2286000"/>
                <a:chOff x="6584760" y="3159000"/>
                <a:chExt cx="2438280" cy="2286000"/>
              </a:xfrm>
            </p:grpSpPr>
            <p:grpSp>
              <p:nvGrpSpPr>
                <p:cNvPr id="161" name="Group 722"/>
                <p:cNvGrpSpPr/>
                <p:nvPr/>
              </p:nvGrpSpPr>
              <p:grpSpPr>
                <a:xfrm>
                  <a:off x="6584760" y="3159000"/>
                  <a:ext cx="2438280" cy="2286000"/>
                  <a:chOff x="6584760" y="3159000"/>
                  <a:chExt cx="2438280" cy="2286000"/>
                </a:xfrm>
              </p:grpSpPr>
              <p:sp>
                <p:nvSpPr>
                  <p:cNvPr id="162" name="Freeform 723"/>
                  <p:cNvSpPr/>
                  <p:nvPr/>
                </p:nvSpPr>
                <p:spPr>
                  <a:xfrm>
                    <a:off x="6584760" y="3159000"/>
                    <a:ext cx="2133360" cy="1752480"/>
                  </a:xfrm>
                  <a:custGeom>
                    <a:avLst/>
                    <a:gdLst>
                      <a:gd name="textAreaLeft" fmla="*/ 0 w 2133360"/>
                      <a:gd name="textAreaRight" fmla="*/ 2133720 w 2133360"/>
                      <a:gd name="textAreaTop" fmla="*/ 0 h 1752480"/>
                      <a:gd name="textAreaBottom" fmla="*/ 1752840 h 1752480"/>
                    </a:gdLst>
                    <a:ahLst/>
                    <a:rect l="textAreaLeft" t="textAreaTop" r="textAreaRight" b="textAreaBottom"/>
                    <a:pathLst>
                      <a:path w="1344" h="1104">
                        <a:moveTo>
                          <a:pt x="0" y="1104"/>
                        </a:moveTo>
                        <a:lnTo>
                          <a:pt x="0" y="624"/>
                        </a:lnTo>
                        <a:lnTo>
                          <a:pt x="720" y="0"/>
                        </a:lnTo>
                        <a:lnTo>
                          <a:pt x="1344" y="240"/>
                        </a:lnTo>
                        <a:lnTo>
                          <a:pt x="816" y="816"/>
                        </a:lnTo>
                        <a:lnTo>
                          <a:pt x="0" y="110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724"/>
                  <p:cNvSpPr/>
                  <p:nvPr/>
                </p:nvSpPr>
                <p:spPr>
                  <a:xfrm>
                    <a:off x="6584760" y="3768480"/>
                    <a:ext cx="2438280" cy="1676520"/>
                  </a:xfrm>
                  <a:custGeom>
                    <a:avLst/>
                    <a:gdLst>
                      <a:gd name="textAreaLeft" fmla="*/ 0 w 2438280"/>
                      <a:gd name="textAreaRight" fmla="*/ 2438640 w 2438280"/>
                      <a:gd name="textAreaTop" fmla="*/ 0 h 1676520"/>
                      <a:gd name="textAreaBottom" fmla="*/ 1676880 h 1676520"/>
                    </a:gdLst>
                    <a:ahLst/>
                    <a:rect l="textAreaLeft" t="textAreaTop" r="textAreaRight" b="textAreaBottom"/>
                    <a:pathLst>
                      <a:path w="1488" h="960">
                        <a:moveTo>
                          <a:pt x="0" y="672"/>
                        </a:moveTo>
                        <a:lnTo>
                          <a:pt x="624" y="960"/>
                        </a:lnTo>
                        <a:lnTo>
                          <a:pt x="1488" y="288"/>
                        </a:lnTo>
                        <a:lnTo>
                          <a:pt x="1200" y="0"/>
                        </a:lnTo>
                        <a:lnTo>
                          <a:pt x="864" y="384"/>
                        </a:lnTo>
                        <a:lnTo>
                          <a:pt x="0" y="6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fed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Line 725"/>
                <p:cNvSpPr/>
                <p:nvPr/>
              </p:nvSpPr>
              <p:spPr>
                <a:xfrm flipV="1">
                  <a:off x="6584760" y="4530600"/>
                  <a:ext cx="106668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726"/>
              <p:cNvGrpSpPr/>
              <p:nvPr/>
            </p:nvGrpSpPr>
            <p:grpSpPr>
              <a:xfrm>
                <a:off x="7316640" y="4098240"/>
                <a:ext cx="1050120" cy="942120"/>
                <a:chOff x="7316640" y="4098240"/>
                <a:chExt cx="1050120" cy="942120"/>
              </a:xfrm>
            </p:grpSpPr>
            <p:sp>
              <p:nvSpPr>
                <p:cNvPr id="166" name="Text Box 727"/>
                <p:cNvSpPr/>
                <p:nvPr/>
              </p:nvSpPr>
              <p:spPr>
                <a:xfrm rot="20602200">
                  <a:off x="7546320" y="41961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728"/>
                <p:cNvSpPr/>
                <p:nvPr/>
              </p:nvSpPr>
              <p:spPr>
                <a:xfrm flipH="1" rot="20602200">
                  <a:off x="7381440" y="4465080"/>
                  <a:ext cx="456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MS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Freeform 729"/>
            <p:cNvSpPr/>
            <p:nvPr/>
          </p:nvSpPr>
          <p:spPr>
            <a:xfrm>
              <a:off x="4375080" y="4149720"/>
              <a:ext cx="2209680" cy="761760"/>
            </a:xfrm>
            <a:custGeom>
              <a:avLst/>
              <a:gdLst>
                <a:gd name="textAreaLeft" fmla="*/ 0 w 2209680"/>
                <a:gd name="textAreaRight" fmla="*/ 2210040 w 22096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92" h="480">
                  <a:moveTo>
                    <a:pt x="1392" y="480"/>
                  </a:moveTo>
                  <a:lnTo>
                    <a:pt x="1392" y="0"/>
                  </a:lnTo>
                  <a:lnTo>
                    <a:pt x="0" y="480"/>
                  </a:lnTo>
                  <a:lnTo>
                    <a:pt x="1392" y="48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30"/>
            <p:cNvSpPr/>
            <p:nvPr/>
          </p:nvSpPr>
          <p:spPr>
            <a:xfrm>
              <a:off x="6508440" y="2244600"/>
              <a:ext cx="1067040" cy="190512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672" h="1200">
                  <a:moveTo>
                    <a:pt x="528" y="768"/>
                  </a:moveTo>
                  <a:lnTo>
                    <a:pt x="672" y="0"/>
                  </a:lnTo>
                  <a:lnTo>
                    <a:pt x="240" y="288"/>
                  </a:lnTo>
                  <a:lnTo>
                    <a:pt x="0" y="120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31"/>
          <p:cNvGrpSpPr/>
          <p:nvPr/>
        </p:nvGrpSpPr>
        <p:grpSpPr>
          <a:xfrm>
            <a:off x="4375080" y="3083040"/>
            <a:ext cx="4876560" cy="2286000"/>
            <a:chOff x="4375080" y="3083040"/>
            <a:chExt cx="4876560" cy="2286000"/>
          </a:xfrm>
        </p:grpSpPr>
        <p:grpSp>
          <p:nvGrpSpPr>
            <p:cNvPr id="171" name="Group 732"/>
            <p:cNvGrpSpPr/>
            <p:nvPr/>
          </p:nvGrpSpPr>
          <p:grpSpPr>
            <a:xfrm>
              <a:off x="4375080" y="3464280"/>
              <a:ext cx="4876560" cy="1904760"/>
              <a:chOff x="4375080" y="3464280"/>
              <a:chExt cx="4876560" cy="1904760"/>
            </a:xfrm>
          </p:grpSpPr>
          <p:grpSp>
            <p:nvGrpSpPr>
              <p:cNvPr id="172" name="Group 733"/>
              <p:cNvGrpSpPr/>
              <p:nvPr/>
            </p:nvGrpSpPr>
            <p:grpSpPr>
              <a:xfrm>
                <a:off x="4375080" y="3464280"/>
                <a:ext cx="4876560" cy="1904760"/>
                <a:chOff x="4375080" y="3464280"/>
                <a:chExt cx="4876560" cy="1904760"/>
              </a:xfrm>
            </p:grpSpPr>
            <p:grpSp>
              <p:nvGrpSpPr>
                <p:cNvPr id="173" name="Group 734"/>
                <p:cNvGrpSpPr/>
                <p:nvPr/>
              </p:nvGrpSpPr>
              <p:grpSpPr>
                <a:xfrm>
                  <a:off x="4375080" y="3616560"/>
                  <a:ext cx="4419360" cy="1297080"/>
                  <a:chOff x="4375080" y="3616560"/>
                  <a:chExt cx="4419360" cy="1297080"/>
                </a:xfrm>
              </p:grpSpPr>
              <p:sp>
                <p:nvSpPr>
                  <p:cNvPr id="174" name="Freeform 735"/>
                  <p:cNvSpPr/>
                  <p:nvPr/>
                </p:nvSpPr>
                <p:spPr>
                  <a:xfrm>
                    <a:off x="4375080" y="3616560"/>
                    <a:ext cx="4419360" cy="1295640"/>
                  </a:xfrm>
                  <a:custGeom>
                    <a:avLst/>
                    <a:gdLst>
                      <a:gd name="textAreaLeft" fmla="*/ 0 w 4419360"/>
                      <a:gd name="textAreaRight" fmla="*/ 4419720 w 4419360"/>
                      <a:gd name="textAreaTop" fmla="*/ 0 h 1295640"/>
                      <a:gd name="textAreaBottom" fmla="*/ 1296000 h 1295640"/>
                    </a:gdLst>
                    <a:ahLst/>
                    <a:rect l="textAreaLeft" t="textAreaTop" r="textAreaRight" b="textAreaBottom"/>
                    <a:pathLst>
                      <a:path w="2784" h="816">
                        <a:moveTo>
                          <a:pt x="0" y="816"/>
                        </a:moveTo>
                        <a:lnTo>
                          <a:pt x="2304" y="0"/>
                        </a:lnTo>
                        <a:lnTo>
                          <a:pt x="2784" y="432"/>
                        </a:lnTo>
                        <a:lnTo>
                          <a:pt x="2208" y="816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fedff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736"/>
                  <p:cNvSpPr/>
                  <p:nvPr/>
                </p:nvSpPr>
                <p:spPr>
                  <a:xfrm>
                    <a:off x="4451040" y="4912200"/>
                    <a:ext cx="304452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Rectangle 737"/>
                <p:cNvSpPr/>
                <p:nvPr/>
              </p:nvSpPr>
              <p:spPr>
                <a:xfrm flipV="1">
                  <a:off x="7194240" y="4848480"/>
                  <a:ext cx="420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MS UI Gothic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738"/>
                <p:cNvSpPr/>
                <p:nvPr/>
              </p:nvSpPr>
              <p:spPr>
                <a:xfrm>
                  <a:off x="7956360" y="3464280"/>
                  <a:ext cx="1295280" cy="914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720" h="480">
                      <a:moveTo>
                        <a:pt x="528" y="480"/>
                      </a:moveTo>
                      <a:lnTo>
                        <a:pt x="720" y="336"/>
                      </a:lnTo>
                      <a:lnTo>
                        <a:pt x="144" y="0"/>
                      </a:lnTo>
                      <a:lnTo>
                        <a:pt x="0" y="48"/>
                      </a:lnTo>
                      <a:lnTo>
                        <a:pt x="528" y="48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fed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Freeform 739"/>
              <p:cNvSpPr/>
              <p:nvPr/>
            </p:nvSpPr>
            <p:spPr>
              <a:xfrm>
                <a:off x="4375080" y="3616560"/>
                <a:ext cx="4419360" cy="1295280"/>
              </a:xfrm>
              <a:custGeom>
                <a:avLst/>
                <a:gdLst>
                  <a:gd name="textAreaLeft" fmla="*/ 0 w 4419360"/>
                  <a:gd name="textAreaRight" fmla="*/ 4419720 w 441936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2784" h="816">
                    <a:moveTo>
                      <a:pt x="0" y="816"/>
                    </a:moveTo>
                    <a:lnTo>
                      <a:pt x="2304" y="0"/>
                    </a:lnTo>
                    <a:lnTo>
                      <a:pt x="2784" y="432"/>
                    </a:lnTo>
                    <a:lnTo>
                      <a:pt x="2208" y="816"/>
                    </a:lnTo>
                    <a:lnTo>
                      <a:pt x="0" y="81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740"/>
            <p:cNvSpPr/>
            <p:nvPr/>
          </p:nvSpPr>
          <p:spPr>
            <a:xfrm>
              <a:off x="7499160" y="4683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41"/>
            <p:cNvSpPr/>
            <p:nvPr/>
          </p:nvSpPr>
          <p:spPr>
            <a:xfrm>
              <a:off x="6203880" y="35546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42"/>
            <p:cNvSpPr/>
            <p:nvPr/>
          </p:nvSpPr>
          <p:spPr>
            <a:xfrm flipV="1">
              <a:off x="6584760" y="4073760"/>
              <a:ext cx="0" cy="838080"/>
            </a:xfrm>
            <a:prstGeom prst="line">
              <a:avLst/>
            </a:prstGeom>
            <a:ln w="57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3"/>
            <p:cNvSpPr/>
            <p:nvPr/>
          </p:nvSpPr>
          <p:spPr>
            <a:xfrm>
              <a:off x="6584760" y="3083040"/>
              <a:ext cx="2286000" cy="9907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440" h="624">
                  <a:moveTo>
                    <a:pt x="0" y="624"/>
                  </a:moveTo>
                  <a:lnTo>
                    <a:pt x="720" y="0"/>
                  </a:lnTo>
                  <a:lnTo>
                    <a:pt x="1440" y="288"/>
                  </a:lnTo>
                  <a:lnTo>
                    <a:pt x="1200" y="528"/>
                  </a:lnTo>
                  <a:lnTo>
                    <a:pt x="912" y="28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ed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744"/>
          <p:cNvSpPr/>
          <p:nvPr/>
        </p:nvSpPr>
        <p:spPr>
          <a:xfrm flipH="1" flipV="1">
            <a:off x="6127920" y="353988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745"/>
          <p:cNvGrpSpPr/>
          <p:nvPr/>
        </p:nvGrpSpPr>
        <p:grpSpPr>
          <a:xfrm>
            <a:off x="4375080" y="3616200"/>
            <a:ext cx="4343400" cy="1470240"/>
            <a:chOff x="4375080" y="3616200"/>
            <a:chExt cx="4343400" cy="1470240"/>
          </a:xfrm>
        </p:grpSpPr>
        <p:grpSp>
          <p:nvGrpSpPr>
            <p:cNvPr id="185" name="Group 746"/>
            <p:cNvGrpSpPr/>
            <p:nvPr/>
          </p:nvGrpSpPr>
          <p:grpSpPr>
            <a:xfrm>
              <a:off x="4375080" y="3616200"/>
              <a:ext cx="4343400" cy="1470240"/>
              <a:chOff x="4375080" y="3616200"/>
              <a:chExt cx="4343400" cy="1470240"/>
            </a:xfrm>
          </p:grpSpPr>
          <p:grpSp>
            <p:nvGrpSpPr>
              <p:cNvPr id="186" name="Group 747"/>
              <p:cNvGrpSpPr/>
              <p:nvPr/>
            </p:nvGrpSpPr>
            <p:grpSpPr>
              <a:xfrm>
                <a:off x="4375080" y="3616200"/>
                <a:ext cx="4343400" cy="1470240"/>
                <a:chOff x="4375080" y="3616200"/>
                <a:chExt cx="4343400" cy="1470240"/>
              </a:xfrm>
            </p:grpSpPr>
            <p:sp>
              <p:nvSpPr>
                <p:cNvPr id="187" name="Freeform 748"/>
                <p:cNvSpPr/>
                <p:nvPr/>
              </p:nvSpPr>
              <p:spPr>
                <a:xfrm>
                  <a:off x="4375080" y="3616200"/>
                  <a:ext cx="4343400" cy="1295280"/>
                </a:xfrm>
                <a:custGeom>
                  <a:avLst/>
                  <a:gdLst>
                    <a:gd name="textAreaLeft" fmla="*/ 0 w 4343400"/>
                    <a:gd name="textAreaRight" fmla="*/ 4343760 w 434340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736" h="864">
                      <a:moveTo>
                        <a:pt x="0" y="864"/>
                      </a:moveTo>
                      <a:lnTo>
                        <a:pt x="2304" y="0"/>
                      </a:lnTo>
                      <a:lnTo>
                        <a:pt x="2736" y="288"/>
                      </a:lnTo>
                      <a:lnTo>
                        <a:pt x="2544" y="480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solidFill>
                  <a:srgbClr val="ddf3ff">
                    <a:alpha val="5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49"/>
                <p:cNvSpPr/>
                <p:nvPr/>
              </p:nvSpPr>
              <p:spPr>
                <a:xfrm rot="20673600">
                  <a:off x="8032680" y="4073040"/>
                  <a:ext cx="5331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50"/>
                <p:cNvSpPr/>
                <p:nvPr/>
              </p:nvSpPr>
              <p:spPr>
                <a:xfrm>
                  <a:off x="6584760" y="4149720"/>
                  <a:ext cx="152280" cy="380880"/>
                </a:xfrm>
                <a:prstGeom prst="line">
                  <a:avLst/>
                </a:prstGeom>
                <a:ln w="57240">
                  <a:solidFill>
                    <a:srgbClr val="3333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751"/>
                <p:cNvSpPr/>
                <p:nvPr/>
              </p:nvSpPr>
              <p:spPr>
                <a:xfrm flipV="1" rot="20330400">
                  <a:off x="6584400" y="4392360"/>
                  <a:ext cx="10666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752"/>
              <p:cNvSpPr/>
              <p:nvPr/>
            </p:nvSpPr>
            <p:spPr>
              <a:xfrm flipV="1">
                <a:off x="4451040" y="4377960"/>
                <a:ext cx="342900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753"/>
            <p:cNvSpPr/>
            <p:nvPr/>
          </p:nvSpPr>
          <p:spPr>
            <a:xfrm flipV="1" rot="21042000">
              <a:off x="7346520" y="43138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55"/>
          <p:cNvGrpSpPr/>
          <p:nvPr/>
        </p:nvGrpSpPr>
        <p:grpSpPr>
          <a:xfrm>
            <a:off x="4364280" y="2152800"/>
            <a:ext cx="4283280" cy="2770920"/>
            <a:chOff x="4364280" y="2152800"/>
            <a:chExt cx="4283280" cy="2770920"/>
          </a:xfrm>
        </p:grpSpPr>
        <p:grpSp>
          <p:nvGrpSpPr>
            <p:cNvPr id="194" name="Group 756"/>
            <p:cNvGrpSpPr/>
            <p:nvPr/>
          </p:nvGrpSpPr>
          <p:grpSpPr>
            <a:xfrm>
              <a:off x="4364280" y="2152800"/>
              <a:ext cx="4283280" cy="2770920"/>
              <a:chOff x="4364280" y="2152800"/>
              <a:chExt cx="4283280" cy="2770920"/>
            </a:xfrm>
          </p:grpSpPr>
          <p:grpSp>
            <p:nvGrpSpPr>
              <p:cNvPr id="195" name="Group 757"/>
              <p:cNvGrpSpPr/>
              <p:nvPr/>
            </p:nvGrpSpPr>
            <p:grpSpPr>
              <a:xfrm>
                <a:off x="4364280" y="2152800"/>
                <a:ext cx="4283280" cy="2770920"/>
                <a:chOff x="4364280" y="2152800"/>
                <a:chExt cx="4283280" cy="2770920"/>
              </a:xfrm>
            </p:grpSpPr>
            <p:grpSp>
              <p:nvGrpSpPr>
                <p:cNvPr id="196" name="Group 758"/>
                <p:cNvGrpSpPr/>
                <p:nvPr/>
              </p:nvGrpSpPr>
              <p:grpSpPr>
                <a:xfrm>
                  <a:off x="4364640" y="2251440"/>
                  <a:ext cx="4282920" cy="2672280"/>
                  <a:chOff x="4364640" y="2251440"/>
                  <a:chExt cx="4282920" cy="2672280"/>
                </a:xfrm>
              </p:grpSpPr>
              <p:sp>
                <p:nvSpPr>
                  <p:cNvPr id="197" name="Freeform 759"/>
                  <p:cNvSpPr/>
                  <p:nvPr/>
                </p:nvSpPr>
                <p:spPr>
                  <a:xfrm rot="22800">
                    <a:off x="4372200" y="2530800"/>
                    <a:ext cx="4267080" cy="2378880"/>
                  </a:xfrm>
                  <a:custGeom>
                    <a:avLst/>
                    <a:gdLst>
                      <a:gd name="textAreaLeft" fmla="*/ 0 w 4267080"/>
                      <a:gd name="textAreaRight" fmla="*/ 4267440 w 4267080"/>
                      <a:gd name="textAreaTop" fmla="*/ 0 h 2378880"/>
                      <a:gd name="textAreaBottom" fmla="*/ 2378880 h 2378880"/>
                    </a:gdLst>
                    <a:ahLst/>
                    <a:rect l="textAreaLeft" t="textAreaTop" r="textAreaRight" b="textAreaBottom"/>
                    <a:pathLst>
                      <a:path w="2688" h="1584">
                        <a:moveTo>
                          <a:pt x="0" y="1584"/>
                        </a:moveTo>
                        <a:lnTo>
                          <a:pt x="2304" y="720"/>
                        </a:lnTo>
                        <a:lnTo>
                          <a:pt x="2688" y="384"/>
                        </a:lnTo>
                        <a:lnTo>
                          <a:pt x="2448" y="0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ddf3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760"/>
                  <p:cNvSpPr/>
                  <p:nvPr/>
                </p:nvSpPr>
                <p:spPr>
                  <a:xfrm flipV="1">
                    <a:off x="4364640" y="2756160"/>
                    <a:ext cx="3595680" cy="2138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761"/>
                  <p:cNvSpPr/>
                  <p:nvPr/>
                </p:nvSpPr>
                <p:spPr>
                  <a:xfrm rot="2032800">
                    <a:off x="7722360" y="2319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MS Gothic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Freeform 762"/>
                <p:cNvSpPr/>
                <p:nvPr/>
              </p:nvSpPr>
              <p:spPr>
                <a:xfrm rot="22800">
                  <a:off x="4373280" y="2165400"/>
                  <a:ext cx="3809880" cy="2743200"/>
                </a:xfrm>
                <a:custGeom>
                  <a:avLst/>
                  <a:gdLst>
                    <a:gd name="textAreaLeft" fmla="*/ 0 w 3809880"/>
                    <a:gd name="textAreaRight" fmla="*/ 3810240 w 3809880"/>
                    <a:gd name="textAreaTop" fmla="*/ 0 h 2743200"/>
                    <a:gd name="textAreaBottom" fmla="*/ 2743200 h 2743200"/>
                  </a:gdLst>
                  <a:ahLst/>
                  <a:rect l="textAreaLeft" t="textAreaTop" r="textAreaRight" b="textAreaBottom"/>
                  <a:pathLst>
                    <a:path w="2400" h="1776">
                      <a:moveTo>
                        <a:pt x="0" y="1776"/>
                      </a:moveTo>
                      <a:lnTo>
                        <a:pt x="2400" y="240"/>
                      </a:lnTo>
                      <a:lnTo>
                        <a:pt x="1680" y="0"/>
                      </a:lnTo>
                      <a:lnTo>
                        <a:pt x="0" y="17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1f4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763"/>
              <p:cNvSpPr/>
              <p:nvPr/>
            </p:nvSpPr>
            <p:spPr>
              <a:xfrm rot="20066400">
                <a:off x="7618680" y="2322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MS UI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764"/>
            <p:cNvSpPr/>
            <p:nvPr/>
          </p:nvSpPr>
          <p:spPr>
            <a:xfrm flipV="1">
              <a:off x="6584760" y="3463560"/>
              <a:ext cx="228240" cy="685800"/>
            </a:xfrm>
            <a:prstGeom prst="line">
              <a:avLst/>
            </a:prstGeom>
            <a:ln w="5724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65"/>
            <p:cNvSpPr/>
            <p:nvPr/>
          </p:nvSpPr>
          <p:spPr>
            <a:xfrm rot="20097000">
              <a:off x="6495840" y="2856960"/>
              <a:ext cx="837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766"/>
          <p:cNvGrpSpPr/>
          <p:nvPr/>
        </p:nvGrpSpPr>
        <p:grpSpPr>
          <a:xfrm>
            <a:off x="4375080" y="1710000"/>
            <a:ext cx="3657600" cy="3201480"/>
            <a:chOff x="4375080" y="1710000"/>
            <a:chExt cx="3657600" cy="3201480"/>
          </a:xfrm>
        </p:grpSpPr>
        <p:grpSp>
          <p:nvGrpSpPr>
            <p:cNvPr id="205" name="Group 767"/>
            <p:cNvGrpSpPr/>
            <p:nvPr/>
          </p:nvGrpSpPr>
          <p:grpSpPr>
            <a:xfrm>
              <a:off x="4375080" y="1710000"/>
              <a:ext cx="3657600" cy="3201480"/>
              <a:chOff x="4375080" y="1710000"/>
              <a:chExt cx="3657600" cy="3201480"/>
            </a:xfrm>
          </p:grpSpPr>
          <p:sp>
            <p:nvSpPr>
              <p:cNvPr id="206" name="Freeform 768"/>
              <p:cNvSpPr/>
              <p:nvPr/>
            </p:nvSpPr>
            <p:spPr>
              <a:xfrm>
                <a:off x="4375080" y="2396880"/>
                <a:ext cx="3657600" cy="2514600"/>
              </a:xfrm>
              <a:custGeom>
                <a:avLst/>
                <a:gdLst>
                  <a:gd name="textAreaLeft" fmla="*/ 0 w 3657600"/>
                  <a:gd name="textAreaRight" fmla="*/ 3657960 w 3657600"/>
                  <a:gd name="textAreaTop" fmla="*/ 0 h 2514600"/>
                  <a:gd name="textAreaBottom" fmla="*/ 2514960 h 2514600"/>
                </a:gdLst>
                <a:ahLst/>
                <a:rect l="textAreaLeft" t="textAreaTop" r="textAreaRight" b="textAreaBottom"/>
                <a:pathLst>
                  <a:path w="2304" h="1584">
                    <a:moveTo>
                      <a:pt x="0" y="1584"/>
                    </a:moveTo>
                    <a:lnTo>
                      <a:pt x="1776" y="0"/>
                    </a:lnTo>
                    <a:lnTo>
                      <a:pt x="2304" y="0"/>
                    </a:lnTo>
                    <a:lnTo>
                      <a:pt x="2304" y="768"/>
                    </a:lnTo>
                    <a:lnTo>
                      <a:pt x="0" y="15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ed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69"/>
              <p:cNvSpPr/>
              <p:nvPr/>
            </p:nvSpPr>
            <p:spPr>
              <a:xfrm flipH="1" flipV="1">
                <a:off x="5974920" y="3539880"/>
                <a:ext cx="533160" cy="533520"/>
              </a:xfrm>
              <a:prstGeom prst="line">
                <a:avLst/>
              </a:prstGeom>
              <a:ln w="5724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70"/>
              <p:cNvSpPr/>
              <p:nvPr/>
            </p:nvSpPr>
            <p:spPr>
              <a:xfrm rot="19021200">
                <a:off x="5136480" y="300636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771"/>
              <p:cNvSpPr/>
              <p:nvPr/>
            </p:nvSpPr>
            <p:spPr>
              <a:xfrm rot="19021200">
                <a:off x="5975280" y="23961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772"/>
              <p:cNvSpPr/>
              <p:nvPr/>
            </p:nvSpPr>
            <p:spPr>
              <a:xfrm rot="21498000">
                <a:off x="6050880" y="36158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773"/>
              <p:cNvSpPr/>
              <p:nvPr/>
            </p:nvSpPr>
            <p:spPr>
              <a:xfrm rot="19021200">
                <a:off x="6355800" y="2030040"/>
                <a:ext cx="1143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ine 774"/>
            <p:cNvSpPr/>
            <p:nvPr/>
          </p:nvSpPr>
          <p:spPr>
            <a:xfrm flipV="1">
              <a:off x="4375080" y="2778120"/>
              <a:ext cx="236196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75"/>
          <p:cNvSpPr/>
          <p:nvPr/>
        </p:nvSpPr>
        <p:spPr>
          <a:xfrm>
            <a:off x="5529960" y="3084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17"/>
          <p:cNvSpPr/>
          <p:nvPr/>
        </p:nvSpPr>
        <p:spPr>
          <a:xfrm>
            <a:off x="324000" y="3645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折痕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18"/>
          <p:cNvSpPr/>
          <p:nvPr/>
        </p:nvSpPr>
        <p:spPr>
          <a:xfrm>
            <a:off x="3447720" y="4097160"/>
            <a:ext cx="10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即垂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UI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14"/>
          <p:cNvSpPr/>
          <p:nvPr/>
        </p:nvSpPr>
        <p:spPr>
          <a:xfrm>
            <a:off x="324000" y="2205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折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角平分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任意取一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9"/>
          <p:cNvSpPr/>
          <p:nvPr/>
        </p:nvSpPr>
        <p:spPr>
          <a:xfrm>
            <a:off x="684360" y="33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2-08-10T01:07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