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A18-7590-4B97-8204-4C9AE2B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5E4-88BA-43E4-9518-001E40DC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CE7-A530-4E82-B94F-47D34155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9A5-CACD-41C1-9CE3-EC6C4226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303-22CF-4671-BF7D-A7787F00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316-4619-4F47-BD84-0C2C8C0B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9E5-6337-4FBC-B3DE-CEC9FD38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202-002E-450C-A648-D9FAB748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F30-7B28-4B95-BB4A-EF73838F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94F-1501-4F4E-83FC-EDEE937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210-7812-4128-97CB-4238110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625-47F1-4E95-9306-437BBE2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1272-A55E-457B-898C-0CB7B9BE99F9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7.jpeg"/><Relationship Id="rId4" Type="http://schemas.openxmlformats.org/officeDocument/2006/relationships/slide" Target="slide13.xm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六章 概率初步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0120" y="3000240"/>
            <a:ext cx="71042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等可能事件的概率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28840" y="4357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辽宁省沈阳市杏坛北校      陈海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444960" y="285840"/>
            <a:ext cx="3405960" cy="1024920"/>
            <a:chOff x="444960" y="285840"/>
            <a:chExt cx="3405960" cy="1024920"/>
          </a:xfrm>
        </p:grpSpPr>
        <p:sp>
          <p:nvSpPr>
            <p:cNvPr id="158" name="Freeform 5"/>
            <p:cNvSpPr/>
            <p:nvPr/>
          </p:nvSpPr>
          <p:spPr>
            <a:xfrm>
              <a:off x="468360" y="802800"/>
              <a:ext cx="3382560" cy="341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 rot="158400">
              <a:off x="615600" y="419040"/>
              <a:ext cx="880920" cy="639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909720" y="461160"/>
              <a:ext cx="882360" cy="5965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 rot="961200">
              <a:off x="615600" y="333360"/>
              <a:ext cx="441360" cy="6829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1057320" y="334080"/>
              <a:ext cx="734760" cy="1699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42160" y="846000"/>
              <a:ext cx="582120" cy="3841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 rot="1629000">
              <a:off x="468000" y="1111320"/>
              <a:ext cx="224640" cy="1566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2"/>
            <p:cNvSpPr/>
            <p:nvPr/>
          </p:nvSpPr>
          <p:spPr>
            <a:xfrm>
              <a:off x="1351080" y="376200"/>
              <a:ext cx="219240" cy="4284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1340640" y="778320"/>
              <a:ext cx="19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练习提升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Picture 16" descr="高清橘子图片下载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861200">
            <a:off x="1476360" y="1844280"/>
            <a:ext cx="1771560" cy="1571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9793400">
            <a:off x="3780000" y="2923920"/>
            <a:ext cx="2089080" cy="1569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89"/>
          <p:cNvPicPr/>
          <p:nvPr/>
        </p:nvPicPr>
        <p:blipFill>
          <a:blip r:embed="rId6"/>
          <a:stretch/>
        </p:blipFill>
        <p:spPr>
          <a:xfrm rot="19210200">
            <a:off x="1979640" y="479736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shuiguo_daquan-031"/>
          <p:cNvPicPr/>
          <p:nvPr/>
        </p:nvPicPr>
        <p:blipFill>
          <a:blip r:embed="rId7"/>
          <a:stretch/>
        </p:blipFill>
        <p:spPr>
          <a:xfrm rot="1728000">
            <a:off x="6156000" y="3860280"/>
            <a:ext cx="1873080" cy="1590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shuiguo_daquan-047"/>
          <p:cNvPicPr/>
          <p:nvPr/>
        </p:nvPicPr>
        <p:blipFill>
          <a:blip r:embed="rId8"/>
          <a:stretch/>
        </p:blipFill>
        <p:spPr>
          <a:xfrm rot="19874400">
            <a:off x="5651280" y="1125000"/>
            <a:ext cx="2160360" cy="15321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63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1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装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红球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白球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黄球，每个球除颜色外都相同，从中任意摸出一球，则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红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白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黄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5003640" y="335772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076720" y="393372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5076720" y="450864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6800" y="157176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红球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白球，每个球除颜色外都相同。从中任意摸出一球，摸到红球和摸到白球的概率相等吗？如果不等，能否通过改变袋中红球或白球的数量，使摸到的红球和白球的概率相等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42600" y="16002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,B,C,D,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五个字母分别写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张同样的纸条上，并将这些纸条放在一个盒子中。搅匀后从中任意摸出一张，会出现哪些可能的结果？它们是等可能的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张纸签，分别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,1,2,2,3,4,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从中随机地抽出一张，求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纸签的概率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纸签的概率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为奇数的纸签的概率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1388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明所在的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同学，从中选出一名同学为家长会准备工作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请你设计一种方案，使每一名同学被选中的概率相同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学到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收获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50000" y="284040"/>
            <a:ext cx="3402360" cy="955800"/>
            <a:chOff x="450000" y="284040"/>
            <a:chExt cx="3402360" cy="955800"/>
          </a:xfrm>
        </p:grpSpPr>
        <p:sp>
          <p:nvSpPr>
            <p:cNvPr id="188" name="Freeform 5"/>
            <p:cNvSpPr/>
            <p:nvPr/>
          </p:nvSpPr>
          <p:spPr>
            <a:xfrm>
              <a:off x="468360" y="741600"/>
              <a:ext cx="3384000" cy="29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 rot="158400">
              <a:off x="615960" y="40752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909720" y="445320"/>
              <a:ext cx="882720" cy="5191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 rot="961200">
              <a:off x="615600" y="33336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1057320" y="33408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542160" y="779040"/>
              <a:ext cx="587160" cy="333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 rot="1629000">
              <a:off x="468360" y="100980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1351440" y="37044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341000" y="71928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随堂小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计两个概率为－的游戏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预习下一课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450000" y="284040"/>
            <a:ext cx="3402360" cy="955800"/>
            <a:chOff x="450000" y="284040"/>
            <a:chExt cx="3402360" cy="955800"/>
          </a:xfrm>
        </p:grpSpPr>
        <p:sp>
          <p:nvSpPr>
            <p:cNvPr id="199" name="Freeform 6"/>
            <p:cNvSpPr/>
            <p:nvPr/>
          </p:nvSpPr>
          <p:spPr>
            <a:xfrm>
              <a:off x="468360" y="741600"/>
              <a:ext cx="3384000" cy="29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 rot="158400">
              <a:off x="615960" y="40752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909720" y="445320"/>
              <a:ext cx="882720" cy="5191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 rot="961200">
              <a:off x="615600" y="33336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0"/>
            <p:cNvSpPr/>
            <p:nvPr/>
          </p:nvSpPr>
          <p:spPr>
            <a:xfrm>
              <a:off x="1057320" y="33408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542160" y="779040"/>
              <a:ext cx="587160" cy="333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 rot="1629000">
              <a:off x="468360" y="100980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1351440" y="37044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1341000" y="71928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课后作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450396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500720" y="184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116000" y="1844640"/>
            <a:ext cx="6676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学习不断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400" y="2708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任意掷一枚均匀的硬币，可能出现哪些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果？每种结果出现的可能性相同吗？正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朝上的概率是多少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650520" y="796680"/>
            <a:ext cx="3200760" cy="1268640"/>
            <a:chOff x="650520" y="796680"/>
            <a:chExt cx="3200760" cy="1268640"/>
          </a:xfrm>
        </p:grpSpPr>
        <p:sp>
          <p:nvSpPr>
            <p:cNvPr id="47" name="Freeform 5"/>
            <p:cNvSpPr/>
            <p:nvPr/>
          </p:nvSpPr>
          <p:spPr>
            <a:xfrm>
              <a:off x="684360" y="1435320"/>
              <a:ext cx="316692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 rot="158400">
              <a:off x="821880" y="945720"/>
              <a:ext cx="82440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1097280" y="1001160"/>
              <a:ext cx="82584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 rot="961200">
              <a:off x="821880" y="83664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1235520" y="837720"/>
              <a:ext cx="68760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753120" y="1490400"/>
              <a:ext cx="54936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 rot="1629000">
              <a:off x="684360" y="182844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1510560" y="891360"/>
              <a:ext cx="20520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1501200" y="1404000"/>
              <a:ext cx="185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回顾思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Picture 15" descr="DIMECLR"/>
          <p:cNvPicPr/>
          <p:nvPr/>
        </p:nvPicPr>
        <p:blipFill>
          <a:blip r:embed="rId2"/>
          <a:stretch/>
        </p:blipFill>
        <p:spPr>
          <a:xfrm>
            <a:off x="4356000" y="4797360"/>
            <a:ext cx="172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球，分别标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号码，这些球除号码外都相同，搅匀后任意摸出一个球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会出现哪些可能的结果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每个结果出现的可能性相同吗？猜一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们的概率分别是多少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23960" y="424440"/>
            <a:ext cx="3847680" cy="1290600"/>
            <a:chOff x="723960" y="424440"/>
            <a:chExt cx="3847680" cy="1290600"/>
          </a:xfrm>
        </p:grpSpPr>
        <p:sp>
          <p:nvSpPr>
            <p:cNvPr id="59" name="Freeform 5"/>
            <p:cNvSpPr/>
            <p:nvPr/>
          </p:nvSpPr>
          <p:spPr>
            <a:xfrm>
              <a:off x="755640" y="1074960"/>
              <a:ext cx="381600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 rot="158400">
              <a:off x="921960" y="585720"/>
              <a:ext cx="99360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1253520" y="640800"/>
              <a:ext cx="9954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 rot="961200">
              <a:off x="921600" y="475920"/>
              <a:ext cx="49788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>
              <a:off x="1419840" y="477360"/>
              <a:ext cx="82872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>
              <a:off x="838800" y="1130040"/>
              <a:ext cx="66420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rot="1629000">
              <a:off x="755280" y="1468440"/>
              <a:ext cx="2534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751400" y="531000"/>
              <a:ext cx="24768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739880" y="1043640"/>
              <a:ext cx="223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创设情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0326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前面我们提到的抛硬币，掷骰子和前面的摸球游戏有什么共同点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655560" y="208800"/>
            <a:ext cx="3773160" cy="1218240"/>
            <a:chOff x="655560" y="208800"/>
            <a:chExt cx="3773160" cy="1218240"/>
          </a:xfrm>
        </p:grpSpPr>
        <p:sp>
          <p:nvSpPr>
            <p:cNvPr id="70" name="Freeform 5"/>
            <p:cNvSpPr/>
            <p:nvPr/>
          </p:nvSpPr>
          <p:spPr>
            <a:xfrm>
              <a:off x="684360" y="824400"/>
              <a:ext cx="374436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58400">
              <a:off x="847080" y="363240"/>
              <a:ext cx="974880" cy="7668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7"/>
            <p:cNvSpPr/>
            <p:nvPr/>
          </p:nvSpPr>
          <p:spPr>
            <a:xfrm>
              <a:off x="1172880" y="416160"/>
              <a:ext cx="976680" cy="7138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 rot="961200">
              <a:off x="847080" y="260280"/>
              <a:ext cx="488520" cy="8197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9"/>
            <p:cNvSpPr/>
            <p:nvPr/>
          </p:nvSpPr>
          <p:spPr>
            <a:xfrm>
              <a:off x="1336320" y="261360"/>
              <a:ext cx="813240" cy="203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765720" y="874800"/>
              <a:ext cx="649800" cy="4604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1"/>
            <p:cNvSpPr/>
            <p:nvPr/>
          </p:nvSpPr>
          <p:spPr>
            <a:xfrm rot="1629000">
              <a:off x="684000" y="1194120"/>
              <a:ext cx="248760" cy="18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1661400" y="311760"/>
              <a:ext cx="243000" cy="514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1649880" y="792360"/>
              <a:ext cx="219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学习新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14" descr="123"/>
          <p:cNvPicPr/>
          <p:nvPr/>
        </p:nvPicPr>
        <p:blipFill>
          <a:blip r:embed="rId2"/>
          <a:stretch/>
        </p:blipFill>
        <p:spPr>
          <a:xfrm>
            <a:off x="7236000" y="476280"/>
            <a:ext cx="1439640" cy="122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9"/>
          <p:cNvSpPr/>
          <p:nvPr/>
        </p:nvSpPr>
        <p:spPr>
          <a:xfrm>
            <a:off x="2372040" y="278604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一个实验的所有可能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，每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试验有且只有其中的一个结果出现。如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个结果出现的可能性相同，那么我们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这个试验的结果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等可能的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826920" y="4941720"/>
            <a:ext cx="69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找一些结果是等可能的实验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般地，如果一个试验有</a:t>
            </a:r>
            <a:r>
              <a:rPr b="1" lang="en-US" sz="3200" spc="-1" strike="noStrike">
                <a:solidFill>
                  <a:srgbClr val="d43acd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等可能的结果，事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包含其中的</a:t>
            </a:r>
            <a:r>
              <a:rPr b="1" lang="en-US" sz="3200" spc="-1" strike="noStrike">
                <a:solidFill>
                  <a:srgbClr val="d43acd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结果，那么事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生的概率为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1" lang="en-US" sz="66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84" name="Freeform 5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学习新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5437800" y="37162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acd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09800" y="429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acd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96" name="Freeform 18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牛刀小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Text Box 27"/>
          <p:cNvSpPr/>
          <p:nvPr/>
        </p:nvSpPr>
        <p:spPr>
          <a:xfrm>
            <a:off x="152712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1984320" y="1773360"/>
            <a:ext cx="49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：任意掷一枚均匀骰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概率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是偶数的概率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252160" y="3716280"/>
            <a:ext cx="527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任意掷一枚均匀骰子，所有可能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,2,3,4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,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因为骰子是均匀的，所以每种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出现的可能性相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30360" y="21283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结果只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,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—=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是偶数的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,4,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是偶数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—=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110" name="Freeform 5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2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牛刀小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6698520" y="311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682680" y="3484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239600" y="3098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7310520" y="3484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725520" y="50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725520" y="47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7325640" y="50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 flipV="1" rot="10800000">
            <a:off x="7332840" y="470628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165840" y="1143000"/>
            <a:ext cx="25581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如下图，盒子里装有三个红球和一个白球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它们除颜色外完全相同。小明从盒中任意摸出一球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请你求出摸出红球的概率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661680" y="64440"/>
            <a:ext cx="3622680" cy="1034280"/>
            <a:chOff x="661680" y="64440"/>
            <a:chExt cx="3622680" cy="1034280"/>
          </a:xfrm>
        </p:grpSpPr>
        <p:sp>
          <p:nvSpPr>
            <p:cNvPr id="129" name="Freeform 13"/>
            <p:cNvSpPr/>
            <p:nvPr/>
          </p:nvSpPr>
          <p:spPr>
            <a:xfrm>
              <a:off x="684360" y="585360"/>
              <a:ext cx="3600000" cy="343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 rot="158400">
              <a:off x="840960" y="201960"/>
              <a:ext cx="937440" cy="6411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153800" y="246240"/>
              <a:ext cx="938880" cy="5968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 rot="961200">
              <a:off x="840960" y="115920"/>
              <a:ext cx="469440" cy="684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311120" y="116640"/>
              <a:ext cx="781920" cy="1702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762840" y="630360"/>
              <a:ext cx="621360" cy="3841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 rot="1629000">
              <a:off x="684000" y="895680"/>
              <a:ext cx="239040" cy="156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1623600" y="158760"/>
              <a:ext cx="233640" cy="4284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1612800" y="560520"/>
              <a:ext cx="211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游戏环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矩形 12"/>
          <p:cNvSpPr/>
          <p:nvPr/>
        </p:nvSpPr>
        <p:spPr>
          <a:xfrm>
            <a:off x="2143080" y="5357880"/>
            <a:ext cx="2786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2286000" y="5429160"/>
            <a:ext cx="26431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1187280" y="3068640"/>
          <a:ext cx="626436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068640"/>
                    <a:ext cx="6264360" cy="302436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39640" y="1125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请同学们分组进行摸球试验，并完成下表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666000" y="139680"/>
            <a:ext cx="3402360" cy="955440"/>
            <a:chOff x="666000" y="139680"/>
            <a:chExt cx="3402360" cy="955440"/>
          </a:xfrm>
        </p:grpSpPr>
        <p:sp>
          <p:nvSpPr>
            <p:cNvPr id="144" name="Freeform 7"/>
            <p:cNvSpPr/>
            <p:nvPr/>
          </p:nvSpPr>
          <p:spPr>
            <a:xfrm>
              <a:off x="684360" y="596880"/>
              <a:ext cx="3384000" cy="29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 rot="158400">
              <a:off x="831960" y="26316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1125720" y="300960"/>
              <a:ext cx="882720" cy="5187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 rot="961200">
              <a:off x="831600" y="18900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1273320" y="18972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758160" y="634680"/>
              <a:ext cx="587160" cy="3330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 rot="1629000">
              <a:off x="684360" y="86508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1567440" y="22608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1557000" y="57456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游戏环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19"/>
          <p:cNvSpPr/>
          <p:nvPr/>
        </p:nvSpPr>
        <p:spPr>
          <a:xfrm>
            <a:off x="324000" y="4797360"/>
            <a:ext cx="9036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为什么实验的结果和前面同学所求概率相差很大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324000" y="5589720"/>
            <a:ext cx="8065800" cy="792000"/>
          </a:xfrm>
          <a:prstGeom prst="ellipse">
            <a:avLst/>
          </a:prstGeom>
          <a:solidFill>
            <a:srgbClr val="41cb4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实验的次数越多，实验结果越接近正确结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ShockwaveFlash1"/>
          <p:cNvGraphicFramePr/>
          <p:nvPr/>
        </p:nvGraphicFramePr>
        <p:xfrm>
          <a:off x="1476360" y="1628640"/>
          <a:ext cx="61214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628640"/>
                    <a:ext cx="6121440" cy="309564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3:12Z</dcterms:modified>
  <cp:revision>92</cp:revision>
  <dc:subject/>
  <dc:title>第六章 概率初步 </dc:title>
</cp:coreProperties>
</file>