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B39-EFBF-4B73-BB75-58104424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D48-B3DB-4306-B254-130BA83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2EA-844C-444F-B038-5B188D52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A1F-1CF9-4F6D-95DF-A0F9E5DE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DC3D-9499-4907-A33D-2DB54A98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9BC8-4291-4176-8699-383EFE60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6B68-8665-442B-AF27-D35AE1B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9924-C48A-4BCF-A84A-A2CB679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28F-2FC9-4053-A9AD-50AB1FB4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9CAE-1189-4717-AA8B-B59B3901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FF15-18C5-4F40-B843-8B51DCD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90C-ABCA-4F30-9B22-E1C976FC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2799-2E42-4318-93E9-6B9269E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09A9-4989-43BE-A9E8-63C3309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075-FBCA-42E0-9D93-8FC2111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5DA-A73F-412D-9F99-A806DAA8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19B1-445B-4B32-A2F3-5836E840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2ECB-1B74-4BD7-B7EF-D7A4EAD4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A55C-0FFE-4FA5-8AC3-2C6AE2B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A64C-E49C-4D57-B7EC-A74C147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172D-7B9F-4C85-A92D-955DD07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4D7D-1288-4F3C-A25A-D24A99BD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078-3B43-476F-BED1-36F7325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FE5C-5782-4339-AB06-68D9877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8B24-081D-4C9B-8061-D760BFC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2278-5015-4AA6-B252-EF78964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2E2B-CCE1-4BB0-9BA3-DCDD077D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2599-D961-46D2-A4B7-2086FF6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4881-74F5-43E0-A932-A99FB5C7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0DB4-1BB7-4CAC-B4E5-57F65820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C04-9201-4950-88F7-2D3AAC5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9B9-5D1E-4816-8642-BE80A0ED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883-3528-4566-B164-49BCC4B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AFD-1A14-4DA7-AAAC-8567362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CED-9DC0-4DB2-9E60-85FCADA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4C2-7D08-42FE-8701-5DF3038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7175-3B15-4D40-8EA0-F919CE1A9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D3DF-AFE2-4BAB-B489-01BC8D27C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AEB-0AC7-4689-A3E7-95FE39F327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8" descr=""/>
          <p:cNvPicPr/>
          <p:nvPr/>
        </p:nvPicPr>
        <p:blipFill>
          <a:blip r:embed="rId1"/>
          <a:stretch/>
        </p:blipFill>
        <p:spPr>
          <a:xfrm>
            <a:off x="2762280" y="1689120"/>
            <a:ext cx="5278320" cy="12430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0"/>
          <p:cNvSpPr/>
          <p:nvPr/>
        </p:nvSpPr>
        <p:spPr>
          <a:xfrm>
            <a:off x="5003640" y="3933720"/>
            <a:ext cx="1524240" cy="13716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080" h="1080">
                <a:moveTo>
                  <a:pt x="540" y="0"/>
                </a:moveTo>
                <a:lnTo>
                  <a:pt x="0" y="540"/>
                </a:lnTo>
                <a:lnTo>
                  <a:pt x="540" y="1080"/>
                </a:lnTo>
                <a:lnTo>
                  <a:pt x="1080" y="540"/>
                </a:lnTo>
                <a:lnTo>
                  <a:pt x="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4"/>
          <p:cNvGrpSpPr/>
          <p:nvPr/>
        </p:nvGrpSpPr>
        <p:grpSpPr>
          <a:xfrm>
            <a:off x="3456000" y="525600"/>
            <a:ext cx="3222360" cy="993240"/>
            <a:chOff x="3456000" y="525600"/>
            <a:chExt cx="3222360" cy="993240"/>
          </a:xfrm>
        </p:grpSpPr>
        <p:sp>
          <p:nvSpPr>
            <p:cNvPr id="400" name="Oval 5"/>
            <p:cNvSpPr/>
            <p:nvPr/>
          </p:nvSpPr>
          <p:spPr>
            <a:xfrm>
              <a:off x="3456000" y="525600"/>
              <a:ext cx="3222360" cy="993240"/>
            </a:xfrm>
            <a:prstGeom prst="ellipse">
              <a:avLst/>
            </a:prstGeom>
            <a:solidFill>
              <a:srgbClr val="4f81bd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3870720" y="691920"/>
              <a:ext cx="228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拓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8"/>
          <p:cNvSpPr/>
          <p:nvPr/>
        </p:nvSpPr>
        <p:spPr>
          <a:xfrm>
            <a:off x="612720" y="2874960"/>
            <a:ext cx="5724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如图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在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BC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中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BC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厘米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AC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厘米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 AB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．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厘米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∠B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36°,∠C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44°,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请你选择适当数据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画与△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BC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全等的三角形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用三种方法画图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不写做法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但要从所画的三角形中标出用到的数据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6229440" y="2801880"/>
            <a:ext cx="3527280" cy="1827360"/>
            <a:chOff x="6229440" y="2801880"/>
            <a:chExt cx="3527280" cy="1827360"/>
          </a:xfrm>
        </p:grpSpPr>
        <p:sp>
          <p:nvSpPr>
            <p:cNvPr id="404" name="Text Box 13"/>
            <p:cNvSpPr/>
            <p:nvPr/>
          </p:nvSpPr>
          <p:spPr>
            <a:xfrm>
              <a:off x="8964720" y="3954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9"/>
            <p:cNvSpPr/>
            <p:nvPr/>
          </p:nvSpPr>
          <p:spPr>
            <a:xfrm>
              <a:off x="6572160" y="42336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"/>
            <p:cNvSpPr/>
            <p:nvPr/>
          </p:nvSpPr>
          <p:spPr>
            <a:xfrm>
              <a:off x="8156520" y="3225600"/>
              <a:ext cx="79200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1"/>
            <p:cNvSpPr/>
            <p:nvPr/>
          </p:nvSpPr>
          <p:spPr>
            <a:xfrm flipV="1">
              <a:off x="6572160" y="3225600"/>
              <a:ext cx="158436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2"/>
            <p:cNvSpPr/>
            <p:nvPr/>
          </p:nvSpPr>
          <p:spPr>
            <a:xfrm>
              <a:off x="7886520" y="280188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4"/>
            <p:cNvSpPr/>
            <p:nvPr/>
          </p:nvSpPr>
          <p:spPr>
            <a:xfrm>
              <a:off x="6229440" y="39448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5"/>
            <p:cNvSpPr/>
            <p:nvPr/>
          </p:nvSpPr>
          <p:spPr>
            <a:xfrm rot="19972200">
              <a:off x="6689880" y="3306240"/>
              <a:ext cx="14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．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6"/>
            <p:cNvSpPr/>
            <p:nvPr/>
          </p:nvSpPr>
          <p:spPr>
            <a:xfrm>
              <a:off x="7277040" y="423036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7"/>
            <p:cNvSpPr/>
            <p:nvPr/>
          </p:nvSpPr>
          <p:spPr>
            <a:xfrm rot="3262800">
              <a:off x="8136360" y="3449160"/>
              <a:ext cx="12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612720" y="1433520"/>
            <a:ext cx="2556000" cy="1384200"/>
            <a:chOff x="612720" y="1433520"/>
            <a:chExt cx="2556000" cy="1384200"/>
          </a:xfrm>
        </p:grpSpPr>
        <p:sp>
          <p:nvSpPr>
            <p:cNvPr id="414" name="PubOvalCallout"/>
            <p:cNvSpPr/>
            <p:nvPr/>
          </p:nvSpPr>
          <p:spPr>
            <a:xfrm>
              <a:off x="612720" y="1433520"/>
              <a:ext cx="2556000" cy="1384200"/>
            </a:xfrm>
            <a:custGeom>
              <a:avLst/>
              <a:gdLst>
                <a:gd name="textAreaLeft" fmla="*/ 374400 w 2556000"/>
                <a:gd name="textAreaRight" fmla="*/ 2181600 w 2556000"/>
                <a:gd name="textAreaTop" fmla="*/ 152280 h 1384200"/>
                <a:gd name="textAreaBottom" fmla="*/ 887400 h 13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close/>
                </a:path>
              </a:pathLst>
            </a:cu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689040" y="1596960"/>
              <a:ext cx="24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新思维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7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9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1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77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770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Line 4"/>
          <p:cNvSpPr/>
          <p:nvPr/>
        </p:nvSpPr>
        <p:spPr>
          <a:xfrm>
            <a:off x="2155680" y="5821200"/>
            <a:ext cx="38163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795320" y="5965920"/>
            <a:ext cx="1584360" cy="366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854360" y="58244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454720" y="58626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rc 9"/>
          <p:cNvSpPr/>
          <p:nvPr/>
        </p:nvSpPr>
        <p:spPr>
          <a:xfrm rot="376800">
            <a:off x="5106600" y="5533920"/>
            <a:ext cx="73080" cy="695520"/>
          </a:xfrm>
          <a:custGeom>
            <a:avLst/>
            <a:gdLst>
              <a:gd name="textAreaLeft" fmla="*/ 0 w 73080"/>
              <a:gd name="textAreaRight" fmla="*/ 73080 w 7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fill="none" w="21557" h="20885">
                <a:moveTo>
                  <a:pt x="5512" y="0"/>
                </a:moveTo>
                <a:cubicBezTo>
                  <a:pt x="14504" y="2373"/>
                  <a:pt x="20968" y="10236"/>
                  <a:pt x="21556" y="19518"/>
                </a:cubicBezTo>
              </a:path>
              <a:path stroke="0" w="21557" h="20885">
                <a:moveTo>
                  <a:pt x="5512" y="0"/>
                </a:moveTo>
                <a:cubicBezTo>
                  <a:pt x="14504" y="2373"/>
                  <a:pt x="20968" y="10236"/>
                  <a:pt x="21556" y="19518"/>
                </a:cubicBezTo>
                <a:lnTo>
                  <a:pt x="0" y="20885"/>
                </a:lnTo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959360" y="57294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3329640" y="12841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以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为圆心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, 3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厘米为半径画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3185280" y="18604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以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为圆心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.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厘米为半径画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3159000" y="25099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弧相交于点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798560" y="29750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连接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AB,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3634560" y="3589200"/>
            <a:ext cx="39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则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为所求作的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1938240" y="6364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）做线段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27"/>
          <p:cNvGrpSpPr/>
          <p:nvPr/>
        </p:nvGrpSpPr>
        <p:grpSpPr>
          <a:xfrm>
            <a:off x="679320" y="996840"/>
            <a:ext cx="1382760" cy="2052720"/>
            <a:chOff x="679320" y="996840"/>
            <a:chExt cx="1382760" cy="2052720"/>
          </a:xfrm>
        </p:grpSpPr>
        <p:sp>
          <p:nvSpPr>
            <p:cNvPr id="429" name="Oval 19"/>
            <p:cNvSpPr/>
            <p:nvPr/>
          </p:nvSpPr>
          <p:spPr>
            <a:xfrm rot="5400000">
              <a:off x="376200" y="1555560"/>
              <a:ext cx="2052720" cy="935280"/>
            </a:xfrm>
            <a:prstGeom prst="ellipse">
              <a:avLst/>
            </a:prstGeom>
            <a:solidFill>
              <a:srgbClr val="00b200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0"/>
            <p:cNvSpPr/>
            <p:nvPr/>
          </p:nvSpPr>
          <p:spPr>
            <a:xfrm>
              <a:off x="679320" y="1280880"/>
              <a:ext cx="1382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作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rc 22"/>
          <p:cNvSpPr/>
          <p:nvPr/>
        </p:nvSpPr>
        <p:spPr>
          <a:xfrm flipH="1" rot="20035200">
            <a:off x="4026960" y="4165560"/>
            <a:ext cx="1467000" cy="1707120"/>
          </a:xfrm>
          <a:custGeom>
            <a:avLst/>
            <a:gdLst>
              <a:gd name="textAreaLeft" fmla="*/ 0 w 1467000"/>
              <a:gd name="textAreaRight" fmla="*/ 1467000 w 1467000"/>
              <a:gd name="textAreaTop" fmla="*/ 0 h 1707120"/>
              <a:gd name="textAreaBottom" fmla="*/ 1707480 h 1707120"/>
            </a:gdLst>
            <a:ahLst/>
            <a:rect l="textAreaLeft" t="textAreaTop" r="textAreaRight" b="textAreaBottom"/>
            <a:pathLst>
              <a:path fill="none" w="20142" h="21600">
                <a:moveTo>
                  <a:pt x="0" y="795"/>
                </a:moveTo>
                <a:cubicBezTo>
                  <a:pt x="1890" y="267"/>
                  <a:pt x="3844" y="-1"/>
                  <a:pt x="5807" y="0"/>
                </a:cubicBezTo>
                <a:cubicBezTo>
                  <a:pt x="11090" y="0"/>
                  <a:pt x="16189" y="1936"/>
                  <a:pt x="20141" y="5442"/>
                </a:cubicBezTo>
              </a:path>
              <a:path stroke="0" w="20142" h="21600">
                <a:moveTo>
                  <a:pt x="0" y="795"/>
                </a:moveTo>
                <a:cubicBezTo>
                  <a:pt x="1890" y="267"/>
                  <a:pt x="3844" y="-1"/>
                  <a:pt x="5807" y="0"/>
                </a:cubicBezTo>
                <a:cubicBezTo>
                  <a:pt x="11090" y="0"/>
                  <a:pt x="16189" y="1936"/>
                  <a:pt x="20141" y="5442"/>
                </a:cubicBezTo>
                <a:lnTo>
                  <a:pt x="5807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rc 23"/>
          <p:cNvSpPr/>
          <p:nvPr/>
        </p:nvSpPr>
        <p:spPr>
          <a:xfrm rot="469800">
            <a:off x="2279160" y="4109760"/>
            <a:ext cx="2136960" cy="1815840"/>
          </a:xfrm>
          <a:custGeom>
            <a:avLst/>
            <a:gdLst>
              <a:gd name="textAreaLeft" fmla="*/ 0 w 2136960"/>
              <a:gd name="textAreaRight" fmla="*/ 2137320 w 21369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fill="none" w="19427" h="18741">
                <a:moveTo>
                  <a:pt x="10739" y="-1"/>
                </a:moveTo>
                <a:cubicBezTo>
                  <a:pt x="14503" y="2156"/>
                  <a:pt x="17531" y="5397"/>
                  <a:pt x="19427" y="9299"/>
                </a:cubicBezTo>
              </a:path>
              <a:path stroke="0" w="19427" h="18741">
                <a:moveTo>
                  <a:pt x="10739" y="-1"/>
                </a:moveTo>
                <a:cubicBezTo>
                  <a:pt x="14503" y="2156"/>
                  <a:pt x="17531" y="5397"/>
                  <a:pt x="19427" y="9299"/>
                </a:cubicBezTo>
                <a:lnTo>
                  <a:pt x="0" y="1874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4"/>
          <p:cNvSpPr/>
          <p:nvPr/>
        </p:nvSpPr>
        <p:spPr>
          <a:xfrm flipV="1">
            <a:off x="2155680" y="4668480"/>
            <a:ext cx="19432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5"/>
          <p:cNvSpPr/>
          <p:nvPr/>
        </p:nvSpPr>
        <p:spPr>
          <a:xfrm>
            <a:off x="4108320" y="4643280"/>
            <a:ext cx="1081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3595680" y="40924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1"/>
          <p:cNvGrpSpPr/>
          <p:nvPr/>
        </p:nvGrpSpPr>
        <p:grpSpPr>
          <a:xfrm>
            <a:off x="930240" y="4092480"/>
            <a:ext cx="936720" cy="1944720"/>
            <a:chOff x="930240" y="4092480"/>
            <a:chExt cx="936720" cy="1944720"/>
          </a:xfrm>
        </p:grpSpPr>
        <p:sp>
          <p:nvSpPr>
            <p:cNvPr id="437" name="Oval 28"/>
            <p:cNvSpPr/>
            <p:nvPr/>
          </p:nvSpPr>
          <p:spPr>
            <a:xfrm>
              <a:off x="996480" y="4092480"/>
              <a:ext cx="804240" cy="1944720"/>
            </a:xfrm>
            <a:prstGeom prst="ellipse">
              <a:avLst/>
            </a:prstGeom>
            <a:solidFill>
              <a:srgbClr val="00b200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30"/>
            <p:cNvSpPr/>
            <p:nvPr/>
          </p:nvSpPr>
          <p:spPr>
            <a:xfrm>
              <a:off x="930240" y="4457160"/>
              <a:ext cx="93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示范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612720" y="115920"/>
            <a:ext cx="3095640" cy="1168200"/>
            <a:chOff x="612720" y="115920"/>
            <a:chExt cx="3095640" cy="1168200"/>
          </a:xfrm>
        </p:grpSpPr>
        <p:sp>
          <p:nvSpPr>
            <p:cNvPr id="440" name="PubOvalCallout"/>
            <p:cNvSpPr/>
            <p:nvPr/>
          </p:nvSpPr>
          <p:spPr>
            <a:xfrm>
              <a:off x="612720" y="115920"/>
              <a:ext cx="3095640" cy="1168200"/>
            </a:xfrm>
            <a:custGeom>
              <a:avLst/>
              <a:gdLst>
                <a:gd name="textAreaLeft" fmla="*/ 453960 w 3095640"/>
                <a:gd name="textAreaRight" fmla="*/ 2641680 w 3095640"/>
                <a:gd name="textAreaTop" fmla="*/ 128520 h 1168200"/>
                <a:gd name="textAreaBottom" fmla="*/ 747720 h 116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close/>
                </a:path>
              </a:pathLst>
            </a:cu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"/>
            <p:cNvSpPr/>
            <p:nvPr/>
          </p:nvSpPr>
          <p:spPr>
            <a:xfrm>
              <a:off x="757080" y="188640"/>
              <a:ext cx="295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竞赛趣味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5"/>
          <p:cNvSpPr/>
          <p:nvPr/>
        </p:nvSpPr>
        <p:spPr>
          <a:xfrm>
            <a:off x="3637080" y="260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已知：线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锐角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468360" y="213192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求作：△ＡＢＣ，使ＡＢ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 ，角平分线ＡＤ＝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7"/>
          <p:cNvGrpSpPr/>
          <p:nvPr/>
        </p:nvGrpSpPr>
        <p:grpSpPr>
          <a:xfrm>
            <a:off x="6337440" y="620280"/>
            <a:ext cx="2016000" cy="1623240"/>
            <a:chOff x="6337440" y="620280"/>
            <a:chExt cx="2016000" cy="1623240"/>
          </a:xfrm>
        </p:grpSpPr>
        <p:sp>
          <p:nvSpPr>
            <p:cNvPr id="445" name="Line 8"/>
            <p:cNvSpPr/>
            <p:nvPr/>
          </p:nvSpPr>
          <p:spPr>
            <a:xfrm>
              <a:off x="6337440" y="220500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9"/>
            <p:cNvSpPr/>
            <p:nvPr/>
          </p:nvSpPr>
          <p:spPr>
            <a:xfrm flipV="1">
              <a:off x="6337440" y="620280"/>
              <a:ext cx="158400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rc 10"/>
            <p:cNvSpPr/>
            <p:nvPr/>
          </p:nvSpPr>
          <p:spPr>
            <a:xfrm>
              <a:off x="6481800" y="2060640"/>
              <a:ext cx="70920" cy="1443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337440" y="184464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2"/>
          <p:cNvGrpSpPr/>
          <p:nvPr/>
        </p:nvGrpSpPr>
        <p:grpSpPr>
          <a:xfrm>
            <a:off x="1512720" y="1197000"/>
            <a:ext cx="2373480" cy="531720"/>
            <a:chOff x="1512720" y="1197000"/>
            <a:chExt cx="2373480" cy="531720"/>
          </a:xfrm>
        </p:grpSpPr>
        <p:sp>
          <p:nvSpPr>
            <p:cNvPr id="450" name="Line 13"/>
            <p:cNvSpPr/>
            <p:nvPr/>
          </p:nvSpPr>
          <p:spPr>
            <a:xfrm flipV="1">
              <a:off x="1512720" y="1706400"/>
              <a:ext cx="2373480" cy="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4"/>
            <p:cNvSpPr/>
            <p:nvPr/>
          </p:nvSpPr>
          <p:spPr>
            <a:xfrm flipV="1">
              <a:off x="3857760" y="1628280"/>
              <a:ext cx="0" cy="73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5"/>
            <p:cNvSpPr/>
            <p:nvPr/>
          </p:nvSpPr>
          <p:spPr>
            <a:xfrm>
              <a:off x="2417760" y="1197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6"/>
            <p:cNvSpPr/>
            <p:nvPr/>
          </p:nvSpPr>
          <p:spPr>
            <a:xfrm flipV="1">
              <a:off x="1554120" y="1628280"/>
              <a:ext cx="0" cy="73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7"/>
          <p:cNvGrpSpPr/>
          <p:nvPr/>
        </p:nvGrpSpPr>
        <p:grpSpPr>
          <a:xfrm>
            <a:off x="4024440" y="1306440"/>
            <a:ext cx="2003040" cy="450360"/>
            <a:chOff x="4024440" y="1306440"/>
            <a:chExt cx="2003040" cy="450360"/>
          </a:xfrm>
        </p:grpSpPr>
        <p:sp>
          <p:nvSpPr>
            <p:cNvPr id="455" name="Line 18"/>
            <p:cNvSpPr/>
            <p:nvPr/>
          </p:nvSpPr>
          <p:spPr>
            <a:xfrm flipV="1">
              <a:off x="4024440" y="1729080"/>
              <a:ext cx="2003040" cy="2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4461480" y="1306440"/>
              <a:ext cx="119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0"/>
            <p:cNvSpPr/>
            <p:nvPr/>
          </p:nvSpPr>
          <p:spPr>
            <a:xfrm flipV="1">
              <a:off x="5991120" y="1675440"/>
              <a:ext cx="0" cy="5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1"/>
            <p:cNvSpPr/>
            <p:nvPr/>
          </p:nvSpPr>
          <p:spPr>
            <a:xfrm flipV="1">
              <a:off x="4065120" y="1693440"/>
              <a:ext cx="0" cy="558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Line 22"/>
          <p:cNvSpPr/>
          <p:nvPr/>
        </p:nvSpPr>
        <p:spPr>
          <a:xfrm flipV="1">
            <a:off x="2822400" y="5113080"/>
            <a:ext cx="468180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1908000" y="52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6840360" y="501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25"/>
          <p:cNvSpPr/>
          <p:nvPr/>
        </p:nvSpPr>
        <p:spPr>
          <a:xfrm>
            <a:off x="6408720" y="1038240"/>
            <a:ext cx="1077840" cy="239076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0203" h="21092">
                <a:moveTo>
                  <a:pt x="4655" y="-1"/>
                </a:moveTo>
                <a:cubicBezTo>
                  <a:pt x="11775" y="1571"/>
                  <a:pt x="17623" y="6629"/>
                  <a:pt x="20202" y="13450"/>
                </a:cubicBezTo>
              </a:path>
              <a:path stroke="0" w="20203" h="21092">
                <a:moveTo>
                  <a:pt x="4655" y="-1"/>
                </a:moveTo>
                <a:cubicBezTo>
                  <a:pt x="11775" y="1571"/>
                  <a:pt x="17623" y="6629"/>
                  <a:pt x="20202" y="13450"/>
                </a:cubicBezTo>
                <a:lnTo>
                  <a:pt x="0" y="2109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rc 26"/>
          <p:cNvSpPr/>
          <p:nvPr/>
        </p:nvSpPr>
        <p:spPr>
          <a:xfrm>
            <a:off x="2975040" y="4046400"/>
            <a:ext cx="1077840" cy="239076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0203" h="21092">
                <a:moveTo>
                  <a:pt x="4655" y="-1"/>
                </a:moveTo>
                <a:cubicBezTo>
                  <a:pt x="11775" y="1571"/>
                  <a:pt x="17623" y="6629"/>
                  <a:pt x="20202" y="13450"/>
                </a:cubicBezTo>
              </a:path>
              <a:path stroke="0" w="20203" h="21092">
                <a:moveTo>
                  <a:pt x="4655" y="-1"/>
                </a:moveTo>
                <a:cubicBezTo>
                  <a:pt x="11775" y="1571"/>
                  <a:pt x="17623" y="6629"/>
                  <a:pt x="20202" y="13450"/>
                </a:cubicBezTo>
                <a:lnTo>
                  <a:pt x="0" y="2109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rc 27"/>
          <p:cNvSpPr/>
          <p:nvPr/>
        </p:nvSpPr>
        <p:spPr>
          <a:xfrm flipV="1" rot="11098800">
            <a:off x="3279240" y="4426920"/>
            <a:ext cx="776520" cy="1080720"/>
          </a:xfrm>
          <a:custGeom>
            <a:avLst/>
            <a:gdLst>
              <a:gd name="textAreaLeft" fmla="*/ 0 w 776520"/>
              <a:gd name="textAreaRight" fmla="*/ 776880 w 776520"/>
              <a:gd name="textAreaTop" fmla="*/ 360 h 1080720"/>
              <a:gd name="textAreaBottom" fmla="*/ 1081440 h 1080720"/>
            </a:gdLst>
            <a:ahLst/>
            <a:rect l="textAreaLeft" t="textAreaTop" r="textAreaRight" b="textAreaBottom"/>
            <a:pathLst>
              <a:path fill="none" w="15299" h="21600">
                <a:moveTo>
                  <a:pt x="-1" y="0"/>
                </a:moveTo>
                <a:cubicBezTo>
                  <a:pt x="5741" y="0"/>
                  <a:pt x="11246" y="2285"/>
                  <a:pt x="15298" y="6352"/>
                </a:cubicBezTo>
              </a:path>
              <a:path stroke="0" w="15299" h="21600">
                <a:moveTo>
                  <a:pt x="-1" y="0"/>
                </a:moveTo>
                <a:cubicBezTo>
                  <a:pt x="5741" y="0"/>
                  <a:pt x="11246" y="2285"/>
                  <a:pt x="15298" y="6352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8"/>
          <p:cNvSpPr/>
          <p:nvPr/>
        </p:nvSpPr>
        <p:spPr>
          <a:xfrm flipV="1">
            <a:off x="2822400" y="3284280"/>
            <a:ext cx="23767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9"/>
          <p:cNvSpPr/>
          <p:nvPr/>
        </p:nvSpPr>
        <p:spPr>
          <a:xfrm>
            <a:off x="4211640" y="34704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rc 30"/>
          <p:cNvSpPr/>
          <p:nvPr/>
        </p:nvSpPr>
        <p:spPr>
          <a:xfrm rot="2935200">
            <a:off x="2524680" y="3567600"/>
            <a:ext cx="3016080" cy="2017440"/>
          </a:xfrm>
          <a:custGeom>
            <a:avLst/>
            <a:gdLst>
              <a:gd name="textAreaLeft" fmla="*/ 0 w 3016080"/>
              <a:gd name="textAreaRight" fmla="*/ 3016440 w 301608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fill="none" w="26502" h="21600">
                <a:moveTo>
                  <a:pt x="-1" y="1727"/>
                </a:moveTo>
                <a:cubicBezTo>
                  <a:pt x="2676" y="587"/>
                  <a:pt x="5555" y="-1"/>
                  <a:pt x="8465" y="0"/>
                </a:cubicBezTo>
                <a:cubicBezTo>
                  <a:pt x="15728" y="0"/>
                  <a:pt x="22506" y="3650"/>
                  <a:pt x="26502" y="9716"/>
                </a:cubicBezTo>
              </a:path>
              <a:path stroke="0" w="26502" h="21600">
                <a:moveTo>
                  <a:pt x="-1" y="1727"/>
                </a:moveTo>
                <a:cubicBezTo>
                  <a:pt x="2676" y="587"/>
                  <a:pt x="5555" y="-1"/>
                  <a:pt x="8465" y="0"/>
                </a:cubicBezTo>
                <a:cubicBezTo>
                  <a:pt x="15728" y="0"/>
                  <a:pt x="22506" y="3650"/>
                  <a:pt x="26502" y="9716"/>
                </a:cubicBezTo>
                <a:lnTo>
                  <a:pt x="846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1"/>
          <p:cNvSpPr/>
          <p:nvPr/>
        </p:nvSpPr>
        <p:spPr>
          <a:xfrm>
            <a:off x="4537080" y="5084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rc 32"/>
          <p:cNvSpPr/>
          <p:nvPr/>
        </p:nvSpPr>
        <p:spPr>
          <a:xfrm rot="21265800">
            <a:off x="5113440" y="4076640"/>
            <a:ext cx="985680" cy="1079640"/>
          </a:xfrm>
          <a:custGeom>
            <a:avLst/>
            <a:gdLst>
              <a:gd name="textAreaLeft" fmla="*/ 0 w 985680"/>
              <a:gd name="textAreaRight" fmla="*/ 986040 w 9856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rc 33"/>
          <p:cNvSpPr/>
          <p:nvPr/>
        </p:nvSpPr>
        <p:spPr>
          <a:xfrm rot="3273000">
            <a:off x="5079240" y="3237480"/>
            <a:ext cx="985680" cy="1079280"/>
          </a:xfrm>
          <a:custGeom>
            <a:avLst/>
            <a:gdLst>
              <a:gd name="textAreaLeft" fmla="*/ 0 w 985680"/>
              <a:gd name="textAreaRight" fmla="*/ 986040 w 9856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4"/>
          <p:cNvSpPr/>
          <p:nvPr/>
        </p:nvSpPr>
        <p:spPr>
          <a:xfrm flipV="1">
            <a:off x="2898720" y="3741480"/>
            <a:ext cx="4267080" cy="14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rc 35"/>
          <p:cNvSpPr/>
          <p:nvPr/>
        </p:nvSpPr>
        <p:spPr>
          <a:xfrm>
            <a:off x="4498920" y="4202280"/>
            <a:ext cx="304920" cy="682560"/>
          </a:xfrm>
          <a:custGeom>
            <a:avLst/>
            <a:gdLst>
              <a:gd name="textAreaLeft" fmla="*/ 0 w 304920"/>
              <a:gd name="textAreaRight" fmla="*/ 305280 w 3049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fill="none" w="21599" h="17755">
                <a:moveTo>
                  <a:pt x="12301" y="-1"/>
                </a:moveTo>
                <a:cubicBezTo>
                  <a:pt x="18067" y="3994"/>
                  <a:pt x="21534" y="10541"/>
                  <a:pt x="21599" y="17555"/>
                </a:cubicBezTo>
              </a:path>
              <a:path stroke="0" w="21599" h="17755">
                <a:moveTo>
                  <a:pt x="12301" y="-1"/>
                </a:moveTo>
                <a:cubicBezTo>
                  <a:pt x="18067" y="3994"/>
                  <a:pt x="21534" y="10541"/>
                  <a:pt x="21599" y="17555"/>
                </a:cubicBezTo>
                <a:lnTo>
                  <a:pt x="0" y="1775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6"/>
          <p:cNvSpPr/>
          <p:nvPr/>
        </p:nvSpPr>
        <p:spPr>
          <a:xfrm flipH="1" flipV="1">
            <a:off x="4422240" y="3893760"/>
            <a:ext cx="716040" cy="125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7"/>
          <p:cNvSpPr/>
          <p:nvPr/>
        </p:nvSpPr>
        <p:spPr>
          <a:xfrm>
            <a:off x="3851280" y="35416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4968720" y="4076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697200" y="44226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0"/>
          <p:cNvSpPr/>
          <p:nvPr/>
        </p:nvSpPr>
        <p:spPr>
          <a:xfrm>
            <a:off x="1693800" y="9729720"/>
            <a:ext cx="46814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41"/>
          <p:cNvGrpSpPr/>
          <p:nvPr/>
        </p:nvGrpSpPr>
        <p:grpSpPr>
          <a:xfrm>
            <a:off x="612720" y="5661000"/>
            <a:ext cx="9144000" cy="1052640"/>
            <a:chOff x="612720" y="5661000"/>
            <a:chExt cx="9144000" cy="1052640"/>
          </a:xfrm>
        </p:grpSpPr>
        <p:sp>
          <p:nvSpPr>
            <p:cNvPr id="479" name="Rectangle 42"/>
            <p:cNvSpPr/>
            <p:nvPr/>
          </p:nvSpPr>
          <p:spPr>
            <a:xfrm>
              <a:off x="612720" y="5661000"/>
              <a:ext cx="9144000" cy="1052640"/>
            </a:xfrm>
            <a:prstGeom prst="rect">
              <a:avLst/>
            </a:prstGeom>
            <a:solidFill>
              <a:srgbClr val="4f81bd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43"/>
            <p:cNvSpPr/>
            <p:nvPr/>
          </p:nvSpPr>
          <p:spPr>
            <a:xfrm>
              <a:off x="1081080" y="5732280"/>
              <a:ext cx="774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r>
                <a:rPr b="1" lang="zh-CN" sz="4800" spc="-1" strike="noStrike">
                  <a:solidFill>
                    <a:srgbClr val="3333ff"/>
                  </a:solidFill>
                  <a:latin typeface="Arial"/>
                </a:rPr>
                <a:t>）作∠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</a:rPr>
                <a:t>MAN </a:t>
              </a:r>
              <a:r>
                <a:rPr b="1" lang="zh-CN" sz="4800" spc="-1" strike="noStrike">
                  <a:solidFill>
                    <a:srgbClr val="3333ff"/>
                  </a:solidFill>
                  <a:latin typeface="Arial"/>
                </a:rPr>
                <a:t>＝ ∠ 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</a:rPr>
                <a:t>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5"/>
          <p:cNvGrpSpPr/>
          <p:nvPr/>
        </p:nvGrpSpPr>
        <p:grpSpPr>
          <a:xfrm>
            <a:off x="612720" y="5661000"/>
            <a:ext cx="9143640" cy="1052640"/>
            <a:chOff x="612720" y="5661000"/>
            <a:chExt cx="9143640" cy="1052640"/>
          </a:xfrm>
        </p:grpSpPr>
        <p:sp>
          <p:nvSpPr>
            <p:cNvPr id="482" name="Rectangle 46"/>
            <p:cNvSpPr/>
            <p:nvPr/>
          </p:nvSpPr>
          <p:spPr>
            <a:xfrm>
              <a:off x="612720" y="5661000"/>
              <a:ext cx="9143640" cy="1052640"/>
            </a:xfrm>
            <a:prstGeom prst="rect">
              <a:avLst/>
            </a:prstGeom>
            <a:solidFill>
              <a:srgbClr val="4f81bd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7"/>
            <p:cNvSpPr/>
            <p:nvPr/>
          </p:nvSpPr>
          <p:spPr>
            <a:xfrm>
              <a:off x="612720" y="5803920"/>
              <a:ext cx="883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Arial"/>
                </a:rPr>
                <a:t>（</a:t>
              </a:r>
              <a:r>
                <a:rPr b="1" lang="en-US" sz="4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lang="zh-CN" sz="4400" spc="-1" strike="noStrike">
                  <a:solidFill>
                    <a:srgbClr val="3333ff"/>
                  </a:solidFill>
                  <a:latin typeface="Arial"/>
                </a:rPr>
                <a:t>）</a:t>
              </a: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以</a:t>
              </a:r>
              <a:r>
                <a:rPr b="1" lang="en-US" sz="36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为圆心， </a:t>
              </a:r>
              <a:r>
                <a:rPr b="1" lang="en-US" sz="3600" spc="-1" strike="noStrike">
                  <a:solidFill>
                    <a:srgbClr val="3333ff"/>
                  </a:solidFill>
                  <a:latin typeface="Arial"/>
                </a:rPr>
                <a:t>m</a:t>
              </a: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长为半径画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48"/>
          <p:cNvSpPr/>
          <p:nvPr/>
        </p:nvSpPr>
        <p:spPr>
          <a:xfrm>
            <a:off x="3814920" y="3267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9"/>
          <p:cNvGrpSpPr/>
          <p:nvPr/>
        </p:nvGrpSpPr>
        <p:grpSpPr>
          <a:xfrm>
            <a:off x="612720" y="5632560"/>
            <a:ext cx="8459640" cy="1081080"/>
            <a:chOff x="612720" y="5632560"/>
            <a:chExt cx="8459640" cy="1081080"/>
          </a:xfrm>
        </p:grpSpPr>
        <p:sp>
          <p:nvSpPr>
            <p:cNvPr id="486" name="Rectangle 50"/>
            <p:cNvSpPr/>
            <p:nvPr/>
          </p:nvSpPr>
          <p:spPr>
            <a:xfrm>
              <a:off x="612720" y="5632560"/>
              <a:ext cx="8459640" cy="1081080"/>
            </a:xfrm>
            <a:prstGeom prst="rect">
              <a:avLst/>
            </a:prstGeom>
            <a:solidFill>
              <a:srgbClr val="4f81bd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51"/>
            <p:cNvSpPr/>
            <p:nvPr/>
          </p:nvSpPr>
          <p:spPr>
            <a:xfrm>
              <a:off x="1404720" y="5705280"/>
              <a:ext cx="684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Arial"/>
                </a:rPr>
                <a:t>交</a:t>
              </a: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AM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</a:rPr>
                <a:t>于</a:t>
              </a: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B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</a:rPr>
                <a:t>，交</a:t>
              </a: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AN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</a:rPr>
                <a:t>于</a:t>
              </a: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52"/>
          <p:cNvGrpSpPr/>
          <p:nvPr/>
        </p:nvGrpSpPr>
        <p:grpSpPr>
          <a:xfrm>
            <a:off x="612720" y="5589720"/>
            <a:ext cx="9144000" cy="1123920"/>
            <a:chOff x="612720" y="5589720"/>
            <a:chExt cx="9144000" cy="1123920"/>
          </a:xfrm>
        </p:grpSpPr>
        <p:sp>
          <p:nvSpPr>
            <p:cNvPr id="489" name="Rectangle 53"/>
            <p:cNvSpPr/>
            <p:nvPr/>
          </p:nvSpPr>
          <p:spPr>
            <a:xfrm>
              <a:off x="612720" y="5589720"/>
              <a:ext cx="9144000" cy="112392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54"/>
            <p:cNvSpPr/>
            <p:nvPr/>
          </p:nvSpPr>
          <p:spPr>
            <a:xfrm>
              <a:off x="612720" y="558972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）分别以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为圆心，大于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K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的距离一半的长为半径画弧，两弧交于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55"/>
          <p:cNvGrpSpPr/>
          <p:nvPr/>
        </p:nvGrpSpPr>
        <p:grpSpPr>
          <a:xfrm>
            <a:off x="612720" y="5560920"/>
            <a:ext cx="9143640" cy="1152360"/>
            <a:chOff x="612720" y="5560920"/>
            <a:chExt cx="9143640" cy="1152360"/>
          </a:xfrm>
        </p:grpSpPr>
        <p:sp>
          <p:nvSpPr>
            <p:cNvPr id="492" name="Rectangle 56"/>
            <p:cNvSpPr/>
            <p:nvPr/>
          </p:nvSpPr>
          <p:spPr>
            <a:xfrm>
              <a:off x="612720" y="5560920"/>
              <a:ext cx="9143640" cy="115236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57"/>
            <p:cNvSpPr/>
            <p:nvPr/>
          </p:nvSpPr>
          <p:spPr>
            <a:xfrm>
              <a:off x="612720" y="5776560"/>
              <a:ext cx="884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1f497d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1f497d"/>
                  </a:solidFill>
                  <a:latin typeface="Arial"/>
                </a:rPr>
                <a:t>4</a:t>
              </a:r>
              <a:r>
                <a:rPr b="1" lang="zh-CN" sz="4800" spc="-1" strike="noStrike">
                  <a:solidFill>
                    <a:srgbClr val="1f497d"/>
                  </a:solidFill>
                  <a:latin typeface="Arial"/>
                </a:rPr>
                <a:t>）作射线</a:t>
              </a:r>
              <a:r>
                <a:rPr b="1" lang="en-US" sz="4800" spc="-1" strike="noStrike">
                  <a:solidFill>
                    <a:srgbClr val="1f497d"/>
                  </a:solidFill>
                  <a:latin typeface="Arial"/>
                </a:rPr>
                <a:t>AP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58"/>
          <p:cNvGrpSpPr/>
          <p:nvPr/>
        </p:nvGrpSpPr>
        <p:grpSpPr>
          <a:xfrm>
            <a:off x="612720" y="5589720"/>
            <a:ext cx="9143640" cy="1123560"/>
            <a:chOff x="612720" y="5589720"/>
            <a:chExt cx="9143640" cy="1123560"/>
          </a:xfrm>
        </p:grpSpPr>
        <p:sp>
          <p:nvSpPr>
            <p:cNvPr id="495" name="Rectangle 59"/>
            <p:cNvSpPr/>
            <p:nvPr/>
          </p:nvSpPr>
          <p:spPr>
            <a:xfrm>
              <a:off x="612720" y="5589720"/>
              <a:ext cx="9143640" cy="112356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0"/>
            <p:cNvSpPr/>
            <p:nvPr/>
          </p:nvSpPr>
          <p:spPr>
            <a:xfrm>
              <a:off x="693720" y="5750640"/>
              <a:ext cx="881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(5)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在射线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AP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上截取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AD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61"/>
          <p:cNvGrpSpPr/>
          <p:nvPr/>
        </p:nvGrpSpPr>
        <p:grpSpPr>
          <a:xfrm>
            <a:off x="612720" y="5634000"/>
            <a:ext cx="9001080" cy="1079280"/>
            <a:chOff x="612720" y="5634000"/>
            <a:chExt cx="9001080" cy="1079280"/>
          </a:xfrm>
        </p:grpSpPr>
        <p:sp>
          <p:nvSpPr>
            <p:cNvPr id="498" name="Rectangle 62"/>
            <p:cNvSpPr/>
            <p:nvPr/>
          </p:nvSpPr>
          <p:spPr>
            <a:xfrm>
              <a:off x="612720" y="5634000"/>
              <a:ext cx="8999640" cy="107928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63"/>
            <p:cNvSpPr/>
            <p:nvPr/>
          </p:nvSpPr>
          <p:spPr>
            <a:xfrm>
              <a:off x="684360" y="5776920"/>
              <a:ext cx="892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连接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BD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并延长交射线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AK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于点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64"/>
          <p:cNvGrpSpPr/>
          <p:nvPr/>
        </p:nvGrpSpPr>
        <p:grpSpPr>
          <a:xfrm>
            <a:off x="539640" y="5416560"/>
            <a:ext cx="9217080" cy="1296720"/>
            <a:chOff x="539640" y="5416560"/>
            <a:chExt cx="9217080" cy="1296720"/>
          </a:xfrm>
        </p:grpSpPr>
        <p:sp>
          <p:nvSpPr>
            <p:cNvPr id="501" name="Rectangle 65"/>
            <p:cNvSpPr/>
            <p:nvPr/>
          </p:nvSpPr>
          <p:spPr>
            <a:xfrm>
              <a:off x="539640" y="5416560"/>
              <a:ext cx="9217080" cy="129672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66"/>
            <p:cNvSpPr/>
            <p:nvPr/>
          </p:nvSpPr>
          <p:spPr>
            <a:xfrm>
              <a:off x="755640" y="5560920"/>
              <a:ext cx="878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则△</a:t>
              </a:r>
              <a:r>
                <a:rPr b="1" lang="en-US" sz="6000" spc="-1" strike="noStrike">
                  <a:solidFill>
                    <a:srgbClr val="ff0000"/>
                  </a:solidFill>
                  <a:latin typeface="Arial"/>
                </a:rPr>
                <a:t>ABC</a:t>
              </a: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为所求的三角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612720" y="21420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利用尺规不能唯一作出的三角形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三边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两边及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两角及夹边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两边及其中一边的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12720" y="270684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利用尺规不可作的直角三角形是   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斜边及一条直角边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两条直角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两锐角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已知一锐角及一直角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12720" y="472284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以下列线段为边能作三角形的是    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7272360" y="6415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7779240" y="249084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7850160" y="45291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996840" y="406440"/>
            <a:ext cx="4105440" cy="893520"/>
            <a:chOff x="996840" y="406440"/>
            <a:chExt cx="4105440" cy="893520"/>
          </a:xfrm>
        </p:grpSpPr>
        <p:sp>
          <p:nvSpPr>
            <p:cNvPr id="510" name="Oval 5"/>
            <p:cNvSpPr/>
            <p:nvPr/>
          </p:nvSpPr>
          <p:spPr>
            <a:xfrm>
              <a:off x="1284120" y="406440"/>
              <a:ext cx="3384720" cy="893520"/>
            </a:xfrm>
            <a:prstGeom prst="ellipse">
              <a:avLst/>
            </a:pr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4"/>
            <p:cNvSpPr/>
            <p:nvPr/>
          </p:nvSpPr>
          <p:spPr>
            <a:xfrm>
              <a:off x="996840" y="406440"/>
              <a:ext cx="410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小结 </a:t>
              </a:r>
              <a:r>
                <a:rPr b="0" lang="zh-CN" sz="4400" spc="-1" strike="noStrike">
                  <a:solidFill>
                    <a:srgbClr val="1f497d"/>
                  </a:solidFill>
                  <a:latin typeface="Arial"/>
                  <a:ea typeface="华文行楷"/>
                </a:rPr>
                <a:t>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7"/>
          <p:cNvSpPr/>
          <p:nvPr/>
        </p:nvSpPr>
        <p:spPr>
          <a:xfrm>
            <a:off x="1163520" y="13986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  <a:ea typeface="华文行楷"/>
              </a:rPr>
              <a:t>今天同学们又有哪些新的收获？能告诉大家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1295280" y="311796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学会了已知两边及它们的夹角做三角形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781200" y="37274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　学会了已知两角及它们的夹边做三角形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457200" y="44132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学会了已知三边做三角形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787320" y="304164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787320" y="365112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787320" y="433692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2149560" y="5303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762120" y="2432160"/>
            <a:ext cx="67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学会了用尺规做三角形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787320" y="243216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9"/>
          <p:cNvSpPr/>
          <p:nvPr/>
        </p:nvSpPr>
        <p:spPr>
          <a:xfrm>
            <a:off x="1244520" y="494676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3135960" y="49467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学会了已知两角及一边做三角形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2133720" y="54039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619200" y="2565360"/>
            <a:ext cx="61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页　习题</a:t>
            </a: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3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1116000" y="476280"/>
            <a:ext cx="3673440" cy="1295280"/>
            <a:chOff x="1116000" y="476280"/>
            <a:chExt cx="3673440" cy="1295280"/>
          </a:xfrm>
        </p:grpSpPr>
        <p:sp>
          <p:nvSpPr>
            <p:cNvPr id="527" name="Oval 6"/>
            <p:cNvSpPr/>
            <p:nvPr/>
          </p:nvSpPr>
          <p:spPr>
            <a:xfrm>
              <a:off x="1116000" y="476280"/>
              <a:ext cx="3673440" cy="1295280"/>
            </a:xfrm>
            <a:prstGeom prst="ellipse">
              <a:avLst/>
            </a:pr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1476360" y="620640"/>
              <a:ext cx="288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1f497d"/>
                  </a:solidFill>
                  <a:latin typeface="Arial"/>
                  <a:ea typeface="华文行楷"/>
                </a:rPr>
                <a:t>作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22480" y="76500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基础知识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69840" y="14508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尺规作图的工具是直尺和圆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856040" y="1984320"/>
            <a:ext cx="223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44720" y="2131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们已经会用尺规作一条线段等于已知线段、作一个角等于已知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198440" y="3127320"/>
            <a:ext cx="685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856040" y="3203640"/>
            <a:ext cx="1068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046160" y="335592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图，画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平分线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边上的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边上的中线（画图工具不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4932360" y="2695680"/>
            <a:ext cx="4103640" cy="3502080"/>
            <a:chOff x="4932360" y="2695680"/>
            <a:chExt cx="4103640" cy="3502080"/>
          </a:xfrm>
        </p:grpSpPr>
        <p:sp>
          <p:nvSpPr>
            <p:cNvPr id="139" name="Line 10"/>
            <p:cNvSpPr/>
            <p:nvPr/>
          </p:nvSpPr>
          <p:spPr>
            <a:xfrm>
              <a:off x="5219640" y="564840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1"/>
            <p:cNvGrpSpPr/>
            <p:nvPr/>
          </p:nvGrpSpPr>
          <p:grpSpPr>
            <a:xfrm>
              <a:off x="4932360" y="2695680"/>
              <a:ext cx="4103640" cy="3502080"/>
              <a:chOff x="4932360" y="2695680"/>
              <a:chExt cx="4103640" cy="3502080"/>
            </a:xfrm>
          </p:grpSpPr>
          <p:sp>
            <p:nvSpPr>
              <p:cNvPr id="141" name="Line 12"/>
              <p:cNvSpPr/>
              <p:nvPr/>
            </p:nvSpPr>
            <p:spPr>
              <a:xfrm flipV="1">
                <a:off x="7453440" y="3271320"/>
                <a:ext cx="1081080" cy="237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3"/>
              <p:cNvSpPr/>
              <p:nvPr/>
            </p:nvSpPr>
            <p:spPr>
              <a:xfrm flipH="1">
                <a:off x="5219280" y="3271680"/>
                <a:ext cx="3313080" cy="237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4"/>
              <p:cNvSpPr/>
              <p:nvPr/>
            </p:nvSpPr>
            <p:spPr>
              <a:xfrm>
                <a:off x="8317080" y="2695680"/>
                <a:ext cx="71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4932360" y="5616360"/>
                <a:ext cx="86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6"/>
              <p:cNvSpPr/>
              <p:nvPr/>
            </p:nvSpPr>
            <p:spPr>
              <a:xfrm>
                <a:off x="7237440" y="561636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Line 18"/>
          <p:cNvSpPr/>
          <p:nvPr/>
        </p:nvSpPr>
        <p:spPr>
          <a:xfrm>
            <a:off x="7980480" y="2670120"/>
            <a:ext cx="685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1584360" y="1727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224000" y="863640"/>
            <a:ext cx="78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已知：∠</a:t>
            </a: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AOB</a:t>
            </a: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，求作∠</a:t>
            </a: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A′O′B′</a:t>
            </a: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，使∠</a:t>
            </a: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A′O′B′</a:t>
            </a: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＝∠</a:t>
            </a: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56360" y="33116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5256360" y="2160360"/>
            <a:ext cx="1944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12"/>
          <p:cNvSpPr/>
          <p:nvPr/>
        </p:nvSpPr>
        <p:spPr>
          <a:xfrm rot="1471200">
            <a:off x="2060640" y="2003400"/>
            <a:ext cx="1752480" cy="124632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246320"/>
              <a:gd name="textAreaBottom" fmla="*/ 1246680 h 1246320"/>
            </a:gdLst>
            <a:ahLst/>
            <a:rect l="textAreaLeft" t="textAreaTop" r="textAreaRight" b="textAreaBottom"/>
            <a:pathLst>
              <a:path fill="none" w="21600" h="20433">
                <a:moveTo>
                  <a:pt x="10734" y="0"/>
                </a:moveTo>
                <a:cubicBezTo>
                  <a:pt x="17454" y="3848"/>
                  <a:pt x="21600" y="11000"/>
                  <a:pt x="21600" y="18744"/>
                </a:cubicBezTo>
                <a:cubicBezTo>
                  <a:pt x="21600" y="19307"/>
                  <a:pt x="21577" y="19871"/>
                  <a:pt x="21533" y="20432"/>
                </a:cubicBezTo>
              </a:path>
              <a:path stroke="0" w="21600" h="20433">
                <a:moveTo>
                  <a:pt x="10734" y="0"/>
                </a:moveTo>
                <a:cubicBezTo>
                  <a:pt x="17454" y="3848"/>
                  <a:pt x="21600" y="11000"/>
                  <a:pt x="21600" y="18744"/>
                </a:cubicBezTo>
                <a:cubicBezTo>
                  <a:pt x="21600" y="19307"/>
                  <a:pt x="21577" y="19871"/>
                  <a:pt x="21533" y="20432"/>
                </a:cubicBezTo>
                <a:lnTo>
                  <a:pt x="0" y="1874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15"/>
          <p:cNvSpPr/>
          <p:nvPr/>
        </p:nvSpPr>
        <p:spPr>
          <a:xfrm flipV="1" rot="13541400">
            <a:off x="6459840" y="2117520"/>
            <a:ext cx="901440" cy="1141560"/>
          </a:xfrm>
          <a:custGeom>
            <a:avLst/>
            <a:gdLst>
              <a:gd name="textAreaLeft" fmla="*/ 0 w 901440"/>
              <a:gd name="textAreaRight" fmla="*/ 901800 w 901440"/>
              <a:gd name="textAreaTop" fmla="*/ 0 h 1141560"/>
              <a:gd name="textAreaBottom" fmla="*/ 1141560 h 1141560"/>
            </a:gdLst>
            <a:ahLst/>
            <a:rect l="textAreaLeft" t="textAreaTop" r="textAreaRight" b="textAreaBottom"/>
            <a:pathLst>
              <a:path fill="none" w="21286" h="19930">
                <a:moveTo>
                  <a:pt x="8327" y="0"/>
                </a:moveTo>
                <a:cubicBezTo>
                  <a:pt x="15142" y="2847"/>
                  <a:pt x="20030" y="8979"/>
                  <a:pt x="21285" y="16258"/>
                </a:cubicBezTo>
              </a:path>
              <a:path stroke="0" w="21286" h="19930">
                <a:moveTo>
                  <a:pt x="8327" y="0"/>
                </a:moveTo>
                <a:cubicBezTo>
                  <a:pt x="15142" y="2847"/>
                  <a:pt x="20030" y="8979"/>
                  <a:pt x="21285" y="16258"/>
                </a:cubicBezTo>
                <a:lnTo>
                  <a:pt x="0" y="1993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1"/>
          <p:cNvGrpSpPr/>
          <p:nvPr/>
        </p:nvGrpSpPr>
        <p:grpSpPr>
          <a:xfrm>
            <a:off x="1368360" y="1727280"/>
            <a:ext cx="3481560" cy="1956600"/>
            <a:chOff x="1368360" y="1727280"/>
            <a:chExt cx="3481560" cy="1956600"/>
          </a:xfrm>
        </p:grpSpPr>
        <p:sp>
          <p:nvSpPr>
            <p:cNvPr id="154" name="Line 8"/>
            <p:cNvSpPr/>
            <p:nvPr/>
          </p:nvSpPr>
          <p:spPr>
            <a:xfrm>
              <a:off x="1800000" y="3168720"/>
              <a:ext cx="26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 flipV="1">
              <a:off x="1800000" y="2016000"/>
              <a:ext cx="208944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1368360" y="2952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9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129200" y="32241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97d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3529080" y="1727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97d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68720" y="3168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297180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4789440" y="32068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O</a:t>
            </a:r>
            <a:r>
              <a:rPr b="1" lang="en-US" sz="2000" spc="-1" strike="noStrike">
                <a:solidFill>
                  <a:srgbClr val="1f497d"/>
                </a:solidFill>
                <a:latin typeface="Comic Sans MS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7701120" y="3409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mic Sans MS"/>
              </a:rPr>
              <a:t>B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7159680" y="19875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mic Sans MS"/>
              </a:rPr>
              <a:t>A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6683400" y="19684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mic Sans MS"/>
              </a:rPr>
              <a:t>D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7067520" y="32464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mic Sans MS"/>
              </a:rPr>
              <a:t>C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27"/>
          <p:cNvSpPr/>
          <p:nvPr/>
        </p:nvSpPr>
        <p:spPr>
          <a:xfrm rot="1471200">
            <a:off x="5544720" y="2160720"/>
            <a:ext cx="1752480" cy="12459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245960"/>
              <a:gd name="textAreaBottom" fmla="*/ 1246320 h 1245960"/>
            </a:gdLst>
            <a:ahLst/>
            <a:rect l="textAreaLeft" t="textAreaTop" r="textAreaRight" b="textAreaBottom"/>
            <a:pathLst>
              <a:path fill="none" w="21600" h="20433">
                <a:moveTo>
                  <a:pt x="10734" y="0"/>
                </a:moveTo>
                <a:cubicBezTo>
                  <a:pt x="17454" y="3848"/>
                  <a:pt x="21600" y="11000"/>
                  <a:pt x="21600" y="18744"/>
                </a:cubicBezTo>
                <a:cubicBezTo>
                  <a:pt x="21600" y="19307"/>
                  <a:pt x="21577" y="19871"/>
                  <a:pt x="21533" y="20432"/>
                </a:cubicBezTo>
              </a:path>
              <a:path stroke="0" w="21600" h="20433">
                <a:moveTo>
                  <a:pt x="10734" y="0"/>
                </a:moveTo>
                <a:cubicBezTo>
                  <a:pt x="17454" y="3848"/>
                  <a:pt x="21600" y="11000"/>
                  <a:pt x="21600" y="18744"/>
                </a:cubicBezTo>
                <a:cubicBezTo>
                  <a:pt x="21600" y="19307"/>
                  <a:pt x="21577" y="19871"/>
                  <a:pt x="21533" y="20432"/>
                </a:cubicBezTo>
                <a:lnTo>
                  <a:pt x="0" y="1874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6"/>
          <p:cNvGrpSpPr/>
          <p:nvPr/>
        </p:nvGrpSpPr>
        <p:grpSpPr>
          <a:xfrm>
            <a:off x="612720" y="71280"/>
            <a:ext cx="3029040" cy="831960"/>
            <a:chOff x="612720" y="71280"/>
            <a:chExt cx="3029040" cy="831960"/>
          </a:xfrm>
        </p:grpSpPr>
        <p:sp>
          <p:nvSpPr>
            <p:cNvPr id="168" name="Oval 28"/>
            <p:cNvSpPr/>
            <p:nvPr/>
          </p:nvSpPr>
          <p:spPr>
            <a:xfrm>
              <a:off x="612720" y="71280"/>
              <a:ext cx="3029040" cy="831960"/>
            </a:xfrm>
            <a:prstGeom prst="ellipse">
              <a:avLst/>
            </a:prstGeom>
            <a:solidFill>
              <a:srgbClr val="0000ff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973080" y="144360"/>
              <a:ext cx="23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</a:rPr>
                <a:t>复习引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612720" y="5545080"/>
            <a:ext cx="9144000" cy="1123920"/>
            <a:chOff x="612720" y="5545080"/>
            <a:chExt cx="9144000" cy="1123920"/>
          </a:xfrm>
        </p:grpSpPr>
        <p:sp>
          <p:nvSpPr>
            <p:cNvPr id="171" name="Rectangle 36"/>
            <p:cNvSpPr/>
            <p:nvPr/>
          </p:nvSpPr>
          <p:spPr>
            <a:xfrm>
              <a:off x="612720" y="5545080"/>
              <a:ext cx="9144000" cy="1123920"/>
            </a:xfrm>
            <a:prstGeom prst="rect">
              <a:avLst/>
            </a:pr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5"/>
            <p:cNvSpPr/>
            <p:nvPr/>
          </p:nvSpPr>
          <p:spPr>
            <a:xfrm>
              <a:off x="3107160" y="5713200"/>
              <a:ext cx="354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（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1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）做射线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′B′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3"/>
          <p:cNvGrpSpPr/>
          <p:nvPr/>
        </p:nvGrpSpPr>
        <p:grpSpPr>
          <a:xfrm>
            <a:off x="612720" y="5302080"/>
            <a:ext cx="9144000" cy="1366560"/>
            <a:chOff x="612720" y="5302080"/>
            <a:chExt cx="9144000" cy="1366560"/>
          </a:xfrm>
        </p:grpSpPr>
        <p:grpSp>
          <p:nvGrpSpPr>
            <p:cNvPr id="174" name="Group 40"/>
            <p:cNvGrpSpPr/>
            <p:nvPr/>
          </p:nvGrpSpPr>
          <p:grpSpPr>
            <a:xfrm>
              <a:off x="612720" y="5302080"/>
              <a:ext cx="9144000" cy="1366560"/>
              <a:chOff x="612720" y="5302080"/>
              <a:chExt cx="9144000" cy="1366560"/>
            </a:xfrm>
          </p:grpSpPr>
          <p:sp>
            <p:nvSpPr>
              <p:cNvPr id="175" name="Rectangle 41"/>
              <p:cNvSpPr/>
              <p:nvPr/>
            </p:nvSpPr>
            <p:spPr>
              <a:xfrm>
                <a:off x="612720" y="5302080"/>
                <a:ext cx="9144000" cy="1366560"/>
              </a:xfrm>
              <a:prstGeom prst="rect">
                <a:avLst/>
              </a:prstGeom>
              <a:solidFill>
                <a:srgbClr val="00b200"/>
              </a:solidFill>
              <a:ln w="57240">
                <a:solidFill>
                  <a:srgbClr val="1f49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42"/>
              <p:cNvSpPr/>
              <p:nvPr/>
            </p:nvSpPr>
            <p:spPr>
              <a:xfrm>
                <a:off x="2422080" y="5506200"/>
                <a:ext cx="31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f497d"/>
                    </a:solidFill>
                    <a:latin typeface="Comic Sans MS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39"/>
            <p:cNvSpPr/>
            <p:nvPr/>
          </p:nvSpPr>
          <p:spPr>
            <a:xfrm>
              <a:off x="612720" y="5302080"/>
              <a:ext cx="8937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（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2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）以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为圆心，任意长为半径画弧，交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A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于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D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点，交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B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于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C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点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612720" y="5302080"/>
            <a:ext cx="9144000" cy="1366560"/>
            <a:chOff x="612720" y="5302080"/>
            <a:chExt cx="9144000" cy="1366560"/>
          </a:xfrm>
        </p:grpSpPr>
        <p:grpSp>
          <p:nvGrpSpPr>
            <p:cNvPr id="179" name="Group 45"/>
            <p:cNvGrpSpPr/>
            <p:nvPr/>
          </p:nvGrpSpPr>
          <p:grpSpPr>
            <a:xfrm>
              <a:off x="612720" y="5302080"/>
              <a:ext cx="9144000" cy="1366560"/>
              <a:chOff x="612720" y="5302080"/>
              <a:chExt cx="9144000" cy="1366560"/>
            </a:xfrm>
          </p:grpSpPr>
          <p:sp>
            <p:nvSpPr>
              <p:cNvPr id="180" name="Rectangle 46"/>
              <p:cNvSpPr/>
              <p:nvPr/>
            </p:nvSpPr>
            <p:spPr>
              <a:xfrm>
                <a:off x="612720" y="5302080"/>
                <a:ext cx="9144000" cy="1366560"/>
              </a:xfrm>
              <a:prstGeom prst="rect">
                <a:avLst/>
              </a:prstGeom>
              <a:solidFill>
                <a:srgbClr val="00b200"/>
              </a:solidFill>
              <a:ln w="57240">
                <a:solidFill>
                  <a:srgbClr val="1f49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47"/>
              <p:cNvSpPr/>
              <p:nvPr/>
            </p:nvSpPr>
            <p:spPr>
              <a:xfrm>
                <a:off x="2422080" y="5506200"/>
                <a:ext cx="31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f497d"/>
                    </a:solidFill>
                    <a:latin typeface="Comic Sans MS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48"/>
            <p:cNvSpPr/>
            <p:nvPr/>
          </p:nvSpPr>
          <p:spPr>
            <a:xfrm>
              <a:off x="612720" y="5302080"/>
              <a:ext cx="8937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（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3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）以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为圆心，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C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长为半径画弧，交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′B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于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C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点 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49"/>
          <p:cNvGrpSpPr/>
          <p:nvPr/>
        </p:nvGrpSpPr>
        <p:grpSpPr>
          <a:xfrm>
            <a:off x="612720" y="5302080"/>
            <a:ext cx="9144000" cy="1366560"/>
            <a:chOff x="612720" y="5302080"/>
            <a:chExt cx="9144000" cy="1366560"/>
          </a:xfrm>
        </p:grpSpPr>
        <p:grpSp>
          <p:nvGrpSpPr>
            <p:cNvPr id="184" name="Group 50"/>
            <p:cNvGrpSpPr/>
            <p:nvPr/>
          </p:nvGrpSpPr>
          <p:grpSpPr>
            <a:xfrm>
              <a:off x="612720" y="5302080"/>
              <a:ext cx="9144000" cy="1366560"/>
              <a:chOff x="612720" y="5302080"/>
              <a:chExt cx="9144000" cy="1366560"/>
            </a:xfrm>
          </p:grpSpPr>
          <p:sp>
            <p:nvSpPr>
              <p:cNvPr id="185" name="Rectangle 51"/>
              <p:cNvSpPr/>
              <p:nvPr/>
            </p:nvSpPr>
            <p:spPr>
              <a:xfrm>
                <a:off x="612720" y="5302080"/>
                <a:ext cx="9144000" cy="1366560"/>
              </a:xfrm>
              <a:prstGeom prst="rect">
                <a:avLst/>
              </a:prstGeom>
              <a:solidFill>
                <a:srgbClr val="00b200"/>
              </a:solidFill>
              <a:ln w="57240">
                <a:solidFill>
                  <a:srgbClr val="1f49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52"/>
              <p:cNvSpPr/>
              <p:nvPr/>
            </p:nvSpPr>
            <p:spPr>
              <a:xfrm>
                <a:off x="2422080" y="5506200"/>
                <a:ext cx="31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f497d"/>
                    </a:solidFill>
                    <a:latin typeface="Comic Sans MS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53"/>
            <p:cNvSpPr/>
            <p:nvPr/>
          </p:nvSpPr>
          <p:spPr>
            <a:xfrm>
              <a:off x="612720" y="5302080"/>
              <a:ext cx="8937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（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4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）以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C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为圆心，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DC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长为半径画弧，交前弧于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D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点 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59"/>
          <p:cNvGrpSpPr/>
          <p:nvPr/>
        </p:nvGrpSpPr>
        <p:grpSpPr>
          <a:xfrm>
            <a:off x="612720" y="5240160"/>
            <a:ext cx="9144000" cy="1428840"/>
            <a:chOff x="612720" y="5240160"/>
            <a:chExt cx="9144000" cy="1428840"/>
          </a:xfrm>
        </p:grpSpPr>
        <p:sp>
          <p:nvSpPr>
            <p:cNvPr id="189" name="Rectangle 56"/>
            <p:cNvSpPr/>
            <p:nvPr/>
          </p:nvSpPr>
          <p:spPr>
            <a:xfrm>
              <a:off x="612720" y="5240160"/>
              <a:ext cx="9144000" cy="1428840"/>
            </a:xfrm>
            <a:prstGeom prst="rect">
              <a:avLst/>
            </a:pr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7"/>
            <p:cNvSpPr/>
            <p:nvPr/>
          </p:nvSpPr>
          <p:spPr>
            <a:xfrm>
              <a:off x="2422080" y="5454720"/>
              <a:ext cx="31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8"/>
            <p:cNvSpPr/>
            <p:nvPr/>
          </p:nvSpPr>
          <p:spPr>
            <a:xfrm>
              <a:off x="863280" y="5588280"/>
              <a:ext cx="8650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（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5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）过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D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做射线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O′A′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0"/>
          <p:cNvGrpSpPr/>
          <p:nvPr/>
        </p:nvGrpSpPr>
        <p:grpSpPr>
          <a:xfrm>
            <a:off x="612720" y="5240160"/>
            <a:ext cx="9144000" cy="1428840"/>
            <a:chOff x="612720" y="5240160"/>
            <a:chExt cx="9144000" cy="1428840"/>
          </a:xfrm>
        </p:grpSpPr>
        <p:sp>
          <p:nvSpPr>
            <p:cNvPr id="193" name="Rectangle 61"/>
            <p:cNvSpPr/>
            <p:nvPr/>
          </p:nvSpPr>
          <p:spPr>
            <a:xfrm>
              <a:off x="612720" y="5240160"/>
              <a:ext cx="9144000" cy="1428840"/>
            </a:xfrm>
            <a:prstGeom prst="rect">
              <a:avLst/>
            </a:prstGeom>
            <a:solidFill>
              <a:srgbClr val="00b200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2422080" y="5454720"/>
              <a:ext cx="31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3"/>
            <p:cNvSpPr/>
            <p:nvPr/>
          </p:nvSpPr>
          <p:spPr>
            <a:xfrm>
              <a:off x="863280" y="5588280"/>
              <a:ext cx="8650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则∠</a:t>
              </a:r>
              <a:r>
                <a:rPr b="1" lang="en-US" sz="4000" spc="-1" strike="noStrike">
                  <a:solidFill>
                    <a:srgbClr val="1f497d"/>
                  </a:solidFill>
                  <a:latin typeface="Comic Sans MS"/>
                </a:rPr>
                <a:t>A′O′B′</a:t>
              </a: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</a:rPr>
                <a:t>为所求作的角　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5"/>
          <p:cNvGrpSpPr/>
          <p:nvPr/>
        </p:nvGrpSpPr>
        <p:grpSpPr>
          <a:xfrm>
            <a:off x="612720" y="3816360"/>
            <a:ext cx="3887640" cy="934920"/>
            <a:chOff x="612720" y="3816360"/>
            <a:chExt cx="3887640" cy="934920"/>
          </a:xfrm>
        </p:grpSpPr>
        <p:sp>
          <p:nvSpPr>
            <p:cNvPr id="197" name="Cloud"/>
            <p:cNvSpPr/>
            <p:nvPr/>
          </p:nvSpPr>
          <p:spPr>
            <a:xfrm>
              <a:off x="612720" y="3816360"/>
              <a:ext cx="3240000" cy="934920"/>
            </a:xfrm>
            <a:custGeom>
              <a:avLst/>
              <a:gdLst>
                <a:gd name="textAreaLeft" fmla="*/ 446040 w 3240000"/>
                <a:gd name="textAreaRight" fmla="*/ 2563920 w 3240000"/>
                <a:gd name="textAreaTop" fmla="*/ 141120 h 934920"/>
                <a:gd name="textAreaBottom" fmla="*/ 75096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ccff"/>
            </a:solidFill>
            <a:ln w="57240">
              <a:solidFill>
                <a:srgbClr val="1f497d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900000" y="3887640"/>
              <a:ext cx="360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作法与提示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343548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omic Sans MS"/>
                <a:ea typeface="华文行楷"/>
              </a:rPr>
              <a:t>已知三角形的两边及其夹角，求作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539640" y="0"/>
            <a:ext cx="3095640" cy="2781360"/>
            <a:chOff x="539640" y="0"/>
            <a:chExt cx="3095640" cy="2781360"/>
          </a:xfrm>
        </p:grpSpPr>
        <p:sp>
          <p:nvSpPr>
            <p:cNvPr id="201" name="AutoShape 5"/>
            <p:cNvSpPr/>
            <p:nvPr/>
          </p:nvSpPr>
          <p:spPr>
            <a:xfrm>
              <a:off x="539640" y="0"/>
              <a:ext cx="3095640" cy="2781360"/>
            </a:xfrm>
            <a:custGeom>
              <a:avLst/>
              <a:gdLst>
                <a:gd name="textAreaLeft" fmla="*/ 15840 w 3095640"/>
                <a:gd name="textAreaRight" fmla="*/ 3079800 w 3095640"/>
                <a:gd name="textAreaTop" fmla="*/ 0 h 2781360"/>
                <a:gd name="textAreaBottom" fmla="*/ 1300320 h 27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314" y="8914"/>
                  </a:moveTo>
                  <a:cubicBezTo>
                    <a:pt x="7073" y="7108"/>
                    <a:pt x="8841" y="5933"/>
                    <a:pt x="10800" y="5934"/>
                  </a:cubicBezTo>
                  <a:cubicBezTo>
                    <a:pt x="12758" y="5934"/>
                    <a:pt x="14526" y="7108"/>
                    <a:pt x="15285" y="8914"/>
                  </a:cubicBezTo>
                  <a:lnTo>
                    <a:pt x="20755" y="6614"/>
                  </a:lnTo>
                  <a:cubicBezTo>
                    <a:pt x="19071" y="2606"/>
                    <a:pt x="15147" y="-1"/>
                    <a:pt x="10799" y="0"/>
                  </a:cubicBezTo>
                  <a:cubicBezTo>
                    <a:pt x="6452" y="0"/>
                    <a:pt x="2528" y="2606"/>
                    <a:pt x="844" y="6614"/>
                  </a:cubicBezTo>
                  <a:close/>
                </a:path>
              </a:pathLst>
            </a:custGeom>
            <a:solidFill>
              <a:srgbClr val="6cfafa"/>
            </a:solidFill>
            <a:ln cap="rnd" w="57240">
              <a:solidFill>
                <a:srgbClr val="1f497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WordArt 6" descr=""/>
            <p:cNvPicPr/>
            <p:nvPr/>
          </p:nvPicPr>
          <p:blipFill>
            <a:blip r:embed="rId1"/>
            <a:stretch/>
          </p:blipFill>
          <p:spPr>
            <a:xfrm>
              <a:off x="1077840" y="85680"/>
              <a:ext cx="2163600" cy="127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10"/>
          <p:cNvSpPr/>
          <p:nvPr/>
        </p:nvSpPr>
        <p:spPr>
          <a:xfrm>
            <a:off x="539640" y="1197000"/>
            <a:ext cx="86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已知：线段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 ∠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α 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求作：△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使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＝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B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＝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 ∠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BC 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＝∠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007640" y="2133720"/>
            <a:ext cx="1656000" cy="419040"/>
            <a:chOff x="1007640" y="2133720"/>
            <a:chExt cx="1656000" cy="419040"/>
          </a:xfrm>
        </p:grpSpPr>
        <p:sp>
          <p:nvSpPr>
            <p:cNvPr id="205" name="Line 11"/>
            <p:cNvSpPr/>
            <p:nvPr/>
          </p:nvSpPr>
          <p:spPr>
            <a:xfrm>
              <a:off x="1008000" y="25509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"/>
            <p:cNvSpPr/>
            <p:nvPr/>
          </p:nvSpPr>
          <p:spPr>
            <a:xfrm flipH="1">
              <a:off x="1007640" y="247824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6"/>
            <p:cNvSpPr/>
            <p:nvPr/>
          </p:nvSpPr>
          <p:spPr>
            <a:xfrm flipH="1">
              <a:off x="2630160" y="2496960"/>
              <a:ext cx="19080" cy="5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1582560" y="21337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4"/>
          <p:cNvGrpSpPr/>
          <p:nvPr/>
        </p:nvGrpSpPr>
        <p:grpSpPr>
          <a:xfrm>
            <a:off x="3095640" y="2060640"/>
            <a:ext cx="1024920" cy="453960"/>
            <a:chOff x="3095640" y="2060640"/>
            <a:chExt cx="1024920" cy="453960"/>
          </a:xfrm>
        </p:grpSpPr>
        <p:sp>
          <p:nvSpPr>
            <p:cNvPr id="210" name="Line 12"/>
            <p:cNvSpPr/>
            <p:nvPr/>
          </p:nvSpPr>
          <p:spPr>
            <a:xfrm>
              <a:off x="3111480" y="249372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H="1">
              <a:off x="3095640" y="2457360"/>
              <a:ext cx="1872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 flipH="1">
              <a:off x="4101480" y="2458800"/>
              <a:ext cx="19080" cy="5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3398760" y="20606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5"/>
          <p:cNvGrpSpPr/>
          <p:nvPr/>
        </p:nvGrpSpPr>
        <p:grpSpPr>
          <a:xfrm>
            <a:off x="4751280" y="1484280"/>
            <a:ext cx="2519280" cy="1075680"/>
            <a:chOff x="4751280" y="1484280"/>
            <a:chExt cx="2519280" cy="1075680"/>
          </a:xfrm>
        </p:grpSpPr>
        <p:sp>
          <p:nvSpPr>
            <p:cNvPr id="215" name="Line 13"/>
            <p:cNvSpPr/>
            <p:nvPr/>
          </p:nvSpPr>
          <p:spPr>
            <a:xfrm>
              <a:off x="4751280" y="249228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V="1">
              <a:off x="4751280" y="1484280"/>
              <a:ext cx="194292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rc 21"/>
            <p:cNvSpPr/>
            <p:nvPr/>
          </p:nvSpPr>
          <p:spPr>
            <a:xfrm flipH="1" rot="7190400">
              <a:off x="4968000" y="2418480"/>
              <a:ext cx="71280" cy="7272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2"/>
            <p:cNvSpPr/>
            <p:nvPr/>
          </p:nvSpPr>
          <p:spPr>
            <a:xfrm>
              <a:off x="5164560" y="2100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Line 26"/>
          <p:cNvSpPr/>
          <p:nvPr/>
        </p:nvSpPr>
        <p:spPr>
          <a:xfrm>
            <a:off x="1511280" y="4581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150920" y="4168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4991040" y="41083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rc 29"/>
          <p:cNvSpPr/>
          <p:nvPr/>
        </p:nvSpPr>
        <p:spPr>
          <a:xfrm rot="1678800">
            <a:off x="4966920" y="1699920"/>
            <a:ext cx="1130400" cy="127944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fill="none" w="21096" h="21300">
                <a:moveTo>
                  <a:pt x="3586" y="-1"/>
                </a:moveTo>
                <a:cubicBezTo>
                  <a:pt x="12274" y="1462"/>
                  <a:pt x="19203" y="8055"/>
                  <a:pt x="21095" y="16660"/>
                </a:cubicBezTo>
              </a:path>
              <a:path stroke="0" w="21096" h="21300">
                <a:moveTo>
                  <a:pt x="3586" y="-1"/>
                </a:moveTo>
                <a:cubicBezTo>
                  <a:pt x="12274" y="1462"/>
                  <a:pt x="19203" y="8055"/>
                  <a:pt x="21095" y="16660"/>
                </a:cubicBezTo>
                <a:lnTo>
                  <a:pt x="0" y="213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31"/>
          <p:cNvSpPr/>
          <p:nvPr/>
        </p:nvSpPr>
        <p:spPr>
          <a:xfrm rot="1678800">
            <a:off x="1726920" y="3715920"/>
            <a:ext cx="1130400" cy="127944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fill="none" w="21096" h="21300">
                <a:moveTo>
                  <a:pt x="3586" y="-1"/>
                </a:moveTo>
                <a:cubicBezTo>
                  <a:pt x="12274" y="1462"/>
                  <a:pt x="19203" y="8055"/>
                  <a:pt x="21095" y="16660"/>
                </a:cubicBezTo>
              </a:path>
              <a:path stroke="0" w="21096" h="21300">
                <a:moveTo>
                  <a:pt x="3586" y="-1"/>
                </a:moveTo>
                <a:cubicBezTo>
                  <a:pt x="12274" y="1462"/>
                  <a:pt x="19203" y="8055"/>
                  <a:pt x="21095" y="16660"/>
                </a:cubicBezTo>
                <a:lnTo>
                  <a:pt x="0" y="213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597528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5649840" y="15098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2643120" y="45370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D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36"/>
          <p:cNvSpPr/>
          <p:nvPr/>
        </p:nvSpPr>
        <p:spPr>
          <a:xfrm flipV="1" rot="12757800">
            <a:off x="2374920" y="3933000"/>
            <a:ext cx="503280" cy="495360"/>
          </a:xfrm>
          <a:custGeom>
            <a:avLst/>
            <a:gdLst>
              <a:gd name="textAreaLeft" fmla="*/ 0 w 503280"/>
              <a:gd name="textAreaRight" fmla="*/ 503640 w 503280"/>
              <a:gd name="textAreaTop" fmla="*/ 360 h 495360"/>
              <a:gd name="textAreaBottom" fmla="*/ 496080 h 49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2519280" y="3645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 flipV="1">
            <a:off x="1511280" y="3284640"/>
            <a:ext cx="2592360" cy="12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3832200" y="2808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41"/>
          <p:cNvSpPr/>
          <p:nvPr/>
        </p:nvSpPr>
        <p:spPr>
          <a:xfrm rot="283200">
            <a:off x="3166920" y="4365360"/>
            <a:ext cx="71640" cy="485640"/>
          </a:xfrm>
          <a:custGeom>
            <a:avLst/>
            <a:gdLst>
              <a:gd name="textAreaLeft" fmla="*/ 0 w 71640"/>
              <a:gd name="textAreaRight" fmla="*/ 72000 w 716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fill="none" w="21272" h="18218">
                <a:moveTo>
                  <a:pt x="11604" y="0"/>
                </a:moveTo>
                <a:cubicBezTo>
                  <a:pt x="16713" y="3254"/>
                  <a:pt x="20220" y="8503"/>
                  <a:pt x="21271" y="14468"/>
                </a:cubicBezTo>
              </a:path>
              <a:path stroke="0" w="21272" h="18218">
                <a:moveTo>
                  <a:pt x="11604" y="0"/>
                </a:moveTo>
                <a:cubicBezTo>
                  <a:pt x="16713" y="3254"/>
                  <a:pt x="20220" y="8503"/>
                  <a:pt x="21271" y="14468"/>
                </a:cubicBezTo>
                <a:lnTo>
                  <a:pt x="0" y="1821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3166920" y="45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43"/>
          <p:cNvSpPr/>
          <p:nvPr/>
        </p:nvSpPr>
        <p:spPr>
          <a:xfrm>
            <a:off x="2303640" y="3933720"/>
            <a:ext cx="144360" cy="358920"/>
          </a:xfrm>
          <a:custGeom>
            <a:avLst/>
            <a:gdLst>
              <a:gd name="textAreaLeft" fmla="*/ 0 w 144360"/>
              <a:gd name="textAreaRight" fmla="*/ 144360 w 1443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1943280" y="38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>
            <a:off x="2444760" y="41148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7"/>
          <p:cNvSpPr/>
          <p:nvPr/>
        </p:nvSpPr>
        <p:spPr>
          <a:xfrm>
            <a:off x="5472000" y="2997360"/>
            <a:ext cx="4211640" cy="3860640"/>
          </a:xfrm>
          <a:prstGeom prst="rect">
            <a:avLst/>
          </a:prstGeom>
          <a:solidFill>
            <a:srgbClr val="9efb6b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6"/>
          <p:cNvSpPr/>
          <p:nvPr/>
        </p:nvSpPr>
        <p:spPr>
          <a:xfrm>
            <a:off x="5472000" y="40053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作∠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MBN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＝ ∠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8"/>
          <p:cNvSpPr/>
          <p:nvPr/>
        </p:nvSpPr>
        <p:spPr>
          <a:xfrm>
            <a:off x="5472000" y="44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(2)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在射线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 M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上截取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＝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,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在射线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 N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上截取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A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＝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b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9"/>
          <p:cNvSpPr/>
          <p:nvPr/>
        </p:nvSpPr>
        <p:spPr>
          <a:xfrm>
            <a:off x="5688000" y="5373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(3)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连接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0"/>
          <p:cNvSpPr/>
          <p:nvPr/>
        </p:nvSpPr>
        <p:spPr>
          <a:xfrm>
            <a:off x="5688000" y="603576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则△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800080"/>
                </a:solidFill>
                <a:latin typeface="Comic Sans MS"/>
              </a:rPr>
              <a:t>为所求作的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loud"/>
          <p:cNvSpPr/>
          <p:nvPr/>
        </p:nvSpPr>
        <p:spPr>
          <a:xfrm>
            <a:off x="5327640" y="2924280"/>
            <a:ext cx="1548000" cy="1001520"/>
          </a:xfrm>
          <a:prstGeom prst="pie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Comic Sans MS"/>
              </a:rPr>
              <a:t>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4"/>
          <p:cNvGrpSpPr/>
          <p:nvPr/>
        </p:nvGrpSpPr>
        <p:grpSpPr>
          <a:xfrm>
            <a:off x="863640" y="2852640"/>
            <a:ext cx="2447640" cy="792360"/>
            <a:chOff x="863640" y="2852640"/>
            <a:chExt cx="2447640" cy="792360"/>
          </a:xfrm>
        </p:grpSpPr>
        <p:sp>
          <p:nvSpPr>
            <p:cNvPr id="243" name="Oval 53"/>
            <p:cNvSpPr/>
            <p:nvPr/>
          </p:nvSpPr>
          <p:spPr>
            <a:xfrm>
              <a:off x="863640" y="2852640"/>
              <a:ext cx="2376360" cy="792360"/>
            </a:xfrm>
            <a:prstGeom prst="ellipse">
              <a:avLst/>
            </a:prstGeom>
            <a:solidFill>
              <a:srgbClr val="9efb6b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1"/>
            <p:cNvSpPr/>
            <p:nvPr/>
          </p:nvSpPr>
          <p:spPr>
            <a:xfrm>
              <a:off x="979200" y="2997360"/>
              <a:ext cx="23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f497d"/>
                  </a:solidFill>
                  <a:latin typeface="Comic Sans MS"/>
                </a:rPr>
                <a:t>作法与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6"/>
          <p:cNvGrpSpPr/>
          <p:nvPr/>
        </p:nvGrpSpPr>
        <p:grpSpPr>
          <a:xfrm>
            <a:off x="1122480" y="579600"/>
            <a:ext cx="2232000" cy="863280"/>
            <a:chOff x="1122480" y="579600"/>
            <a:chExt cx="2232000" cy="863280"/>
          </a:xfrm>
        </p:grpSpPr>
        <p:sp>
          <p:nvSpPr>
            <p:cNvPr id="246" name="Oval 4"/>
            <p:cNvSpPr/>
            <p:nvPr/>
          </p:nvSpPr>
          <p:spPr>
            <a:xfrm>
              <a:off x="1122480" y="579600"/>
              <a:ext cx="2232000" cy="863280"/>
            </a:xfrm>
            <a:prstGeom prst="ellipse">
              <a:avLst/>
            </a:prstGeom>
            <a:solidFill>
              <a:srgbClr val="4f81bd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1409760" y="7239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Comic Sans MS"/>
                </a:rPr>
                <a:t>做一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7"/>
          <p:cNvSpPr/>
          <p:nvPr/>
        </p:nvSpPr>
        <p:spPr>
          <a:xfrm>
            <a:off x="1251000" y="1527120"/>
            <a:ext cx="85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你能按照书上</a:t>
            </a: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88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页</a:t>
            </a: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中的条件作出三角形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68280" y="22464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剪下各自所做的三角形和同伴比较看是否全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452600" y="332424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能说出全等的理由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STAR2"/>
          <p:cNvPicPr/>
          <p:nvPr/>
        </p:nvPicPr>
        <p:blipFill>
          <a:blip r:embed="rId1"/>
          <a:stretch/>
        </p:blipFill>
        <p:spPr>
          <a:xfrm>
            <a:off x="550800" y="3362400"/>
            <a:ext cx="801720" cy="622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STAR2"/>
          <p:cNvPicPr/>
          <p:nvPr/>
        </p:nvPicPr>
        <p:blipFill>
          <a:blip r:embed="rId2"/>
          <a:stretch/>
        </p:blipFill>
        <p:spPr>
          <a:xfrm>
            <a:off x="512640" y="1598760"/>
            <a:ext cx="801720" cy="622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STAR2"/>
          <p:cNvPicPr/>
          <p:nvPr/>
        </p:nvPicPr>
        <p:blipFill>
          <a:blip r:embed="rId3"/>
          <a:stretch/>
        </p:blipFill>
        <p:spPr>
          <a:xfrm>
            <a:off x="512640" y="2319480"/>
            <a:ext cx="801720" cy="622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22"/>
          <p:cNvGrpSpPr/>
          <p:nvPr/>
        </p:nvGrpSpPr>
        <p:grpSpPr>
          <a:xfrm>
            <a:off x="2189160" y="3932280"/>
            <a:ext cx="6516720" cy="1944720"/>
            <a:chOff x="2189160" y="3932280"/>
            <a:chExt cx="6516720" cy="1944720"/>
          </a:xfrm>
        </p:grpSpPr>
        <p:sp>
          <p:nvSpPr>
            <p:cNvPr id="255" name="Cloud"/>
            <p:cNvSpPr/>
            <p:nvPr/>
          </p:nvSpPr>
          <p:spPr>
            <a:xfrm>
              <a:off x="2189160" y="3932280"/>
              <a:ext cx="6516720" cy="1944720"/>
            </a:xfrm>
            <a:custGeom>
              <a:avLst/>
              <a:gdLst>
                <a:gd name="textAreaLeft" fmla="*/ 898200 w 6516720"/>
                <a:gd name="textAreaRight" fmla="*/ 5154480 w 6516720"/>
                <a:gd name="textAreaTop" fmla="*/ 293400 h 1944720"/>
                <a:gd name="textAreaBottom" fmla="*/ 156060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ccff"/>
            </a:solidFill>
            <a:ln w="57240">
              <a:solidFill>
                <a:srgbClr val="80008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5"/>
            <p:cNvSpPr/>
            <p:nvPr/>
          </p:nvSpPr>
          <p:spPr>
            <a:xfrm>
              <a:off x="2909880" y="4292640"/>
              <a:ext cx="54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两边及它们的夹角对应相等的两个三角形全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471840" y="4680"/>
            <a:ext cx="62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已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三角形的两角及它们的夹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求作 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369360" y="55080"/>
            <a:ext cx="3485160" cy="3603960"/>
            <a:chOff x="369360" y="55080"/>
            <a:chExt cx="3485160" cy="3603960"/>
          </a:xfrm>
        </p:grpSpPr>
        <p:sp>
          <p:nvSpPr>
            <p:cNvPr id="259" name="AutoShape 4"/>
            <p:cNvSpPr/>
            <p:nvPr/>
          </p:nvSpPr>
          <p:spPr>
            <a:xfrm rot="29400">
              <a:off x="390240" y="69120"/>
              <a:ext cx="3336840" cy="3560760"/>
            </a:xfrm>
            <a:custGeom>
              <a:avLst/>
              <a:gdLst>
                <a:gd name="textAreaLeft" fmla="*/ 64080 w 3336840"/>
                <a:gd name="textAreaRight" fmla="*/ 3272760 w 3336840"/>
                <a:gd name="textAreaTop" fmla="*/ 0 h 3560760"/>
                <a:gd name="textAreaBottom" fmla="*/ 1510560 h 35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66" y="7848"/>
                  </a:moveTo>
                  <a:cubicBezTo>
                    <a:pt x="6722" y="6010"/>
                    <a:pt x="8680" y="4877"/>
                    <a:pt x="10800" y="4878"/>
                  </a:cubicBezTo>
                  <a:cubicBezTo>
                    <a:pt x="12919" y="4878"/>
                    <a:pt x="14877" y="6010"/>
                    <a:pt x="15933" y="7848"/>
                  </a:cubicBezTo>
                  <a:lnTo>
                    <a:pt x="20162" y="5416"/>
                  </a:lnTo>
                  <a:cubicBezTo>
                    <a:pt x="18235" y="2065"/>
                    <a:pt x="14665" y="-1"/>
                    <a:pt x="10799" y="0"/>
                  </a:cubicBezTo>
                  <a:cubicBezTo>
                    <a:pt x="6934" y="0"/>
                    <a:pt x="3364" y="2065"/>
                    <a:pt x="1437" y="5416"/>
                  </a:cubicBezTo>
                  <a:close/>
                </a:path>
              </a:pathLst>
            </a:cu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WordArt 5" descr=""/>
            <p:cNvPicPr/>
            <p:nvPr/>
          </p:nvPicPr>
          <p:blipFill>
            <a:blip r:embed="rId1"/>
            <a:stretch/>
          </p:blipFill>
          <p:spPr>
            <a:xfrm rot="21599400">
              <a:off x="369360" y="286560"/>
              <a:ext cx="3484440" cy="337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6"/>
          <p:cNvGrpSpPr/>
          <p:nvPr/>
        </p:nvGrpSpPr>
        <p:grpSpPr>
          <a:xfrm>
            <a:off x="555480" y="1417680"/>
            <a:ext cx="2665440" cy="792000"/>
            <a:chOff x="555480" y="1417680"/>
            <a:chExt cx="2665440" cy="792000"/>
          </a:xfrm>
        </p:grpSpPr>
        <p:sp>
          <p:nvSpPr>
            <p:cNvPr id="262" name="Oval 7"/>
            <p:cNvSpPr/>
            <p:nvPr/>
          </p:nvSpPr>
          <p:spPr>
            <a:xfrm>
              <a:off x="555480" y="1417680"/>
              <a:ext cx="2665440" cy="792000"/>
            </a:xfrm>
            <a:prstGeom prst="ellips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700200" y="147780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设置疑问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9"/>
          <p:cNvSpPr/>
          <p:nvPr/>
        </p:nvSpPr>
        <p:spPr>
          <a:xfrm>
            <a:off x="2967120" y="148896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∠α,∠β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988920" y="350532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求作：△ＡＢ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使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α,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Ｂ＝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ＡＢ＝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6"/>
          <p:cNvGrpSpPr/>
          <p:nvPr/>
        </p:nvGrpSpPr>
        <p:grpSpPr>
          <a:xfrm>
            <a:off x="4048200" y="1920960"/>
            <a:ext cx="2518920" cy="1601640"/>
            <a:chOff x="4048200" y="1920960"/>
            <a:chExt cx="2518920" cy="1601640"/>
          </a:xfrm>
        </p:grpSpPr>
        <p:sp>
          <p:nvSpPr>
            <p:cNvPr id="267" name="Line 17"/>
            <p:cNvSpPr/>
            <p:nvPr/>
          </p:nvSpPr>
          <p:spPr>
            <a:xfrm>
              <a:off x="4190760" y="34336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 flipV="1">
              <a:off x="4190760" y="1920960"/>
              <a:ext cx="86508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19"/>
            <p:cNvSpPr/>
            <p:nvPr/>
          </p:nvSpPr>
          <p:spPr>
            <a:xfrm>
              <a:off x="4263840" y="3289320"/>
              <a:ext cx="71280" cy="1443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0"/>
            <p:cNvSpPr/>
            <p:nvPr/>
          </p:nvSpPr>
          <p:spPr>
            <a:xfrm>
              <a:off x="4048200" y="300204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1"/>
          <p:cNvGrpSpPr/>
          <p:nvPr/>
        </p:nvGrpSpPr>
        <p:grpSpPr>
          <a:xfrm>
            <a:off x="7143840" y="2857680"/>
            <a:ext cx="1944720" cy="576000"/>
            <a:chOff x="7143840" y="2857680"/>
            <a:chExt cx="1944720" cy="576000"/>
          </a:xfrm>
        </p:grpSpPr>
        <p:sp>
          <p:nvSpPr>
            <p:cNvPr id="272" name="Line 22"/>
            <p:cNvSpPr/>
            <p:nvPr/>
          </p:nvSpPr>
          <p:spPr>
            <a:xfrm>
              <a:off x="7143840" y="343368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3"/>
            <p:cNvSpPr/>
            <p:nvPr/>
          </p:nvSpPr>
          <p:spPr>
            <a:xfrm flipV="1">
              <a:off x="7143840" y="336204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4"/>
            <p:cNvSpPr/>
            <p:nvPr/>
          </p:nvSpPr>
          <p:spPr>
            <a:xfrm flipV="1">
              <a:off x="9088560" y="32893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5"/>
            <p:cNvSpPr/>
            <p:nvPr/>
          </p:nvSpPr>
          <p:spPr>
            <a:xfrm>
              <a:off x="7575840" y="28576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6"/>
          <p:cNvGrpSpPr/>
          <p:nvPr/>
        </p:nvGrpSpPr>
        <p:grpSpPr>
          <a:xfrm>
            <a:off x="555480" y="4154400"/>
            <a:ext cx="2665440" cy="790560"/>
            <a:chOff x="555480" y="4154400"/>
            <a:chExt cx="2665440" cy="790560"/>
          </a:xfrm>
        </p:grpSpPr>
        <p:sp>
          <p:nvSpPr>
            <p:cNvPr id="277" name="Oval 27"/>
            <p:cNvSpPr/>
            <p:nvPr/>
          </p:nvSpPr>
          <p:spPr>
            <a:xfrm>
              <a:off x="555480" y="4154400"/>
              <a:ext cx="2665440" cy="790560"/>
            </a:xfrm>
            <a:prstGeom prst="ellips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8"/>
            <p:cNvSpPr/>
            <p:nvPr/>
          </p:nvSpPr>
          <p:spPr>
            <a:xfrm>
              <a:off x="700200" y="421452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作法示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9"/>
          <p:cNvGrpSpPr/>
          <p:nvPr/>
        </p:nvGrpSpPr>
        <p:grpSpPr>
          <a:xfrm>
            <a:off x="3255840" y="6070680"/>
            <a:ext cx="5580360" cy="792000"/>
            <a:chOff x="3255840" y="6070680"/>
            <a:chExt cx="5580360" cy="792000"/>
          </a:xfrm>
        </p:grpSpPr>
        <p:sp>
          <p:nvSpPr>
            <p:cNvPr id="280" name="Rectangle 30"/>
            <p:cNvSpPr/>
            <p:nvPr/>
          </p:nvSpPr>
          <p:spPr>
            <a:xfrm>
              <a:off x="3255840" y="6070680"/>
              <a:ext cx="5580360" cy="792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1"/>
            <p:cNvSpPr/>
            <p:nvPr/>
          </p:nvSpPr>
          <p:spPr>
            <a:xfrm>
              <a:off x="3255840" y="6143400"/>
              <a:ext cx="558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作法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:(1)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作线段 ＡＢ＝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rc 32"/>
          <p:cNvSpPr/>
          <p:nvPr/>
        </p:nvSpPr>
        <p:spPr>
          <a:xfrm>
            <a:off x="3832200" y="5305320"/>
            <a:ext cx="1943280" cy="49212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fill="none" w="21600" h="6332">
                <a:moveTo>
                  <a:pt x="21166" y="-1"/>
                </a:moveTo>
                <a:cubicBezTo>
                  <a:pt x="21454" y="1417"/>
                  <a:pt x="21600" y="2859"/>
                  <a:pt x="21600" y="4306"/>
                </a:cubicBezTo>
                <a:cubicBezTo>
                  <a:pt x="21600" y="4982"/>
                  <a:pt x="21568" y="5658"/>
                  <a:pt x="21504" y="6331"/>
                </a:cubicBezTo>
              </a:path>
              <a:path stroke="0" w="21600" h="6332">
                <a:moveTo>
                  <a:pt x="21166" y="-1"/>
                </a:moveTo>
                <a:cubicBezTo>
                  <a:pt x="21454" y="1417"/>
                  <a:pt x="21600" y="2859"/>
                  <a:pt x="21600" y="4306"/>
                </a:cubicBezTo>
                <a:cubicBezTo>
                  <a:pt x="21600" y="4982"/>
                  <a:pt x="21568" y="5658"/>
                  <a:pt x="21504" y="6331"/>
                </a:cubicBezTo>
                <a:lnTo>
                  <a:pt x="0" y="43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3255840" y="5089680"/>
            <a:ext cx="4614840" cy="618480"/>
            <a:chOff x="3255840" y="5089680"/>
            <a:chExt cx="4614840" cy="618480"/>
          </a:xfrm>
        </p:grpSpPr>
        <p:sp>
          <p:nvSpPr>
            <p:cNvPr id="284" name="Line 34"/>
            <p:cNvSpPr/>
            <p:nvPr/>
          </p:nvSpPr>
          <p:spPr>
            <a:xfrm>
              <a:off x="3832200" y="5594760"/>
              <a:ext cx="30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 flipV="1">
              <a:off x="3832200" y="55213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6"/>
            <p:cNvSpPr/>
            <p:nvPr/>
          </p:nvSpPr>
          <p:spPr>
            <a:xfrm>
              <a:off x="3255840" y="508968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37"/>
            <p:cNvSpPr/>
            <p:nvPr/>
          </p:nvSpPr>
          <p:spPr>
            <a:xfrm>
              <a:off x="7151400" y="52484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8"/>
          <p:cNvGrpSpPr/>
          <p:nvPr/>
        </p:nvGrpSpPr>
        <p:grpSpPr>
          <a:xfrm>
            <a:off x="3255840" y="5089680"/>
            <a:ext cx="4614840" cy="618480"/>
            <a:chOff x="3255840" y="5089680"/>
            <a:chExt cx="4614840" cy="618480"/>
          </a:xfrm>
        </p:grpSpPr>
        <p:sp>
          <p:nvSpPr>
            <p:cNvPr id="289" name="Line 39"/>
            <p:cNvSpPr/>
            <p:nvPr/>
          </p:nvSpPr>
          <p:spPr>
            <a:xfrm>
              <a:off x="3832200" y="5594760"/>
              <a:ext cx="3095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0"/>
            <p:cNvSpPr/>
            <p:nvPr/>
          </p:nvSpPr>
          <p:spPr>
            <a:xfrm flipV="1">
              <a:off x="3832200" y="5521320"/>
              <a:ext cx="0" cy="73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1"/>
            <p:cNvSpPr/>
            <p:nvPr/>
          </p:nvSpPr>
          <p:spPr>
            <a:xfrm>
              <a:off x="3255840" y="508968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2"/>
            <p:cNvSpPr/>
            <p:nvPr/>
          </p:nvSpPr>
          <p:spPr>
            <a:xfrm>
              <a:off x="7151400" y="52484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43"/>
          <p:cNvSpPr/>
          <p:nvPr/>
        </p:nvSpPr>
        <p:spPr>
          <a:xfrm>
            <a:off x="5632560" y="51624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4"/>
          <p:cNvGrpSpPr/>
          <p:nvPr/>
        </p:nvGrpSpPr>
        <p:grpSpPr>
          <a:xfrm>
            <a:off x="3614760" y="6097680"/>
            <a:ext cx="4753080" cy="765000"/>
            <a:chOff x="3614760" y="6097680"/>
            <a:chExt cx="4753080" cy="765000"/>
          </a:xfrm>
        </p:grpSpPr>
        <p:sp>
          <p:nvSpPr>
            <p:cNvPr id="295" name="Rectangle 45"/>
            <p:cNvSpPr/>
            <p:nvPr/>
          </p:nvSpPr>
          <p:spPr>
            <a:xfrm>
              <a:off x="3687840" y="6097680"/>
              <a:ext cx="4392360" cy="765000"/>
            </a:xfrm>
            <a:prstGeom prst="rect">
              <a:avLst/>
            </a:prstGeom>
            <a:solidFill>
              <a:srgbClr val="bec20c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46"/>
            <p:cNvSpPr/>
            <p:nvPr/>
          </p:nvSpPr>
          <p:spPr>
            <a:xfrm>
              <a:off x="3614760" y="616896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作∠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∠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rc 47"/>
          <p:cNvSpPr/>
          <p:nvPr/>
        </p:nvSpPr>
        <p:spPr>
          <a:xfrm rot="850800">
            <a:off x="1239840" y="2857320"/>
            <a:ext cx="863640" cy="568080"/>
          </a:xfrm>
          <a:custGeom>
            <a:avLst/>
            <a:gdLst>
              <a:gd name="textAreaLeft" fmla="*/ 0 w 863640"/>
              <a:gd name="textAreaRight" fmla="*/ 864000 w 86364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fill="none" w="21600" h="17078">
                <a:moveTo>
                  <a:pt x="13225" y="-1"/>
                </a:moveTo>
                <a:cubicBezTo>
                  <a:pt x="18507" y="4090"/>
                  <a:pt x="21600" y="10396"/>
                  <a:pt x="21600" y="17078"/>
                </a:cubicBezTo>
              </a:path>
              <a:path stroke="0" w="21600" h="17078">
                <a:moveTo>
                  <a:pt x="13225" y="-1"/>
                </a:moveTo>
                <a:cubicBezTo>
                  <a:pt x="18507" y="4090"/>
                  <a:pt x="21600" y="10396"/>
                  <a:pt x="21600" y="17078"/>
                </a:cubicBezTo>
                <a:lnTo>
                  <a:pt x="0" y="1707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rc 48"/>
          <p:cNvSpPr/>
          <p:nvPr/>
        </p:nvSpPr>
        <p:spPr>
          <a:xfrm rot="850800">
            <a:off x="4060800" y="4881600"/>
            <a:ext cx="863640" cy="714240"/>
          </a:xfrm>
          <a:custGeom>
            <a:avLst/>
            <a:gdLst>
              <a:gd name="textAreaLeft" fmla="*/ 0 w 863640"/>
              <a:gd name="textAreaRight" fmla="*/ 864000 w 8636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fill="none" w="21600" h="21478">
                <a:moveTo>
                  <a:pt x="2288" y="-1"/>
                </a:moveTo>
                <a:cubicBezTo>
                  <a:pt x="13269" y="1169"/>
                  <a:pt x="21600" y="10434"/>
                  <a:pt x="21600" y="21478"/>
                </a:cubicBezTo>
              </a:path>
              <a:path stroke="0" w="21600" h="21478">
                <a:moveTo>
                  <a:pt x="2288" y="-1"/>
                </a:moveTo>
                <a:cubicBezTo>
                  <a:pt x="13269" y="1169"/>
                  <a:pt x="21600" y="10434"/>
                  <a:pt x="21600" y="21478"/>
                </a:cubicBezTo>
                <a:lnTo>
                  <a:pt x="0" y="2147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9"/>
          <p:cNvSpPr/>
          <p:nvPr/>
        </p:nvSpPr>
        <p:spPr>
          <a:xfrm flipV="1">
            <a:off x="3832200" y="4154400"/>
            <a:ext cx="27352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0"/>
          <p:cNvSpPr/>
          <p:nvPr/>
        </p:nvSpPr>
        <p:spPr>
          <a:xfrm>
            <a:off x="6351480" y="38656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51"/>
          <p:cNvSpPr/>
          <p:nvPr/>
        </p:nvSpPr>
        <p:spPr>
          <a:xfrm rot="20386800">
            <a:off x="4766760" y="4441680"/>
            <a:ext cx="817560" cy="1195560"/>
          </a:xfrm>
          <a:custGeom>
            <a:avLst/>
            <a:gdLst>
              <a:gd name="textAreaLeft" fmla="*/ 0 w 817560"/>
              <a:gd name="textAreaRight" fmla="*/ 817920 w 81756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fill="none" w="17506" h="19931">
                <a:moveTo>
                  <a:pt x="8325" y="0"/>
                </a:moveTo>
                <a:cubicBezTo>
                  <a:pt x="11997" y="1534"/>
                  <a:pt x="15174" y="4052"/>
                  <a:pt x="17506" y="7277"/>
                </a:cubicBezTo>
              </a:path>
              <a:path stroke="0" w="17506" h="19931">
                <a:moveTo>
                  <a:pt x="8325" y="0"/>
                </a:moveTo>
                <a:cubicBezTo>
                  <a:pt x="11997" y="1534"/>
                  <a:pt x="15174" y="4052"/>
                  <a:pt x="17506" y="7277"/>
                </a:cubicBezTo>
                <a:lnTo>
                  <a:pt x="0" y="199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52"/>
          <p:cNvSpPr/>
          <p:nvPr/>
        </p:nvSpPr>
        <p:spPr>
          <a:xfrm rot="12898800">
            <a:off x="4839840" y="4153680"/>
            <a:ext cx="1008000" cy="18385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838520"/>
              <a:gd name="textAreaBottom" fmla="*/ 1838880 h 1838520"/>
            </a:gdLst>
            <a:ahLst/>
            <a:rect l="textAreaLeft" t="textAreaTop" r="textAreaRight" b="textAreaBottom"/>
            <a:pathLst>
              <a:path fill="none" w="21600" h="30681">
                <a:moveTo>
                  <a:pt x="18572" y="-1"/>
                </a:moveTo>
                <a:cubicBezTo>
                  <a:pt x="20554" y="3337"/>
                  <a:pt x="21600" y="7146"/>
                  <a:pt x="21600" y="11028"/>
                </a:cubicBezTo>
                <a:cubicBezTo>
                  <a:pt x="21600" y="19488"/>
                  <a:pt x="16660" y="27170"/>
                  <a:pt x="8962" y="30681"/>
                </a:cubicBezTo>
              </a:path>
              <a:path stroke="0" w="21600" h="30681">
                <a:moveTo>
                  <a:pt x="18572" y="-1"/>
                </a:moveTo>
                <a:cubicBezTo>
                  <a:pt x="20554" y="3337"/>
                  <a:pt x="21600" y="7146"/>
                  <a:pt x="21600" y="11028"/>
                </a:cubicBezTo>
                <a:cubicBezTo>
                  <a:pt x="21600" y="19488"/>
                  <a:pt x="16660" y="27170"/>
                  <a:pt x="8962" y="30681"/>
                </a:cubicBezTo>
                <a:lnTo>
                  <a:pt x="0" y="110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3"/>
          <p:cNvSpPr/>
          <p:nvPr/>
        </p:nvSpPr>
        <p:spPr>
          <a:xfrm>
            <a:off x="4840200" y="4010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4"/>
          <p:cNvSpPr/>
          <p:nvPr/>
        </p:nvSpPr>
        <p:spPr>
          <a:xfrm>
            <a:off x="4911840" y="4010040"/>
            <a:ext cx="86364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5056200" y="4586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56"/>
          <p:cNvSpPr/>
          <p:nvPr/>
        </p:nvSpPr>
        <p:spPr>
          <a:xfrm flipV="1" rot="12997200">
            <a:off x="4368960" y="5004360"/>
            <a:ext cx="622080" cy="682560"/>
          </a:xfrm>
          <a:custGeom>
            <a:avLst/>
            <a:gdLst>
              <a:gd name="textAreaLeft" fmla="*/ 0 w 622080"/>
              <a:gd name="textAreaRight" fmla="*/ 622440 w 622080"/>
              <a:gd name="textAreaTop" fmla="*/ 0 h 682560"/>
              <a:gd name="textAreaBottom" fmla="*/ 682560 h 682560"/>
            </a:gdLst>
            <a:ahLst/>
            <a:rect l="textAreaLeft" t="textAreaTop" r="textAreaRight" b="textAreaBottom"/>
            <a:pathLst>
              <a:path fill="none" w="21600" h="255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941"/>
                  <a:pt x="21475" y="24279"/>
                  <a:pt x="21226" y="25596"/>
                </a:cubicBezTo>
              </a:path>
              <a:path stroke="0" w="21600" h="255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941"/>
                  <a:pt x="21475" y="24279"/>
                  <a:pt x="21226" y="2559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57"/>
          <p:cNvSpPr/>
          <p:nvPr/>
        </p:nvSpPr>
        <p:spPr>
          <a:xfrm rot="19411800">
            <a:off x="4335480" y="2209320"/>
            <a:ext cx="1008000" cy="1747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fill="none" w="21600" h="29152">
                <a:moveTo>
                  <a:pt x="16438" y="0"/>
                </a:moveTo>
                <a:cubicBezTo>
                  <a:pt x="19770" y="3908"/>
                  <a:pt x="21600" y="8876"/>
                  <a:pt x="21600" y="14012"/>
                </a:cubicBezTo>
                <a:cubicBezTo>
                  <a:pt x="21600" y="19675"/>
                  <a:pt x="19375" y="25112"/>
                  <a:pt x="15405" y="29151"/>
                </a:cubicBezTo>
              </a:path>
              <a:path stroke="0" w="21600" h="29152">
                <a:moveTo>
                  <a:pt x="16438" y="0"/>
                </a:moveTo>
                <a:cubicBezTo>
                  <a:pt x="19770" y="3908"/>
                  <a:pt x="21600" y="8876"/>
                  <a:pt x="21600" y="14012"/>
                </a:cubicBezTo>
                <a:cubicBezTo>
                  <a:pt x="21600" y="19675"/>
                  <a:pt x="19375" y="25112"/>
                  <a:pt x="15405" y="29151"/>
                </a:cubicBezTo>
                <a:lnTo>
                  <a:pt x="0" y="1401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8"/>
          <p:cNvGrpSpPr/>
          <p:nvPr/>
        </p:nvGrpSpPr>
        <p:grpSpPr>
          <a:xfrm>
            <a:off x="3637440" y="6114960"/>
            <a:ext cx="4156920" cy="864000"/>
            <a:chOff x="3637440" y="6114960"/>
            <a:chExt cx="4156920" cy="864000"/>
          </a:xfrm>
        </p:grpSpPr>
        <p:sp>
          <p:nvSpPr>
            <p:cNvPr id="309" name="Arc 59"/>
            <p:cNvSpPr/>
            <p:nvPr/>
          </p:nvSpPr>
          <p:spPr>
            <a:xfrm flipV="1" rot="11161800">
              <a:off x="3648960" y="6704640"/>
              <a:ext cx="431640" cy="251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fill="none" w="25111" h="21600">
                  <a:moveTo>
                    <a:pt x="0" y="424"/>
                  </a:moveTo>
                  <a:cubicBezTo>
                    <a:pt x="1402" y="142"/>
                    <a:pt x="2829" y="-1"/>
                    <a:pt x="4260" y="0"/>
                  </a:cubicBezTo>
                  <a:cubicBezTo>
                    <a:pt x="14017" y="0"/>
                    <a:pt x="22563" y="6541"/>
                    <a:pt x="25110" y="15960"/>
                  </a:cubicBezTo>
                </a:path>
                <a:path stroke="0" w="25111" h="21600">
                  <a:moveTo>
                    <a:pt x="0" y="424"/>
                  </a:moveTo>
                  <a:cubicBezTo>
                    <a:pt x="1402" y="142"/>
                    <a:pt x="2829" y="-1"/>
                    <a:pt x="4260" y="0"/>
                  </a:cubicBezTo>
                  <a:cubicBezTo>
                    <a:pt x="14017" y="0"/>
                    <a:pt x="22563" y="6541"/>
                    <a:pt x="25110" y="15960"/>
                  </a:cubicBezTo>
                  <a:lnTo>
                    <a:pt x="426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60"/>
            <p:cNvSpPr/>
            <p:nvPr/>
          </p:nvSpPr>
          <p:spPr>
            <a:xfrm>
              <a:off x="3711960" y="6114960"/>
              <a:ext cx="4082400" cy="756000"/>
            </a:xfrm>
            <a:prstGeom prst="rect">
              <a:avLst/>
            </a:prstGeom>
            <a:solidFill>
              <a:srgbClr val="bec20c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61"/>
            <p:cNvSpPr/>
            <p:nvPr/>
          </p:nvSpPr>
          <p:spPr>
            <a:xfrm>
              <a:off x="3785400" y="6198120"/>
              <a:ext cx="39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作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2"/>
          <p:cNvGrpSpPr/>
          <p:nvPr/>
        </p:nvGrpSpPr>
        <p:grpSpPr>
          <a:xfrm>
            <a:off x="612720" y="6068880"/>
            <a:ext cx="9143640" cy="747720"/>
            <a:chOff x="612720" y="6068880"/>
            <a:chExt cx="9143640" cy="747720"/>
          </a:xfrm>
        </p:grpSpPr>
        <p:sp>
          <p:nvSpPr>
            <p:cNvPr id="313" name="Rectangle 63"/>
            <p:cNvSpPr/>
            <p:nvPr/>
          </p:nvSpPr>
          <p:spPr>
            <a:xfrm>
              <a:off x="612720" y="6068880"/>
              <a:ext cx="9143640" cy="747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4"/>
            <p:cNvSpPr/>
            <p:nvPr/>
          </p:nvSpPr>
          <p:spPr>
            <a:xfrm>
              <a:off x="612720" y="6068880"/>
              <a:ext cx="877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K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相交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则△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为所求作的三角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68"/>
          <p:cNvGrpSpPr/>
          <p:nvPr/>
        </p:nvGrpSpPr>
        <p:grpSpPr>
          <a:xfrm>
            <a:off x="1095480" y="2280960"/>
            <a:ext cx="2448000" cy="1202760"/>
            <a:chOff x="1095480" y="2280960"/>
            <a:chExt cx="2448000" cy="1202760"/>
          </a:xfrm>
        </p:grpSpPr>
        <p:sp>
          <p:nvSpPr>
            <p:cNvPr id="316" name="Line 12"/>
            <p:cNvSpPr/>
            <p:nvPr/>
          </p:nvSpPr>
          <p:spPr>
            <a:xfrm>
              <a:off x="1095480" y="33624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 flipV="1">
              <a:off x="1095480" y="2280960"/>
              <a:ext cx="223200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1360800" y="3024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rc 67"/>
            <p:cNvSpPr/>
            <p:nvPr/>
          </p:nvSpPr>
          <p:spPr>
            <a:xfrm>
              <a:off x="1382760" y="3217680"/>
              <a:ext cx="73080" cy="144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4"/>
          <p:cNvGrpSpPr/>
          <p:nvPr/>
        </p:nvGrpSpPr>
        <p:grpSpPr>
          <a:xfrm>
            <a:off x="1023840" y="333360"/>
            <a:ext cx="2232000" cy="863640"/>
            <a:chOff x="1023840" y="333360"/>
            <a:chExt cx="2232000" cy="863640"/>
          </a:xfrm>
        </p:grpSpPr>
        <p:sp>
          <p:nvSpPr>
            <p:cNvPr id="321" name="Oval 5"/>
            <p:cNvSpPr/>
            <p:nvPr/>
          </p:nvSpPr>
          <p:spPr>
            <a:xfrm>
              <a:off x="1023840" y="333360"/>
              <a:ext cx="2232000" cy="863640"/>
            </a:xfrm>
            <a:prstGeom prst="ellipse">
              <a:avLst/>
            </a:prstGeom>
            <a:solidFill>
              <a:srgbClr val="4f81bd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1311120" y="4780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Comic Sans MS"/>
                </a:rPr>
                <a:t>做一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7" descr="STAR2"/>
          <p:cNvPicPr/>
          <p:nvPr/>
        </p:nvPicPr>
        <p:blipFill>
          <a:blip r:embed="rId1"/>
          <a:stretch/>
        </p:blipFill>
        <p:spPr>
          <a:xfrm>
            <a:off x="719280" y="1068480"/>
            <a:ext cx="801720" cy="622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STAR2"/>
          <p:cNvPicPr/>
          <p:nvPr/>
        </p:nvPicPr>
        <p:blipFill>
          <a:blip r:embed="rId2"/>
          <a:stretch/>
        </p:blipFill>
        <p:spPr>
          <a:xfrm>
            <a:off x="719280" y="2292480"/>
            <a:ext cx="801720" cy="622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STAR2"/>
          <p:cNvPicPr/>
          <p:nvPr/>
        </p:nvPicPr>
        <p:blipFill>
          <a:blip r:embed="rId3"/>
          <a:stretch/>
        </p:blipFill>
        <p:spPr>
          <a:xfrm>
            <a:off x="719280" y="3373560"/>
            <a:ext cx="801720" cy="6220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0"/>
          <p:cNvSpPr/>
          <p:nvPr/>
        </p:nvSpPr>
        <p:spPr>
          <a:xfrm>
            <a:off x="1546200" y="10684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你能按照书上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9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中的条件作出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1474920" y="222084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剪下各自所做的三角形和同伴比较看是否全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2606760" y="3300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能说出全等的理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938240" y="4713120"/>
            <a:ext cx="6516720" cy="1944720"/>
            <a:chOff x="1938240" y="4713120"/>
            <a:chExt cx="6516720" cy="1944720"/>
          </a:xfrm>
        </p:grpSpPr>
        <p:sp>
          <p:nvSpPr>
            <p:cNvPr id="330" name="Cloud"/>
            <p:cNvSpPr/>
            <p:nvPr/>
          </p:nvSpPr>
          <p:spPr>
            <a:xfrm>
              <a:off x="1938240" y="4713120"/>
              <a:ext cx="6516720" cy="1944720"/>
            </a:xfrm>
            <a:custGeom>
              <a:avLst/>
              <a:gdLst>
                <a:gd name="textAreaLeft" fmla="*/ 898200 w 6516720"/>
                <a:gd name="textAreaRight" fmla="*/ 5154480 w 6516720"/>
                <a:gd name="textAreaTop" fmla="*/ 293400 h 1944720"/>
                <a:gd name="textAreaBottom" fmla="*/ 156060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ccff"/>
            </a:solidFill>
            <a:ln w="57240">
              <a:solidFill>
                <a:srgbClr val="80008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658960" y="5073480"/>
              <a:ext cx="54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两角及它们的夹边对应相等的两个三角形全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18" descr="STAR2"/>
          <p:cNvPicPr/>
          <p:nvPr/>
        </p:nvPicPr>
        <p:blipFill>
          <a:blip r:embed="rId4"/>
          <a:stretch/>
        </p:blipFill>
        <p:spPr>
          <a:xfrm>
            <a:off x="719280" y="4021200"/>
            <a:ext cx="801720" cy="622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9"/>
          <p:cNvSpPr/>
          <p:nvPr/>
        </p:nvSpPr>
        <p:spPr>
          <a:xfrm>
            <a:off x="1330200" y="402120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两角及一边，你会做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359640" y="-15120"/>
            <a:ext cx="3478320" cy="3487320"/>
            <a:chOff x="359640" y="-15120"/>
            <a:chExt cx="3478320" cy="3487320"/>
          </a:xfrm>
        </p:grpSpPr>
        <p:sp>
          <p:nvSpPr>
            <p:cNvPr id="335" name="AutoShape 3"/>
            <p:cNvSpPr/>
            <p:nvPr/>
          </p:nvSpPr>
          <p:spPr>
            <a:xfrm rot="30000">
              <a:off x="374400" y="0"/>
              <a:ext cx="3448080" cy="3457440"/>
            </a:xfrm>
            <a:custGeom>
              <a:avLst/>
              <a:gdLst>
                <a:gd name="textAreaLeft" fmla="*/ 66240 w 3448080"/>
                <a:gd name="textAreaRight" fmla="*/ 3381840 w 3448080"/>
                <a:gd name="textAreaTop" fmla="*/ 0 h 3457440"/>
                <a:gd name="textAreaBottom" fmla="*/ 1467000 h 34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66" y="7848"/>
                  </a:moveTo>
                  <a:cubicBezTo>
                    <a:pt x="6722" y="6010"/>
                    <a:pt x="8680" y="4877"/>
                    <a:pt x="10800" y="4878"/>
                  </a:cubicBezTo>
                  <a:cubicBezTo>
                    <a:pt x="12919" y="4878"/>
                    <a:pt x="14877" y="6010"/>
                    <a:pt x="15933" y="7848"/>
                  </a:cubicBezTo>
                  <a:lnTo>
                    <a:pt x="20162" y="5416"/>
                  </a:lnTo>
                  <a:cubicBezTo>
                    <a:pt x="18235" y="2065"/>
                    <a:pt x="14665" y="-1"/>
                    <a:pt x="10799" y="0"/>
                  </a:cubicBezTo>
                  <a:cubicBezTo>
                    <a:pt x="6934" y="0"/>
                    <a:pt x="3364" y="2065"/>
                    <a:pt x="1437" y="5416"/>
                  </a:cubicBezTo>
                  <a:close/>
                </a:path>
              </a:pathLst>
            </a:cu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WordArt 4" descr=""/>
            <p:cNvPicPr/>
            <p:nvPr/>
          </p:nvPicPr>
          <p:blipFill>
            <a:blip r:embed="rId1"/>
            <a:stretch/>
          </p:blipFill>
          <p:spPr>
            <a:xfrm>
              <a:off x="437760" y="244440"/>
              <a:ext cx="3394080" cy="31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 Box 5"/>
          <p:cNvSpPr/>
          <p:nvPr/>
        </p:nvSpPr>
        <p:spPr>
          <a:xfrm>
            <a:off x="359892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已知三角形的三边求作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6"/>
          <p:cNvGrpSpPr/>
          <p:nvPr/>
        </p:nvGrpSpPr>
        <p:grpSpPr>
          <a:xfrm>
            <a:off x="627120" y="1197000"/>
            <a:ext cx="2665440" cy="722160"/>
            <a:chOff x="627120" y="1197000"/>
            <a:chExt cx="2665440" cy="722160"/>
          </a:xfrm>
        </p:grpSpPr>
        <p:sp>
          <p:nvSpPr>
            <p:cNvPr id="339" name="Oval 7"/>
            <p:cNvSpPr/>
            <p:nvPr/>
          </p:nvSpPr>
          <p:spPr>
            <a:xfrm>
              <a:off x="627120" y="1268280"/>
              <a:ext cx="2665440" cy="650880"/>
            </a:xfrm>
            <a:prstGeom prst="ellips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771480" y="119700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设置疑问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9"/>
          <p:cNvSpPr/>
          <p:nvPr/>
        </p:nvSpPr>
        <p:spPr>
          <a:xfrm>
            <a:off x="3759120" y="155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0"/>
          <p:cNvGrpSpPr/>
          <p:nvPr/>
        </p:nvGrpSpPr>
        <p:grpSpPr>
          <a:xfrm>
            <a:off x="6494400" y="1268280"/>
            <a:ext cx="2447640" cy="969480"/>
            <a:chOff x="6494400" y="1268280"/>
            <a:chExt cx="2447640" cy="969480"/>
          </a:xfrm>
        </p:grpSpPr>
        <p:sp>
          <p:nvSpPr>
            <p:cNvPr id="343" name="Line 11"/>
            <p:cNvSpPr/>
            <p:nvPr/>
          </p:nvSpPr>
          <p:spPr>
            <a:xfrm>
              <a:off x="6494400" y="162864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>
              <a:off x="6494400" y="184464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>
              <a:off x="656568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4"/>
            <p:cNvSpPr/>
            <p:nvPr/>
          </p:nvSpPr>
          <p:spPr>
            <a:xfrm>
              <a:off x="6854760" y="1268280"/>
              <a:ext cx="790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7175160" y="12715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8175600" y="13748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7"/>
            <p:cNvSpPr/>
            <p:nvPr/>
          </p:nvSpPr>
          <p:spPr>
            <a:xfrm>
              <a:off x="8150040" y="1484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8"/>
            <p:cNvSpPr/>
            <p:nvPr/>
          </p:nvSpPr>
          <p:spPr>
            <a:xfrm>
              <a:off x="8081640" y="1778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6494400" y="16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 flipV="1">
              <a:off x="6494400" y="15552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1"/>
            <p:cNvSpPr/>
            <p:nvPr/>
          </p:nvSpPr>
          <p:spPr>
            <a:xfrm flipV="1">
              <a:off x="6494400" y="17712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2"/>
            <p:cNvSpPr/>
            <p:nvPr/>
          </p:nvSpPr>
          <p:spPr>
            <a:xfrm flipV="1">
              <a:off x="6565680" y="2060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V="1">
              <a:off x="8942040" y="17712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4"/>
            <p:cNvSpPr/>
            <p:nvPr/>
          </p:nvSpPr>
          <p:spPr>
            <a:xfrm flipV="1">
              <a:off x="8726400" y="2060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5"/>
            <p:cNvSpPr/>
            <p:nvPr/>
          </p:nvSpPr>
          <p:spPr>
            <a:xfrm flipV="1">
              <a:off x="8150040" y="15552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26"/>
          <p:cNvSpPr/>
          <p:nvPr/>
        </p:nvSpPr>
        <p:spPr>
          <a:xfrm>
            <a:off x="3435480" y="213372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△AB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,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27"/>
          <p:cNvGrpSpPr/>
          <p:nvPr/>
        </p:nvGrpSpPr>
        <p:grpSpPr>
          <a:xfrm>
            <a:off x="627120" y="2133720"/>
            <a:ext cx="2665440" cy="729720"/>
            <a:chOff x="627120" y="2133720"/>
            <a:chExt cx="2665440" cy="729720"/>
          </a:xfrm>
        </p:grpSpPr>
        <p:sp>
          <p:nvSpPr>
            <p:cNvPr id="360" name="Oval 28"/>
            <p:cNvSpPr/>
            <p:nvPr/>
          </p:nvSpPr>
          <p:spPr>
            <a:xfrm>
              <a:off x="627120" y="2217600"/>
              <a:ext cx="2665440" cy="645840"/>
            </a:xfrm>
            <a:prstGeom prst="ellips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9"/>
            <p:cNvSpPr/>
            <p:nvPr/>
          </p:nvSpPr>
          <p:spPr>
            <a:xfrm>
              <a:off x="771480" y="213372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作法示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1"/>
          <p:cNvGrpSpPr/>
          <p:nvPr/>
        </p:nvGrpSpPr>
        <p:grpSpPr>
          <a:xfrm>
            <a:off x="7863120" y="2708280"/>
            <a:ext cx="1657080" cy="1007640"/>
            <a:chOff x="7863120" y="2708280"/>
            <a:chExt cx="1657080" cy="1007640"/>
          </a:xfrm>
        </p:grpSpPr>
        <p:sp>
          <p:nvSpPr>
            <p:cNvPr id="363" name="PubOvalCallout"/>
            <p:cNvSpPr/>
            <p:nvPr/>
          </p:nvSpPr>
          <p:spPr>
            <a:xfrm flipH="1">
              <a:off x="7862760" y="2708280"/>
              <a:ext cx="1657080" cy="1007640"/>
            </a:xfrm>
            <a:custGeom>
              <a:avLst/>
              <a:gdLst>
                <a:gd name="textAreaLeft" fmla="*/ 242640 w 1657080"/>
                <a:gd name="textAreaRight" fmla="*/ 1414440 w 1657080"/>
                <a:gd name="textAreaTop" fmla="*/ 110520 h 1007640"/>
                <a:gd name="textAreaBottom" fmla="*/ 6465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close/>
                </a:path>
              </a:pathLst>
            </a:cu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3"/>
            <p:cNvSpPr/>
            <p:nvPr/>
          </p:nvSpPr>
          <p:spPr>
            <a:xfrm flipH="1">
              <a:off x="8151480" y="270828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作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34"/>
          <p:cNvSpPr/>
          <p:nvPr/>
        </p:nvSpPr>
        <p:spPr>
          <a:xfrm>
            <a:off x="4618080" y="328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584676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6"/>
          <p:cNvGrpSpPr/>
          <p:nvPr/>
        </p:nvGrpSpPr>
        <p:grpSpPr>
          <a:xfrm>
            <a:off x="1127160" y="5229360"/>
            <a:ext cx="4935600" cy="515160"/>
            <a:chOff x="1127160" y="5229360"/>
            <a:chExt cx="4935600" cy="515160"/>
          </a:xfrm>
        </p:grpSpPr>
        <p:sp>
          <p:nvSpPr>
            <p:cNvPr id="368" name="Line 37"/>
            <p:cNvSpPr/>
            <p:nvPr/>
          </p:nvSpPr>
          <p:spPr>
            <a:xfrm>
              <a:off x="1527120" y="5300640"/>
              <a:ext cx="395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8"/>
            <p:cNvSpPr/>
            <p:nvPr/>
          </p:nvSpPr>
          <p:spPr>
            <a:xfrm flipV="1">
              <a:off x="1527120" y="522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9"/>
            <p:cNvSpPr/>
            <p:nvPr/>
          </p:nvSpPr>
          <p:spPr>
            <a:xfrm>
              <a:off x="1127160" y="528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97d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0"/>
            <p:cNvSpPr/>
            <p:nvPr/>
          </p:nvSpPr>
          <p:spPr>
            <a:xfrm>
              <a:off x="5054760" y="5229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97d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41"/>
          <p:cNvSpPr/>
          <p:nvPr/>
        </p:nvSpPr>
        <p:spPr>
          <a:xfrm>
            <a:off x="1851120" y="2922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rc 42"/>
          <p:cNvSpPr/>
          <p:nvPr/>
        </p:nvSpPr>
        <p:spPr>
          <a:xfrm rot="21459600">
            <a:off x="2822400" y="5013000"/>
            <a:ext cx="433440" cy="469800"/>
          </a:xfrm>
          <a:custGeom>
            <a:avLst/>
            <a:gdLst>
              <a:gd name="textAreaLeft" fmla="*/ 0 w 433440"/>
              <a:gd name="textAreaRight" fmla="*/ 433800 w 4334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fill="none" w="21600" h="15672">
                <a:moveTo>
                  <a:pt x="20197" y="0"/>
                </a:moveTo>
                <a:cubicBezTo>
                  <a:pt x="21124" y="2446"/>
                  <a:pt x="21600" y="5040"/>
                  <a:pt x="21600" y="7656"/>
                </a:cubicBezTo>
                <a:cubicBezTo>
                  <a:pt x="21600" y="10401"/>
                  <a:pt x="21076" y="13122"/>
                  <a:pt x="20057" y="15671"/>
                </a:cubicBezTo>
              </a:path>
              <a:path stroke="0" w="21600" h="15672">
                <a:moveTo>
                  <a:pt x="20197" y="0"/>
                </a:moveTo>
                <a:cubicBezTo>
                  <a:pt x="21124" y="2446"/>
                  <a:pt x="21600" y="5040"/>
                  <a:pt x="21600" y="7656"/>
                </a:cubicBezTo>
                <a:cubicBezTo>
                  <a:pt x="21600" y="10401"/>
                  <a:pt x="21076" y="13122"/>
                  <a:pt x="20057" y="15671"/>
                </a:cubicBezTo>
                <a:lnTo>
                  <a:pt x="0" y="76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2946240" y="5235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rc 44"/>
          <p:cNvSpPr/>
          <p:nvPr/>
        </p:nvSpPr>
        <p:spPr>
          <a:xfrm flipV="1" rot="9129000">
            <a:off x="1907640" y="3188160"/>
            <a:ext cx="1582920" cy="2036880"/>
          </a:xfrm>
          <a:custGeom>
            <a:avLst/>
            <a:gdLst>
              <a:gd name="textAreaLeft" fmla="*/ 0 w 1582920"/>
              <a:gd name="textAreaRight" fmla="*/ 1583280 w 1582920"/>
              <a:gd name="textAreaTop" fmla="*/ 360 h 2036880"/>
              <a:gd name="textAreaBottom" fmla="*/ 2037600 h 2036880"/>
            </a:gdLst>
            <a:ahLst/>
            <a:rect l="textAreaLeft" t="textAreaTop" r="textAreaRight" b="textAreaBottom"/>
            <a:pathLst>
              <a:path fill="none" w="21584" h="21600">
                <a:moveTo>
                  <a:pt x="-1" y="1792"/>
                </a:moveTo>
                <a:cubicBezTo>
                  <a:pt x="2718" y="610"/>
                  <a:pt x="5651" y="-1"/>
                  <a:pt x="8616" y="0"/>
                </a:cubicBezTo>
                <a:cubicBezTo>
                  <a:pt x="13293" y="0"/>
                  <a:pt x="17843" y="1518"/>
                  <a:pt x="21583" y="4326"/>
                </a:cubicBezTo>
              </a:path>
              <a:path stroke="0" w="21584" h="21600">
                <a:moveTo>
                  <a:pt x="-1" y="1792"/>
                </a:moveTo>
                <a:cubicBezTo>
                  <a:pt x="2718" y="610"/>
                  <a:pt x="5651" y="-1"/>
                  <a:pt x="8616" y="0"/>
                </a:cubicBezTo>
                <a:cubicBezTo>
                  <a:pt x="13293" y="0"/>
                  <a:pt x="17843" y="1518"/>
                  <a:pt x="21583" y="4326"/>
                </a:cubicBezTo>
                <a:lnTo>
                  <a:pt x="8616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rc 45"/>
          <p:cNvSpPr/>
          <p:nvPr/>
        </p:nvSpPr>
        <p:spPr>
          <a:xfrm flipV="1" rot="15354000">
            <a:off x="1185120" y="3405960"/>
            <a:ext cx="2031840" cy="1424160"/>
          </a:xfrm>
          <a:custGeom>
            <a:avLst/>
            <a:gdLst/>
            <a:ahLst/>
            <a:rect l="l" t="t" r="r" b="b"/>
            <a:pathLst>
              <a:path fill="none" w="20925" h="15454">
                <a:moveTo>
                  <a:pt x="15090" y="0"/>
                </a:moveTo>
                <a:cubicBezTo>
                  <a:pt x="17924" y="2767"/>
                  <a:pt x="19942" y="6260"/>
                  <a:pt x="20925" y="10096"/>
                </a:cubicBezTo>
              </a:path>
              <a:path stroke="0" w="20925" h="15454">
                <a:moveTo>
                  <a:pt x="15090" y="0"/>
                </a:moveTo>
                <a:cubicBezTo>
                  <a:pt x="17924" y="2767"/>
                  <a:pt x="19942" y="6260"/>
                  <a:pt x="20925" y="10096"/>
                </a:cubicBezTo>
                <a:lnTo>
                  <a:pt x="0" y="1545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6"/>
          <p:cNvSpPr/>
          <p:nvPr/>
        </p:nvSpPr>
        <p:spPr>
          <a:xfrm flipH="1">
            <a:off x="1548720" y="3282480"/>
            <a:ext cx="738000" cy="202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7"/>
          <p:cNvSpPr/>
          <p:nvPr/>
        </p:nvSpPr>
        <p:spPr>
          <a:xfrm>
            <a:off x="2289240" y="3301920"/>
            <a:ext cx="946080" cy="19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4767120" y="371628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4464000" y="429264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5199120" y="4797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弧相交于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1"/>
          <p:cNvSpPr/>
          <p:nvPr/>
        </p:nvSpPr>
        <p:spPr>
          <a:xfrm>
            <a:off x="5343480" y="53737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,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2"/>
          <p:cNvSpPr/>
          <p:nvPr/>
        </p:nvSpPr>
        <p:spPr>
          <a:xfrm>
            <a:off x="4622760" y="595008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所求作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6"/>
          <p:cNvGrpSpPr/>
          <p:nvPr/>
        </p:nvGrpSpPr>
        <p:grpSpPr>
          <a:xfrm>
            <a:off x="516960" y="5276520"/>
            <a:ext cx="2963880" cy="2039400"/>
            <a:chOff x="516960" y="5276520"/>
            <a:chExt cx="2963880" cy="2039400"/>
          </a:xfrm>
        </p:grpSpPr>
        <p:sp>
          <p:nvSpPr>
            <p:cNvPr id="385" name="Cloud"/>
            <p:cNvSpPr/>
            <p:nvPr/>
          </p:nvSpPr>
          <p:spPr>
            <a:xfrm rot="1272000">
              <a:off x="627120" y="5734080"/>
              <a:ext cx="2743200" cy="112392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169560 h 1123920"/>
                <a:gd name="textAreaBottom" fmla="*/ 901800 h 11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57240">
              <a:solidFill>
                <a:srgbClr val="8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4"/>
            <p:cNvSpPr/>
            <p:nvPr/>
          </p:nvSpPr>
          <p:spPr>
            <a:xfrm rot="637200">
              <a:off x="1037520" y="5799240"/>
              <a:ext cx="187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示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77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770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6"/>
          <p:cNvGrpSpPr/>
          <p:nvPr/>
        </p:nvGrpSpPr>
        <p:grpSpPr>
          <a:xfrm>
            <a:off x="585720" y="216000"/>
            <a:ext cx="2700000" cy="863640"/>
            <a:chOff x="585720" y="216000"/>
            <a:chExt cx="2700000" cy="863640"/>
          </a:xfrm>
        </p:grpSpPr>
        <p:sp>
          <p:nvSpPr>
            <p:cNvPr id="388" name="Oval 7"/>
            <p:cNvSpPr/>
            <p:nvPr/>
          </p:nvSpPr>
          <p:spPr>
            <a:xfrm>
              <a:off x="585720" y="216000"/>
              <a:ext cx="2700000" cy="863640"/>
            </a:xfrm>
            <a:prstGeom prst="ellipse">
              <a:avLst/>
            </a:prstGeom>
            <a:solidFill>
              <a:srgbClr val="4f81bd"/>
            </a:solidFill>
            <a:ln w="57240">
              <a:solidFill>
                <a:srgbClr val="1f49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8"/>
            <p:cNvSpPr/>
            <p:nvPr/>
          </p:nvSpPr>
          <p:spPr>
            <a:xfrm>
              <a:off x="933120" y="360720"/>
              <a:ext cx="191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做一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9" descr="STAR2"/>
          <p:cNvPicPr/>
          <p:nvPr/>
        </p:nvPicPr>
        <p:blipFill>
          <a:blip r:embed="rId1"/>
          <a:stretch/>
        </p:blipFill>
        <p:spPr>
          <a:xfrm>
            <a:off x="1125360" y="1484280"/>
            <a:ext cx="801720" cy="622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0"/>
          <p:cNvSpPr/>
          <p:nvPr/>
        </p:nvSpPr>
        <p:spPr>
          <a:xfrm>
            <a:off x="2062080" y="1484280"/>
            <a:ext cx="66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你能按照书上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的条件作出三角形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1" descr="STAR2"/>
          <p:cNvPicPr/>
          <p:nvPr/>
        </p:nvPicPr>
        <p:blipFill>
          <a:blip r:embed="rId2"/>
          <a:stretch/>
        </p:blipFill>
        <p:spPr>
          <a:xfrm>
            <a:off x="981000" y="2565360"/>
            <a:ext cx="801720" cy="6224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2"/>
          <p:cNvSpPr/>
          <p:nvPr/>
        </p:nvSpPr>
        <p:spPr>
          <a:xfrm>
            <a:off x="1989000" y="2492280"/>
            <a:ext cx="73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剪下各自所做的三角形和同伴比较看是否全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3" descr="STAR2"/>
          <p:cNvPicPr/>
          <p:nvPr/>
        </p:nvPicPr>
        <p:blipFill>
          <a:blip r:embed="rId3"/>
          <a:stretch/>
        </p:blipFill>
        <p:spPr>
          <a:xfrm>
            <a:off x="981000" y="3500280"/>
            <a:ext cx="801720" cy="6224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4"/>
          <p:cNvSpPr/>
          <p:nvPr/>
        </p:nvSpPr>
        <p:spPr>
          <a:xfrm>
            <a:off x="1989000" y="3573360"/>
            <a:ext cx="46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能说出全等的理由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5"/>
          <p:cNvGrpSpPr/>
          <p:nvPr/>
        </p:nvGrpSpPr>
        <p:grpSpPr>
          <a:xfrm>
            <a:off x="1773360" y="4221000"/>
            <a:ext cx="5832360" cy="1584360"/>
            <a:chOff x="1773360" y="4221000"/>
            <a:chExt cx="5832360" cy="1584360"/>
          </a:xfrm>
        </p:grpSpPr>
        <p:sp>
          <p:nvSpPr>
            <p:cNvPr id="397" name="Cloud"/>
            <p:cNvSpPr/>
            <p:nvPr/>
          </p:nvSpPr>
          <p:spPr>
            <a:xfrm>
              <a:off x="1773360" y="4221000"/>
              <a:ext cx="5832360" cy="1584360"/>
            </a:xfrm>
            <a:custGeom>
              <a:avLst/>
              <a:gdLst>
                <a:gd name="textAreaLeft" fmla="*/ 803880 w 5832360"/>
                <a:gd name="textAreaRight" fmla="*/ 4613400 w 5832360"/>
                <a:gd name="textAreaTop" fmla="*/ 239040 h 1584360"/>
                <a:gd name="textAreaBottom" fmla="*/ 12715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ccff"/>
            </a:solidFill>
            <a:ln w="57240">
              <a:solidFill>
                <a:srgbClr val="80008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2418120" y="4514400"/>
              <a:ext cx="48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三边对应相等的两个三角形全等</a:t>
              </a:r>
              <a:r>
                <a:rPr b="1" lang="en-US" sz="3600" spc="-1" strike="noStrike">
                  <a:solidFill>
                    <a:srgbClr val="1f497d"/>
                  </a:solidFill>
                  <a:latin typeface="Comic Sans MS"/>
                  <a:ea typeface="华文行楷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07:54:43Z</dcterms:created>
  <dc:creator>shuxue</dc:creator>
  <dc:description/>
  <dc:language>en-US</dc:language>
  <cp:lastModifiedBy>User</cp:lastModifiedBy>
  <dcterms:modified xsi:type="dcterms:W3CDTF">2014-03-12T10:17:53Z</dcterms:modified>
  <cp:revision>138</cp:revision>
  <dc:subject/>
  <dc:title>幻灯片 1</dc:title>
</cp:coreProperties>
</file>