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5.wmf" ContentType="image/x-wmf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2FF-69A4-49EA-8416-FB685E89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C0F-763E-4B40-B164-BB0516F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9AE-1319-485E-A32E-F80BEAFF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437-E6E4-4D4B-816F-2B767129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6F3-E4C4-4696-B69C-6DB1A065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EB79-58EE-4FF3-B4AA-49305CC9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B716-A47F-453A-9398-2051380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AABE-F5E4-48CC-9D28-E9D1357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1C85-03C8-4115-87AE-C13041E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330-56DE-47FB-872A-8DF8BAD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0B7-ED5A-4E96-BB9E-F9BC912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512-9F21-4FA7-BE91-ED479849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02D-9F0C-4336-BAF8-0C0FD43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ED60-98A7-4D4B-A83F-BF16C9C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ED91-9BD7-4781-87CA-1D196E3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6C84-EAE8-4889-B4C0-2E491CD8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0949-BD68-4939-8983-5D4E79F3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DA5F-9540-4AB1-89DC-EF5F7BD1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5300-AE2A-4475-A4DA-73C38C7E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736D-D66E-4858-BA60-065DEDC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7E3A-C164-4CF0-BA7F-0BD7FF8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0812-AE79-4461-ACA9-2DBD4E2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F74-2FC0-4096-8CA5-B40E909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B1EA-0FFF-404A-9606-310E9AB1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6041-439A-4F83-9E2C-9FFBDD0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2E52-EB17-474A-A869-D57F4A73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0BBB-35F3-4812-A500-A28B0D4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BC36-7479-429D-BA3E-7B1D651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F12B-9334-418C-A54E-91AF460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08BC-58C4-4905-9277-BBAFD8EB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75-0118-4A7A-BFC2-FB73A426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71D-9E78-4C6E-A360-0F02320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F18-71D9-49E1-8F40-1597540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A85-1B95-4B72-82CD-F2DFD28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F9A-9C1A-4873-9414-AC45819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381-3B82-4E65-BCDF-A2F4ABA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28B-93D9-4D29-9C1C-6232E31154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FF9-5E86-4222-A228-56A707B7F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B603-8A42-484E-A6AD-81B443E7B9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193-575F-4D0C-A58D-44E597CB7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2D8D-91F5-4E2D-95D2-5D35B54CB6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695-F8A6-4873-85B2-901F9BCC2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854760" y="60768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686-E96D-4442-9FCE-DB48E89779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WordArt 8" descr=""/>
          <p:cNvPicPr/>
          <p:nvPr/>
        </p:nvPicPr>
        <p:blipFill>
          <a:blip r:embed="rId1"/>
          <a:stretch/>
        </p:blipFill>
        <p:spPr>
          <a:xfrm>
            <a:off x="2687760" y="1542960"/>
            <a:ext cx="5286240" cy="12495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10"/>
          <p:cNvSpPr/>
          <p:nvPr/>
        </p:nvSpPr>
        <p:spPr>
          <a:xfrm>
            <a:off x="5076720" y="3429000"/>
            <a:ext cx="1524240" cy="13716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0820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已知△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C≌△DEF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分别是对应顶点，∠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2°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7°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C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则∠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________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F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1319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0960-45FD-48AF-AEC0-1E2BD31266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7262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9B13-650A-4D81-B0FB-8DAB78FEFC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3"/>
          <p:cNvSpPr txBox="1"/>
          <p:nvPr/>
        </p:nvSpPr>
        <p:spPr>
          <a:xfrm>
            <a:off x="952560" y="189000"/>
            <a:ext cx="1752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求一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174680" y="1052640"/>
            <a:ext cx="474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右图是一个等边三角形，你能把它分成两个全等的三角形吗？你能把它分成三个、四个全等的三角形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1463760" y="18900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6000840" y="3762360"/>
            <a:ext cx="2819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6000480" y="1628640"/>
            <a:ext cx="143964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7440480" y="1628640"/>
            <a:ext cx="1379520" cy="2133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7440480" y="1700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 flipH="1">
            <a:off x="6071760" y="2997360"/>
            <a:ext cx="1368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7440480" y="2997360"/>
            <a:ext cx="136872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7440480" y="162864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6719760" y="270828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7440480" y="2708280"/>
            <a:ext cx="7192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H="1" flipV="1">
            <a:off x="6719760" y="270792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4193640" y="-3240"/>
            <a:ext cx="152172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达标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20720" y="9777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能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两个图形叫做全等图形。两个三角形重合时，互相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＿＿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顶点叫做对应顶点。记两个全等三角形时，通常把表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点的字母写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位置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38080" y="276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5677920" y="2759400"/>
            <a:ext cx="3860640" cy="4096440"/>
            <a:chOff x="5677920" y="2759400"/>
            <a:chExt cx="3860640" cy="4096440"/>
          </a:xfrm>
        </p:grpSpPr>
        <p:grpSp>
          <p:nvGrpSpPr>
            <p:cNvPr id="304" name="Group 6"/>
            <p:cNvGrpSpPr/>
            <p:nvPr/>
          </p:nvGrpSpPr>
          <p:grpSpPr>
            <a:xfrm>
              <a:off x="6117480" y="4161960"/>
              <a:ext cx="2894760" cy="2131560"/>
              <a:chOff x="6117480" y="4161960"/>
              <a:chExt cx="2894760" cy="2131560"/>
            </a:xfrm>
          </p:grpSpPr>
          <p:sp>
            <p:nvSpPr>
              <p:cNvPr id="305" name="Line 7"/>
              <p:cNvSpPr/>
              <p:nvPr/>
            </p:nvSpPr>
            <p:spPr>
              <a:xfrm flipH="1">
                <a:off x="6620760" y="4743000"/>
                <a:ext cx="1887840" cy="1550160"/>
              </a:xfrm>
              <a:prstGeom prst="line">
                <a:avLst/>
              </a:prstGeom>
              <a:ln w="572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8"/>
              <p:cNvSpPr/>
              <p:nvPr/>
            </p:nvSpPr>
            <p:spPr>
              <a:xfrm>
                <a:off x="6620760" y="6293520"/>
                <a:ext cx="239148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"/>
              <p:cNvSpPr/>
              <p:nvPr/>
            </p:nvSpPr>
            <p:spPr>
              <a:xfrm>
                <a:off x="8508600" y="4743000"/>
                <a:ext cx="503280" cy="1550160"/>
              </a:xfrm>
              <a:prstGeom prst="line">
                <a:avLst/>
              </a:prstGeom>
              <a:ln w="572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0"/>
              <p:cNvSpPr/>
              <p:nvPr/>
            </p:nvSpPr>
            <p:spPr>
              <a:xfrm>
                <a:off x="6117480" y="4161960"/>
                <a:ext cx="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1"/>
            <p:cNvGrpSpPr/>
            <p:nvPr/>
          </p:nvGrpSpPr>
          <p:grpSpPr>
            <a:xfrm>
              <a:off x="6087960" y="2759400"/>
              <a:ext cx="2441520" cy="3515040"/>
              <a:chOff x="6087960" y="2759400"/>
              <a:chExt cx="2441520" cy="3515040"/>
            </a:xfrm>
          </p:grpSpPr>
          <p:sp>
            <p:nvSpPr>
              <p:cNvPr id="310" name="Line 12"/>
              <p:cNvSpPr/>
              <p:nvPr/>
            </p:nvSpPr>
            <p:spPr>
              <a:xfrm flipH="1" flipV="1">
                <a:off x="6088320" y="4688640"/>
                <a:ext cx="2441160" cy="9108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3"/>
              <p:cNvSpPr/>
              <p:nvPr/>
            </p:nvSpPr>
            <p:spPr>
              <a:xfrm>
                <a:off x="6087960" y="4689000"/>
                <a:ext cx="1790640" cy="158544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4"/>
              <p:cNvSpPr/>
              <p:nvPr/>
            </p:nvSpPr>
            <p:spPr>
              <a:xfrm flipH="1">
                <a:off x="7878960" y="4779720"/>
                <a:ext cx="650520" cy="14947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5"/>
              <p:cNvSpPr/>
              <p:nvPr/>
            </p:nvSpPr>
            <p:spPr>
              <a:xfrm>
                <a:off x="7124400" y="2759400"/>
                <a:ext cx="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 Box 16"/>
            <p:cNvSpPr/>
            <p:nvPr/>
          </p:nvSpPr>
          <p:spPr>
            <a:xfrm>
              <a:off x="8257320" y="4014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6244920" y="6081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8"/>
            <p:cNvSpPr/>
            <p:nvPr/>
          </p:nvSpPr>
          <p:spPr>
            <a:xfrm>
              <a:off x="9063720" y="6051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5677920" y="4467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7763760" y="6274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21"/>
          <p:cNvSpPr/>
          <p:nvPr/>
        </p:nvSpPr>
        <p:spPr>
          <a:xfrm>
            <a:off x="720720" y="378612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如图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≌ △A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= ∠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= ∠A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E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 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B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044720" y="692280"/>
            <a:ext cx="74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如图△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 ≌ △CD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=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=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D=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C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D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620720" y="3068640"/>
            <a:ext cx="6912000" cy="32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3"/>
          <p:cNvSpPr txBox="1"/>
          <p:nvPr/>
        </p:nvSpPr>
        <p:spPr>
          <a:xfrm>
            <a:off x="914400" y="53352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676520" y="23623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请同学们 说一说这节课的收获和体会，或说一说你还没有解决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466000" y="415800"/>
            <a:ext cx="560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已知△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OC ≌ △B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∥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2463840" y="2060640"/>
          <a:ext cx="53769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3840" y="2060640"/>
                    <a:ext cx="53769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WordArt 4"/>
          <p:cNvSpPr txBox="1"/>
          <p:nvPr/>
        </p:nvSpPr>
        <p:spPr>
          <a:xfrm rot="5400000">
            <a:off x="-597960" y="2799720"/>
            <a:ext cx="39733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能力提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71640" y="620640"/>
            <a:ext cx="73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如图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≌ △EB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=3cm,BC=5cm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692360" y="2205000"/>
          <a:ext cx="604836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60483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7"/>
          <p:cNvSpPr/>
          <p:nvPr/>
        </p:nvSpPr>
        <p:spPr>
          <a:xfrm>
            <a:off x="2303640" y="1071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6037200" y="766800"/>
            <a:ext cx="2895480" cy="1752120"/>
            <a:chOff x="6037200" y="766800"/>
            <a:chExt cx="2895480" cy="1752120"/>
          </a:xfrm>
        </p:grpSpPr>
        <p:sp>
          <p:nvSpPr>
            <p:cNvPr id="134" name="Line 19"/>
            <p:cNvSpPr/>
            <p:nvPr/>
          </p:nvSpPr>
          <p:spPr>
            <a:xfrm>
              <a:off x="6037200" y="2506320"/>
              <a:ext cx="2895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H="1">
              <a:off x="6037200" y="766800"/>
              <a:ext cx="200448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8041680" y="766800"/>
              <a:ext cx="89064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2"/>
          <p:cNvGrpSpPr/>
          <p:nvPr/>
        </p:nvGrpSpPr>
        <p:grpSpPr>
          <a:xfrm>
            <a:off x="1846080" y="766800"/>
            <a:ext cx="2895480" cy="1752120"/>
            <a:chOff x="1846080" y="766800"/>
            <a:chExt cx="2895480" cy="1752120"/>
          </a:xfrm>
        </p:grpSpPr>
        <p:sp>
          <p:nvSpPr>
            <p:cNvPr id="138" name="Line 23"/>
            <p:cNvSpPr/>
            <p:nvPr/>
          </p:nvSpPr>
          <p:spPr>
            <a:xfrm>
              <a:off x="1846440" y="2506320"/>
              <a:ext cx="28951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>
              <a:off x="1846080" y="766800"/>
              <a:ext cx="200412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>
              <a:off x="3850560" y="766800"/>
              <a:ext cx="89064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6"/>
          <p:cNvSpPr/>
          <p:nvPr/>
        </p:nvSpPr>
        <p:spPr>
          <a:xfrm>
            <a:off x="3530520" y="18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2880" y="213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4826160" y="21337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7867440" y="2365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656320" y="221472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8934840" y="2065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793800" y="2637000"/>
            <a:ext cx="830592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互相重合，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，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，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重合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重合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重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角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，角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，角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1389240" y="50338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7"/>
          <p:cNvSpPr txBox="1"/>
          <p:nvPr/>
        </p:nvSpPr>
        <p:spPr>
          <a:xfrm>
            <a:off x="866880" y="262080"/>
            <a:ext cx="1676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一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0" name="Text Box 38"/>
          <p:cNvSpPr/>
          <p:nvPr/>
        </p:nvSpPr>
        <p:spPr>
          <a:xfrm>
            <a:off x="3603240" y="3076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3522600" y="2595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8283600" y="29973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5041800" y="35020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3386160" y="4300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1154160" y="4797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554688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3314880" y="55958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7634160" y="5518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3890880" y="61452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9"/>
          <p:cNvGrpSpPr/>
          <p:nvPr/>
        </p:nvGrpSpPr>
        <p:grpSpPr>
          <a:xfrm>
            <a:off x="1852560" y="773280"/>
            <a:ext cx="2901600" cy="1752120"/>
            <a:chOff x="1852560" y="773280"/>
            <a:chExt cx="2901600" cy="1752120"/>
          </a:xfrm>
        </p:grpSpPr>
        <p:sp>
          <p:nvSpPr>
            <p:cNvPr id="161" name="Line 50"/>
            <p:cNvSpPr/>
            <p:nvPr/>
          </p:nvSpPr>
          <p:spPr>
            <a:xfrm>
              <a:off x="1852560" y="2512800"/>
              <a:ext cx="29016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 flipH="1">
              <a:off x="1852560" y="773280"/>
              <a:ext cx="200880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3861360" y="773280"/>
              <a:ext cx="89280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45798 -0.00301 E">
                                      <p:cBhvr>
                                        <p:cTn id="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042920" y="987480"/>
            <a:ext cx="75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在全等三角形中，互相重合的顶点称为对应顶点，互相重合的边称为对应边，互相重合的角称为对应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87280" y="40845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应角所对的边是对应边，　对应边所对的角是对应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1008000" y="3124080"/>
            <a:ext cx="80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等三角形的对应边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等三角形的对应角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1839960" y="762120"/>
            <a:ext cx="2971440" cy="1600200"/>
            <a:chOff x="1839960" y="762120"/>
            <a:chExt cx="2971440" cy="1600200"/>
          </a:xfrm>
        </p:grpSpPr>
        <p:sp>
          <p:nvSpPr>
            <p:cNvPr id="168" name="Line 8"/>
            <p:cNvSpPr/>
            <p:nvPr/>
          </p:nvSpPr>
          <p:spPr>
            <a:xfrm>
              <a:off x="1839960" y="2350440"/>
              <a:ext cx="2971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H="1">
              <a:off x="1839960" y="762120"/>
              <a:ext cx="205704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3897000" y="762120"/>
              <a:ext cx="91404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6183360" y="762120"/>
            <a:ext cx="2971440" cy="1600200"/>
            <a:chOff x="6183360" y="762120"/>
            <a:chExt cx="2971440" cy="1600200"/>
          </a:xfrm>
        </p:grpSpPr>
        <p:sp>
          <p:nvSpPr>
            <p:cNvPr id="172" name="Line 16"/>
            <p:cNvSpPr/>
            <p:nvPr/>
          </p:nvSpPr>
          <p:spPr>
            <a:xfrm>
              <a:off x="6183360" y="2350440"/>
              <a:ext cx="2971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6183360" y="762120"/>
              <a:ext cx="205704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>
              <a:off x="8240400" y="762120"/>
              <a:ext cx="91404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9"/>
          <p:cNvSpPr/>
          <p:nvPr/>
        </p:nvSpPr>
        <p:spPr>
          <a:xfrm>
            <a:off x="1230480" y="44197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468360" y="508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　结论：全等三角形的对应边相等；对应角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882960" y="247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368360" y="2000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873320" y="1924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8226360" y="17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5864400" y="1847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9073800" y="1882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4"/>
          <p:cNvGrpSpPr/>
          <p:nvPr/>
        </p:nvGrpSpPr>
        <p:grpSpPr>
          <a:xfrm>
            <a:off x="1879560" y="457200"/>
            <a:ext cx="2285640" cy="1752120"/>
            <a:chOff x="1879560" y="457200"/>
            <a:chExt cx="2285640" cy="1752120"/>
          </a:xfrm>
        </p:grpSpPr>
        <p:sp>
          <p:nvSpPr>
            <p:cNvPr id="184" name="Line 5"/>
            <p:cNvSpPr/>
            <p:nvPr/>
          </p:nvSpPr>
          <p:spPr>
            <a:xfrm>
              <a:off x="1879560" y="2196720"/>
              <a:ext cx="2285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 flipH="1">
              <a:off x="1879560" y="457200"/>
              <a:ext cx="158256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3462120" y="457200"/>
              <a:ext cx="70308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"/>
          <p:cNvGrpSpPr/>
          <p:nvPr/>
        </p:nvGrpSpPr>
        <p:grpSpPr>
          <a:xfrm>
            <a:off x="5537160" y="457200"/>
            <a:ext cx="2285640" cy="1752120"/>
            <a:chOff x="5537160" y="457200"/>
            <a:chExt cx="2285640" cy="1752120"/>
          </a:xfrm>
        </p:grpSpPr>
        <p:sp>
          <p:nvSpPr>
            <p:cNvPr id="188" name="Line 9"/>
            <p:cNvSpPr/>
            <p:nvPr/>
          </p:nvSpPr>
          <p:spPr>
            <a:xfrm>
              <a:off x="5537160" y="2196720"/>
              <a:ext cx="2285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 flipH="1">
              <a:off x="5537160" y="457200"/>
              <a:ext cx="158256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7119720" y="457200"/>
              <a:ext cx="70308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2"/>
          <p:cNvSpPr/>
          <p:nvPr/>
        </p:nvSpPr>
        <p:spPr>
          <a:xfrm>
            <a:off x="3617640" y="19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500120" y="180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227480" y="1771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7289640" y="228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0652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7808760" y="177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184480" y="1523880"/>
            <a:ext cx="60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474920" y="2852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全等于△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DEF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可表示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1979640" y="3645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△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ABC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△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187280" y="463248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表示时通常把对应顶点的字母写在对应的位置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3274920" y="35002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　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17840" y="1143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5832360" y="333360"/>
            <a:ext cx="2895480" cy="1752120"/>
            <a:chOff x="5832360" y="333360"/>
            <a:chExt cx="2895480" cy="1752120"/>
          </a:xfrm>
        </p:grpSpPr>
        <p:sp>
          <p:nvSpPr>
            <p:cNvPr id="204" name="Line 4"/>
            <p:cNvSpPr/>
            <p:nvPr/>
          </p:nvSpPr>
          <p:spPr>
            <a:xfrm>
              <a:off x="5832360" y="2072880"/>
              <a:ext cx="2895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H="1">
              <a:off x="5832360" y="333360"/>
              <a:ext cx="200448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>
              <a:off x="7836840" y="333360"/>
              <a:ext cx="890640" cy="175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7"/>
          <p:cNvGrpSpPr/>
          <p:nvPr/>
        </p:nvGrpSpPr>
        <p:grpSpPr>
          <a:xfrm>
            <a:off x="1728720" y="404640"/>
            <a:ext cx="2895480" cy="1752480"/>
            <a:chOff x="1728720" y="404640"/>
            <a:chExt cx="2895480" cy="1752480"/>
          </a:xfrm>
        </p:grpSpPr>
        <p:sp>
          <p:nvSpPr>
            <p:cNvPr id="208" name="Line 8"/>
            <p:cNvSpPr/>
            <p:nvPr/>
          </p:nvSpPr>
          <p:spPr>
            <a:xfrm>
              <a:off x="1728720" y="2144520"/>
              <a:ext cx="2895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 flipH="1">
              <a:off x="1728720" y="404640"/>
              <a:ext cx="2004480" cy="1752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>
              <a:off x="3733200" y="404640"/>
              <a:ext cx="890640" cy="1752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1"/>
          <p:cNvSpPr/>
          <p:nvPr/>
        </p:nvSpPr>
        <p:spPr>
          <a:xfrm>
            <a:off x="3889440" y="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298520" y="1916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608360" y="184464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911720" y="-100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400720" y="184464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8715600" y="1773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1603440" y="5105520"/>
            <a:ext cx="761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736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12222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1832040" y="4572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612720" y="26370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已知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≌△DE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则对应边有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应角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等的边是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等的角是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612720" y="3284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,BC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F,AC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2376360" y="40053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，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，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3672000" y="5013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=DE,BC=EF,AC=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1"/>
          <p:cNvSpPr/>
          <p:nvPr/>
        </p:nvSpPr>
        <p:spPr>
          <a:xfrm>
            <a:off x="3313080" y="59500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=∠D,∠B=∠E,∠C=∠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7169040" y="914400"/>
            <a:ext cx="2210040" cy="1371240"/>
            <a:chOff x="7169040" y="914400"/>
            <a:chExt cx="2210040" cy="1371240"/>
          </a:xfrm>
        </p:grpSpPr>
        <p:sp>
          <p:nvSpPr>
            <p:cNvPr id="227" name="Line 3"/>
            <p:cNvSpPr/>
            <p:nvPr/>
          </p:nvSpPr>
          <p:spPr>
            <a:xfrm flipH="1">
              <a:off x="7208280" y="936360"/>
              <a:ext cx="698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 flipH="1">
              <a:off x="8681040" y="914400"/>
              <a:ext cx="697680" cy="1348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7866720" y="936360"/>
              <a:ext cx="81396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 flipV="1">
              <a:off x="7169040" y="936360"/>
              <a:ext cx="2210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717480" y="907920"/>
            <a:ext cx="68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OC≌△BO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7416720" y="4762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678880" y="1924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7993080" y="1625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89600" y="1959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9280440" y="43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3"/>
          <p:cNvGrpSpPr/>
          <p:nvPr/>
        </p:nvGrpSpPr>
        <p:grpSpPr>
          <a:xfrm>
            <a:off x="7397640" y="2666880"/>
            <a:ext cx="1752840" cy="1676520"/>
            <a:chOff x="7397640" y="2666880"/>
            <a:chExt cx="1752840" cy="1676520"/>
          </a:xfrm>
        </p:grpSpPr>
        <p:sp>
          <p:nvSpPr>
            <p:cNvPr id="238" name="Line 14"/>
            <p:cNvSpPr/>
            <p:nvPr/>
          </p:nvSpPr>
          <p:spPr>
            <a:xfrm>
              <a:off x="8271360" y="2666880"/>
              <a:ext cx="0" cy="1257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7410240" y="2666880"/>
              <a:ext cx="86112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H="1">
              <a:off x="7397640" y="3924000"/>
              <a:ext cx="86112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8258760" y="3924000"/>
              <a:ext cx="86112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8289360" y="2666880"/>
              <a:ext cx="86112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539640" y="2765520"/>
            <a:ext cx="70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BD≌△A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799308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7002360" y="398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9136080" y="3981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8069040" y="3828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940440" y="5105520"/>
            <a:ext cx="2467080" cy="1295280"/>
            <a:chOff x="6940440" y="5105520"/>
            <a:chExt cx="2467080" cy="1295280"/>
          </a:xfrm>
        </p:grpSpPr>
        <p:sp>
          <p:nvSpPr>
            <p:cNvPr id="249" name="AutoShape 25"/>
            <p:cNvSpPr/>
            <p:nvPr/>
          </p:nvSpPr>
          <p:spPr>
            <a:xfrm>
              <a:off x="6940440" y="5105520"/>
              <a:ext cx="2467080" cy="1295280"/>
            </a:xfrm>
            <a:prstGeom prst="parallelogram">
              <a:avLst>
                <a:gd name="adj" fmla="val 47617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7573680" y="5105520"/>
              <a:ext cx="1292040" cy="1295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27"/>
          <p:cNvSpPr/>
          <p:nvPr/>
        </p:nvSpPr>
        <p:spPr>
          <a:xfrm>
            <a:off x="539640" y="472428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BC≌△CDA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7230600" y="458136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6553440" y="607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0"/>
          <p:cNvSpPr/>
          <p:nvPr/>
        </p:nvSpPr>
        <p:spPr>
          <a:xfrm>
            <a:off x="881208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928044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2376360" y="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3309480" y="685800"/>
            <a:ext cx="3276720" cy="1676520"/>
            <a:chOff x="3309480" y="685800"/>
            <a:chExt cx="3276720" cy="1676520"/>
          </a:xfrm>
        </p:grpSpPr>
        <p:sp>
          <p:nvSpPr>
            <p:cNvPr id="258" name="Line 3"/>
            <p:cNvSpPr/>
            <p:nvPr/>
          </p:nvSpPr>
          <p:spPr>
            <a:xfrm>
              <a:off x="3826080" y="709560"/>
              <a:ext cx="27601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"/>
            <p:cNvSpPr/>
            <p:nvPr/>
          </p:nvSpPr>
          <p:spPr>
            <a:xfrm>
              <a:off x="3309840" y="2362320"/>
              <a:ext cx="27601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H="1">
              <a:off x="3309480" y="685800"/>
              <a:ext cx="551880" cy="1652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3814200" y="709560"/>
              <a:ext cx="55188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3861720" y="709560"/>
              <a:ext cx="220788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 flipV="1">
              <a:off x="4366440" y="709560"/>
              <a:ext cx="220824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9"/>
          <p:cNvSpPr/>
          <p:nvPr/>
        </p:nvSpPr>
        <p:spPr>
          <a:xfrm>
            <a:off x="809640" y="914400"/>
            <a:ext cx="121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755640" y="3068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图，已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ABC≌△A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=∠E,BC=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找出其它的相等的边有  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_________________;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相等的角有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________________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3387600" y="35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990880" y="207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6038640" y="2152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209840" y="2228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6661080" y="476280"/>
            <a:ext cx="3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50472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17"/>
          <p:cNvSpPr txBox="1"/>
          <p:nvPr/>
        </p:nvSpPr>
        <p:spPr>
          <a:xfrm>
            <a:off x="755640" y="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找一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6881760" y="1173240"/>
            <a:ext cx="1904760" cy="2133360"/>
            <a:chOff x="6881760" y="1173240"/>
            <a:chExt cx="1904760" cy="2133360"/>
          </a:xfrm>
        </p:grpSpPr>
        <p:sp>
          <p:nvSpPr>
            <p:cNvPr id="274" name="Line 3"/>
            <p:cNvSpPr/>
            <p:nvPr/>
          </p:nvSpPr>
          <p:spPr>
            <a:xfrm>
              <a:off x="7752240" y="1173240"/>
              <a:ext cx="1034280" cy="2133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 flipH="1">
              <a:off x="6890400" y="1173240"/>
              <a:ext cx="861840" cy="2133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6881760" y="2209320"/>
              <a:ext cx="1378800" cy="1066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 flipH="1" flipV="1">
              <a:off x="7321320" y="2209320"/>
              <a:ext cx="1465200" cy="1066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7"/>
          <p:cNvSpPr/>
          <p:nvPr/>
        </p:nvSpPr>
        <p:spPr>
          <a:xfrm>
            <a:off x="731880" y="519120"/>
            <a:ext cx="5630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如图，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≌△AC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若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5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你能得出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哪些角的大小，哪些边的长度吗？为什么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7476840" y="658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578640" y="3056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8848440" y="2944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40708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883560" y="19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0:18:47Z</dcterms:modified>
  <cp:revision>30</cp:revision>
  <dc:subject/>
  <dc:title>PowerPoint 演示文稿</dc:title>
</cp:coreProperties>
</file>