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21.jpeg" ContentType="image/jpeg"/>
  <Override PartName="/ppt/media/image29.png" ContentType="image/png"/>
  <Override PartName="/ppt/media/image20.wmf" ContentType="image/x-wmf"/>
  <Override PartName="/ppt/media/image17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11.gif" ContentType="image/gif"/>
  <Override PartName="/ppt/media/explode.wav" ContentType="audio/x-wav"/>
  <Override PartName="/ppt/media/image19.png" ContentType="image/png"/>
  <Override PartName="/ppt/media/image22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0436-E062-42B6-8834-3FF4D2DF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40DC-3899-4B6D-86CA-8BFEF33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005E-0697-4DD9-8C5C-1515017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277C-5DDA-4203-9527-B581302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650C-4A80-4C38-B542-0122CA5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DB5A-A49F-4F04-A766-F8A56F0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147E-A115-49BE-8303-1AAD129F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6A75-4F12-4211-8E8C-28546CB0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65D9-1F2C-4B3C-ABFF-5ACC0E26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9717-6F0C-45F2-8F77-F6763AE6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D4CB-4CAC-4753-928F-AC7CA81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445D-CE96-4BE4-B870-F768C881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CDB4B-E758-4F08-8ADD-6D01DDC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9498-6D63-43D6-B496-13C9DE2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BBC9-E3BD-425C-AD1D-567917B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23AD-8F43-4FD7-81B4-FB15382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B997-FBB7-4B9B-ACAB-182B29D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362D-816B-4E92-8C31-5E7808E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4B1D-3687-4648-B3D4-EE476B7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ABC7-5624-474F-9EAF-C86DE526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F219-9BD0-40C8-874F-2CAECEB0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F270-75D8-479F-94E6-28CD1C1D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E818-EA6E-4914-BD44-896A6DE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5947-D32C-4368-ACFD-75235A7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0CBA-57C2-4853-8D75-D3E8553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6336-D5CD-48E3-AC01-A69DBCFB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342C-2058-44F0-A351-13F5AAE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072F-4BA9-44B5-9589-50BEA06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51C6-6DE9-4604-89CD-D128A28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42B6-7740-49DC-B8EF-6AE3CD1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95E5-812E-4216-830E-542DFC2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7339-0A04-45A0-A324-E0B7BD94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3261-8E26-4192-ADDD-31188E0A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5694-4F8B-4A02-9D2C-F3FCEE6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CAEC-FCA5-4B8D-8555-48DEB91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BA37-A4E3-4E1D-A9C2-BB6916F3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2B09-3E4F-4D16-A6BE-79AD78BF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8D60-BB79-4A13-AC4C-E62EA47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9943-A848-4E40-8C7D-15E8D77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BCA3-948C-4E9F-A1BF-AD70CA7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6E82-C359-43A7-8252-00D1175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0D8C-3ACB-43A8-A21B-B999068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ECCC6-C529-4760-8B42-744AF4B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A8BA-942A-4368-BE72-7B7E4AB7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3EF2C-1C35-42DA-83D9-2833638C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36C6-6755-491F-B01F-59AF11BE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E0FD-E651-4AF5-9D11-C8732D5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BE0B5-EC94-47AF-9515-9A95016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38B0-F4A9-4BB6-808B-1C12708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5AF70-30FE-4D5A-B8D9-CBEED95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66A3A-4200-43D6-8911-5DB88DA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92ABC-C7AC-42BE-B822-C57C814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59E70-C82C-446C-9144-846E6AC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0CE80-6034-4B8C-BD0D-612D8B2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20A1-7491-4ADD-8099-344D830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1D2E8-1DEE-46EC-BEF7-D9B132C8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89CA5-D5BC-48BC-A606-F855CB56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53565-D4FB-466B-AD94-6ECDB94B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D71E-29A8-483F-80B6-0E4E44A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F6C4-AB5A-4908-9F7D-DCD8ECF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472EE-1357-4B09-98CA-D2693ADD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94E30-AA94-4F3D-A36E-683D2E5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84D86-C153-4F6C-A9AE-ED2CA8F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3019-4559-4268-B050-24A27E7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8630C-55A9-4DB8-B1F4-92901E6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E089-2927-4622-9B21-544ED6F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03285-BCDA-4A42-87F2-DC86A248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F3FA1-9479-47A8-97DB-A26C43D1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0B527-A7A4-4E20-8D11-FB933BAC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DFB91-0756-447F-AA20-FB6A0997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10D0C-4A70-4539-B960-FCC1B07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F476A-C3F2-427B-97B3-A0199F74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8EB66-799E-41EC-9BC5-EFE900B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028AB-7DBD-4691-AD58-2E8539E2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98571-2723-4D10-ADF8-418A5519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FC973-F6CB-4495-83E6-CDAE4FD9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C6D8E-870A-4F7D-A527-A5BC265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7ACE9-0A0E-4D10-AD95-C5956029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7FA33-880C-4CA0-9438-B6D13495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95E6E-5998-40AE-9FFD-7AA5B465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81283-0255-44FE-9A94-833761AE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18FA7-D4F1-45D9-87FE-CCC84C48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143C-A252-4D77-BD32-6E18F85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B9E7E-5978-4A56-8417-DDCD9DA4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C6222-CC41-4832-A8EB-4CF24DC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4A23-494D-4664-AF0B-04BBD1E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5898-11D4-4B28-85B0-6335C7A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F413E-1691-4E56-BC82-79AA3BC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BB630-A868-4A00-A238-912090D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FE80C-DD11-4406-8723-187BA16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1076-7FAE-4E2A-B484-57C444E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787CE-16E3-4744-A999-DBB1DFE6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26911-95B7-4673-90C6-ED84ED87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2EE70-954E-4D7B-863C-4A70465A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066C7-1909-4006-B5A0-2BCB134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DF58B-9869-403C-A309-BD2B11B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7C67B-ABC9-4AE9-9C43-3A85925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12987-B752-42EC-AE6F-AE186DA0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91331-18B4-4BA6-9706-D09522B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5AA26-F8F8-4725-96EF-A8D2DB0E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C9611-4A55-4D7F-832D-7753963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7DC50-5038-48F2-9772-20C9835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3DD14-13AD-450E-B8D3-1B864A99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85901-D1B7-475C-83B2-B1FAEC49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528FA-07EE-417D-B53A-B51A7345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B3342-ABEC-4A99-8F93-F684FC2F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615DA-3004-41FF-84C4-6152AAE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098CA-BCDD-4803-8E2F-3C420114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FC6B8-9B78-4C23-9F2F-ED1B0A2D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CAF6F-E768-45F2-AC83-41336BDE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A8F6B-66BE-406E-80C0-9545F13B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45896-1355-40AC-B6EC-5CE772D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726DB-1F6B-49B2-B93D-B5F6CA6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4D1E5-708D-41D6-920A-EF95C5C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8F60B-879F-43F9-8242-87F410DB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351A7-9ECA-47F3-B327-0E331499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405B9-C1B7-40FC-8238-BB58211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E70-9EC1-48B3-84E0-AE53E4C9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5FA-4FD3-4053-B8D2-FA40BC4D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B7C-7398-4C84-8675-B16E617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103-AF93-4866-950A-7B860F38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70E-AC44-49C1-B362-17F7A60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46B-75B8-4751-AC97-787CCDB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434-1B11-4A4E-9E24-2E2A004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879-482E-44FD-B988-4459A93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953-1D29-4B64-8034-6D82D4F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744-4DEE-4210-BC6B-D6914BD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274-4DC1-4044-977C-757D33D2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FC4-D01D-4115-836D-30718E01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7888-DF11-4A58-BD2B-BA38BE60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1220-00B8-423A-BEA2-42960423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CF7-3509-478C-8272-7AF728F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EE8F-BBBA-4C01-8220-3485C6DC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98D-B399-4EDE-9162-E441EB5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353-8CF5-4F27-9C12-065E5544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C41-B7B0-4305-971B-A509562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C6B1-136E-437D-A601-AD47544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779-B5DE-4822-BB68-7F93782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AB1-33A8-4601-AD30-57C9E52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35DA-3C35-49DF-8D26-9328B358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A75-0B4D-4F3F-BD7A-05F3DAE9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EDA4-A4B4-4C04-9EC5-72CB1CD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471E-76FD-4D39-819C-2A9C24D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AF17-8034-4552-A180-5E71403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044E-B7FB-4AC5-96B5-29C64DC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55A5-B3FE-456D-8C37-90F5940D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7C26-6F93-467B-B4BA-32F531B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0EB2-7CB1-4763-AF1A-6837E8EA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948A-9618-4D76-8BA1-41913F1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D98E-CA32-48EC-BFCC-B54F2EF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7B4B-B24C-4F8B-82C1-3343915C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9D82-5FC0-45DD-91F3-626EBCE5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B0BD-6420-41D1-89E5-66388256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624F-3AC5-400C-9BBF-4D7B7DC5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A1B5-9FC9-4829-BF4A-E28CC0B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19F1-759E-46A7-96BC-9B68A15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51ppt.com.cn/" TargetMode="External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hyperlink" Target="http://www.51ppt.com.cn/" TargetMode="External"/><Relationship Id="rId6" Type="http://schemas.openxmlformats.org/officeDocument/2006/relationships/hyperlink" Target="http://www.51ppt.com.cn/" TargetMode="External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3" name="Rectangle 5" descr=""/>
            <p:cNvPicPr/>
            <p:nvPr/>
          </p:nvPicPr>
          <p:blipFill>
            <a:blip r:embed="rId2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6"/>
            <p:cNvSpPr/>
            <p:nvPr/>
          </p:nvSpPr>
          <p:spPr>
            <a:xfrm>
              <a:off x="4915440" y="6141240"/>
              <a:ext cx="4114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resented By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PRESENTATIONPRO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7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A0C-DDD0-4381-BD45-114AE829D2E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矩形 6" descr=""/>
          <p:cNvPicPr/>
          <p:nvPr/>
        </p:nvPicPr>
        <p:blipFill>
          <a:blip r:embed="rId2"/>
          <a:stretch/>
        </p:blipFill>
        <p:spPr>
          <a:xfrm>
            <a:off x="5937120" y="5583240"/>
            <a:ext cx="2183040" cy="4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277920"/>
            <a:ext cx="9144000" cy="1136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A09-7A93-4BDD-A3A5-092B3441A5B2}" type="slidenum">
              <a:rPr b="0" lang="zh-CN" sz="1400" spc="-1" strike="noStrike">
                <a:solidFill>
                  <a:srgbClr val="66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8" descr="green_grass"/>
          <p:cNvPicPr/>
          <p:nvPr/>
        </p:nvPicPr>
        <p:blipFill>
          <a:blip r:embed="rId2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dt" idx="1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28A-9272-44C0-AEEB-C83D831A73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516-C4D8-4A6E-8168-82E0FF74FD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277920"/>
            <a:ext cx="9144000" cy="1136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1" name="Picture 8" descr="green_grass"/>
          <p:cNvPicPr/>
          <p:nvPr/>
        </p:nvPicPr>
        <p:blipFill>
          <a:blip r:embed="rId2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2"/>
          <p:cNvSpPr/>
          <p:nvPr/>
        </p:nvSpPr>
        <p:spPr>
          <a:xfrm>
            <a:off x="0" y="277920"/>
            <a:ext cx="9144000" cy="196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3" name="Picture 8" descr="green_grass"/>
          <p:cNvPicPr/>
          <p:nvPr/>
        </p:nvPicPr>
        <p:blipFill>
          <a:blip r:embed="rId3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0764-8A72-4A14-B5BD-63C2F50DEEBE}" type="slidenum">
              <a:rPr b="0" lang="zh-CN" sz="1400" spc="-1" strike="noStrike">
                <a:solidFill>
                  <a:srgbClr val="66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4AD-2B0C-4767-A2C0-93FDAD97F1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3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3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FB75-9E2D-4568-8643-3BEC2E6475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25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3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3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26D1-5487-4255-A757-E7ABFE4DAB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381-F25A-434E-A34D-C0E691F98A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115" name="Rectangle 5" descr=""/>
            <p:cNvPicPr/>
            <p:nvPr/>
          </p:nvPicPr>
          <p:blipFill>
            <a:blip r:embed="rId2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4"/>
            <p:cNvSpPr/>
            <p:nvPr/>
          </p:nvSpPr>
          <p:spPr>
            <a:xfrm>
              <a:off x="4915440" y="6141240"/>
              <a:ext cx="4114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7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resented By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PRESENTATIONPRO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矩形 5" descr=""/>
          <p:cNvPicPr/>
          <p:nvPr/>
        </p:nvPicPr>
        <p:blipFill>
          <a:blip r:embed="rId3"/>
          <a:stretch/>
        </p:blipFill>
        <p:spPr>
          <a:xfrm>
            <a:off x="6303960" y="5419800"/>
            <a:ext cx="2859120" cy="554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D17-04E1-4FBB-A53F-A58622AE9D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199" name="Rectangle 5" descr=""/>
            <p:cNvPicPr/>
            <p:nvPr/>
          </p:nvPicPr>
          <p:blipFill>
            <a:blip r:embed="rId2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4915440" y="6141240"/>
              <a:ext cx="4114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1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resented By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PRESENTATIONPRO</a:t>
            </a:r>
            <a:endParaRPr b="1" i="1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2" name="矩形 5" descr=""/>
          <p:cNvPicPr/>
          <p:nvPr/>
        </p:nvPicPr>
        <p:blipFill>
          <a:blip r:embed="rId3"/>
          <a:stretch/>
        </p:blipFill>
        <p:spPr>
          <a:xfrm>
            <a:off x="6095880" y="5626080"/>
            <a:ext cx="2859120" cy="555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6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2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4"/>
              </a:rPr>
              <a:t>整理发布</a:t>
            </a: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TextBox 7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5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理发布</a:t>
            </a: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9DA-E609-43D8-8807-60A7BDBC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8DD-3562-478A-8579-060F8290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6"/>
          <p:cNvSpPr/>
          <p:nvPr/>
        </p:nvSpPr>
        <p:spPr>
          <a:xfrm flipV="1" rot="10800000">
            <a:off x="5790960" y="5713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理发布</a:t>
            </a: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7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矩形 6" descr=""/>
          <p:cNvPicPr/>
          <p:nvPr/>
        </p:nvPicPr>
        <p:blipFill>
          <a:blip r:embed="rId2"/>
          <a:stretch/>
        </p:blipFill>
        <p:spPr>
          <a:xfrm>
            <a:off x="5937120" y="5583240"/>
            <a:ext cx="2183040" cy="4525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B303-9BAA-4273-A44B-4FC6F79F0C5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3.wmf"/><Relationship Id="rId9" Type="http://schemas.openxmlformats.org/officeDocument/2006/relationships/image" Target="../media/image24.pn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WordArt 5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596280" cy="117612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9"/>
          <p:cNvSpPr/>
          <p:nvPr/>
        </p:nvSpPr>
        <p:spPr>
          <a:xfrm>
            <a:off x="35146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834920" y="113976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如图，要测量河两岸两点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间的距离，可用什么方法？并说明这样做的合理性</a:t>
            </a:r>
            <a:r>
              <a:rPr b="0" lang="zh-CN" sz="4400" spc="-1" strike="noStrike">
                <a:solidFill>
                  <a:srgbClr val="ffff66"/>
                </a:solidFill>
                <a:latin typeface="Calibri"/>
                <a:ea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439272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0" name="Object 4"/>
          <p:cNvGraphicFramePr/>
          <p:nvPr/>
        </p:nvGraphicFramePr>
        <p:xfrm>
          <a:off x="2978280" y="3673440"/>
          <a:ext cx="388620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8280" y="3673440"/>
                    <a:ext cx="388620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2" name="WordArt 6"/>
          <p:cNvSpPr txBox="1"/>
          <p:nvPr/>
        </p:nvSpPr>
        <p:spPr>
          <a:xfrm>
            <a:off x="1511280" y="530280"/>
            <a:ext cx="1695600" cy="64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试一试</a:t>
            </a:r>
            <a:endParaRPr b="1" i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655560" y="149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六</a:t>
            </a:r>
            <a:endParaRPr b="1" i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2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4" name="Object 2"/>
          <p:cNvGraphicFramePr/>
          <p:nvPr/>
        </p:nvGraphicFramePr>
        <p:xfrm>
          <a:off x="984240" y="457200"/>
          <a:ext cx="25448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57200"/>
                    <a:ext cx="2544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Rectangle 5"/>
          <p:cNvSpPr/>
          <p:nvPr/>
        </p:nvSpPr>
        <p:spPr>
          <a:xfrm>
            <a:off x="755640" y="3276720"/>
            <a:ext cx="86104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理由：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∴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D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F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CD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DC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对顶角相等）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∴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≌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D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全等三角形对应边相等）．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7" name="Text Box 6"/>
          <p:cNvSpPr/>
          <p:nvPr/>
        </p:nvSpPr>
        <p:spPr>
          <a:xfrm>
            <a:off x="3727440" y="22860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法：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垂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取两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垂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取一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条直线上，这时测得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就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的距离．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AutoShape 12"/>
          <p:cNvSpPr/>
          <p:nvPr/>
        </p:nvSpPr>
        <p:spPr>
          <a:xfrm>
            <a:off x="2279520" y="42670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947880" y="488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次战役中，我军阵地与敌人碉堡隔河相望，需要知道碉堡与我军阵地的距离。在不能过河测量又没有任何测量工具的情况下，一个战士利用他头上的帽子就测出了我军阵地与敌人碉堡的距离。你知道他用的是什么方法？其中的原理是什么？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1" name="Picture 3" descr="D:\My Documents\梁艳云\1.jpg"/>
          <p:cNvPicPr/>
          <p:nvPr/>
        </p:nvPicPr>
        <p:blipFill>
          <a:blip r:embed="rId1"/>
          <a:stretch/>
        </p:blipFill>
        <p:spPr>
          <a:xfrm>
            <a:off x="2552760" y="2751120"/>
            <a:ext cx="4419720" cy="36799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"/>
          <p:cNvPicPr/>
          <p:nvPr/>
        </p:nvPicPr>
        <p:blipFill>
          <a:blip r:embed="rId2"/>
          <a:stretch/>
        </p:blipFill>
        <p:spPr>
          <a:xfrm>
            <a:off x="9177480" y="650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E:\wuzhaofang\gif001.gif"/>
          <p:cNvPicPr/>
          <p:nvPr/>
        </p:nvPicPr>
        <p:blipFill>
          <a:blip r:embed="rId3"/>
          <a:stretch/>
        </p:blipFill>
        <p:spPr>
          <a:xfrm>
            <a:off x="5977080" y="6127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0"/>
          <p:cNvSpPr/>
          <p:nvPr/>
        </p:nvSpPr>
        <p:spPr>
          <a:xfrm>
            <a:off x="3852720" y="32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342360" y="336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endParaRPr b="1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6" descr="D:\My Documents\梁艳云\3.gif"/>
          <p:cNvPicPr/>
          <p:nvPr/>
        </p:nvPicPr>
        <p:blipFill>
          <a:blip r:embed="rId1"/>
          <a:stretch/>
        </p:blipFill>
        <p:spPr>
          <a:xfrm>
            <a:off x="5052960" y="765000"/>
            <a:ext cx="428760" cy="1981440"/>
          </a:xfrm>
          <a:prstGeom prst="rect">
            <a:avLst/>
          </a:prstGeom>
          <a:ln w="0">
            <a:noFill/>
          </a:ln>
        </p:spPr>
      </p:pic>
      <p:sp>
        <p:nvSpPr>
          <p:cNvPr id="817" name="Line 10"/>
          <p:cNvSpPr/>
          <p:nvPr/>
        </p:nvSpPr>
        <p:spPr>
          <a:xfrm flipH="1">
            <a:off x="1928880" y="974880"/>
            <a:ext cx="3200400" cy="1752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18" name="Object 11"/>
          <p:cNvGraphicFramePr/>
          <p:nvPr/>
        </p:nvGraphicFramePr>
        <p:xfrm>
          <a:off x="8481960" y="1851120"/>
          <a:ext cx="71460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1960" y="1851120"/>
                    <a:ext cx="714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14"/>
          <p:cNvGraphicFramePr/>
          <p:nvPr/>
        </p:nvGraphicFramePr>
        <p:xfrm>
          <a:off x="5433840" y="758880"/>
          <a:ext cx="432000" cy="196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3840" y="758880"/>
                    <a:ext cx="4320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Line 12"/>
          <p:cNvSpPr/>
          <p:nvPr/>
        </p:nvSpPr>
        <p:spPr>
          <a:xfrm flipH="1" flipV="1">
            <a:off x="5738400" y="925560"/>
            <a:ext cx="2998080" cy="1757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23" name="Group 30"/>
          <p:cNvGrpSpPr/>
          <p:nvPr/>
        </p:nvGrpSpPr>
        <p:grpSpPr>
          <a:xfrm>
            <a:off x="1201680" y="1401840"/>
            <a:ext cx="879480" cy="1325520"/>
            <a:chOff x="1201680" y="1401840"/>
            <a:chExt cx="879480" cy="1325520"/>
          </a:xfrm>
        </p:grpSpPr>
        <p:pic>
          <p:nvPicPr>
            <p:cNvPr id="824" name="Picture 27" descr="D:\My Documents\梁艳云\ta.gif"/>
            <p:cNvPicPr/>
            <p:nvPr/>
          </p:nvPicPr>
          <p:blipFill>
            <a:blip r:embed="rId6"/>
            <a:stretch/>
          </p:blipFill>
          <p:spPr>
            <a:xfrm>
              <a:off x="1201680" y="1401840"/>
              <a:ext cx="8794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ine 28"/>
            <p:cNvSpPr/>
            <p:nvPr/>
          </p:nvSpPr>
          <p:spPr>
            <a:xfrm>
              <a:off x="1242720" y="27273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26" name="Line 29"/>
          <p:cNvSpPr/>
          <p:nvPr/>
        </p:nvSpPr>
        <p:spPr>
          <a:xfrm flipH="1">
            <a:off x="1014480" y="2727360"/>
            <a:ext cx="8229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27" name="Group 41"/>
          <p:cNvGrpSpPr/>
          <p:nvPr/>
        </p:nvGrpSpPr>
        <p:grpSpPr>
          <a:xfrm>
            <a:off x="1396440" y="4597560"/>
            <a:ext cx="3656160" cy="2073240"/>
            <a:chOff x="1396440" y="4597560"/>
            <a:chExt cx="3656160" cy="2073240"/>
          </a:xfrm>
        </p:grpSpPr>
        <p:sp>
          <p:nvSpPr>
            <p:cNvPr id="828" name="AutoShape 34"/>
            <p:cNvSpPr/>
            <p:nvPr/>
          </p:nvSpPr>
          <p:spPr>
            <a:xfrm flipH="1">
              <a:off x="1787040" y="4665600"/>
              <a:ext cx="2873520" cy="1636560"/>
            </a:xfrm>
            <a:prstGeom prst="rtTriangle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9" name="Text Box 35"/>
            <p:cNvSpPr/>
            <p:nvPr/>
          </p:nvSpPr>
          <p:spPr>
            <a:xfrm>
              <a:off x="4660920" y="4597560"/>
              <a:ext cx="32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0" name="Text Box 36"/>
            <p:cNvSpPr/>
            <p:nvPr/>
          </p:nvSpPr>
          <p:spPr>
            <a:xfrm>
              <a:off x="4660920" y="5961240"/>
              <a:ext cx="39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B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1" name="Text Box 37"/>
            <p:cNvSpPr/>
            <p:nvPr/>
          </p:nvSpPr>
          <p:spPr>
            <a:xfrm>
              <a:off x="1396440" y="6028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C</a:t>
              </a:r>
              <a:endParaRPr b="1" i="1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832" name="Group 44"/>
          <p:cNvGrpSpPr/>
          <p:nvPr/>
        </p:nvGrpSpPr>
        <p:grpSpPr>
          <a:xfrm>
            <a:off x="5816160" y="4597560"/>
            <a:ext cx="3579840" cy="1974600"/>
            <a:chOff x="5816160" y="4597560"/>
            <a:chExt cx="3579840" cy="1974600"/>
          </a:xfrm>
        </p:grpSpPr>
        <p:grpSp>
          <p:nvGrpSpPr>
            <p:cNvPr id="833" name="Group 43"/>
            <p:cNvGrpSpPr/>
            <p:nvPr/>
          </p:nvGrpSpPr>
          <p:grpSpPr>
            <a:xfrm>
              <a:off x="5816160" y="4597560"/>
              <a:ext cx="3254400" cy="1946160"/>
              <a:chOff x="5816160" y="4597560"/>
              <a:chExt cx="3254400" cy="1946160"/>
            </a:xfrm>
          </p:grpSpPr>
          <p:sp>
            <p:nvSpPr>
              <p:cNvPr id="834" name="Text Box 38"/>
              <p:cNvSpPr/>
              <p:nvPr/>
            </p:nvSpPr>
            <p:spPr>
              <a:xfrm>
                <a:off x="5866920" y="45975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D</a:t>
                </a:r>
                <a:endParaRPr b="1" i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835" name="Group 42"/>
              <p:cNvGrpSpPr/>
              <p:nvPr/>
            </p:nvGrpSpPr>
            <p:grpSpPr>
              <a:xfrm>
                <a:off x="5816160" y="4647960"/>
                <a:ext cx="3254400" cy="1895760"/>
                <a:chOff x="5816160" y="4647960"/>
                <a:chExt cx="3254400" cy="1895760"/>
              </a:xfrm>
            </p:grpSpPr>
            <p:sp>
              <p:nvSpPr>
                <p:cNvPr id="836" name="AutoShape 33"/>
                <p:cNvSpPr/>
                <p:nvPr/>
              </p:nvSpPr>
              <p:spPr>
                <a:xfrm>
                  <a:off x="6205680" y="4647960"/>
                  <a:ext cx="2864880" cy="1618560"/>
                </a:xfrm>
                <a:prstGeom prst="rtTriangle">
                  <a:avLst/>
                </a:prstGeom>
                <a:solidFill>
                  <a:srgbClr val="4f81b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837" name="Text Box 39"/>
                <p:cNvSpPr/>
                <p:nvPr/>
              </p:nvSpPr>
              <p:spPr>
                <a:xfrm>
                  <a:off x="5816160" y="590112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宋体"/>
                    </a:rPr>
                    <a:t>E</a:t>
                  </a:r>
                  <a:endParaRPr b="1" i="1" lang="en-US" sz="36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838" name="Text Box 40"/>
            <p:cNvSpPr/>
            <p:nvPr/>
          </p:nvSpPr>
          <p:spPr>
            <a:xfrm>
              <a:off x="9136080" y="5929560"/>
              <a:ext cx="2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F</a:t>
              </a:r>
              <a:endParaRPr b="1" i="1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39" name="Text Box 47"/>
          <p:cNvSpPr/>
          <p:nvPr/>
        </p:nvSpPr>
        <p:spPr>
          <a:xfrm>
            <a:off x="861840" y="34545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= 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 ∠D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Text Box 48"/>
          <p:cNvSpPr/>
          <p:nvPr/>
        </p:nvSpPr>
        <p:spPr>
          <a:xfrm>
            <a:off x="1706040" y="3911760"/>
            <a:ext cx="37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则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C=EF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为什么？</a:t>
            </a:r>
            <a:endParaRPr b="1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1815480" y="29210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实际问题转换成数学问题为：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2" name="Picture 53" descr="http://www.pkuschool.com/Student/images/left_tu_answer.gif"/>
          <p:cNvPicPr/>
          <p:nvPr/>
        </p:nvPicPr>
        <p:blipFill>
          <a:blip r:embed="rId7"/>
          <a:stretch/>
        </p:blipFill>
        <p:spPr>
          <a:xfrm>
            <a:off x="709560" y="10152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2"/>
          <p:cNvGrpSpPr/>
          <p:nvPr/>
        </p:nvGrpSpPr>
        <p:grpSpPr>
          <a:xfrm>
            <a:off x="469440" y="1550880"/>
            <a:ext cx="3656160" cy="2073240"/>
            <a:chOff x="469440" y="1550880"/>
            <a:chExt cx="3656160" cy="2073240"/>
          </a:xfrm>
        </p:grpSpPr>
        <p:sp>
          <p:nvSpPr>
            <p:cNvPr id="844" name="AutoShape 3"/>
            <p:cNvSpPr/>
            <p:nvPr/>
          </p:nvSpPr>
          <p:spPr>
            <a:xfrm flipH="1">
              <a:off x="860040" y="1618920"/>
              <a:ext cx="2873520" cy="1636560"/>
            </a:xfrm>
            <a:prstGeom prst="rtTriangle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5" name="Text Box 4"/>
            <p:cNvSpPr/>
            <p:nvPr/>
          </p:nvSpPr>
          <p:spPr>
            <a:xfrm>
              <a:off x="3733920" y="1550880"/>
              <a:ext cx="32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6" name="Text Box 5"/>
            <p:cNvSpPr/>
            <p:nvPr/>
          </p:nvSpPr>
          <p:spPr>
            <a:xfrm>
              <a:off x="3733920" y="2914920"/>
              <a:ext cx="39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B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7" name="Text Box 6"/>
            <p:cNvSpPr/>
            <p:nvPr/>
          </p:nvSpPr>
          <p:spPr>
            <a:xfrm>
              <a:off x="469440" y="29815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C</a:t>
              </a:r>
              <a:endParaRPr b="1" i="1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48" name="Rectangle 14"/>
          <p:cNvSpPr/>
          <p:nvPr/>
        </p:nvSpPr>
        <p:spPr>
          <a:xfrm>
            <a:off x="925560" y="270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= ∠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 ∠D</a:t>
            </a:r>
            <a:endParaRPr b="1" i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49" name="Group 16"/>
          <p:cNvGrpSpPr/>
          <p:nvPr/>
        </p:nvGrpSpPr>
        <p:grpSpPr>
          <a:xfrm>
            <a:off x="773280" y="1017720"/>
            <a:ext cx="8305200" cy="2660400"/>
            <a:chOff x="773280" y="1017720"/>
            <a:chExt cx="8305200" cy="2660400"/>
          </a:xfrm>
        </p:grpSpPr>
        <p:grpSp>
          <p:nvGrpSpPr>
            <p:cNvPr id="850" name="Group 7"/>
            <p:cNvGrpSpPr/>
            <p:nvPr/>
          </p:nvGrpSpPr>
          <p:grpSpPr>
            <a:xfrm>
              <a:off x="5498640" y="1703520"/>
              <a:ext cx="3579840" cy="1974600"/>
              <a:chOff x="5498640" y="1703520"/>
              <a:chExt cx="3579840" cy="1974600"/>
            </a:xfrm>
          </p:grpSpPr>
          <p:grpSp>
            <p:nvGrpSpPr>
              <p:cNvPr id="851" name="Group 8"/>
              <p:cNvGrpSpPr/>
              <p:nvPr/>
            </p:nvGrpSpPr>
            <p:grpSpPr>
              <a:xfrm>
                <a:off x="5498640" y="1703520"/>
                <a:ext cx="3254400" cy="1946160"/>
                <a:chOff x="5498640" y="1703520"/>
                <a:chExt cx="3254400" cy="1946160"/>
              </a:xfrm>
            </p:grpSpPr>
            <p:sp>
              <p:nvSpPr>
                <p:cNvPr id="852" name="Text Box 9"/>
                <p:cNvSpPr/>
                <p:nvPr/>
              </p:nvSpPr>
              <p:spPr>
                <a:xfrm>
                  <a:off x="5549400" y="170352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宋体"/>
                    </a:rPr>
                    <a:t>D</a:t>
                  </a:r>
                  <a:endParaRPr b="1" i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53" name="Group 10"/>
                <p:cNvGrpSpPr/>
                <p:nvPr/>
              </p:nvGrpSpPr>
              <p:grpSpPr>
                <a:xfrm>
                  <a:off x="5498640" y="1753920"/>
                  <a:ext cx="3254400" cy="1895760"/>
                  <a:chOff x="5498640" y="1753920"/>
                  <a:chExt cx="3254400" cy="1895760"/>
                </a:xfrm>
              </p:grpSpPr>
              <p:sp>
                <p:nvSpPr>
                  <p:cNvPr id="854" name="AutoShape 11"/>
                  <p:cNvSpPr/>
                  <p:nvPr/>
                </p:nvSpPr>
                <p:spPr>
                  <a:xfrm>
                    <a:off x="5888160" y="1753920"/>
                    <a:ext cx="2864880" cy="1618560"/>
                  </a:xfrm>
                  <a:prstGeom prst="rtTriangle">
                    <a:avLst/>
                  </a:prstGeom>
                  <a:solidFill>
                    <a:srgbClr val="4f81b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1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5" name="Text Box 12"/>
                  <p:cNvSpPr/>
                  <p:nvPr/>
                </p:nvSpPr>
                <p:spPr>
                  <a:xfrm>
                    <a:off x="5498640" y="3007080"/>
                    <a:ext cx="4856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ffff"/>
                        </a:solidFill>
                        <a:latin typeface="Times New Roman"/>
                        <a:ea typeface="宋体"/>
                      </a:rPr>
                      <a:t>E</a:t>
                    </a:r>
                    <a:endParaRPr b="1" i="1" lang="en-US" sz="36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56" name="Text Box 13"/>
              <p:cNvSpPr/>
              <p:nvPr/>
            </p:nvSpPr>
            <p:spPr>
              <a:xfrm>
                <a:off x="8818560" y="3035520"/>
                <a:ext cx="25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F</a:t>
                </a:r>
                <a:endParaRPr b="1" i="1" lang="en-US" sz="36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857" name="Rectangle 15"/>
            <p:cNvSpPr/>
            <p:nvPr/>
          </p:nvSpPr>
          <p:spPr>
            <a:xfrm>
              <a:off x="773280" y="1017720"/>
              <a:ext cx="451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=EF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为什么？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pic>
        <p:nvPicPr>
          <p:cNvPr id="858" name="Group 30" descr=""/>
          <p:cNvPicPr/>
          <p:nvPr/>
        </p:nvPicPr>
        <p:blipFill>
          <a:blip r:embed="rId1"/>
          <a:stretch/>
        </p:blipFill>
        <p:spPr>
          <a:xfrm>
            <a:off x="749160" y="3578400"/>
            <a:ext cx="5243760" cy="221904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27"/>
          <p:cNvSpPr/>
          <p:nvPr/>
        </p:nvSpPr>
        <p:spPr>
          <a:xfrm>
            <a:off x="2080440" y="5742000"/>
            <a:ext cx="4552560" cy="5814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宋体"/>
                <a:ea typeface="宋体"/>
              </a:rPr>
              <a:t>∴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ABC 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  <a:ea typeface="宋体"/>
              </a:rPr>
              <a:t>≌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 △DEF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（角边角）</a:t>
            </a:r>
            <a:endParaRPr b="1" i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Text Box 29"/>
          <p:cNvSpPr/>
          <p:nvPr/>
        </p:nvSpPr>
        <p:spPr>
          <a:xfrm>
            <a:off x="2271600" y="6305400"/>
            <a:ext cx="415620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宋体"/>
                <a:ea typeface="宋体"/>
              </a:rPr>
              <a:t>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  <a:ea typeface="宋体"/>
              </a:rPr>
              <a:t>BC=EF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（全等三角形的对应边相等）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1" name="Picture 32" descr="http://www.pkuschool.com/Student/images/left_tu_community.gif"/>
          <p:cNvPicPr/>
          <p:nvPr/>
        </p:nvPicPr>
        <p:blipFill>
          <a:blip r:embed="rId2"/>
          <a:stretch/>
        </p:blipFill>
        <p:spPr>
          <a:xfrm>
            <a:off x="8480520" y="5856120"/>
            <a:ext cx="113184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874800" y="460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写一写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点分别位于一个池塘的两端，小明想用绳子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的距离，但绳子不够长，，一个叔叔帮他出了这样一个主意：先在地上取一个可以直接到达的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延长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D=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连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延长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E=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测量出它的长度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长就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的距离。 你能说明其中的道理吗？请把你的思路写下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1027080" y="5307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≌ △DEC (SAS)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950760" y="5916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=D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等三角形对应边相等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）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65" name="Group 43"/>
          <p:cNvGrpSpPr/>
          <p:nvPr/>
        </p:nvGrpSpPr>
        <p:grpSpPr>
          <a:xfrm>
            <a:off x="1255680" y="3675240"/>
            <a:ext cx="4038480" cy="1680840"/>
            <a:chOff x="1255680" y="3675240"/>
            <a:chExt cx="4038480" cy="1680840"/>
          </a:xfrm>
        </p:grpSpPr>
        <p:sp>
          <p:nvSpPr>
            <p:cNvPr id="866" name="Text Box 11"/>
            <p:cNvSpPr/>
            <p:nvPr/>
          </p:nvSpPr>
          <p:spPr>
            <a:xfrm>
              <a:off x="1331640" y="3706920"/>
              <a:ext cx="3962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已知） 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CB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CE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对顶角相等）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7" name="Text Box 12"/>
            <p:cNvSpPr/>
            <p:nvPr/>
          </p:nvSpPr>
          <p:spPr>
            <a:xfrm>
              <a:off x="1407960" y="47736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E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已知）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8" name="AutoShape 13"/>
            <p:cNvSpPr/>
            <p:nvPr/>
          </p:nvSpPr>
          <p:spPr>
            <a:xfrm>
              <a:off x="1255680" y="3675240"/>
              <a:ext cx="75960" cy="16808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43560 h 1680840"/>
                <a:gd name="textAreaBottom" fmla="*/ 1637280 h 168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69" name="Text Box 18"/>
          <p:cNvSpPr/>
          <p:nvPr/>
        </p:nvSpPr>
        <p:spPr>
          <a:xfrm>
            <a:off x="1103400" y="3173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70" name="Group 20"/>
          <p:cNvGrpSpPr/>
          <p:nvPr/>
        </p:nvGrpSpPr>
        <p:grpSpPr>
          <a:xfrm>
            <a:off x="5295600" y="3325680"/>
            <a:ext cx="1371600" cy="3245400"/>
            <a:chOff x="5295600" y="3325680"/>
            <a:chExt cx="1371600" cy="3245400"/>
          </a:xfrm>
        </p:grpSpPr>
        <p:sp>
          <p:nvSpPr>
            <p:cNvPr id="871" name="Freeform 21"/>
            <p:cNvSpPr/>
            <p:nvPr/>
          </p:nvSpPr>
          <p:spPr>
            <a:xfrm>
              <a:off x="5406840" y="3881520"/>
              <a:ext cx="1260360" cy="209232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2092320"/>
                <a:gd name="textAreaBottom" fmla="*/ 2092680 h 2092320"/>
              </a:gdLst>
              <a:ahLst/>
              <a:rect l="textAreaLeft" t="textAreaTop" r="textAreaRight" b="textAreaBottom"/>
              <a:pathLst>
                <a:path w="794" h="1318">
                  <a:moveTo>
                    <a:pt x="310" y="38"/>
                  </a:moveTo>
                  <a:cubicBezTo>
                    <a:pt x="273" y="13"/>
                    <a:pt x="254" y="9"/>
                    <a:pt x="210" y="20"/>
                  </a:cubicBezTo>
                  <a:cubicBezTo>
                    <a:pt x="182" y="38"/>
                    <a:pt x="168" y="56"/>
                    <a:pt x="137" y="66"/>
                  </a:cubicBezTo>
                  <a:cubicBezTo>
                    <a:pt x="76" y="124"/>
                    <a:pt x="165" y="37"/>
                    <a:pt x="100" y="111"/>
                  </a:cubicBezTo>
                  <a:cubicBezTo>
                    <a:pt x="76" y="138"/>
                    <a:pt x="50" y="153"/>
                    <a:pt x="36" y="185"/>
                  </a:cubicBezTo>
                  <a:cubicBezTo>
                    <a:pt x="28" y="202"/>
                    <a:pt x="18" y="239"/>
                    <a:pt x="18" y="239"/>
                  </a:cubicBezTo>
                  <a:cubicBezTo>
                    <a:pt x="28" y="372"/>
                    <a:pt x="13" y="332"/>
                    <a:pt x="64" y="404"/>
                  </a:cubicBezTo>
                  <a:cubicBezTo>
                    <a:pt x="87" y="473"/>
                    <a:pt x="67" y="562"/>
                    <a:pt x="27" y="623"/>
                  </a:cubicBezTo>
                  <a:cubicBezTo>
                    <a:pt x="24" y="638"/>
                    <a:pt x="21" y="654"/>
                    <a:pt x="18" y="669"/>
                  </a:cubicBezTo>
                  <a:cubicBezTo>
                    <a:pt x="12" y="706"/>
                    <a:pt x="0" y="779"/>
                    <a:pt x="0" y="779"/>
                  </a:cubicBezTo>
                  <a:cubicBezTo>
                    <a:pt x="11" y="910"/>
                    <a:pt x="19" y="1038"/>
                    <a:pt x="64" y="1163"/>
                  </a:cubicBezTo>
                  <a:cubicBezTo>
                    <a:pt x="67" y="1172"/>
                    <a:pt x="83" y="1168"/>
                    <a:pt x="91" y="1172"/>
                  </a:cubicBezTo>
                  <a:cubicBezTo>
                    <a:pt x="119" y="1186"/>
                    <a:pt x="142" y="1199"/>
                    <a:pt x="173" y="1209"/>
                  </a:cubicBezTo>
                  <a:cubicBezTo>
                    <a:pt x="255" y="1237"/>
                    <a:pt x="338" y="1264"/>
                    <a:pt x="420" y="1291"/>
                  </a:cubicBezTo>
                  <a:cubicBezTo>
                    <a:pt x="431" y="1294"/>
                    <a:pt x="437" y="1306"/>
                    <a:pt x="448" y="1309"/>
                  </a:cubicBezTo>
                  <a:cubicBezTo>
                    <a:pt x="465" y="1315"/>
                    <a:pt x="484" y="1315"/>
                    <a:pt x="502" y="1318"/>
                  </a:cubicBezTo>
                  <a:cubicBezTo>
                    <a:pt x="527" y="1315"/>
                    <a:pt x="553" y="1318"/>
                    <a:pt x="576" y="1309"/>
                  </a:cubicBezTo>
                  <a:cubicBezTo>
                    <a:pt x="600" y="1300"/>
                    <a:pt x="617" y="1192"/>
                    <a:pt x="621" y="1172"/>
                  </a:cubicBezTo>
                  <a:cubicBezTo>
                    <a:pt x="615" y="1101"/>
                    <a:pt x="619" y="1088"/>
                    <a:pt x="603" y="1035"/>
                  </a:cubicBezTo>
                  <a:cubicBezTo>
                    <a:pt x="598" y="1017"/>
                    <a:pt x="585" y="980"/>
                    <a:pt x="585" y="980"/>
                  </a:cubicBezTo>
                  <a:cubicBezTo>
                    <a:pt x="589" y="928"/>
                    <a:pt x="571" y="866"/>
                    <a:pt x="603" y="825"/>
                  </a:cubicBezTo>
                  <a:cubicBezTo>
                    <a:pt x="640" y="778"/>
                    <a:pt x="713" y="751"/>
                    <a:pt x="758" y="706"/>
                  </a:cubicBezTo>
                  <a:cubicBezTo>
                    <a:pt x="794" y="604"/>
                    <a:pt x="724" y="516"/>
                    <a:pt x="630" y="486"/>
                  </a:cubicBezTo>
                  <a:cubicBezTo>
                    <a:pt x="592" y="461"/>
                    <a:pt x="564" y="432"/>
                    <a:pt x="539" y="395"/>
                  </a:cubicBezTo>
                  <a:cubicBezTo>
                    <a:pt x="529" y="354"/>
                    <a:pt x="516" y="315"/>
                    <a:pt x="502" y="276"/>
                  </a:cubicBezTo>
                  <a:cubicBezTo>
                    <a:pt x="491" y="210"/>
                    <a:pt x="484" y="200"/>
                    <a:pt x="438" y="157"/>
                  </a:cubicBezTo>
                  <a:cubicBezTo>
                    <a:pt x="424" y="115"/>
                    <a:pt x="397" y="94"/>
                    <a:pt x="365" y="66"/>
                  </a:cubicBezTo>
                  <a:cubicBezTo>
                    <a:pt x="312" y="20"/>
                    <a:pt x="331" y="0"/>
                    <a:pt x="310" y="38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5787720" y="3652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3" name="Oval 23"/>
            <p:cNvSpPr/>
            <p:nvPr/>
          </p:nvSpPr>
          <p:spPr>
            <a:xfrm>
              <a:off x="6168960" y="6014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4" name="Text Box 24"/>
            <p:cNvSpPr/>
            <p:nvPr/>
          </p:nvSpPr>
          <p:spPr>
            <a:xfrm>
              <a:off x="5295600" y="3325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i="1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5" name="Text Box 25"/>
            <p:cNvSpPr/>
            <p:nvPr/>
          </p:nvSpPr>
          <p:spPr>
            <a:xfrm>
              <a:off x="5729040" y="5989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76" name="Line 26"/>
          <p:cNvSpPr/>
          <p:nvPr/>
        </p:nvSpPr>
        <p:spPr>
          <a:xfrm>
            <a:off x="5827680" y="3706920"/>
            <a:ext cx="380880" cy="23619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Oval 27"/>
          <p:cNvSpPr/>
          <p:nvPr/>
        </p:nvSpPr>
        <p:spPr>
          <a:xfrm>
            <a:off x="7048440" y="4697280"/>
            <a:ext cx="150840" cy="1508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Text Box 28"/>
          <p:cNvSpPr/>
          <p:nvPr/>
        </p:nvSpPr>
        <p:spPr>
          <a:xfrm>
            <a:off x="6970680" y="4925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Line 29"/>
          <p:cNvSpPr/>
          <p:nvPr/>
        </p:nvSpPr>
        <p:spPr>
          <a:xfrm>
            <a:off x="5904000" y="3782880"/>
            <a:ext cx="1218960" cy="990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Line 30"/>
          <p:cNvSpPr/>
          <p:nvPr/>
        </p:nvSpPr>
        <p:spPr>
          <a:xfrm>
            <a:off x="7122960" y="4773600"/>
            <a:ext cx="1219320" cy="990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Line 31"/>
          <p:cNvSpPr/>
          <p:nvPr/>
        </p:nvSpPr>
        <p:spPr>
          <a:xfrm flipV="1">
            <a:off x="6284880" y="4773600"/>
            <a:ext cx="838080" cy="1295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Line 32"/>
          <p:cNvSpPr/>
          <p:nvPr/>
        </p:nvSpPr>
        <p:spPr>
          <a:xfrm flipV="1">
            <a:off x="7122960" y="3478320"/>
            <a:ext cx="838440" cy="1295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Text Box 33"/>
          <p:cNvSpPr/>
          <p:nvPr/>
        </p:nvSpPr>
        <p:spPr>
          <a:xfrm>
            <a:off x="8648640" y="5535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4" name="Text Box 34"/>
          <p:cNvSpPr/>
          <p:nvPr/>
        </p:nvSpPr>
        <p:spPr>
          <a:xfrm>
            <a:off x="8342280" y="309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Oval 35"/>
          <p:cNvSpPr/>
          <p:nvPr/>
        </p:nvSpPr>
        <p:spPr>
          <a:xfrm>
            <a:off x="8342280" y="57643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Oval 36"/>
          <p:cNvSpPr/>
          <p:nvPr/>
        </p:nvSpPr>
        <p:spPr>
          <a:xfrm>
            <a:off x="7961400" y="340200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Line 37"/>
          <p:cNvSpPr/>
          <p:nvPr/>
        </p:nvSpPr>
        <p:spPr>
          <a:xfrm>
            <a:off x="8037360" y="3478320"/>
            <a:ext cx="381240" cy="2361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Text Box 44"/>
          <p:cNvSpPr/>
          <p:nvPr/>
        </p:nvSpPr>
        <p:spPr>
          <a:xfrm>
            <a:off x="664200" y="-2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endParaRPr b="1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9" name="Object 36"/>
          <p:cNvGraphicFramePr/>
          <p:nvPr/>
        </p:nvGraphicFramePr>
        <p:xfrm>
          <a:off x="1549440" y="3919680"/>
          <a:ext cx="2971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3919680"/>
                    <a:ext cx="2971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Line 37"/>
          <p:cNvSpPr/>
          <p:nvPr/>
        </p:nvSpPr>
        <p:spPr>
          <a:xfrm>
            <a:off x="1854360" y="43434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1854360" y="4343400"/>
            <a:ext cx="15238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Line 40"/>
          <p:cNvSpPr/>
          <p:nvPr/>
        </p:nvSpPr>
        <p:spPr>
          <a:xfrm>
            <a:off x="4064040" y="4343400"/>
            <a:ext cx="7621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Line 41"/>
          <p:cNvSpPr/>
          <p:nvPr/>
        </p:nvSpPr>
        <p:spPr>
          <a:xfrm flipH="1">
            <a:off x="3377880" y="43434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Text Box 49"/>
          <p:cNvSpPr/>
          <p:nvPr/>
        </p:nvSpPr>
        <p:spPr>
          <a:xfrm>
            <a:off x="482616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Text Box 50"/>
          <p:cNvSpPr/>
          <p:nvPr/>
        </p:nvSpPr>
        <p:spPr>
          <a:xfrm>
            <a:off x="292104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60"/>
              <p:cNvSpPr txBox="1"/>
              <p:nvPr/>
            </p:nvSpPr>
            <p:spPr>
              <a:xfrm>
                <a:off x="3301920" y="525780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8" name="Line 61"/>
          <p:cNvSpPr/>
          <p:nvPr/>
        </p:nvSpPr>
        <p:spPr>
          <a:xfrm>
            <a:off x="3378240" y="5334120"/>
            <a:ext cx="1447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WordArt 62"/>
          <p:cNvSpPr txBox="1"/>
          <p:nvPr/>
        </p:nvSpPr>
        <p:spPr>
          <a:xfrm>
            <a:off x="1397160" y="0"/>
            <a:ext cx="13716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0" name="Rectangle 63"/>
          <p:cNvSpPr/>
          <p:nvPr/>
        </p:nvSpPr>
        <p:spPr>
          <a:xfrm rot="2392800">
            <a:off x="3377880" y="5257800"/>
            <a:ext cx="15228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Text Box 64"/>
          <p:cNvSpPr/>
          <p:nvPr/>
        </p:nvSpPr>
        <p:spPr>
          <a:xfrm>
            <a:off x="1533600" y="30686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△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ABC≌ △DEC(SAS)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Text Box 66"/>
          <p:cNvSpPr/>
          <p:nvPr/>
        </p:nvSpPr>
        <p:spPr>
          <a:xfrm>
            <a:off x="619776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△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ABC ≌ △ADC(SAS)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Text Box 68"/>
          <p:cNvSpPr/>
          <p:nvPr/>
        </p:nvSpPr>
        <p:spPr>
          <a:xfrm>
            <a:off x="162576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△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宋体"/>
              </a:rPr>
              <a:t>ABC≌ △DBC (SAS)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04" name="Object 28"/>
          <p:cNvGraphicFramePr/>
          <p:nvPr/>
        </p:nvGraphicFramePr>
        <p:xfrm>
          <a:off x="5892840" y="228600"/>
          <a:ext cx="281952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92840" y="228600"/>
                    <a:ext cx="28195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Line 29"/>
          <p:cNvSpPr/>
          <p:nvPr/>
        </p:nvSpPr>
        <p:spPr>
          <a:xfrm flipV="1">
            <a:off x="6197760" y="609480"/>
            <a:ext cx="20574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Line 31"/>
          <p:cNvSpPr/>
          <p:nvPr/>
        </p:nvSpPr>
        <p:spPr>
          <a:xfrm flipH="1">
            <a:off x="5968800" y="609480"/>
            <a:ext cx="2286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Line 32"/>
          <p:cNvSpPr/>
          <p:nvPr/>
        </p:nvSpPr>
        <p:spPr>
          <a:xfrm flipH="1">
            <a:off x="7644960" y="60948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9" name="Line 33"/>
          <p:cNvSpPr/>
          <p:nvPr/>
        </p:nvSpPr>
        <p:spPr>
          <a:xfrm flipV="1">
            <a:off x="5969160" y="2209680"/>
            <a:ext cx="1676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Text Box 46"/>
          <p:cNvSpPr/>
          <p:nvPr/>
        </p:nvSpPr>
        <p:spPr>
          <a:xfrm>
            <a:off x="734076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Text Box 47"/>
          <p:cNvSpPr/>
          <p:nvPr/>
        </p:nvSpPr>
        <p:spPr>
          <a:xfrm>
            <a:off x="551196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Line 51"/>
          <p:cNvSpPr/>
          <p:nvPr/>
        </p:nvSpPr>
        <p:spPr>
          <a:xfrm>
            <a:off x="6197760" y="685800"/>
            <a:ext cx="144756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Object 58"/>
              <p:cNvSpPr txBox="1"/>
              <p:nvPr/>
            </p:nvSpPr>
            <p:spPr>
              <a:xfrm rot="10800000">
                <a:off x="5892480" y="2666880"/>
                <a:ext cx="1522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Object 59"/>
              <p:cNvSpPr txBox="1"/>
              <p:nvPr/>
            </p:nvSpPr>
            <p:spPr>
              <a:xfrm rot="10800000">
                <a:off x="7569000" y="213336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5" name="Line 75"/>
          <p:cNvSpPr/>
          <p:nvPr/>
        </p:nvSpPr>
        <p:spPr>
          <a:xfrm>
            <a:off x="7797960" y="1447920"/>
            <a:ext cx="30456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Line 76"/>
          <p:cNvSpPr/>
          <p:nvPr/>
        </p:nvSpPr>
        <p:spPr>
          <a:xfrm>
            <a:off x="6578640" y="2438280"/>
            <a:ext cx="304920" cy="152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Freeform 78"/>
          <p:cNvSpPr/>
          <p:nvPr/>
        </p:nvSpPr>
        <p:spPr>
          <a:xfrm>
            <a:off x="7493040" y="1905120"/>
            <a:ext cx="228600" cy="152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" h="96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36" y="80"/>
                  <a:pt x="144" y="96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Freeform 79"/>
          <p:cNvSpPr/>
          <p:nvPr/>
        </p:nvSpPr>
        <p:spPr>
          <a:xfrm rot="17591400">
            <a:off x="7405560" y="2072880"/>
            <a:ext cx="150840" cy="138240"/>
          </a:xfrm>
          <a:custGeom>
            <a:avLst/>
            <a:gdLst>
              <a:gd name="textAreaLeft" fmla="*/ 0 w 150840"/>
              <a:gd name="textAreaRight" fmla="*/ 151200 w 150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4" h="96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36" y="80"/>
                  <a:pt x="144" y="96"/>
                </a:cubicBezTo>
              </a:path>
            </a:pathLst>
          </a:custGeom>
          <a:noFill/>
          <a:ln w="381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Line 80"/>
          <p:cNvSpPr/>
          <p:nvPr/>
        </p:nvSpPr>
        <p:spPr>
          <a:xfrm flipH="1">
            <a:off x="2615760" y="4800600"/>
            <a:ext cx="22860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Line 81"/>
          <p:cNvSpPr/>
          <p:nvPr/>
        </p:nvSpPr>
        <p:spPr>
          <a:xfrm flipH="1">
            <a:off x="3758760" y="5562720"/>
            <a:ext cx="22860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Text Box 82"/>
          <p:cNvSpPr/>
          <p:nvPr/>
        </p:nvSpPr>
        <p:spPr>
          <a:xfrm>
            <a:off x="6121440" y="50292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将实际问题转化成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学问题。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构造全等并说明理由。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2" name="Object 13"/>
          <p:cNvGraphicFramePr/>
          <p:nvPr/>
        </p:nvGraphicFramePr>
        <p:xfrm>
          <a:off x="1701720" y="457200"/>
          <a:ext cx="281952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1720" y="457200"/>
                    <a:ext cx="28195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4" name="Line 15"/>
          <p:cNvSpPr/>
          <p:nvPr/>
        </p:nvSpPr>
        <p:spPr>
          <a:xfrm>
            <a:off x="2008080" y="863640"/>
            <a:ext cx="1065240" cy="85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Line 16"/>
          <p:cNvSpPr/>
          <p:nvPr/>
        </p:nvSpPr>
        <p:spPr>
          <a:xfrm flipH="1">
            <a:off x="3073320" y="880920"/>
            <a:ext cx="9907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6" name="Line 17"/>
          <p:cNvSpPr/>
          <p:nvPr/>
        </p:nvSpPr>
        <p:spPr>
          <a:xfrm>
            <a:off x="2006640" y="25574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Text Box 43"/>
          <p:cNvSpPr/>
          <p:nvPr/>
        </p:nvSpPr>
        <p:spPr>
          <a:xfrm>
            <a:off x="1701720" y="248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Text Box 44"/>
          <p:cNvSpPr/>
          <p:nvPr/>
        </p:nvSpPr>
        <p:spPr>
          <a:xfrm>
            <a:off x="3149640" y="1490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Text Box 45"/>
          <p:cNvSpPr/>
          <p:nvPr/>
        </p:nvSpPr>
        <p:spPr>
          <a:xfrm>
            <a:off x="3987720" y="248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53"/>
              <p:cNvSpPr txBox="1"/>
              <p:nvPr/>
            </p:nvSpPr>
            <p:spPr>
              <a:xfrm rot="10800000">
                <a:off x="2997360" y="164268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1" name="Line 54"/>
          <p:cNvSpPr/>
          <p:nvPr/>
        </p:nvSpPr>
        <p:spPr>
          <a:xfrm>
            <a:off x="3073320" y="1719360"/>
            <a:ext cx="1065240" cy="85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Line 55"/>
          <p:cNvSpPr/>
          <p:nvPr/>
        </p:nvSpPr>
        <p:spPr>
          <a:xfrm flipH="1">
            <a:off x="2006640" y="1719360"/>
            <a:ext cx="1023840" cy="85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Line 56"/>
          <p:cNvSpPr/>
          <p:nvPr/>
        </p:nvSpPr>
        <p:spPr>
          <a:xfrm>
            <a:off x="2006640" y="880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Line 69"/>
          <p:cNvSpPr/>
          <p:nvPr/>
        </p:nvSpPr>
        <p:spPr>
          <a:xfrm flipH="1">
            <a:off x="2538360" y="1336680"/>
            <a:ext cx="230400" cy="150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Line 70"/>
          <p:cNvSpPr/>
          <p:nvPr/>
        </p:nvSpPr>
        <p:spPr>
          <a:xfrm flipH="1">
            <a:off x="3377880" y="2023920"/>
            <a:ext cx="30492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36" name="Group 83"/>
          <p:cNvGrpSpPr/>
          <p:nvPr/>
        </p:nvGrpSpPr>
        <p:grpSpPr>
          <a:xfrm>
            <a:off x="3301920" y="1262160"/>
            <a:ext cx="380880" cy="228600"/>
            <a:chOff x="3301920" y="1262160"/>
            <a:chExt cx="380880" cy="228600"/>
          </a:xfrm>
        </p:grpSpPr>
        <p:sp>
          <p:nvSpPr>
            <p:cNvPr id="937" name="Line 71"/>
            <p:cNvSpPr/>
            <p:nvPr/>
          </p:nvSpPr>
          <p:spPr>
            <a:xfrm>
              <a:off x="3377880" y="1262160"/>
              <a:ext cx="30492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38" name="Line 72"/>
            <p:cNvSpPr/>
            <p:nvPr/>
          </p:nvSpPr>
          <p:spPr>
            <a:xfrm>
              <a:off x="3301920" y="1338120"/>
              <a:ext cx="304560" cy="15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2540160" y="1871640"/>
            <a:ext cx="380880" cy="228600"/>
            <a:chOff x="2540160" y="1871640"/>
            <a:chExt cx="380880" cy="228600"/>
          </a:xfrm>
        </p:grpSpPr>
        <p:sp>
          <p:nvSpPr>
            <p:cNvPr id="940" name="Line 85"/>
            <p:cNvSpPr/>
            <p:nvPr/>
          </p:nvSpPr>
          <p:spPr>
            <a:xfrm>
              <a:off x="2616120" y="1871640"/>
              <a:ext cx="30492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1" name="Line 86"/>
            <p:cNvSpPr/>
            <p:nvPr/>
          </p:nvSpPr>
          <p:spPr>
            <a:xfrm>
              <a:off x="2540160" y="1947600"/>
              <a:ext cx="304560" cy="15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42" name="Rectangle 88"/>
          <p:cNvSpPr/>
          <p:nvPr/>
        </p:nvSpPr>
        <p:spPr>
          <a:xfrm>
            <a:off x="4716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Text Box 89"/>
          <p:cNvSpPr/>
          <p:nvPr/>
        </p:nvSpPr>
        <p:spPr>
          <a:xfrm>
            <a:off x="4282920" y="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e0649"/>
                </a:solidFill>
                <a:latin typeface="宋体"/>
                <a:ea typeface="宋体"/>
              </a:rPr>
              <a:t>你能想到其它测量方法吗？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44" name="Group 94"/>
          <p:cNvGrpSpPr/>
          <p:nvPr/>
        </p:nvGrpSpPr>
        <p:grpSpPr>
          <a:xfrm>
            <a:off x="5054760" y="3200400"/>
            <a:ext cx="4038120" cy="1766880"/>
            <a:chOff x="5054760" y="3200400"/>
            <a:chExt cx="4038120" cy="1766880"/>
          </a:xfrm>
        </p:grpSpPr>
        <p:pic>
          <p:nvPicPr>
            <p:cNvPr id="945" name="Picture 87" descr=""/>
            <p:cNvPicPr/>
            <p:nvPr/>
          </p:nvPicPr>
          <p:blipFill>
            <a:blip r:embed="rId9"/>
            <a:srcRect l="0" t="0" r="50954" b="0"/>
            <a:stretch/>
          </p:blipFill>
          <p:spPr>
            <a:xfrm>
              <a:off x="5054760" y="4114800"/>
              <a:ext cx="182880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6" name="Group 92"/>
            <p:cNvGrpSpPr/>
            <p:nvPr/>
          </p:nvGrpSpPr>
          <p:grpSpPr>
            <a:xfrm>
              <a:off x="6426360" y="3200400"/>
              <a:ext cx="2666520" cy="1460520"/>
              <a:chOff x="6426360" y="3200400"/>
              <a:chExt cx="2666520" cy="1460520"/>
            </a:xfrm>
          </p:grpSpPr>
          <p:sp>
            <p:nvSpPr>
              <p:cNvPr id="947" name="Freeform 90"/>
              <p:cNvSpPr/>
              <p:nvPr/>
            </p:nvSpPr>
            <p:spPr>
              <a:xfrm>
                <a:off x="6502320" y="3200400"/>
                <a:ext cx="2590560" cy="144756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1447560"/>
                  <a:gd name="textAreaBottom" fmla="*/ 1447920 h 1447560"/>
                </a:gdLst>
                <a:ahLst/>
                <a:rect l="textAreaLeft" t="textAreaTop" r="textAreaRight" b="textAreaBottom"/>
                <a:pathLst>
                  <a:path w="1680" h="1000">
                    <a:moveTo>
                      <a:pt x="288" y="752"/>
                    </a:moveTo>
                    <a:cubicBezTo>
                      <a:pt x="312" y="596"/>
                      <a:pt x="336" y="440"/>
                      <a:pt x="432" y="320"/>
                    </a:cubicBezTo>
                    <a:cubicBezTo>
                      <a:pt x="528" y="200"/>
                      <a:pt x="720" y="64"/>
                      <a:pt x="864" y="32"/>
                    </a:cubicBezTo>
                    <a:cubicBezTo>
                      <a:pt x="1008" y="0"/>
                      <a:pt x="1168" y="56"/>
                      <a:pt x="1296" y="128"/>
                    </a:cubicBezTo>
                    <a:cubicBezTo>
                      <a:pt x="1424" y="200"/>
                      <a:pt x="1584" y="352"/>
                      <a:pt x="1632" y="464"/>
                    </a:cubicBezTo>
                    <a:cubicBezTo>
                      <a:pt x="1680" y="576"/>
                      <a:pt x="1648" y="728"/>
                      <a:pt x="1584" y="800"/>
                    </a:cubicBezTo>
                    <a:cubicBezTo>
                      <a:pt x="1520" y="872"/>
                      <a:pt x="1368" y="872"/>
                      <a:pt x="1248" y="896"/>
                    </a:cubicBezTo>
                    <a:cubicBezTo>
                      <a:pt x="1128" y="920"/>
                      <a:pt x="968" y="944"/>
                      <a:pt x="864" y="944"/>
                    </a:cubicBezTo>
                    <a:cubicBezTo>
                      <a:pt x="760" y="944"/>
                      <a:pt x="704" y="896"/>
                      <a:pt x="624" y="896"/>
                    </a:cubicBezTo>
                    <a:cubicBezTo>
                      <a:pt x="544" y="896"/>
                      <a:pt x="456" y="928"/>
                      <a:pt x="384" y="944"/>
                    </a:cubicBezTo>
                    <a:cubicBezTo>
                      <a:pt x="312" y="960"/>
                      <a:pt x="256" y="984"/>
                      <a:pt x="192" y="992"/>
                    </a:cubicBezTo>
                    <a:cubicBezTo>
                      <a:pt x="128" y="1000"/>
                      <a:pt x="40" y="992"/>
                      <a:pt x="0" y="992"/>
                    </a:cubicBezTo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8" name="Freeform 91"/>
              <p:cNvSpPr/>
              <p:nvPr/>
            </p:nvSpPr>
            <p:spPr>
              <a:xfrm>
                <a:off x="6426360" y="4267080"/>
                <a:ext cx="533160" cy="3938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96" h="296">
                    <a:moveTo>
                      <a:pt x="296" y="0"/>
                    </a:moveTo>
                    <a:cubicBezTo>
                      <a:pt x="260" y="32"/>
                      <a:pt x="224" y="64"/>
                      <a:pt x="200" y="96"/>
                    </a:cubicBezTo>
                    <a:cubicBezTo>
                      <a:pt x="176" y="128"/>
                      <a:pt x="176" y="168"/>
                      <a:pt x="152" y="192"/>
                    </a:cubicBezTo>
                    <a:cubicBezTo>
                      <a:pt x="128" y="216"/>
                      <a:pt x="80" y="224"/>
                      <a:pt x="56" y="240"/>
                    </a:cubicBezTo>
                    <a:cubicBezTo>
                      <a:pt x="32" y="256"/>
                      <a:pt x="0" y="280"/>
                      <a:pt x="8" y="288"/>
                    </a:cubicBezTo>
                    <a:cubicBezTo>
                      <a:pt x="16" y="296"/>
                      <a:pt x="60" y="292"/>
                      <a:pt x="104" y="288"/>
                    </a:cubicBezTo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49" name="Text Box 93"/>
            <p:cNvSpPr/>
            <p:nvPr/>
          </p:nvSpPr>
          <p:spPr>
            <a:xfrm>
              <a:off x="7516440" y="3809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21eb6"/>
                  </a:solidFill>
                  <a:latin typeface="宋体"/>
                  <a:ea typeface="宋体"/>
                </a:rPr>
                <a:t>还有吗？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50" name="WordArt 97"/>
          <p:cNvSpPr txBox="1"/>
          <p:nvPr/>
        </p:nvSpPr>
        <p:spPr>
          <a:xfrm>
            <a:off x="5207040" y="5181480"/>
            <a:ext cx="914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宋体"/>
              </a:rPr>
              <a:t>思路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51" name="Text Box 98"/>
          <p:cNvSpPr/>
          <p:nvPr/>
        </p:nvSpPr>
        <p:spPr>
          <a:xfrm>
            <a:off x="740520" y="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endParaRPr b="1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2"/>
          <p:cNvSpPr/>
          <p:nvPr/>
        </p:nvSpPr>
        <p:spPr>
          <a:xfrm>
            <a:off x="1525680" y="8380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两根钢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中点连在一起，可以做成一个测量工件内槽宽的工具（卡钳）。只要量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长度，就可知工件的内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符合标准。你能明白其中的道理吗？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53" name="Group 45"/>
          <p:cNvGrpSpPr/>
          <p:nvPr/>
        </p:nvGrpSpPr>
        <p:grpSpPr>
          <a:xfrm>
            <a:off x="2516040" y="2590920"/>
            <a:ext cx="4449600" cy="2409840"/>
            <a:chOff x="2516040" y="2590920"/>
            <a:chExt cx="4449600" cy="2409840"/>
          </a:xfrm>
        </p:grpSpPr>
        <p:graphicFrame>
          <p:nvGraphicFramePr>
            <p:cNvPr id="954" name="Object 42"/>
            <p:cNvGraphicFramePr/>
            <p:nvPr/>
          </p:nvGraphicFramePr>
          <p:xfrm>
            <a:off x="3243240" y="2895480"/>
            <a:ext cx="3082680" cy="167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5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3240" y="2895480"/>
                      <a:ext cx="3082680" cy="167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Object 40"/>
            <p:cNvGraphicFramePr/>
            <p:nvPr/>
          </p:nvGraphicFramePr>
          <p:xfrm>
            <a:off x="3243240" y="2895480"/>
            <a:ext cx="3082680" cy="167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7" name="Object 4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3240" y="2895480"/>
                      <a:ext cx="3082680" cy="167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8" name="Group 33"/>
            <p:cNvGrpSpPr/>
            <p:nvPr/>
          </p:nvGrpSpPr>
          <p:grpSpPr>
            <a:xfrm>
              <a:off x="2516040" y="2742840"/>
              <a:ext cx="1218600" cy="2034720"/>
              <a:chOff x="2516040" y="2742840"/>
              <a:chExt cx="1218600" cy="2034720"/>
            </a:xfrm>
          </p:grpSpPr>
          <p:graphicFrame>
            <p:nvGraphicFramePr>
              <p:cNvPr id="959" name="Object 20"/>
              <p:cNvGraphicFramePr/>
              <p:nvPr/>
            </p:nvGraphicFramePr>
            <p:xfrm>
              <a:off x="3192840" y="4298760"/>
              <a:ext cx="541800" cy="478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60" name="Object 2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192840" y="4298760"/>
                        <a:ext cx="541800" cy="47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61" name="Object 19"/>
              <p:cNvGraphicFramePr/>
              <p:nvPr/>
            </p:nvGraphicFramePr>
            <p:xfrm>
              <a:off x="3192840" y="2742840"/>
              <a:ext cx="541800" cy="478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62" name="Object 1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192840" y="2742840"/>
                        <a:ext cx="541800" cy="47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3" name="Rectangle 3"/>
              <p:cNvSpPr/>
              <p:nvPr/>
            </p:nvSpPr>
            <p:spPr>
              <a:xfrm>
                <a:off x="2516040" y="2742840"/>
                <a:ext cx="676800" cy="2034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4" name="Text Box 34"/>
            <p:cNvSpPr/>
            <p:nvPr/>
          </p:nvSpPr>
          <p:spPr>
            <a:xfrm>
              <a:off x="6402240" y="2742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C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5" name="Text Box 35"/>
            <p:cNvSpPr/>
            <p:nvPr/>
          </p:nvSpPr>
          <p:spPr>
            <a:xfrm>
              <a:off x="6325920" y="4419360"/>
              <a:ext cx="6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A</a:t>
              </a:r>
              <a:endParaRPr b="1" i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6" name="Text Box 24"/>
            <p:cNvSpPr/>
            <p:nvPr/>
          </p:nvSpPr>
          <p:spPr>
            <a:xfrm>
              <a:off x="3095640" y="2590920"/>
              <a:ext cx="7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B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7" name="Text Box 25"/>
            <p:cNvSpPr/>
            <p:nvPr/>
          </p:nvSpPr>
          <p:spPr>
            <a:xfrm>
              <a:off x="3171600" y="44193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D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68" name="WordArt 44"/>
          <p:cNvSpPr txBox="1"/>
          <p:nvPr/>
        </p:nvSpPr>
        <p:spPr>
          <a:xfrm>
            <a:off x="1525680" y="312840"/>
            <a:ext cx="13716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议一议</a:t>
            </a:r>
            <a:endParaRPr b="1" i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9" name="Oval 46"/>
          <p:cNvSpPr/>
          <p:nvPr/>
        </p:nvSpPr>
        <p:spPr>
          <a:xfrm>
            <a:off x="4726080" y="365760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Text Box 47"/>
          <p:cNvSpPr/>
          <p:nvPr/>
        </p:nvSpPr>
        <p:spPr>
          <a:xfrm>
            <a:off x="4569120" y="3733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</a:t>
            </a:r>
            <a:endParaRPr b="1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1" name="Text Box 50"/>
          <p:cNvSpPr/>
          <p:nvPr/>
        </p:nvSpPr>
        <p:spPr>
          <a:xfrm>
            <a:off x="3879360" y="5257800"/>
            <a:ext cx="21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1eb6"/>
                </a:solidFill>
                <a:latin typeface="宋体"/>
                <a:ea typeface="宋体"/>
              </a:rPr>
              <a:t>（</a:t>
            </a:r>
            <a:r>
              <a:rPr b="1" lang="en-US" sz="4400" spc="-1" strike="noStrike">
                <a:solidFill>
                  <a:srgbClr val="421eb6"/>
                </a:solidFill>
                <a:latin typeface="宋体"/>
                <a:ea typeface="宋体"/>
              </a:rPr>
              <a:t>SAS</a:t>
            </a:r>
            <a:r>
              <a:rPr b="1" lang="zh-CN" sz="4400" spc="-1" strike="noStrike">
                <a:solidFill>
                  <a:srgbClr val="421eb6"/>
                </a:solidFill>
                <a:latin typeface="宋体"/>
                <a:ea typeface="宋体"/>
              </a:rPr>
              <a:t>）</a:t>
            </a:r>
            <a:endParaRPr b="1" i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2" name="Text Box 51"/>
          <p:cNvSpPr/>
          <p:nvPr/>
        </p:nvSpPr>
        <p:spPr>
          <a:xfrm>
            <a:off x="776880" y="136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endParaRPr b="1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1704960" y="4748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间，小明和小聪在操场上突然争论起来。他们都说自己比对方长得高，这时数学老师走过来，笑着对他们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们不用争了，其实你们一样高，瞧瞧地上，你俩的影子一样长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你知道数学老师为什么能从他们的影长相等就断定它们的身高相同？你能运用全等三角形的有关知识说明一下其中的道理吗？（假定太阳光线是平行的）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4" name="Object 4"/>
          <p:cNvGraphicFramePr/>
          <p:nvPr/>
        </p:nvGraphicFramePr>
        <p:xfrm>
          <a:off x="6353280" y="3979800"/>
          <a:ext cx="261612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3280" y="3979800"/>
                    <a:ext cx="26161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5"/>
          <p:cNvGraphicFramePr/>
          <p:nvPr/>
        </p:nvGraphicFramePr>
        <p:xfrm>
          <a:off x="1704960" y="3675240"/>
          <a:ext cx="4343400" cy="27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3675240"/>
                    <a:ext cx="4343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8" name="Group 6"/>
          <p:cNvGrpSpPr/>
          <p:nvPr/>
        </p:nvGrpSpPr>
        <p:grpSpPr>
          <a:xfrm>
            <a:off x="1095480" y="2760840"/>
            <a:ext cx="2743200" cy="962640"/>
            <a:chOff x="1095480" y="2760840"/>
            <a:chExt cx="2743200" cy="962640"/>
          </a:xfrm>
        </p:grpSpPr>
        <p:sp>
          <p:nvSpPr>
            <p:cNvPr id="979" name="Line 7"/>
            <p:cNvSpPr/>
            <p:nvPr/>
          </p:nvSpPr>
          <p:spPr>
            <a:xfrm>
              <a:off x="2009880" y="276084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0" name="Line 8"/>
            <p:cNvSpPr/>
            <p:nvPr/>
          </p:nvSpPr>
          <p:spPr>
            <a:xfrm>
              <a:off x="1324080" y="308088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1" name="Line 9"/>
            <p:cNvSpPr/>
            <p:nvPr/>
          </p:nvSpPr>
          <p:spPr>
            <a:xfrm>
              <a:off x="1705320" y="303516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2" name="Line 10"/>
            <p:cNvSpPr/>
            <p:nvPr/>
          </p:nvSpPr>
          <p:spPr>
            <a:xfrm>
              <a:off x="1857600" y="285228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3" name="Line 11"/>
            <p:cNvSpPr/>
            <p:nvPr/>
          </p:nvSpPr>
          <p:spPr>
            <a:xfrm>
              <a:off x="1095480" y="326376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4" name="Line 12"/>
            <p:cNvSpPr/>
            <p:nvPr/>
          </p:nvSpPr>
          <p:spPr>
            <a:xfrm>
              <a:off x="2772000" y="321804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>
              <a:off x="3076920" y="321804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6" name="Line 14"/>
            <p:cNvSpPr/>
            <p:nvPr/>
          </p:nvSpPr>
          <p:spPr>
            <a:xfrm>
              <a:off x="3381480" y="317232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7" name="Text Box 15"/>
            <p:cNvSpPr/>
            <p:nvPr/>
          </p:nvSpPr>
          <p:spPr>
            <a:xfrm>
              <a:off x="1705320" y="326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太阳光线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88" name="AutoShape 16"/>
          <p:cNvSpPr/>
          <p:nvPr/>
        </p:nvSpPr>
        <p:spPr>
          <a:xfrm>
            <a:off x="3610080" y="2913120"/>
            <a:ext cx="4343400" cy="914400"/>
          </a:xfrm>
          <a:prstGeom prst="cloudCallout">
            <a:avLst>
              <a:gd name="adj1" fmla="val 32125"/>
              <a:gd name="adj2" fmla="val 7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们其实一样高，瞧瞧，你们的影子一样长！</a:t>
            </a:r>
            <a:endParaRPr b="1" i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9" name="WordArt 17"/>
          <p:cNvSpPr txBox="1"/>
          <p:nvPr/>
        </p:nvSpPr>
        <p:spPr>
          <a:xfrm>
            <a:off x="1362240" y="-135000"/>
            <a:ext cx="1409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90" name="Picture 19" descr="北京地区一对一面授辅导进行中"/>
          <p:cNvPicPr/>
          <p:nvPr/>
        </p:nvPicPr>
        <p:blipFill>
          <a:blip r:embed="rId5"/>
          <a:stretch/>
        </p:blipFill>
        <p:spPr>
          <a:xfrm>
            <a:off x="561960" y="6246720"/>
            <a:ext cx="914400" cy="47628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20"/>
          <p:cNvSpPr/>
          <p:nvPr/>
        </p:nvSpPr>
        <p:spPr>
          <a:xfrm>
            <a:off x="727920" y="-17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五</a:t>
            </a:r>
            <a:endParaRPr b="1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2" name="Object 2"/>
          <p:cNvGraphicFramePr/>
          <p:nvPr/>
        </p:nvGraphicFramePr>
        <p:xfrm>
          <a:off x="1374840" y="1763640"/>
          <a:ext cx="579096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763640"/>
                    <a:ext cx="57909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4" name="Group 3"/>
          <p:cNvGrpSpPr/>
          <p:nvPr/>
        </p:nvGrpSpPr>
        <p:grpSpPr>
          <a:xfrm>
            <a:off x="993600" y="925560"/>
            <a:ext cx="2743200" cy="963000"/>
            <a:chOff x="993600" y="925560"/>
            <a:chExt cx="2743200" cy="963000"/>
          </a:xfrm>
        </p:grpSpPr>
        <p:sp>
          <p:nvSpPr>
            <p:cNvPr id="995" name="Line 4"/>
            <p:cNvSpPr/>
            <p:nvPr/>
          </p:nvSpPr>
          <p:spPr>
            <a:xfrm>
              <a:off x="1908000" y="92556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6" name="Line 5"/>
            <p:cNvSpPr/>
            <p:nvPr/>
          </p:nvSpPr>
          <p:spPr>
            <a:xfrm>
              <a:off x="1222200" y="124560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7" name="Line 6"/>
            <p:cNvSpPr/>
            <p:nvPr/>
          </p:nvSpPr>
          <p:spPr>
            <a:xfrm>
              <a:off x="1603440" y="119988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8" name="Line 7"/>
            <p:cNvSpPr/>
            <p:nvPr/>
          </p:nvSpPr>
          <p:spPr>
            <a:xfrm>
              <a:off x="1755720" y="101700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9" name="Line 8"/>
            <p:cNvSpPr/>
            <p:nvPr/>
          </p:nvSpPr>
          <p:spPr>
            <a:xfrm>
              <a:off x="993600" y="142884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0" name="Line 9"/>
            <p:cNvSpPr/>
            <p:nvPr/>
          </p:nvSpPr>
          <p:spPr>
            <a:xfrm>
              <a:off x="2670120" y="138276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1" name="Line 10"/>
            <p:cNvSpPr/>
            <p:nvPr/>
          </p:nvSpPr>
          <p:spPr>
            <a:xfrm>
              <a:off x="2975040" y="138276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2" name="Line 11"/>
            <p:cNvSpPr/>
            <p:nvPr/>
          </p:nvSpPr>
          <p:spPr>
            <a:xfrm>
              <a:off x="3279600" y="1337040"/>
              <a:ext cx="457200" cy="4114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3" name="Text Box 12"/>
            <p:cNvSpPr/>
            <p:nvPr/>
          </p:nvSpPr>
          <p:spPr>
            <a:xfrm>
              <a:off x="1603440" y="14288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太阳光线</a:t>
              </a:r>
              <a:endParaRPr b="1" i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004" name="Text Box 13"/>
          <p:cNvSpPr/>
          <p:nvPr/>
        </p:nvSpPr>
        <p:spPr>
          <a:xfrm>
            <a:off x="1734480" y="3592440"/>
            <a:ext cx="274104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将实际问题转换成数学问题为：</a:t>
            </a:r>
            <a:endParaRPr b="1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05" name="Group 22"/>
          <p:cNvGrpSpPr/>
          <p:nvPr/>
        </p:nvGrpSpPr>
        <p:grpSpPr>
          <a:xfrm>
            <a:off x="4784760" y="1459080"/>
            <a:ext cx="4969440" cy="1725120"/>
            <a:chOff x="4784760" y="1459080"/>
            <a:chExt cx="4969440" cy="1725120"/>
          </a:xfrm>
        </p:grpSpPr>
        <p:sp>
          <p:nvSpPr>
            <p:cNvPr id="1006" name="AutoShape 14"/>
            <p:cNvSpPr/>
            <p:nvPr/>
          </p:nvSpPr>
          <p:spPr>
            <a:xfrm>
              <a:off x="5240160" y="1901520"/>
              <a:ext cx="1523880" cy="990360"/>
            </a:xfrm>
            <a:prstGeom prst="rtTriangle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7" name="AutoShape 15"/>
            <p:cNvSpPr/>
            <p:nvPr/>
          </p:nvSpPr>
          <p:spPr>
            <a:xfrm>
              <a:off x="7831080" y="1901520"/>
              <a:ext cx="1523880" cy="99036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8" name="Text Box 16"/>
            <p:cNvSpPr/>
            <p:nvPr/>
          </p:nvSpPr>
          <p:spPr>
            <a:xfrm>
              <a:off x="4785120" y="1459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9" name="Text Box 17"/>
            <p:cNvSpPr/>
            <p:nvPr/>
          </p:nvSpPr>
          <p:spPr>
            <a:xfrm>
              <a:off x="4784760" y="2577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0" name="Text Box 18"/>
            <p:cNvSpPr/>
            <p:nvPr/>
          </p:nvSpPr>
          <p:spPr>
            <a:xfrm>
              <a:off x="6782040" y="2587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1" name="Text Box 19"/>
            <p:cNvSpPr/>
            <p:nvPr/>
          </p:nvSpPr>
          <p:spPr>
            <a:xfrm>
              <a:off x="7391880" y="1587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2" name="Text Box 20"/>
            <p:cNvSpPr/>
            <p:nvPr/>
          </p:nvSpPr>
          <p:spPr>
            <a:xfrm>
              <a:off x="7451640" y="2663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3" name="Text Box 21"/>
            <p:cNvSpPr/>
            <p:nvPr/>
          </p:nvSpPr>
          <p:spPr>
            <a:xfrm>
              <a:off x="9357120" y="2663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i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014" name="Text Box 23"/>
          <p:cNvSpPr/>
          <p:nvPr/>
        </p:nvSpPr>
        <p:spPr>
          <a:xfrm>
            <a:off x="917640" y="4354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= ∠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= ∠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=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 </a:t>
            </a:r>
            <a:endParaRPr b="1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Oval 29"/>
          <p:cNvSpPr/>
          <p:nvPr/>
        </p:nvSpPr>
        <p:spPr>
          <a:xfrm>
            <a:off x="345960" y="620640"/>
            <a:ext cx="533520" cy="6098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Rectangle 31"/>
          <p:cNvSpPr/>
          <p:nvPr/>
        </p:nvSpPr>
        <p:spPr>
          <a:xfrm>
            <a:off x="5261040" y="2754360"/>
            <a:ext cx="15228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Rectangle 32"/>
          <p:cNvSpPr/>
          <p:nvPr/>
        </p:nvSpPr>
        <p:spPr>
          <a:xfrm>
            <a:off x="7851600" y="2754360"/>
            <a:ext cx="15264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2:15:09Z</dcterms:created>
  <dc:creator/>
  <dc:description/>
  <dc:language>en-US</dc:language>
  <cp:lastModifiedBy>User</cp:lastModifiedBy>
  <dcterms:modified xsi:type="dcterms:W3CDTF">2014-03-12T10:17:56Z</dcterms:modified>
  <cp:revision>6</cp:revision>
  <dc:subject/>
  <dc:title>幻灯片 1</dc:title>
</cp:coreProperties>
</file>