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type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8"/>
        <p:sld r:id="rId9"/>
        <p:sld r:id="rId10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A31-1A96-422A-BD82-DD73E576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EDA-3445-42C6-9316-459A5B76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015-6179-477D-92D0-27946EFE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360-AB6A-49F5-91A0-F9DE6A1C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E108-1515-4110-8927-7A76E05D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96F4-47A2-4600-96F2-0A8D09F7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8567-B7F1-4D1A-B8DB-2E618E6C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8180-D6C0-4FE9-86B1-ACA656BB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DEA5-F9EC-45A6-AC1B-4320D231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9166-F751-4E60-9EC9-E0D5DF37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C64B-D58B-4618-98B4-7F51EC99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B7B-98E6-4ACF-8CA7-856ECD20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24F9-70C2-4CAA-A232-97A093FD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544B-4871-4868-A8DA-60F9DC10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9596-B84F-4B39-A854-0FB3A8FC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457B-A1C1-4286-91AF-47B39A33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5904-884F-4779-A19F-3873CCDF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181E-E3F4-4C19-AE1E-A53A50D6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B43C-9079-473E-8B81-9319C5FE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CE76-4431-453C-BDF4-7288C10D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7BCE-D234-461D-87F5-179E9500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90A7-01A1-44B6-B264-41588D25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E73-6847-4982-BC85-90F97B6E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66BC-423D-428E-9318-A507AE9B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1D2E-B3B8-407D-841D-27EDF176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9CF3-A810-4253-9534-A5B0B70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5EFA-F25F-4B75-AF33-B80AEDED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0930-0435-4033-817C-B3FCC3E1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8849-EDC2-4E67-8C87-AE87E40C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4633-88CD-4E7B-A743-3AAC1731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2AC-7EFB-41C8-B579-998DF34B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B01-540C-4137-95C8-5E5D954E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B2B-EA4F-495C-98FD-7969EF1B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45B-FD4D-427E-B455-8BBFDE9F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F6C-2584-4599-ABC3-1ED68898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876-4E22-4147-B70D-EF29017D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38FD-A322-4EB2-8534-F731F655F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91C0-C77B-4797-829F-86FC5D40A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9499-A9B2-4E35-A6C3-FDDBBE5A6D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ordArt 8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34536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468360" y="549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探索三角形全等的条件（二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332000" y="2374920"/>
            <a:ext cx="640692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什么是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ea typeface="隶书"/>
                <a:hlinkClick r:id="rId1" action="ppaction://hlinksldjump"/>
              </a:rPr>
              <a:t>边角边公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判断两个三角形全等至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      少需要知道哪些条件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547640" y="522936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403280" y="530064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812880" y="1396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是任意一个三角形，画一个三角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= 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2273400"/>
            <a:ext cx="4896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画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线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516720" y="37846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083280" y="5945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317080" y="59450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AutoShape 18"/>
          <p:cNvCxnSpPr/>
          <p:nvPr/>
        </p:nvCxnSpPr>
        <p:spPr>
          <a:xfrm flipH="1">
            <a:off x="6516360" y="3784680"/>
            <a:ext cx="504000" cy="234036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sp>
        <p:nvSpPr>
          <p:cNvPr id="140" name="Text Box 19"/>
          <p:cNvSpPr/>
          <p:nvPr/>
        </p:nvSpPr>
        <p:spPr>
          <a:xfrm>
            <a:off x="826920" y="2824200"/>
            <a:ext cx="504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同旁，分别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顶点画  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= 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= 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交于点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得△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20"/>
          <p:cNvCxnSpPr/>
          <p:nvPr/>
        </p:nvCxnSpPr>
        <p:spPr>
          <a:xfrm flipH="1">
            <a:off x="6516000" y="6160680"/>
            <a:ext cx="187236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42" name="AutoShape 21"/>
          <p:cNvCxnSpPr/>
          <p:nvPr/>
        </p:nvCxnSpPr>
        <p:spPr>
          <a:xfrm>
            <a:off x="6781320" y="3639600"/>
            <a:ext cx="1607400" cy="252180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sp>
        <p:nvSpPr>
          <p:cNvPr id="143" name="Text Box 23"/>
          <p:cNvSpPr/>
          <p:nvPr/>
        </p:nvSpPr>
        <p:spPr>
          <a:xfrm>
            <a:off x="7091280" y="3352680"/>
            <a:ext cx="7207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6012000" y="3497400"/>
            <a:ext cx="93492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30"/>
          <p:cNvGrpSpPr/>
          <p:nvPr/>
        </p:nvGrpSpPr>
        <p:grpSpPr>
          <a:xfrm>
            <a:off x="6070680" y="1265400"/>
            <a:ext cx="2638440" cy="2290680"/>
            <a:chOff x="6070680" y="1265400"/>
            <a:chExt cx="2638440" cy="2290680"/>
          </a:xfrm>
        </p:grpSpPr>
        <p:sp>
          <p:nvSpPr>
            <p:cNvPr id="146" name="Text Box 4"/>
            <p:cNvSpPr/>
            <p:nvPr/>
          </p:nvSpPr>
          <p:spPr>
            <a:xfrm>
              <a:off x="6586560" y="12654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6070680" y="3187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8204400" y="3111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28"/>
            <p:cNvGrpSpPr/>
            <p:nvPr/>
          </p:nvGrpSpPr>
          <p:grpSpPr>
            <a:xfrm>
              <a:off x="6451920" y="1359000"/>
              <a:ext cx="1871640" cy="1942560"/>
              <a:chOff x="6451920" y="1359000"/>
              <a:chExt cx="1871640" cy="1942560"/>
            </a:xfrm>
          </p:grpSpPr>
          <p:sp>
            <p:nvSpPr>
              <p:cNvPr id="150" name="AutoShape 10"/>
              <p:cNvSpPr/>
              <p:nvPr/>
            </p:nvSpPr>
            <p:spPr>
              <a:xfrm>
                <a:off x="6451920" y="1359000"/>
                <a:ext cx="1871640" cy="1942560"/>
              </a:xfrm>
              <a:prstGeom prst="triangle">
                <a:avLst>
                  <a:gd name="adj" fmla="val 2765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>
                <a:off x="6523560" y="3072960"/>
                <a:ext cx="128520" cy="2282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81" h="144">
                    <a:moveTo>
                      <a:pt x="0" y="0"/>
                    </a:moveTo>
                    <a:cubicBezTo>
                      <a:pt x="41" y="42"/>
                      <a:pt x="81" y="89"/>
                      <a:pt x="26" y="144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Freeform 27"/>
          <p:cNvSpPr/>
          <p:nvPr/>
        </p:nvSpPr>
        <p:spPr>
          <a:xfrm>
            <a:off x="6603840" y="5932440"/>
            <a:ext cx="128880" cy="228600"/>
          </a:xfrm>
          <a:custGeom>
            <a:avLst/>
            <a:gdLst>
              <a:gd name="textAreaLeft" fmla="*/ 0 w 128880"/>
              <a:gd name="textAreaRight" fmla="*/ 129240 w 128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81" h="144">
                <a:moveTo>
                  <a:pt x="0" y="0"/>
                </a:moveTo>
                <a:cubicBezTo>
                  <a:pt x="41" y="42"/>
                  <a:pt x="81" y="89"/>
                  <a:pt x="26" y="144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  <a:effectLst>
            <a:outerShdw dist="53966" dir="2700000" blurRad="0" rotWithShape="0">
              <a:srgbClr val="cbcbc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335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华文中宋"/>
              </a:rPr>
              <a:t>角边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60480" y="2492280"/>
            <a:ext cx="829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i="1" lang="zh-CN" sz="4800" spc="-1" strike="noStrike">
                <a:solidFill>
                  <a:srgbClr val="000000"/>
                </a:solidFill>
                <a:latin typeface="Calibri"/>
              </a:rPr>
              <a:t>有两角和它们的夹边对应相等的两个三角形全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460680" y="838080"/>
            <a:ext cx="2952720" cy="72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9"/>
          <p:cNvSpPr/>
          <p:nvPr/>
        </p:nvSpPr>
        <p:spPr>
          <a:xfrm>
            <a:off x="1224000" y="5445000"/>
            <a:ext cx="4105080" cy="12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1272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 已知点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，点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，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交于点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 ∠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求证：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7705800" y="1628640"/>
            <a:ext cx="151128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 flipH="1">
            <a:off x="6192360" y="1628640"/>
            <a:ext cx="151308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6769080" y="3716280"/>
            <a:ext cx="2448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6192720" y="3499920"/>
            <a:ext cx="23050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7416720" y="14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597708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907272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6553080" y="3500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856944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7345440" y="4286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1146240" y="1905120"/>
            <a:ext cx="49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42"/>
          <p:cNvGrpSpPr/>
          <p:nvPr/>
        </p:nvGrpSpPr>
        <p:grpSpPr>
          <a:xfrm>
            <a:off x="1800360" y="2060640"/>
            <a:ext cx="3888360" cy="2467800"/>
            <a:chOff x="1800360" y="2060640"/>
            <a:chExt cx="3888360" cy="2467800"/>
          </a:xfrm>
        </p:grpSpPr>
        <p:sp>
          <p:nvSpPr>
            <p:cNvPr id="170" name="Text Box 28"/>
            <p:cNvSpPr/>
            <p:nvPr/>
          </p:nvSpPr>
          <p:spPr>
            <a:xfrm>
              <a:off x="2188080" y="3068640"/>
              <a:ext cx="35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C 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B 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已知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41"/>
            <p:cNvGrpSpPr/>
            <p:nvPr/>
          </p:nvGrpSpPr>
          <p:grpSpPr>
            <a:xfrm>
              <a:off x="1800360" y="2060640"/>
              <a:ext cx="3500280" cy="2467800"/>
              <a:chOff x="1800360" y="2060640"/>
              <a:chExt cx="3500280" cy="2467800"/>
            </a:xfrm>
          </p:grpSpPr>
          <p:sp>
            <p:nvSpPr>
              <p:cNvPr id="172" name="AutoShape 25"/>
              <p:cNvSpPr/>
              <p:nvPr/>
            </p:nvSpPr>
            <p:spPr>
              <a:xfrm>
                <a:off x="1800360" y="2131920"/>
                <a:ext cx="96120" cy="2160720"/>
              </a:xfrm>
              <a:custGeom>
                <a:avLst/>
                <a:gdLst>
                  <a:gd name="textAreaLeft" fmla="*/ 61560 w 96120"/>
                  <a:gd name="textAreaRight" fmla="*/ 96480 w 96120"/>
                  <a:gd name="textAreaTop" fmla="*/ 56160 h 2160720"/>
                  <a:gd name="textAreaBottom" fmla="*/ 2104560 h 216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27"/>
              <p:cNvSpPr/>
              <p:nvPr/>
            </p:nvSpPr>
            <p:spPr>
              <a:xfrm>
                <a:off x="2091960" y="2060640"/>
                <a:ext cx="282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∠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= ∠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公共角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29"/>
              <p:cNvSpPr/>
              <p:nvPr/>
            </p:nvSpPr>
            <p:spPr>
              <a:xfrm>
                <a:off x="2091960" y="4068720"/>
                <a:ext cx="320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∠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C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= ∠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B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已知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Text Box 34"/>
          <p:cNvSpPr/>
          <p:nvPr/>
        </p:nvSpPr>
        <p:spPr>
          <a:xfrm>
            <a:off x="2746440" y="5638680"/>
            <a:ext cx="122400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53"/>
          <p:cNvGrpSpPr/>
          <p:nvPr/>
        </p:nvGrpSpPr>
        <p:grpSpPr>
          <a:xfrm>
            <a:off x="1081080" y="4724280"/>
            <a:ext cx="4319640" cy="459720"/>
            <a:chOff x="1081080" y="4724280"/>
            <a:chExt cx="4319640" cy="459720"/>
          </a:xfrm>
        </p:grpSpPr>
        <p:sp>
          <p:nvSpPr>
            <p:cNvPr id="177" name="Text Box 30"/>
            <p:cNvSpPr/>
            <p:nvPr/>
          </p:nvSpPr>
          <p:spPr>
            <a:xfrm>
              <a:off x="1081080" y="4724280"/>
              <a:ext cx="35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∴ △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CD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2449440" y="4724280"/>
              <a:ext cx="295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△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BE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全等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SA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40"/>
          <p:cNvSpPr/>
          <p:nvPr/>
        </p:nvSpPr>
        <p:spPr>
          <a:xfrm>
            <a:off x="1225080" y="1355760"/>
            <a:ext cx="27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△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△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4"/>
          <p:cNvSpPr/>
          <p:nvPr/>
        </p:nvSpPr>
        <p:spPr>
          <a:xfrm>
            <a:off x="1589760" y="5229360"/>
            <a:ext cx="36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∴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等三角形的对应边相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1389240" y="5622840"/>
            <a:ext cx="22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6"/>
          <p:cNvSpPr/>
          <p:nvPr/>
        </p:nvSpPr>
        <p:spPr>
          <a:xfrm>
            <a:off x="1225800" y="608004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∴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等式的性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971640" y="981000"/>
            <a:ext cx="8208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边角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有两边和它们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夹角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应相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两个三角形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（“边角边”或 “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438280" y="1523880"/>
            <a:ext cx="41911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三角形的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933280" y="2382840"/>
            <a:ext cx="336276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条边和三个角分别对应相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803400" y="3276720"/>
            <a:ext cx="123516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边边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462480" y="4267080"/>
            <a:ext cx="208260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条边对应相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11:05:37Z</dcterms:created>
  <dc:creator>李君</dc:creator>
  <dc:description/>
  <dc:language>en-US</dc:language>
  <cp:lastModifiedBy>User</cp:lastModifiedBy>
  <dcterms:modified xsi:type="dcterms:W3CDTF">2014-03-12T10:17:51Z</dcterms:modified>
  <cp:revision>24</cp:revision>
  <dc:subject/>
  <dc:title>三角形全等的判定定理（二）</dc:title>
</cp:coreProperties>
</file>