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89EB-04EB-41C0-A132-4790BA55A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C434-9CC3-4DA7-A38B-0A636FE25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.;[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5BC-CB14-44FA-A332-66D303FB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EC4-A78A-4AE6-A6C4-3D532AA4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4B3-45A0-4294-9102-92AB85AE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5DE-D705-4697-8A13-E2EA8E0C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E1F1-8F48-4DFA-A2A8-3792E932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5BD7-E05B-4366-A03A-7E0E48BD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F4E0-7150-42D3-9C36-BF99AB91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7FF4-BE11-405D-A1BA-4B79363C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D3A6-B22D-49C1-808B-C05BFD37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1DF3-53CE-43E0-B03C-72622F04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0130-8BC0-4960-BE77-FD059EE3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F31-4AD1-4C28-9BE7-C12D36AE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447C-771E-43E2-BBB8-6914DCF0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2704-4735-43AE-BFC2-E8F44672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ABCF-6A8B-40FC-A717-4D3516B2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77CE-F8F2-4472-9990-459EA1F1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CB06-C91C-4392-8CC9-35E8AA54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47A3-76D9-45E4-A314-B92023A4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ED64-F7CA-4030-A46E-C8189551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1C9EF-A964-4843-AEEF-C63479B1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A787-11BC-4B42-94FD-BD3D16B5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45C3-F317-4F83-A5A2-D0E06D13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47C-4033-4D8D-9902-F80A165F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1113-3566-4C57-9A68-FC64374E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EBCBD-B2D5-45F8-B8C3-B4D70D19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A2FE4-B341-4D76-8739-DFAAA86B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D4F4-A36C-4CB7-BBD5-5CD12C2B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FFA1-2C8F-43A2-A4B5-567D0F24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9F38-ABB7-4FC7-AFDC-6F7A3EC1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E056F-C1C4-4C63-85B1-2B32ABCA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9DC-9FF9-4A2E-A850-7F47D3C4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8F9-3DDD-42CD-9EC4-A351D109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FD9-EF52-4CFB-B9DB-BB069F74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FC6-25E1-42C9-9769-C2978DC4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89F-6D2A-4AC2-9775-FCDBC6BA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C16-1656-4349-9E97-EA3E1138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8752-4D34-44F5-937A-1F632D5892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E646-91C8-475A-A4D4-40C81ED721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1C50-E3C7-4A30-BDE9-49DEC86CB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3"/>
          <p:cNvSpPr txBox="1"/>
          <p:nvPr/>
        </p:nvSpPr>
        <p:spPr>
          <a:xfrm>
            <a:off x="3348000" y="765000"/>
            <a:ext cx="482436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第三章  三角形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140360" y="2997360"/>
            <a:ext cx="475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我们的生活中几乎随处可见三角形。它简单、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趣，也十分有用。三角形可以帮助我们更好的认识周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世界，可以帮助我们解决很多实际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1332000" y="765000"/>
            <a:ext cx="1828800" cy="1447920"/>
          </a:xfrm>
          <a:prstGeom prst="flowChartExtract">
            <a:avLst/>
          </a:prstGeom>
          <a:solidFill>
            <a:srgbClr val="ffcc99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861840" y="7621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、已知△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BC≌△DEF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若△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的周长为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B=8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BC=12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则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DE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有多长，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EF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有多长，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DF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有多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3"/>
          <p:cNvSpPr/>
          <p:nvPr/>
        </p:nvSpPr>
        <p:spPr>
          <a:xfrm flipH="1">
            <a:off x="2444400" y="4638600"/>
            <a:ext cx="509400" cy="82728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4"/>
          <p:cNvSpPr/>
          <p:nvPr/>
        </p:nvSpPr>
        <p:spPr>
          <a:xfrm>
            <a:off x="2444760" y="5465880"/>
            <a:ext cx="963720" cy="14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5"/>
          <p:cNvSpPr/>
          <p:nvPr/>
        </p:nvSpPr>
        <p:spPr>
          <a:xfrm flipH="1" flipV="1">
            <a:off x="2954160" y="4638600"/>
            <a:ext cx="454320" cy="82728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6"/>
          <p:cNvSpPr/>
          <p:nvPr/>
        </p:nvSpPr>
        <p:spPr>
          <a:xfrm flipH="1">
            <a:off x="2851200" y="4638600"/>
            <a:ext cx="102960" cy="82728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7"/>
          <p:cNvSpPr/>
          <p:nvPr/>
        </p:nvSpPr>
        <p:spPr>
          <a:xfrm>
            <a:off x="2954160" y="4638600"/>
            <a:ext cx="244800" cy="82728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2932200" y="4611600"/>
            <a:ext cx="57240" cy="666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9"/>
          <p:cNvSpPr/>
          <p:nvPr/>
        </p:nvSpPr>
        <p:spPr>
          <a:xfrm>
            <a:off x="3036960" y="462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2421000" y="5438880"/>
            <a:ext cx="58680" cy="666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2531520" y="545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32"/>
          <p:cNvSpPr/>
          <p:nvPr/>
        </p:nvSpPr>
        <p:spPr>
          <a:xfrm>
            <a:off x="3384720" y="5438880"/>
            <a:ext cx="58680" cy="666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3"/>
          <p:cNvSpPr/>
          <p:nvPr/>
        </p:nvSpPr>
        <p:spPr>
          <a:xfrm>
            <a:off x="3492720" y="54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4"/>
          <p:cNvSpPr/>
          <p:nvPr/>
        </p:nvSpPr>
        <p:spPr>
          <a:xfrm>
            <a:off x="2827440" y="5438880"/>
            <a:ext cx="58680" cy="666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2934000" y="54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36"/>
          <p:cNvSpPr/>
          <p:nvPr/>
        </p:nvSpPr>
        <p:spPr>
          <a:xfrm>
            <a:off x="3174840" y="5438880"/>
            <a:ext cx="59040" cy="666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3280680" y="545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2874240" y="565164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39"/>
          <p:cNvSpPr/>
          <p:nvPr/>
        </p:nvSpPr>
        <p:spPr>
          <a:xfrm flipH="1">
            <a:off x="4118040" y="4662360"/>
            <a:ext cx="722160" cy="7653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0"/>
          <p:cNvSpPr/>
          <p:nvPr/>
        </p:nvSpPr>
        <p:spPr>
          <a:xfrm>
            <a:off x="4118040" y="5427720"/>
            <a:ext cx="1035000" cy="14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1"/>
          <p:cNvSpPr/>
          <p:nvPr/>
        </p:nvSpPr>
        <p:spPr>
          <a:xfrm flipH="1" flipV="1">
            <a:off x="4839840" y="4662360"/>
            <a:ext cx="312840" cy="7653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42"/>
          <p:cNvSpPr/>
          <p:nvPr/>
        </p:nvSpPr>
        <p:spPr>
          <a:xfrm>
            <a:off x="4419720" y="5108400"/>
            <a:ext cx="601560" cy="180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3"/>
          <p:cNvSpPr/>
          <p:nvPr/>
        </p:nvSpPr>
        <p:spPr>
          <a:xfrm flipH="1">
            <a:off x="4731840" y="5108400"/>
            <a:ext cx="289080" cy="31932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4"/>
          <p:cNvSpPr/>
          <p:nvPr/>
        </p:nvSpPr>
        <p:spPr>
          <a:xfrm flipH="1" flipV="1">
            <a:off x="4419720" y="5108040"/>
            <a:ext cx="312480" cy="31932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45"/>
          <p:cNvSpPr/>
          <p:nvPr/>
        </p:nvSpPr>
        <p:spPr>
          <a:xfrm>
            <a:off x="4816440" y="4637160"/>
            <a:ext cx="60480" cy="6336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6"/>
          <p:cNvSpPr/>
          <p:nvPr/>
        </p:nvSpPr>
        <p:spPr>
          <a:xfrm>
            <a:off x="4848120" y="44578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47"/>
          <p:cNvSpPr/>
          <p:nvPr/>
        </p:nvSpPr>
        <p:spPr>
          <a:xfrm>
            <a:off x="4094280" y="5402160"/>
            <a:ext cx="60120" cy="6372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8"/>
          <p:cNvSpPr/>
          <p:nvPr/>
        </p:nvSpPr>
        <p:spPr>
          <a:xfrm>
            <a:off x="4048200" y="54151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49"/>
          <p:cNvSpPr/>
          <p:nvPr/>
        </p:nvSpPr>
        <p:spPr>
          <a:xfrm>
            <a:off x="5129280" y="5402160"/>
            <a:ext cx="60120" cy="6372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0"/>
          <p:cNvSpPr/>
          <p:nvPr/>
        </p:nvSpPr>
        <p:spPr>
          <a:xfrm>
            <a:off x="5247720" y="54151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51"/>
          <p:cNvSpPr/>
          <p:nvPr/>
        </p:nvSpPr>
        <p:spPr>
          <a:xfrm>
            <a:off x="4395960" y="5083200"/>
            <a:ext cx="60120" cy="6336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2"/>
          <p:cNvSpPr/>
          <p:nvPr/>
        </p:nvSpPr>
        <p:spPr>
          <a:xfrm>
            <a:off x="4307760" y="49942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3"/>
          <p:cNvSpPr/>
          <p:nvPr/>
        </p:nvSpPr>
        <p:spPr>
          <a:xfrm>
            <a:off x="4997520" y="5083200"/>
            <a:ext cx="60120" cy="6336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4"/>
          <p:cNvSpPr/>
          <p:nvPr/>
        </p:nvSpPr>
        <p:spPr>
          <a:xfrm>
            <a:off x="5128200" y="504504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5"/>
          <p:cNvSpPr/>
          <p:nvPr/>
        </p:nvSpPr>
        <p:spPr>
          <a:xfrm>
            <a:off x="4708440" y="5402160"/>
            <a:ext cx="60480" cy="6372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4727520" y="54529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4670280" y="5643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5738760" y="4419720"/>
          <a:ext cx="1295280" cy="12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8760" y="4419720"/>
                    <a:ext cx="129528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58"/>
          <p:cNvSpPr/>
          <p:nvPr/>
        </p:nvSpPr>
        <p:spPr>
          <a:xfrm>
            <a:off x="7645320" y="5361120"/>
            <a:ext cx="1076400" cy="14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9"/>
          <p:cNvSpPr/>
          <p:nvPr/>
        </p:nvSpPr>
        <p:spPr>
          <a:xfrm flipH="1" flipV="1">
            <a:off x="7670520" y="4687920"/>
            <a:ext cx="1050840" cy="67320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8188200" y="4871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1"/>
          <p:cNvSpPr/>
          <p:nvPr/>
        </p:nvSpPr>
        <p:spPr>
          <a:xfrm flipV="1">
            <a:off x="7670880" y="4462560"/>
            <a:ext cx="985680" cy="2253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2"/>
          <p:cNvSpPr/>
          <p:nvPr/>
        </p:nvSpPr>
        <p:spPr>
          <a:xfrm flipH="1">
            <a:off x="7644960" y="4462560"/>
            <a:ext cx="1011240" cy="8985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3"/>
          <p:cNvSpPr/>
          <p:nvPr/>
        </p:nvSpPr>
        <p:spPr>
          <a:xfrm>
            <a:off x="7620120" y="5335560"/>
            <a:ext cx="63360" cy="6516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4"/>
          <p:cNvSpPr/>
          <p:nvPr/>
        </p:nvSpPr>
        <p:spPr>
          <a:xfrm>
            <a:off x="7641720" y="5388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65"/>
          <p:cNvSpPr/>
          <p:nvPr/>
        </p:nvSpPr>
        <p:spPr>
          <a:xfrm>
            <a:off x="8696160" y="5335560"/>
            <a:ext cx="63720" cy="6516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6"/>
          <p:cNvSpPr/>
          <p:nvPr/>
        </p:nvSpPr>
        <p:spPr>
          <a:xfrm>
            <a:off x="8810640" y="5348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7"/>
          <p:cNvSpPr/>
          <p:nvPr/>
        </p:nvSpPr>
        <p:spPr>
          <a:xfrm>
            <a:off x="7645320" y="4660920"/>
            <a:ext cx="63720" cy="666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8"/>
          <p:cNvSpPr/>
          <p:nvPr/>
        </p:nvSpPr>
        <p:spPr>
          <a:xfrm>
            <a:off x="7561080" y="4581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69"/>
          <p:cNvSpPr/>
          <p:nvPr/>
        </p:nvSpPr>
        <p:spPr>
          <a:xfrm>
            <a:off x="8631360" y="4435560"/>
            <a:ext cx="64800" cy="666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0"/>
          <p:cNvSpPr/>
          <p:nvPr/>
        </p:nvSpPr>
        <p:spPr>
          <a:xfrm>
            <a:off x="8755920" y="4383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71"/>
          <p:cNvSpPr/>
          <p:nvPr/>
        </p:nvSpPr>
        <p:spPr>
          <a:xfrm>
            <a:off x="8130240" y="5454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861840" y="160020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、如图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图中共有</a:t>
            </a:r>
            <a:r>
              <a:rPr b="0" lang="zh-CN" sz="2400" spc="-1" strike="noStrike" u="sng">
                <a:solidFill>
                  <a:srgbClr val="cc00cc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个三角形，它们分别是</a:t>
            </a:r>
            <a:r>
              <a:rPr b="0" lang="zh-CN" sz="2400" spc="-1" strike="noStrike" u="sng">
                <a:solidFill>
                  <a:srgbClr val="cc00cc"/>
                </a:solidFill>
                <a:uFillTx/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、如图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图中共有</a:t>
            </a:r>
            <a:r>
              <a:rPr b="0" lang="zh-CN" sz="2400" spc="-1" strike="noStrike" u="sng">
                <a:solidFill>
                  <a:srgbClr val="cc00cc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个三角形，它们分别是</a:t>
            </a:r>
            <a:r>
              <a:rPr b="0" lang="zh-CN" sz="2400" spc="-1" strike="noStrike" u="sng">
                <a:solidFill>
                  <a:srgbClr val="cc00cc"/>
                </a:solidFill>
                <a:uFillTx/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、如图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图中共有</a:t>
            </a:r>
            <a:r>
              <a:rPr b="0" lang="zh-CN" sz="2400" spc="-1" strike="noStrike" u="sng">
                <a:solidFill>
                  <a:srgbClr val="cc00cc"/>
                </a:solidFill>
                <a:uFillTx/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个三角形，它们分别是</a:t>
            </a:r>
            <a:r>
              <a:rPr b="0" lang="zh-CN" sz="2400" spc="-1" strike="noStrike" u="sng">
                <a:solidFill>
                  <a:srgbClr val="cc00cc"/>
                </a:solidFill>
                <a:uFillTx/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、如图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1=32</a:t>
            </a:r>
            <a:r>
              <a:rPr b="0" lang="en-US" sz="2400" spc="-1" strike="noStrike" baseline="30000">
                <a:solidFill>
                  <a:srgbClr val="cc00cc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2=53</a:t>
            </a:r>
            <a:r>
              <a:rPr b="0" lang="en-US" sz="2400" spc="-1" strike="noStrike" baseline="30000">
                <a:solidFill>
                  <a:srgbClr val="cc00cc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3=61</a:t>
            </a:r>
            <a:r>
              <a:rPr b="0" lang="en-US" sz="2400" spc="-1" strike="noStrike" baseline="30000">
                <a:solidFill>
                  <a:srgbClr val="cc00cc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则∠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4=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938160" y="3124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、如图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相交于点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如果∠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B=∠D=52</a:t>
            </a:r>
            <a:r>
              <a:rPr b="0" lang="en-US" sz="2400" spc="-1" strike="noStrike" baseline="30000">
                <a:solidFill>
                  <a:srgbClr val="cc00cc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则∠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BDC=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度；∠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BEC=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度；∠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BFC=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度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0"/>
          <p:cNvSpPr/>
          <p:nvPr/>
        </p:nvSpPr>
        <p:spPr>
          <a:xfrm flipH="1">
            <a:off x="785880" y="4643280"/>
            <a:ext cx="660240" cy="7970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687240" y="5311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785880" y="5440320"/>
            <a:ext cx="977760" cy="180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3"/>
          <p:cNvSpPr/>
          <p:nvPr/>
        </p:nvSpPr>
        <p:spPr>
          <a:xfrm flipH="1" flipV="1">
            <a:off x="1446120" y="4643280"/>
            <a:ext cx="317520" cy="7970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4"/>
          <p:cNvSpPr/>
          <p:nvPr/>
        </p:nvSpPr>
        <p:spPr>
          <a:xfrm flipH="1">
            <a:off x="1104840" y="4643280"/>
            <a:ext cx="341280" cy="7970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5"/>
          <p:cNvSpPr/>
          <p:nvPr/>
        </p:nvSpPr>
        <p:spPr>
          <a:xfrm>
            <a:off x="1422360" y="4614840"/>
            <a:ext cx="58680" cy="716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1543320" y="46292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17"/>
          <p:cNvSpPr/>
          <p:nvPr/>
        </p:nvSpPr>
        <p:spPr>
          <a:xfrm>
            <a:off x="763560" y="5411880"/>
            <a:ext cx="58680" cy="7128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18"/>
          <p:cNvSpPr/>
          <p:nvPr/>
        </p:nvSpPr>
        <p:spPr>
          <a:xfrm>
            <a:off x="1739880" y="5411880"/>
            <a:ext cx="58680" cy="7128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9"/>
          <p:cNvSpPr/>
          <p:nvPr/>
        </p:nvSpPr>
        <p:spPr>
          <a:xfrm>
            <a:off x="1823400" y="5383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20"/>
          <p:cNvSpPr/>
          <p:nvPr/>
        </p:nvSpPr>
        <p:spPr>
          <a:xfrm>
            <a:off x="1081080" y="5411880"/>
            <a:ext cx="58680" cy="7128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1"/>
          <p:cNvSpPr/>
          <p:nvPr/>
        </p:nvSpPr>
        <p:spPr>
          <a:xfrm>
            <a:off x="1202040" y="5425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2"/>
          <p:cNvSpPr/>
          <p:nvPr/>
        </p:nvSpPr>
        <p:spPr>
          <a:xfrm>
            <a:off x="1292400" y="5683320"/>
            <a:ext cx="21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2"/>
          <p:cNvSpPr txBox="1"/>
          <p:nvPr/>
        </p:nvSpPr>
        <p:spPr>
          <a:xfrm>
            <a:off x="561960" y="228600"/>
            <a:ext cx="4915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方正舒体"/>
              </a:rPr>
              <a:t>轻松一点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866880" y="205740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假如有人问你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你了解三角形吗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你打算如何作答？（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A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回答三角形定义    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B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回答你所知道的三角形全部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C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回答你所清楚的三角形模糊概念    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D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回答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不了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WordArt 5"/>
          <p:cNvSpPr txBox="1"/>
          <p:nvPr/>
        </p:nvSpPr>
        <p:spPr>
          <a:xfrm>
            <a:off x="4676760" y="4191120"/>
            <a:ext cx="407664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三角形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pull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3"/>
          <p:cNvSpPr txBox="1"/>
          <p:nvPr/>
        </p:nvSpPr>
        <p:spPr>
          <a:xfrm>
            <a:off x="1095480" y="457200"/>
            <a:ext cx="30574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想一想</a:t>
            </a:r>
            <a:endParaRPr b="1" lang="en-US" sz="8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3152880" y="1905120"/>
            <a:ext cx="617220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仿宋_GB2312"/>
              </a:rPr>
              <a:t>图中有几个三角形？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仿宋_GB2312"/>
              <a:ea typeface="仿宋_GB2312"/>
            </a:endParaRPr>
          </a:p>
        </p:txBody>
      </p:sp>
      <p:graphicFrame>
        <p:nvGraphicFramePr>
          <p:cNvPr id="241" name="Object 6"/>
          <p:cNvGraphicFramePr/>
          <p:nvPr/>
        </p:nvGraphicFramePr>
        <p:xfrm>
          <a:off x="866880" y="3124080"/>
          <a:ext cx="4647960" cy="335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6880" y="3124080"/>
                    <a:ext cx="46479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716200" y="914400"/>
            <a:ext cx="4238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认识三角形</a:t>
            </a:r>
            <a:endParaRPr b="1" i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039680" y="2514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由不在同一直线上的三条线段首尾顺次相接所组成的图形叫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三角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三角形有三条边、三个内角和三个顶点。“三角形”可以用符号“△”表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420920" y="4191120"/>
            <a:ext cx="2743200" cy="2209680"/>
          </a:xfrm>
          <a:prstGeom prst="flowChartExtract">
            <a:avLst/>
          </a:prstGeom>
          <a:solidFill>
            <a:srgbClr val="cc99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C:\Documents and Settings\user\My Documents\My Pictures\girlball[1].gif"/>
          <p:cNvPicPr/>
          <p:nvPr/>
        </p:nvPicPr>
        <p:blipFill>
          <a:blip r:embed="rId1"/>
          <a:stretch/>
        </p:blipFill>
        <p:spPr>
          <a:xfrm>
            <a:off x="6221520" y="4114800"/>
            <a:ext cx="2133360" cy="2255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1878120" y="533520"/>
            <a:ext cx="5933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</a:rPr>
              <a:t>三角形有关概念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87400" y="2133720"/>
            <a:ext cx="8077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三角形任意两边之和大于第三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三角形任意两边之差小于第三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三角形三个内角的和等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直角三角形的两个锐角互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三角形的三条角平分线交于一点，三条中线交于一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三角形的三条高所在的直线交于一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全等图形的形状和大小都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全等三角形的对应边相等，对应角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1677960" y="1773360"/>
            <a:ext cx="67816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探索三角形全等的条件</a:t>
            </a:r>
            <a:endParaRPr b="1" i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97080" y="329724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       </a:t>
            </a:r>
            <a:r>
              <a:rPr b="0" lang="zh-CN" sz="4800" spc="-1" strike="noStrike">
                <a:solidFill>
                  <a:srgbClr val="66ccff"/>
                </a:solidFill>
                <a:latin typeface="Times New Roman"/>
                <a:ea typeface="华文彩云"/>
              </a:rPr>
              <a:t>两个能够重合的三角形称为全等三角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979560" y="990720"/>
            <a:ext cx="25430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</a:rPr>
              <a:t>三角形随堂测试</a:t>
            </a:r>
            <a:endParaRPr b="1" i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55520" y="2666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∥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=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=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理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2884320" y="3429000"/>
          <a:ext cx="403884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84320" y="3429000"/>
                    <a:ext cx="4038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219320" y="121932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三角形达标测试（问答卷）</a:t>
            </a:r>
            <a:endParaRPr b="1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38080" y="3124080"/>
            <a:ext cx="7696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、请举出生活中包含三角形的例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、三角形各边之间及各角之间分别有怎样的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、举出生活中包含全等图形的例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、举例说明怎样判断两个三角形全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5</a:t>
            </a:r>
            <a:r>
              <a:rPr b="0" lang="zh-CN" sz="2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、举例说明三角形全等在生活中的应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1143000" y="609480"/>
            <a:ext cx="6858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三角形达标测试（基本卷）</a:t>
            </a:r>
            <a:endParaRPr b="1" i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762120" y="220968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、一个三角形可以有两个直角吗？一个三角形的三个角能都大于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70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°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吗？能都小于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°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、在一个直角三角形中，两个锐角相等，求这两个锐角的度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、有四根细木棒，长度分别为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㎝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㎝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㎝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㎝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，哪三根木棒可以组成一个三角形？有几种可能的情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、如图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，△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B≌△EDB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，△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DE≌△CDE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在一条直线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D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是∠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BE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的平分线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02708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⊥BC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）点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平分线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C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5904000" y="380880"/>
          <a:ext cx="32763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0" y="380880"/>
                    <a:ext cx="3276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5"/>
          <p:cNvSpPr/>
          <p:nvPr/>
        </p:nvSpPr>
        <p:spPr>
          <a:xfrm>
            <a:off x="798480" y="21337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74800" y="19051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、小明不慎将一块三角形模具打碎为两块，他说：“我只带其中的一块碎片到商店去，就能配一块与原来一样的三角形模具”，你认为他应带哪一块去？理由是什么？（如图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7"/>
          <p:cNvGraphicFramePr/>
          <p:nvPr/>
        </p:nvGraphicFramePr>
        <p:xfrm>
          <a:off x="6056280" y="2743200"/>
          <a:ext cx="289548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6280" y="2743200"/>
                    <a:ext cx="28954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AutoShape 9"/>
          <p:cNvSpPr/>
          <p:nvPr/>
        </p:nvSpPr>
        <p:spPr>
          <a:xfrm>
            <a:off x="1103400" y="4419720"/>
            <a:ext cx="2666880" cy="2286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428840" y="76212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三角形达标测试（提高卷）</a:t>
            </a:r>
            <a:endParaRPr b="1" i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95320" y="2362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、在△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中，∠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CB=90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°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CD⊥AB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则图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中互余的角有几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6"/>
          <p:cNvGraphicFramePr/>
          <p:nvPr/>
        </p:nvGraphicFramePr>
        <p:xfrm>
          <a:off x="971640" y="3505320"/>
          <a:ext cx="270504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505320"/>
                    <a:ext cx="2705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7"/>
          <p:cNvSpPr/>
          <p:nvPr/>
        </p:nvSpPr>
        <p:spPr>
          <a:xfrm>
            <a:off x="4019400" y="358128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、直角三角形两锐角的角平分线所交成的角的度数是多少度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172040" y="47242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、已知△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BC≌△DEF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。∠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=52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°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B=31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°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ED=10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，则∠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等于多少度？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有多长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4:34:55Z</dcterms:created>
  <dc:creator>李婧</dc:creator>
  <dc:description/>
  <dc:language>en-US</dc:language>
  <cp:lastModifiedBy>User</cp:lastModifiedBy>
  <dcterms:modified xsi:type="dcterms:W3CDTF">2014-03-12T10:17:57Z</dcterms:modified>
  <cp:revision>33</cp:revision>
  <dc:subject/>
  <dc:title>PowerPoint 演示文稿</dc:title>
</cp:coreProperties>
</file>