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4.jpeg" ContentType="image/jpeg"/>
  <Override PartName="/ppt/media/image4.wmf" ContentType="image/x-wmf"/>
  <Override PartName="/ppt/media/image23.jpeg" ContentType="image/jpeg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E35-1C85-497A-AFD7-AD7F89A2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7E7-D067-45D3-B03D-9A9A7783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412-1389-4115-8B4F-48C35A22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47B-47A9-468D-8043-0659D7E2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D057-EEBC-4773-998E-5F4F45E0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307-1164-4E42-8FC1-8402CA9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82DA-92C0-4DEA-89BF-F5F83524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5CD-8EF3-493F-9B9D-7891EAB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DD7F-1A69-447B-ABF9-226304BC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51A-BDF7-403B-A84D-0230470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C120-7BFF-404F-A85D-25F2CBF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DD3-D99A-4FB6-B7C9-2A392DAF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5F03-BC5E-4E59-A6F6-C32E52A5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C97-D5BC-4269-8FD6-3D30419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D689-440B-41E2-B81F-6B0148D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1E19-170E-4CD4-A830-83A73BE5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749-E277-40BE-9644-68A9FC64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9BA7-894C-4163-AF21-A3A19D84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219B-832F-4A3D-A583-12DD9A7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2D06-0BD8-4D41-BC93-3DE81156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75B6-580F-411B-B3EE-25F1DC5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CA33-62E9-4B96-92A2-F670FDC5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9E6-85F2-423F-BD0A-04AA5DBE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4C1E-574C-4FD9-9836-DB1EF895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4AE4-4897-49FC-A496-14B90F7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BFE5-2AA9-4C96-ABAE-B5EB8BF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3258-9F64-48DC-8AAD-DD4AB62A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F6AA-2243-4119-A933-5B7F38C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EF52-4004-4D11-98E6-8A83ADAE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EEEB-9F8E-478D-8D14-5E1750D2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08B0-7891-422E-A68E-380D3803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4778-B3D0-4355-B3D8-DD16D54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59CD-2FC7-455D-A6C0-DD7F40B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406-FF1E-47B5-A678-F35A122F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369D-3C38-4007-AD32-CCF186B7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382C-FE12-4E9A-A093-B58CBC42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45A7-AA1E-481A-9708-F8A09B52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6057-CF21-44FC-9F0C-D0CCFDA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A09C-EBB9-4E66-87D4-F5B5DA8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C085-C5B1-4523-82FC-67396A3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8BCB-E265-4352-B9DB-4C5AE88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FF18-EB78-4147-B65E-8C84FD8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5B74-A798-4575-9993-002B5543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3D1-D636-45A3-9AF9-BE7A5539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C42-3A5B-4CE2-AC18-6793272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F16-53DD-40A1-AD6C-B7C9BFBC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3B9-3550-4C9E-B076-CCBE4B0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B9C-4A0B-43E6-B5E0-01EF775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69C-3E67-43C1-8B2C-2B928D4C3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FF3-FC73-428D-A30F-19C84CA4A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C73C-E714-4D84-97BD-61B6FEE5D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889-0BD4-4588-9029-EF5F29157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30" descr="BS00554_"/>
          <p:cNvPicPr/>
          <p:nvPr/>
        </p:nvPicPr>
        <p:blipFill>
          <a:blip r:embed="rId1"/>
          <a:stretch/>
        </p:blipFill>
        <p:spPr>
          <a:xfrm>
            <a:off x="4535640" y="4208400"/>
            <a:ext cx="1530360" cy="1335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1461960" y="1628640"/>
            <a:ext cx="775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c0001"/>
                </a:solidFill>
                <a:latin typeface="Times New Roman"/>
              </a:rPr>
              <a:t>4.3         </a:t>
            </a:r>
            <a:r>
              <a:rPr b="1" lang="zh-CN" sz="4800" spc="-1" strike="noStrike">
                <a:solidFill>
                  <a:srgbClr val="0c0001"/>
                </a:solidFill>
                <a:latin typeface="Times New Roman"/>
              </a:rPr>
              <a:t>用图象表示的变量间的关系</a:t>
            </a:r>
            <a:r>
              <a:rPr b="1" lang="en-US" sz="4800" spc="-1" strike="noStrike">
                <a:solidFill>
                  <a:srgbClr val="0c0001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0c0001"/>
                </a:solidFill>
                <a:latin typeface="Times New Roman"/>
              </a:rPr>
              <a:t>温度的变化</a:t>
            </a:r>
            <a:endParaRPr b="0" lang="en-US" sz="48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BS00975_"/>
          <p:cNvPicPr/>
          <p:nvPr/>
        </p:nvPicPr>
        <p:blipFill>
          <a:blip r:embed="rId1"/>
          <a:stretch/>
        </p:blipFill>
        <p:spPr>
          <a:xfrm>
            <a:off x="541440" y="0"/>
            <a:ext cx="2438280" cy="1504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BD14996_"/>
          <p:cNvPicPr/>
          <p:nvPr/>
        </p:nvPicPr>
        <p:blipFill>
          <a:blip r:embed="rId2"/>
          <a:stretch/>
        </p:blipFill>
        <p:spPr>
          <a:xfrm>
            <a:off x="2293920" y="1181160"/>
            <a:ext cx="6858000" cy="114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6408720" y="2276640"/>
            <a:ext cx="3024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点分别表示什么？还有几时水的深度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所表示的深度相同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说一说这个港口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的水深是怎样变化的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290" name="Picture 5" descr="721T1-R"/>
          <p:cNvPicPr/>
          <p:nvPr/>
        </p:nvPicPr>
        <p:blipFill>
          <a:blip r:embed="rId3"/>
          <a:stretch/>
        </p:blipFill>
        <p:spPr>
          <a:xfrm>
            <a:off x="8580600" y="5516640"/>
            <a:ext cx="110484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0"/>
          <p:cNvGraphicFramePr/>
          <p:nvPr/>
        </p:nvGraphicFramePr>
        <p:xfrm>
          <a:off x="1009800" y="1700280"/>
          <a:ext cx="5472000" cy="439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9800" y="1700280"/>
                    <a:ext cx="547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10"/>
          <p:cNvSpPr/>
          <p:nvPr/>
        </p:nvSpPr>
        <p:spPr>
          <a:xfrm>
            <a:off x="1225440" y="1557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水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0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5541840" y="5857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0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3673440" y="270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6121440" y="3068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9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309680" y="3213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本节课从图象中分析了两个</a:t>
            </a:r>
            <a:r>
              <a:rPr b="1" lang="zh-CN" sz="2400" spc="-1" strike="noStrike">
                <a:solidFill>
                  <a:srgbClr val="d40427"/>
                </a:solidFill>
                <a:latin typeface="Times New Roman"/>
              </a:rPr>
              <a:t>变量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之间的关系，结合温度变化直观而形象地从图中获得了变量之间的有关信息，用</a:t>
            </a:r>
            <a:r>
              <a:rPr b="1" lang="zh-CN" sz="2400" spc="-1" strike="noStrike">
                <a:solidFill>
                  <a:srgbClr val="d40427"/>
                </a:solidFill>
                <a:latin typeface="Times New Roman"/>
              </a:rPr>
              <a:t>图象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来直观地反映变量之间的关系是表格法、关系式法所无法代替的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1020600" y="1052640"/>
            <a:ext cx="26672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课堂小结</a:t>
            </a:r>
            <a:endParaRPr b="1" lang="en-US" sz="24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BS00580_"/>
          <p:cNvPicPr/>
          <p:nvPr/>
        </p:nvPicPr>
        <p:blipFill>
          <a:blip r:embed="rId1"/>
          <a:stretch/>
        </p:blipFill>
        <p:spPr>
          <a:xfrm>
            <a:off x="641520" y="380880"/>
            <a:ext cx="1676160" cy="1411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BD21313_"/>
          <p:cNvPicPr/>
          <p:nvPr/>
        </p:nvPicPr>
        <p:blipFill>
          <a:blip r:embed="rId2"/>
          <a:stretch/>
        </p:blipFill>
        <p:spPr>
          <a:xfrm>
            <a:off x="428760" y="5791320"/>
            <a:ext cx="6918120" cy="268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BD21313_"/>
          <p:cNvPicPr/>
          <p:nvPr/>
        </p:nvPicPr>
        <p:blipFill>
          <a:blip r:embed="rId3"/>
          <a:stretch/>
        </p:blipFill>
        <p:spPr>
          <a:xfrm>
            <a:off x="2317680" y="1098720"/>
            <a:ext cx="6782040" cy="261720"/>
          </a:xfrm>
          <a:prstGeom prst="rect">
            <a:avLst/>
          </a:prstGeom>
          <a:ln w="0">
            <a:noFill/>
          </a:ln>
        </p:spPr>
      </p:pic>
      <p:sp>
        <p:nvSpPr>
          <p:cNvPr id="302" name="WordArt 12"/>
          <p:cNvSpPr txBox="1"/>
          <p:nvPr/>
        </p:nvSpPr>
        <p:spPr>
          <a:xfrm>
            <a:off x="2484360" y="270828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课后分析</a:t>
            </a:r>
            <a:endParaRPr b="1" lang="en-US" sz="32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2455920" y="3716280"/>
            <a:ext cx="358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析右边反映变量之间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的图，想象一个适合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的实际情境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6203880" y="5219640"/>
            <a:ext cx="2971800" cy="0"/>
          </a:xfrm>
          <a:prstGeom prst="line">
            <a:avLst/>
          </a:prstGeom>
          <a:ln w="38160">
            <a:solidFill>
              <a:srgbClr val="bd41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5" name="Line 15"/>
          <p:cNvSpPr/>
          <p:nvPr/>
        </p:nvSpPr>
        <p:spPr>
          <a:xfrm flipV="1">
            <a:off x="6356520" y="3924000"/>
            <a:ext cx="0" cy="1676520"/>
          </a:xfrm>
          <a:prstGeom prst="line">
            <a:avLst/>
          </a:prstGeom>
          <a:ln w="38160">
            <a:solidFill>
              <a:srgbClr val="bd41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8413920" y="521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001"/>
                </a:solidFill>
                <a:latin typeface="Times New Roman"/>
              </a:rPr>
              <a:t>时间</a:t>
            </a:r>
            <a:endParaRPr b="0" lang="en-US" sz="1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6203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001"/>
                </a:solidFill>
                <a:latin typeface="Times New Roman"/>
              </a:rPr>
              <a:t>温度</a:t>
            </a:r>
            <a:endParaRPr b="0" lang="en-US" sz="1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6356520" y="4762440"/>
            <a:ext cx="1143000" cy="457200"/>
          </a:xfrm>
          <a:prstGeom prst="line">
            <a:avLst/>
          </a:prstGeom>
          <a:ln w="38160">
            <a:solidFill>
              <a:srgbClr val="bd4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09" name="Line 20"/>
          <p:cNvSpPr/>
          <p:nvPr/>
        </p:nvSpPr>
        <p:spPr>
          <a:xfrm flipV="1">
            <a:off x="7499520" y="4000680"/>
            <a:ext cx="380880" cy="761760"/>
          </a:xfrm>
          <a:prstGeom prst="line">
            <a:avLst/>
          </a:prstGeom>
          <a:ln w="57240">
            <a:solidFill>
              <a:srgbClr val="bd4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4" presetSubtype="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600"/>
                            </p:stCondLst>
                            <p:childTnLst>
                              <p:par>
                                <p:cTn id="368" nodeType="after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3247920" y="2602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这是某地某天的温度变化情况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aphicFrame>
        <p:nvGraphicFramePr>
          <p:cNvPr id="311" name="ShockwaveFlash1"/>
          <p:cNvGraphicFramePr/>
          <p:nvPr/>
        </p:nvGraphicFramePr>
        <p:xfrm>
          <a:off x="1150920" y="836640"/>
          <a:ext cx="79930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0920" y="836640"/>
                    <a:ext cx="7993080" cy="54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541440" y="260280"/>
          <a:ext cx="9144000" cy="6305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骆　驼 趣 事</a:t>
                      </a:r>
                      <a:endParaRPr b="0" lang="en-US" sz="28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ecdc1"/>
                    </a:solidFill>
                  </a:tcPr>
                </a:tc>
              </a:tr>
              <a:tr h="576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d40427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骆驼非常适合，或者说适应在昼热夜寒、缺少水和绿色植物地上生活，例如非洲的撒哈 拉大沙漠或中亚的戈壁滩。</a:t>
                      </a:r>
                      <a:endParaRPr b="0" lang="en-US" sz="24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d40427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　骆驼吃各种植物，甚至包括其他动物碰都不碰的荆棘和含盐的灌木，为寻找食物，它们会长途跋渺。骆驼具有惊人的能力，可以在缺水的情况下行走很长的时间。</a:t>
                      </a:r>
                      <a:endParaRPr b="0" lang="en-US" sz="24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d40427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　骆驼在它们的身体组织内贮存水，一只骆驼在不工作时可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月不喝水。但到了那时，总会变得又瘦又憔悴，如果找到了水，它可以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钟内喝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升。那时，它的身体会膨胀起来，又恢复到正常状态。</a:t>
                      </a:r>
                      <a:endParaRPr b="0" lang="en-US" sz="24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d40427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　骆驼有两种：单峰骆驼（大部分分布在非洲和阿拉伯）只有一个驼峰，而双峰骆驼（来自戈壁沙漠）有两个驼峰。驼峰里贮藏着能量丰富的脂肪。在没有食物又必须行走的情况下，它们就利用这些脂肪来提供能量。</a:t>
                      </a:r>
                      <a:endParaRPr b="0" lang="en-US" sz="24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2400" spc="-1" strike="noStrike">
                        <a:solidFill>
                          <a:srgbClr val="0c0001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4464000" y="98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4042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骆驼的睫毛很长，可以挡住风沙。它的皮很厚，夜里可以保暖，白天则隔热。生活在沙漠里的人们将单峰驼用作坐骑。图片显示的是双峰驼，比单峰驼强壮，更适于运输货物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buClr>
                <a:srgbClr val="d4042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几千年来，骆驼对于住在亚非沙漠地带人们的生活至关重要。它们不仅运送人和货物，而且还被用作结婚的馈赠礼物，或是杀伤人后的罚金。骆驼也被进口到澳大利亚，其中一些逃到中部沙漠地带，成为野生群落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315" name="Picture 6" descr="88-1"/>
          <p:cNvPicPr/>
          <p:nvPr/>
        </p:nvPicPr>
        <p:blipFill>
          <a:blip r:embed="rId1"/>
          <a:stretch/>
        </p:blipFill>
        <p:spPr>
          <a:xfrm>
            <a:off x="826920" y="907920"/>
            <a:ext cx="3484800" cy="5158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863640" y="2104920"/>
            <a:ext cx="849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01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阿拉善双峰驼久负盛名，素有“驼乡”之美誉。其中白骆驼数量在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年代初曾达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7000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余峰，以后由于连年干旱，尤其是连续几年的大旱，白骆驼数量急剧下降，主要是自然死亡数量增多，至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2003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月末，全盟白骆驼仅存千余峰，下降幅度高达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85%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以上，已濒临灭绝的危机。现在到阿拉善草原上已很难见到白骆驼的影迹。</a:t>
            </a:r>
            <a:br>
              <a:rPr sz="2000"/>
            </a:b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        根据权威机构和专家定论，动物数量在</a:t>
            </a:r>
            <a:r>
              <a:rPr b="1" lang="en-US" sz="2000" spc="-1" strike="noStrike">
                <a:solidFill>
                  <a:srgbClr val="0c0001"/>
                </a:solidFill>
                <a:latin typeface="Times New Roman"/>
              </a:rPr>
              <a:t>8000</a:t>
            </a: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头（只）以下视同为灭绝。因此保护白骆驼品种资源，使其优良基因不致丢失，已是刻不容缓。</a:t>
            </a:r>
            <a:br>
              <a:rPr sz="2000"/>
            </a:br>
            <a:r>
              <a:rPr b="1" lang="zh-CN" sz="2000" spc="-1" strike="noStrike">
                <a:solidFill>
                  <a:srgbClr val="0c0001"/>
                </a:solidFill>
                <a:latin typeface="Times New Roman"/>
              </a:rPr>
              <a:t>        为保护白骆驼品种资源，阿拉善盟公署、牧业主管部门及有关技术依托单位曾采取多种方法，制订和实施了一些政策措施和技术措施加强对白骆驼的保护，但因白骆驼分布区域较为分散、草场围栏封育使骆驼活动空间减少，投入资金有限等因素、造成技术措施实施困难，不能从根本上有效地加以保护，收效不大。为了使这一古老而稀有的品种资源得以生息繁衍，保持生物的多样性，我们呼吁社会各界力量献策献力，从物力、财力上给予大力支持，建立白骆驼自然保护区，以达到从根本上保护白骆驼的目的。</a:t>
            </a:r>
            <a:endParaRPr b="0" lang="en-US" sz="20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317" name="Picture 5" descr="ltw20"/>
          <p:cNvPicPr/>
          <p:nvPr/>
        </p:nvPicPr>
        <p:blipFill>
          <a:blip r:embed="rId1"/>
          <a:stretch/>
        </p:blipFill>
        <p:spPr>
          <a:xfrm>
            <a:off x="612720" y="115920"/>
            <a:ext cx="2016360" cy="1844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ltw35"/>
          <p:cNvPicPr/>
          <p:nvPr/>
        </p:nvPicPr>
        <p:blipFill>
          <a:blip r:embed="rId2"/>
          <a:stretch/>
        </p:blipFill>
        <p:spPr>
          <a:xfrm>
            <a:off x="7740720" y="115920"/>
            <a:ext cx="201600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682560" y="362412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01"/>
                </a:solidFill>
                <a:latin typeface="Times New Roman"/>
              </a:rPr>
              <a:t>       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白骆驼是阿拉善双峰驼毛色基因变异所形成的一个特殊类群。在风调雨顺、草原植被长势良好的年景，双峰直立、体格健壮、全身雪白的白骆驼，和蓝天、白云、绿草交相辉映，或奔跑、或伫足站立，无不显现出一种雍容华贵的气质，让人美不胜收，极具观赏价值。</a:t>
            </a:r>
            <a:br>
              <a:rPr sz="2800"/>
            </a:b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         从外观看，白骆驼和其它双峰驼无明显的区别，只是眉毛略长一些，全身被毛纯白或略显微黄，经济价值较高，所产驼毛市场价格高于其它双峰驼的</a:t>
            </a:r>
            <a:r>
              <a:rPr b="1" lang="en-US" sz="2800" spc="-1" strike="noStrike">
                <a:solidFill>
                  <a:srgbClr val="0c0001"/>
                </a:solidFill>
                <a:latin typeface="Times New Roman"/>
              </a:rPr>
              <a:t>50%—100%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，其数量约占双峰驼总数的</a:t>
            </a:r>
            <a:r>
              <a:rPr b="1" lang="en-US" sz="2800" spc="-1" strike="noStrike">
                <a:solidFill>
                  <a:srgbClr val="0c0001"/>
                </a:solidFill>
                <a:latin typeface="Times New Roman"/>
              </a:rPr>
              <a:t>3%</a:t>
            </a: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左右。白骆驼生活力相对较弱，抗逆性能较差，所以在大旱之年死亡率要高于其它双峰驼。</a:t>
            </a:r>
            <a:br>
              <a:rPr sz="2800"/>
            </a:b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320" name="WordArt 6"/>
          <p:cNvSpPr txBox="1"/>
          <p:nvPr/>
        </p:nvSpPr>
        <p:spPr>
          <a:xfrm>
            <a:off x="3672000" y="54936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拯救白骆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321" name="Picture 9" descr="ltw20"/>
          <p:cNvPicPr/>
          <p:nvPr/>
        </p:nvPicPr>
        <p:blipFill>
          <a:blip r:embed="rId3"/>
          <a:stretch/>
        </p:blipFill>
        <p:spPr>
          <a:xfrm>
            <a:off x="1295280" y="0"/>
            <a:ext cx="2044800" cy="1916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ltw35"/>
          <p:cNvPicPr/>
          <p:nvPr/>
        </p:nvPicPr>
        <p:blipFill>
          <a:blip r:embed="rId4"/>
          <a:stretch/>
        </p:blipFill>
        <p:spPr>
          <a:xfrm>
            <a:off x="7056360" y="0"/>
            <a:ext cx="198612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yt"/>
          <p:cNvPicPr/>
          <p:nvPr/>
        </p:nvPicPr>
        <p:blipFill>
          <a:blip r:embed="rId1"/>
          <a:stretch/>
        </p:blipFill>
        <p:spPr>
          <a:xfrm>
            <a:off x="720720" y="1052640"/>
            <a:ext cx="8964720" cy="5805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792000" y="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001"/>
                </a:solidFill>
                <a:latin typeface="Times New Roman"/>
              </a:rPr>
              <a:t>下图是我国某天的气温分布图，你能根据此图说一说家乡的气温吗？你还能从图中看出什么？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4387680" y="1371600"/>
          <a:ext cx="60883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7680" y="1371600"/>
                    <a:ext cx="60883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2"/>
          <p:cNvSpPr/>
          <p:nvPr/>
        </p:nvSpPr>
        <p:spPr>
          <a:xfrm>
            <a:off x="893880" y="9079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请根据下图，与同学讨论某地某天的温度变化情况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49160" y="155736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上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9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时的温度是多少？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12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时呢？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93880" y="1989000"/>
            <a:ext cx="46083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这一天的最高温度是多少？是在几时达到的？最低温度呢？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这一天的温差是多少？从最低温度到最高温度经过了多长时间？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在什么时间范围内温度在上升？在什么时间范围内温度在下降？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图中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点表示的是什么？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B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点呢？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）你能预测次日凌晨</a:t>
            </a:r>
            <a:r>
              <a:rPr b="1" lang="en-US" sz="2200" spc="-1" strike="noStrike">
                <a:solidFill>
                  <a:srgbClr val="0c0001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c0001"/>
                </a:solidFill>
                <a:latin typeface="Times New Roman"/>
              </a:rPr>
              <a:t>时的温度吗？说说你的理由。</a:t>
            </a:r>
            <a:endParaRPr b="0" lang="en-US" sz="2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888372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64200" y="4114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314360" y="76500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图表示了温度随时间的变化而变化的情况，它是温度与时间之间关系的图象。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图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我们表示变量之间关系的又一种方法，它的特点是非常</a:t>
            </a:r>
            <a:r>
              <a:rPr b="1" lang="zh-CN" sz="2400" spc="-1" strike="noStrike">
                <a:solidFill>
                  <a:srgbClr val="d40427"/>
                </a:solidFill>
                <a:latin typeface="Times New Roman"/>
              </a:rPr>
              <a:t>直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用图象表示变量之间的关系时，通常用水平方向的数轴（称为</a:t>
            </a:r>
            <a:r>
              <a:rPr b="1" lang="zh-CN" sz="2400" spc="-1" strike="noStrike">
                <a:solidFill>
                  <a:srgbClr val="d40427"/>
                </a:solidFill>
                <a:latin typeface="Times New Roman"/>
              </a:rPr>
              <a:t>横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上的点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自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183" name="Picture 4" descr="BS00823_"/>
          <p:cNvPicPr/>
          <p:nvPr/>
        </p:nvPicPr>
        <p:blipFill>
          <a:blip r:embed="rId3"/>
          <a:stretch/>
        </p:blipFill>
        <p:spPr>
          <a:xfrm>
            <a:off x="7639200" y="5032440"/>
            <a:ext cx="1807920" cy="153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334280" y="4346640"/>
            <a:ext cx="2133720" cy="520560"/>
          </a:xfrm>
          <a:prstGeom prst="rect">
            <a:avLst/>
          </a:prstGeom>
          <a:noFill/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明白了吗？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grpSp>
        <p:nvGrpSpPr>
          <p:cNvPr id="185" name="Group 15"/>
          <p:cNvGrpSpPr/>
          <p:nvPr/>
        </p:nvGrpSpPr>
        <p:grpSpPr>
          <a:xfrm>
            <a:off x="1162080" y="3564000"/>
            <a:ext cx="5410080" cy="2743200"/>
            <a:chOff x="1162080" y="3564000"/>
            <a:chExt cx="5410080" cy="2743200"/>
          </a:xfrm>
        </p:grpSpPr>
        <p:sp>
          <p:nvSpPr>
            <p:cNvPr id="186" name="Line 7"/>
            <p:cNvSpPr/>
            <p:nvPr/>
          </p:nvSpPr>
          <p:spPr>
            <a:xfrm>
              <a:off x="1162080" y="5870520"/>
              <a:ext cx="54100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655640" y="3564000"/>
              <a:ext cx="0" cy="2743200"/>
            </a:xfrm>
            <a:prstGeom prst="line">
              <a:avLst/>
            </a:prstGeom>
            <a:ln w="57240">
              <a:solidFill>
                <a:srgbClr val="d404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1695240" y="4054680"/>
              <a:ext cx="2831760" cy="1663560"/>
            </a:xfrm>
            <a:custGeom>
              <a:avLst/>
              <a:gdLst>
                <a:gd name="textAreaLeft" fmla="*/ 0 w 2831760"/>
                <a:gd name="textAreaRight" fmla="*/ 2832120 w 283176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1784" h="1048">
                  <a:moveTo>
                    <a:pt x="0" y="616"/>
                  </a:moveTo>
                  <a:cubicBezTo>
                    <a:pt x="120" y="832"/>
                    <a:pt x="240" y="1048"/>
                    <a:pt x="384" y="952"/>
                  </a:cubicBezTo>
                  <a:cubicBezTo>
                    <a:pt x="528" y="856"/>
                    <a:pt x="656" y="80"/>
                    <a:pt x="864" y="40"/>
                  </a:cubicBezTo>
                  <a:cubicBezTo>
                    <a:pt x="1072" y="0"/>
                    <a:pt x="1480" y="584"/>
                    <a:pt x="1632" y="712"/>
                  </a:cubicBezTo>
                  <a:cubicBezTo>
                    <a:pt x="1784" y="840"/>
                    <a:pt x="1780" y="824"/>
                    <a:pt x="1776" y="808"/>
                  </a:cubicBezTo>
                </a:path>
              </a:pathLst>
            </a:custGeom>
            <a:noFill/>
            <a:ln w="57240">
              <a:solidFill>
                <a:srgbClr val="0c0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</p:grpSp>
      <p:sp>
        <p:nvSpPr>
          <p:cNvPr id="189" name="Text Box 11"/>
          <p:cNvSpPr/>
          <p:nvPr/>
        </p:nvSpPr>
        <p:spPr>
          <a:xfrm>
            <a:off x="5543640" y="5364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横轴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792000" y="3419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纵轴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295280" y="3059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竖直方向的数轴（称为</a:t>
            </a:r>
            <a:r>
              <a:rPr b="1" lang="zh-CN" sz="2400" spc="-1" strike="noStrike">
                <a:solidFill>
                  <a:srgbClr val="d40427"/>
                </a:solidFill>
                <a:latin typeface="Times New Roman"/>
              </a:rPr>
              <a:t>纵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上的点表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因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Object 1026"/>
          <p:cNvGraphicFramePr/>
          <p:nvPr/>
        </p:nvGraphicFramePr>
        <p:xfrm>
          <a:off x="8475840" y="47520"/>
          <a:ext cx="108396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5840" y="47520"/>
                    <a:ext cx="10839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Picture 2" descr="PE01561_"/>
          <p:cNvPicPr/>
          <p:nvPr/>
        </p:nvPicPr>
        <p:blipFill>
          <a:blip r:embed="rId3"/>
          <a:stretch/>
        </p:blipFill>
        <p:spPr>
          <a:xfrm>
            <a:off x="684360" y="47520"/>
            <a:ext cx="1187280" cy="10591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2087640" y="47520"/>
            <a:ext cx="2666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议一议</a:t>
            </a:r>
            <a:endParaRPr b="1" lang="en-US" sz="24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1732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骆驼被称为“沙漠之舟”，它的体温随时间的变化而发生较大的变化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84360" y="2036880"/>
          <a:ext cx="5076720" cy="40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36880"/>
                    <a:ext cx="507672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7"/>
          <p:cNvSpPr/>
          <p:nvPr/>
        </p:nvSpPr>
        <p:spPr>
          <a:xfrm>
            <a:off x="684360" y="614052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图中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时表示次日凌晨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时）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160720" y="2612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01" name="Rectangle 1028"/>
          <p:cNvSpPr/>
          <p:nvPr/>
        </p:nvSpPr>
        <p:spPr>
          <a:xfrm>
            <a:off x="5977080" y="2108160"/>
            <a:ext cx="37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天中，骆驼的体温的变化范围是什么？它的体温从最低上升到最高需要多少时间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骆驼的体温下降了多少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什么时间范围内骆驼的体温在上升？在什么时间范围内骆驼的体温在下降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138720" y="1530360"/>
            <a:ext cx="3689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你能看出第二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骆驼的体温与第一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有什么关系吗？其他时刻呢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表示的是什么？还有几时的温度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所表示的温度相同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你还知道哪些关于骆驼的趣事？与同伴进行交流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203" name="Picture 3" descr="BS00975_"/>
          <p:cNvPicPr/>
          <p:nvPr/>
        </p:nvPicPr>
        <p:blipFill>
          <a:blip r:embed="rId1"/>
          <a:stretch/>
        </p:blipFill>
        <p:spPr>
          <a:xfrm>
            <a:off x="684360" y="117360"/>
            <a:ext cx="1763640" cy="1089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BD14996_"/>
          <p:cNvPicPr/>
          <p:nvPr/>
        </p:nvPicPr>
        <p:blipFill>
          <a:blip r:embed="rId2"/>
          <a:stretch/>
        </p:blipFill>
        <p:spPr>
          <a:xfrm>
            <a:off x="2436840" y="1298520"/>
            <a:ext cx="6858000" cy="1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Object 0"/>
          <p:cNvGraphicFramePr/>
          <p:nvPr/>
        </p:nvGraphicFramePr>
        <p:xfrm>
          <a:off x="684360" y="1314360"/>
          <a:ext cx="5435280" cy="457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314360"/>
                    <a:ext cx="54352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684360" y="606744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图中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时表示次日凌晨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时）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376360" y="196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"/>
                            </p:stCondLst>
                            <p:childTnLst>
                              <p:par>
                                <p:cTn id="164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3"/>
          <p:cNvSpPr txBox="1"/>
          <p:nvPr/>
        </p:nvSpPr>
        <p:spPr>
          <a:xfrm>
            <a:off x="955800" y="0"/>
            <a:ext cx="2666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练一练</a:t>
            </a:r>
            <a:endParaRPr b="1" lang="en-US" sz="24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7737480" y="601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填空题</a:t>
            </a:r>
            <a:endParaRPr b="1" lang="en-US" sz="32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80316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右图表示 某市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2003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月份某一天的气温随时间变化的情况，请观察此图回答下列问题：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879480" y="2895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这天的最高气温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7948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这天共有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个小时的气温在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31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度以上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879480" y="4191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c0001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这天在</a:t>
            </a:r>
            <a:r>
              <a:rPr b="1" lang="zh-CN" sz="2400" spc="-1" strike="noStrike" u="sng">
                <a:solidFill>
                  <a:srgbClr val="0c0001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（时间）范围内温度在上升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879480" y="5105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请你预测一下，次日凌晨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点的气温大约是多少度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5065560" y="1773360"/>
          <a:ext cx="403236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560" y="1773360"/>
                    <a:ext cx="403236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"/>
                            </p:stCondLst>
                            <p:childTnLst>
                              <p:par>
                                <p:cTn id="205" nodeType="after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11080" y="4968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01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c0001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c0001"/>
                </a:solidFill>
                <a:latin typeface="Times New Roman"/>
              </a:rPr>
              <a:t>某市一周平均气温（</a:t>
            </a: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°C</a:t>
            </a:r>
            <a:r>
              <a:rPr b="1" lang="zh-CN" sz="3200" spc="-1" strike="noStrike">
                <a:solidFill>
                  <a:srgbClr val="0c0001"/>
                </a:solidFill>
                <a:latin typeface="Times New Roman"/>
              </a:rPr>
              <a:t>）如图所示，下列说法不正确的是（         ）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1725480" y="400212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01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星期二的平均气温最高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星期四到星期日天气逐渐转暖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这一周最高气温与最低气温相差</a:t>
            </a: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4 °C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01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c0001"/>
                </a:solidFill>
                <a:latin typeface="Times New Roman"/>
              </a:rPr>
              <a:t>、星期四的平均气温最低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pSp>
        <p:nvGrpSpPr>
          <p:cNvPr id="220" name="Group 36"/>
          <p:cNvGrpSpPr/>
          <p:nvPr/>
        </p:nvGrpSpPr>
        <p:grpSpPr>
          <a:xfrm>
            <a:off x="1801800" y="1487520"/>
            <a:ext cx="6552360" cy="2484000"/>
            <a:chOff x="1801800" y="1487520"/>
            <a:chExt cx="6552360" cy="2484000"/>
          </a:xfrm>
        </p:grpSpPr>
        <p:grpSp>
          <p:nvGrpSpPr>
            <p:cNvPr id="221" name="Group 31"/>
            <p:cNvGrpSpPr/>
            <p:nvPr/>
          </p:nvGrpSpPr>
          <p:grpSpPr>
            <a:xfrm>
              <a:off x="1801800" y="1487520"/>
              <a:ext cx="6552360" cy="2484000"/>
              <a:chOff x="1801800" y="1487520"/>
              <a:chExt cx="6552360" cy="2484000"/>
            </a:xfrm>
          </p:grpSpPr>
          <p:sp>
            <p:nvSpPr>
              <p:cNvPr id="222" name="Text Box 8"/>
              <p:cNvSpPr/>
              <p:nvPr/>
            </p:nvSpPr>
            <p:spPr>
              <a:xfrm>
                <a:off x="1801800" y="1487520"/>
                <a:ext cx="136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c0001"/>
                    </a:solidFill>
                    <a:latin typeface="Times New Roman"/>
                  </a:rPr>
                  <a:t>气温</a:t>
                </a:r>
                <a:endParaRPr b="0" lang="en-US" sz="20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3" name="Line 4"/>
              <p:cNvSpPr/>
              <p:nvPr/>
            </p:nvSpPr>
            <p:spPr>
              <a:xfrm>
                <a:off x="2268000" y="3511800"/>
                <a:ext cx="446904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4" name="Line 5"/>
              <p:cNvSpPr/>
              <p:nvPr/>
            </p:nvSpPr>
            <p:spPr>
              <a:xfrm flipV="1">
                <a:off x="2736000" y="1655640"/>
                <a:ext cx="0" cy="208044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5" name="Text Box 7"/>
              <p:cNvSpPr/>
              <p:nvPr/>
            </p:nvSpPr>
            <p:spPr>
              <a:xfrm>
                <a:off x="2383200" y="3454200"/>
                <a:ext cx="350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c0001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6" name="Line 12"/>
              <p:cNvSpPr/>
              <p:nvPr/>
            </p:nvSpPr>
            <p:spPr>
              <a:xfrm>
                <a:off x="426960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7" name="Line 13"/>
              <p:cNvSpPr/>
              <p:nvPr/>
            </p:nvSpPr>
            <p:spPr>
              <a:xfrm>
                <a:off x="478008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8" name="Line 14"/>
              <p:cNvSpPr/>
              <p:nvPr/>
            </p:nvSpPr>
            <p:spPr>
              <a:xfrm>
                <a:off x="375912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29" name="Line 15"/>
              <p:cNvSpPr/>
              <p:nvPr/>
            </p:nvSpPr>
            <p:spPr>
              <a:xfrm>
                <a:off x="529092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0" name="Line 16"/>
              <p:cNvSpPr/>
              <p:nvPr/>
            </p:nvSpPr>
            <p:spPr>
              <a:xfrm>
                <a:off x="631188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1" name="Line 17"/>
              <p:cNvSpPr/>
              <p:nvPr/>
            </p:nvSpPr>
            <p:spPr>
              <a:xfrm>
                <a:off x="580140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2" name="Line 18"/>
              <p:cNvSpPr/>
              <p:nvPr/>
            </p:nvSpPr>
            <p:spPr>
              <a:xfrm>
                <a:off x="3248640" y="3399120"/>
                <a:ext cx="0" cy="11232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3" name="Text Box 19"/>
              <p:cNvSpPr/>
              <p:nvPr/>
            </p:nvSpPr>
            <p:spPr>
              <a:xfrm>
                <a:off x="2993400" y="3511800"/>
                <a:ext cx="536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0001"/>
                    </a:solidFill>
                    <a:latin typeface="Times New Roman"/>
                  </a:rPr>
                  <a:t>1     2     3     4     5    6     7   </a:t>
                </a:r>
                <a:r>
                  <a:rPr b="1" lang="zh-CN" sz="2000" spc="-1" strike="noStrike">
                    <a:solidFill>
                      <a:srgbClr val="0c0001"/>
                    </a:solidFill>
                    <a:latin typeface="Times New Roman"/>
                  </a:rPr>
                  <a:t>星期</a:t>
                </a:r>
                <a:endParaRPr b="0" lang="en-US" sz="20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4" name="Line 20"/>
              <p:cNvSpPr/>
              <p:nvPr/>
            </p:nvSpPr>
            <p:spPr>
              <a:xfrm>
                <a:off x="2737800" y="328680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2737800" y="272448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2737800" y="244332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2737800" y="176868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2737800" y="216216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2737800" y="300564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2737800" y="1881000"/>
                <a:ext cx="84600" cy="0"/>
              </a:xfrm>
              <a:prstGeom prst="line">
                <a:avLst/>
              </a:prstGeom>
              <a:ln w="38160">
                <a:solidFill>
                  <a:srgbClr val="0c00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  <p:sp>
            <p:nvSpPr>
              <p:cNvPr id="241" name="Text Box 28"/>
              <p:cNvSpPr/>
              <p:nvPr/>
            </p:nvSpPr>
            <p:spPr>
              <a:xfrm>
                <a:off x="2312280" y="1798920"/>
                <a:ext cx="765720" cy="16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001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c0001"/>
                  </a:solidFill>
                  <a:latin typeface="Times New Roman"/>
                </a:endParaRPr>
              </a:p>
            </p:txBody>
          </p:sp>
        </p:grpSp>
        <p:sp>
          <p:nvSpPr>
            <p:cNvPr id="242" name="Freeform 35"/>
            <p:cNvSpPr/>
            <p:nvPr/>
          </p:nvSpPr>
          <p:spPr>
            <a:xfrm>
              <a:off x="2738160" y="1937520"/>
              <a:ext cx="3659040" cy="1208880"/>
            </a:xfrm>
            <a:custGeom>
              <a:avLst/>
              <a:gdLst>
                <a:gd name="textAreaLeft" fmla="*/ 0 w 3659040"/>
                <a:gd name="textAreaRight" fmla="*/ 3659400 w 3659040"/>
                <a:gd name="textAreaTop" fmla="*/ 0 h 1208880"/>
                <a:gd name="textAreaBottom" fmla="*/ 1209240 h 1208880"/>
              </a:gdLst>
              <a:ahLst/>
              <a:rect l="textAreaLeft" t="textAreaTop" r="textAreaRight" b="textAreaBottom"/>
              <a:pathLst>
                <a:path w="2064" h="1032">
                  <a:moveTo>
                    <a:pt x="0" y="432"/>
                  </a:moveTo>
                  <a:cubicBezTo>
                    <a:pt x="56" y="584"/>
                    <a:pt x="112" y="736"/>
                    <a:pt x="192" y="672"/>
                  </a:cubicBezTo>
                  <a:cubicBezTo>
                    <a:pt x="272" y="608"/>
                    <a:pt x="336" y="0"/>
                    <a:pt x="480" y="48"/>
                  </a:cubicBezTo>
                  <a:cubicBezTo>
                    <a:pt x="624" y="96"/>
                    <a:pt x="792" y="888"/>
                    <a:pt x="1056" y="960"/>
                  </a:cubicBezTo>
                  <a:cubicBezTo>
                    <a:pt x="1320" y="1032"/>
                    <a:pt x="1896" y="560"/>
                    <a:pt x="2064" y="48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</p:grpSp>
      <p:sp>
        <p:nvSpPr>
          <p:cNvPr id="243" name="WordArt 39"/>
          <p:cNvSpPr txBox="1"/>
          <p:nvPr/>
        </p:nvSpPr>
        <p:spPr>
          <a:xfrm>
            <a:off x="7593120" y="613584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选择题</a:t>
            </a:r>
            <a:endParaRPr b="1" lang="en-US" sz="32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026"/>
          <p:cNvSpPr/>
          <p:nvPr/>
        </p:nvSpPr>
        <p:spPr>
          <a:xfrm>
            <a:off x="947880" y="990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c0001"/>
                </a:solidFill>
                <a:latin typeface="Times New Roman"/>
              </a:rPr>
              <a:t>、 在夏天一杯开水放在桌面上，其水温</a:t>
            </a: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c0001"/>
                </a:solidFill>
                <a:latin typeface="Times New Roman"/>
              </a:rPr>
              <a:t>与放置时间 </a:t>
            </a: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t </a:t>
            </a:r>
            <a:r>
              <a:rPr b="1" lang="zh-CN" sz="3200" spc="-1" strike="noStrike">
                <a:solidFill>
                  <a:srgbClr val="0c0001"/>
                </a:solidFill>
                <a:latin typeface="Times New Roman"/>
              </a:rPr>
              <a:t>的关系大致图象为（          ）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grpSp>
        <p:nvGrpSpPr>
          <p:cNvPr id="245" name="Group 1033"/>
          <p:cNvGrpSpPr/>
          <p:nvPr/>
        </p:nvGrpSpPr>
        <p:grpSpPr>
          <a:xfrm>
            <a:off x="566640" y="2362320"/>
            <a:ext cx="3352680" cy="2288520"/>
            <a:chOff x="566640" y="2362320"/>
            <a:chExt cx="3352680" cy="2288520"/>
          </a:xfrm>
        </p:grpSpPr>
        <p:sp>
          <p:nvSpPr>
            <p:cNvPr id="246" name="Line 1027"/>
            <p:cNvSpPr/>
            <p:nvPr/>
          </p:nvSpPr>
          <p:spPr>
            <a:xfrm>
              <a:off x="795240" y="41911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47" name="Line 1028"/>
            <p:cNvSpPr/>
            <p:nvPr/>
          </p:nvSpPr>
          <p:spPr>
            <a:xfrm flipV="1">
              <a:off x="947520" y="243792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48" name="Freeform 1029"/>
            <p:cNvSpPr/>
            <p:nvPr/>
          </p:nvSpPr>
          <p:spPr>
            <a:xfrm>
              <a:off x="1099800" y="2819520"/>
              <a:ext cx="1067040" cy="11430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672" h="720">
                  <a:moveTo>
                    <a:pt x="0" y="0"/>
                  </a:moveTo>
                  <a:cubicBezTo>
                    <a:pt x="16" y="180"/>
                    <a:pt x="32" y="360"/>
                    <a:pt x="144" y="480"/>
                  </a:cubicBezTo>
                  <a:cubicBezTo>
                    <a:pt x="256" y="600"/>
                    <a:pt x="584" y="680"/>
                    <a:pt x="672" y="720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49" name="Text Box 1030"/>
            <p:cNvSpPr/>
            <p:nvPr/>
          </p:nvSpPr>
          <p:spPr>
            <a:xfrm>
              <a:off x="642600" y="4038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50" name="Text Box 1031"/>
            <p:cNvSpPr/>
            <p:nvPr/>
          </p:nvSpPr>
          <p:spPr>
            <a:xfrm>
              <a:off x="566640" y="2362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51" name="Text Box 1032"/>
            <p:cNvSpPr/>
            <p:nvPr/>
          </p:nvSpPr>
          <p:spPr>
            <a:xfrm>
              <a:off x="2395440" y="4191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</p:grpSp>
      <p:sp>
        <p:nvSpPr>
          <p:cNvPr id="252" name="Line 1035"/>
          <p:cNvSpPr/>
          <p:nvPr/>
        </p:nvSpPr>
        <p:spPr>
          <a:xfrm>
            <a:off x="3005280" y="41911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53" name="Line 1036"/>
          <p:cNvSpPr/>
          <p:nvPr/>
        </p:nvSpPr>
        <p:spPr>
          <a:xfrm flipV="1">
            <a:off x="3157560" y="24379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54" name="Text Box 1038"/>
          <p:cNvSpPr/>
          <p:nvPr/>
        </p:nvSpPr>
        <p:spPr>
          <a:xfrm>
            <a:off x="285264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55" name="Text Box 1039"/>
          <p:cNvSpPr/>
          <p:nvPr/>
        </p:nvSpPr>
        <p:spPr>
          <a:xfrm>
            <a:off x="277668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56" name="Text Box 1040"/>
          <p:cNvSpPr/>
          <p:nvPr/>
        </p:nvSpPr>
        <p:spPr>
          <a:xfrm>
            <a:off x="460548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pSp>
        <p:nvGrpSpPr>
          <p:cNvPr id="257" name="Group 1056"/>
          <p:cNvGrpSpPr/>
          <p:nvPr/>
        </p:nvGrpSpPr>
        <p:grpSpPr>
          <a:xfrm>
            <a:off x="7196040" y="2362320"/>
            <a:ext cx="3353040" cy="2288520"/>
            <a:chOff x="7196040" y="2362320"/>
            <a:chExt cx="3353040" cy="2288520"/>
          </a:xfrm>
        </p:grpSpPr>
        <p:sp>
          <p:nvSpPr>
            <p:cNvPr id="258" name="Line 1049"/>
            <p:cNvSpPr/>
            <p:nvPr/>
          </p:nvSpPr>
          <p:spPr>
            <a:xfrm>
              <a:off x="7424640" y="419112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59" name="Line 1050"/>
            <p:cNvSpPr/>
            <p:nvPr/>
          </p:nvSpPr>
          <p:spPr>
            <a:xfrm flipV="1">
              <a:off x="7577280" y="243828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0" name="Text Box 1052"/>
            <p:cNvSpPr/>
            <p:nvPr/>
          </p:nvSpPr>
          <p:spPr>
            <a:xfrm>
              <a:off x="7272360" y="4038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1" name="Text Box 1053"/>
            <p:cNvSpPr/>
            <p:nvPr/>
          </p:nvSpPr>
          <p:spPr>
            <a:xfrm>
              <a:off x="7196040" y="2362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2" name="Text Box 1054"/>
            <p:cNvSpPr/>
            <p:nvPr/>
          </p:nvSpPr>
          <p:spPr>
            <a:xfrm>
              <a:off x="9024840" y="41911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3" name="Line 1055"/>
            <p:cNvSpPr/>
            <p:nvPr/>
          </p:nvSpPr>
          <p:spPr>
            <a:xfrm flipV="1">
              <a:off x="7577280" y="2895840"/>
              <a:ext cx="1295280" cy="1295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</p:grpSp>
      <p:grpSp>
        <p:nvGrpSpPr>
          <p:cNvPr id="264" name="Group 1058"/>
          <p:cNvGrpSpPr/>
          <p:nvPr/>
        </p:nvGrpSpPr>
        <p:grpSpPr>
          <a:xfrm>
            <a:off x="4986360" y="2362320"/>
            <a:ext cx="3352320" cy="2288520"/>
            <a:chOff x="4986360" y="2362320"/>
            <a:chExt cx="3352320" cy="2288520"/>
          </a:xfrm>
        </p:grpSpPr>
        <p:sp>
          <p:nvSpPr>
            <p:cNvPr id="265" name="Line 1042"/>
            <p:cNvSpPr/>
            <p:nvPr/>
          </p:nvSpPr>
          <p:spPr>
            <a:xfrm>
              <a:off x="5214600" y="41911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6" name="Line 1043"/>
            <p:cNvSpPr/>
            <p:nvPr/>
          </p:nvSpPr>
          <p:spPr>
            <a:xfrm flipV="1">
              <a:off x="5367240" y="243828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7" name="Text Box 1045"/>
            <p:cNvSpPr/>
            <p:nvPr/>
          </p:nvSpPr>
          <p:spPr>
            <a:xfrm>
              <a:off x="5062320" y="403884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8" name="Text Box 1046"/>
            <p:cNvSpPr/>
            <p:nvPr/>
          </p:nvSpPr>
          <p:spPr>
            <a:xfrm>
              <a:off x="4986360" y="2362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69" name="Text Box 1047"/>
            <p:cNvSpPr/>
            <p:nvPr/>
          </p:nvSpPr>
          <p:spPr>
            <a:xfrm>
              <a:off x="6814800" y="4191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  <p:sp>
          <p:nvSpPr>
            <p:cNvPr id="270" name="Line 1057"/>
            <p:cNvSpPr/>
            <p:nvPr/>
          </p:nvSpPr>
          <p:spPr>
            <a:xfrm>
              <a:off x="5367240" y="3276720"/>
              <a:ext cx="13712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c0001"/>
                </a:solidFill>
                <a:latin typeface="Times New Roman"/>
              </a:endParaRPr>
            </a:p>
          </p:txBody>
        </p:sp>
      </p:grpSp>
      <p:sp>
        <p:nvSpPr>
          <p:cNvPr id="271" name="Line 1059"/>
          <p:cNvSpPr/>
          <p:nvPr/>
        </p:nvSpPr>
        <p:spPr>
          <a:xfrm>
            <a:off x="3157560" y="2895480"/>
            <a:ext cx="1066680" cy="1295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72" name="Text Box 1060"/>
          <p:cNvSpPr/>
          <p:nvPr/>
        </p:nvSpPr>
        <p:spPr>
          <a:xfrm>
            <a:off x="1176480" y="4754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73" name="Text Box 1061"/>
          <p:cNvSpPr/>
          <p:nvPr/>
        </p:nvSpPr>
        <p:spPr>
          <a:xfrm>
            <a:off x="3691080" y="4724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74" name="Text Box 1062"/>
          <p:cNvSpPr/>
          <p:nvPr/>
        </p:nvSpPr>
        <p:spPr>
          <a:xfrm>
            <a:off x="5748480" y="4754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75" name="Text Box 1063"/>
          <p:cNvSpPr/>
          <p:nvPr/>
        </p:nvSpPr>
        <p:spPr>
          <a:xfrm>
            <a:off x="7805880" y="48006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001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76" name="WordArt 1064"/>
          <p:cNvSpPr txBox="1"/>
          <p:nvPr/>
        </p:nvSpPr>
        <p:spPr>
          <a:xfrm>
            <a:off x="7805880" y="60199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选择题</a:t>
            </a:r>
            <a:endParaRPr b="1" lang="en-US" sz="3200" spc="1" strike="noStrike">
              <a:ln w="936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S00559_"/>
          <p:cNvPicPr/>
          <p:nvPr/>
        </p:nvPicPr>
        <p:blipFill>
          <a:blip r:embed="rId1"/>
          <a:stretch/>
        </p:blipFill>
        <p:spPr>
          <a:xfrm>
            <a:off x="689040" y="255600"/>
            <a:ext cx="750960" cy="5554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1603440" y="216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水受日月的引力而产生潮汐现象，早晨海水上涨叫做潮，黄昏海水上涨叫做汐，合称潮汐。潮汐与人类的生活有着密切的联系。下面是某港口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的水深情况。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  <p:graphicFrame>
        <p:nvGraphicFramePr>
          <p:cNvPr id="279" name="Object 22"/>
          <p:cNvGraphicFramePr/>
          <p:nvPr/>
        </p:nvGraphicFramePr>
        <p:xfrm>
          <a:off x="612720" y="1655640"/>
          <a:ext cx="5076720" cy="40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720" y="1655640"/>
                    <a:ext cx="50767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7"/>
          <p:cNvSpPr/>
          <p:nvPr/>
        </p:nvSpPr>
        <p:spPr>
          <a:xfrm>
            <a:off x="4392720" y="5688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0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936720" y="144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水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000" spc="-1" strike="noStrike">
              <a:solidFill>
                <a:srgbClr val="0c0001"/>
              </a:solidFill>
              <a:latin typeface="Times New Roman"/>
            </a:endParaRPr>
          </a:p>
        </p:txBody>
      </p:sp>
      <p:pic>
        <p:nvPicPr>
          <p:cNvPr id="283" name="Picture 11" descr="BL00393_"/>
          <p:cNvPicPr/>
          <p:nvPr/>
        </p:nvPicPr>
        <p:blipFill>
          <a:blip r:embed="rId5"/>
          <a:stretch/>
        </p:blipFill>
        <p:spPr>
          <a:xfrm>
            <a:off x="612720" y="5661000"/>
            <a:ext cx="782640" cy="1224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2"/>
          <p:cNvSpPr/>
          <p:nvPr/>
        </p:nvSpPr>
        <p:spPr>
          <a:xfrm>
            <a:off x="3168720" y="2519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5256360" y="2808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c0001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5977080" y="1511280"/>
            <a:ext cx="33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约什么时刻港口的水最深？深度约是多少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大约什么时刻港口的水最浅？深度约是多少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什么时间范围内，港口水深在增加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什么时间范围内，港口水深在减少？</a:t>
            </a:r>
            <a:endParaRPr b="0" lang="en-US" sz="2400" spc="-1" strike="noStrike">
              <a:solidFill>
                <a:srgbClr val="0c0001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6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11:35:31Z</dcterms:created>
  <dc:creator>sss</dc:creator>
  <dc:description/>
  <dc:language>en-US</dc:language>
  <cp:lastModifiedBy>User</cp:lastModifiedBy>
  <dcterms:modified xsi:type="dcterms:W3CDTF">2014-03-12T10:20:03Z</dcterms:modified>
  <cp:revision>45</cp:revision>
  <dc:subject/>
  <dc:title>PowerPoint 演示文稿</dc:title>
</cp:coreProperties>
</file>