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24.gif" ContentType="image/gif"/>
  <Override PartName="/ppt/media/image16.png" ContentType="image/png"/>
  <Override PartName="/ppt/media/image23.jpeg" ContentType="image/jpeg"/>
  <Override PartName="/ppt/media/image20.gif" ContentType="image/gif"/>
  <Override PartName="/ppt/media/image18.jpeg" ContentType="image/jpeg"/>
  <Override PartName="/ppt/media/image19.png" ContentType="image/png"/>
  <Override PartName="/ppt/media/image10.png" ContentType="image/png"/>
  <Override PartName="/ppt/media/image21.jpeg" ContentType="image/jpeg"/>
  <Override PartName="/ppt/media/image22.png" ContentType="image/png"/>
  <Override PartName="/ppt/media/image17.gif" ContentType="image/gif"/>
  <Override PartName="/ppt/media/image3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6F5-487D-44EE-9780-8D66D56B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1AC-945D-497C-9F47-02A13DB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97F-C182-44FF-9EB3-4BA2BFD1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4F-4B2B-4894-995C-DAAD2FF0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5D5-61AB-4604-A644-46BF7D7E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EADB-0C9C-455F-A5D6-252314D2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0D1-E005-44EA-AE01-B8522F4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726-6143-45E5-8C63-6A4B93E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998-EC70-4705-B3E3-2F0CAE52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CA4-FEC2-4555-9507-16F97F59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688-7D6D-4BEA-908C-CB7F1B2D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9BA-8620-4346-9769-64D1A573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620-156C-4BD4-BFA4-EA8D99D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9CDD-6C48-4434-921C-95EBCCF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2B9E-2DC2-46AA-94B8-75A0E41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90FC-5381-48E7-8058-B6512001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9EEF-37A4-4059-871C-F25FDF0E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463-E77A-46D4-9FD1-8F499217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370-6FA2-44DF-A622-5979106D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C59-EC7C-419A-9E8A-55AABEEB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C8A-CF33-4D43-9946-A00B762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255-4E57-44CC-9BFD-2E2A8DB2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E70-0928-49FA-A868-D055D86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E9B-5519-490E-A474-FF4025C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16B-E838-482E-ABEE-82A483392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标题.JPG"/>
          <p:cNvPicPr/>
          <p:nvPr/>
        </p:nvPicPr>
        <p:blipFill>
          <a:blip r:embed="rId6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043-3741-41AD-88BA-6B6466E91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14" descr=""/>
          <p:cNvPicPr/>
          <p:nvPr/>
        </p:nvPicPr>
        <p:blipFill>
          <a:blip r:embed="rId1"/>
          <a:stretch/>
        </p:blipFill>
        <p:spPr>
          <a:xfrm>
            <a:off x="1122480" y="212760"/>
            <a:ext cx="779616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6672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5343480" y="-27000"/>
            <a:ext cx="4467240" cy="683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mg214339528"/>
          <p:cNvPicPr/>
          <p:nvPr/>
        </p:nvPicPr>
        <p:blipFill>
          <a:blip r:embed="rId4"/>
          <a:stretch/>
        </p:blipFill>
        <p:spPr>
          <a:xfrm>
            <a:off x="2214720" y="1341360"/>
            <a:ext cx="5976720" cy="448308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pic>
        <p:nvPicPr>
          <p:cNvPr id="133" name="Picture 15" descr=""/>
          <p:cNvPicPr/>
          <p:nvPr/>
        </p:nvPicPr>
        <p:blipFill>
          <a:blip r:embed="rId5"/>
          <a:stretch/>
        </p:blipFill>
        <p:spPr>
          <a:xfrm>
            <a:off x="10099800" y="361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0.25 0 E">
                                      <p:cBhvr>
                                        <p:cTn id="1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" nodeType="after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890960" y="692280"/>
            <a:ext cx="32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车下滑的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880920" y="14130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支撑物的高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小车下滑的时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都在变化，它们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量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108880" y="2421000"/>
            <a:ext cx="57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中小车下滑的时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支撑物的高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变化而变化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738360" y="306864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支撑物的高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变量</a:t>
            </a:r>
            <a:r>
              <a:rPr b="0" lang="zh-CN" sz="2000" spc="-1" strike="noStrike">
                <a:solidFill>
                  <a:srgbClr val="6600ff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4699080" y="3068640"/>
            <a:ext cx="44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车下滑的时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变量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880920" y="4869000"/>
            <a:ext cx="82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活中哪些例子反映了变量之间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同伴交流。并指出谁是</a:t>
            </a:r>
            <a:r>
              <a:rPr b="1" lang="zh-CN" sz="2800" spc="-1" strike="noStrike">
                <a:solidFill>
                  <a:srgbClr val="fe1a02"/>
                </a:solidFill>
                <a:latin typeface="Arial"/>
              </a:rPr>
              <a:t>自变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？谁是</a:t>
            </a:r>
            <a:r>
              <a:rPr b="1" lang="zh-CN" sz="2800" spc="-1" strike="noStrike">
                <a:solidFill>
                  <a:srgbClr val="fe1a02"/>
                </a:solidFill>
                <a:latin typeface="Arial"/>
              </a:rPr>
              <a:t>因变量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？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809640" y="3789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烧一壶水，需十分钟烧开。在这一过程中，哪些是变量？哪些是</a:t>
            </a:r>
            <a:r>
              <a:rPr b="1" lang="zh-CN" sz="2800" spc="-1" strike="noStrike">
                <a:solidFill>
                  <a:srgbClr val="fe1a02"/>
                </a:solidFill>
                <a:latin typeface="Arial"/>
              </a:rPr>
              <a:t>自变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？哪些是</a:t>
            </a:r>
            <a:r>
              <a:rPr b="1" lang="zh-CN" sz="2800" spc="-1" strike="noStrike">
                <a:solidFill>
                  <a:srgbClr val="fe1a02"/>
                </a:solidFill>
                <a:latin typeface="Arial"/>
              </a:rPr>
              <a:t>因变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8"/>
          <p:cNvSpPr/>
          <p:nvPr/>
        </p:nvSpPr>
        <p:spPr>
          <a:xfrm>
            <a:off x="865080" y="0"/>
            <a:ext cx="2608200" cy="137160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总结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20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067"/>
          <p:cNvSpPr/>
          <p:nvPr/>
        </p:nvSpPr>
        <p:spPr>
          <a:xfrm>
            <a:off x="612720" y="-27000"/>
            <a:ext cx="2608200" cy="137160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知识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050" descr="BJ_040"/>
          <p:cNvPicPr/>
          <p:nvPr/>
        </p:nvPicPr>
        <p:blipFill>
          <a:blip r:embed="rId1"/>
          <a:stretch/>
        </p:blipFill>
        <p:spPr>
          <a:xfrm>
            <a:off x="6624720" y="-27000"/>
            <a:ext cx="3132000" cy="90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男童1"/>
          <p:cNvPicPr/>
          <p:nvPr/>
        </p:nvPicPr>
        <p:blipFill>
          <a:blip r:embed="rId2"/>
          <a:stretch/>
        </p:blipFill>
        <p:spPr>
          <a:xfrm>
            <a:off x="8064360" y="3689280"/>
            <a:ext cx="1236960" cy="1584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5"/>
          <p:cNvSpPr/>
          <p:nvPr/>
        </p:nvSpPr>
        <p:spPr>
          <a:xfrm>
            <a:off x="1751040" y="102564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我国从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年到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999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年的人口统计数据如下：（精确到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0.01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亿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12720" y="1530360"/>
          <a:ext cx="9144000" cy="1889280"/>
        </p:xfrm>
        <a:graphic>
          <a:graphicData uri="http://schemas.openxmlformats.org/drawingml/2006/table">
            <a:tbl>
              <a:tblPr/>
              <a:tblGrid>
                <a:gridCol w="1476360"/>
                <a:gridCol w="1295640"/>
                <a:gridCol w="1306440"/>
                <a:gridCol w="1357200"/>
                <a:gridCol w="1224000"/>
                <a:gridCol w="1297080"/>
                <a:gridCol w="1187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时间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年</a:t>
                      </a:r>
                      <a:r>
                        <a:rPr b="1" lang="en-US" sz="32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6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7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9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口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r>
                        <a:rPr b="1" lang="en-US" sz="32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.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.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.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.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1.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2.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42"/>
          <p:cNvSpPr/>
          <p:nvPr/>
        </p:nvSpPr>
        <p:spPr>
          <a:xfrm>
            <a:off x="720720" y="46972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(2)X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哪个是自变量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哪个是因变量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1304640" y="3689280"/>
            <a:ext cx="50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如果用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表示时间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表示我国人口总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那么随着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的变化，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的变化趋势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4"/>
          <p:cNvSpPr/>
          <p:nvPr/>
        </p:nvSpPr>
        <p:spPr>
          <a:xfrm>
            <a:off x="1767600" y="534672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年起，时间每向后推移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年，我国人口是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5"/>
          <p:cNvSpPr/>
          <p:nvPr/>
        </p:nvSpPr>
        <p:spPr>
          <a:xfrm>
            <a:off x="1690560" y="59230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你能根据此表格预测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年时我国人口将会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3"/>
          <p:cNvGrpSpPr/>
          <p:nvPr/>
        </p:nvGrpSpPr>
        <p:grpSpPr>
          <a:xfrm>
            <a:off x="2952720" y="2896920"/>
            <a:ext cx="792000" cy="657360"/>
            <a:chOff x="2952720" y="2896920"/>
            <a:chExt cx="792000" cy="657360"/>
          </a:xfrm>
        </p:grpSpPr>
        <p:sp>
          <p:nvSpPr>
            <p:cNvPr id="254" name="AutoShape 50"/>
            <p:cNvSpPr/>
            <p:nvPr/>
          </p:nvSpPr>
          <p:spPr>
            <a:xfrm rot="16200000">
              <a:off x="3240720" y="2608560"/>
              <a:ext cx="215640" cy="792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51"/>
            <p:cNvSpPr/>
            <p:nvPr/>
          </p:nvSpPr>
          <p:spPr>
            <a:xfrm>
              <a:off x="3097080" y="3186000"/>
              <a:ext cx="6476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.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4321080" y="2896920"/>
            <a:ext cx="792360" cy="657360"/>
            <a:chOff x="4321080" y="2896920"/>
            <a:chExt cx="792360" cy="657360"/>
          </a:xfrm>
        </p:grpSpPr>
        <p:sp>
          <p:nvSpPr>
            <p:cNvPr id="257" name="AutoShape 54"/>
            <p:cNvSpPr/>
            <p:nvPr/>
          </p:nvSpPr>
          <p:spPr>
            <a:xfrm rot="16200000">
              <a:off x="4609440" y="2608560"/>
              <a:ext cx="215640" cy="7923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8"/>
            <p:cNvSpPr/>
            <p:nvPr/>
          </p:nvSpPr>
          <p:spPr>
            <a:xfrm>
              <a:off x="4394880" y="3186000"/>
              <a:ext cx="6242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.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65"/>
          <p:cNvGrpSpPr/>
          <p:nvPr/>
        </p:nvGrpSpPr>
        <p:grpSpPr>
          <a:xfrm>
            <a:off x="5616720" y="2896920"/>
            <a:ext cx="792000" cy="657360"/>
            <a:chOff x="5616720" y="2896920"/>
            <a:chExt cx="792000" cy="657360"/>
          </a:xfrm>
        </p:grpSpPr>
        <p:sp>
          <p:nvSpPr>
            <p:cNvPr id="260" name="AutoShape 55"/>
            <p:cNvSpPr/>
            <p:nvPr/>
          </p:nvSpPr>
          <p:spPr>
            <a:xfrm rot="16200000">
              <a:off x="5904720" y="2608560"/>
              <a:ext cx="215640" cy="792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9"/>
            <p:cNvSpPr/>
            <p:nvPr/>
          </p:nvSpPr>
          <p:spPr>
            <a:xfrm>
              <a:off x="5762880" y="3186000"/>
              <a:ext cx="6242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.6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66"/>
          <p:cNvGrpSpPr/>
          <p:nvPr/>
        </p:nvGrpSpPr>
        <p:grpSpPr>
          <a:xfrm>
            <a:off x="6913440" y="2896920"/>
            <a:ext cx="792360" cy="657360"/>
            <a:chOff x="6913440" y="2896920"/>
            <a:chExt cx="792360" cy="657360"/>
          </a:xfrm>
        </p:grpSpPr>
        <p:sp>
          <p:nvSpPr>
            <p:cNvPr id="263" name="AutoShape 56"/>
            <p:cNvSpPr/>
            <p:nvPr/>
          </p:nvSpPr>
          <p:spPr>
            <a:xfrm rot="16200000">
              <a:off x="7201800" y="2608560"/>
              <a:ext cx="215640" cy="7923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60"/>
            <p:cNvSpPr/>
            <p:nvPr/>
          </p:nvSpPr>
          <p:spPr>
            <a:xfrm>
              <a:off x="7058520" y="3186000"/>
              <a:ext cx="6242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.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7"/>
          <p:cNvGrpSpPr/>
          <p:nvPr/>
        </p:nvGrpSpPr>
        <p:grpSpPr>
          <a:xfrm>
            <a:off x="8137440" y="2896920"/>
            <a:ext cx="842400" cy="657360"/>
            <a:chOff x="8137440" y="2896920"/>
            <a:chExt cx="842400" cy="657360"/>
          </a:xfrm>
        </p:grpSpPr>
        <p:sp>
          <p:nvSpPr>
            <p:cNvPr id="266" name="AutoShape 57"/>
            <p:cNvSpPr/>
            <p:nvPr/>
          </p:nvSpPr>
          <p:spPr>
            <a:xfrm rot="16200000">
              <a:off x="8425800" y="2608560"/>
              <a:ext cx="215640" cy="79236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8355600" y="3186000"/>
              <a:ext cx="6242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.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6"/>
          <p:cNvGrpSpPr/>
          <p:nvPr/>
        </p:nvGrpSpPr>
        <p:grpSpPr>
          <a:xfrm>
            <a:off x="905400" y="13320"/>
            <a:ext cx="2550600" cy="1067760"/>
            <a:chOff x="905400" y="13320"/>
            <a:chExt cx="2550600" cy="1067760"/>
          </a:xfrm>
        </p:grpSpPr>
        <p:grpSp>
          <p:nvGrpSpPr>
            <p:cNvPr id="269" name="Group 7"/>
            <p:cNvGrpSpPr/>
            <p:nvPr/>
          </p:nvGrpSpPr>
          <p:grpSpPr>
            <a:xfrm>
              <a:off x="905400" y="13320"/>
              <a:ext cx="2550600" cy="1067760"/>
              <a:chOff x="905400" y="13320"/>
              <a:chExt cx="2550600" cy="1067760"/>
            </a:xfrm>
          </p:grpSpPr>
          <p:sp>
            <p:nvSpPr>
              <p:cNvPr id="270" name="Freeform 8"/>
              <p:cNvSpPr/>
              <p:nvPr/>
            </p:nvSpPr>
            <p:spPr>
              <a:xfrm>
                <a:off x="934920" y="550080"/>
                <a:ext cx="2521080" cy="367920"/>
              </a:xfrm>
              <a:custGeom>
                <a:avLst/>
                <a:gdLst>
                  <a:gd name="textAreaLeft" fmla="*/ 0 w 2521080"/>
                  <a:gd name="textAreaRight" fmla="*/ 2521440 w 25210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bbe0e3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9"/>
              <p:cNvGrpSpPr/>
              <p:nvPr/>
            </p:nvGrpSpPr>
            <p:grpSpPr>
              <a:xfrm>
                <a:off x="905400" y="13320"/>
                <a:ext cx="2440800" cy="1067760"/>
                <a:chOff x="905400" y="13320"/>
                <a:chExt cx="2440800" cy="1067760"/>
              </a:xfrm>
            </p:grpSpPr>
            <p:sp>
              <p:nvSpPr>
                <p:cNvPr id="272" name="Freeform 10"/>
                <p:cNvSpPr/>
                <p:nvPr/>
              </p:nvSpPr>
              <p:spPr>
                <a:xfrm rot="158400">
                  <a:off x="1044000" y="136800"/>
                  <a:ext cx="657720" cy="690120"/>
                </a:xfrm>
                <a:custGeom>
                  <a:avLst/>
                  <a:gdLst>
                    <a:gd name="textAreaLeft" fmla="*/ 0 w 657720"/>
                    <a:gd name="textAreaRight" fmla="*/ 658080 w 657720"/>
                    <a:gd name="textAreaTop" fmla="*/ 0 h 690120"/>
                    <a:gd name="textAreaBottom" fmla="*/ 690480 h 69012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99"/>
                    </a:gs>
                  </a:gsLst>
                  <a:lin ang="18900000"/>
                </a:gradFill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1"/>
                <p:cNvSpPr/>
                <p:nvPr/>
              </p:nvSpPr>
              <p:spPr>
                <a:xfrm>
                  <a:off x="1263600" y="183960"/>
                  <a:ext cx="657720" cy="642960"/>
                </a:xfrm>
                <a:custGeom>
                  <a:avLst/>
                  <a:gdLst>
                    <a:gd name="textAreaLeft" fmla="*/ 0 w 657720"/>
                    <a:gd name="textAreaRight" fmla="*/ 658080 w 657720"/>
                    <a:gd name="textAreaTop" fmla="*/ 0 h 642960"/>
                    <a:gd name="textAreaBottom" fmla="*/ 643320 h 642960"/>
                  </a:gdLst>
                  <a:ahLst/>
                  <a:rect l="textAreaLeft" t="textAreaTop" r="textAreaRight" b="textAreaBottom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/>
                    </a:gs>
                    <a:gs pos="50000">
                      <a:srgbClr val="cc3300"/>
                    </a:gs>
                    <a:gs pos="100000">
                      <a:srgbClr val="333399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2"/>
                <p:cNvSpPr/>
                <p:nvPr/>
              </p:nvSpPr>
              <p:spPr>
                <a:xfrm rot="961200">
                  <a:off x="1044000" y="44280"/>
                  <a:ext cx="328680" cy="7369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736920"/>
                    <a:gd name="textAreaBottom" fmla="*/ 737280 h 736920"/>
                  </a:gdLst>
                  <a:ahLst/>
                  <a:rect l="textAreaLeft" t="textAreaTop" r="textAreaRight" b="textAreaBottom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cc66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3"/>
                <p:cNvSpPr/>
                <p:nvPr/>
              </p:nvSpPr>
              <p:spPr>
                <a:xfrm>
                  <a:off x="1373040" y="45000"/>
                  <a:ext cx="547920" cy="183960"/>
                </a:xfrm>
                <a:custGeom>
                  <a:avLst/>
                  <a:gdLst>
                    <a:gd name="textAreaLeft" fmla="*/ 0 w 547920"/>
                    <a:gd name="textAreaRight" fmla="*/ 548280 w 54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4"/>
                <p:cNvSpPr/>
                <p:nvPr/>
              </p:nvSpPr>
              <p:spPr>
                <a:xfrm>
                  <a:off x="990720" y="597240"/>
                  <a:ext cx="438120" cy="414000"/>
                </a:xfrm>
                <a:custGeom>
                  <a:avLst/>
                  <a:gdLst>
                    <a:gd name="textAreaLeft" fmla="*/ 0 w 438120"/>
                    <a:gd name="textAreaRight" fmla="*/ 438480 w 438120"/>
                    <a:gd name="textAreaTop" fmla="*/ 0 h 414000"/>
                    <a:gd name="textAreaBottom" fmla="*/ 414360 h 414000"/>
                  </a:gdLst>
                  <a:ahLst/>
                  <a:rect l="textAreaLeft" t="textAreaTop" r="textAreaRight" b="textAreaBottom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9900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5"/>
                <p:cNvSpPr/>
                <p:nvPr/>
              </p:nvSpPr>
              <p:spPr>
                <a:xfrm rot="1629000">
                  <a:off x="934560" y="883440"/>
                  <a:ext cx="167760" cy="16848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168480"/>
                    <a:gd name="textAreaBottom" fmla="*/ 168840 h 168480"/>
                  </a:gdLst>
                  <a:ahLst/>
                  <a:rect l="textAreaLeft" t="textAreaTop" r="textAreaRight" b="textAreaBottom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>
                  <a:off x="1592640" y="91080"/>
                  <a:ext cx="164160" cy="4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17"/>
                <p:cNvSpPr/>
                <p:nvPr/>
              </p:nvSpPr>
              <p:spPr>
                <a:xfrm>
                  <a:off x="1865520" y="90000"/>
                  <a:ext cx="1480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练一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8"/>
            <p:cNvSpPr/>
            <p:nvPr/>
          </p:nvSpPr>
          <p:spPr>
            <a:xfrm>
              <a:off x="2016360" y="574920"/>
              <a:ext cx="1140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19"/>
          <p:cNvSpPr/>
          <p:nvPr/>
        </p:nvSpPr>
        <p:spPr>
          <a:xfrm>
            <a:off x="936720" y="765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表明，当钾肥和磷肥的施用量一定    时，土豆的产量与氮肥的施用量有如下关系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"/>
          <p:cNvSpPr/>
          <p:nvPr/>
        </p:nvSpPr>
        <p:spPr>
          <a:xfrm>
            <a:off x="719280" y="342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上表反映了哪两个变量之间的关系？ 哪个是自变量？哪 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是因变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1940400" y="4292640"/>
            <a:ext cx="57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当氮肥的施用量是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千克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公顷时，土豆的产量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如果不施氮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2393640" y="5157720"/>
            <a:ext cx="55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根据表格中的数据，你认为氮肥的施用量是多少时比较适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说说你的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520080" y="602136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粗略说一说氮肥的施用量对土豆产量的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8360" y="1844640"/>
          <a:ext cx="9144000" cy="1297080"/>
        </p:xfrm>
        <a:graphic>
          <a:graphicData uri="http://schemas.openxmlformats.org/drawingml/2006/table">
            <a:tbl>
              <a:tblPr/>
              <a:tblGrid>
                <a:gridCol w="1407960"/>
                <a:gridCol w="771480"/>
                <a:gridCol w="774720"/>
                <a:gridCol w="773280"/>
                <a:gridCol w="774720"/>
                <a:gridCol w="771480"/>
                <a:gridCol w="774720"/>
                <a:gridCol w="774720"/>
                <a:gridCol w="774720"/>
                <a:gridCol w="771480"/>
                <a:gridCol w="7747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氮肥施用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千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土豆主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顷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035"/>
          <p:cNvSpPr/>
          <p:nvPr/>
        </p:nvSpPr>
        <p:spPr>
          <a:xfrm>
            <a:off x="504720" y="-171360"/>
            <a:ext cx="2608200" cy="137160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试一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36"/>
          <p:cNvSpPr/>
          <p:nvPr/>
        </p:nvSpPr>
        <p:spPr>
          <a:xfrm>
            <a:off x="504720" y="693720"/>
            <a:ext cx="88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婴儿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月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时体重分别大约是出生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时的体重分别大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是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37" descr="it"/>
          <p:cNvPicPr/>
          <p:nvPr/>
        </p:nvPicPr>
        <p:blipFill>
          <a:blip r:embed="rId1"/>
          <a:stretch/>
        </p:blipFill>
        <p:spPr>
          <a:xfrm>
            <a:off x="7164360" y="1628640"/>
            <a:ext cx="2089080" cy="23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612720" y="4437000"/>
          <a:ext cx="9001080" cy="113976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  <a:gridCol w="1152360"/>
                <a:gridCol w="1224000"/>
                <a:gridCol w="1150920"/>
                <a:gridCol w="1152720"/>
                <a:gridCol w="129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刚出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1" name="Text Box 1065"/>
          <p:cNvSpPr/>
          <p:nvPr/>
        </p:nvSpPr>
        <p:spPr>
          <a:xfrm>
            <a:off x="504720" y="5580000"/>
            <a:ext cx="93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根据表中的数据，说一说儿童从出生到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周岁之间体重是怎样随着年龄的增长而变化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66"/>
          <p:cNvSpPr/>
          <p:nvPr/>
        </p:nvSpPr>
        <p:spPr>
          <a:xfrm>
            <a:off x="2004480" y="3233880"/>
            <a:ext cx="4330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）某婴儿在出生时的体重是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3.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千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请把他在发育过程中的体重情况填入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67"/>
          <p:cNvSpPr/>
          <p:nvPr/>
        </p:nvSpPr>
        <p:spPr>
          <a:xfrm>
            <a:off x="1351440" y="1989000"/>
            <a:ext cx="3663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）上述哪些量在发生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自变量和因 变量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4"/>
          <p:cNvSpPr/>
          <p:nvPr/>
        </p:nvSpPr>
        <p:spPr>
          <a:xfrm>
            <a:off x="755640" y="41400"/>
            <a:ext cx="2608200" cy="137160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知识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1997280" y="620640"/>
            <a:ext cx="555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通过今天的学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自己的话说说你的收获和体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260360" y="1915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1.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在具体情境中理解什么是变量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　自变量、因变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637360" y="2996280"/>
            <a:ext cx="47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方正舒体"/>
                <a:ea typeface="方正舒体"/>
              </a:rPr>
              <a:t>2.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能从表格中获得变量之间关系的信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能用表格表示变量之间的关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尝试对变化趋势进行初步的预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0"/>
          <p:cNvGrpSpPr/>
          <p:nvPr/>
        </p:nvGrpSpPr>
        <p:grpSpPr>
          <a:xfrm>
            <a:off x="1187280" y="5013360"/>
            <a:ext cx="5889600" cy="1377720"/>
            <a:chOff x="1187280" y="5013360"/>
            <a:chExt cx="5889600" cy="1377720"/>
          </a:xfrm>
        </p:grpSpPr>
        <p:pic>
          <p:nvPicPr>
            <p:cNvPr id="299" name="Picture 17" descr="米老鼠"/>
            <p:cNvPicPr/>
            <p:nvPr/>
          </p:nvPicPr>
          <p:blipFill>
            <a:blip r:embed="rId1"/>
            <a:stretch/>
          </p:blipFill>
          <p:spPr>
            <a:xfrm>
              <a:off x="1187280" y="5072400"/>
              <a:ext cx="2079360" cy="131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AutoShape 19"/>
            <p:cNvSpPr/>
            <p:nvPr/>
          </p:nvSpPr>
          <p:spPr>
            <a:xfrm>
              <a:off x="3948480" y="5013360"/>
              <a:ext cx="3128400" cy="358560"/>
            </a:xfrm>
            <a:prstGeom prst="wedgeRoundRectCallout">
              <a:avLst>
                <a:gd name="adj1" fmla="val -94875"/>
                <a:gd name="adj2" fmla="val 139009"/>
                <a:gd name="adj3" fmla="val 16667"/>
              </a:avLst>
            </a:prstGeom>
            <a:solidFill>
              <a:srgbClr val="cefec6"/>
            </a:solidFill>
            <a:ln w="9360">
              <a:solidFill>
                <a:srgbClr val="20c6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ff"/>
                  </a:solidFill>
                  <a:latin typeface="Arial"/>
                </a:rPr>
                <a:t>你学会了吗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2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25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3250"/>
                            </p:stCondLst>
                            <p:childTnLst>
                              <p:par>
                                <p:cTn id="46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61111E-006 -2.19653E-006 L 0.47239 -2.19653E-006 E">
                                      <p:cBhvr>
                                        <p:cTn id="463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40292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某河受暴雨袭击，某天此河水的水位记录为下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上表中反映了哪两个变量之间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变量和因变量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时，水位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哪一时段水位上升最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1008000" y="1844640"/>
            <a:ext cx="8206920" cy="1223640"/>
            <a:chOff x="1008000" y="1844640"/>
            <a:chExt cx="8206920" cy="1223640"/>
          </a:xfrm>
        </p:grpSpPr>
        <p:sp>
          <p:nvSpPr>
            <p:cNvPr id="303" name="Rectangle 4"/>
            <p:cNvSpPr/>
            <p:nvPr/>
          </p:nvSpPr>
          <p:spPr>
            <a:xfrm>
              <a:off x="7163280" y="2512080"/>
              <a:ext cx="10256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>
              <a:off x="6137280" y="2512080"/>
              <a:ext cx="10260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5111280" y="2512080"/>
              <a:ext cx="10260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4085640" y="2512080"/>
              <a:ext cx="102564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3296160" y="2512080"/>
              <a:ext cx="7891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6400" y="2512080"/>
              <a:ext cx="86976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1008000" y="2512080"/>
              <a:ext cx="14184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水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1"/>
            <p:cNvSpPr/>
            <p:nvPr/>
          </p:nvSpPr>
          <p:spPr>
            <a:xfrm>
              <a:off x="7163280" y="1844640"/>
              <a:ext cx="102564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>
              <a:off x="6137280" y="1844640"/>
              <a:ext cx="102600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>
              <a:off x="5111280" y="1844640"/>
              <a:ext cx="102600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4"/>
            <p:cNvSpPr/>
            <p:nvPr/>
          </p:nvSpPr>
          <p:spPr>
            <a:xfrm>
              <a:off x="4085640" y="1844640"/>
              <a:ext cx="102564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3296160" y="1844640"/>
              <a:ext cx="78912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"/>
            <p:cNvSpPr/>
            <p:nvPr/>
          </p:nvSpPr>
          <p:spPr>
            <a:xfrm>
              <a:off x="2426400" y="1844640"/>
              <a:ext cx="86976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7"/>
            <p:cNvSpPr/>
            <p:nvPr/>
          </p:nvSpPr>
          <p:spPr>
            <a:xfrm>
              <a:off x="1008000" y="1844640"/>
              <a:ext cx="141840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间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1008000" y="184464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1008000" y="2512080"/>
              <a:ext cx="82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1008000" y="3068280"/>
              <a:ext cx="820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1008000" y="1844640"/>
              <a:ext cx="0" cy="1223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242640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329616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08564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511128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613728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716328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8188920" y="1844640"/>
              <a:ext cx="0" cy="1223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8188920" y="2512080"/>
              <a:ext cx="10260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0"/>
            <p:cNvSpPr/>
            <p:nvPr/>
          </p:nvSpPr>
          <p:spPr>
            <a:xfrm>
              <a:off x="8188920" y="1844640"/>
              <a:ext cx="102600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1"/>
            <p:cNvSpPr/>
            <p:nvPr/>
          </p:nvSpPr>
          <p:spPr>
            <a:xfrm>
              <a:off x="8188920" y="1844640"/>
              <a:ext cx="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2"/>
            <p:cNvSpPr/>
            <p:nvPr/>
          </p:nvSpPr>
          <p:spPr>
            <a:xfrm>
              <a:off x="9214920" y="1844640"/>
              <a:ext cx="0" cy="1223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49"/>
          <p:cNvGrpSpPr/>
          <p:nvPr/>
        </p:nvGrpSpPr>
        <p:grpSpPr>
          <a:xfrm>
            <a:off x="483120" y="61560"/>
            <a:ext cx="2541240" cy="919440"/>
            <a:chOff x="483120" y="61560"/>
            <a:chExt cx="2541240" cy="919440"/>
          </a:xfrm>
        </p:grpSpPr>
        <p:grpSp>
          <p:nvGrpSpPr>
            <p:cNvPr id="333" name="Group 50"/>
            <p:cNvGrpSpPr/>
            <p:nvPr/>
          </p:nvGrpSpPr>
          <p:grpSpPr>
            <a:xfrm>
              <a:off x="483120" y="61560"/>
              <a:ext cx="2541240" cy="876600"/>
              <a:chOff x="483120" y="61560"/>
              <a:chExt cx="2541240" cy="876600"/>
            </a:xfrm>
          </p:grpSpPr>
          <p:sp>
            <p:nvSpPr>
              <p:cNvPr id="334" name="Freeform 51"/>
              <p:cNvSpPr/>
              <p:nvPr/>
            </p:nvSpPr>
            <p:spPr>
              <a:xfrm>
                <a:off x="504720" y="502560"/>
                <a:ext cx="2519640" cy="296280"/>
              </a:xfrm>
              <a:custGeom>
                <a:avLst/>
                <a:gdLst>
                  <a:gd name="textAreaLeft" fmla="*/ 0 w 2519640"/>
                  <a:gd name="textAreaRight" fmla="*/ 2520000 w 251964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bbe0e3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Group 52"/>
              <p:cNvGrpSpPr/>
              <p:nvPr/>
            </p:nvGrpSpPr>
            <p:grpSpPr>
              <a:xfrm>
                <a:off x="483120" y="61560"/>
                <a:ext cx="2431440" cy="876600"/>
                <a:chOff x="483120" y="61560"/>
                <a:chExt cx="2431440" cy="876600"/>
              </a:xfrm>
            </p:grpSpPr>
            <p:sp>
              <p:nvSpPr>
                <p:cNvPr id="336" name="Freeform 53"/>
                <p:cNvSpPr/>
                <p:nvPr/>
              </p:nvSpPr>
              <p:spPr>
                <a:xfrm rot="158400">
                  <a:off x="614160" y="169920"/>
                  <a:ext cx="657360" cy="556200"/>
                </a:xfrm>
                <a:custGeom>
                  <a:avLst/>
                  <a:gdLst>
                    <a:gd name="textAreaLeft" fmla="*/ 0 w 657360"/>
                    <a:gd name="textAreaRight" fmla="*/ 657720 w 657360"/>
                    <a:gd name="textAreaTop" fmla="*/ 0 h 556200"/>
                    <a:gd name="textAreaBottom" fmla="*/ 556560 h 55620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99"/>
                    </a:gs>
                  </a:gsLst>
                  <a:lin ang="18900000"/>
                </a:gradFill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54"/>
                <p:cNvSpPr/>
                <p:nvPr/>
              </p:nvSpPr>
              <p:spPr>
                <a:xfrm>
                  <a:off x="833400" y="206640"/>
                  <a:ext cx="657360" cy="519840"/>
                </a:xfrm>
                <a:custGeom>
                  <a:avLst/>
                  <a:gdLst>
                    <a:gd name="textAreaLeft" fmla="*/ 0 w 657360"/>
                    <a:gd name="textAreaRight" fmla="*/ 657720 w 657360"/>
                    <a:gd name="textAreaTop" fmla="*/ 0 h 519840"/>
                    <a:gd name="textAreaBottom" fmla="*/ 520200 h 519840"/>
                  </a:gdLst>
                  <a:ahLst/>
                  <a:rect l="textAreaLeft" t="textAreaTop" r="textAreaRight" b="textAreaBottom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/>
                    </a:gs>
                    <a:gs pos="50000">
                      <a:srgbClr val="cc3300"/>
                    </a:gs>
                    <a:gs pos="100000">
                      <a:srgbClr val="333399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55"/>
                <p:cNvSpPr/>
                <p:nvPr/>
              </p:nvSpPr>
              <p:spPr>
                <a:xfrm rot="961200">
                  <a:off x="614160" y="95400"/>
                  <a:ext cx="328680" cy="59256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592560"/>
                    <a:gd name="textAreaBottom" fmla="*/ 592920 h 592560"/>
                  </a:gdLst>
                  <a:ahLst/>
                  <a:rect l="textAreaLeft" t="textAreaTop" r="textAreaRight" b="textAreaBottom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cc66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56"/>
                <p:cNvSpPr/>
                <p:nvPr/>
              </p:nvSpPr>
              <p:spPr>
                <a:xfrm>
                  <a:off x="942840" y="95760"/>
                  <a:ext cx="547560" cy="14832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57"/>
                <p:cNvSpPr/>
                <p:nvPr/>
              </p:nvSpPr>
              <p:spPr>
                <a:xfrm>
                  <a:off x="560520" y="540360"/>
                  <a:ext cx="438120" cy="333720"/>
                </a:xfrm>
                <a:custGeom>
                  <a:avLst/>
                  <a:gdLst>
                    <a:gd name="textAreaLeft" fmla="*/ 0 w 438120"/>
                    <a:gd name="textAreaRight" fmla="*/ 438480 w 43812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9900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8"/>
                <p:cNvSpPr/>
                <p:nvPr/>
              </p:nvSpPr>
              <p:spPr>
                <a:xfrm rot="1629000">
                  <a:off x="504360" y="772200"/>
                  <a:ext cx="167400" cy="1350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59"/>
                <p:cNvSpPr/>
                <p:nvPr/>
              </p:nvSpPr>
              <p:spPr>
                <a:xfrm>
                  <a:off x="1162080" y="133200"/>
                  <a:ext cx="164160" cy="3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60"/>
                <p:cNvSpPr/>
                <p:nvPr/>
              </p:nvSpPr>
              <p:spPr>
                <a:xfrm>
                  <a:off x="1434600" y="131400"/>
                  <a:ext cx="1479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我一定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Text Box 61"/>
            <p:cNvSpPr/>
            <p:nvPr/>
          </p:nvSpPr>
          <p:spPr>
            <a:xfrm>
              <a:off x="1585440" y="523440"/>
              <a:ext cx="1137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62"/>
          <p:cNvSpPr/>
          <p:nvPr/>
        </p:nvSpPr>
        <p:spPr>
          <a:xfrm>
            <a:off x="8856720" y="6237360"/>
            <a:ext cx="504720" cy="476280"/>
          </a:xfrm>
          <a:custGeom>
            <a:avLst/>
            <a:gdLst>
              <a:gd name="textAreaLeft" fmla="*/ 78840 w 504720"/>
              <a:gd name="textAreaRight" fmla="*/ 441720 w 5047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1" descr="etdyy1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47640" y="4819680"/>
            <a:ext cx="918072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47640" y="1508040"/>
          <a:ext cx="9144000" cy="1212840"/>
        </p:xfrm>
        <a:graphic>
          <a:graphicData uri="http://schemas.openxmlformats.org/drawingml/2006/table">
            <a:tbl>
              <a:tblPr/>
              <a:tblGrid>
                <a:gridCol w="1860480"/>
                <a:gridCol w="1843200"/>
                <a:gridCol w="1852560"/>
                <a:gridCol w="1851120"/>
                <a:gridCol w="173664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座位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48" name="Rectangle 32"/>
          <p:cNvSpPr/>
          <p:nvPr/>
        </p:nvSpPr>
        <p:spPr>
          <a:xfrm>
            <a:off x="647640" y="2874960"/>
            <a:ext cx="849780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上述哪些量在变化？自变量和因变量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排、第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排各有多少个座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排有多少个 座位？请说明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8"/>
          <p:cNvSpPr/>
          <p:nvPr/>
        </p:nvSpPr>
        <p:spPr>
          <a:xfrm>
            <a:off x="647640" y="85896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某电影院地面的一部分是扇形，座位按下列方式设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64"/>
          <p:cNvGrpSpPr/>
          <p:nvPr/>
        </p:nvGrpSpPr>
        <p:grpSpPr>
          <a:xfrm>
            <a:off x="734040" y="-60840"/>
            <a:ext cx="2540880" cy="919440"/>
            <a:chOff x="734040" y="-60840"/>
            <a:chExt cx="2540880" cy="919440"/>
          </a:xfrm>
        </p:grpSpPr>
        <p:grpSp>
          <p:nvGrpSpPr>
            <p:cNvPr id="351" name="Group 65"/>
            <p:cNvGrpSpPr/>
            <p:nvPr/>
          </p:nvGrpSpPr>
          <p:grpSpPr>
            <a:xfrm>
              <a:off x="734040" y="-60840"/>
              <a:ext cx="2540880" cy="876960"/>
              <a:chOff x="734040" y="-60840"/>
              <a:chExt cx="2540880" cy="876960"/>
            </a:xfrm>
          </p:grpSpPr>
          <p:sp>
            <p:nvSpPr>
              <p:cNvPr id="352" name="Freeform 66"/>
              <p:cNvSpPr/>
              <p:nvPr/>
            </p:nvSpPr>
            <p:spPr>
              <a:xfrm>
                <a:off x="755640" y="380520"/>
                <a:ext cx="2519280" cy="296280"/>
              </a:xfrm>
              <a:custGeom>
                <a:avLst/>
                <a:gdLst>
                  <a:gd name="textAreaLeft" fmla="*/ 0 w 2519280"/>
                  <a:gd name="textAreaRight" fmla="*/ 2519640 w 2519280"/>
                  <a:gd name="textAreaTop" fmla="*/ 0 h 296280"/>
                  <a:gd name="textAreaBottom" fmla="*/ 296640 h 296280"/>
                </a:gdLst>
                <a:ahLst/>
                <a:rect l="textAreaLeft" t="textAreaTop" r="textAreaRight" b="textAreaBottom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bbe0e3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67"/>
              <p:cNvGrpSpPr/>
              <p:nvPr/>
            </p:nvGrpSpPr>
            <p:grpSpPr>
              <a:xfrm>
                <a:off x="734040" y="-60840"/>
                <a:ext cx="2431080" cy="876960"/>
                <a:chOff x="734040" y="-60840"/>
                <a:chExt cx="2431080" cy="876960"/>
              </a:xfrm>
            </p:grpSpPr>
            <p:sp>
              <p:nvSpPr>
                <p:cNvPr id="354" name="Freeform 68"/>
                <p:cNvSpPr/>
                <p:nvPr/>
              </p:nvSpPr>
              <p:spPr>
                <a:xfrm rot="158400">
                  <a:off x="865080" y="47520"/>
                  <a:ext cx="657000" cy="556560"/>
                </a:xfrm>
                <a:custGeom>
                  <a:avLst/>
                  <a:gdLst>
                    <a:gd name="textAreaLeft" fmla="*/ 0 w 657000"/>
                    <a:gd name="textAreaRight" fmla="*/ 657360 w 657000"/>
                    <a:gd name="textAreaTop" fmla="*/ 0 h 556560"/>
                    <a:gd name="textAreaBottom" fmla="*/ 556920 h 556560"/>
                  </a:gdLst>
                  <a:ahLst/>
                  <a:rect l="textAreaLeft" t="textAreaTop" r="textAreaRight" b="textAreaBottom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99"/>
                    </a:gs>
                  </a:gsLst>
                  <a:lin ang="18900000"/>
                </a:gradFill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69"/>
                <p:cNvSpPr/>
                <p:nvPr/>
              </p:nvSpPr>
              <p:spPr>
                <a:xfrm>
                  <a:off x="1083960" y="84240"/>
                  <a:ext cx="657000" cy="519840"/>
                </a:xfrm>
                <a:custGeom>
                  <a:avLst/>
                  <a:gdLst>
                    <a:gd name="textAreaLeft" fmla="*/ 0 w 657000"/>
                    <a:gd name="textAreaRight" fmla="*/ 657360 w 657000"/>
                    <a:gd name="textAreaTop" fmla="*/ 0 h 519840"/>
                    <a:gd name="textAreaBottom" fmla="*/ 520200 h 519840"/>
                  </a:gdLst>
                  <a:ahLst/>
                  <a:rect l="textAreaLeft" t="textAreaTop" r="textAreaRight" b="textAreaBottom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/>
                    </a:gs>
                    <a:gs pos="50000">
                      <a:srgbClr val="cc3300"/>
                    </a:gs>
                    <a:gs pos="100000">
                      <a:srgbClr val="333399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70"/>
                <p:cNvSpPr/>
                <p:nvPr/>
              </p:nvSpPr>
              <p:spPr>
                <a:xfrm rot="961200">
                  <a:off x="865080" y="-27000"/>
                  <a:ext cx="328320" cy="592560"/>
                </a:xfrm>
                <a:custGeom>
                  <a:avLst/>
                  <a:gdLst>
                    <a:gd name="textAreaLeft" fmla="*/ 0 w 328320"/>
                    <a:gd name="textAreaRight" fmla="*/ 328680 w 328320"/>
                    <a:gd name="textAreaTop" fmla="*/ 0 h 592560"/>
                    <a:gd name="textAreaBottom" fmla="*/ 592920 h 592560"/>
                  </a:gdLst>
                  <a:ahLst/>
                  <a:rect l="textAreaLeft" t="textAreaTop" r="textAreaRight" b="textAreaBottom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cc66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71"/>
                <p:cNvSpPr/>
                <p:nvPr/>
              </p:nvSpPr>
              <p:spPr>
                <a:xfrm>
                  <a:off x="1193400" y="-26280"/>
                  <a:ext cx="547560" cy="14832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72"/>
                <p:cNvSpPr/>
                <p:nvPr/>
              </p:nvSpPr>
              <p:spPr>
                <a:xfrm>
                  <a:off x="811440" y="417960"/>
                  <a:ext cx="437760" cy="333720"/>
                </a:xfrm>
                <a:custGeom>
                  <a:avLst/>
                  <a:gdLst>
                    <a:gd name="textAreaLeft" fmla="*/ 0 w 437760"/>
                    <a:gd name="textAreaRight" fmla="*/ 438120 w 43776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50000">
                      <a:srgbClr val="ff9900"/>
                    </a:gs>
                    <a:gs pos="100000">
                      <a:srgbClr val="009999"/>
                    </a:gs>
                  </a:gsLst>
                  <a:lin ang="2700000"/>
                </a:gradFill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73"/>
                <p:cNvSpPr/>
                <p:nvPr/>
              </p:nvSpPr>
              <p:spPr>
                <a:xfrm rot="1629000">
                  <a:off x="755280" y="650160"/>
                  <a:ext cx="167400" cy="135000"/>
                </a:xfrm>
                <a:custGeom>
                  <a:avLst/>
                  <a:gdLst>
                    <a:gd name="textAreaLeft" fmla="*/ 0 w 167400"/>
                    <a:gd name="textAreaRight" fmla="*/ 167760 w 1674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74"/>
                <p:cNvSpPr/>
                <p:nvPr/>
              </p:nvSpPr>
              <p:spPr>
                <a:xfrm>
                  <a:off x="1412640" y="10800"/>
                  <a:ext cx="164160" cy="36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Text Box 75"/>
                <p:cNvSpPr/>
                <p:nvPr/>
              </p:nvSpPr>
              <p:spPr>
                <a:xfrm>
                  <a:off x="1685520" y="9000"/>
                  <a:ext cx="1479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99"/>
                      </a:solidFill>
                      <a:latin typeface="Times New Roman"/>
                      <a:ea typeface="黑体"/>
                    </a:rPr>
                    <a:t>综合应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" name="Text Box 76"/>
            <p:cNvSpPr/>
            <p:nvPr/>
          </p:nvSpPr>
          <p:spPr>
            <a:xfrm>
              <a:off x="1836360" y="401040"/>
              <a:ext cx="1137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2195640" y="18111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家庭实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点燃一支香，记录香的长度和燃烧时间（每１分钟）之间的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gif1450"/>
          <p:cNvPicPr/>
          <p:nvPr/>
        </p:nvPicPr>
        <p:blipFill>
          <a:blip r:embed="rId1"/>
          <a:stretch/>
        </p:blipFill>
        <p:spPr>
          <a:xfrm>
            <a:off x="647640" y="299880"/>
            <a:ext cx="144000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20720" y="260280"/>
            <a:ext cx="8604360" cy="645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4738680" y="3270240"/>
            <a:ext cx="28440" cy="2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5761080" y="1197000"/>
            <a:ext cx="32544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044720" y="4986360"/>
            <a:ext cx="84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我们生活在一个变化的世界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很多东西都在悄悄地发生变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55640" y="181728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在圣火传递的过程中，出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哪些量？什么量在发生变化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68360" y="346032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在你成长的过程中，出现了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些量？什么量在发生变化？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755640" y="-27000"/>
            <a:ext cx="3168720" cy="162864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7237440" y="809640"/>
            <a:ext cx="1979640" cy="230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539640" y="3041640"/>
            <a:ext cx="163836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WordArt 23" descr=""/>
          <p:cNvPicPr/>
          <p:nvPr/>
        </p:nvPicPr>
        <p:blipFill>
          <a:blip r:embed="rId1"/>
          <a:stretch/>
        </p:blipFill>
        <p:spPr>
          <a:xfrm>
            <a:off x="1889280" y="2341440"/>
            <a:ext cx="698652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4"/>
          <p:cNvSpPr/>
          <p:nvPr/>
        </p:nvSpPr>
        <p:spPr>
          <a:xfrm>
            <a:off x="6084720" y="587700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071720" y="107172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章     变量之间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46" descr="图片4"/>
          <p:cNvPicPr/>
          <p:nvPr/>
        </p:nvPicPr>
        <p:blipFill>
          <a:blip r:embed="rId1"/>
          <a:stretch/>
        </p:blipFill>
        <p:spPr>
          <a:xfrm>
            <a:off x="6696000" y="5200560"/>
            <a:ext cx="3132360" cy="1284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31"/>
          <p:cNvSpPr/>
          <p:nvPr/>
        </p:nvSpPr>
        <p:spPr>
          <a:xfrm>
            <a:off x="1065240" y="15764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能从生活中举出一些发生变化的例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30"/>
          <p:cNvSpPr/>
          <p:nvPr/>
        </p:nvSpPr>
        <p:spPr>
          <a:xfrm>
            <a:off x="684360" y="3176640"/>
            <a:ext cx="8935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烧一壶水，需十分钟能将它烧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这一过程中，什么在发生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36"/>
          <p:cNvSpPr/>
          <p:nvPr/>
        </p:nvSpPr>
        <p:spPr>
          <a:xfrm>
            <a:off x="684360" y="-100080"/>
            <a:ext cx="2916000" cy="1629000"/>
          </a:xfrm>
          <a:prstGeom prst="horizontalScroll">
            <a:avLst>
              <a:gd name="adj" fmla="val 24305"/>
            </a:avLst>
          </a:prstGeom>
          <a:solidFill>
            <a:srgbClr val="cefec6"/>
          </a:solidFill>
          <a:ln w="9360">
            <a:solidFill>
              <a:srgbClr val="20c6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  <a:ea typeface="华文行楷"/>
              </a:rPr>
              <a:t>你说说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37"/>
          <p:cNvSpPr/>
          <p:nvPr/>
        </p:nvSpPr>
        <p:spPr>
          <a:xfrm>
            <a:off x="2520000" y="4761000"/>
            <a:ext cx="48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的温度随时间的变化而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答案不唯一，合理即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9144000" cy="6507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/>
          <p:cNvSpPr/>
          <p:nvPr/>
        </p:nvSpPr>
        <p:spPr>
          <a:xfrm>
            <a:off x="2087640" y="3519360"/>
            <a:ext cx="360360" cy="476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76280"/>
              <a:gd name="textAreaBottom" fmla="*/ 459000 h 476280"/>
            </a:gdLst>
            <a:ahLst/>
            <a:rect l="textAreaLeft" t="textAreaTop" r="textAreaRight" b="textAreaBottom"/>
            <a:pathLst>
              <a:path w="21600" h="28541">
                <a:moveTo>
                  <a:pt x="3600" y="0"/>
                </a:moveTo>
                <a:arcTo wR="3600" hR="3600" stAng="16200000" swAng="-5400000"/>
                <a:lnTo>
                  <a:pt x="0" y="24941"/>
                </a:lnTo>
                <a:arcTo wR="3600" hR="3600" stAng="10800000" swAng="-5400000"/>
                <a:lnTo>
                  <a:pt x="18000" y="285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 rot="387000">
            <a:off x="2304720" y="4745160"/>
            <a:ext cx="792000" cy="476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232000" y="3446640"/>
            <a:ext cx="71640" cy="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374920" y="3519360"/>
            <a:ext cx="720720" cy="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car10"/>
          <p:cNvPicPr/>
          <p:nvPr/>
        </p:nvPicPr>
        <p:blipFill>
          <a:blip r:embed="rId2"/>
          <a:stretch/>
        </p:blipFill>
        <p:spPr>
          <a:xfrm rot="675000">
            <a:off x="1874520" y="4527360"/>
            <a:ext cx="1050840" cy="703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150920" y="-81000"/>
            <a:ext cx="74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王波学习小组做了一个实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车下滑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0.63004 0.13658 E">
                                      <p:cBhvr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8" descr="Image1"/>
          <p:cNvPicPr/>
          <p:nvPr/>
        </p:nvPicPr>
        <p:blipFill>
          <a:blip r:embed="rId1"/>
          <a:stretch/>
        </p:blipFill>
        <p:spPr>
          <a:xfrm rot="21456600">
            <a:off x="995400" y="2820600"/>
            <a:ext cx="7315200" cy="3886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0"/>
          <p:cNvSpPr/>
          <p:nvPr/>
        </p:nvSpPr>
        <p:spPr>
          <a:xfrm>
            <a:off x="846000" y="142920"/>
            <a:ext cx="89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王波学习小组做了一个实验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小车下滑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847800" y="7142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个小组利用同一块木板，测量小车从不同的高度下滑的时间，然后将得到的数据填入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17600" y="1500120"/>
          <a:ext cx="9144000" cy="1889280"/>
        </p:xfrm>
        <a:graphic>
          <a:graphicData uri="http://schemas.openxmlformats.org/drawingml/2006/table">
            <a:tbl>
              <a:tblPr/>
              <a:tblGrid>
                <a:gridCol w="2593800"/>
                <a:gridCol w="789120"/>
                <a:gridCol w="604800"/>
                <a:gridCol w="604800"/>
                <a:gridCol w="603360"/>
                <a:gridCol w="604800"/>
                <a:gridCol w="695160"/>
                <a:gridCol w="660600"/>
                <a:gridCol w="603000"/>
                <a:gridCol w="605160"/>
                <a:gridCol w="7794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支撑物高度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车下滑时间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reeform 17"/>
          <p:cNvSpPr/>
          <p:nvPr/>
        </p:nvSpPr>
        <p:spPr>
          <a:xfrm>
            <a:off x="1081080" y="5365800"/>
            <a:ext cx="190440" cy="6480"/>
          </a:xfrm>
          <a:custGeom>
            <a:avLst/>
            <a:gdLst>
              <a:gd name="textAreaLeft" fmla="*/ 0 w 190440"/>
              <a:gd name="textAreaRight" fmla="*/ 190800 w 190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8"/>
          <p:cNvSpPr/>
          <p:nvPr/>
        </p:nvSpPr>
        <p:spPr>
          <a:xfrm>
            <a:off x="1081080" y="4575240"/>
            <a:ext cx="190440" cy="6120"/>
          </a:xfrm>
          <a:custGeom>
            <a:avLst/>
            <a:gdLst>
              <a:gd name="textAreaLeft" fmla="*/ 0 w 190440"/>
              <a:gd name="textAreaRight" fmla="*/ 190800 w 1904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0"/>
          <p:cNvSpPr/>
          <p:nvPr/>
        </p:nvSpPr>
        <p:spPr>
          <a:xfrm>
            <a:off x="1081080" y="2990880"/>
            <a:ext cx="190440" cy="6480"/>
          </a:xfrm>
          <a:custGeom>
            <a:avLst/>
            <a:gdLst>
              <a:gd name="textAreaLeft" fmla="*/ 0 w 190440"/>
              <a:gd name="textAreaRight" fmla="*/ 190800 w 190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2"/>
          <p:cNvSpPr/>
          <p:nvPr/>
        </p:nvSpPr>
        <p:spPr>
          <a:xfrm>
            <a:off x="1081080" y="1262160"/>
            <a:ext cx="190440" cy="6120"/>
          </a:xfrm>
          <a:custGeom>
            <a:avLst/>
            <a:gdLst>
              <a:gd name="textAreaLeft" fmla="*/ 0 w 190440"/>
              <a:gd name="textAreaRight" fmla="*/ 190800 w 1904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4" descr="car10"/>
          <p:cNvPicPr/>
          <p:nvPr/>
        </p:nvPicPr>
        <p:blipFill>
          <a:blip r:embed="rId1"/>
          <a:stretch/>
        </p:blipFill>
        <p:spPr>
          <a:xfrm rot="565800">
            <a:off x="1080720" y="3925800"/>
            <a:ext cx="934920" cy="828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10"/>
          <p:cNvPicPr/>
          <p:nvPr/>
        </p:nvPicPr>
        <p:blipFill>
          <a:blip r:embed="rId2"/>
          <a:stretch/>
        </p:blipFill>
        <p:spPr>
          <a:xfrm rot="1789800">
            <a:off x="1122120" y="2617920"/>
            <a:ext cx="1079280" cy="80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10"/>
          <p:cNvPicPr/>
          <p:nvPr/>
        </p:nvPicPr>
        <p:blipFill>
          <a:blip r:embed="rId3"/>
          <a:stretch/>
        </p:blipFill>
        <p:spPr>
          <a:xfrm rot="2738400">
            <a:off x="1054440" y="1885320"/>
            <a:ext cx="1197000" cy="795240"/>
          </a:xfrm>
          <a:prstGeom prst="rect">
            <a:avLst/>
          </a:prstGeom>
          <a:ln w="0">
            <a:noFill/>
          </a:ln>
        </p:spPr>
      </p:pic>
      <p:sp>
        <p:nvSpPr>
          <p:cNvPr id="169" name="Line 15"/>
          <p:cNvSpPr/>
          <p:nvPr/>
        </p:nvSpPr>
        <p:spPr>
          <a:xfrm>
            <a:off x="1008000" y="676440"/>
            <a:ext cx="0" cy="5516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9"/>
          <p:cNvSpPr/>
          <p:nvPr/>
        </p:nvSpPr>
        <p:spPr>
          <a:xfrm>
            <a:off x="1081080" y="3782880"/>
            <a:ext cx="190440" cy="6480"/>
          </a:xfrm>
          <a:custGeom>
            <a:avLst/>
            <a:gdLst>
              <a:gd name="textAreaLeft" fmla="*/ 0 w 190440"/>
              <a:gd name="textAreaRight" fmla="*/ 190800 w 190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9"/>
          <p:cNvSpPr/>
          <p:nvPr/>
        </p:nvSpPr>
        <p:spPr>
          <a:xfrm>
            <a:off x="1081080" y="2125800"/>
            <a:ext cx="3382920" cy="40320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081080" y="4575240"/>
            <a:ext cx="5904000" cy="15825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081080" y="2990880"/>
            <a:ext cx="4392720" cy="31669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1008000" y="6221520"/>
            <a:ext cx="846000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1"/>
          <p:cNvSpPr/>
          <p:nvPr/>
        </p:nvSpPr>
        <p:spPr>
          <a:xfrm>
            <a:off x="1081080" y="2125800"/>
            <a:ext cx="190440" cy="6120"/>
          </a:xfrm>
          <a:custGeom>
            <a:avLst/>
            <a:gdLst>
              <a:gd name="textAreaLeft" fmla="*/ 0 w 190440"/>
              <a:gd name="textAreaRight" fmla="*/ 190800 w 1904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20" h="4">
                <a:moveTo>
                  <a:pt x="0" y="0"/>
                </a:moveTo>
                <a:lnTo>
                  <a:pt x="120" y="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WordArt 39" descr=""/>
          <p:cNvPicPr/>
          <p:nvPr/>
        </p:nvPicPr>
        <p:blipFill>
          <a:blip r:embed="rId4"/>
          <a:stretch/>
        </p:blipFill>
        <p:spPr>
          <a:xfrm>
            <a:off x="3809880" y="1042920"/>
            <a:ext cx="4700880" cy="2200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0"/>
          <p:cNvSpPr/>
          <p:nvPr/>
        </p:nvSpPr>
        <p:spPr>
          <a:xfrm>
            <a:off x="576360" y="5222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649440" y="608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578520" y="4357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3"/>
          <p:cNvSpPr/>
          <p:nvPr/>
        </p:nvSpPr>
        <p:spPr>
          <a:xfrm>
            <a:off x="578520" y="363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78520" y="277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399240" y="19098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464760" y="830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9" descr="Boy7"/>
          <p:cNvPicPr/>
          <p:nvPr/>
        </p:nvPicPr>
        <p:blipFill>
          <a:blip r:embed="rId5"/>
          <a:stretch/>
        </p:blipFill>
        <p:spPr>
          <a:xfrm>
            <a:off x="7705800" y="4997520"/>
            <a:ext cx="1834920" cy="1122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4" descr="BJ_040"/>
          <p:cNvPicPr/>
          <p:nvPr/>
        </p:nvPicPr>
        <p:blipFill>
          <a:blip r:embed="rId6"/>
          <a:stretch/>
        </p:blipFill>
        <p:spPr>
          <a:xfrm>
            <a:off x="6754680" y="200160"/>
            <a:ext cx="278604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57483 0.21018 E">
                                      <p:cBhvr>
                                        <p:cTn id="115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83237E-006 L 0.41684 0.40508 E">
                                      <p:cBhvr>
                                        <p:cTn id="13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-0.00185 L 0.3 0.49954 E">
                                      <p:cBhvr>
                                        <p:cTn id="15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7" descr="图片4"/>
          <p:cNvPicPr/>
          <p:nvPr/>
        </p:nvPicPr>
        <p:blipFill>
          <a:blip r:embed="rId1"/>
          <a:stretch/>
        </p:blipFill>
        <p:spPr>
          <a:xfrm>
            <a:off x="6408720" y="5300640"/>
            <a:ext cx="3419640" cy="1498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988920" y="45720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王波学习小组得到的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92000" y="1125360"/>
          <a:ext cx="8809200" cy="1227240"/>
        </p:xfrm>
        <a:graphic>
          <a:graphicData uri="http://schemas.openxmlformats.org/drawingml/2006/table">
            <a:tbl>
              <a:tblPr/>
              <a:tblGrid>
                <a:gridCol w="1727280"/>
                <a:gridCol w="604800"/>
                <a:gridCol w="762120"/>
                <a:gridCol w="685800"/>
                <a:gridCol w="685800"/>
                <a:gridCol w="685800"/>
                <a:gridCol w="762120"/>
                <a:gridCol w="761760"/>
                <a:gridCol w="762120"/>
                <a:gridCol w="685800"/>
                <a:gridCol w="68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efec6"/>
                    </a:solidFill>
                  </a:tcPr>
                </a:tc>
              </a:tr>
            </a:tbl>
          </a:graphicData>
        </a:graphic>
      </p:graphicFrame>
      <p:sp>
        <p:nvSpPr>
          <p:cNvPr id="189" name="Rectangle 41"/>
          <p:cNvSpPr/>
          <p:nvPr/>
        </p:nvSpPr>
        <p:spPr>
          <a:xfrm>
            <a:off x="934920" y="3429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支撑物高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时，小车下滑时间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2"/>
          <p:cNvSpPr/>
          <p:nvPr/>
        </p:nvSpPr>
        <p:spPr>
          <a:xfrm>
            <a:off x="934920" y="400536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支撑物高度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小车下滑时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逐渐变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化趋势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3"/>
          <p:cNvSpPr/>
          <p:nvPr/>
        </p:nvSpPr>
        <p:spPr>
          <a:xfrm>
            <a:off x="934920" y="5084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变化情况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4"/>
          <p:cNvSpPr/>
          <p:nvPr/>
        </p:nvSpPr>
        <p:spPr>
          <a:xfrm>
            <a:off x="2117520" y="566100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估计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=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是多少，你是怎样估计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5"/>
          <p:cNvSpPr/>
          <p:nvPr/>
        </p:nvSpPr>
        <p:spPr>
          <a:xfrm>
            <a:off x="2475000" y="1916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6"/>
          <p:cNvSpPr/>
          <p:nvPr/>
        </p:nvSpPr>
        <p:spPr>
          <a:xfrm>
            <a:off x="8929800" y="1916280"/>
            <a:ext cx="68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7"/>
          <p:cNvSpPr/>
          <p:nvPr/>
        </p:nvSpPr>
        <p:spPr>
          <a:xfrm>
            <a:off x="8282160" y="1916280"/>
            <a:ext cx="68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8"/>
          <p:cNvSpPr/>
          <p:nvPr/>
        </p:nvSpPr>
        <p:spPr>
          <a:xfrm>
            <a:off x="7489800" y="1916280"/>
            <a:ext cx="762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9"/>
          <p:cNvSpPr/>
          <p:nvPr/>
        </p:nvSpPr>
        <p:spPr>
          <a:xfrm>
            <a:off x="6697800" y="1916280"/>
            <a:ext cx="76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0"/>
          <p:cNvSpPr/>
          <p:nvPr/>
        </p:nvSpPr>
        <p:spPr>
          <a:xfrm>
            <a:off x="5977080" y="1916280"/>
            <a:ext cx="76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1"/>
          <p:cNvSpPr/>
          <p:nvPr/>
        </p:nvSpPr>
        <p:spPr>
          <a:xfrm>
            <a:off x="5257800" y="1916280"/>
            <a:ext cx="68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2"/>
          <p:cNvSpPr/>
          <p:nvPr/>
        </p:nvSpPr>
        <p:spPr>
          <a:xfrm>
            <a:off x="4608360" y="1916280"/>
            <a:ext cx="68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3"/>
          <p:cNvSpPr/>
          <p:nvPr/>
        </p:nvSpPr>
        <p:spPr>
          <a:xfrm>
            <a:off x="3889440" y="1916280"/>
            <a:ext cx="68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4"/>
          <p:cNvSpPr/>
          <p:nvPr/>
        </p:nvSpPr>
        <p:spPr>
          <a:xfrm>
            <a:off x="3168720" y="1916280"/>
            <a:ext cx="761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1888200" y="285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表回答下列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956520" y="1125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支撑物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9"/>
          <p:cNvSpPr/>
          <p:nvPr/>
        </p:nvSpPr>
        <p:spPr>
          <a:xfrm>
            <a:off x="684360" y="1773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车下滑时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1"/>
          <p:cNvSpPr/>
          <p:nvPr/>
        </p:nvSpPr>
        <p:spPr>
          <a:xfrm>
            <a:off x="1295280" y="1413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幼圆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3"/>
          <p:cNvSpPr/>
          <p:nvPr/>
        </p:nvSpPr>
        <p:spPr>
          <a:xfrm>
            <a:off x="1369440" y="203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00"/>
          <p:cNvGrpSpPr/>
          <p:nvPr/>
        </p:nvGrpSpPr>
        <p:grpSpPr>
          <a:xfrm>
            <a:off x="2735280" y="2349360"/>
            <a:ext cx="792000" cy="584280"/>
            <a:chOff x="2735280" y="2349360"/>
            <a:chExt cx="792000" cy="584280"/>
          </a:xfrm>
        </p:grpSpPr>
        <p:sp>
          <p:nvSpPr>
            <p:cNvPr id="209" name="AutoShape 75"/>
            <p:cNvSpPr/>
            <p:nvPr/>
          </p:nvSpPr>
          <p:spPr>
            <a:xfrm rot="16200000">
              <a:off x="2915280" y="2169360"/>
              <a:ext cx="216000" cy="576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273528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01"/>
          <p:cNvGrpSpPr/>
          <p:nvPr/>
        </p:nvGrpSpPr>
        <p:grpSpPr>
          <a:xfrm>
            <a:off x="3454560" y="2349360"/>
            <a:ext cx="792000" cy="584280"/>
            <a:chOff x="3454560" y="2349360"/>
            <a:chExt cx="792000" cy="584280"/>
          </a:xfrm>
        </p:grpSpPr>
        <p:sp>
          <p:nvSpPr>
            <p:cNvPr id="212" name="AutoShape 76"/>
            <p:cNvSpPr/>
            <p:nvPr/>
          </p:nvSpPr>
          <p:spPr>
            <a:xfrm rot="16200000">
              <a:off x="3672000" y="2205000"/>
              <a:ext cx="216000" cy="504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6"/>
            <p:cNvSpPr/>
            <p:nvPr/>
          </p:nvSpPr>
          <p:spPr>
            <a:xfrm>
              <a:off x="345456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02"/>
          <p:cNvGrpSpPr/>
          <p:nvPr/>
        </p:nvGrpSpPr>
        <p:grpSpPr>
          <a:xfrm>
            <a:off x="4175280" y="2349360"/>
            <a:ext cx="792000" cy="584280"/>
            <a:chOff x="4175280" y="2349360"/>
            <a:chExt cx="792000" cy="584280"/>
          </a:xfrm>
        </p:grpSpPr>
        <p:sp>
          <p:nvSpPr>
            <p:cNvPr id="215" name="AutoShape 77"/>
            <p:cNvSpPr/>
            <p:nvPr/>
          </p:nvSpPr>
          <p:spPr>
            <a:xfrm rot="16200000">
              <a:off x="4390920" y="2204640"/>
              <a:ext cx="216000" cy="505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960 h 505080"/>
                <a:gd name="textAreaBottom" fmla="*/ 492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87"/>
            <p:cNvSpPr/>
            <p:nvPr/>
          </p:nvSpPr>
          <p:spPr>
            <a:xfrm>
              <a:off x="417528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04"/>
          <p:cNvGrpSpPr/>
          <p:nvPr/>
        </p:nvGrpSpPr>
        <p:grpSpPr>
          <a:xfrm>
            <a:off x="4822920" y="2349360"/>
            <a:ext cx="792000" cy="584280"/>
            <a:chOff x="4822920" y="2349360"/>
            <a:chExt cx="792000" cy="584280"/>
          </a:xfrm>
        </p:grpSpPr>
        <p:sp>
          <p:nvSpPr>
            <p:cNvPr id="218" name="AutoShape 79"/>
            <p:cNvSpPr/>
            <p:nvPr/>
          </p:nvSpPr>
          <p:spPr>
            <a:xfrm rot="16200000">
              <a:off x="5111280" y="2205000"/>
              <a:ext cx="216000" cy="504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88"/>
            <p:cNvSpPr/>
            <p:nvPr/>
          </p:nvSpPr>
          <p:spPr>
            <a:xfrm>
              <a:off x="482292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05"/>
          <p:cNvGrpSpPr/>
          <p:nvPr/>
        </p:nvGrpSpPr>
        <p:grpSpPr>
          <a:xfrm>
            <a:off x="5614920" y="2349360"/>
            <a:ext cx="792000" cy="584280"/>
            <a:chOff x="5614920" y="2349360"/>
            <a:chExt cx="792000" cy="584280"/>
          </a:xfrm>
        </p:grpSpPr>
        <p:sp>
          <p:nvSpPr>
            <p:cNvPr id="221" name="AutoShape 80"/>
            <p:cNvSpPr/>
            <p:nvPr/>
          </p:nvSpPr>
          <p:spPr>
            <a:xfrm rot="16200000">
              <a:off x="5795640" y="2168280"/>
              <a:ext cx="216000" cy="5778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4760 h 577800"/>
                <a:gd name="textAreaBottom" fmla="*/ 563040 h 57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9"/>
            <p:cNvSpPr/>
            <p:nvPr/>
          </p:nvSpPr>
          <p:spPr>
            <a:xfrm>
              <a:off x="561492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6"/>
          <p:cNvGrpSpPr/>
          <p:nvPr/>
        </p:nvGrpSpPr>
        <p:grpSpPr>
          <a:xfrm>
            <a:off x="6335640" y="2349360"/>
            <a:ext cx="792000" cy="584280"/>
            <a:chOff x="6335640" y="2349360"/>
            <a:chExt cx="792000" cy="584280"/>
          </a:xfrm>
        </p:grpSpPr>
        <p:sp>
          <p:nvSpPr>
            <p:cNvPr id="224" name="AutoShape 81"/>
            <p:cNvSpPr/>
            <p:nvPr/>
          </p:nvSpPr>
          <p:spPr>
            <a:xfrm rot="16200000">
              <a:off x="6586920" y="2169000"/>
              <a:ext cx="216000" cy="5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0"/>
            <p:cNvSpPr/>
            <p:nvPr/>
          </p:nvSpPr>
          <p:spPr>
            <a:xfrm>
              <a:off x="633564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07"/>
          <p:cNvGrpSpPr/>
          <p:nvPr/>
        </p:nvGrpSpPr>
        <p:grpSpPr>
          <a:xfrm>
            <a:off x="7128000" y="2349000"/>
            <a:ext cx="863640" cy="584640"/>
            <a:chOff x="7128000" y="2349000"/>
            <a:chExt cx="863640" cy="584640"/>
          </a:xfrm>
        </p:grpSpPr>
        <p:sp>
          <p:nvSpPr>
            <p:cNvPr id="227" name="AutoShape 82"/>
            <p:cNvSpPr/>
            <p:nvPr/>
          </p:nvSpPr>
          <p:spPr>
            <a:xfrm rot="16200000">
              <a:off x="7308000" y="2169000"/>
              <a:ext cx="287640" cy="64764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1"/>
            <p:cNvSpPr/>
            <p:nvPr/>
          </p:nvSpPr>
          <p:spPr>
            <a:xfrm>
              <a:off x="719964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8"/>
          <p:cNvGrpSpPr/>
          <p:nvPr/>
        </p:nvGrpSpPr>
        <p:grpSpPr>
          <a:xfrm>
            <a:off x="7846920" y="2349360"/>
            <a:ext cx="792000" cy="584280"/>
            <a:chOff x="7846920" y="2349360"/>
            <a:chExt cx="792000" cy="584280"/>
          </a:xfrm>
        </p:grpSpPr>
        <p:sp>
          <p:nvSpPr>
            <p:cNvPr id="230" name="AutoShape 83"/>
            <p:cNvSpPr/>
            <p:nvPr/>
          </p:nvSpPr>
          <p:spPr>
            <a:xfrm rot="16200000">
              <a:off x="8026920" y="2169360"/>
              <a:ext cx="216000" cy="576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92"/>
            <p:cNvSpPr/>
            <p:nvPr/>
          </p:nvSpPr>
          <p:spPr>
            <a:xfrm>
              <a:off x="784692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09"/>
          <p:cNvGrpSpPr/>
          <p:nvPr/>
        </p:nvGrpSpPr>
        <p:grpSpPr>
          <a:xfrm>
            <a:off x="8567640" y="2349360"/>
            <a:ext cx="792000" cy="584280"/>
            <a:chOff x="8567640" y="2349360"/>
            <a:chExt cx="792000" cy="584280"/>
          </a:xfrm>
        </p:grpSpPr>
        <p:sp>
          <p:nvSpPr>
            <p:cNvPr id="233" name="AutoShape 84"/>
            <p:cNvSpPr/>
            <p:nvPr/>
          </p:nvSpPr>
          <p:spPr>
            <a:xfrm rot="16200000">
              <a:off x="8747640" y="2169360"/>
              <a:ext cx="216000" cy="576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37"/>
                  </a:lnTo>
                  <a:cubicBezTo>
                    <a:pt x="10800" y="10837"/>
                    <a:pt x="5400" y="11737"/>
                    <a:pt x="0" y="11737"/>
                  </a:cubicBezTo>
                  <a:cubicBezTo>
                    <a:pt x="5400" y="11737"/>
                    <a:pt x="10800" y="12637"/>
                    <a:pt x="10800" y="135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3"/>
            <p:cNvSpPr/>
            <p:nvPr/>
          </p:nvSpPr>
          <p:spPr>
            <a:xfrm>
              <a:off x="8567640" y="256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AutoShape 77"/>
          <p:cNvSpPr/>
          <p:nvPr/>
        </p:nvSpPr>
        <p:spPr>
          <a:xfrm>
            <a:off x="7128000" y="458136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4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18:32Z</dcterms:created>
  <dc:creator>刘芝蕴</dc:creator>
  <dc:description/>
  <dc:language>en-US</dc:language>
  <cp:lastModifiedBy>User</cp:lastModifiedBy>
  <dcterms:modified xsi:type="dcterms:W3CDTF">2014-03-12T10:20:00Z</dcterms:modified>
  <cp:revision>110</cp:revision>
  <dc:subject/>
  <dc:title>小车下滑的时间</dc:title>
</cp:coreProperties>
</file>