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22.wmf" ContentType="image/x-wmf"/>
  <Override PartName="/ppt/media/camera.wav" ContentType="audio/x-wav"/>
  <Override PartName="/ppt/media/image21.png" ContentType="image/png"/>
  <Override PartName="/ppt/media/image19.gif" ContentType="image/gif"/>
  <Override PartName="/ppt/media/image10.png" ContentType="image/png"/>
  <Override PartName="/ppt/media/image23.png" ContentType="image/png"/>
  <Override PartName="/ppt/media/image18.gif" ContentType="image/gif"/>
  <Override PartName="/ppt/media/image20.gif" ContentType="image/gif"/>
  <Override PartName="/ppt/media/image17.png" ContentType="image/png"/>
  <Override PartName="/ppt/media/image15.gif" ContentType="image/gif"/>
  <Override PartName="/ppt/media/image3.jpeg" ContentType="image/jpe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5BA-EED0-43C9-BB04-E920B8A4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B48-4023-4973-9827-4374C485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62B-D24B-4A71-8BC2-C14B35DA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AAE-966B-4AE4-8C28-7DDA5BED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ACB-9183-4386-A7EB-2E18777E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9716-135D-4FF4-9FB5-1E57D766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A576-3F06-4FBA-9068-B15DC7CF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0257-DBC4-4784-AD7E-99D1669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2F6-452D-4DE5-ADCA-0CF61E0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F9F9-AC1D-489B-88F4-FA6A354F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E29-453B-4925-B709-578EABD4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0B8-4C68-4C27-96DA-323FA13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1A4-BFCD-4A82-8A12-9B4F626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8BE-30D9-4860-8F1B-CFBD3B25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947A-4E7B-48D8-812F-277E3A42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785-3610-424D-87DB-43A8A596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9E5-E607-4D39-9B1E-4EDC7AF5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8FC4-472D-4932-8350-CF4E9430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6BC2-D3E2-4425-8BEE-77864C7A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30CA-8F43-4AC7-B5F2-BDE1475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9CDB-5129-4FBE-AD27-BF5DF8F2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15FD-B0B1-4D57-B92C-91B9587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FE0-0815-4388-995D-9469868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9AA1C-BAFF-4604-A4F4-79E13F3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37AE-8E7B-42D8-A344-92429CA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14A6-B320-4E32-BF68-F502F81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9DB8-B86C-43D4-8265-199BF0C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4C42-8DCB-4FC8-BC2F-FB7799FF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DFD7-FB75-4B30-A07B-93308F47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CBBE-9C99-4749-B210-8D349808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3559-68CA-478B-B7BC-4C7CA9A7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C57E-BEBD-43E1-8A65-D7242E54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CA55-BF5E-45AE-BB28-F782A797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B52-B700-4A44-99D6-4A313164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1986-A8A5-4259-A587-055D3F44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79B1-8BAD-4B8A-BE34-3EBBA96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A9C7-92E0-433B-826B-66A74CD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4C82-43B2-4FF6-BAFD-60E8F77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5B6D-B44E-490D-9BA9-4C67F33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50AB-2C0D-4FE1-A040-EB7582B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69AD-4D72-4C44-A711-6709410A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0444C-C238-4134-9C6A-537160F6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7814-88E5-4740-BF54-99F4E948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B64-5CC2-4470-84BA-8DA6A2CA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3BA-2F77-4E60-A2E6-617D578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DFD-70A3-4465-A05D-B2524D2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108-5E00-4EC7-9BAD-CCFA509A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21-4396-4793-8E2E-69C6B72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6F9-A6A6-4D2E-83E0-AAC4309E9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1EA7-D5E6-46E4-87D3-F6F6E2ED2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FAB-1B43-4CC4-B86D-749A723B3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CE1D-137C-4470-80DE-3F748AC49F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DOCUME~1/ADMINI~1/LOCALS~1/Temp/Rar$DI14.485/&#40863;&#20820;&#36187;&#36305;1.swf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600200" y="2057400"/>
            <a:ext cx="60958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四章  复习与回顾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Picture 5" descr="0(3)"/>
          <p:cNvPicPr/>
          <p:nvPr/>
        </p:nvPicPr>
        <p:blipFill>
          <a:blip r:embed="rId3"/>
          <a:stretch/>
        </p:blipFill>
        <p:spPr>
          <a:xfrm>
            <a:off x="1514520" y="333360"/>
            <a:ext cx="2158920" cy="179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915840" y="10666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=20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6560" y="1916280"/>
          <a:ext cx="6800760" cy="1546200"/>
        </p:xfrm>
        <a:graphic>
          <a:graphicData uri="http://schemas.openxmlformats.org/drawingml/2006/table">
            <a:tbl>
              <a:tblPr/>
              <a:tblGrid>
                <a:gridCol w="1905120"/>
                <a:gridCol w="552240"/>
                <a:gridCol w="685800"/>
                <a:gridCol w="609840"/>
                <a:gridCol w="761760"/>
                <a:gridCol w="762120"/>
                <a:gridCol w="762120"/>
                <a:gridCol w="76176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t(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时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水量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(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米</a:t>
                      </a:r>
                      <a:r>
                        <a:rPr b="1" lang="en-US" sz="2800" spc="-1" strike="noStrike" baseline="30000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 Box 34"/>
          <p:cNvSpPr/>
          <p:nvPr/>
        </p:nvSpPr>
        <p:spPr>
          <a:xfrm>
            <a:off x="1143000" y="50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当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逐渐增加时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在逐渐增加，因为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正整数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975600" y="1752480"/>
            <a:ext cx="9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946800" y="37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143000" y="3716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把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V=100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米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代入关系式，得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000=20t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解 得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=50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时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8" descr="32_899_1"/>
          <p:cNvPicPr/>
          <p:nvPr/>
        </p:nvPicPr>
        <p:blipFill>
          <a:blip r:embed="rId1"/>
          <a:stretch/>
        </p:blipFill>
        <p:spPr>
          <a:xfrm>
            <a:off x="6326280" y="333360"/>
            <a:ext cx="2149560" cy="14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917640" y="92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心理学家发现，学生对概念的接受能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提出概念所用的时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单位：分）之间有如下关系（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≤x≤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12720" y="1066680"/>
          <a:ext cx="9064800" cy="1600200"/>
        </p:xfrm>
        <a:graphic>
          <a:graphicData uri="http://schemas.openxmlformats.org/drawingml/2006/table">
            <a:tbl>
              <a:tblPr/>
              <a:tblGrid>
                <a:gridCol w="2511360"/>
                <a:gridCol w="685800"/>
                <a:gridCol w="685800"/>
                <a:gridCol w="762120"/>
                <a:gridCol w="609480"/>
                <a:gridCol w="838440"/>
                <a:gridCol w="838080"/>
                <a:gridCol w="762120"/>
                <a:gridCol w="761760"/>
                <a:gridCol w="609840"/>
              </a:tblGrid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出概念所用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概念的接受能力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40"/>
          <p:cNvSpPr/>
          <p:nvPr/>
        </p:nvSpPr>
        <p:spPr>
          <a:xfrm>
            <a:off x="612720" y="2749680"/>
            <a:ext cx="8991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上表中反映了哪两个变量之间的关系？哪个是自变量？哪个是因变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当提出概念所用时间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钟时，学生的接受能力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根据表格中的数据，你认为提出概念几分钟时，学生的接受能力最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从表格中可知，当时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什么范围内，学生的接受能力逐步增强？当时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什么范围内，学生的接受能力逐步降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5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表格大致估计当时间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钟时，学生对概念的接受能力是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204920" y="1197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提出概念所用的时间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对概念接受能力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两个变量，其中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是自变量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是因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059840" y="62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773360" y="3860640"/>
            <a:ext cx="54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分钟至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分钟时，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分钟至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319400" y="306864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220040" y="2349360"/>
            <a:ext cx="13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agf127"/>
          <p:cNvPicPr/>
          <p:nvPr/>
        </p:nvPicPr>
        <p:blipFill>
          <a:blip r:embed="rId1"/>
          <a:stretch/>
        </p:blipFill>
        <p:spPr>
          <a:xfrm>
            <a:off x="6676920" y="4581360"/>
            <a:ext cx="2390760" cy="1959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92880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甲、乙两人（甲骑自行车，乙骑摩托车）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出发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旅行。如图表示甲、乙两人离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的路程与时间之间关系的图像。根据图像，你能得到关于甲、乙两人旅行的那些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23880" y="1981080"/>
            <a:ext cx="388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答题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请至少提供四条信息。如，由图像可知：甲比乙早出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时（或乙比甲迟出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时）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甲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城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城的平均速度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2.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千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请不要再提供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中已列举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357800" y="1676520"/>
            <a:ext cx="5472000" cy="4590000"/>
            <a:chOff x="4357800" y="1676520"/>
            <a:chExt cx="5472000" cy="4590000"/>
          </a:xfrm>
        </p:grpSpPr>
        <p:grpSp>
          <p:nvGrpSpPr>
            <p:cNvPr id="288" name="Group 7"/>
            <p:cNvGrpSpPr/>
            <p:nvPr/>
          </p:nvGrpSpPr>
          <p:grpSpPr>
            <a:xfrm>
              <a:off x="4357800" y="1913040"/>
              <a:ext cx="4952880" cy="4253040"/>
              <a:chOff x="4357800" y="1913040"/>
              <a:chExt cx="4952880" cy="4253040"/>
            </a:xfrm>
          </p:grpSpPr>
          <p:pic>
            <p:nvPicPr>
              <p:cNvPr id="289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7800" y="1913040"/>
                <a:ext cx="4647960" cy="425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Line 9"/>
              <p:cNvSpPr/>
              <p:nvPr/>
            </p:nvSpPr>
            <p:spPr>
              <a:xfrm flipV="1">
                <a:off x="5119560" y="1913040"/>
                <a:ext cx="0" cy="373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0"/>
              <p:cNvSpPr/>
              <p:nvPr/>
            </p:nvSpPr>
            <p:spPr>
              <a:xfrm>
                <a:off x="5119560" y="5646960"/>
                <a:ext cx="419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11"/>
            <p:cNvSpPr/>
            <p:nvPr/>
          </p:nvSpPr>
          <p:spPr>
            <a:xfrm>
              <a:off x="5310360" y="167652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路程（千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2"/>
            <p:cNvSpPr/>
            <p:nvPr/>
          </p:nvSpPr>
          <p:spPr>
            <a:xfrm>
              <a:off x="6681960" y="2438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摩托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8129520" y="25909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自行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7900920" y="586764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时间（小时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143000" y="106668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本次旅行甲用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甲比乙晚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甲出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后走了全程的一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990720" y="29718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对本章内容以及你所收集的材料中还有哪些疑问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5"/>
          <p:cNvSpPr txBox="1"/>
          <p:nvPr/>
        </p:nvSpPr>
        <p:spPr>
          <a:xfrm>
            <a:off x="1219320" y="609480"/>
            <a:ext cx="2590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质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4"/>
          <p:cNvSpPr txBox="1"/>
          <p:nvPr/>
        </p:nvSpPr>
        <p:spPr>
          <a:xfrm>
            <a:off x="971640" y="907920"/>
            <a:ext cx="3276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课堂小结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9072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Times New Roman"/>
              </a:rPr>
              <a:t>学习了本章后，你有哪些收获和体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anp073"/>
          <p:cNvPicPr/>
          <p:nvPr/>
        </p:nvPicPr>
        <p:blipFill>
          <a:blip r:embed="rId1"/>
          <a:stretch/>
        </p:blipFill>
        <p:spPr>
          <a:xfrm>
            <a:off x="5940360" y="4221000"/>
            <a:ext cx="2185920" cy="212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295280" y="15238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．知识目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顾总结表示变量之间的方法，学会用变量之间关系的各种形式分析变量之间的关系，并作出预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．能力目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常量的世界走入变量的世界，开始接触一种新的思维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运动变化的观点去认识数学对象，发展符号感和抽象思维。发展有条理的思考和进行表达的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．情感目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从运动变化的角度解释生活中的数学现象，体验成就感，获得学习的快乐，发展对数学更高层次的认识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5" descr=""/>
          <p:cNvPicPr/>
          <p:nvPr/>
        </p:nvPicPr>
        <p:blipFill>
          <a:blip r:embed="rId1"/>
          <a:stretch/>
        </p:blipFill>
        <p:spPr>
          <a:xfrm>
            <a:off x="901800" y="444600"/>
            <a:ext cx="2536560" cy="73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WordArt 4" descr=""/>
          <p:cNvPicPr/>
          <p:nvPr/>
        </p:nvPicPr>
        <p:blipFill>
          <a:blip r:embed="rId1"/>
          <a:stretch/>
        </p:blipFill>
        <p:spPr>
          <a:xfrm>
            <a:off x="901800" y="291960"/>
            <a:ext cx="2122560" cy="5065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905120" y="914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内容、方法等方面构建本章知识体系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6" descr=""/>
          <p:cNvPicPr/>
          <p:nvPr/>
        </p:nvPicPr>
        <p:blipFill>
          <a:blip r:embed="rId2"/>
          <a:stretch/>
        </p:blipFill>
        <p:spPr>
          <a:xfrm>
            <a:off x="901800" y="1663560"/>
            <a:ext cx="2122560" cy="506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1905120" y="2438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灵活运用所学知识解决实际问题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WordArt 8" descr=""/>
          <p:cNvPicPr/>
          <p:nvPr/>
        </p:nvPicPr>
        <p:blipFill>
          <a:blip r:embed="rId3"/>
          <a:stretch/>
        </p:blipFill>
        <p:spPr>
          <a:xfrm>
            <a:off x="1133640" y="3492360"/>
            <a:ext cx="2122200" cy="5065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3733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、交流、探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WordArt 10" descr=""/>
          <p:cNvPicPr/>
          <p:nvPr/>
        </p:nvPicPr>
        <p:blipFill>
          <a:blip r:embed="rId4"/>
          <a:stretch/>
        </p:blipFill>
        <p:spPr>
          <a:xfrm>
            <a:off x="1133640" y="4334040"/>
            <a:ext cx="2122200" cy="506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1"/>
          <p:cNvSpPr/>
          <p:nvPr/>
        </p:nvSpPr>
        <p:spPr>
          <a:xfrm>
            <a:off x="3809880" y="4191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媒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WordArt 12" descr=""/>
          <p:cNvPicPr/>
          <p:nvPr/>
        </p:nvPicPr>
        <p:blipFill>
          <a:blip r:embed="rId5"/>
          <a:stretch/>
        </p:blipFill>
        <p:spPr>
          <a:xfrm>
            <a:off x="1133640" y="5248440"/>
            <a:ext cx="2122200" cy="506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3733920" y="51814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生准备材料；多媒体课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image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600200"/>
            <a:ext cx="3733920" cy="3586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2003961239963590"/>
          <p:cNvPicPr/>
          <p:nvPr/>
        </p:nvPicPr>
        <p:blipFill>
          <a:blip r:embed="rId3"/>
          <a:stretch/>
        </p:blipFill>
        <p:spPr>
          <a:xfrm>
            <a:off x="1219320" y="457200"/>
            <a:ext cx="152388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FOfficeDoc1"/>
          <p:cNvGraphicFramePr/>
          <p:nvPr/>
        </p:nvGraphicFramePr>
        <p:xfrm>
          <a:off x="876240" y="571680"/>
          <a:ext cx="8496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571680"/>
                    <a:ext cx="8496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219320" y="609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熟知的龟兔赛跑的故事：骄傲的兔子比赛途中睡了一觉，结果输掉了比赛。能反映这场比赛中路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时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关系的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33520" y="3276720"/>
            <a:ext cx="2438280" cy="2517120"/>
            <a:chOff x="533520" y="3276720"/>
            <a:chExt cx="2438280" cy="2517120"/>
          </a:xfrm>
        </p:grpSpPr>
        <p:sp>
          <p:nvSpPr>
            <p:cNvPr id="193" name="Line 6"/>
            <p:cNvSpPr/>
            <p:nvPr/>
          </p:nvSpPr>
          <p:spPr>
            <a:xfrm>
              <a:off x="1295640" y="4953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"/>
            <p:cNvSpPr/>
            <p:nvPr/>
          </p:nvSpPr>
          <p:spPr>
            <a:xfrm flipV="1">
              <a:off x="1295640" y="35816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1295640" y="4114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2667240" y="495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9907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533520" y="381024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终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V="1">
              <a:off x="1295640" y="4114440"/>
              <a:ext cx="1066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 flipV="1">
              <a:off x="1295640" y="441972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1600200" y="441972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V="1">
              <a:off x="2057400" y="4114800"/>
              <a:ext cx="5335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6"/>
            <p:cNvSpPr/>
            <p:nvPr/>
          </p:nvSpPr>
          <p:spPr>
            <a:xfrm>
              <a:off x="1905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Line 17"/>
          <p:cNvSpPr/>
          <p:nvPr/>
        </p:nvSpPr>
        <p:spPr>
          <a:xfrm>
            <a:off x="3352680" y="4952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 flipV="1">
            <a:off x="3352680" y="3504960"/>
            <a:ext cx="0" cy="14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0481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6668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终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4572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335268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3352680" y="40384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335268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5"/>
          <p:cNvSpPr/>
          <p:nvPr/>
        </p:nvSpPr>
        <p:spPr>
          <a:xfrm>
            <a:off x="35812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6"/>
          <p:cNvSpPr/>
          <p:nvPr/>
        </p:nvSpPr>
        <p:spPr>
          <a:xfrm flipV="1">
            <a:off x="4191120" y="40384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38862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8"/>
          <p:cNvGrpSpPr/>
          <p:nvPr/>
        </p:nvGrpSpPr>
        <p:grpSpPr>
          <a:xfrm>
            <a:off x="4724280" y="3048120"/>
            <a:ext cx="2286000" cy="2669400"/>
            <a:chOff x="4724280" y="3048120"/>
            <a:chExt cx="2286000" cy="2669400"/>
          </a:xfrm>
        </p:grpSpPr>
        <p:sp>
          <p:nvSpPr>
            <p:cNvPr id="216" name="Text Box 29"/>
            <p:cNvSpPr/>
            <p:nvPr/>
          </p:nvSpPr>
          <p:spPr>
            <a:xfrm>
              <a:off x="655308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4724280" y="35049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终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1"/>
            <p:cNvSpPr/>
            <p:nvPr/>
          </p:nvSpPr>
          <p:spPr>
            <a:xfrm>
              <a:off x="502884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2"/>
            <p:cNvGrpSpPr/>
            <p:nvPr/>
          </p:nvGrpSpPr>
          <p:grpSpPr>
            <a:xfrm>
              <a:off x="5333760" y="3429000"/>
              <a:ext cx="1523880" cy="1599840"/>
              <a:chOff x="5333760" y="3429000"/>
              <a:chExt cx="1523880" cy="1599840"/>
            </a:xfrm>
          </p:grpSpPr>
          <p:sp>
            <p:nvSpPr>
              <p:cNvPr id="220" name="Line 33"/>
              <p:cNvSpPr/>
              <p:nvPr/>
            </p:nvSpPr>
            <p:spPr>
              <a:xfrm>
                <a:off x="5333760" y="502884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34"/>
              <p:cNvSpPr/>
              <p:nvPr/>
            </p:nvSpPr>
            <p:spPr>
              <a:xfrm flipV="1">
                <a:off x="5333760" y="342900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35"/>
              <p:cNvSpPr/>
              <p:nvPr/>
            </p:nvSpPr>
            <p:spPr>
              <a:xfrm>
                <a:off x="5333760" y="4038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 flipV="1">
                <a:off x="5333760" y="403776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 flipH="1">
                <a:off x="5333760" y="4723920"/>
                <a:ext cx="533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>
                <a:off x="5867280" y="4723920"/>
                <a:ext cx="1522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 flipV="1">
                <a:off x="6019560" y="4038120"/>
                <a:ext cx="30492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40"/>
            <p:cNvSpPr/>
            <p:nvPr/>
          </p:nvSpPr>
          <p:spPr>
            <a:xfrm>
              <a:off x="586728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1"/>
          <p:cNvGrpSpPr/>
          <p:nvPr/>
        </p:nvGrpSpPr>
        <p:grpSpPr>
          <a:xfrm>
            <a:off x="6781680" y="3200400"/>
            <a:ext cx="2286000" cy="2745720"/>
            <a:chOff x="6781680" y="3200400"/>
            <a:chExt cx="2286000" cy="2745720"/>
          </a:xfrm>
        </p:grpSpPr>
        <p:sp>
          <p:nvSpPr>
            <p:cNvPr id="229" name="Text Box 42"/>
            <p:cNvSpPr/>
            <p:nvPr/>
          </p:nvSpPr>
          <p:spPr>
            <a:xfrm>
              <a:off x="7086240" y="3200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3"/>
            <p:cNvSpPr/>
            <p:nvPr/>
          </p:nvSpPr>
          <p:spPr>
            <a:xfrm>
              <a:off x="6781680" y="3657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终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4"/>
            <p:cNvSpPr/>
            <p:nvPr/>
          </p:nvSpPr>
          <p:spPr>
            <a:xfrm>
              <a:off x="8610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45"/>
            <p:cNvGrpSpPr/>
            <p:nvPr/>
          </p:nvGrpSpPr>
          <p:grpSpPr>
            <a:xfrm>
              <a:off x="7391160" y="3580920"/>
              <a:ext cx="1523880" cy="1600560"/>
              <a:chOff x="7391160" y="3580920"/>
              <a:chExt cx="1523880" cy="1600560"/>
            </a:xfrm>
          </p:grpSpPr>
          <p:sp>
            <p:nvSpPr>
              <p:cNvPr id="233" name="Line 46"/>
              <p:cNvSpPr/>
              <p:nvPr/>
            </p:nvSpPr>
            <p:spPr>
              <a:xfrm>
                <a:off x="7391160" y="518148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V="1">
                <a:off x="7391160" y="358092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7391160" y="4191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V="1">
                <a:off x="7391160" y="4190760"/>
                <a:ext cx="121932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50"/>
              <p:cNvSpPr/>
              <p:nvPr/>
            </p:nvSpPr>
            <p:spPr>
              <a:xfrm flipV="1">
                <a:off x="7391160" y="480060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51"/>
              <p:cNvSpPr/>
              <p:nvPr/>
            </p:nvSpPr>
            <p:spPr>
              <a:xfrm>
                <a:off x="7619760" y="48006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52"/>
              <p:cNvSpPr/>
              <p:nvPr/>
            </p:nvSpPr>
            <p:spPr>
              <a:xfrm flipV="1">
                <a:off x="8153280" y="4190760"/>
                <a:ext cx="2286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53"/>
            <p:cNvSpPr/>
            <p:nvPr/>
          </p:nvSpPr>
          <p:spPr>
            <a:xfrm>
              <a:off x="79246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54"/>
          <p:cNvSpPr/>
          <p:nvPr/>
        </p:nvSpPr>
        <p:spPr>
          <a:xfrm>
            <a:off x="64771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5"/>
          <p:cNvSpPr/>
          <p:nvPr/>
        </p:nvSpPr>
        <p:spPr>
          <a:xfrm>
            <a:off x="708660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6" descr="mbk010"/>
          <p:cNvPicPr/>
          <p:nvPr/>
        </p:nvPicPr>
        <p:blipFill>
          <a:blip r:embed="rId1"/>
          <a:stretch/>
        </p:blipFill>
        <p:spPr>
          <a:xfrm>
            <a:off x="533520" y="0"/>
            <a:ext cx="17269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371600" y="2209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可以用什么方法表示变量之间的关系？请举例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295280" y="3581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举出生活中一个变量随另一个变量变化而变化的例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2716200" y="69228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849040" y="50007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请拿出你们所收集到的材料来交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agf423"/>
          <p:cNvPicPr/>
          <p:nvPr/>
        </p:nvPicPr>
        <p:blipFill>
          <a:blip r:embed="rId3"/>
          <a:stretch/>
        </p:blipFill>
        <p:spPr>
          <a:xfrm>
            <a:off x="628560" y="260280"/>
            <a:ext cx="1754280" cy="16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"/>
          <p:cNvGrpSpPr/>
          <p:nvPr/>
        </p:nvGrpSpPr>
        <p:grpSpPr>
          <a:xfrm>
            <a:off x="1219320" y="380880"/>
            <a:ext cx="8305200" cy="5105520"/>
            <a:chOff x="1219320" y="380880"/>
            <a:chExt cx="8305200" cy="5105520"/>
          </a:xfrm>
        </p:grpSpPr>
        <p:sp>
          <p:nvSpPr>
            <p:cNvPr id="250" name="Text Box 5"/>
            <p:cNvSpPr/>
            <p:nvPr/>
          </p:nvSpPr>
          <p:spPr>
            <a:xfrm>
              <a:off x="1447560" y="16761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丰富的现实情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2590560" y="21333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523880" y="32004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变量及其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1219320" y="495288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利用变量之间的关系解决问题、进行预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5715000" y="152388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自变量和因变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5638680" y="297180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变量之间关系的探索和表示（表格、关系式、图像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5486400" y="4952880"/>
              <a:ext cx="40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分析用表格、关系式、图像所表示的变量之间的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2590560" y="373356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504960" y="3429000"/>
              <a:ext cx="205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4724280" y="1752480"/>
              <a:ext cx="83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5"/>
            <p:cNvSpPr/>
            <p:nvPr/>
          </p:nvSpPr>
          <p:spPr>
            <a:xfrm>
              <a:off x="3008160" y="380880"/>
              <a:ext cx="3580920" cy="1143000"/>
            </a:xfrm>
            <a:custGeom>
              <a:avLst/>
              <a:gdLst>
                <a:gd name="textAreaLeft" fmla="*/ 895320 w 3580920"/>
                <a:gd name="textAreaRight" fmla="*/ 2685960 w 3580920"/>
                <a:gd name="textAreaTop" fmla="*/ 285840 h 1143000"/>
                <a:gd name="textAreaBottom" fmla="*/ 11091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4724280" y="1752480"/>
              <a:ext cx="0" cy="373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4724280" y="5486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3944880" y="85716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本章框架图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19" descr="mbk006"/>
          <p:cNvPicPr/>
          <p:nvPr/>
        </p:nvPicPr>
        <p:blipFill>
          <a:blip r:embed="rId1"/>
          <a:stretch/>
        </p:blipFill>
        <p:spPr>
          <a:xfrm>
            <a:off x="762120" y="1371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mbk006"/>
          <p:cNvPicPr/>
          <p:nvPr/>
        </p:nvPicPr>
        <p:blipFill>
          <a:blip r:embed="rId2"/>
          <a:stretch/>
        </p:blipFill>
        <p:spPr>
          <a:xfrm>
            <a:off x="76212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mbk006"/>
          <p:cNvPicPr/>
          <p:nvPr/>
        </p:nvPicPr>
        <p:blipFill>
          <a:blip r:embed="rId3"/>
          <a:stretch/>
        </p:blipFill>
        <p:spPr>
          <a:xfrm>
            <a:off x="685800" y="4876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838080" y="579600"/>
            <a:ext cx="84582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蓄水池开始蓄水，每时进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设蓄水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蓄水时间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的关系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表格表示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（每次增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相应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蓄水池最大蓄水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需要多长时间能蓄满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逐渐增加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变化？说说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40_muguet"/>
          <p:cNvPicPr/>
          <p:nvPr/>
        </p:nvPicPr>
        <p:blipFill>
          <a:blip r:embed="rId1"/>
          <a:stretch/>
        </p:blipFill>
        <p:spPr>
          <a:xfrm>
            <a:off x="7086600" y="4998960"/>
            <a:ext cx="2133720" cy="170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2T10:2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