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wmf" ContentType="image/x-wmf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970-DFA9-4DF4-A0E6-AA53DFBB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C81-DE24-4AAC-8CD6-CA64EAC9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149-BBA7-4DB7-B088-2E42CC60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B8D-6621-4FD0-A024-42E3AAEC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9514-C28F-4289-9EE8-FBAB5FF6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E005-B1C8-41A0-95CE-CFD21369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2981-44CF-4362-9622-3A17211B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F9DB-800B-43CA-9C49-4E0EDD36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7AA6-2735-4014-B630-25AA635E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3C64-04F1-4EEB-B862-9ACFF525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26AB-2F41-4119-B35E-56C13138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C76-FE29-48A5-8727-DED13C73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FAAC-9C47-4BA8-B9F7-0DF28DE3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A838-AAC2-45A9-BDE4-4A0CE733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48B3-8D84-47A4-9236-DF40969B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D277-08EE-429C-A1F7-BB56E9CF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5119-BE1D-4C65-816D-3275BB60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00B2-9E46-4354-AFCD-13414559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BCD1-D75A-43A2-B668-D576BD77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C8CC-38DF-440F-B748-6A3A3BE0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D37E-E119-4305-ADB1-81F5DE2F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7AD3-E17E-496F-8CE3-1E790A2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EB5-CE64-4AE8-832E-91A82D80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89AB-CC15-4957-AEBA-4F21421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E7330-2823-4817-8E28-DBEB4B5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23B2-C6AA-45F3-BE80-387E4E68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C5AB-0F6A-4162-9092-45D604E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6D81-66DB-41AE-8FBC-CBBF1C5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340E-700B-4185-890A-E0D04E2F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EDB8-DEB3-4A86-A49E-D5AB48B9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2257-6726-4DF4-8C10-A158AA92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DD749-CAE9-461C-980A-6C103AD6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EAC5C-B09B-4197-B5A3-FAB9B141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562-20D2-4607-9CD8-F321BA63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571D-4730-41E3-A9F9-51233FCB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5D91-0D41-448B-AD2B-657013FB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9E25-09EB-49FC-8905-1FE60F27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BE9E-39A8-460D-9BAF-01784713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D243E-698A-4C71-B0D3-6857460C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46E6-F78B-4CBD-BC6D-73A109A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EF35-061D-400F-B469-F894ECB6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C6683-99EA-410C-8094-14D820D1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45B87-47B1-45E6-B2B5-506ACE35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227-8DA3-44AF-9073-9E6400FD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675-0B92-426B-8ECF-2A98F35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CE0-4B63-46A3-BCC6-4D06CDD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040-EE6C-4523-A453-6054E9D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C9E-48EC-4FDF-87CD-05863F81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335B-9373-4766-9A1F-CD696B0C6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5DE4-5C31-49CC-B135-68595FD78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49A0-DE14-4DBB-84E2-45FECEB4FA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47ED-6002-49E4-A508-7EB6D1C31A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1699920"/>
            <a:ext cx="6624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5.3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简单的轴对称图形（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2"/>
          <p:cNvSpPr/>
          <p:nvPr/>
        </p:nvSpPr>
        <p:spPr>
          <a:xfrm>
            <a:off x="3029040" y="6253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腰三角形是轴对称图形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找出它的对称轴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4235760" y="2206800"/>
            <a:ext cx="3035160" cy="3983040"/>
            <a:chOff x="4235760" y="2206800"/>
            <a:chExt cx="3035160" cy="3983040"/>
          </a:xfrm>
        </p:grpSpPr>
        <p:sp>
          <p:nvSpPr>
            <p:cNvPr id="223" name="AutoShape 36"/>
            <p:cNvSpPr/>
            <p:nvPr/>
          </p:nvSpPr>
          <p:spPr>
            <a:xfrm>
              <a:off x="4248000" y="2225520"/>
              <a:ext cx="2971440" cy="342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Group 37"/>
            <p:cNvGrpSpPr/>
            <p:nvPr/>
          </p:nvGrpSpPr>
          <p:grpSpPr>
            <a:xfrm>
              <a:off x="4267080" y="2206800"/>
              <a:ext cx="2971080" cy="3428640"/>
              <a:chOff x="4267080" y="2206800"/>
              <a:chExt cx="2971080" cy="3428640"/>
            </a:xfrm>
          </p:grpSpPr>
          <p:sp>
            <p:nvSpPr>
              <p:cNvPr id="225" name="Line 38"/>
              <p:cNvSpPr/>
              <p:nvPr/>
            </p:nvSpPr>
            <p:spPr>
              <a:xfrm flipV="1">
                <a:off x="4267080" y="2206800"/>
                <a:ext cx="1447560" cy="3428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5714640" y="2206800"/>
                <a:ext cx="1523520" cy="3428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40"/>
            <p:cNvGrpSpPr/>
            <p:nvPr/>
          </p:nvGrpSpPr>
          <p:grpSpPr>
            <a:xfrm>
              <a:off x="4255560" y="3749760"/>
              <a:ext cx="3015360" cy="627120"/>
              <a:chOff x="4255560" y="3749760"/>
              <a:chExt cx="3015360" cy="627120"/>
            </a:xfrm>
          </p:grpSpPr>
          <p:sp>
            <p:nvSpPr>
              <p:cNvPr id="228" name="Rectangle 41"/>
              <p:cNvSpPr/>
              <p:nvPr/>
            </p:nvSpPr>
            <p:spPr>
              <a:xfrm>
                <a:off x="6846480" y="37954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4865e2"/>
                    </a:solidFill>
                    <a:latin typeface="华文新魏"/>
                    <a:ea typeface="华文新魏"/>
                  </a:rPr>
                  <a:t>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4255560" y="37497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4865e2"/>
                    </a:solidFill>
                    <a:latin typeface="华文新魏"/>
                    <a:ea typeface="华文新魏"/>
                  </a:rPr>
                  <a:t>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Rectangle 43"/>
            <p:cNvSpPr/>
            <p:nvPr/>
          </p:nvSpPr>
          <p:spPr>
            <a:xfrm>
              <a:off x="5391000" y="2987640"/>
              <a:ext cx="483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顶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4248000" y="5654520"/>
              <a:ext cx="297144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5"/>
            <p:cNvSpPr/>
            <p:nvPr/>
          </p:nvSpPr>
          <p:spPr>
            <a:xfrm>
              <a:off x="5238720" y="560844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504d"/>
                  </a:solidFill>
                  <a:latin typeface="华文新魏"/>
                  <a:ea typeface="华文新魏"/>
                </a:rPr>
                <a:t>底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46"/>
            <p:cNvGrpSpPr/>
            <p:nvPr/>
          </p:nvGrpSpPr>
          <p:grpSpPr>
            <a:xfrm>
              <a:off x="4718520" y="4892760"/>
              <a:ext cx="1963440" cy="581400"/>
              <a:chOff x="4718520" y="4892760"/>
              <a:chExt cx="1963440" cy="581400"/>
            </a:xfrm>
          </p:grpSpPr>
          <p:sp>
            <p:nvSpPr>
              <p:cNvPr id="234" name="Rectangle 47"/>
              <p:cNvSpPr/>
              <p:nvPr/>
            </p:nvSpPr>
            <p:spPr>
              <a:xfrm>
                <a:off x="6013440" y="48927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800080"/>
                    </a:solidFill>
                    <a:latin typeface="华文新魏"/>
                    <a:ea typeface="华文新魏"/>
                  </a:rPr>
                  <a:t>底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48"/>
              <p:cNvSpPr/>
              <p:nvPr/>
            </p:nvSpPr>
            <p:spPr>
              <a:xfrm>
                <a:off x="4718520" y="48927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800080"/>
                    </a:solidFill>
                    <a:latin typeface="华文新魏"/>
                    <a:ea typeface="华文新魏"/>
                  </a:rPr>
                  <a:t>底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Text Box 49"/>
            <p:cNvSpPr/>
            <p:nvPr/>
          </p:nvSpPr>
          <p:spPr>
            <a:xfrm rot="16554600">
              <a:off x="5307480" y="2273760"/>
              <a:ext cx="6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50"/>
            <p:cNvGrpSpPr/>
            <p:nvPr/>
          </p:nvGrpSpPr>
          <p:grpSpPr>
            <a:xfrm>
              <a:off x="4235760" y="4951800"/>
              <a:ext cx="2947320" cy="891360"/>
              <a:chOff x="4235760" y="4951800"/>
              <a:chExt cx="2947320" cy="891360"/>
            </a:xfrm>
          </p:grpSpPr>
          <p:sp>
            <p:nvSpPr>
              <p:cNvPr id="238" name="Text Box 51"/>
              <p:cNvSpPr/>
              <p:nvPr/>
            </p:nvSpPr>
            <p:spPr>
              <a:xfrm rot="20161200">
                <a:off x="4343040" y="50320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91b81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Text Box 52"/>
              <p:cNvSpPr/>
              <p:nvPr/>
            </p:nvSpPr>
            <p:spPr>
              <a:xfrm rot="12847800">
                <a:off x="6514920" y="5105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91b81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WordArt 54"/>
          <p:cNvSpPr txBox="1"/>
          <p:nvPr/>
        </p:nvSpPr>
        <p:spPr>
          <a:xfrm>
            <a:off x="819000" y="549360"/>
            <a:ext cx="19814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1" name="Line 55"/>
          <p:cNvSpPr/>
          <p:nvPr/>
        </p:nvSpPr>
        <p:spPr>
          <a:xfrm>
            <a:off x="5734080" y="1844640"/>
            <a:ext cx="0" cy="4572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2"/>
          <p:cNvSpPr/>
          <p:nvPr/>
        </p:nvSpPr>
        <p:spPr>
          <a:xfrm>
            <a:off x="782640" y="124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等腰三角形是轴对称图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782640" y="19810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等腰三角形顶角的平分线、底边上的中线、底边上的高重合（</a:t>
            </a: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也称为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三线合一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），它们所在的直线就是等腰三角形的对称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782640" y="48006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等腰三角形的</a:t>
            </a: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两个底角相等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26"/>
          <p:cNvGrpSpPr/>
          <p:nvPr/>
        </p:nvGrpSpPr>
        <p:grpSpPr>
          <a:xfrm>
            <a:off x="5949360" y="1371600"/>
            <a:ext cx="3585240" cy="3964320"/>
            <a:chOff x="5949360" y="1371600"/>
            <a:chExt cx="3585240" cy="3964320"/>
          </a:xfrm>
        </p:grpSpPr>
        <p:sp>
          <p:nvSpPr>
            <p:cNvPr id="246" name="AutoShape 27"/>
            <p:cNvSpPr/>
            <p:nvPr/>
          </p:nvSpPr>
          <p:spPr>
            <a:xfrm>
              <a:off x="6345360" y="1752840"/>
              <a:ext cx="2819160" cy="3047760"/>
            </a:xfrm>
            <a:prstGeom prst="triangle">
              <a:avLst>
                <a:gd name="adj" fmla="val 48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7716960" y="1752840"/>
              <a:ext cx="0" cy="30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>
              <a:off x="7487640" y="4754520"/>
              <a:ext cx="48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>
              <a:off x="7256880" y="137160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>
              <a:off x="5949360" y="434340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9094680" y="434340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33"/>
            <p:cNvSpPr/>
            <p:nvPr/>
          </p:nvSpPr>
          <p:spPr>
            <a:xfrm>
              <a:off x="7718760" y="236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34"/>
            <p:cNvSpPr/>
            <p:nvPr/>
          </p:nvSpPr>
          <p:spPr>
            <a:xfrm>
              <a:off x="7387920" y="236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WordArt 35"/>
          <p:cNvSpPr txBox="1"/>
          <p:nvPr/>
        </p:nvSpPr>
        <p:spPr>
          <a:xfrm>
            <a:off x="2535120" y="533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等腰三角形的特征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1208160" y="692280"/>
            <a:ext cx="7467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边都相等的三角形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等边三角形（也叫正三角形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27"/>
          <p:cNvSpPr/>
          <p:nvPr/>
        </p:nvSpPr>
        <p:spPr>
          <a:xfrm>
            <a:off x="1284120" y="18352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边三角形是轴对称图形，它有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称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028"/>
          <p:cNvSpPr/>
          <p:nvPr/>
        </p:nvSpPr>
        <p:spPr>
          <a:xfrm>
            <a:off x="1360440" y="2978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边三角形三个内角都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等于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6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029"/>
          <p:cNvSpPr/>
          <p:nvPr/>
        </p:nvSpPr>
        <p:spPr>
          <a:xfrm>
            <a:off x="3951360" y="3816360"/>
            <a:ext cx="2971800" cy="2209680"/>
          </a:xfrm>
          <a:prstGeom prst="triangle">
            <a:avLst>
              <a:gd name="adj" fmla="val 4861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030"/>
          <p:cNvSpPr/>
          <p:nvPr/>
        </p:nvSpPr>
        <p:spPr>
          <a:xfrm>
            <a:off x="5398920" y="3587760"/>
            <a:ext cx="0" cy="3048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031"/>
          <p:cNvSpPr/>
          <p:nvPr/>
        </p:nvSpPr>
        <p:spPr>
          <a:xfrm flipV="1">
            <a:off x="3570120" y="4578480"/>
            <a:ext cx="3124440" cy="16761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32"/>
          <p:cNvSpPr/>
          <p:nvPr/>
        </p:nvSpPr>
        <p:spPr>
          <a:xfrm flipH="1" flipV="1">
            <a:off x="3951000" y="4578120"/>
            <a:ext cx="3276360" cy="16002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/>
          <p:cNvSpPr/>
          <p:nvPr/>
        </p:nvSpPr>
        <p:spPr>
          <a:xfrm>
            <a:off x="703440" y="74520"/>
            <a:ext cx="2895480" cy="1447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WordArt 3"/>
          <p:cNvSpPr txBox="1"/>
          <p:nvPr/>
        </p:nvSpPr>
        <p:spPr>
          <a:xfrm>
            <a:off x="1084320" y="45576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latin typeface="华文新魏"/>
              </a:rPr>
              <a:t>练一练</a:t>
            </a:r>
            <a:endParaRPr b="1" lang="en-US" sz="60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>
                  <a:alpha val="50000"/>
                </a:srgbClr>
              </a:solidFill>
              <a:latin typeface="华文新魏"/>
              <a:ea typeface="华文新魏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160640" y="137016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如图， 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等腰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顶角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100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底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 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5950080" y="2665440"/>
            <a:ext cx="3731400" cy="3934440"/>
            <a:chOff x="5950080" y="2665440"/>
            <a:chExt cx="3731400" cy="3934440"/>
          </a:xfrm>
        </p:grpSpPr>
        <p:sp>
          <p:nvSpPr>
            <p:cNvPr id="266" name="AutoShape 5"/>
            <p:cNvSpPr/>
            <p:nvPr/>
          </p:nvSpPr>
          <p:spPr>
            <a:xfrm>
              <a:off x="6418440" y="3046680"/>
              <a:ext cx="3047760" cy="3047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5950080" y="578988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8013600" y="26654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9241560" y="601848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1427040" y="3046320"/>
            <a:ext cx="567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=72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1312920" y="4513320"/>
            <a:ext cx="472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等腰△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有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角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外两个角分别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887640" y="403704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6425280" y="23796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4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3567960" y="236052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4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770040" y="820800"/>
            <a:ext cx="71625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在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∵AD⊥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∴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= ∠_____;____=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∵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中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⊥____; ∠_____= ∠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∵ 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角平分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⊥____;_____=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22"/>
          <p:cNvGrpSpPr/>
          <p:nvPr/>
        </p:nvGrpSpPr>
        <p:grpSpPr>
          <a:xfrm>
            <a:off x="6769080" y="762120"/>
            <a:ext cx="2915640" cy="3787200"/>
            <a:chOff x="6769080" y="762120"/>
            <a:chExt cx="2915640" cy="3787200"/>
          </a:xfrm>
        </p:grpSpPr>
        <p:sp>
          <p:nvSpPr>
            <p:cNvPr id="277" name="Text Box 6"/>
            <p:cNvSpPr/>
            <p:nvPr/>
          </p:nvSpPr>
          <p:spPr>
            <a:xfrm>
              <a:off x="6769080" y="3906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Group 9"/>
            <p:cNvGrpSpPr/>
            <p:nvPr/>
          </p:nvGrpSpPr>
          <p:grpSpPr>
            <a:xfrm>
              <a:off x="7094520" y="762120"/>
              <a:ext cx="2590200" cy="3769920"/>
              <a:chOff x="7094520" y="762120"/>
              <a:chExt cx="2590200" cy="3769920"/>
            </a:xfrm>
          </p:grpSpPr>
          <p:sp>
            <p:nvSpPr>
              <p:cNvPr id="279" name="AutoShape 3"/>
              <p:cNvSpPr/>
              <p:nvPr/>
            </p:nvSpPr>
            <p:spPr>
              <a:xfrm>
                <a:off x="7094520" y="1219320"/>
                <a:ext cx="2285640" cy="28191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4"/>
              <p:cNvSpPr/>
              <p:nvPr/>
            </p:nvSpPr>
            <p:spPr>
              <a:xfrm>
                <a:off x="8237160" y="1239840"/>
                <a:ext cx="0" cy="2819520"/>
              </a:xfrm>
              <a:prstGeom prst="line">
                <a:avLst/>
              </a:prstGeom>
              <a:ln cap="sq"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5"/>
              <p:cNvSpPr/>
              <p:nvPr/>
            </p:nvSpPr>
            <p:spPr>
              <a:xfrm>
                <a:off x="8237160" y="762120"/>
                <a:ext cx="68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Text Box 7"/>
              <p:cNvSpPr/>
              <p:nvPr/>
            </p:nvSpPr>
            <p:spPr>
              <a:xfrm>
                <a:off x="9075600" y="388944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Text Box 8"/>
              <p:cNvSpPr/>
              <p:nvPr/>
            </p:nvSpPr>
            <p:spPr>
              <a:xfrm>
                <a:off x="8008560" y="388944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Text Box 10"/>
          <p:cNvSpPr/>
          <p:nvPr/>
        </p:nvSpPr>
        <p:spPr>
          <a:xfrm>
            <a:off x="166356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3249720" y="2316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4579920" y="23162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5646600" y="2306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1317600" y="3760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2592360" y="37688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3997440" y="37400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5694480" y="37749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1365120" y="52023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639880" y="52023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3741840" y="5222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4884840" y="522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3"/>
          <p:cNvSpPr/>
          <p:nvPr/>
        </p:nvSpPr>
        <p:spPr>
          <a:xfrm>
            <a:off x="976320" y="74916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上的两点，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P=PQ=QC=AP=AQ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求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度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12"/>
          <p:cNvGrpSpPr/>
          <p:nvPr/>
        </p:nvGrpSpPr>
        <p:grpSpPr>
          <a:xfrm>
            <a:off x="1371600" y="1940040"/>
            <a:ext cx="6553080" cy="2829960"/>
            <a:chOff x="1371600" y="1940040"/>
            <a:chExt cx="6553080" cy="2829960"/>
          </a:xfrm>
        </p:grpSpPr>
        <p:sp>
          <p:nvSpPr>
            <p:cNvPr id="298" name="Text Box 9"/>
            <p:cNvSpPr/>
            <p:nvPr/>
          </p:nvSpPr>
          <p:spPr>
            <a:xfrm>
              <a:off x="3532320" y="41274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11"/>
            <p:cNvGrpSpPr/>
            <p:nvPr/>
          </p:nvGrpSpPr>
          <p:grpSpPr>
            <a:xfrm>
              <a:off x="1371600" y="1940040"/>
              <a:ext cx="6553080" cy="2796480"/>
              <a:chOff x="1371600" y="1940040"/>
              <a:chExt cx="6553080" cy="2796480"/>
            </a:xfrm>
          </p:grpSpPr>
          <p:sp>
            <p:nvSpPr>
              <p:cNvPr id="300" name="AutoShape 4"/>
              <p:cNvSpPr/>
              <p:nvPr/>
            </p:nvSpPr>
            <p:spPr>
              <a:xfrm>
                <a:off x="1814400" y="2465280"/>
                <a:ext cx="5562720" cy="175212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AutoShape 5"/>
              <p:cNvSpPr/>
              <p:nvPr/>
            </p:nvSpPr>
            <p:spPr>
              <a:xfrm>
                <a:off x="3720960" y="2506320"/>
                <a:ext cx="1730520" cy="171108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6"/>
              <p:cNvSpPr/>
              <p:nvPr/>
            </p:nvSpPr>
            <p:spPr>
              <a:xfrm>
                <a:off x="4405320" y="19400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 Box 7"/>
              <p:cNvSpPr/>
              <p:nvPr/>
            </p:nvSpPr>
            <p:spPr>
              <a:xfrm>
                <a:off x="1371600" y="3892320"/>
                <a:ext cx="50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8"/>
              <p:cNvSpPr/>
              <p:nvPr/>
            </p:nvSpPr>
            <p:spPr>
              <a:xfrm>
                <a:off x="7391520" y="38430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Text Box 10"/>
              <p:cNvSpPr/>
              <p:nvPr/>
            </p:nvSpPr>
            <p:spPr>
              <a:xfrm>
                <a:off x="5181480" y="409392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1327320" y="1379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同学们，学了这节课你最想说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2241720" y="235728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认识了等腰三角形和等边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等腰三角形是轴对称图形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等腰三角形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线合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等腰三角形的两个底角相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1022400" y="191520"/>
            <a:ext cx="1981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谈一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9" descr="RWBBALL"/>
          <p:cNvPicPr/>
          <p:nvPr/>
        </p:nvPicPr>
        <p:blipFill>
          <a:blip r:embed="rId1"/>
          <a:stretch/>
        </p:blipFill>
        <p:spPr>
          <a:xfrm>
            <a:off x="622440" y="29700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1535040" y="1219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开发区新建了两片住宅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区（如图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要从煤气主管道的一个地方建立一个接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向这两个小区供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接口应建在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才能使得所用管道最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4" descr="C:\Program Files\Common Files\Microsoft Shared\Clipart\cagcat50\BL00381_.wmf"/>
          <p:cNvPicPr/>
          <p:nvPr/>
        </p:nvPicPr>
        <p:blipFill>
          <a:blip r:embed="rId1"/>
          <a:stretch/>
        </p:blipFill>
        <p:spPr>
          <a:xfrm>
            <a:off x="6335640" y="3276720"/>
            <a:ext cx="914400" cy="633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C:\Program Files\Common Files\Microsoft Shared\Clipart\cagcat50\BL00381_.wmf"/>
          <p:cNvPicPr/>
          <p:nvPr/>
        </p:nvPicPr>
        <p:blipFill>
          <a:blip r:embed="rId2"/>
          <a:stretch/>
        </p:blipFill>
        <p:spPr>
          <a:xfrm>
            <a:off x="3135240" y="4038480"/>
            <a:ext cx="1022400" cy="621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"/>
          <p:cNvSpPr/>
          <p:nvPr/>
        </p:nvSpPr>
        <p:spPr>
          <a:xfrm>
            <a:off x="4049640" y="3581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小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7174080" y="28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小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1"/>
          <p:cNvSpPr/>
          <p:nvPr/>
        </p:nvSpPr>
        <p:spPr>
          <a:xfrm>
            <a:off x="7021440" y="5410080"/>
            <a:ext cx="2590920" cy="381240"/>
          </a:xfrm>
          <a:prstGeom prst="cloudCallout">
            <a:avLst>
              <a:gd name="adj1" fmla="val -43013"/>
              <a:gd name="adj2" fmla="val 8999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煤气主管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WordArt 16"/>
          <p:cNvSpPr txBox="1"/>
          <p:nvPr/>
        </p:nvSpPr>
        <p:spPr>
          <a:xfrm>
            <a:off x="620640" y="76320"/>
            <a:ext cx="3505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latin typeface="宋体"/>
              </a:rPr>
              <a:t>请你出谋划策</a:t>
            </a:r>
            <a:endParaRPr b="0" lang="en-US" sz="36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1916280" y="5943600"/>
            <a:ext cx="67053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1916280" y="6227640"/>
            <a:ext cx="67053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1811160" y="5826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0611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8461440" y="58532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0611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8"/>
          <p:cNvSpPr/>
          <p:nvPr/>
        </p:nvSpPr>
        <p:spPr>
          <a:xfrm rot="10905600">
            <a:off x="1514160" y="588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0611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19"/>
          <p:cNvGraphicFramePr/>
          <p:nvPr/>
        </p:nvGraphicFramePr>
        <p:xfrm>
          <a:off x="2335320" y="2897280"/>
          <a:ext cx="2514600" cy="24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5320" y="2897280"/>
                    <a:ext cx="251460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3"/>
          <p:cNvSpPr/>
          <p:nvPr/>
        </p:nvSpPr>
        <p:spPr>
          <a:xfrm>
            <a:off x="3706920" y="16318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图中的对称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1192320" y="458640"/>
            <a:ext cx="2819160" cy="1371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1630440" y="763560"/>
            <a:ext cx="1847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找一找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6450120" y="2820960"/>
            <a:ext cx="2514600" cy="1828800"/>
            <a:chOff x="6450120" y="2820960"/>
            <a:chExt cx="2514600" cy="1828800"/>
          </a:xfrm>
        </p:grpSpPr>
        <p:sp>
          <p:nvSpPr>
            <p:cNvPr id="180" name="Line 7"/>
            <p:cNvSpPr/>
            <p:nvPr/>
          </p:nvSpPr>
          <p:spPr>
            <a:xfrm>
              <a:off x="6450120" y="464976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 flipV="1">
              <a:off x="6450120" y="2820960"/>
              <a:ext cx="18288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Line 11"/>
          <p:cNvSpPr/>
          <p:nvPr/>
        </p:nvSpPr>
        <p:spPr>
          <a:xfrm>
            <a:off x="3535200" y="2287440"/>
            <a:ext cx="0" cy="3733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V="1">
            <a:off x="5688000" y="3658680"/>
            <a:ext cx="312408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1839960" y="2954160"/>
            <a:ext cx="3352680" cy="2019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1"/>
          <p:cNvSpPr/>
          <p:nvPr/>
        </p:nvSpPr>
        <p:spPr>
          <a:xfrm flipH="1" flipV="1">
            <a:off x="2087640" y="3068640"/>
            <a:ext cx="3124080" cy="196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1905120" y="1066680"/>
            <a:ext cx="1828800" cy="281952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5486400" y="213372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2590920" y="4495680"/>
            <a:ext cx="4495680" cy="12193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914400" y="9446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两条边相等的三角形叫做</a:t>
            </a:r>
            <a:r>
              <a:rPr b="1" lang="zh-CN" sz="3200" spc="-1" strike="noStrike" u="sng">
                <a:solidFill>
                  <a:srgbClr val="1f497d"/>
                </a:solidFill>
                <a:uFillTx/>
                <a:latin typeface="华文新魏"/>
                <a:ea typeface="华文新魏"/>
              </a:rPr>
              <a:t>等腰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2666880" y="2209680"/>
            <a:ext cx="2971800" cy="342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0"/>
          <p:cNvGrpSpPr/>
          <p:nvPr/>
        </p:nvGrpSpPr>
        <p:grpSpPr>
          <a:xfrm>
            <a:off x="2685960" y="2190240"/>
            <a:ext cx="2971800" cy="3429360"/>
            <a:chOff x="2685960" y="2190240"/>
            <a:chExt cx="2971800" cy="3429360"/>
          </a:xfrm>
        </p:grpSpPr>
        <p:sp>
          <p:nvSpPr>
            <p:cNvPr id="192" name="Line 7"/>
            <p:cNvSpPr/>
            <p:nvPr/>
          </p:nvSpPr>
          <p:spPr>
            <a:xfrm flipV="1">
              <a:off x="2685960" y="2190240"/>
              <a:ext cx="1447920" cy="3429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4133880" y="2190600"/>
              <a:ext cx="1523880" cy="3429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2674440" y="3733920"/>
            <a:ext cx="3015360" cy="627120"/>
            <a:chOff x="2674440" y="3733920"/>
            <a:chExt cx="3015360" cy="627120"/>
          </a:xfrm>
        </p:grpSpPr>
        <p:sp>
          <p:nvSpPr>
            <p:cNvPr id="195" name="Rectangle 11"/>
            <p:cNvSpPr/>
            <p:nvPr/>
          </p:nvSpPr>
          <p:spPr>
            <a:xfrm>
              <a:off x="5265360" y="3779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865e2"/>
                  </a:solidFill>
                  <a:latin typeface="华文新魏"/>
                  <a:ea typeface="华文新魏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674440" y="37339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865e2"/>
                  </a:solidFill>
                  <a:latin typeface="华文新魏"/>
                  <a:ea typeface="华文新魏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Rectangle 22"/>
          <p:cNvSpPr/>
          <p:nvPr/>
        </p:nvSpPr>
        <p:spPr>
          <a:xfrm>
            <a:off x="3809880" y="2971800"/>
            <a:ext cx="48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顶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2666880" y="5638680"/>
            <a:ext cx="2971800" cy="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657600" y="5592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华文新魏"/>
                <a:ea typeface="华文新魏"/>
              </a:rPr>
              <a:t>底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36"/>
          <p:cNvGrpSpPr/>
          <p:nvPr/>
        </p:nvGrpSpPr>
        <p:grpSpPr>
          <a:xfrm>
            <a:off x="3137400" y="4876920"/>
            <a:ext cx="1963800" cy="581400"/>
            <a:chOff x="3137400" y="4876920"/>
            <a:chExt cx="1963800" cy="581400"/>
          </a:xfrm>
        </p:grpSpPr>
        <p:sp>
          <p:nvSpPr>
            <p:cNvPr id="201" name="Rectangle 13"/>
            <p:cNvSpPr/>
            <p:nvPr/>
          </p:nvSpPr>
          <p:spPr>
            <a:xfrm>
              <a:off x="4432680" y="48769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华文新魏"/>
                  <a:ea typeface="华文新魏"/>
                </a:rPr>
                <a:t>底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35"/>
            <p:cNvSpPr/>
            <p:nvPr/>
          </p:nvSpPr>
          <p:spPr>
            <a:xfrm>
              <a:off x="3137400" y="48769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华文新魏"/>
                  <a:ea typeface="华文新魏"/>
                </a:rPr>
                <a:t>底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Text Box 37"/>
          <p:cNvSpPr/>
          <p:nvPr/>
        </p:nvSpPr>
        <p:spPr>
          <a:xfrm rot="16554600">
            <a:off x="3726720" y="225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(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0"/>
          <p:cNvGrpSpPr/>
          <p:nvPr/>
        </p:nvGrpSpPr>
        <p:grpSpPr>
          <a:xfrm>
            <a:off x="2655000" y="4935960"/>
            <a:ext cx="2946960" cy="892440"/>
            <a:chOff x="2655000" y="4935960"/>
            <a:chExt cx="2946960" cy="892440"/>
          </a:xfrm>
        </p:grpSpPr>
        <p:sp>
          <p:nvSpPr>
            <p:cNvPr id="205" name="Text Box 38"/>
            <p:cNvSpPr/>
            <p:nvPr/>
          </p:nvSpPr>
          <p:spPr>
            <a:xfrm rot="20161200">
              <a:off x="2762280" y="50162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91b81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39"/>
            <p:cNvSpPr/>
            <p:nvPr/>
          </p:nvSpPr>
          <p:spPr>
            <a:xfrm rot="12847800">
              <a:off x="4933800" y="50911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91b81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E:\20908011.jpg"/>
          <p:cNvPicPr/>
          <p:nvPr/>
        </p:nvPicPr>
        <p:blipFill>
          <a:blip r:embed="rId1"/>
          <a:stretch/>
        </p:blipFill>
        <p:spPr>
          <a:xfrm>
            <a:off x="912960" y="725400"/>
            <a:ext cx="4724280" cy="3108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D:\素材\从office中复制来的素材\Pub60Cor\BL00122_.WMF"/>
          <p:cNvPicPr/>
          <p:nvPr/>
        </p:nvPicPr>
        <p:blipFill>
          <a:blip r:embed="rId2"/>
          <a:stretch/>
        </p:blipFill>
        <p:spPr>
          <a:xfrm>
            <a:off x="5637240" y="3200400"/>
            <a:ext cx="397512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E:\5de9a08d94a1b5a4903bc361af03da7d.jpg"/>
          <p:cNvPicPr/>
          <p:nvPr/>
        </p:nvPicPr>
        <p:blipFill>
          <a:blip r:embed="rId1"/>
          <a:stretch/>
        </p:blipFill>
        <p:spPr>
          <a:xfrm>
            <a:off x="6076800" y="1038240"/>
            <a:ext cx="2887920" cy="4191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http://www.gaoge.com.cn/scapebridge/China/Modern/Shantou.jpg"/>
          <p:cNvPicPr/>
          <p:nvPr/>
        </p:nvPicPr>
        <p:blipFill>
          <a:blip r:embed="rId2"/>
          <a:stretch/>
        </p:blipFill>
        <p:spPr>
          <a:xfrm>
            <a:off x="1047600" y="1419120"/>
            <a:ext cx="441972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1174680" y="326880"/>
            <a:ext cx="2438640" cy="1600200"/>
          </a:xfrm>
          <a:custGeom>
            <a:avLst/>
            <a:gdLst>
              <a:gd name="textAreaLeft" fmla="*/ 0 w 2438640"/>
              <a:gd name="textAreaRight" fmla="*/ 2438640 w 243864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WordArt 3"/>
          <p:cNvSpPr txBox="1"/>
          <p:nvPr/>
        </p:nvSpPr>
        <p:spPr>
          <a:xfrm>
            <a:off x="1479600" y="784080"/>
            <a:ext cx="1828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做一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51200" y="215568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158f"/>
                </a:solidFill>
                <a:latin typeface="华文新魏"/>
                <a:ea typeface="华文新魏"/>
              </a:rPr>
              <a:t>按下面的步骤做一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158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29158f"/>
                </a:solidFill>
                <a:latin typeface="华文新魏"/>
                <a:ea typeface="华文新魏"/>
              </a:rPr>
              <a:t>、将长方形纸片对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158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29158f"/>
                </a:solidFill>
                <a:latin typeface="华文新魏"/>
                <a:ea typeface="华文新魏"/>
              </a:rPr>
              <a:t>、然后沿对角线折叠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158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29158f"/>
                </a:solidFill>
                <a:latin typeface="华文新魏"/>
                <a:ea typeface="华文新魏"/>
              </a:rPr>
              <a:t>再沿折痕剪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1136520" y="83808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议一议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189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898640" y="3200400"/>
            <a:ext cx="6705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幼圆"/>
              </a:rPr>
              <a:t>通过做一做，你有什么发现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617400" y="-125280"/>
            <a:ext cx="3581640" cy="1676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1150920" y="331920"/>
            <a:ext cx="27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2700000"/>
                </a:gradFill>
                <a:latin typeface="隶书"/>
              </a:rPr>
              <a:t>小议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2700000"/>
              </a:gradFill>
              <a:latin typeface="隶书"/>
              <a:ea typeface="隶书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455840" y="16272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30611"/>
                </a:solidFill>
                <a:latin typeface="Times New Roman"/>
                <a:ea typeface="华文行楷"/>
              </a:rPr>
              <a:t>在等腰三角形中，画出顶角的平分线、底边上的中线和高线，你又发现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8999640" y="619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455840" y="3836880"/>
            <a:ext cx="77724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等腰三角形顶角的平分线、底边上的中线、底边上的高重合（</a:t>
            </a:r>
            <a:r>
              <a:rPr b="1" lang="zh-CN" sz="3600" spc="-1" strike="noStrike">
                <a:solidFill>
                  <a:srgbClr val="1f497d"/>
                </a:solidFill>
                <a:latin typeface="华文新魏"/>
                <a:ea typeface="华文新魏"/>
              </a:rPr>
              <a:t>也称为</a:t>
            </a:r>
            <a:r>
              <a:rPr b="1" lang="zh-CN" sz="3600" spc="-1" strike="noStrike">
                <a:solidFill>
                  <a:srgbClr val="1f497d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1f497d"/>
                </a:solidFill>
                <a:latin typeface="华文新魏"/>
                <a:ea typeface="华文新魏"/>
              </a:rPr>
              <a:t>三线合一</a:t>
            </a:r>
            <a:r>
              <a:rPr b="1" lang="zh-CN" sz="3600" spc="-1" strike="noStrike">
                <a:solidFill>
                  <a:srgbClr val="1f497d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2:58:53Z</dcterms:created>
  <dc:creator>dyzz</dc:creator>
  <dc:description/>
  <dc:language>en-US</dc:language>
  <cp:lastModifiedBy>User</cp:lastModifiedBy>
  <dcterms:modified xsi:type="dcterms:W3CDTF">2014-03-12T10:21:23Z</dcterms:modified>
  <cp:revision>54</cp:revision>
  <dc:subject/>
  <dc:title>PowerPoint 演示文稿</dc:title>
</cp:coreProperties>
</file>