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12.png" ContentType="image/png"/>
  <Override PartName="/ppt/media/image11.png" ContentType="image/png"/>
  <Override PartName="/ppt/media/image7.jpeg" ContentType="image/jpeg"/>
  <Override PartName="/ppt/media/projctor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C20-EB08-494E-B937-9F098870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D05-62B3-4F72-9335-AAAC53A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67E-3C1C-4764-9D69-CCDEB9AB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D79-E8E2-4FEC-ABB9-3D2AC442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0E2-56C4-4276-B8F8-DC6508CF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AA0-B412-4777-9B92-3CD94528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F9E7-2493-4918-9B1B-BEC4A3FD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1EB-0E7E-4E3D-A135-0499E23E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A66-9406-415C-A068-5A114FB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DDA-1333-4BDE-B16C-C68F1429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4E9-DD6F-4EBD-8973-9902F5D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FD1-0F23-48D4-8E41-EEEE2D3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15FD-23D3-41B4-9C04-3718F59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CF8-EFE3-4CD9-8C68-564BC2F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648-691B-4F60-90E7-BA9A59CA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A9AB-474C-484D-89BC-67D6D16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D562-711B-4773-A00E-C7E2384D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EA3-DBC6-4D29-B7DF-E9A9CA7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FCF-F79D-4BFA-9383-292C31F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3C5-8DA5-4D27-9E47-E3D90E8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686-CE62-4F23-869C-EF31FDC4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569-B344-4EDC-B7DC-67C6EE2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6DB-DF2B-4D36-9836-D11FA68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F5C-A2DA-4DE9-A704-CE01681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F9A0-9987-4BCE-89B4-6BB6A4BCA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1" descr="E:\chen资料\images\Untitled-1 copy.gif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AEA-C5F9-4F9A-B698-317FF8FF2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E:\chen资料\images\Untitled-1 copy.gif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E:\chen资料\images\Untitled-1 copy.gif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1332000" y="1773360"/>
            <a:ext cx="781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专题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镶边与剪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56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WINDOWS\Desktop\剪纸\wt3.jpg"/>
          <p:cNvPicPr/>
          <p:nvPr/>
        </p:nvPicPr>
        <p:blipFill>
          <a:blip r:embed="rId2"/>
          <a:stretch/>
        </p:blipFill>
        <p:spPr>
          <a:xfrm>
            <a:off x="3755880" y="609480"/>
            <a:ext cx="2743200" cy="289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WINDOWS\Desktop\剪纸\cai7.jpg"/>
          <p:cNvPicPr/>
          <p:nvPr/>
        </p:nvPicPr>
        <p:blipFill>
          <a:blip r:embed="rId3"/>
          <a:stretch/>
        </p:blipFill>
        <p:spPr>
          <a:xfrm>
            <a:off x="6727680" y="762120"/>
            <a:ext cx="228132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C:\WINDOWS\Desktop\剪纸\pic_09_01_38b.jpg"/>
          <p:cNvPicPr/>
          <p:nvPr/>
        </p:nvPicPr>
        <p:blipFill>
          <a:blip r:embed="rId4"/>
          <a:stretch/>
        </p:blipFill>
        <p:spPr>
          <a:xfrm>
            <a:off x="936720" y="3505320"/>
            <a:ext cx="2666880" cy="262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C:\WINDOWS\Desktop\剪纸\paperbird8.jpg"/>
          <p:cNvPicPr/>
          <p:nvPr/>
        </p:nvPicPr>
        <p:blipFill>
          <a:blip r:embed="rId5"/>
          <a:stretch/>
        </p:blipFill>
        <p:spPr>
          <a:xfrm>
            <a:off x="6651720" y="3581280"/>
            <a:ext cx="224928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C:\WINDOWS\Desktop\剪纸\pic_09_01_19b.jpg"/>
          <p:cNvPicPr/>
          <p:nvPr/>
        </p:nvPicPr>
        <p:blipFill>
          <a:blip r:embed="rId6"/>
          <a:stretch/>
        </p:blipFill>
        <p:spPr>
          <a:xfrm>
            <a:off x="936720" y="609480"/>
            <a:ext cx="270504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C:\WINDOWS\Desktop\剪纸\pic_09_02_19b.jpg"/>
          <p:cNvPicPr/>
          <p:nvPr/>
        </p:nvPicPr>
        <p:blipFill>
          <a:blip r:embed="rId7"/>
          <a:stretch/>
        </p:blipFill>
        <p:spPr>
          <a:xfrm>
            <a:off x="3916440" y="3581280"/>
            <a:ext cx="2506680" cy="251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37160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一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的纸条，将它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一段，一反一正，像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风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样折叠起来，并在折叠好的纸上画出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用小刀把画出的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挖去，拉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风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你就可以得到一条以字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图案的花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430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们先想象一下，最终会制出什么样的图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你所得的花边中，相邻两个图案有什么关系？相间的两个图案有什么关系？说说你的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邻两个图案成轴对称图形；相间的两个图案之间大小和方向完全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92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32"/>
          <p:cNvGrpSpPr/>
          <p:nvPr/>
        </p:nvGrpSpPr>
        <p:grpSpPr>
          <a:xfrm>
            <a:off x="2004840" y="2362320"/>
            <a:ext cx="6277320" cy="990360"/>
            <a:chOff x="2004840" y="2362320"/>
            <a:chExt cx="6277320" cy="990360"/>
          </a:xfrm>
        </p:grpSpPr>
        <p:pic>
          <p:nvPicPr>
            <p:cNvPr id="101" name="Picture 17" descr="C:\WINDOWS\Desktop\剪纸\e.bmp"/>
            <p:cNvPicPr/>
            <p:nvPr/>
          </p:nvPicPr>
          <p:blipFill>
            <a:blip r:embed="rId2"/>
            <a:stretch/>
          </p:blipFill>
          <p:spPr>
            <a:xfrm>
              <a:off x="2843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2" descr="C:\WINDOWS\Desktop\剪纸\e.bmp"/>
            <p:cNvPicPr/>
            <p:nvPr/>
          </p:nvPicPr>
          <p:blipFill>
            <a:blip r:embed="rId3"/>
            <a:stretch/>
          </p:blipFill>
          <p:spPr>
            <a:xfrm>
              <a:off x="3986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3" descr="C:\WINDOWS\Desktop\剪纸\e.bmp"/>
            <p:cNvPicPr/>
            <p:nvPr/>
          </p:nvPicPr>
          <p:blipFill>
            <a:blip r:embed="rId4"/>
            <a:stretch/>
          </p:blipFill>
          <p:spPr>
            <a:xfrm>
              <a:off x="5129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4" descr="C:\WINDOWS\Desktop\剪纸\e.bmp"/>
            <p:cNvPicPr/>
            <p:nvPr/>
          </p:nvPicPr>
          <p:blipFill>
            <a:blip r:embed="rId5"/>
            <a:stretch/>
          </p:blipFill>
          <p:spPr>
            <a:xfrm>
              <a:off x="6172200" y="2363760"/>
              <a:ext cx="50976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5" descr="C:\WINDOWS\Desktop\剪纸\e.bmp"/>
            <p:cNvPicPr/>
            <p:nvPr/>
          </p:nvPicPr>
          <p:blipFill>
            <a:blip r:embed="rId6"/>
            <a:stretch/>
          </p:blipFill>
          <p:spPr>
            <a:xfrm>
              <a:off x="723888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6" descr="C:\My Documents\e2.bmp"/>
            <p:cNvPicPr/>
            <p:nvPr/>
          </p:nvPicPr>
          <p:blipFill>
            <a:blip r:embed="rId7"/>
            <a:stretch/>
          </p:blipFill>
          <p:spPr>
            <a:xfrm>
              <a:off x="337644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7" descr="C:\My Documents\e2.bmp"/>
            <p:cNvPicPr/>
            <p:nvPr/>
          </p:nvPicPr>
          <p:blipFill>
            <a:blip r:embed="rId8"/>
            <a:stretch/>
          </p:blipFill>
          <p:spPr>
            <a:xfrm>
              <a:off x="563868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8" descr="C:\My Documents\e2.bmp"/>
            <p:cNvPicPr/>
            <p:nvPr/>
          </p:nvPicPr>
          <p:blipFill>
            <a:blip r:embed="rId9"/>
            <a:stretch/>
          </p:blipFill>
          <p:spPr>
            <a:xfrm>
              <a:off x="6705720" y="2478240"/>
              <a:ext cx="50940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C:\My Documents\e2.bmp"/>
            <p:cNvPicPr/>
            <p:nvPr/>
          </p:nvPicPr>
          <p:blipFill>
            <a:blip r:embed="rId10"/>
            <a:stretch/>
          </p:blipFill>
          <p:spPr>
            <a:xfrm>
              <a:off x="777240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0" descr="C:\My Documents\e2.bmp"/>
            <p:cNvPicPr/>
            <p:nvPr/>
          </p:nvPicPr>
          <p:blipFill>
            <a:blip r:embed="rId11"/>
            <a:stretch/>
          </p:blipFill>
          <p:spPr>
            <a:xfrm>
              <a:off x="457200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1" descr="C:\WINDOWS\Desktop\剪纸\e.bmp"/>
            <p:cNvPicPr/>
            <p:nvPr/>
          </p:nvPicPr>
          <p:blipFill>
            <a:blip r:embed="rId12"/>
            <a:stretch/>
          </p:blipFill>
          <p:spPr>
            <a:xfrm>
              <a:off x="200484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9072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如果以相邻两个图案为一组，每组图案之间有什么关系？三个图案为一组呢？为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58ed5"/>
                </a:solidFill>
                <a:latin typeface="宋体"/>
              </a:rPr>
              <a:t>都成轴对称关系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.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上面的活动中，如果先把纸条纵向对折，在折成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手风琴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然后继续上面的步骤，此时会得到怎样的花边？它是轴对称图形吗？先猜一猜，再做一做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58ed5"/>
                </a:solidFill>
                <a:latin typeface="宋体"/>
              </a:rPr>
              <a:t>得到与上面类似的两层花边，它仍然是轴对称图形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66680" y="304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图所示：取一张薄的正方形纸，沿对角线对折后，得到一个等腰直角三角形，再沿底边上的高线对折，将得到的图形纸沿图中的黑色线剪开，去掉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的部分，打开折叠的纸，并将其铺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6"/>
          <p:cNvGrpSpPr/>
          <p:nvPr/>
        </p:nvGrpSpPr>
        <p:grpSpPr>
          <a:xfrm>
            <a:off x="2286000" y="2666880"/>
            <a:ext cx="5410080" cy="1371600"/>
            <a:chOff x="2286000" y="2666880"/>
            <a:chExt cx="5410080" cy="1371600"/>
          </a:xfrm>
        </p:grpSpPr>
        <p:sp>
          <p:nvSpPr>
            <p:cNvPr id="117" name="AutoShape 9"/>
            <p:cNvSpPr/>
            <p:nvPr/>
          </p:nvSpPr>
          <p:spPr>
            <a:xfrm>
              <a:off x="6553080" y="3352680"/>
              <a:ext cx="1143000" cy="6858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15"/>
            <p:cNvGrpSpPr/>
            <p:nvPr/>
          </p:nvGrpSpPr>
          <p:grpSpPr>
            <a:xfrm>
              <a:off x="2286000" y="2666880"/>
              <a:ext cx="5105520" cy="1371600"/>
              <a:chOff x="2286000" y="2666880"/>
              <a:chExt cx="5105520" cy="137160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2286000" y="2666880"/>
                <a:ext cx="1295280" cy="1371600"/>
              </a:xfrm>
              <a:prstGeom prst="rect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"/>
              <p:cNvSpPr/>
              <p:nvPr/>
            </p:nvSpPr>
            <p:spPr>
              <a:xfrm>
                <a:off x="3809880" y="2666880"/>
                <a:ext cx="1143000" cy="1371600"/>
              </a:xfrm>
              <a:prstGeom prst="rtTriangl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8"/>
              <p:cNvSpPr/>
              <p:nvPr/>
            </p:nvSpPr>
            <p:spPr>
              <a:xfrm>
                <a:off x="5105520" y="3352680"/>
                <a:ext cx="11430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1"/>
              <p:cNvSpPr/>
              <p:nvPr/>
            </p:nvSpPr>
            <p:spPr>
              <a:xfrm>
                <a:off x="5105520" y="2743200"/>
                <a:ext cx="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>
                <a:off x="5105520" y="2666880"/>
                <a:ext cx="533160" cy="685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4"/>
              <p:cNvSpPr/>
              <p:nvPr/>
            </p:nvSpPr>
            <p:spPr>
              <a:xfrm>
                <a:off x="6781680" y="3581280"/>
                <a:ext cx="609840" cy="228600"/>
              </a:xfrm>
              <a:custGeom>
                <a:avLst/>
                <a:gdLst>
                  <a:gd name="textAreaLeft" fmla="*/ 0 w 609840"/>
                  <a:gd name="textAreaRight" fmla="*/ 609840 w 609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72" h="160">
                    <a:moveTo>
                      <a:pt x="0" y="144"/>
                    </a:moveTo>
                    <a:cubicBezTo>
                      <a:pt x="80" y="120"/>
                      <a:pt x="160" y="96"/>
                      <a:pt x="240" y="96"/>
                    </a:cubicBezTo>
                    <a:cubicBezTo>
                      <a:pt x="320" y="96"/>
                      <a:pt x="408" y="160"/>
                      <a:pt x="480" y="144"/>
                    </a:cubicBezTo>
                    <a:cubicBezTo>
                      <a:pt x="552" y="128"/>
                      <a:pt x="640" y="24"/>
                      <a:pt x="672" y="0"/>
                    </a:cubicBezTo>
                  </a:path>
                </a:pathLst>
              </a:custGeom>
              <a:noFill/>
              <a:ln cap="sq" w="2844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Rectangle 17"/>
          <p:cNvSpPr/>
          <p:nvPr/>
        </p:nvSpPr>
        <p:spPr>
          <a:xfrm>
            <a:off x="1066680" y="4114800"/>
            <a:ext cx="769644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得到怎样的图案？先猜一猜，再做一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得到一个有两条对称轴的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说明为什么会得到这样的图案吗？应用学过的轴对称知识试一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际上相当于折出了正方形的两条对称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685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果将正方形的纸按上面方式对折三次（如图所示），然后沿圆弧剪开，去掉较小部分，展开后结果又会怎样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2"/>
          <p:cNvGrpSpPr/>
          <p:nvPr/>
        </p:nvGrpSpPr>
        <p:grpSpPr>
          <a:xfrm>
            <a:off x="2743200" y="2438280"/>
            <a:ext cx="761760" cy="609480"/>
            <a:chOff x="2743200" y="2438280"/>
            <a:chExt cx="761760" cy="609480"/>
          </a:xfrm>
        </p:grpSpPr>
        <p:sp>
          <p:nvSpPr>
            <p:cNvPr id="129" name="AutoShape 10"/>
            <p:cNvSpPr/>
            <p:nvPr/>
          </p:nvSpPr>
          <p:spPr>
            <a:xfrm>
              <a:off x="2743200" y="2438280"/>
              <a:ext cx="761760" cy="609480"/>
            </a:xfrm>
            <a:prstGeom prst="triangle">
              <a:avLst>
                <a:gd name="adj" fmla="val 97727"/>
              </a:avLst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2997000" y="2819160"/>
              <a:ext cx="169200" cy="2286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6" h="144">
                  <a:moveTo>
                    <a:pt x="0" y="0"/>
                  </a:moveTo>
                  <a:cubicBezTo>
                    <a:pt x="44" y="60"/>
                    <a:pt x="88" y="120"/>
                    <a:pt x="96" y="144"/>
                  </a:cubicBezTo>
                </a:path>
              </a:pathLst>
            </a:custGeom>
            <a:noFill/>
            <a:ln w="2844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13"/>
          <p:cNvSpPr/>
          <p:nvPr/>
        </p:nvSpPr>
        <p:spPr>
          <a:xfrm>
            <a:off x="1116000" y="4038480"/>
            <a:ext cx="7189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纸对折两次后，剪出的图案至少有几条对称轴？三次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纸对折两次剪出的图案至少有两条对称轴；当纸对折三次剪出的图案至少有四条对称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4295880" y="327672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际上相当于折出了正方形的四条对称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E:\chen资料\按钮\006next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51800" y="523080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1411200" y="1268280"/>
            <a:ext cx="127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563840" y="1954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节课你学到了什么？有怎样的体会和想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639800" y="3173400"/>
            <a:ext cx="739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集并欣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中国民间剪纸图案，你能找到它的对称轴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-189000" y="50785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并制作一个镶边或剪纸图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1563840" y="3097080"/>
            <a:ext cx="121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作业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04:00:23Z</dcterms:created>
  <dc:creator>chenhuaxiu</dc:creator>
  <dc:description/>
  <dc:language>en-US</dc:language>
  <cp:lastModifiedBy>User</cp:lastModifiedBy>
  <dcterms:modified xsi:type="dcterms:W3CDTF">2014-03-12T10:21:21Z</dcterms:modified>
  <cp:revision>140</cp:revision>
  <dc:subject/>
  <dc:title>Unit 26 Mainly revision</dc:title>
</cp:coreProperties>
</file>