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9016-1B5A-488F-9664-0835EDA53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ADCC-B4B5-4CEA-A28A-3524A89B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8F47-71A4-492E-8ACB-D9E50AC84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53B3-CFEC-4F1D-942A-E25CDEEC6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D818-AD1E-4451-AC54-F2F789223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6720-15B8-4C15-B62C-84ED8132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3FC1-6119-4B86-8B63-832F2126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D855-7811-4C77-9577-D582F653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8090-E7A4-4738-8DBB-1A8FE000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4EFA-74A6-47CE-96EF-DBD909AA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E2B6-33B9-47FD-9F06-0EF03BCD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A208-D3B2-4DF2-9981-2ECEFB57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6A6B-2E16-47E6-B651-62B7FD47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8F636-AC6A-474A-9B2E-425B371F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7E14-5F77-42A0-AB3D-F6557AFD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B8F34-6238-4023-A024-FA3508273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1E10-5A78-422A-94A3-48CDB7D2D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6C26-0197-427A-A3AB-A71CE75D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858F-B0E1-4F74-B44B-FF02802C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5C1F-A127-4852-A2E1-F32D4AA1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08A3-92FF-4426-82F7-E3C75D70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643F-6391-44CF-9CB1-DC0767A5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572F-18F7-4DE5-89D0-FDB19C77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DC8E-1E76-4FC8-8383-8363DB15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6263-9AA5-43CB-A8C2-BA262C3FEC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6717-49C4-4EA5-95D2-0CACA39872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836440" y="83808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浙教版数学九年级（下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676520" y="3581280"/>
            <a:ext cx="5410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2.3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概率简单应用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09480" y="380880"/>
            <a:ext cx="1828800" cy="12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知识复习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8288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什么叫概率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4382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事件发生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可能性的大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叫这一事件发生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概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30481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概率的计算公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685800" y="3581280"/>
            <a:ext cx="7696080" cy="1460520"/>
            <a:chOff x="685800" y="3581280"/>
            <a:chExt cx="7696080" cy="1460520"/>
          </a:xfrm>
        </p:grpSpPr>
        <p:sp>
          <p:nvSpPr>
            <p:cNvPr id="94" name=""/>
            <p:cNvSpPr/>
            <p:nvPr/>
          </p:nvSpPr>
          <p:spPr>
            <a:xfrm>
              <a:off x="685800" y="3581280"/>
              <a:ext cx="769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若事件发生的所有可能结果总数为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，事件Ａ发生的可能结果数为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，则Ｐ（Ａ）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4343400" y="3886200"/>
                  <a:ext cx="558720" cy="11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6" name=""/>
          <p:cNvSpPr/>
          <p:nvPr/>
        </p:nvSpPr>
        <p:spPr>
          <a:xfrm>
            <a:off x="685800" y="47242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估计概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51814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实际生活中，我们常用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频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来估计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概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在大量重复的实验中发现频率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接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于哪个数，把这个数作为概率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8080" y="533520"/>
            <a:ext cx="22100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知识引入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8288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果有人买了彩票，一定希望知道中奖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概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多大．那么怎么样来估计中奖的概率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31240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出门旅行的人希望知道乘坐哪一中交通工具发生事故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可能性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较小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4952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概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人们生活密切相关，在生活，生产和科研等各个领域都有着广泛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应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380880"/>
            <a:ext cx="1905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例题分析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8288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某商场举办有奖销售活动，每张奖券获奖的可能性相同，以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张奖券为一个开奖单位，设特等奖１个，一等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，二等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，问１张奖券中一等奖的概率是多少？中奖的概率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762120" y="3581280"/>
            <a:ext cx="4952880" cy="914400"/>
            <a:chOff x="762120" y="3581280"/>
            <a:chExt cx="4952880" cy="914400"/>
          </a:xfrm>
        </p:grpSpPr>
        <p:sp>
          <p:nvSpPr>
            <p:cNvPr id="105" name=""/>
            <p:cNvSpPr/>
            <p:nvPr/>
          </p:nvSpPr>
          <p:spPr>
            <a:xfrm>
              <a:off x="762120" y="388620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解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中一等奖的概率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3809880" y="3581280"/>
                  <a:ext cx="190512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0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7" name=""/>
          <p:cNvGrpSpPr/>
          <p:nvPr/>
        </p:nvGrpSpPr>
        <p:grpSpPr>
          <a:xfrm>
            <a:off x="1143000" y="4648320"/>
            <a:ext cx="3200400" cy="763560"/>
            <a:chOff x="1143000" y="4648320"/>
            <a:chExt cx="3200400" cy="763560"/>
          </a:xfrm>
        </p:grpSpPr>
        <p:sp>
          <p:nvSpPr>
            <p:cNvPr id="108" name=""/>
            <p:cNvSpPr/>
            <p:nvPr/>
          </p:nvSpPr>
          <p:spPr>
            <a:xfrm>
              <a:off x="1143000" y="480060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中奖的概率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" name=""/>
                <p:cNvSpPr txBox="1"/>
                <p:nvPr/>
              </p:nvSpPr>
              <p:spPr>
                <a:xfrm>
                  <a:off x="3200400" y="4648320"/>
                  <a:ext cx="1143000" cy="76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1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0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80880" y="53352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命表又称死亡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人寿保险费率计算的主要依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下图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99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中国人民银行发布的中国人寿保险经验生命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(1990-199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部分摘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根据表格估算下列概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结果保留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有效数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191120" y="2057400"/>
          <a:ext cx="4647960" cy="4187880"/>
        </p:xfrm>
        <a:graphic>
          <a:graphicData uri="http://schemas.openxmlformats.org/drawingml/2006/table">
            <a:tbl>
              <a:tblPr/>
              <a:tblGrid>
                <a:gridCol w="1288800"/>
                <a:gridCol w="1606680"/>
                <a:gridCol w="1752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龄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生存人数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死亡人数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70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66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58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76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68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50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22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89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2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7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3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28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91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7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9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380880" y="2057400"/>
            <a:ext cx="35053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某人今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当年死亡的概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某人今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活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的概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762120" y="380880"/>
            <a:ext cx="1828800" cy="114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课内练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191120" y="2057400"/>
          <a:ext cx="4647960" cy="4187880"/>
        </p:xfrm>
        <a:graphic>
          <a:graphicData uri="http://schemas.openxmlformats.org/drawingml/2006/table">
            <a:tbl>
              <a:tblPr/>
              <a:tblGrid>
                <a:gridCol w="1288800"/>
                <a:gridCol w="1606680"/>
                <a:gridCol w="1752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龄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生存人数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死亡人数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70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66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58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76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68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50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22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89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2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7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3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28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91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7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9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380880" y="1981080"/>
            <a:ext cx="327672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根据表格回答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个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岁的人在当年死亡的概率是多少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个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6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岁的人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他活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岁的概率是多少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果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岁的人参加寿险投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当年死亡的人均赔偿金为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那么估计保险公司需支付当年死亡的人的赔偿金额为多少元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33520" y="60948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九年级三班同学作了关于私家车乘坐人数的统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辆私家车中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统计结果如下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04920" y="1905120"/>
          <a:ext cx="8458200" cy="1022400"/>
        </p:xfrm>
        <a:graphic>
          <a:graphicData uri="http://schemas.openxmlformats.org/drawingml/2006/table">
            <a:tbl>
              <a:tblPr/>
              <a:tblGrid>
                <a:gridCol w="2506680"/>
                <a:gridCol w="1252440"/>
                <a:gridCol w="1252440"/>
                <a:gridCol w="1096920"/>
                <a:gridCol w="1096920"/>
                <a:gridCol w="125280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每辆私家车乘客数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私家车数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304920" y="32767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根据以上结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估计抽查一辆私家车而它载有超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名乘客的概率是多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762120" y="533520"/>
            <a:ext cx="1828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你会做吗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1981080"/>
            <a:ext cx="80773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电视台举办的“超级女生”比赛中，甲，乙，丙三位评委对选手的综合表现，分别给出“待定”和“通过”的结论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１）写出三位评委给出Ａ选手的所有可能结果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２）对于选手Ａ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只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甲，乙两位评委给出相同结论的概率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523880" y="457200"/>
            <a:ext cx="6019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从游戏中挑战自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1905120"/>
            <a:ext cx="822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一种游戏，班级里每位同学及班主任的手中都有１点，２点，３点三张扑克，游戏规则一：每位同学任意抽一张，班主任老师也抽一张，如果同学抽到的点数和老师抽到的点数相同，那么这位同学就获得一份小礼物；游戏规则二：每位同学任意抽两张，班主任老师也抽两张，如果同学抽到的这两张点数和老师抽到的两张点数相同，那么这位同学获得一份小礼物．问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１）游戏规则一，每位同学获得小礼物的概率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２）游戏规则二，每位同学获得小礼物的概率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02-21T06:37:00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