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7E4-8E32-4EAF-93D3-89DA715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434-C831-44A9-A74C-4A4C2F91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E5F-9995-4CF2-A02A-5B965E4E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E71-AC3D-40E6-8036-861B6A59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F54-7E6A-4ECD-B92B-6393281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E40-0576-4B8D-8D0E-E1DEB5C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A89-E00F-4F97-BF7F-ED6B0F1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B57-730F-44C4-B756-C71C41F3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92E-770E-47D1-A96B-6D980F4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5B6-BD54-47B1-ADE6-C064B7C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BE9-C8BE-4810-AB8B-1AB692E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258-4EC2-4B9E-A3BA-C38937E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8B5D-796C-4BBE-A4A1-27C9F013D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viewlogo" descr="楠溪江风景名胜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52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7.3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一次函数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(1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52280"/>
            <a:ext cx="83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国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公布的有关个人所得税的规定，全月应纳税所得额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指月工资中，扣除国家规定的免税部分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元后的剩余部分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的税率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部分的税率的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257800"/>
            <a:ext cx="8712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小明妈妈的工资为每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4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小聪妈妈的工资为每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问她俩每月应缴个人所得税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3352680"/>
            <a:ext cx="8712360" cy="1373400"/>
            <a:chOff x="152280" y="3352680"/>
            <a:chExt cx="8712360" cy="1373400"/>
          </a:xfrm>
        </p:grpSpPr>
        <p:sp>
          <p:nvSpPr>
            <p:cNvPr id="130" name=""/>
            <p:cNvSpPr/>
            <p:nvPr/>
          </p:nvSpPr>
          <p:spPr>
            <a:xfrm>
              <a:off x="152280" y="3352680"/>
              <a:ext cx="8712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）设全月应纳税所得额为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元，且</a:t>
              </a:r>
              <a:br>
                <a:rPr sz="2800"/>
              </a:b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应纳个人所得税为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元，求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关于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的函数解析式和自变量的取值范围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056280" y="3541680"/>
            <a:ext cx="2736720" cy="49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56280" y="3541680"/>
                      <a:ext cx="273672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" name=""/>
          <p:cNvSpPr/>
          <p:nvPr/>
        </p:nvSpPr>
        <p:spPr>
          <a:xfrm>
            <a:off x="152280" y="2438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问：某人月工资收入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元，则应纳税所得额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应纳个人所得税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895480"/>
            <a:ext cx="11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79840" y="3017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692280"/>
            <a:ext cx="83818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移动通讯服务的收费标准为：每月基本服务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每月免费通话时间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超过以后每分收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写出每月话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通话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解析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若某月通话时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求该月的话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2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0"/>
            <a:ext cx="8686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某城市规定居民电费标准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用电量低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（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），电价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5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用电量大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，少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（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）部分，电价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5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用电量大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部分，电价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.6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瓦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114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设每月应付电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关于每     月用电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函数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105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分别求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=4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3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时的函数值，并说明它们的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22760" y="6019920"/>
            <a:ext cx="53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求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函数解析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54320" y="3944880"/>
            <a:ext cx="1536840" cy="116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080" y="2666880"/>
            <a:ext cx="5257800" cy="2743200"/>
            <a:chOff x="838080" y="2666880"/>
            <a:chExt cx="5257800" cy="2743200"/>
          </a:xfrm>
        </p:grpSpPr>
        <p:sp>
          <p:nvSpPr>
            <p:cNvPr id="145" name=""/>
            <p:cNvSpPr/>
            <p:nvPr/>
          </p:nvSpPr>
          <p:spPr>
            <a:xfrm>
              <a:off x="838080" y="2666880"/>
              <a:ext cx="5257800" cy="2743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2720" y="36957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一次函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 rot="5400000">
            <a:off x="-1872720" y="3285360"/>
            <a:ext cx="4572000" cy="75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2320">
                  <a:solidFill>
                    <a:srgbClr val="3399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归纳小结</a:t>
            </a:r>
            <a:endParaRPr b="1" lang="en-US" sz="4000" spc="1" strike="noStrike">
              <a:ln w="22320">
                <a:solidFill>
                  <a:srgbClr val="3399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773360"/>
            <a:ext cx="770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这节课我们主要学习了哪些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05920" y="1828800"/>
            <a:ext cx="649080" cy="6494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429000" y="3276720"/>
            <a:ext cx="1905120" cy="1218960"/>
            <a:chOff x="3429000" y="3276720"/>
            <a:chExt cx="1905120" cy="1218960"/>
          </a:xfrm>
        </p:grpSpPr>
        <p:sp>
          <p:nvSpPr>
            <p:cNvPr id="151" name=""/>
            <p:cNvSpPr/>
            <p:nvPr/>
          </p:nvSpPr>
          <p:spPr>
            <a:xfrm>
              <a:off x="3976200" y="35017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正比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3276720"/>
              <a:ext cx="1905120" cy="12189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48520" y="2895480"/>
            <a:ext cx="2666880" cy="2286000"/>
            <a:chOff x="6248520" y="2895480"/>
            <a:chExt cx="2666880" cy="2286000"/>
          </a:xfrm>
        </p:grpSpPr>
        <p:sp>
          <p:nvSpPr>
            <p:cNvPr id="154" name=""/>
            <p:cNvSpPr/>
            <p:nvPr/>
          </p:nvSpPr>
          <p:spPr>
            <a:xfrm flipV="1">
              <a:off x="6248520" y="2895480"/>
              <a:ext cx="2666880" cy="228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3581280"/>
              <a:ext cx="2535120" cy="825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用代定系数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求函数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907920"/>
            <a:ext cx="806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较下面两行函数解析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15200" y="2971800"/>
          <a:ext cx="138096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971800"/>
                    <a:ext cx="13809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81480" y="2895480"/>
          <a:ext cx="16876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895480"/>
                    <a:ext cx="1687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743200" y="2895480"/>
          <a:ext cx="207180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2071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57200" y="2971800"/>
          <a:ext cx="207324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971800"/>
                    <a:ext cx="2073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85800" y="3886200"/>
            <a:ext cx="662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等号两边的代数式都是整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648320"/>
            <a:ext cx="504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自变量的次数是一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280" y="666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合作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6480" y="1752480"/>
            <a:ext cx="15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=2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4480" y="182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920" y="16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057400"/>
            <a:ext cx="762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9800" y="1523880"/>
            <a:ext cx="2396160" cy="990360"/>
            <a:chOff x="3799800" y="1523880"/>
            <a:chExt cx="2396160" cy="990360"/>
          </a:xfrm>
        </p:grpSpPr>
        <p:graphicFrame>
          <p:nvGraphicFramePr>
            <p:cNvPr id="62" name=""/>
            <p:cNvGraphicFramePr/>
            <p:nvPr/>
          </p:nvGraphicFramePr>
          <p:xfrm>
            <a:off x="4829040" y="1523880"/>
            <a:ext cx="136692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29040" y="1523880"/>
                      <a:ext cx="136692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799800" y="1560240"/>
              <a:ext cx="102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542560" y="1623960"/>
            <a:ext cx="3388680" cy="808200"/>
            <a:chOff x="5542560" y="1623960"/>
            <a:chExt cx="3388680" cy="808200"/>
          </a:xfrm>
        </p:grpSpPr>
        <p:sp>
          <p:nvSpPr>
            <p:cNvPr id="66" name=""/>
            <p:cNvSpPr/>
            <p:nvPr/>
          </p:nvSpPr>
          <p:spPr>
            <a:xfrm>
              <a:off x="5542560" y="162396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y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6914880" y="1676520"/>
            <a:ext cx="2016360" cy="75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14880" y="1676520"/>
                      <a:ext cx="20163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295280"/>
            <a:ext cx="226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2304"/>
                </a:solidFill>
                <a:latin typeface="宋体"/>
                <a:ea typeface="Times New Roman"/>
              </a:rPr>
              <a:t>y=kx+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86400" y="1511280"/>
            <a:ext cx="41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(k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是常数，且 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k ≠ 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80840" y="6094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Times New Roman"/>
              </a:rPr>
              <a:t>一次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36800" y="3429000"/>
            <a:ext cx="208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＝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2120" y="4076640"/>
            <a:ext cx="5290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2304"/>
                </a:solidFill>
                <a:latin typeface="宋体"/>
                <a:ea typeface="Times New Roman"/>
              </a:rPr>
              <a:t>y=kx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k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是常数，且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k ≠ 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e02304"/>
                </a:solidFill>
                <a:latin typeface="宋体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54880" y="4952880"/>
            <a:ext cx="235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Times New Roman"/>
              </a:rPr>
              <a:t>正比例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2520" y="2087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30520" y="2087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960" y="255420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比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44600" y="25542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宋体"/>
                <a:ea typeface="Times New Roman"/>
              </a:rPr>
              <a:t>常数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56360" y="2209680"/>
            <a:ext cx="2087640" cy="1346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e02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隶书"/>
              </a:rPr>
              <a:t>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60280"/>
            <a:ext cx="874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做一做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下列函数中，哪些是一次函数？哪些是正比例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557360"/>
          <a:ext cx="26812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26812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95280" y="3141720"/>
          <a:ext cx="24098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141720"/>
                    <a:ext cx="2409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5280" y="4292640"/>
          <a:ext cx="171144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292640"/>
                    <a:ext cx="17114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5280" y="5300640"/>
          <a:ext cx="1555920" cy="12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300640"/>
                    <a:ext cx="15559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952880" y="5638680"/>
          <a:ext cx="264492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5638680"/>
                    <a:ext cx="264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203640" y="1916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次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3141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次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437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442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2362320"/>
          <a:ext cx="8534520" cy="1822320"/>
        </p:xfrm>
        <a:graphic>
          <a:graphicData uri="http://schemas.openxmlformats.org/drawingml/2006/table">
            <a:tbl>
              <a:tblPr/>
              <a:tblGrid>
                <a:gridCol w="1573200"/>
                <a:gridCol w="1295640"/>
                <a:gridCol w="1523880"/>
                <a:gridCol w="1944720"/>
                <a:gridCol w="2197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y=-2x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=-6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y=20+32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Q=3(2x-1)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自变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常数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比例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124720" y="273852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19800" y="266220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4568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3120" y="36529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1800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1040" y="36529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1720" y="267336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94680" y="3154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94680" y="3586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26496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7520" y="3206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36800" y="3586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15920"/>
            <a:ext cx="84978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求出下列各题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间的关系式，并判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否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一次函数，是否为正比例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484280"/>
            <a:ext cx="896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某农场种植玉米，每平方米种玉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株，玉米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种植面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之间的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242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正方形周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面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间的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789360"/>
            <a:ext cx="87850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假定某种储蓄的月利率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0.16%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存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本金后，本息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元）与所存月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间的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1773360"/>
            <a:ext cx="7777080" cy="326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正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k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6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比例系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1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2600" y="4572000"/>
            <a:ext cx="672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已知一次函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kx+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=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k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2880" y="3049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7680" y="1025640"/>
            <a:ext cx="47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正比例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kx(k≠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比例系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函数关系式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0600" y="3200400"/>
            <a:ext cx="52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关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比例函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函数关系式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8400" y="1371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=-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42920" y="358128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y=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533520"/>
            <a:ext cx="784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-2)x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一次函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1440" y="2489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19400" y="3046320"/>
            <a:ext cx="51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m 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比例函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5320" y="236232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(m-3)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m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6880" y="359424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-2, y=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中所求的函数关系式，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00" y="4938840"/>
            <a:ext cx="797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什么值时，该函数是正比例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马中初二数学备课组</dc:creator>
  <dc:description/>
  <dc:language>en-US</dc:language>
  <cp:lastModifiedBy>chinamh</cp:lastModifiedBy>
  <dcterms:modified xsi:type="dcterms:W3CDTF">2012-09-13T02:21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