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C0ED-3258-43EB-A1B0-FB8C810E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74F0-1388-4121-AB6F-37386D7B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5640-757B-49B2-9F17-8B84E87E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4BE0-E941-4425-A1D1-B1769A28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9C38-185B-4863-93FC-4509EC3F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1494-464A-439C-AAEE-A88FB647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6D48-3CF3-473B-A16A-9298CDD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C025-089D-4204-B686-35C0D570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9A6B-ADD3-4C20-9352-17C87C3C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218B-CA28-40DB-B08F-0E72942A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1740-30E0-4849-9442-E548C409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A9DD-2116-47E9-8BBE-3D784597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91F5-8408-460E-BEE6-9920ABD5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1CA2-3FC8-42F8-81DA-2431C319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CA22-C682-4EE4-9647-D9BC62CC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FE8B-95A1-4E6B-90FB-9ED641B1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6DF1-92E9-42D8-A403-080F741F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EBD1-A867-4875-9C8E-67B43809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8C18-2D8E-47A6-A2AD-EF4A6562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D3FB-F135-469D-B527-E947FE85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FD67-70E2-423A-A243-304AD19D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4585-DD95-4B2B-9DAC-895BE43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0FBE-B670-426E-90B8-EB66CB4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6A1C-DE10-44DB-832A-A05B379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AE62-B5B2-4F64-A35B-D3BEDE4AB8E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0DC5-9146-4751-B5F8-5FA8FF80D92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1066680"/>
            <a:ext cx="7848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1.1</a:t>
            </a: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认识三角形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(2)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>
                      <a:alpha val="50196"/>
                    </a:srgbClr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295280" y="73980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8000" y="32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56080" y="1365120"/>
            <a:ext cx="3429000" cy="1130400"/>
          </a:xfrm>
          <a:custGeom>
            <a:avLst/>
            <a:gdLst/>
            <a:ahLst/>
            <a:rect l="l" t="t" r="r" b="b"/>
            <a:pathLst>
              <a:path w="2160" h="720">
                <a:moveTo>
                  <a:pt x="480" y="720"/>
                </a:moveTo>
                <a:lnTo>
                  <a:pt x="2160" y="720"/>
                </a:lnTo>
                <a:lnTo>
                  <a:pt x="0" y="0"/>
                </a:lnTo>
                <a:lnTo>
                  <a:pt x="480" y="72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079320" y="1708200"/>
            <a:ext cx="473760" cy="780120"/>
            <a:chOff x="6079320" y="1708200"/>
            <a:chExt cx="473760" cy="780120"/>
          </a:xfrm>
        </p:grpSpPr>
        <p:sp>
          <p:nvSpPr>
            <p:cNvPr id="304" name=""/>
            <p:cNvSpPr/>
            <p:nvPr/>
          </p:nvSpPr>
          <p:spPr>
            <a:xfrm flipV="1">
              <a:off x="6079320" y="1708200"/>
              <a:ext cx="337680" cy="780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24480" y="1742400"/>
              <a:ext cx="228600" cy="22572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96"/>
                  </a:moveTo>
                  <a:lnTo>
                    <a:pt x="144" y="144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334120" y="1365120"/>
            <a:ext cx="0" cy="1130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952520" y="2495520"/>
            <a:ext cx="129564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5040" y="852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41776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52520" y="243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64000" y="2349360"/>
            <a:ext cx="152640" cy="150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0"/>
                </a:moveTo>
                <a:lnTo>
                  <a:pt x="144" y="0"/>
                </a:lnTo>
                <a:lnTo>
                  <a:pt x="144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8200" y="2495520"/>
            <a:ext cx="1301760" cy="1959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27480" y="2421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05400" y="121428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62680" y="2495520"/>
            <a:ext cx="1922400" cy="1168560"/>
            <a:chOff x="6862680" y="2495520"/>
            <a:chExt cx="1922400" cy="1168560"/>
          </a:xfrm>
        </p:grpSpPr>
        <p:sp>
          <p:nvSpPr>
            <p:cNvPr id="316" name=""/>
            <p:cNvSpPr/>
            <p:nvPr/>
          </p:nvSpPr>
          <p:spPr>
            <a:xfrm flipH="1">
              <a:off x="6862680" y="2495520"/>
              <a:ext cx="1922400" cy="10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3585600">
              <a:off x="6942960" y="3431160"/>
              <a:ext cx="1404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9280" y="10429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钝角三角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条高交于一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3429000"/>
            <a:ext cx="3932280" cy="131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钝 角三角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三条高不相交于一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520" y="2333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它们所在的直线交于一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5046840"/>
            <a:ext cx="5184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钝角三角形的三条高所在直线交于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25146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334120" y="2549520"/>
            <a:ext cx="722160" cy="1752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333760" y="3530520"/>
            <a:ext cx="1447560" cy="771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428796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94760" y="3505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080" y="10666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-27000"/>
            <a:ext cx="88930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22216"/>
                </a:solidFill>
                <a:latin typeface="宋体"/>
              </a:rPr>
              <a:t>例</a:t>
            </a:r>
            <a:r>
              <a:rPr b="1" lang="zh-CN" sz="4000" spc="-1" strike="noStrike">
                <a:solidFill>
                  <a:srgbClr val="122216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122216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如图，在</a:t>
            </a:r>
            <a:r>
              <a:rPr b="1" lang="zh-CN" sz="2400" spc="-1" strike="noStrike">
                <a:solidFill>
                  <a:srgbClr val="122216"/>
                </a:solidFill>
                <a:latin typeface="宋体"/>
              </a:rPr>
              <a:t>△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中，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AE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122216"/>
                </a:solidFill>
                <a:latin typeface="宋体"/>
              </a:rPr>
              <a:t>△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的角平分线</a:t>
            </a:r>
            <a:r>
              <a:rPr b="1" lang="zh-CN" sz="1800" spc="-1" strike="noStrike">
                <a:solidFill>
                  <a:srgbClr val="12221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22216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122216"/>
                </a:solidFill>
                <a:latin typeface="Arial"/>
              </a:rPr>
              <a:t>是△</a:t>
            </a:r>
            <a:r>
              <a:rPr b="1" lang="zh-CN" sz="3200" spc="-1" strike="noStrike">
                <a:solidFill>
                  <a:srgbClr val="122216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122216"/>
                </a:solidFill>
                <a:latin typeface="Arial"/>
              </a:rPr>
              <a:t>的高线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已知∠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BAC=82°∠C=40°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，求∠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DAE</a:t>
            </a:r>
            <a:r>
              <a:rPr b="1" lang="zh-CN" sz="3200" spc="-1" strike="noStrike">
                <a:solidFill>
                  <a:srgbClr val="122216"/>
                </a:solidFill>
                <a:latin typeface="宋体"/>
              </a:rPr>
              <a:t>的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2060640"/>
            <a:ext cx="21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206064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∵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边上的角平分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且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AC=8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116000" y="2833560"/>
            <a:ext cx="4464000" cy="882720"/>
            <a:chOff x="1116000" y="2833560"/>
            <a:chExt cx="4464000" cy="882720"/>
          </a:xfrm>
        </p:grpSpPr>
        <p:sp>
          <p:nvSpPr>
            <p:cNvPr id="333" name=""/>
            <p:cNvSpPr/>
            <p:nvPr/>
          </p:nvSpPr>
          <p:spPr>
            <a:xfrm>
              <a:off x="1116000" y="297792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∴ 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EAC=     ∠BAC=41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844720" y="2833560"/>
                  <a:ext cx="43200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/>
          <p:nvPr/>
        </p:nvSpPr>
        <p:spPr>
          <a:xfrm>
            <a:off x="1042920" y="3573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D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△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高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40640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∴ 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DC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71640" y="47005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∵ 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AC+ ∠ADC+ ∠C =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71640" y="519912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∴ 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DAC=18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D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18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0°=5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6000" y="6067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∴ 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DAE=∠DAC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C=50°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41°=9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940360" y="1989000"/>
            <a:ext cx="3203640" cy="2044080"/>
            <a:chOff x="5940360" y="1989000"/>
            <a:chExt cx="3203640" cy="2044080"/>
          </a:xfrm>
        </p:grpSpPr>
        <p:grpSp>
          <p:nvGrpSpPr>
            <p:cNvPr id="341" name=""/>
            <p:cNvGrpSpPr/>
            <p:nvPr/>
          </p:nvGrpSpPr>
          <p:grpSpPr>
            <a:xfrm>
              <a:off x="6227640" y="2349360"/>
              <a:ext cx="2376720" cy="1295640"/>
              <a:chOff x="6227640" y="2349360"/>
              <a:chExt cx="2376720" cy="129564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6227640" y="2349360"/>
                <a:ext cx="2376720" cy="1295640"/>
                <a:chOff x="6227640" y="2349360"/>
                <a:chExt cx="2376720" cy="1295640"/>
              </a:xfrm>
            </p:grpSpPr>
            <p:sp>
              <p:nvSpPr>
                <p:cNvPr id="343" name=""/>
                <p:cNvSpPr/>
                <p:nvPr/>
              </p:nvSpPr>
              <p:spPr>
                <a:xfrm flipH="1">
                  <a:off x="6227640" y="2349360"/>
                  <a:ext cx="649440" cy="129564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877080" y="2349360"/>
                  <a:ext cx="1727280" cy="129564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6227640" y="3645000"/>
                  <a:ext cx="237672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77080" y="2349360"/>
                  <a:ext cx="216000" cy="129564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877080" y="2349360"/>
                  <a:ext cx="0" cy="129564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877080" y="3500280"/>
                <a:ext cx="71280" cy="144720"/>
                <a:chOff x="6877080" y="3500280"/>
                <a:chExt cx="71280" cy="1447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877080" y="3500280"/>
                  <a:ext cx="7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948360" y="3500280"/>
                  <a:ext cx="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6804000" y="1989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40360" y="3500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7640" y="3500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20000" y="357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16720" y="357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524200" y="4653000"/>
            <a:ext cx="18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根据什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8000" y="-27000"/>
            <a:ext cx="864072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在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别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上的中线和高。说明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面积与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E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面积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4214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1773360"/>
            <a:ext cx="21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18446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∵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AE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边上的中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2637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E = 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7621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10666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763640" y="5445000"/>
                <a:ext cx="2819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971640" y="556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20600" y="364500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619280" y="3213000"/>
                <a:ext cx="38098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547640" y="4221000"/>
                <a:ext cx="35053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E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EC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5651640" y="1628640"/>
            <a:ext cx="3240000" cy="2259720"/>
            <a:chOff x="5651640" y="1628640"/>
            <a:chExt cx="3240000" cy="2259720"/>
          </a:xfrm>
        </p:grpSpPr>
        <p:grpSp>
          <p:nvGrpSpPr>
            <p:cNvPr id="370" name=""/>
            <p:cNvGrpSpPr/>
            <p:nvPr/>
          </p:nvGrpSpPr>
          <p:grpSpPr>
            <a:xfrm>
              <a:off x="7452000" y="3357360"/>
              <a:ext cx="144360" cy="144360"/>
              <a:chOff x="7452000" y="3357360"/>
              <a:chExt cx="144360" cy="144360"/>
            </a:xfrm>
          </p:grpSpPr>
          <p:sp>
            <p:nvSpPr>
              <p:cNvPr id="371" name=""/>
              <p:cNvSpPr/>
              <p:nvPr/>
            </p:nvSpPr>
            <p:spPr>
              <a:xfrm>
                <a:off x="7452000" y="33573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96360" y="3357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651640" y="1628640"/>
              <a:ext cx="3240000" cy="2259720"/>
              <a:chOff x="5651640" y="1628640"/>
              <a:chExt cx="3240000" cy="225972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6012000" y="1989000"/>
                <a:ext cx="2376720" cy="1512720"/>
                <a:chOff x="6012000" y="1989000"/>
                <a:chExt cx="2376720" cy="1512720"/>
              </a:xfrm>
            </p:grpSpPr>
            <p:sp>
              <p:nvSpPr>
                <p:cNvPr id="375" name=""/>
                <p:cNvSpPr/>
                <p:nvPr/>
              </p:nvSpPr>
              <p:spPr>
                <a:xfrm flipH="1">
                  <a:off x="6012000" y="1989000"/>
                  <a:ext cx="1440000" cy="151272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012000" y="3501720"/>
                  <a:ext cx="237672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>
                  <a:off x="7452000" y="1989000"/>
                  <a:ext cx="936720" cy="151272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452000" y="1989000"/>
                  <a:ext cx="0" cy="151272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7236000" y="1989000"/>
                  <a:ext cx="216000" cy="151272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7307640" y="162864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236000" y="3428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948720" y="3428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15640" y="314136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51640" y="321264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468360" y="4437000"/>
            <a:ext cx="7343640" cy="90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这个例题你有什么发现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9640" y="5950080"/>
            <a:ext cx="7848360" cy="701640"/>
            <a:chOff x="539640" y="5950080"/>
            <a:chExt cx="7848360" cy="701640"/>
          </a:xfrm>
        </p:grpSpPr>
        <p:sp>
          <p:nvSpPr>
            <p:cNvPr id="387" name=""/>
            <p:cNvSpPr/>
            <p:nvPr/>
          </p:nvSpPr>
          <p:spPr>
            <a:xfrm>
              <a:off x="539640" y="5950080"/>
              <a:ext cx="7848360" cy="70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539640" y="6094440"/>
              <a:ext cx="763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solidFill>
                    <a:srgbClr val="ff0000"/>
                  </a:solidFill>
                  <a:latin typeface="隶书"/>
                </a:rPr>
                <a:t>三角形一边上的中线把它分成两个面积相等的三角形。</a:t>
              </a:r>
              <a:endParaRPr b="1" lang="en-US" sz="1800" spc="-1" strike="noStrike">
                <a:ln w="0">
                  <a:noFill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24000" y="5451480"/>
            <a:ext cx="7848360" cy="641160"/>
            <a:chOff x="324000" y="5451480"/>
            <a:chExt cx="7848360" cy="641160"/>
          </a:xfrm>
        </p:grpSpPr>
        <p:sp>
          <p:nvSpPr>
            <p:cNvPr id="390" name=""/>
            <p:cNvSpPr/>
            <p:nvPr/>
          </p:nvSpPr>
          <p:spPr>
            <a:xfrm>
              <a:off x="324000" y="5451480"/>
              <a:ext cx="784836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610920" y="5516280"/>
              <a:ext cx="70005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61176"/>
                        </a:srgbClr>
                      </a:gs>
                      <a:gs pos="100000">
                        <a:srgbClr val="000075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隶书"/>
                </a:rPr>
                <a:t>同高等底的两个三角形面积相等。</a:t>
              </a:r>
              <a:endPara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61176"/>
                      </a:srgbClr>
                    </a:gs>
                    <a:gs pos="100000">
                      <a:srgbClr val="00007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>
    <p:split dir="out" orient="horz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755640" y="907920"/>
            <a:ext cx="2952720" cy="1368360"/>
            <a:chOff x="755640" y="907920"/>
            <a:chExt cx="2952720" cy="1368360"/>
          </a:xfrm>
        </p:grpSpPr>
        <p:sp>
          <p:nvSpPr>
            <p:cNvPr id="393" name=""/>
            <p:cNvSpPr/>
            <p:nvPr/>
          </p:nvSpPr>
          <p:spPr>
            <a:xfrm>
              <a:off x="755640" y="1411200"/>
              <a:ext cx="2952720" cy="86508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</a:rPr>
                <a:t>探究活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1260360" y="907920"/>
              <a:ext cx="201636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"/>
          <p:cNvSpPr/>
          <p:nvPr/>
        </p:nvSpPr>
        <p:spPr>
          <a:xfrm>
            <a:off x="468360" y="3068640"/>
            <a:ext cx="8209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-8,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D,E,F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分别是△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的三条边的中点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设△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的面积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S,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求△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DEF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的面积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你可以这样考虑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: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连结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AE. △AEC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的面积是多少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由第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题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你能求出△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ECF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的面积吗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△ADF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和△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DBE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的面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7280" y="119160"/>
            <a:ext cx="3817440" cy="2952000"/>
            <a:chOff x="4067280" y="119160"/>
            <a:chExt cx="3817440" cy="2952000"/>
          </a:xfrm>
        </p:grpSpPr>
        <p:grpSp>
          <p:nvGrpSpPr>
            <p:cNvPr id="397" name=""/>
            <p:cNvGrpSpPr/>
            <p:nvPr/>
          </p:nvGrpSpPr>
          <p:grpSpPr>
            <a:xfrm>
              <a:off x="4067280" y="119160"/>
              <a:ext cx="3817440" cy="2618640"/>
              <a:chOff x="4067280" y="119160"/>
              <a:chExt cx="3817440" cy="261864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4390560" y="550800"/>
                <a:ext cx="3104640" cy="1800000"/>
                <a:chOff x="4390560" y="550800"/>
                <a:chExt cx="3104640" cy="18000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289120" y="1503000"/>
                  <a:ext cx="1633320" cy="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289120" y="1503000"/>
                  <a:ext cx="653760" cy="84744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5942880" y="1503000"/>
                  <a:ext cx="979560" cy="84744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5860080" y="1503000"/>
                  <a:ext cx="817560" cy="74016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5779440" y="1503000"/>
                  <a:ext cx="653760" cy="63504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5698080" y="1503000"/>
                  <a:ext cx="570600" cy="52992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5615640" y="1502640"/>
                  <a:ext cx="408600" cy="42228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5534280" y="1500840"/>
                  <a:ext cx="325800" cy="31968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5453280" y="1500480"/>
                  <a:ext cx="244440" cy="21204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390920" y="2350800"/>
                  <a:ext cx="3104280" cy="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4390560" y="550800"/>
                  <a:ext cx="1960920" cy="180000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351840" y="550800"/>
                  <a:ext cx="1143360" cy="1800000"/>
                </a:xfrm>
                <a:prstGeom prst="line">
                  <a:avLst/>
                </a:prstGeom>
                <a:ln w="1908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5942520" y="550800"/>
                  <a:ext cx="408600" cy="1800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>
                <a:off x="6267960" y="119160"/>
                <a:ext cx="45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067280" y="2206800"/>
                <a:ext cx="4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97000" y="2206800"/>
                <a:ext cx="38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14880" y="11271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38200" y="112716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50280" y="2278080"/>
                <a:ext cx="51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582880" y="2611440"/>
              <a:ext cx="8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00"/>
                  </a:solidFill>
                  <a:latin typeface="Arial"/>
                </a:rPr>
                <a:t>图</a:t>
              </a:r>
              <a:r>
                <a:rPr b="1" lang="zh-CN" sz="2400" spc="-1" strike="noStrike">
                  <a:solidFill>
                    <a:srgbClr val="003300"/>
                  </a:solidFill>
                  <a:latin typeface="Arial"/>
                </a:rPr>
                <a:t>1-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684360" y="692280"/>
            <a:ext cx="287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知识回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0" name=""/>
          <p:cNvSpPr/>
          <p:nvPr/>
        </p:nvSpPr>
        <p:spPr>
          <a:xfrm>
            <a:off x="950760" y="2039760"/>
            <a:ext cx="786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什么是三角形的角平分线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90720" y="3200400"/>
            <a:ext cx="69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什么是三角形的中线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71640" y="42512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么是三角形的高线？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14400" y="541008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4. 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三角形的中线的性质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6320" y="76320"/>
            <a:ext cx="22860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知识回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828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Garamond"/>
                <a:ea typeface="黑体"/>
              </a:rPr>
              <a:t>1:</a:t>
            </a:r>
            <a:r>
              <a:rPr b="1" lang="zh-CN" sz="3600" spc="-1" strike="noStrike">
                <a:solidFill>
                  <a:srgbClr val="0033cc"/>
                </a:solidFill>
                <a:latin typeface="Garamond"/>
                <a:ea typeface="黑体"/>
              </a:rPr>
              <a:t>角平分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666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一个角的顶点引出的一条射线，把这个角分成两个相等的角。这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射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这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角的平分线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3400" y="4038480"/>
            <a:ext cx="2838600" cy="2136240"/>
            <a:chOff x="5693400" y="4038480"/>
            <a:chExt cx="2838600" cy="2136240"/>
          </a:xfrm>
        </p:grpSpPr>
        <p:sp>
          <p:nvSpPr>
            <p:cNvPr id="110" name=""/>
            <p:cNvSpPr/>
            <p:nvPr/>
          </p:nvSpPr>
          <p:spPr>
            <a:xfrm>
              <a:off x="6011640" y="59022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011640" y="4301640"/>
              <a:ext cx="1371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011640" y="5064120"/>
              <a:ext cx="19051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9340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9200" y="4038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02720" y="4800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31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966960" y="4637160"/>
            <a:ext cx="4621680" cy="1640880"/>
            <a:chOff x="966960" y="4637160"/>
            <a:chExt cx="4621680" cy="1640880"/>
          </a:xfrm>
        </p:grpSpPr>
        <p:sp>
          <p:nvSpPr>
            <p:cNvPr id="118" name=""/>
            <p:cNvSpPr/>
            <p:nvPr/>
          </p:nvSpPr>
          <p:spPr>
            <a:xfrm>
              <a:off x="966960" y="4637160"/>
              <a:ext cx="46216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如图，记作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∵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OC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是∠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AOB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的平分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∠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AOC=∠BOC=   </a:t>
              </a: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∠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AOB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679560" y="4830480"/>
                  <a:ext cx="511200" cy="14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0" name=""/>
          <p:cNvSpPr/>
          <p:nvPr/>
        </p:nvSpPr>
        <p:spPr>
          <a:xfrm flipV="1">
            <a:off x="6053040" y="5091120"/>
            <a:ext cx="1871640" cy="79200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45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三角形的角平分线的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943600" y="3657600"/>
            <a:ext cx="2701080" cy="2032560"/>
            <a:chOff x="5943600" y="3657600"/>
            <a:chExt cx="2701080" cy="2032560"/>
          </a:xfrm>
        </p:grpSpPr>
        <p:grpSp>
          <p:nvGrpSpPr>
            <p:cNvPr id="123" name=""/>
            <p:cNvGrpSpPr/>
            <p:nvPr/>
          </p:nvGrpSpPr>
          <p:grpSpPr>
            <a:xfrm>
              <a:off x="5943600" y="3657600"/>
              <a:ext cx="2701080" cy="1872720"/>
              <a:chOff x="5943600" y="3657600"/>
              <a:chExt cx="2701080" cy="1872720"/>
            </a:xfrm>
          </p:grpSpPr>
          <p:sp>
            <p:nvSpPr>
              <p:cNvPr id="124" name=""/>
              <p:cNvSpPr/>
              <p:nvPr/>
            </p:nvSpPr>
            <p:spPr>
              <a:xfrm>
                <a:off x="6927840" y="4063320"/>
                <a:ext cx="1521000" cy="1162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301440" y="4063320"/>
                <a:ext cx="626400" cy="116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01440" y="5225760"/>
                <a:ext cx="21474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70000" y="3657600"/>
                <a:ext cx="18468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943600" y="5108760"/>
                <a:ext cx="1846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460000" y="5164920"/>
                <a:ext cx="1846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927840" y="4083120"/>
              <a:ext cx="271440" cy="1607040"/>
              <a:chOff x="6927840" y="4083120"/>
              <a:chExt cx="271440" cy="160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6927840" y="4083120"/>
                <a:ext cx="268200" cy="116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014960" y="5324400"/>
                <a:ext cx="1843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685800" y="419112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 角平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68360" y="3784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8800" y="5181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69960" y="510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440" y="510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54864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思考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三角形的角平分线与角的平分线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5400" y="4104720"/>
            <a:ext cx="251640" cy="113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590920"/>
            <a:ext cx="6934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图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BA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平分线交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点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D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线段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就是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一条角平分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1219320"/>
            <a:ext cx="89913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三角形中，一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角平分线与它的对边相交，这个角的顶点与交点之间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三角形的角平分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80960" y="5576760"/>
            <a:ext cx="7153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三角形的角平分线是一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6095880"/>
            <a:ext cx="8382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三角形的角平分线仍具有角平分线的基本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191120"/>
            <a:ext cx="495288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09480" y="4800600"/>
            <a:ext cx="4785480" cy="825480"/>
            <a:chOff x="609480" y="4800600"/>
            <a:chExt cx="4785480" cy="825480"/>
          </a:xfrm>
        </p:grpSpPr>
        <p:grpSp>
          <p:nvGrpSpPr>
            <p:cNvPr id="146" name=""/>
            <p:cNvGrpSpPr/>
            <p:nvPr/>
          </p:nvGrpSpPr>
          <p:grpSpPr>
            <a:xfrm>
              <a:off x="609480" y="4876560"/>
              <a:ext cx="4785480" cy="581400"/>
              <a:chOff x="609480" y="4876560"/>
              <a:chExt cx="4785480" cy="581400"/>
            </a:xfrm>
          </p:grpSpPr>
          <p:graphicFrame>
            <p:nvGraphicFramePr>
              <p:cNvPr id="147" name=""/>
              <p:cNvGraphicFramePr/>
              <p:nvPr/>
            </p:nvGraphicFramePr>
            <p:xfrm>
              <a:off x="609480" y="4914720"/>
              <a:ext cx="492120" cy="522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4914720"/>
                        <a:ext cx="492120" cy="52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9" name=""/>
              <p:cNvSpPr/>
              <p:nvPr/>
            </p:nvSpPr>
            <p:spPr>
              <a:xfrm>
                <a:off x="1021320" y="4876560"/>
                <a:ext cx="437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∠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AD =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∠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CAD =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∠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A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005000" y="4800600"/>
              <a:ext cx="362520" cy="825480"/>
              <a:chOff x="4005000" y="4800600"/>
              <a:chExt cx="362520" cy="825480"/>
            </a:xfrm>
          </p:grpSpPr>
          <p:sp>
            <p:nvSpPr>
              <p:cNvPr id="151" name=""/>
              <p:cNvSpPr/>
              <p:nvPr/>
            </p:nvSpPr>
            <p:spPr>
              <a:xfrm>
                <a:off x="4034520" y="480060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05000" y="5216400"/>
                <a:ext cx="32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角形的角平分线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1219320"/>
            <a:ext cx="3047040" cy="779400"/>
            <a:chOff x="0" y="1219320"/>
            <a:chExt cx="3047040" cy="779400"/>
          </a:xfrm>
        </p:grpSpPr>
        <p:grpSp>
          <p:nvGrpSpPr>
            <p:cNvPr id="155" name=""/>
            <p:cNvGrpSpPr/>
            <p:nvPr/>
          </p:nvGrpSpPr>
          <p:grpSpPr>
            <a:xfrm>
              <a:off x="0" y="1219320"/>
              <a:ext cx="3047040" cy="761400"/>
              <a:chOff x="0" y="1219320"/>
              <a:chExt cx="3047040" cy="76140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1652760"/>
                <a:ext cx="2836800" cy="327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45360" y="1219320"/>
                <a:ext cx="2101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做一做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: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5120" y="1586880"/>
                <a:ext cx="840240" cy="26244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480" y="1799280"/>
                <a:ext cx="209880" cy="131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5120" y="1324440"/>
                <a:ext cx="840240" cy="32832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1080000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5120" y="1258920"/>
                <a:ext cx="838440" cy="1310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0480" y="1258920"/>
                <a:ext cx="20988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1054800" y="159984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P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04920" y="4038480"/>
            <a:ext cx="2438280" cy="1600200"/>
          </a:xfrm>
          <a:custGeom>
            <a:avLst/>
            <a:gdLst/>
            <a:ahLst/>
            <a:rect l="l" t="t" r="r" b="b"/>
            <a:pathLst>
              <a:path w="1536" h="1008">
                <a:moveTo>
                  <a:pt x="0" y="1008"/>
                </a:moveTo>
                <a:lnTo>
                  <a:pt x="1536" y="1008"/>
                </a:lnTo>
                <a:lnTo>
                  <a:pt x="1056" y="0"/>
                </a:lnTo>
                <a:lnTo>
                  <a:pt x="0" y="1008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657600"/>
            <a:ext cx="1752480" cy="1981080"/>
          </a:xfrm>
          <a:custGeom>
            <a:avLst/>
            <a:gdLst/>
            <a:ahLst/>
            <a:rect l="l" t="t" r="r" b="b"/>
            <a:pathLst>
              <a:path w="1104" h="1248">
                <a:moveTo>
                  <a:pt x="0" y="1248"/>
                </a:moveTo>
                <a:lnTo>
                  <a:pt x="1104" y="1248"/>
                </a:lnTo>
                <a:lnTo>
                  <a:pt x="1104" y="0"/>
                </a:lnTo>
                <a:lnTo>
                  <a:pt x="0" y="1248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4267080"/>
            <a:ext cx="2971800" cy="1371600"/>
          </a:xfrm>
          <a:custGeom>
            <a:avLst/>
            <a:gdLst/>
            <a:ahLst/>
            <a:rect l="l" t="t" r="r" b="b"/>
            <a:pathLst>
              <a:path w="1872" h="864">
                <a:moveTo>
                  <a:pt x="0" y="864"/>
                </a:moveTo>
                <a:lnTo>
                  <a:pt x="912" y="864"/>
                </a:lnTo>
                <a:lnTo>
                  <a:pt x="1872" y="0"/>
                </a:lnTo>
                <a:lnTo>
                  <a:pt x="0" y="86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1218960" y="4800600"/>
            <a:ext cx="1523880" cy="838080"/>
          </a:xfrm>
          <a:prstGeom prst="line">
            <a:avLst/>
          </a:prstGeom>
          <a:ln w="381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04920" y="4876920"/>
            <a:ext cx="2057400" cy="761760"/>
          </a:xfrm>
          <a:prstGeom prst="line">
            <a:avLst/>
          </a:prstGeom>
          <a:ln w="381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676520" y="4038480"/>
            <a:ext cx="304560" cy="1600200"/>
          </a:xfrm>
          <a:prstGeom prst="line">
            <a:avLst/>
          </a:prstGeom>
          <a:ln w="381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29000" y="4876920"/>
            <a:ext cx="1752480" cy="761760"/>
          </a:xfrm>
          <a:prstGeom prst="line">
            <a:avLst/>
          </a:prstGeom>
          <a:ln w="381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190760" y="4800600"/>
            <a:ext cx="990360" cy="838080"/>
          </a:xfrm>
          <a:prstGeom prst="line">
            <a:avLst/>
          </a:prstGeom>
          <a:ln w="381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419720" y="3657600"/>
            <a:ext cx="761760" cy="1981080"/>
          </a:xfrm>
          <a:prstGeom prst="line">
            <a:avLst/>
          </a:prstGeom>
          <a:ln w="381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91320" y="5181480"/>
            <a:ext cx="1981080" cy="457200"/>
          </a:xfrm>
          <a:prstGeom prst="line">
            <a:avLst/>
          </a:prstGeom>
          <a:ln w="381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5360" y="4267080"/>
            <a:ext cx="2057400" cy="1371600"/>
          </a:xfrm>
          <a:prstGeom prst="line">
            <a:avLst/>
          </a:prstGeom>
          <a:ln w="381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7086240" y="5028840"/>
            <a:ext cx="152280" cy="609480"/>
          </a:xfrm>
          <a:prstGeom prst="line">
            <a:avLst/>
          </a:prstGeom>
          <a:ln w="381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973840"/>
            <a:ext cx="5790960" cy="5205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  <a:ea typeface="华文中宋"/>
              </a:rPr>
              <a:t>三角形的三条角平分线交于同一点</a:t>
            </a:r>
            <a:r>
              <a:rPr b="1" lang="zh-CN" sz="2800" spc="-1" strike="noStrike">
                <a:solidFill>
                  <a:srgbClr val="ffff99"/>
                </a:solidFill>
                <a:latin typeface="Times New Roman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4240" y="1522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三角形的中线的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3763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 中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7120" y="4338720"/>
            <a:ext cx="3776040" cy="1224720"/>
            <a:chOff x="357120" y="4338720"/>
            <a:chExt cx="3776040" cy="1224720"/>
          </a:xfrm>
        </p:grpSpPr>
        <p:sp>
          <p:nvSpPr>
            <p:cNvPr id="181" name=""/>
            <p:cNvSpPr/>
            <p:nvPr/>
          </p:nvSpPr>
          <p:spPr>
            <a:xfrm>
              <a:off x="357120" y="4338720"/>
              <a:ext cx="377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D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=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D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=  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356640" y="4372200"/>
              <a:ext cx="443880" cy="1191240"/>
              <a:chOff x="3356640" y="4372200"/>
              <a:chExt cx="443880" cy="1191240"/>
            </a:xfrm>
          </p:grpSpPr>
          <p:sp>
            <p:nvSpPr>
              <p:cNvPr id="183" name=""/>
              <p:cNvSpPr/>
              <p:nvPr/>
            </p:nvSpPr>
            <p:spPr>
              <a:xfrm>
                <a:off x="3391200" y="43722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6640" y="4937400"/>
                <a:ext cx="40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410080" y="3124080"/>
            <a:ext cx="3384720" cy="2232000"/>
            <a:chOff x="5410080" y="3124080"/>
            <a:chExt cx="3384720" cy="2232000"/>
          </a:xfrm>
        </p:grpSpPr>
        <p:sp>
          <p:nvSpPr>
            <p:cNvPr id="186" name=""/>
            <p:cNvSpPr/>
            <p:nvPr/>
          </p:nvSpPr>
          <p:spPr>
            <a:xfrm>
              <a:off x="5670720" y="3595680"/>
              <a:ext cx="2506680" cy="1509840"/>
            </a:xfrm>
            <a:prstGeom prst="triangle">
              <a:avLst>
                <a:gd name="adj" fmla="val 680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10440" y="3124080"/>
              <a:ext cx="8128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0080" y="4975200"/>
              <a:ext cx="463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7440" y="5025960"/>
              <a:ext cx="657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6897600" y="3586320"/>
            <a:ext cx="487440" cy="15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79800" y="5068800"/>
            <a:ext cx="3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华文隶书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02440" y="499572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75520" y="499572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54800" y="499572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1520" y="506880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26440" y="499572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5486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角形的中线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666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如图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中点，线段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就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边上的中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838080"/>
            <a:ext cx="86868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三角形中，连接一个顶点与它对边 中点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这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角形的中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5486400"/>
            <a:ext cx="7619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特点：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三角形的中线是一条线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6095880"/>
            <a:ext cx="770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三角形的中线的一端平分这条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581280"/>
            <a:ext cx="4572000" cy="1752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角形的三条中线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2819520"/>
            <a:ext cx="2590560" cy="1600200"/>
          </a:xfrm>
          <a:custGeom>
            <a:avLst/>
            <a:gdLst/>
            <a:ahLst/>
            <a:rect l="l" t="t" r="r" b="b"/>
            <a:pathLst>
              <a:path w="1632" h="1008">
                <a:moveTo>
                  <a:pt x="0" y="1008"/>
                </a:moveTo>
                <a:lnTo>
                  <a:pt x="1632" y="1008"/>
                </a:lnTo>
                <a:lnTo>
                  <a:pt x="1200" y="0"/>
                </a:lnTo>
                <a:lnTo>
                  <a:pt x="0" y="100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666880"/>
            <a:ext cx="1752480" cy="1752840"/>
          </a:xfrm>
          <a:custGeom>
            <a:avLst/>
            <a:gdLst/>
            <a:ahLst/>
            <a:rect l="l" t="t" r="r" b="b"/>
            <a:pathLst>
              <a:path w="1104" h="1104">
                <a:moveTo>
                  <a:pt x="0" y="1104"/>
                </a:moveTo>
                <a:lnTo>
                  <a:pt x="1104" y="1104"/>
                </a:lnTo>
                <a:lnTo>
                  <a:pt x="1104" y="0"/>
                </a:lnTo>
                <a:lnTo>
                  <a:pt x="0" y="110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819520"/>
            <a:ext cx="2590560" cy="1600200"/>
          </a:xfrm>
          <a:custGeom>
            <a:avLst/>
            <a:gdLst/>
            <a:ahLst/>
            <a:rect l="l" t="t" r="r" b="b"/>
            <a:pathLst>
              <a:path w="1632" h="1008">
                <a:moveTo>
                  <a:pt x="0" y="1008"/>
                </a:moveTo>
                <a:lnTo>
                  <a:pt x="816" y="1008"/>
                </a:lnTo>
                <a:lnTo>
                  <a:pt x="1632" y="0"/>
                </a:lnTo>
                <a:lnTo>
                  <a:pt x="0" y="100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828440" y="2819520"/>
            <a:ext cx="6094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3520" y="3580920"/>
            <a:ext cx="220968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1523520" y="3580920"/>
            <a:ext cx="160020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657600" y="3505320"/>
            <a:ext cx="175248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572000" y="3505320"/>
            <a:ext cx="83808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572000" y="2666880"/>
            <a:ext cx="83808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019920" y="3580920"/>
            <a:ext cx="198108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315200" y="358092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629040" y="2819520"/>
            <a:ext cx="1981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4876920"/>
            <a:ext cx="4876560" cy="5205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华文中宋"/>
                <a:ea typeface="华文中宋"/>
              </a:rPr>
              <a:t>三角形的三条中线交于一点</a:t>
            </a:r>
            <a:r>
              <a:rPr b="1" lang="zh-CN" sz="2800" spc="-1" strike="noStrike">
                <a:solidFill>
                  <a:srgbClr val="ffff99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914400"/>
            <a:ext cx="3047040" cy="779760"/>
            <a:chOff x="0" y="914400"/>
            <a:chExt cx="3047040" cy="779760"/>
          </a:xfrm>
        </p:grpSpPr>
        <p:grpSp>
          <p:nvGrpSpPr>
            <p:cNvPr id="218" name=""/>
            <p:cNvGrpSpPr/>
            <p:nvPr/>
          </p:nvGrpSpPr>
          <p:grpSpPr>
            <a:xfrm>
              <a:off x="0" y="914400"/>
              <a:ext cx="3047040" cy="762120"/>
              <a:chOff x="0" y="914400"/>
              <a:chExt cx="3047040" cy="76212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1348200"/>
                <a:ext cx="2836800" cy="328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45360" y="914400"/>
                <a:ext cx="2101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做一做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: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05120" y="1282320"/>
                <a:ext cx="840240" cy="26280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20480" y="1494360"/>
                <a:ext cx="209880" cy="131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05120" y="1019520"/>
                <a:ext cx="840240" cy="32832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1080000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5120" y="954000"/>
                <a:ext cx="838440" cy="1310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0480" y="954000"/>
                <a:ext cx="20988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054800" y="1295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P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5280" y="765000"/>
            <a:ext cx="8136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三角形的一个顶点向它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对边所在的直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垂线，顶点和垂足之间的线段叫做</a:t>
            </a:r>
            <a:r>
              <a:rPr b="1" lang="zh-CN" sz="2800" spc="-1" strike="noStrike">
                <a:solidFill>
                  <a:srgbClr val="eb302b"/>
                </a:solidFill>
                <a:latin typeface="宋体"/>
              </a:rPr>
              <a:t>三角形的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24000" y="1828800"/>
            <a:ext cx="3276360" cy="2822040"/>
            <a:chOff x="324000" y="1828800"/>
            <a:chExt cx="3276360" cy="2822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399960" y="2133720"/>
              <a:ext cx="28958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92420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000" y="4191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14560" y="4191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928880" y="2152800"/>
            <a:ext cx="411120" cy="2498040"/>
            <a:chOff x="1928880" y="2152800"/>
            <a:chExt cx="411120" cy="24980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1928880" y="2152800"/>
              <a:ext cx="411120" cy="21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035080" y="41911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114800" y="2362320"/>
            <a:ext cx="4571640" cy="1823040"/>
            <a:chOff x="4114800" y="2362320"/>
            <a:chExt cx="4571640" cy="1823040"/>
          </a:xfrm>
        </p:grpSpPr>
        <p:sp>
          <p:nvSpPr>
            <p:cNvPr id="237" name=""/>
            <p:cNvSpPr/>
            <p:nvPr/>
          </p:nvSpPr>
          <p:spPr>
            <a:xfrm>
              <a:off x="4114800" y="2362320"/>
              <a:ext cx="4484160" cy="17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02280" y="2533320"/>
              <a:ext cx="2725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∵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AD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是△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AB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BC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边上的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2280" y="3216960"/>
              <a:ext cx="44841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∴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AD ⊥ BC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或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∠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ADB=∠ADC=90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52280" y="2286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三角形的高线定义</a:t>
            </a: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3408120" y="3447360"/>
            <a:ext cx="983520" cy="590040"/>
            <a:chOff x="3408120" y="3447360"/>
            <a:chExt cx="983520" cy="590040"/>
          </a:xfrm>
        </p:grpSpPr>
        <p:sp>
          <p:nvSpPr>
            <p:cNvPr id="242" name=""/>
            <p:cNvSpPr/>
            <p:nvPr/>
          </p:nvSpPr>
          <p:spPr>
            <a:xfrm flipV="1">
              <a:off x="3408120" y="3447360"/>
              <a:ext cx="924480" cy="59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4247600">
              <a:off x="4259880" y="3473280"/>
              <a:ext cx="114120" cy="1040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5600" y="2349360"/>
            <a:ext cx="2438280" cy="1600200"/>
          </a:xfrm>
          <a:custGeom>
            <a:avLst/>
            <a:gdLst/>
            <a:ahLst/>
            <a:rect l="l" t="t" r="r" b="b"/>
            <a:pathLst>
              <a:path w="1536" h="1008">
                <a:moveTo>
                  <a:pt x="0" y="1008"/>
                </a:moveTo>
                <a:lnTo>
                  <a:pt x="1536" y="1008"/>
                </a:lnTo>
                <a:lnTo>
                  <a:pt x="1056" y="0"/>
                </a:lnTo>
                <a:lnTo>
                  <a:pt x="0" y="1008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79480" y="2349360"/>
            <a:ext cx="152280" cy="1604880"/>
            <a:chOff x="1779480" y="2349360"/>
            <a:chExt cx="152280" cy="1604880"/>
          </a:xfrm>
        </p:grpSpPr>
        <p:sp>
          <p:nvSpPr>
            <p:cNvPr id="246" name=""/>
            <p:cNvSpPr/>
            <p:nvPr/>
          </p:nvSpPr>
          <p:spPr>
            <a:xfrm>
              <a:off x="1931760" y="2349360"/>
              <a:ext cx="0" cy="1604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79480" y="379728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5360" y="3011040"/>
            <a:ext cx="2113200" cy="948960"/>
            <a:chOff x="225360" y="3011040"/>
            <a:chExt cx="2113200" cy="948960"/>
          </a:xfrm>
        </p:grpSpPr>
        <p:sp>
          <p:nvSpPr>
            <p:cNvPr id="249" name=""/>
            <p:cNvSpPr/>
            <p:nvPr/>
          </p:nvSpPr>
          <p:spPr>
            <a:xfrm flipV="1">
              <a:off x="225360" y="3170880"/>
              <a:ext cx="2113200" cy="789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208600">
              <a:off x="2160360" y="3034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290960" y="2851560"/>
            <a:ext cx="1402920" cy="1097640"/>
            <a:chOff x="1290960" y="2851560"/>
            <a:chExt cx="1402920" cy="1097640"/>
          </a:xfrm>
        </p:grpSpPr>
        <p:sp>
          <p:nvSpPr>
            <p:cNvPr id="252" name=""/>
            <p:cNvSpPr/>
            <p:nvPr/>
          </p:nvSpPr>
          <p:spPr>
            <a:xfrm flipH="1" flipV="1">
              <a:off x="1398600" y="2882520"/>
              <a:ext cx="129528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3141800">
              <a:off x="1321920" y="28825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855800" y="3232080"/>
            <a:ext cx="685800" cy="566640"/>
            <a:chOff x="1855800" y="3232080"/>
            <a:chExt cx="685800" cy="566640"/>
          </a:xfrm>
        </p:grpSpPr>
        <p:sp>
          <p:nvSpPr>
            <p:cNvPr id="255" name=""/>
            <p:cNvSpPr/>
            <p:nvPr/>
          </p:nvSpPr>
          <p:spPr>
            <a:xfrm>
              <a:off x="1855800" y="3232080"/>
              <a:ext cx="108000" cy="1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63720" y="3278160"/>
              <a:ext cx="67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66"/>
                  </a:solidFill>
                  <a:latin typeface="Arial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436920" y="2216160"/>
            <a:ext cx="1371600" cy="1828800"/>
          </a:xfrm>
          <a:prstGeom prst="rtTriangle">
            <a:avLst/>
          </a:prstGeom>
          <a:noFill/>
          <a:ln w="38160">
            <a:solidFill>
              <a:srgbClr val="12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36920" y="3892680"/>
            <a:ext cx="15228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lnTo>
                  <a:pt x="96" y="0"/>
                </a:lnTo>
                <a:lnTo>
                  <a:pt x="96" y="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8680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4160" y="3983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34360" y="39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36920" y="2216160"/>
            <a:ext cx="1440" cy="1828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436920" y="4044960"/>
            <a:ext cx="137160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6932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671080" y="1876320"/>
            <a:ext cx="3256200" cy="2273040"/>
            <a:chOff x="5671080" y="1876320"/>
            <a:chExt cx="3256200" cy="2273040"/>
          </a:xfrm>
        </p:grpSpPr>
        <p:sp>
          <p:nvSpPr>
            <p:cNvPr id="266" name=""/>
            <p:cNvSpPr/>
            <p:nvPr/>
          </p:nvSpPr>
          <p:spPr>
            <a:xfrm>
              <a:off x="5729400" y="2333520"/>
              <a:ext cx="2971800" cy="1295280"/>
            </a:xfrm>
            <a:custGeom>
              <a:avLst/>
              <a:gdLst/>
              <a:ahLst/>
              <a:rect l="l" t="t" r="r" b="b"/>
              <a:pathLst>
                <a:path w="1872" h="672">
                  <a:moveTo>
                    <a:pt x="1152" y="672"/>
                  </a:moveTo>
                  <a:lnTo>
                    <a:pt x="1872" y="672"/>
                  </a:lnTo>
                  <a:lnTo>
                    <a:pt x="0" y="0"/>
                  </a:lnTo>
                  <a:lnTo>
                    <a:pt x="1152" y="672"/>
                  </a:lnTo>
                  <a:close/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71080" y="1876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ff"/>
                  </a:solidFill>
                  <a:latin typeface="Arial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69120" y="36288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ff"/>
                  </a:solidFill>
                  <a:latin typeface="Arial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90600" y="3552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3333ff"/>
                  </a:solidFill>
                  <a:latin typeface="Arial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515360" y="3197160"/>
            <a:ext cx="360720" cy="464040"/>
            <a:chOff x="7515360" y="3197160"/>
            <a:chExt cx="360720" cy="464040"/>
          </a:xfrm>
        </p:grpSpPr>
        <p:sp>
          <p:nvSpPr>
            <p:cNvPr id="271" name=""/>
            <p:cNvSpPr/>
            <p:nvPr/>
          </p:nvSpPr>
          <p:spPr>
            <a:xfrm flipV="1">
              <a:off x="7515360" y="3214440"/>
              <a:ext cx="247680" cy="44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7199400">
              <a:off x="7675200" y="3236400"/>
              <a:ext cx="179280" cy="15264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H="1">
            <a:off x="5363640" y="3629160"/>
            <a:ext cx="213372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745240" y="2333520"/>
            <a:ext cx="152280" cy="1295280"/>
            <a:chOff x="5745240" y="2333520"/>
            <a:chExt cx="152280" cy="1295280"/>
          </a:xfrm>
        </p:grpSpPr>
        <p:sp>
          <p:nvSpPr>
            <p:cNvPr id="275" name=""/>
            <p:cNvSpPr/>
            <p:nvPr/>
          </p:nvSpPr>
          <p:spPr>
            <a:xfrm>
              <a:off x="5745240" y="2333520"/>
              <a:ext cx="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45240" y="3466800"/>
              <a:ext cx="152280" cy="1620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18800" y="362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8200" y="3643200"/>
            <a:ext cx="990360" cy="68580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44000" y="3643200"/>
            <a:ext cx="457200" cy="563400"/>
            <a:chOff x="8244000" y="3643200"/>
            <a:chExt cx="457200" cy="563400"/>
          </a:xfrm>
        </p:grpSpPr>
        <p:sp>
          <p:nvSpPr>
            <p:cNvPr id="280" name=""/>
            <p:cNvSpPr/>
            <p:nvPr/>
          </p:nvSpPr>
          <p:spPr>
            <a:xfrm rot="2098800">
              <a:off x="8320320" y="4023720"/>
              <a:ext cx="152280" cy="15264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8244000" y="3643200"/>
              <a:ext cx="457200" cy="511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673040" y="2765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99480" y="4133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66"/>
                </a:solidFill>
                <a:latin typeface="Arial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2120"/>
            <a:ext cx="82090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三角尺分别作图中锐角三角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角三角形和钝角三角形的各边上的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4300560"/>
            <a:ext cx="8064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你所作的图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三个三角形中三条高的位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三角形的类型有什么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2720" y="5805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三角形的三条高会相交吗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0"/>
            <a:ext cx="3047040" cy="779760"/>
            <a:chOff x="0" y="0"/>
            <a:chExt cx="3047040" cy="779760"/>
          </a:xfrm>
        </p:grpSpPr>
        <p:grpSp>
          <p:nvGrpSpPr>
            <p:cNvPr id="288" name=""/>
            <p:cNvGrpSpPr/>
            <p:nvPr/>
          </p:nvGrpSpPr>
          <p:grpSpPr>
            <a:xfrm>
              <a:off x="0" y="0"/>
              <a:ext cx="3047040" cy="762120"/>
              <a:chOff x="0" y="0"/>
              <a:chExt cx="3047040" cy="76212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433800"/>
                <a:ext cx="2836800" cy="328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d0f4"/>
                  </a:gs>
                </a:gsLst>
                <a:lin ang="5400000"/>
              </a:gradFill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45360" y="0"/>
                <a:ext cx="2101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做一做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: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5120" y="367920"/>
                <a:ext cx="840240" cy="26280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480" y="579960"/>
                <a:ext cx="209880" cy="131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5120" y="105120"/>
                <a:ext cx="840240" cy="32832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1080000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5120" y="39600"/>
                <a:ext cx="838440" cy="1310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0480" y="39600"/>
                <a:ext cx="209880" cy="65160"/>
              </a:xfrm>
              <a:prstGeom prst="ellipse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054800" y="3808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P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79280" y="44280"/>
            <a:ext cx="860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锐角三角形的三条高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三角形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内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直角三角形的直角边上的高分别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直角边重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钝角三角形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钝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边上的高都在三角形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外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它们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垂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在相应顶点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对边延长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47941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锐角三角形的三条高交于三角形内部一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55897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直角三角形的三条高交于直角顶点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9-03T06:39:48Z</dcterms:modified>
  <cp:revision>50</cp:revision>
  <dc:subject/>
  <dc:title/>
</cp:coreProperties>
</file>