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AF3D-957F-4249-BC74-0E57DDD7857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6045-B8F7-4A62-80B2-6EEE4348C19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0368-DBE6-4D68-AC65-533CD82916C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A6EA-5142-4185-8AEF-9280110DF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5961-8AB2-4EB9-9CFC-116A3D0B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6D30-7200-4FB2-9A58-899354BAA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C6F2-CA31-435F-B348-40D7CBBC4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3A9A-7ECA-47CD-83B1-086E161E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60E5-83DE-40A3-80A6-BBA85C83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470C-ECD4-42A8-9D57-B57C247E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9D08-6B17-46C7-AE7C-67E9AA99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4D50-7992-44E7-A502-CF16FA54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ACEF-567C-424D-82FC-1EB02E6C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761A-C6DD-4829-BEAB-5AD5A3BA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F3FB-10CD-48EF-B457-C3F8E92E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CCB8-3ECC-4002-9F0B-0A7744AEC6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03640" y="2276640"/>
            <a:ext cx="34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3300"/>
                </a:solidFill>
                <a:latin typeface="Arial"/>
              </a:rPr>
              <a:t>1.3  </a:t>
            </a:r>
            <a:r>
              <a:rPr b="1" i="1" lang="zh-CN" sz="4000" spc="-1" strike="noStrike">
                <a:solidFill>
                  <a:srgbClr val="ff3300"/>
                </a:solidFill>
                <a:latin typeface="Arial"/>
              </a:rPr>
              <a:t>证明  （</a:t>
            </a:r>
            <a:r>
              <a:rPr b="1" i="1" lang="zh-CN" sz="40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i="1" lang="zh-CN" sz="4000" spc="-1" strike="noStrike">
                <a:solidFill>
                  <a:srgbClr val="ff33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作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240" y="2924280"/>
            <a:ext cx="8373960" cy="32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完成作业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同步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预习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</a:rPr>
              <a:t>1.3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证明（２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979640" y="836640"/>
            <a:ext cx="1434960" cy="184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2" descr="图片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图片 3" descr="469"/>
          <p:cNvPicPr/>
          <p:nvPr/>
        </p:nvPicPr>
        <p:blipFill>
          <a:blip r:embed="rId3"/>
          <a:stretch/>
        </p:blipFill>
        <p:spPr>
          <a:xfrm>
            <a:off x="1116000" y="5541840"/>
            <a:ext cx="1152360" cy="768600"/>
          </a:xfrm>
          <a:prstGeom prst="rect">
            <a:avLst/>
          </a:prstGeom>
          <a:ln w="0">
            <a:noFill/>
          </a:ln>
        </p:spPr>
      </p:pic>
      <p:sp>
        <p:nvSpPr>
          <p:cNvPr id="52" name="文本框 14"/>
          <p:cNvSpPr/>
          <p:nvPr/>
        </p:nvSpPr>
        <p:spPr>
          <a:xfrm>
            <a:off x="468000" y="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复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5"/>
          <p:cNvSpPr/>
          <p:nvPr/>
        </p:nvSpPr>
        <p:spPr>
          <a:xfrm>
            <a:off x="468360" y="62064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现阶段我们在数学上学习的命题有几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6"/>
          <p:cNvSpPr/>
          <p:nvPr/>
        </p:nvSpPr>
        <p:spPr>
          <a:xfrm>
            <a:off x="324000" y="1628640"/>
            <a:ext cx="27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命题的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7"/>
          <p:cNvSpPr/>
          <p:nvPr/>
        </p:nvSpPr>
        <p:spPr>
          <a:xfrm>
            <a:off x="3348000" y="112536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</a:rPr>
              <a:t>真命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8"/>
          <p:cNvSpPr/>
          <p:nvPr/>
        </p:nvSpPr>
        <p:spPr>
          <a:xfrm>
            <a:off x="4716360" y="112536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（包括基本事实和定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9"/>
          <p:cNvSpPr/>
          <p:nvPr/>
        </p:nvSpPr>
        <p:spPr>
          <a:xfrm>
            <a:off x="3419640" y="20606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假命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自选图形 20"/>
          <p:cNvSpPr/>
          <p:nvPr/>
        </p:nvSpPr>
        <p:spPr>
          <a:xfrm>
            <a:off x="3059280" y="1557360"/>
            <a:ext cx="144360" cy="934920"/>
          </a:xfrm>
          <a:custGeom>
            <a:avLst/>
            <a:gdLst>
              <a:gd name="textAreaLeft" fmla="*/ 92160 w 144360"/>
              <a:gd name="textAreaRight" fmla="*/ 144360 w 14436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1"/>
          <p:cNvSpPr/>
          <p:nvPr/>
        </p:nvSpPr>
        <p:spPr>
          <a:xfrm>
            <a:off x="3026160" y="2781360"/>
            <a:ext cx="80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说明一个命题是真命题的方法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2"/>
          <p:cNvSpPr/>
          <p:nvPr/>
        </p:nvSpPr>
        <p:spPr>
          <a:xfrm>
            <a:off x="2017800" y="3645000"/>
            <a:ext cx="45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通过推理的方式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即根据已知的事实来推断未知事实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3"/>
          <p:cNvSpPr/>
          <p:nvPr/>
        </p:nvSpPr>
        <p:spPr>
          <a:xfrm>
            <a:off x="755640" y="436572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说明一个命题是假命题的方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52400" y="48690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举一个反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16" descr="图片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文本框 2"/>
          <p:cNvSpPr/>
          <p:nvPr/>
        </p:nvSpPr>
        <p:spPr>
          <a:xfrm>
            <a:off x="826920" y="18900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通过观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先猜想结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再动手验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3"/>
          <p:cNvSpPr/>
          <p:nvPr/>
        </p:nvSpPr>
        <p:spPr>
          <a:xfrm>
            <a:off x="250920" y="1268280"/>
            <a:ext cx="8277120" cy="581400"/>
          </a:xfrm>
          <a:prstGeom prst="rect">
            <a:avLst/>
          </a:prstGeom>
          <a:noFill/>
          <a:ln cap="sq"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组直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,b,c,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否都互相平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4" descr="s4h10a"/>
          <p:cNvPicPr/>
          <p:nvPr/>
        </p:nvPicPr>
        <p:blipFill>
          <a:blip r:embed="rId3"/>
          <a:stretch/>
        </p:blipFill>
        <p:spPr>
          <a:xfrm>
            <a:off x="4500720" y="1844640"/>
            <a:ext cx="4132080" cy="2421000"/>
          </a:xfrm>
          <a:prstGeom prst="rect">
            <a:avLst/>
          </a:prstGeom>
          <a:ln w="0">
            <a:noFill/>
          </a:ln>
        </p:spPr>
      </p:pic>
      <p:sp>
        <p:nvSpPr>
          <p:cNvPr id="67" name="文本框 5"/>
          <p:cNvSpPr/>
          <p:nvPr/>
        </p:nvSpPr>
        <p:spPr>
          <a:xfrm>
            <a:off x="4211640" y="2852640"/>
            <a:ext cx="36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8"/>
          <p:cNvSpPr/>
          <p:nvPr/>
        </p:nvSpPr>
        <p:spPr>
          <a:xfrm>
            <a:off x="468360" y="4292640"/>
            <a:ext cx="817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n=0,1,2,3,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代数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-3n+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别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7,5,5,7,11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它们都是质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命题”对于自然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n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代数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-3n+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值都是质数”是真命题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艺术字 15"/>
          <p:cNvSpPr txBox="1"/>
          <p:nvPr/>
        </p:nvSpPr>
        <p:spPr>
          <a:xfrm>
            <a:off x="0" y="189000"/>
            <a:ext cx="270036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合作学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2205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观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58920" y="2492280"/>
            <a:ext cx="865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24000" y="220500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有错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292428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测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32000" y="3213000"/>
            <a:ext cx="865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24000" y="29242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有误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57336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枚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32000" y="3933720"/>
            <a:ext cx="865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24000" y="364500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不胜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2519280" cy="1720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187280" y="2060640"/>
            <a:ext cx="6767640" cy="29509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124000" y="2492280"/>
            <a:ext cx="54104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1.3 </a:t>
            </a:r>
            <a:r>
              <a:rPr b="0" lang="zh-CN" sz="5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证明（</a:t>
            </a:r>
            <a:r>
              <a:rPr b="0" lang="en-US" sz="5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1</a:t>
            </a:r>
            <a:r>
              <a:rPr b="0" lang="zh-CN" sz="5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）</a:t>
            </a:r>
            <a:endParaRPr b="0" lang="en-US" sz="5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87280" y="157320"/>
            <a:ext cx="2629080" cy="5814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隶书"/>
              </a:rPr>
              <a:t>证明的定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08000" y="5229360"/>
            <a:ext cx="2340000" cy="1341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804000" y="115920"/>
            <a:ext cx="2195640" cy="1197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39640" y="1171440"/>
            <a:ext cx="781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　要判定一个命题是真命题，往往需要从命题的条件出发，根据已知的定义、基本事实、定理，一步一步推得结论成立，这样的推理过程叫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幼圆"/>
              </a:rPr>
              <a:t>证明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81080" y="3860640"/>
            <a:ext cx="25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华文新魏"/>
              </a:rPr>
              <a:t>根据已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422100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386064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华文新魏"/>
              </a:rPr>
              <a:t>依据已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42920" y="508464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79640" y="472428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华文新魏"/>
              </a:rPr>
              <a:t>步步递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56000" y="508464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21440" y="473220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华文新魏"/>
              </a:rPr>
              <a:t>证实判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429200" y="260280"/>
            <a:ext cx="573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已知：如图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E∥B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=∠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09520" y="907920"/>
            <a:ext cx="30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求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: B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平分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B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726520" y="765000"/>
            <a:ext cx="2847960" cy="2618640"/>
            <a:chOff x="5726520" y="765000"/>
            <a:chExt cx="2847960" cy="2618640"/>
          </a:xfrm>
        </p:grpSpPr>
        <p:sp>
          <p:nvSpPr>
            <p:cNvPr id="96" name=""/>
            <p:cNvSpPr/>
            <p:nvPr/>
          </p:nvSpPr>
          <p:spPr>
            <a:xfrm>
              <a:off x="6141600" y="2977920"/>
              <a:ext cx="2340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141600" y="961920"/>
              <a:ext cx="1584360" cy="20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6141600" y="2185920"/>
              <a:ext cx="1729080" cy="792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6717960" y="2185920"/>
              <a:ext cx="1152720" cy="7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310520" y="765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59760" y="1898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6520" y="2781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823160" y="18446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74160" y="2923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115200" y="1628640"/>
            <a:ext cx="90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证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90960" y="1700280"/>
            <a:ext cx="36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∵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E∥BC(     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28160" y="1773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已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276640"/>
            <a:ext cx="61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∴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=∠E(                              )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00160" y="2349360"/>
            <a:ext cx="29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两直线平行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内错角相等      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1920" y="3068640"/>
            <a:ext cx="375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∵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=∠E (     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07440" y="3141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已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468360" y="3716280"/>
            <a:ext cx="61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∴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=∠2(                   )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4365720"/>
            <a:ext cx="712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平分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BC(                                )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79320" y="45086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角平分线的定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17160" y="3789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等量代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11120" y="98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58280" y="333360"/>
            <a:ext cx="68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已知：如图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B∥C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E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别平分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E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 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26960" y="836640"/>
            <a:ext cx="24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求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:∠1+∠2=9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16000" y="2276640"/>
            <a:ext cx="433080" cy="28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75058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750588"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7235280" y="1457640"/>
            <a:ext cx="218520" cy="99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37" y="15819"/>
                </a:moveTo>
                <a:arcTo wR="10800" hR="10800" stAng="9138329" swAng="12461671"/>
                <a:lnTo>
                  <a:pt x="10800" y="10800"/>
                </a:lnTo>
                <a:close/>
              </a:path>
              <a:path fill="none" w="21600" h="21600">
                <a:moveTo>
                  <a:pt x="1237" y="15819"/>
                </a:moveTo>
                <a:arcTo wR="10800" hR="10800" stAng="9138329" swAng="12461671"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150160" y="836640"/>
            <a:ext cx="3506040" cy="2232000"/>
            <a:chOff x="5150160" y="836640"/>
            <a:chExt cx="3506040" cy="2232000"/>
          </a:xfrm>
        </p:grpSpPr>
        <p:sp>
          <p:nvSpPr>
            <p:cNvPr id="122" name=""/>
            <p:cNvSpPr/>
            <p:nvPr/>
          </p:nvSpPr>
          <p:spPr>
            <a:xfrm>
              <a:off x="7332840" y="1339920"/>
              <a:ext cx="358560" cy="576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6540480" y="1915920"/>
              <a:ext cx="1128600" cy="56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97800" y="1773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59400" y="1339920"/>
              <a:ext cx="280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32480" y="2492280"/>
              <a:ext cx="2879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6180120" y="836640"/>
              <a:ext cx="1511280" cy="223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50160" y="11444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197920" y="11239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15320" y="23684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310960" y="22953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93080" y="10000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51560" y="25113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166160" y="1484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734520" y="1989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854000" y="1052640"/>
            <a:ext cx="5283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图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延长线上的一点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A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平分线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E∥B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187280" y="2781360"/>
            <a:ext cx="2578680" cy="2943360"/>
            <a:chOff x="1187280" y="2781360"/>
            <a:chExt cx="2578680" cy="2943360"/>
          </a:xfrm>
        </p:grpSpPr>
        <p:sp>
          <p:nvSpPr>
            <p:cNvPr id="138" name=""/>
            <p:cNvSpPr/>
            <p:nvPr/>
          </p:nvSpPr>
          <p:spPr>
            <a:xfrm flipH="1">
              <a:off x="1494360" y="3057480"/>
              <a:ext cx="1387440" cy="252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494360" y="5578920"/>
              <a:ext cx="1618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2418120" y="3946680"/>
              <a:ext cx="694440" cy="163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418480" y="3947040"/>
              <a:ext cx="107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54920" y="27813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70280" y="3724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32960" y="37998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187280" y="5356440"/>
              <a:ext cx="3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48840" y="53564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1602720" y="2133720"/>
            <a:ext cx="227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求证： 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= ∠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341800" y="3716280"/>
            <a:ext cx="285120" cy="43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340000" y="3717000"/>
            <a:ext cx="28872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29080" y="35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29080" y="393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0" y="-171360"/>
            <a:ext cx="20574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课内练习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3" name=""/>
          <p:cNvSpPr/>
          <p:nvPr/>
        </p:nvSpPr>
        <p:spPr>
          <a:xfrm>
            <a:off x="179280" y="765000"/>
            <a:ext cx="8353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已知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如图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在△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中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,D,E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分别是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B,AC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上的点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, ∠1=∠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求证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:∠B=∠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68360" y="3716280"/>
            <a:ext cx="3959280" cy="2550960"/>
            <a:chOff x="468360" y="3716280"/>
            <a:chExt cx="3959280" cy="2550960"/>
          </a:xfrm>
        </p:grpSpPr>
        <p:sp>
          <p:nvSpPr>
            <p:cNvPr id="155" name=""/>
            <p:cNvSpPr/>
            <p:nvPr/>
          </p:nvSpPr>
          <p:spPr>
            <a:xfrm>
              <a:off x="900000" y="5962680"/>
              <a:ext cx="2951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900000" y="4161960"/>
              <a:ext cx="1150920" cy="180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050920" y="4162320"/>
              <a:ext cx="1800360" cy="180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47640" y="4954680"/>
              <a:ext cx="129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47640" y="4954680"/>
              <a:ext cx="2303640" cy="1008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129800">
              <a:off x="1902600" y="487656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ahoma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058400">
              <a:off x="3131640" y="5675040"/>
              <a:ext cx="64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ahoma"/>
                </a:rPr>
                <a:t>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35280" y="3716280"/>
              <a:ext cx="57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8360" y="5746680"/>
              <a:ext cx="86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51280" y="5746680"/>
              <a:ext cx="5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16000" y="465156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916360" y="457992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050920" y="48830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989080" y="5603760"/>
              <a:ext cx="7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0" y="263700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已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∠ACD=2∠B,C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平分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C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6200" y="3141720"/>
            <a:ext cx="245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求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CE∥A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72320" y="6093000"/>
            <a:ext cx="15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4790160" y="3933720"/>
            <a:ext cx="3753360" cy="2649960"/>
            <a:chOff x="4790160" y="3933720"/>
            <a:chExt cx="3753360" cy="2649960"/>
          </a:xfrm>
        </p:grpSpPr>
        <p:sp>
          <p:nvSpPr>
            <p:cNvPr id="173" name=""/>
            <p:cNvSpPr/>
            <p:nvPr/>
          </p:nvSpPr>
          <p:spPr>
            <a:xfrm>
              <a:off x="5061240" y="5859360"/>
              <a:ext cx="3097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5061240" y="4345920"/>
              <a:ext cx="2089080" cy="1513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6716880" y="4346280"/>
              <a:ext cx="433440" cy="1513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6716880" y="4706640"/>
              <a:ext cx="1513080" cy="1152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77800" y="3933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790160" y="5518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503040" y="5786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160120" y="4417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030160" y="5589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901920" y="6002280"/>
              <a:ext cx="155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第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题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07:54:15Z</dcterms:created>
  <dc:creator/>
  <dc:description/>
  <dc:language>en-US</dc:language>
  <cp:lastModifiedBy/>
  <dcterms:modified xsi:type="dcterms:W3CDTF">2014-09-08T23:41:08Z</dcterms:modified>
  <cp:revision>46</cp:revision>
  <dc:subject/>
  <dc:title/>
</cp:coreProperties>
</file>