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image9.gif" ContentType="image/gif"/>
  <Override PartName="/ppt/media/image4.png" ContentType="image/png"/>
  <Override PartName="/ppt/media/hammer.wav" ContentType="audio/x-wav"/>
  <Override PartName="/ppt/media/image7.gif" ContentType="image/gi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A7A-4709-40CF-8195-707E218C3C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CB5-611A-4D0D-B929-4C8FA02821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711-B759-4373-86BD-4A348CF3DB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DC8-43DD-448F-A948-FB3DB1AA81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6A2-37C9-4588-AAB7-D787A061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626-FA3E-4797-BE84-02177AA8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C93-1110-4693-B0A7-3CFC9E7A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453-56B9-4246-A6B9-2A06C213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5BD-14FF-429D-8263-D3D3393A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FCC-84A9-4318-B185-385C0BF4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CDF-366B-4A07-A5BA-D46007E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108-ADF6-41C0-983A-BCC5527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94F-0E3F-42A4-B25E-5489475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A4C-E549-4C9A-BEE0-3E51399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91F-0FAC-4024-A7DB-CCD73F3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2EF-4B1E-4924-B174-41DAF86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8C8-5C88-40DD-843B-D6F965248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676920"/>
            <a:ext cx="1123920" cy="1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3640" y="227664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1.3 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证明  （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28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981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已知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+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= 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E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    求证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27640" y="2133720"/>
            <a:ext cx="3657600" cy="2349360"/>
            <a:chOff x="4427640" y="2133720"/>
            <a:chExt cx="3657600" cy="2349360"/>
          </a:xfrm>
        </p:grpSpPr>
        <p:grpSp>
          <p:nvGrpSpPr>
            <p:cNvPr id="254" name=""/>
            <p:cNvGrpSpPr/>
            <p:nvPr/>
          </p:nvGrpSpPr>
          <p:grpSpPr>
            <a:xfrm>
              <a:off x="4961160" y="2590920"/>
              <a:ext cx="3124080" cy="1295280"/>
              <a:chOff x="4961160" y="2590920"/>
              <a:chExt cx="3124080" cy="12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4961160" y="2590920"/>
                <a:ext cx="312408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61160" y="2590920"/>
                <a:ext cx="1143000" cy="6858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037120" y="3276720"/>
                <a:ext cx="1067040" cy="6094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37120" y="3886200"/>
                <a:ext cx="3048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427640" y="2133720"/>
              <a:ext cx="3657600" cy="2349360"/>
              <a:chOff x="4427640" y="2133720"/>
              <a:chExt cx="3657600" cy="2349360"/>
            </a:xfrm>
          </p:grpSpPr>
          <p:sp>
            <p:nvSpPr>
              <p:cNvPr id="260" name=""/>
              <p:cNvSpPr/>
              <p:nvPr/>
            </p:nvSpPr>
            <p:spPr>
              <a:xfrm>
                <a:off x="4656240" y="3657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28040" y="3962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27640" y="2286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94520" y="2133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80120" y="2909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6789600" y="396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3276720"/>
            <a:ext cx="1524240" cy="8380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103800" y="2219040"/>
            <a:ext cx="1828800" cy="105732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5013360"/>
            <a:ext cx="76320" cy="129528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659640" y="3645000"/>
            <a:ext cx="1454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427640" y="4510080"/>
            <a:ext cx="3657600" cy="2349360"/>
            <a:chOff x="4427640" y="4510080"/>
            <a:chExt cx="3657600" cy="2349360"/>
          </a:xfrm>
        </p:grpSpPr>
        <p:grpSp>
          <p:nvGrpSpPr>
            <p:cNvPr id="272" name=""/>
            <p:cNvGrpSpPr/>
            <p:nvPr/>
          </p:nvGrpSpPr>
          <p:grpSpPr>
            <a:xfrm>
              <a:off x="4961160" y="4967280"/>
              <a:ext cx="3124080" cy="1295280"/>
              <a:chOff x="4961160" y="4967280"/>
              <a:chExt cx="3124080" cy="1295280"/>
            </a:xfrm>
          </p:grpSpPr>
          <p:sp>
            <p:nvSpPr>
              <p:cNvPr id="273" name=""/>
              <p:cNvSpPr/>
              <p:nvPr/>
            </p:nvSpPr>
            <p:spPr>
              <a:xfrm>
                <a:off x="4961160" y="4967280"/>
                <a:ext cx="312408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61160" y="4967280"/>
                <a:ext cx="1143000" cy="6858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037120" y="5653080"/>
                <a:ext cx="1067040" cy="6094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7120" y="6262560"/>
                <a:ext cx="3048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427640" y="4510080"/>
              <a:ext cx="3657600" cy="2349360"/>
              <a:chOff x="4427640" y="4510080"/>
              <a:chExt cx="3657600" cy="2349360"/>
            </a:xfrm>
          </p:grpSpPr>
          <p:sp>
            <p:nvSpPr>
              <p:cNvPr id="278" name=""/>
              <p:cNvSpPr/>
              <p:nvPr/>
            </p:nvSpPr>
            <p:spPr>
              <a:xfrm>
                <a:off x="4656240" y="60339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28040" y="6338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7640" y="4662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94520" y="4510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80120" y="5286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093200" y="5589720"/>
            <a:ext cx="2266560" cy="2180520"/>
            <a:chOff x="4093200" y="5589720"/>
            <a:chExt cx="2266560" cy="2180520"/>
          </a:xfrm>
        </p:grpSpPr>
        <p:sp>
          <p:nvSpPr>
            <p:cNvPr id="284" name=""/>
            <p:cNvSpPr/>
            <p:nvPr/>
          </p:nvSpPr>
          <p:spPr>
            <a:xfrm rot="12597600">
              <a:off x="4313160" y="6034680"/>
              <a:ext cx="18259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00" y="19191"/>
                  </a:moveTo>
                  <a:arcTo wR="10800" hR="10800" stAng="3058802" swAng="1460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00" y="19191"/>
                  </a:moveTo>
                  <a:arcTo wR="10800" hR="10800" stAng="3058802" swAng="146093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03640" y="5589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60000" y="4947480"/>
            <a:ext cx="434520" cy="596880"/>
            <a:chOff x="4860000" y="4947480"/>
            <a:chExt cx="434520" cy="596880"/>
          </a:xfrm>
        </p:grpSpPr>
        <p:sp>
          <p:nvSpPr>
            <p:cNvPr id="287" name=""/>
            <p:cNvSpPr/>
            <p:nvPr/>
          </p:nvSpPr>
          <p:spPr>
            <a:xfrm flipV="1">
              <a:off x="4860000" y="4947120"/>
              <a:ext cx="289440" cy="2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9" y="437"/>
                  </a:moveTo>
                  <a:arcTo wR="10800" hR="10800" stAng="-6381353" swAng="6381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9" y="437"/>
                  </a:moveTo>
                  <a:arcTo wR="10800" hR="10800" stAng="-6381353" swAng="638135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39920" y="508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9640" y="4510080"/>
            <a:ext cx="3657600" cy="2349360"/>
            <a:chOff x="539640" y="4510080"/>
            <a:chExt cx="3657600" cy="2349360"/>
          </a:xfrm>
        </p:grpSpPr>
        <p:grpSp>
          <p:nvGrpSpPr>
            <p:cNvPr id="290" name=""/>
            <p:cNvGrpSpPr/>
            <p:nvPr/>
          </p:nvGrpSpPr>
          <p:grpSpPr>
            <a:xfrm>
              <a:off x="1073160" y="4967280"/>
              <a:ext cx="3124080" cy="1295280"/>
              <a:chOff x="1073160" y="4967280"/>
              <a:chExt cx="31240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1073160" y="4967280"/>
                <a:ext cx="312408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73160" y="4967280"/>
                <a:ext cx="1143000" cy="6858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149120" y="5653080"/>
                <a:ext cx="1067040" cy="60948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9120" y="6262560"/>
                <a:ext cx="3048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39640" y="4510080"/>
              <a:ext cx="3657600" cy="2349360"/>
              <a:chOff x="539640" y="4510080"/>
              <a:chExt cx="3657600" cy="2349360"/>
            </a:xfrm>
          </p:grpSpPr>
          <p:sp>
            <p:nvSpPr>
              <p:cNvPr id="296" name=""/>
              <p:cNvSpPr/>
              <p:nvPr/>
            </p:nvSpPr>
            <p:spPr>
              <a:xfrm>
                <a:off x="768240" y="60339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40040" y="6338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9640" y="46623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6520" y="4510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92120" y="5286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826920" y="5661000"/>
            <a:ext cx="36007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81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87280" y="620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内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1197000"/>
            <a:ext cx="93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，如图，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 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=90°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2852640"/>
            <a:ext cx="705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如图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任意一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2+∠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800" y="1700280"/>
            <a:ext cx="41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=54°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ADC=72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1920" y="2205000"/>
            <a:ext cx="31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00000" y="4221000"/>
            <a:ext cx="3059280" cy="1899720"/>
            <a:chOff x="900000" y="4221000"/>
            <a:chExt cx="3059280" cy="1899720"/>
          </a:xfrm>
        </p:grpSpPr>
        <p:sp>
          <p:nvSpPr>
            <p:cNvPr id="310" name=""/>
            <p:cNvSpPr/>
            <p:nvPr/>
          </p:nvSpPr>
          <p:spPr>
            <a:xfrm flipH="1">
              <a:off x="1116000" y="4581360"/>
              <a:ext cx="1511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27280" y="4581360"/>
              <a:ext cx="1009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6000" y="566100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11280" y="4221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0000" y="566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6072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4000" y="558936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116000" y="5084280"/>
              <a:ext cx="1944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46160" y="568152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941080" y="5229360"/>
            <a:ext cx="141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596360" y="5229360"/>
            <a:ext cx="28440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35640" y="3429000"/>
            <a:ext cx="2771640" cy="2600280"/>
            <a:chOff x="5435640" y="3429000"/>
            <a:chExt cx="2771640" cy="2600280"/>
          </a:xfrm>
        </p:grpSpPr>
        <p:sp>
          <p:nvSpPr>
            <p:cNvPr id="322" name=""/>
            <p:cNvSpPr/>
            <p:nvPr/>
          </p:nvSpPr>
          <p:spPr>
            <a:xfrm flipH="1">
              <a:off x="5724000" y="3716280"/>
              <a:ext cx="158436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08720" y="3716280"/>
              <a:ext cx="505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43440" y="5516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4360" y="3429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5640" y="544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67440" y="4581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12000" y="537372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3440" y="4941360"/>
              <a:ext cx="12956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57960" y="566100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39080" y="4941360"/>
              <a:ext cx="79200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5080" y="496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3800" y="49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37396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完成作业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同步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预习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1.4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等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9280" y="2276640"/>
            <a:ext cx="115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已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157320"/>
            <a:ext cx="277200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证明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76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提高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1080" y="126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证明命题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细黑"/>
              </a:rPr>
              <a:t>“角平分线上一点到这个角两边的距离相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是真命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2276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如图ＯＰ是∠ＡＯＢ的角平分线， 点Ｐ是ＯＰ上任意一点，且ＰＤ⊥Ｏ</a:t>
            </a: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，ＰＥ⊥Ｏ</a:t>
            </a: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，垂足为Ｄ和Ｅ</a:t>
            </a: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79680"/>
            <a:ext cx="126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求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9000" y="340344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细黑"/>
                <a:ea typeface="华文细黑"/>
              </a:rPr>
              <a:t>ＰＤ＝Ｐ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419800" y="1773360"/>
            <a:ext cx="3544920" cy="3133440"/>
            <a:chOff x="5419800" y="1773360"/>
            <a:chExt cx="3544920" cy="3133440"/>
          </a:xfrm>
        </p:grpSpPr>
        <p:pic>
          <p:nvPicPr>
            <p:cNvPr id="345" name="" descr=""/>
            <p:cNvPicPr/>
            <p:nvPr/>
          </p:nvPicPr>
          <p:blipFill>
            <a:blip r:embed="rId2"/>
            <a:stretch/>
          </p:blipFill>
          <p:spPr>
            <a:xfrm>
              <a:off x="5419800" y="1773360"/>
              <a:ext cx="3409920" cy="31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 flipV="1">
              <a:off x="5783400" y="3185640"/>
              <a:ext cx="3181320" cy="666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1152360" cy="9763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28720" y="3860640"/>
            <a:ext cx="6191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OB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OP=∠BOP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角平分线的意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D⊥O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E⊥OB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DO=∠PEO=9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垂直的意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P=OP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公共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D≌△POE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A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142880" y="1268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证明一个命题是真命题，一般要几个步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50920" y="0"/>
            <a:ext cx="2333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温故而知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285264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证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证明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5640" y="2060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题意画出图形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5640" y="270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已知与求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2"/>
          <p:cNvSpPr/>
          <p:nvPr/>
        </p:nvSpPr>
        <p:spPr>
          <a:xfrm>
            <a:off x="395280" y="1484280"/>
            <a:ext cx="77724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实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将纸片三角形一角折向其对边，使顶点落在对边上，折线与对边平行（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然后把另处两角相向对折，使其顶点与已折角的顶点相嵌合（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最后得到（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所示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"/>
          <p:cNvGrpSpPr/>
          <p:nvPr/>
        </p:nvGrpSpPr>
        <p:grpSpPr>
          <a:xfrm>
            <a:off x="252360" y="3716280"/>
            <a:ext cx="2131560" cy="2502000"/>
            <a:chOff x="252360" y="3716280"/>
            <a:chExt cx="2131560" cy="2502000"/>
          </a:xfrm>
        </p:grpSpPr>
        <p:grpSp>
          <p:nvGrpSpPr>
            <p:cNvPr id="53" name="组合 4"/>
            <p:cNvGrpSpPr/>
            <p:nvPr/>
          </p:nvGrpSpPr>
          <p:grpSpPr>
            <a:xfrm>
              <a:off x="252360" y="3716280"/>
              <a:ext cx="2131560" cy="1892160"/>
              <a:chOff x="252360" y="3716280"/>
              <a:chExt cx="2131560" cy="1892160"/>
            </a:xfrm>
          </p:grpSpPr>
          <p:sp>
            <p:nvSpPr>
              <p:cNvPr id="54" name="自选图形 5"/>
              <p:cNvSpPr/>
              <p:nvPr/>
            </p:nvSpPr>
            <p:spPr>
              <a:xfrm>
                <a:off x="555480" y="4021200"/>
                <a:ext cx="1523520" cy="1295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线 6"/>
              <p:cNvSpPr/>
              <p:nvPr/>
            </p:nvSpPr>
            <p:spPr>
              <a:xfrm>
                <a:off x="936360" y="4707000"/>
                <a:ext cx="761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文本框 7"/>
              <p:cNvSpPr/>
              <p:nvPr/>
            </p:nvSpPr>
            <p:spPr>
              <a:xfrm>
                <a:off x="1012680" y="371628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文本框 8"/>
              <p:cNvSpPr/>
              <p:nvPr/>
            </p:nvSpPr>
            <p:spPr>
              <a:xfrm>
                <a:off x="2003400" y="524016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文本框 9"/>
              <p:cNvSpPr/>
              <p:nvPr/>
            </p:nvSpPr>
            <p:spPr>
              <a:xfrm>
                <a:off x="252360" y="5240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文本框 10"/>
            <p:cNvSpPr/>
            <p:nvPr/>
          </p:nvSpPr>
          <p:spPr>
            <a:xfrm>
              <a:off x="1012680" y="58500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1"/>
          <p:cNvGrpSpPr/>
          <p:nvPr/>
        </p:nvGrpSpPr>
        <p:grpSpPr>
          <a:xfrm>
            <a:off x="2556000" y="4724280"/>
            <a:ext cx="2175840" cy="1587600"/>
            <a:chOff x="2556000" y="4724280"/>
            <a:chExt cx="2175840" cy="1587600"/>
          </a:xfrm>
        </p:grpSpPr>
        <p:grpSp>
          <p:nvGrpSpPr>
            <p:cNvPr id="61" name="组合 12"/>
            <p:cNvGrpSpPr/>
            <p:nvPr/>
          </p:nvGrpSpPr>
          <p:grpSpPr>
            <a:xfrm>
              <a:off x="2556000" y="4724280"/>
              <a:ext cx="2175840" cy="1054080"/>
              <a:chOff x="2556000" y="4724280"/>
              <a:chExt cx="2175840" cy="1054080"/>
            </a:xfrm>
          </p:grpSpPr>
          <p:sp>
            <p:nvSpPr>
              <p:cNvPr id="62" name="直线 13"/>
              <p:cNvSpPr/>
              <p:nvPr/>
            </p:nvSpPr>
            <p:spPr>
              <a:xfrm>
                <a:off x="2936880" y="54100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线 14"/>
              <p:cNvSpPr/>
              <p:nvPr/>
            </p:nvSpPr>
            <p:spPr>
              <a:xfrm flipH="1">
                <a:off x="2936880" y="4724280"/>
                <a:ext cx="3808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线 15"/>
              <p:cNvSpPr/>
              <p:nvPr/>
            </p:nvSpPr>
            <p:spPr>
              <a:xfrm>
                <a:off x="3317760" y="4724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线 16"/>
              <p:cNvSpPr/>
              <p:nvPr/>
            </p:nvSpPr>
            <p:spPr>
              <a:xfrm>
                <a:off x="4003560" y="472428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线 17"/>
              <p:cNvSpPr/>
              <p:nvPr/>
            </p:nvSpPr>
            <p:spPr>
              <a:xfrm>
                <a:off x="3317760" y="4724280"/>
                <a:ext cx="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线 18"/>
              <p:cNvSpPr/>
              <p:nvPr/>
            </p:nvSpPr>
            <p:spPr>
              <a:xfrm>
                <a:off x="3317760" y="4724280"/>
                <a:ext cx="304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线 19"/>
              <p:cNvSpPr/>
              <p:nvPr/>
            </p:nvSpPr>
            <p:spPr>
              <a:xfrm flipH="1">
                <a:off x="3622680" y="4724280"/>
                <a:ext cx="3808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文本框 20"/>
              <p:cNvSpPr/>
              <p:nvPr/>
            </p:nvSpPr>
            <p:spPr>
              <a:xfrm>
                <a:off x="2556000" y="54100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文本框 21"/>
              <p:cNvSpPr/>
              <p:nvPr/>
            </p:nvSpPr>
            <p:spPr>
              <a:xfrm>
                <a:off x="3470400" y="54100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文本框 22"/>
              <p:cNvSpPr/>
              <p:nvPr/>
            </p:nvSpPr>
            <p:spPr>
              <a:xfrm>
                <a:off x="4386600" y="54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文本框 23"/>
            <p:cNvSpPr/>
            <p:nvPr/>
          </p:nvSpPr>
          <p:spPr>
            <a:xfrm>
              <a:off x="3089160" y="5943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24"/>
          <p:cNvGrpSpPr/>
          <p:nvPr/>
        </p:nvGrpSpPr>
        <p:grpSpPr>
          <a:xfrm>
            <a:off x="5148360" y="4724280"/>
            <a:ext cx="1600200" cy="1587600"/>
            <a:chOff x="5148360" y="4724280"/>
            <a:chExt cx="1600200" cy="1587600"/>
          </a:xfrm>
        </p:grpSpPr>
        <p:grpSp>
          <p:nvGrpSpPr>
            <p:cNvPr id="74" name="组合 25"/>
            <p:cNvGrpSpPr/>
            <p:nvPr/>
          </p:nvGrpSpPr>
          <p:grpSpPr>
            <a:xfrm>
              <a:off x="5148360" y="4724280"/>
              <a:ext cx="1600200" cy="1054080"/>
              <a:chOff x="5148360" y="4724280"/>
              <a:chExt cx="1600200" cy="1054080"/>
            </a:xfrm>
          </p:grpSpPr>
          <p:sp>
            <p:nvSpPr>
              <p:cNvPr id="75" name="直线 26"/>
              <p:cNvSpPr/>
              <p:nvPr/>
            </p:nvSpPr>
            <p:spPr>
              <a:xfrm>
                <a:off x="5224680" y="47242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线 27"/>
              <p:cNvSpPr/>
              <p:nvPr/>
            </p:nvSpPr>
            <p:spPr>
              <a:xfrm>
                <a:off x="5224680" y="47242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线 28"/>
              <p:cNvSpPr/>
              <p:nvPr/>
            </p:nvSpPr>
            <p:spPr>
              <a:xfrm>
                <a:off x="5224680" y="54100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线 29"/>
              <p:cNvSpPr/>
              <p:nvPr/>
            </p:nvSpPr>
            <p:spPr>
              <a:xfrm>
                <a:off x="5986440" y="472428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线 30"/>
              <p:cNvSpPr/>
              <p:nvPr/>
            </p:nvSpPr>
            <p:spPr>
              <a:xfrm>
                <a:off x="5224680" y="4724280"/>
                <a:ext cx="3045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线 31"/>
              <p:cNvSpPr/>
              <p:nvPr/>
            </p:nvSpPr>
            <p:spPr>
              <a:xfrm flipH="1">
                <a:off x="5529240" y="472428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线 32"/>
              <p:cNvSpPr/>
              <p:nvPr/>
            </p:nvSpPr>
            <p:spPr>
              <a:xfrm>
                <a:off x="5986440" y="4724280"/>
                <a:ext cx="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文本框 33"/>
              <p:cNvSpPr/>
              <p:nvPr/>
            </p:nvSpPr>
            <p:spPr>
              <a:xfrm>
                <a:off x="5148360" y="54100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B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文本框 34"/>
              <p:cNvSpPr/>
              <p:nvPr/>
            </p:nvSpPr>
            <p:spPr>
              <a:xfrm>
                <a:off x="6443640" y="53337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文本框 35"/>
            <p:cNvSpPr/>
            <p:nvPr/>
          </p:nvSpPr>
          <p:spPr>
            <a:xfrm>
              <a:off x="5301000" y="5943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36"/>
          <p:cNvGrpSpPr/>
          <p:nvPr/>
        </p:nvGrpSpPr>
        <p:grpSpPr>
          <a:xfrm>
            <a:off x="7236000" y="4653000"/>
            <a:ext cx="914400" cy="1587600"/>
            <a:chOff x="7236000" y="4653000"/>
            <a:chExt cx="914400" cy="1587600"/>
          </a:xfrm>
        </p:grpSpPr>
        <p:grpSp>
          <p:nvGrpSpPr>
            <p:cNvPr id="86" name="组合 37"/>
            <p:cNvGrpSpPr/>
            <p:nvPr/>
          </p:nvGrpSpPr>
          <p:grpSpPr>
            <a:xfrm>
              <a:off x="7236000" y="4653000"/>
              <a:ext cx="838080" cy="977760"/>
              <a:chOff x="7236000" y="4653000"/>
              <a:chExt cx="838080" cy="977760"/>
            </a:xfrm>
          </p:grpSpPr>
          <p:sp>
            <p:nvSpPr>
              <p:cNvPr id="87" name="直线 38"/>
              <p:cNvSpPr/>
              <p:nvPr/>
            </p:nvSpPr>
            <p:spPr>
              <a:xfrm>
                <a:off x="7312320" y="5338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组合 39"/>
              <p:cNvGrpSpPr/>
              <p:nvPr/>
            </p:nvGrpSpPr>
            <p:grpSpPr>
              <a:xfrm>
                <a:off x="7312320" y="4653000"/>
                <a:ext cx="761760" cy="685800"/>
                <a:chOff x="7312320" y="4653000"/>
                <a:chExt cx="761760" cy="685800"/>
              </a:xfrm>
            </p:grpSpPr>
            <p:sp>
              <p:nvSpPr>
                <p:cNvPr id="89" name="直线 40"/>
                <p:cNvSpPr/>
                <p:nvPr/>
              </p:nvSpPr>
              <p:spPr>
                <a:xfrm>
                  <a:off x="7312320" y="46530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直线 41"/>
                <p:cNvSpPr/>
                <p:nvPr/>
              </p:nvSpPr>
              <p:spPr>
                <a:xfrm>
                  <a:off x="7312320" y="46530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直线 42"/>
                <p:cNvSpPr/>
                <p:nvPr/>
              </p:nvSpPr>
              <p:spPr>
                <a:xfrm>
                  <a:off x="7312320" y="4653000"/>
                  <a:ext cx="30456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直线 43"/>
                <p:cNvSpPr/>
                <p:nvPr/>
              </p:nvSpPr>
              <p:spPr>
                <a:xfrm>
                  <a:off x="8074080" y="46530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直线 44"/>
                <p:cNvSpPr/>
                <p:nvPr/>
              </p:nvSpPr>
              <p:spPr>
                <a:xfrm flipH="1">
                  <a:off x="7616880" y="4653000"/>
                  <a:ext cx="4572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文本框 45"/>
              <p:cNvSpPr/>
              <p:nvPr/>
            </p:nvSpPr>
            <p:spPr>
              <a:xfrm>
                <a:off x="7236000" y="5262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BA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文本框 46"/>
            <p:cNvSpPr/>
            <p:nvPr/>
          </p:nvSpPr>
          <p:spPr>
            <a:xfrm>
              <a:off x="7312320" y="5872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48"/>
          <p:cNvSpPr/>
          <p:nvPr/>
        </p:nvSpPr>
        <p:spPr>
          <a:xfrm>
            <a:off x="973080" y="6922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求证：三角形三个内角的和等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0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 13"/>
          <p:cNvSpPr/>
          <p:nvPr/>
        </p:nvSpPr>
        <p:spPr>
          <a:xfrm>
            <a:off x="4648320" y="3657600"/>
            <a:ext cx="4114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线 14"/>
          <p:cNvSpPr/>
          <p:nvPr/>
        </p:nvSpPr>
        <p:spPr>
          <a:xfrm flipV="1">
            <a:off x="4648320" y="2057040"/>
            <a:ext cx="182880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线 15"/>
          <p:cNvSpPr/>
          <p:nvPr/>
        </p:nvSpPr>
        <p:spPr>
          <a:xfrm>
            <a:off x="6477120" y="2057400"/>
            <a:ext cx="53316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线 16"/>
          <p:cNvSpPr/>
          <p:nvPr/>
        </p:nvSpPr>
        <p:spPr>
          <a:xfrm>
            <a:off x="5943600" y="3657600"/>
            <a:ext cx="1066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线 17"/>
          <p:cNvSpPr/>
          <p:nvPr/>
        </p:nvSpPr>
        <p:spPr>
          <a:xfrm>
            <a:off x="6748560" y="2898720"/>
            <a:ext cx="261720" cy="758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18"/>
          <p:cNvSpPr/>
          <p:nvPr/>
        </p:nvSpPr>
        <p:spPr>
          <a:xfrm>
            <a:off x="5924520" y="2889360"/>
            <a:ext cx="824040" cy="758880"/>
          </a:xfrm>
          <a:custGeom>
            <a:avLst/>
            <a:gdLst/>
            <a:ahLst/>
            <a:rect l="l" t="t" r="r" b="b"/>
            <a:pathLst>
              <a:path w="519" h="478">
                <a:moveTo>
                  <a:pt x="519" y="17"/>
                </a:moveTo>
                <a:cubicBezTo>
                  <a:pt x="465" y="0"/>
                  <a:pt x="436" y="24"/>
                  <a:pt x="381" y="29"/>
                </a:cubicBezTo>
                <a:cubicBezTo>
                  <a:pt x="308" y="35"/>
                  <a:pt x="235" y="36"/>
                  <a:pt x="162" y="40"/>
                </a:cubicBezTo>
                <a:cubicBezTo>
                  <a:pt x="113" y="57"/>
                  <a:pt x="122" y="42"/>
                  <a:pt x="116" y="110"/>
                </a:cubicBezTo>
                <a:cubicBezTo>
                  <a:pt x="108" y="199"/>
                  <a:pt x="143" y="330"/>
                  <a:pt x="58" y="386"/>
                </a:cubicBezTo>
                <a:cubicBezTo>
                  <a:pt x="46" y="425"/>
                  <a:pt x="40" y="460"/>
                  <a:pt x="0" y="47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9"/>
          <p:cNvSpPr/>
          <p:nvPr/>
        </p:nvSpPr>
        <p:spPr>
          <a:xfrm>
            <a:off x="5742000" y="2697120"/>
            <a:ext cx="987480" cy="255600"/>
          </a:xfrm>
          <a:custGeom>
            <a:avLst/>
            <a:gdLst/>
            <a:ahLst/>
            <a:rect l="l" t="t" r="r" b="b"/>
            <a:pathLst>
              <a:path w="622" h="161">
                <a:moveTo>
                  <a:pt x="0" y="0"/>
                </a:moveTo>
                <a:cubicBezTo>
                  <a:pt x="23" y="66"/>
                  <a:pt x="46" y="104"/>
                  <a:pt x="115" y="127"/>
                </a:cubicBezTo>
                <a:cubicBezTo>
                  <a:pt x="138" y="135"/>
                  <a:pt x="162" y="142"/>
                  <a:pt x="185" y="150"/>
                </a:cubicBezTo>
                <a:cubicBezTo>
                  <a:pt x="196" y="154"/>
                  <a:pt x="219" y="161"/>
                  <a:pt x="219" y="161"/>
                </a:cubicBezTo>
                <a:cubicBezTo>
                  <a:pt x="315" y="157"/>
                  <a:pt x="411" y="157"/>
                  <a:pt x="507" y="150"/>
                </a:cubicBezTo>
                <a:cubicBezTo>
                  <a:pt x="543" y="148"/>
                  <a:pt x="622" y="124"/>
                  <a:pt x="622" y="8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0"/>
          <p:cNvSpPr/>
          <p:nvPr/>
        </p:nvSpPr>
        <p:spPr>
          <a:xfrm>
            <a:off x="61722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5724360" y="2060640"/>
            <a:ext cx="1005840" cy="896040"/>
            <a:chOff x="5724360" y="2060640"/>
            <a:chExt cx="1005840" cy="896040"/>
          </a:xfrm>
        </p:grpSpPr>
        <p:grpSp>
          <p:nvGrpSpPr>
            <p:cNvPr id="106" name="组合 22"/>
            <p:cNvGrpSpPr/>
            <p:nvPr/>
          </p:nvGrpSpPr>
          <p:grpSpPr>
            <a:xfrm>
              <a:off x="5724360" y="2060640"/>
              <a:ext cx="1005840" cy="896040"/>
              <a:chOff x="5724360" y="2060640"/>
              <a:chExt cx="1005840" cy="896040"/>
            </a:xfrm>
          </p:grpSpPr>
          <p:sp>
            <p:nvSpPr>
              <p:cNvPr id="107" name="任意多边形 23"/>
              <p:cNvSpPr/>
              <p:nvPr/>
            </p:nvSpPr>
            <p:spPr>
              <a:xfrm rot="6600">
                <a:off x="5724360" y="2700000"/>
                <a:ext cx="987120" cy="255600"/>
              </a:xfrm>
              <a:custGeom>
                <a:avLst/>
                <a:gdLst/>
                <a:ahLst/>
                <a:rect l="l" t="t" r="r" b="b"/>
                <a:pathLst>
                  <a:path w="622" h="161">
                    <a:moveTo>
                      <a:pt x="0" y="0"/>
                    </a:moveTo>
                    <a:cubicBezTo>
                      <a:pt x="23" y="66"/>
                      <a:pt x="46" y="104"/>
                      <a:pt x="115" y="127"/>
                    </a:cubicBezTo>
                    <a:cubicBezTo>
                      <a:pt x="138" y="135"/>
                      <a:pt x="162" y="142"/>
                      <a:pt x="185" y="150"/>
                    </a:cubicBezTo>
                    <a:cubicBezTo>
                      <a:pt x="196" y="154"/>
                      <a:pt x="219" y="161"/>
                      <a:pt x="219" y="161"/>
                    </a:cubicBezTo>
                    <a:cubicBezTo>
                      <a:pt x="315" y="157"/>
                      <a:pt x="411" y="157"/>
                      <a:pt x="507" y="150"/>
                    </a:cubicBezTo>
                    <a:cubicBezTo>
                      <a:pt x="543" y="148"/>
                      <a:pt x="622" y="124"/>
                      <a:pt x="622" y="8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线 24"/>
              <p:cNvSpPr/>
              <p:nvPr/>
            </p:nvSpPr>
            <p:spPr>
              <a:xfrm flipV="1">
                <a:off x="5773680" y="2060640"/>
                <a:ext cx="686520" cy="608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线 25"/>
              <p:cNvSpPr/>
              <p:nvPr/>
            </p:nvSpPr>
            <p:spPr>
              <a:xfrm>
                <a:off x="6460560" y="2061000"/>
                <a:ext cx="269640" cy="78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文本框 26"/>
            <p:cNvSpPr/>
            <p:nvPr/>
          </p:nvSpPr>
          <p:spPr>
            <a:xfrm rot="10800000">
              <a:off x="614052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7"/>
          <p:cNvSpPr/>
          <p:nvPr/>
        </p:nvSpPr>
        <p:spPr>
          <a:xfrm>
            <a:off x="4800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8"/>
          <p:cNvSpPr/>
          <p:nvPr/>
        </p:nvSpPr>
        <p:spPr>
          <a:xfrm>
            <a:off x="632448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9"/>
          <p:cNvSpPr/>
          <p:nvPr/>
        </p:nvSpPr>
        <p:spPr>
          <a:xfrm>
            <a:off x="4267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0"/>
          <p:cNvSpPr/>
          <p:nvPr/>
        </p:nvSpPr>
        <p:spPr>
          <a:xfrm>
            <a:off x="83818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31"/>
          <p:cNvGrpSpPr/>
          <p:nvPr/>
        </p:nvGrpSpPr>
        <p:grpSpPr>
          <a:xfrm>
            <a:off x="4643280" y="2708280"/>
            <a:ext cx="1550880" cy="1047240"/>
            <a:chOff x="4643280" y="2708280"/>
            <a:chExt cx="1550880" cy="1047240"/>
          </a:xfrm>
        </p:grpSpPr>
        <p:grpSp>
          <p:nvGrpSpPr>
            <p:cNvPr id="116" name="组合 32"/>
            <p:cNvGrpSpPr/>
            <p:nvPr/>
          </p:nvGrpSpPr>
          <p:grpSpPr>
            <a:xfrm>
              <a:off x="4643280" y="2708280"/>
              <a:ext cx="1550880" cy="968400"/>
              <a:chOff x="4643280" y="2708280"/>
              <a:chExt cx="1550880" cy="968400"/>
            </a:xfrm>
          </p:grpSpPr>
          <p:sp>
            <p:nvSpPr>
              <p:cNvPr id="117" name="任意多边形 33"/>
              <p:cNvSpPr/>
              <p:nvPr/>
            </p:nvSpPr>
            <p:spPr>
              <a:xfrm>
                <a:off x="5918040" y="2963880"/>
                <a:ext cx="225360" cy="712800"/>
              </a:xfrm>
              <a:custGeom>
                <a:avLst/>
                <a:gdLst/>
                <a:ahLst/>
                <a:rect l="l" t="t" r="r" b="b"/>
                <a:pathLst>
                  <a:path w="142" h="449">
                    <a:moveTo>
                      <a:pt x="140" y="0"/>
                    </a:moveTo>
                    <a:cubicBezTo>
                      <a:pt x="136" y="96"/>
                      <a:pt x="142" y="193"/>
                      <a:pt x="128" y="288"/>
                    </a:cubicBezTo>
                    <a:cubicBezTo>
                      <a:pt x="126" y="302"/>
                      <a:pt x="103" y="300"/>
                      <a:pt x="94" y="311"/>
                    </a:cubicBezTo>
                    <a:cubicBezTo>
                      <a:pt x="86" y="321"/>
                      <a:pt x="89" y="336"/>
                      <a:pt x="82" y="346"/>
                    </a:cubicBezTo>
                    <a:cubicBezTo>
                      <a:pt x="64" y="373"/>
                      <a:pt x="39" y="386"/>
                      <a:pt x="13" y="403"/>
                    </a:cubicBezTo>
                    <a:cubicBezTo>
                      <a:pt x="0" y="441"/>
                      <a:pt x="1" y="426"/>
                      <a:pt x="1" y="4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线 34"/>
              <p:cNvSpPr/>
              <p:nvPr/>
            </p:nvSpPr>
            <p:spPr>
              <a:xfrm flipV="1">
                <a:off x="4643280" y="2735280"/>
                <a:ext cx="1066680" cy="914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线 35"/>
              <p:cNvSpPr/>
              <p:nvPr/>
            </p:nvSpPr>
            <p:spPr>
              <a:xfrm>
                <a:off x="4643280" y="3649680"/>
                <a:ext cx="1295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任意多边形 36"/>
              <p:cNvSpPr/>
              <p:nvPr/>
            </p:nvSpPr>
            <p:spPr>
              <a:xfrm>
                <a:off x="5736960" y="2708280"/>
                <a:ext cx="457200" cy="914400"/>
              </a:xfrm>
              <a:custGeom>
                <a:avLst/>
                <a:gdLst/>
                <a:ahLst/>
                <a:rect l="l" t="t" r="r" b="b"/>
                <a:pathLst>
                  <a:path w="288" h="576">
                    <a:moveTo>
                      <a:pt x="0" y="0"/>
                    </a:moveTo>
                    <a:cubicBezTo>
                      <a:pt x="8" y="23"/>
                      <a:pt x="8" y="50"/>
                      <a:pt x="23" y="69"/>
                    </a:cubicBezTo>
                    <a:cubicBezTo>
                      <a:pt x="42" y="93"/>
                      <a:pt x="107" y="108"/>
                      <a:pt x="127" y="115"/>
                    </a:cubicBezTo>
                    <a:cubicBezTo>
                      <a:pt x="140" y="119"/>
                      <a:pt x="149" y="133"/>
                      <a:pt x="162" y="138"/>
                    </a:cubicBezTo>
                    <a:cubicBezTo>
                      <a:pt x="188" y="149"/>
                      <a:pt x="216" y="152"/>
                      <a:pt x="242" y="161"/>
                    </a:cubicBezTo>
                    <a:cubicBezTo>
                      <a:pt x="257" y="184"/>
                      <a:pt x="288" y="226"/>
                      <a:pt x="288" y="253"/>
                    </a:cubicBezTo>
                    <a:cubicBezTo>
                      <a:pt x="288" y="372"/>
                      <a:pt x="219" y="496"/>
                      <a:pt x="139" y="57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文本框 37"/>
            <p:cNvSpPr/>
            <p:nvPr/>
          </p:nvSpPr>
          <p:spPr>
            <a:xfrm>
              <a:off x="4822920" y="3295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38"/>
          <p:cNvSpPr/>
          <p:nvPr/>
        </p:nvSpPr>
        <p:spPr>
          <a:xfrm>
            <a:off x="6477120" y="3200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9"/>
          <p:cNvSpPr/>
          <p:nvPr/>
        </p:nvSpPr>
        <p:spPr>
          <a:xfrm>
            <a:off x="67057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5"/>
          <p:cNvGrpSpPr/>
          <p:nvPr/>
        </p:nvGrpSpPr>
        <p:grpSpPr>
          <a:xfrm>
            <a:off x="6742800" y="2742120"/>
            <a:ext cx="1005840" cy="896040"/>
            <a:chOff x="6742800" y="2742120"/>
            <a:chExt cx="1005840" cy="896040"/>
          </a:xfrm>
        </p:grpSpPr>
        <p:grpSp>
          <p:nvGrpSpPr>
            <p:cNvPr id="125" name="组合 46"/>
            <p:cNvGrpSpPr/>
            <p:nvPr/>
          </p:nvGrpSpPr>
          <p:grpSpPr>
            <a:xfrm>
              <a:off x="6742800" y="2742120"/>
              <a:ext cx="1005840" cy="896040"/>
              <a:chOff x="6742800" y="2742120"/>
              <a:chExt cx="1005840" cy="896040"/>
            </a:xfrm>
          </p:grpSpPr>
          <p:sp>
            <p:nvSpPr>
              <p:cNvPr id="126" name="任意多边形 47"/>
              <p:cNvSpPr/>
              <p:nvPr/>
            </p:nvSpPr>
            <p:spPr>
              <a:xfrm rot="10806600">
                <a:off x="6761160" y="2742840"/>
                <a:ext cx="987120" cy="255600"/>
              </a:xfrm>
              <a:custGeom>
                <a:avLst/>
                <a:gdLst/>
                <a:ahLst/>
                <a:rect l="l" t="t" r="r" b="b"/>
                <a:pathLst>
                  <a:path w="622" h="161">
                    <a:moveTo>
                      <a:pt x="0" y="0"/>
                    </a:moveTo>
                    <a:cubicBezTo>
                      <a:pt x="23" y="66"/>
                      <a:pt x="46" y="104"/>
                      <a:pt x="115" y="127"/>
                    </a:cubicBezTo>
                    <a:cubicBezTo>
                      <a:pt x="138" y="135"/>
                      <a:pt x="162" y="142"/>
                      <a:pt x="185" y="150"/>
                    </a:cubicBezTo>
                    <a:cubicBezTo>
                      <a:pt x="196" y="154"/>
                      <a:pt x="219" y="161"/>
                      <a:pt x="219" y="161"/>
                    </a:cubicBezTo>
                    <a:cubicBezTo>
                      <a:pt x="315" y="157"/>
                      <a:pt x="411" y="157"/>
                      <a:pt x="507" y="150"/>
                    </a:cubicBezTo>
                    <a:cubicBezTo>
                      <a:pt x="543" y="148"/>
                      <a:pt x="622" y="124"/>
                      <a:pt x="622" y="8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线 48"/>
              <p:cNvSpPr/>
              <p:nvPr/>
            </p:nvSpPr>
            <p:spPr>
              <a:xfrm flipH="1">
                <a:off x="7012800" y="3029760"/>
                <a:ext cx="686520" cy="608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线 49"/>
              <p:cNvSpPr/>
              <p:nvPr/>
            </p:nvSpPr>
            <p:spPr>
              <a:xfrm flipH="1" flipV="1">
                <a:off x="6742800" y="2851200"/>
                <a:ext cx="269640" cy="786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文本框 50"/>
            <p:cNvSpPr/>
            <p:nvPr/>
          </p:nvSpPr>
          <p:spPr>
            <a:xfrm>
              <a:off x="6798960" y="3105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1"/>
          <p:cNvGrpSpPr/>
          <p:nvPr/>
        </p:nvGrpSpPr>
        <p:grpSpPr>
          <a:xfrm>
            <a:off x="7000920" y="2708280"/>
            <a:ext cx="1550880" cy="1047240"/>
            <a:chOff x="7000920" y="2708280"/>
            <a:chExt cx="1550880" cy="1047240"/>
          </a:xfrm>
        </p:grpSpPr>
        <p:grpSp>
          <p:nvGrpSpPr>
            <p:cNvPr id="131" name="组合 52"/>
            <p:cNvGrpSpPr/>
            <p:nvPr/>
          </p:nvGrpSpPr>
          <p:grpSpPr>
            <a:xfrm>
              <a:off x="7000920" y="2708280"/>
              <a:ext cx="1550880" cy="968400"/>
              <a:chOff x="7000920" y="2708280"/>
              <a:chExt cx="1550880" cy="968400"/>
            </a:xfrm>
          </p:grpSpPr>
          <p:sp>
            <p:nvSpPr>
              <p:cNvPr id="132" name="任意多边形 53"/>
              <p:cNvSpPr/>
              <p:nvPr/>
            </p:nvSpPr>
            <p:spPr>
              <a:xfrm>
                <a:off x="8275680" y="2963880"/>
                <a:ext cx="225360" cy="712800"/>
              </a:xfrm>
              <a:custGeom>
                <a:avLst/>
                <a:gdLst/>
                <a:ahLst/>
                <a:rect l="l" t="t" r="r" b="b"/>
                <a:pathLst>
                  <a:path w="142" h="449">
                    <a:moveTo>
                      <a:pt x="140" y="0"/>
                    </a:moveTo>
                    <a:cubicBezTo>
                      <a:pt x="136" y="96"/>
                      <a:pt x="142" y="193"/>
                      <a:pt x="128" y="288"/>
                    </a:cubicBezTo>
                    <a:cubicBezTo>
                      <a:pt x="126" y="302"/>
                      <a:pt x="103" y="300"/>
                      <a:pt x="94" y="311"/>
                    </a:cubicBezTo>
                    <a:cubicBezTo>
                      <a:pt x="86" y="321"/>
                      <a:pt x="89" y="336"/>
                      <a:pt x="82" y="346"/>
                    </a:cubicBezTo>
                    <a:cubicBezTo>
                      <a:pt x="64" y="373"/>
                      <a:pt x="39" y="386"/>
                      <a:pt x="13" y="403"/>
                    </a:cubicBezTo>
                    <a:cubicBezTo>
                      <a:pt x="0" y="441"/>
                      <a:pt x="1" y="426"/>
                      <a:pt x="1" y="4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线 54"/>
              <p:cNvSpPr/>
              <p:nvPr/>
            </p:nvSpPr>
            <p:spPr>
              <a:xfrm flipV="1">
                <a:off x="7000920" y="2735280"/>
                <a:ext cx="1066680" cy="914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线 55"/>
              <p:cNvSpPr/>
              <p:nvPr/>
            </p:nvSpPr>
            <p:spPr>
              <a:xfrm>
                <a:off x="7000920" y="3649680"/>
                <a:ext cx="1295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任意多边形 56"/>
              <p:cNvSpPr/>
              <p:nvPr/>
            </p:nvSpPr>
            <p:spPr>
              <a:xfrm>
                <a:off x="8094600" y="2708280"/>
                <a:ext cx="457200" cy="914400"/>
              </a:xfrm>
              <a:custGeom>
                <a:avLst/>
                <a:gdLst/>
                <a:ahLst/>
                <a:rect l="l" t="t" r="r" b="b"/>
                <a:pathLst>
                  <a:path w="288" h="576">
                    <a:moveTo>
                      <a:pt x="0" y="0"/>
                    </a:moveTo>
                    <a:cubicBezTo>
                      <a:pt x="8" y="23"/>
                      <a:pt x="8" y="50"/>
                      <a:pt x="23" y="69"/>
                    </a:cubicBezTo>
                    <a:cubicBezTo>
                      <a:pt x="42" y="93"/>
                      <a:pt x="107" y="108"/>
                      <a:pt x="127" y="115"/>
                    </a:cubicBezTo>
                    <a:cubicBezTo>
                      <a:pt x="140" y="119"/>
                      <a:pt x="149" y="133"/>
                      <a:pt x="162" y="138"/>
                    </a:cubicBezTo>
                    <a:cubicBezTo>
                      <a:pt x="188" y="149"/>
                      <a:pt x="216" y="152"/>
                      <a:pt x="242" y="161"/>
                    </a:cubicBezTo>
                    <a:cubicBezTo>
                      <a:pt x="257" y="184"/>
                      <a:pt x="288" y="226"/>
                      <a:pt x="288" y="253"/>
                    </a:cubicBezTo>
                    <a:cubicBezTo>
                      <a:pt x="288" y="372"/>
                      <a:pt x="219" y="496"/>
                      <a:pt x="139" y="57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文本框 57"/>
            <p:cNvSpPr/>
            <p:nvPr/>
          </p:nvSpPr>
          <p:spPr>
            <a:xfrm>
              <a:off x="7180200" y="329580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58"/>
          <p:cNvSpPr/>
          <p:nvPr/>
        </p:nvSpPr>
        <p:spPr>
          <a:xfrm>
            <a:off x="250920" y="1484280"/>
            <a:ext cx="3744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实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纸片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形顶角剪下，随意将它们拼凑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15556 2.6827E-007 E">
                                      <p:cBhvr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0518E-006 L 0.11024 0.10269 E">
                                      <p:cBhvr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52821E-007 L 0.26181 -0.00254 E">
                                      <p:cBhvr>
                                        <p:cTn id="6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549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求证：三角形的三个内角的和等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5640" y="1773360"/>
            <a:ext cx="2819160" cy="2516400"/>
            <a:chOff x="755640" y="1773360"/>
            <a:chExt cx="2819160" cy="2516400"/>
          </a:xfrm>
        </p:grpSpPr>
        <p:sp>
          <p:nvSpPr>
            <p:cNvPr id="140" name=""/>
            <p:cNvSpPr/>
            <p:nvPr/>
          </p:nvSpPr>
          <p:spPr>
            <a:xfrm>
              <a:off x="984240" y="2077920"/>
              <a:ext cx="2209680" cy="1828800"/>
            </a:xfrm>
            <a:prstGeom prst="triangle">
              <a:avLst>
                <a:gd name="adj" fmla="val 74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5840" y="1773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640" y="389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1640" y="3890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348000" y="1859040"/>
            <a:ext cx="21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已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3916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求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184464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如图，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是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三个内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93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A+∠B+∠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议一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4936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证明三角形内角和定理时，小明的想法是把三个角“凑”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76360" y="836640"/>
            <a:ext cx="2737440" cy="2017440"/>
            <a:chOff x="5076360" y="836640"/>
            <a:chExt cx="2737440" cy="2017440"/>
          </a:xfrm>
        </p:grpSpPr>
        <p:grpSp>
          <p:nvGrpSpPr>
            <p:cNvPr id="151" name=""/>
            <p:cNvGrpSpPr/>
            <p:nvPr/>
          </p:nvGrpSpPr>
          <p:grpSpPr>
            <a:xfrm>
              <a:off x="5076360" y="836640"/>
              <a:ext cx="2737440" cy="2017080"/>
              <a:chOff x="5076360" y="836640"/>
              <a:chExt cx="2737440" cy="201708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5076360" y="836640"/>
                <a:ext cx="2017800" cy="2017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76720" y="2853720"/>
                <a:ext cx="2737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094520" y="836640"/>
              <a:ext cx="719280" cy="20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861080" y="404640"/>
            <a:ext cx="3384360" cy="2818080"/>
            <a:chOff x="4861080" y="404640"/>
            <a:chExt cx="3384360" cy="2818080"/>
          </a:xfrm>
        </p:grpSpPr>
        <p:sp>
          <p:nvSpPr>
            <p:cNvPr id="156" name=""/>
            <p:cNvSpPr/>
            <p:nvPr/>
          </p:nvSpPr>
          <p:spPr>
            <a:xfrm>
              <a:off x="7020000" y="40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1080" y="2854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8508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64000" y="5013360"/>
            <a:ext cx="3529080" cy="131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你有没有其他的添线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781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证明　过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19640" y="404640"/>
            <a:ext cx="3241800" cy="432000"/>
            <a:chOff x="5219640" y="404640"/>
            <a:chExt cx="3241800" cy="432000"/>
          </a:xfrm>
        </p:grpSpPr>
        <p:sp>
          <p:nvSpPr>
            <p:cNvPr id="162" name=""/>
            <p:cNvSpPr/>
            <p:nvPr/>
          </p:nvSpPr>
          <p:spPr>
            <a:xfrm>
              <a:off x="5364000" y="836640"/>
              <a:ext cx="309744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19640" y="404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40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68360" y="321300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64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A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3645000"/>
            <a:ext cx="475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两直线平行，内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149720"/>
            <a:ext cx="482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AC+∠B+∠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AC+∠BAD+∠C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＝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A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0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平角的定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48428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E//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如图）。他的想法可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539640" y="189000"/>
            <a:ext cx="7676280" cy="2340000"/>
            <a:chOff x="539640" y="189000"/>
            <a:chExt cx="7676280" cy="2340000"/>
          </a:xfrm>
        </p:grpSpPr>
        <p:sp>
          <p:nvSpPr>
            <p:cNvPr id="171" name=""/>
            <p:cNvSpPr/>
            <p:nvPr/>
          </p:nvSpPr>
          <p:spPr>
            <a:xfrm>
              <a:off x="539640" y="694440"/>
              <a:ext cx="44532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：如图， △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B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证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+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Ｂ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+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Ｃ＝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18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412520" y="189000"/>
              <a:ext cx="3803400" cy="2340000"/>
              <a:chOff x="4412520" y="189000"/>
              <a:chExt cx="3803400" cy="2340000"/>
            </a:xfrm>
          </p:grpSpPr>
          <p:sp>
            <p:nvSpPr>
              <p:cNvPr id="173" name=""/>
              <p:cNvSpPr/>
              <p:nvPr/>
            </p:nvSpPr>
            <p:spPr>
              <a:xfrm>
                <a:off x="6805440" y="2101320"/>
                <a:ext cx="1329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805440" y="906840"/>
                <a:ext cx="996480" cy="1194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677480" y="487800"/>
                <a:ext cx="2127600" cy="1613160"/>
                <a:chOff x="4677480" y="487800"/>
                <a:chExt cx="2127600" cy="161316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4677480" y="487800"/>
                  <a:ext cx="2127600" cy="1613160"/>
                  <a:chOff x="4677480" y="487800"/>
                  <a:chExt cx="2127600" cy="161316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4677480" y="487800"/>
                    <a:ext cx="1462320" cy="161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677480" y="2100960"/>
                    <a:ext cx="2127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6139800" y="487800"/>
                  <a:ext cx="664920" cy="161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6671880" y="1673280"/>
                <a:ext cx="332640" cy="128880"/>
              </a:xfrm>
              <a:custGeom>
                <a:avLst/>
                <a:gdLst/>
                <a:ahLst/>
                <a:rect l="l" t="t" r="r" b="b"/>
                <a:pathLst>
                  <a:path w="227" h="98">
                    <a:moveTo>
                      <a:pt x="0" y="53"/>
                    </a:moveTo>
                    <a:cubicBezTo>
                      <a:pt x="49" y="26"/>
                      <a:pt x="98" y="0"/>
                      <a:pt x="136" y="7"/>
                    </a:cubicBezTo>
                    <a:cubicBezTo>
                      <a:pt x="174" y="14"/>
                      <a:pt x="200" y="56"/>
                      <a:pt x="227" y="9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04520" y="1863000"/>
                <a:ext cx="155160" cy="23832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0" y="0"/>
                    </a:moveTo>
                    <a:cubicBezTo>
                      <a:pt x="38" y="30"/>
                      <a:pt x="76" y="60"/>
                      <a:pt x="91" y="90"/>
                    </a:cubicBezTo>
                    <a:cubicBezTo>
                      <a:pt x="106" y="120"/>
                      <a:pt x="98" y="150"/>
                      <a:pt x="91" y="18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08040" y="189000"/>
                <a:ext cx="46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12520" y="2160720"/>
                <a:ext cx="46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06000" y="2160720"/>
                <a:ext cx="33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9560" y="1386360"/>
                <a:ext cx="33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38080" y="174312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70680" y="2160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70720" y="666720"/>
                <a:ext cx="46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468360" y="3213000"/>
            <a:ext cx="69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∵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CE/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＝∠Ａ（两直线平行，内错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＝∠Ｂ（两直线平行，同位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+∠2+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ＡＣＢ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+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+∠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ＡＣＢ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637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证明：延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过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E/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 rot="5400000">
            <a:off x="-686160" y="2133720"/>
            <a:ext cx="25146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证明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(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二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三角形内角和定理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三角形的三个内角的和等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7733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三角形的一个外角等于和它不相邻的两个内角的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3828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三角形的一个外角大于任何一个和它不相邻的内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03280" y="1268280"/>
            <a:ext cx="7419960" cy="2304720"/>
            <a:chOff x="1403280" y="1268280"/>
            <a:chExt cx="7419960" cy="2304720"/>
          </a:xfrm>
        </p:grpSpPr>
        <p:sp>
          <p:nvSpPr>
            <p:cNvPr id="196" name=""/>
            <p:cNvSpPr/>
            <p:nvPr/>
          </p:nvSpPr>
          <p:spPr>
            <a:xfrm>
              <a:off x="1446120" y="1356120"/>
              <a:ext cx="15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推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3280" y="1268280"/>
              <a:ext cx="7419960" cy="2304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767400" y="392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已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67400" y="445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求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7400" y="498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03280" y="3645000"/>
            <a:ext cx="7427880" cy="2514600"/>
            <a:chOff x="1403280" y="3645000"/>
            <a:chExt cx="7427880" cy="2514600"/>
          </a:xfrm>
        </p:grpSpPr>
        <p:sp>
          <p:nvSpPr>
            <p:cNvPr id="202" name=""/>
            <p:cNvSpPr/>
            <p:nvPr/>
          </p:nvSpPr>
          <p:spPr>
            <a:xfrm>
              <a:off x="1403280" y="3645000"/>
              <a:ext cx="2179800" cy="2514600"/>
            </a:xfrm>
            <a:prstGeom prst="rect">
              <a:avLst/>
            </a:prstGeom>
            <a:noFill/>
            <a:ln cap="rnd" w="38160">
              <a:solidFill>
                <a:srgbClr val="66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3080" y="3645000"/>
              <a:ext cx="5248080" cy="2514600"/>
            </a:xfrm>
            <a:prstGeom prst="rect">
              <a:avLst/>
            </a:prstGeom>
            <a:noFill/>
            <a:ln cap="rnd" w="38160">
              <a:solidFill>
                <a:srgbClr val="66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500720" y="39211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如图，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是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的一个外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4607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CD =∠A+∠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20920" y="3933720"/>
            <a:ext cx="2140560" cy="1701720"/>
            <a:chOff x="1420920" y="3933720"/>
            <a:chExt cx="2140560" cy="1701720"/>
          </a:xfrm>
        </p:grpSpPr>
        <p:sp>
          <p:nvSpPr>
            <p:cNvPr id="207" name=""/>
            <p:cNvSpPr/>
            <p:nvPr/>
          </p:nvSpPr>
          <p:spPr>
            <a:xfrm>
              <a:off x="1939680" y="441936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82560" y="4221000"/>
              <a:ext cx="100800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2560" y="530064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560" y="4221000"/>
              <a:ext cx="35892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8000" y="393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0920" y="5256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1120" y="526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16240" y="526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0" descr="梅花"/>
          <p:cNvPicPr/>
          <p:nvPr/>
        </p:nvPicPr>
        <p:blipFill>
          <a:blip r:embed="rId2"/>
          <a:stretch/>
        </p:blipFill>
        <p:spPr>
          <a:xfrm>
            <a:off x="3708360" y="2421000"/>
            <a:ext cx="5724720" cy="400536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2"/>
          <p:cNvSpPr/>
          <p:nvPr/>
        </p:nvSpPr>
        <p:spPr>
          <a:xfrm>
            <a:off x="971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"/>
          <p:cNvSpPr/>
          <p:nvPr/>
        </p:nvSpPr>
        <p:spPr>
          <a:xfrm>
            <a:off x="0" y="2602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几何命题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述要按照一定的格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4"/>
          <p:cNvSpPr/>
          <p:nvPr/>
        </p:nvSpPr>
        <p:spPr>
          <a:xfrm>
            <a:off x="826920" y="9079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按题意画出图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5"/>
          <p:cNvSpPr/>
          <p:nvPr/>
        </p:nvSpPr>
        <p:spPr>
          <a:xfrm>
            <a:off x="684360" y="1628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清命题的条件和结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结合图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“已知”中写出条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在“求证”中写出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6"/>
          <p:cNvSpPr/>
          <p:nvPr/>
        </p:nvSpPr>
        <p:spPr>
          <a:xfrm>
            <a:off x="755640" y="270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证明”中写出推理过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艺术字 7" descr=""/>
          <p:cNvPicPr/>
          <p:nvPr/>
        </p:nvPicPr>
        <p:blipFill>
          <a:blip r:embed="rId3"/>
          <a:stretch/>
        </p:blipFill>
        <p:spPr>
          <a:xfrm>
            <a:off x="249120" y="3279600"/>
            <a:ext cx="1049400" cy="92088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8"/>
          <p:cNvSpPr/>
          <p:nvPr/>
        </p:nvSpPr>
        <p:spPr>
          <a:xfrm>
            <a:off x="1332000" y="3429000"/>
            <a:ext cx="5688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严格按规定的格式书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1403280" y="4292640"/>
            <a:ext cx="727416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给出的几何命题已包括了相应的图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及求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则可在表述时直接写出证明的推理过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 rot="5400000">
            <a:off x="-240840" y="1764720"/>
            <a:ext cx="1576440" cy="48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华文行楷"/>
              </a:rPr>
              <a:t>做一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0464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、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中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为顶点的一个外角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12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，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B=5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，则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C=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，请说明理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5733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、如图，比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与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2+∠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的大小，并证明你的判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340000" y="4076640"/>
            <a:ext cx="2362320" cy="1906920"/>
            <a:chOff x="2340000" y="4076640"/>
            <a:chExt cx="2362320" cy="1906920"/>
          </a:xfrm>
        </p:grpSpPr>
        <p:sp>
          <p:nvSpPr>
            <p:cNvPr id="228" name=""/>
            <p:cNvSpPr/>
            <p:nvPr/>
          </p:nvSpPr>
          <p:spPr>
            <a:xfrm>
              <a:off x="2644920" y="4381200"/>
              <a:ext cx="1719360" cy="1225800"/>
            </a:xfrm>
            <a:prstGeom prst="triangle">
              <a:avLst>
                <a:gd name="adj" fmla="val 8039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644920" y="4863600"/>
              <a:ext cx="15238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673440" y="507960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40000" y="55846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1600" y="40766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92840" y="5584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6520" y="46098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30720" y="47973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042080" y="4762440"/>
              <a:ext cx="1512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7560" y="552420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142880" y="5511240"/>
              <a:ext cx="151560" cy="15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9" y="80"/>
                  </a:moveTo>
                  <a:arcTo wR="10800" hR="10800" stAng="-4982357" swAng="4982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9" y="80"/>
                  </a:moveTo>
                  <a:arcTo wR="10800" hR="10800" stAng="-4982357" swAng="4982357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73800" y="46479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华文行楷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22760" y="53434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华文行楷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2360" y="53337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华文行楷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17800" y="1125360"/>
            <a:ext cx="2360520" cy="2093040"/>
            <a:chOff x="1117800" y="1125360"/>
            <a:chExt cx="2360520" cy="2093040"/>
          </a:xfrm>
        </p:grpSpPr>
        <p:sp>
          <p:nvSpPr>
            <p:cNvPr id="243" name=""/>
            <p:cNvSpPr/>
            <p:nvPr/>
          </p:nvSpPr>
          <p:spPr>
            <a:xfrm flipH="1">
              <a:off x="1317600" y="1341360"/>
              <a:ext cx="1656000" cy="15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17600" y="2854440"/>
              <a:ext cx="18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665080" y="1630440"/>
              <a:ext cx="5050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55840" y="1336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17800" y="2816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2819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29240" y="112536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35280" y="6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华文行楷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1:22:00Z</dcterms:created>
  <dc:creator/>
  <dc:description/>
  <dc:language>en-US</dc:language>
  <cp:lastModifiedBy/>
  <dcterms:modified xsi:type="dcterms:W3CDTF">2014-09-09T06:41:54Z</dcterms:modified>
  <cp:revision>54</cp:revision>
  <dc:subject/>
  <dc:title/>
</cp:coreProperties>
</file>