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C73-9E84-4B09-8DE8-D95A794D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082-5AAF-465A-8F84-A7933471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6B9-A11B-465C-B845-02A2D9D6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4E7-80CF-4046-9524-8B2C52B0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2A8-8DA7-455D-8BB5-232D7D29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46E-C855-43D5-BEE3-52D79C39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B7A-2FFE-43DE-84E2-C4290B4B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C6DB-BF11-46F1-81E6-87A9786C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552-9F8E-4C52-92F9-EDD95C36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47E-0787-4C29-BE08-5EDEE535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4F9-2E99-4A63-B9FD-336127CD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31C-CABF-44A0-B25C-2C82832C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0942-3BFF-4080-B781-DADEE49EC6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692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080" y="2421000"/>
            <a:ext cx="89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三角形全等的判定（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-24480" y="-74160"/>
            <a:ext cx="5027760" cy="1264680"/>
            <a:chOff x="-24480" y="-74160"/>
            <a:chExt cx="5027760" cy="1264680"/>
          </a:xfrm>
        </p:grpSpPr>
        <p:sp>
          <p:nvSpPr>
            <p:cNvPr id="291" name=""/>
            <p:cNvSpPr/>
            <p:nvPr/>
          </p:nvSpPr>
          <p:spPr>
            <a:xfrm>
              <a:off x="0" y="564480"/>
              <a:ext cx="5003280" cy="41040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cc99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-24480" y="-74160"/>
              <a:ext cx="4809960" cy="1264680"/>
              <a:chOff x="-24480" y="-74160"/>
              <a:chExt cx="4809960" cy="1264680"/>
            </a:xfrm>
          </p:grpSpPr>
          <p:sp>
            <p:nvSpPr>
              <p:cNvPr id="293" name=""/>
              <p:cNvSpPr/>
              <p:nvPr/>
            </p:nvSpPr>
            <p:spPr>
              <a:xfrm rot="158400">
                <a:off x="216720" y="103320"/>
                <a:ext cx="1305000" cy="77004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2320" y="154800"/>
                <a:ext cx="1305000" cy="71856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50000">
                    <a:srgbClr val="cc3300"/>
                  </a:gs>
                  <a:gs pos="100000">
                    <a:srgbClr val="3333cc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961200">
                <a:off x="217080" y="0"/>
                <a:ext cx="652320" cy="82116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cc66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69760" y="720"/>
                <a:ext cx="1087560" cy="2052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8360" y="617040"/>
                <a:ext cx="870480" cy="46188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9900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629000">
                <a:off x="0" y="937080"/>
                <a:ext cx="332640" cy="1879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05000" y="52200"/>
                <a:ext cx="326160" cy="5112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850760" y="50040"/>
                <a:ext cx="2934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课内练习</a:t>
                </a:r>
                <a:r>
                  <a:rPr b="1" lang="en-US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1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、</a:t>
                </a:r>
                <a:r>
                  <a:rPr b="1" lang="en-US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2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240" y="2924280"/>
            <a:ext cx="89154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完成作业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同步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预习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</a:rPr>
              <a:t>1.6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尺规作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7709040" y="0"/>
            <a:ext cx="14349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258920" y="2924280"/>
            <a:ext cx="6697800" cy="2320560"/>
            <a:chOff x="1258920" y="2924280"/>
            <a:chExt cx="6697800" cy="2320560"/>
          </a:xfrm>
        </p:grpSpPr>
        <p:grpSp>
          <p:nvGrpSpPr>
            <p:cNvPr id="44" name=""/>
            <p:cNvGrpSpPr/>
            <p:nvPr/>
          </p:nvGrpSpPr>
          <p:grpSpPr>
            <a:xfrm>
              <a:off x="1258920" y="2924280"/>
              <a:ext cx="3168720" cy="2320560"/>
              <a:chOff x="1258920" y="2924280"/>
              <a:chExt cx="3168720" cy="232056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1618920" y="3284280"/>
                <a:ext cx="2088000" cy="1510920"/>
                <a:chOff x="1618920" y="3284280"/>
                <a:chExt cx="2088000" cy="1510920"/>
              </a:xfrm>
            </p:grpSpPr>
            <p:sp>
              <p:nvSpPr>
                <p:cNvPr id="46" name=""/>
                <p:cNvSpPr/>
                <p:nvPr/>
              </p:nvSpPr>
              <p:spPr>
                <a:xfrm flipH="1">
                  <a:off x="1618920" y="3284280"/>
                  <a:ext cx="1439640" cy="1510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619280" y="4795200"/>
                  <a:ext cx="2087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3058920" y="3284280"/>
                  <a:ext cx="648000" cy="1510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>
                <a:off x="1258920" y="4724280"/>
                <a:ext cx="57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80000" y="46512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132360" y="292428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788000" y="2924280"/>
              <a:ext cx="3168720" cy="2320560"/>
              <a:chOff x="4788000" y="2924280"/>
              <a:chExt cx="3168720" cy="232056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5148000" y="3284280"/>
                <a:ext cx="2088000" cy="1510920"/>
                <a:chOff x="5148000" y="3284280"/>
                <a:chExt cx="2088000" cy="1510920"/>
              </a:xfrm>
            </p:grpSpPr>
            <p:sp>
              <p:nvSpPr>
                <p:cNvPr id="54" name=""/>
                <p:cNvSpPr/>
                <p:nvPr/>
              </p:nvSpPr>
              <p:spPr>
                <a:xfrm flipH="1">
                  <a:off x="5148000" y="3284280"/>
                  <a:ext cx="1439640" cy="1510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5148360" y="4795200"/>
                  <a:ext cx="2087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88000" y="3284280"/>
                  <a:ext cx="648000" cy="1510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4788000" y="4724280"/>
                <a:ext cx="576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309080" y="4651200"/>
                <a:ext cx="64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661440" y="292428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"/>
          <p:cNvSpPr/>
          <p:nvPr/>
        </p:nvSpPr>
        <p:spPr>
          <a:xfrm>
            <a:off x="785880" y="692280"/>
            <a:ext cx="68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已知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=DE,   BC=EF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添加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个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条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得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756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知识回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280" y="1844640"/>
            <a:ext cx="939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已知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=DE ,  ∠A=∠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请添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个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条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得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620640"/>
            <a:ext cx="835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=DE ,∠A=∠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∠C=∠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等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284720" y="1197000"/>
            <a:ext cx="4859280" cy="2320920"/>
            <a:chOff x="4284720" y="1197000"/>
            <a:chExt cx="4859280" cy="2320920"/>
          </a:xfrm>
        </p:grpSpPr>
        <p:grpSp>
          <p:nvGrpSpPr>
            <p:cNvPr id="66" name=""/>
            <p:cNvGrpSpPr/>
            <p:nvPr/>
          </p:nvGrpSpPr>
          <p:grpSpPr>
            <a:xfrm>
              <a:off x="4284720" y="1197000"/>
              <a:ext cx="2298960" cy="2320920"/>
              <a:chOff x="4284720" y="1197000"/>
              <a:chExt cx="2298960" cy="232092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4545720" y="1557360"/>
                <a:ext cx="1514880" cy="1511280"/>
                <a:chOff x="4545720" y="1557360"/>
                <a:chExt cx="1514880" cy="1511280"/>
              </a:xfrm>
            </p:grpSpPr>
            <p:sp>
              <p:nvSpPr>
                <p:cNvPr id="68" name=""/>
                <p:cNvSpPr/>
                <p:nvPr/>
              </p:nvSpPr>
              <p:spPr>
                <a:xfrm flipH="1">
                  <a:off x="4545720" y="1557360"/>
                  <a:ext cx="1044360" cy="151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546080" y="3068640"/>
                  <a:ext cx="1514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590440" y="1557360"/>
                  <a:ext cx="469800" cy="151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>
                <a:off x="4284720" y="2997360"/>
                <a:ext cx="41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113880" y="2924280"/>
                <a:ext cx="46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643720" y="119700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845040" y="1197000"/>
              <a:ext cx="2298960" cy="2320920"/>
              <a:chOff x="6845040" y="1197000"/>
              <a:chExt cx="2298960" cy="232092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7106040" y="1557360"/>
                <a:ext cx="1514880" cy="1511280"/>
                <a:chOff x="7106040" y="1557360"/>
                <a:chExt cx="1514880" cy="1511280"/>
              </a:xfrm>
            </p:grpSpPr>
            <p:sp>
              <p:nvSpPr>
                <p:cNvPr id="76" name=""/>
                <p:cNvSpPr/>
                <p:nvPr/>
              </p:nvSpPr>
              <p:spPr>
                <a:xfrm flipH="1">
                  <a:off x="7106040" y="1557360"/>
                  <a:ext cx="1044360" cy="151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106400" y="3068640"/>
                  <a:ext cx="1514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150760" y="1557360"/>
                  <a:ext cx="469800" cy="151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6845040" y="2997360"/>
                <a:ext cx="417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674200" y="2924280"/>
                <a:ext cx="46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204040" y="119700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"/>
          <p:cNvSpPr/>
          <p:nvPr/>
        </p:nvSpPr>
        <p:spPr>
          <a:xfrm>
            <a:off x="0" y="1844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：∵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+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+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+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+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三角形的内角和等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0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06864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∴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=180°-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-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=180°-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-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37893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∵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=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=∠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4292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∴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=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47242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Δ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EF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= 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=DE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=∠E 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61657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∴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≌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EF</a:t>
            </a:r>
            <a:r>
              <a:rPr b="0" lang="el-GR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S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476280"/>
            <a:ext cx="806436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有两个角和其中一个角的对边对应相等的两个三角形全等（简写成“角角边”或“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AS”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68360" y="1989000"/>
            <a:ext cx="5400000" cy="1806480"/>
            <a:chOff x="2268360" y="1989000"/>
            <a:chExt cx="5400000" cy="1806480"/>
          </a:xfrm>
        </p:grpSpPr>
        <p:grpSp>
          <p:nvGrpSpPr>
            <p:cNvPr id="90" name=""/>
            <p:cNvGrpSpPr/>
            <p:nvPr/>
          </p:nvGrpSpPr>
          <p:grpSpPr>
            <a:xfrm>
              <a:off x="2268360" y="1989000"/>
              <a:ext cx="2554560" cy="1806480"/>
              <a:chOff x="2268360" y="1989000"/>
              <a:chExt cx="2554560" cy="180648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2558880" y="2246400"/>
                <a:ext cx="1683000" cy="1079280"/>
                <a:chOff x="2558880" y="2246400"/>
                <a:chExt cx="1683000" cy="1079280"/>
              </a:xfrm>
            </p:grpSpPr>
            <p:sp>
              <p:nvSpPr>
                <p:cNvPr id="92" name=""/>
                <p:cNvSpPr/>
                <p:nvPr/>
              </p:nvSpPr>
              <p:spPr>
                <a:xfrm flipH="1">
                  <a:off x="2558880" y="2246400"/>
                  <a:ext cx="1160640" cy="10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558880" y="3325680"/>
                  <a:ext cx="1683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719520" y="2246400"/>
                  <a:ext cx="522360" cy="10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2268360" y="3274920"/>
                <a:ext cx="46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00920" y="3222720"/>
                <a:ext cx="52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78920" y="1989000"/>
                <a:ext cx="405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113800" y="1989000"/>
              <a:ext cx="2554560" cy="1806480"/>
              <a:chOff x="5113800" y="1989000"/>
              <a:chExt cx="2554560" cy="180648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5404320" y="2246400"/>
                <a:ext cx="1683000" cy="1079280"/>
                <a:chOff x="5404320" y="2246400"/>
                <a:chExt cx="1683000" cy="1079280"/>
              </a:xfrm>
            </p:grpSpPr>
            <p:sp>
              <p:nvSpPr>
                <p:cNvPr id="100" name=""/>
                <p:cNvSpPr/>
                <p:nvPr/>
              </p:nvSpPr>
              <p:spPr>
                <a:xfrm flipH="1">
                  <a:off x="5404320" y="2246400"/>
                  <a:ext cx="1160640" cy="10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404320" y="3325680"/>
                  <a:ext cx="1683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564960" y="2246400"/>
                  <a:ext cx="522360" cy="1079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5113800" y="3274920"/>
                <a:ext cx="46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146360" y="3222720"/>
                <a:ext cx="522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624360" y="1989000"/>
                <a:ext cx="405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1187280" y="3933720"/>
            <a:ext cx="4681800" cy="2288520"/>
            <a:chOff x="1187280" y="3933720"/>
            <a:chExt cx="4681800" cy="2288520"/>
          </a:xfrm>
        </p:grpSpPr>
        <p:sp>
          <p:nvSpPr>
            <p:cNvPr id="107" name=""/>
            <p:cNvSpPr/>
            <p:nvPr/>
          </p:nvSpPr>
          <p:spPr>
            <a:xfrm>
              <a:off x="1187280" y="3933720"/>
              <a:ext cx="46818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数学语言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在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和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中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∵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=∠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=∠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B=DE 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∴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AS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76360" y="4869000"/>
              <a:ext cx="287280" cy="792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0520 h 792000"/>
                <a:gd name="textAreaBottom" fmla="*/ 77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333360"/>
            <a:ext cx="813744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两角和它们的夹边对应相等的两个三角形全等，简写成“角边角”或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SA”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413000"/>
            <a:ext cx="806472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两角和其中一角的对边对应相等的两个三角形全等，简写成“角角边”或“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AAS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3068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SA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00000" y="5227560"/>
            <a:ext cx="4535640" cy="1168200"/>
            <a:chOff x="900000" y="5227560"/>
            <a:chExt cx="4535640" cy="1168200"/>
          </a:xfrm>
        </p:grpSpPr>
        <p:grpSp>
          <p:nvGrpSpPr>
            <p:cNvPr id="113" name=""/>
            <p:cNvGrpSpPr/>
            <p:nvPr/>
          </p:nvGrpSpPr>
          <p:grpSpPr>
            <a:xfrm>
              <a:off x="3564000" y="5227560"/>
              <a:ext cx="1871640" cy="1168200"/>
              <a:chOff x="3564000" y="5227560"/>
              <a:chExt cx="1871640" cy="116820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3564000" y="5227560"/>
                <a:ext cx="1295280" cy="115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64000" y="6379920"/>
                <a:ext cx="187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859280" y="5227560"/>
                <a:ext cx="57636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564000" y="6092640"/>
                <a:ext cx="519120" cy="303120"/>
              </a:xfrm>
              <a:custGeom>
                <a:avLst/>
                <a:gdLst/>
                <a:ahLst/>
                <a:rect l="l" t="t" r="r" b="b"/>
                <a:pathLst>
                  <a:path w="327" h="191">
                    <a:moveTo>
                      <a:pt x="209" y="0"/>
                    </a:moveTo>
                    <a:cubicBezTo>
                      <a:pt x="274" y="20"/>
                      <a:pt x="286" y="57"/>
                      <a:pt x="306" y="117"/>
                    </a:cubicBezTo>
                    <a:cubicBezTo>
                      <a:pt x="327" y="181"/>
                      <a:pt x="326" y="154"/>
                      <a:pt x="326" y="185"/>
                    </a:cubicBezTo>
                    <a:lnTo>
                      <a:pt x="0" y="191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004000" y="6019560"/>
                <a:ext cx="393480" cy="351000"/>
              </a:xfrm>
              <a:custGeom>
                <a:avLst/>
                <a:gdLst/>
                <a:ahLst/>
                <a:rect l="l" t="t" r="r" b="b"/>
                <a:pathLst>
                  <a:path w="248" h="221">
                    <a:moveTo>
                      <a:pt x="127" y="0"/>
                    </a:moveTo>
                    <a:cubicBezTo>
                      <a:pt x="101" y="3"/>
                      <a:pt x="73" y="0"/>
                      <a:pt x="49" y="10"/>
                    </a:cubicBezTo>
                    <a:cubicBezTo>
                      <a:pt x="34" y="16"/>
                      <a:pt x="23" y="56"/>
                      <a:pt x="20" y="69"/>
                    </a:cubicBezTo>
                    <a:cubicBezTo>
                      <a:pt x="9" y="122"/>
                      <a:pt x="0" y="161"/>
                      <a:pt x="0" y="215"/>
                    </a:cubicBezTo>
                    <a:lnTo>
                      <a:pt x="248" y="221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900000" y="5227560"/>
              <a:ext cx="1871640" cy="1168200"/>
              <a:chOff x="900000" y="5227560"/>
              <a:chExt cx="1871640" cy="1168200"/>
            </a:xfrm>
          </p:grpSpPr>
          <p:sp>
            <p:nvSpPr>
              <p:cNvPr id="120" name=""/>
              <p:cNvSpPr/>
              <p:nvPr/>
            </p:nvSpPr>
            <p:spPr>
              <a:xfrm flipH="1">
                <a:off x="900000" y="5227560"/>
                <a:ext cx="1295280" cy="1152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900000" y="6379920"/>
                <a:ext cx="187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95280" y="5227560"/>
                <a:ext cx="57636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0000" y="6092640"/>
                <a:ext cx="519120" cy="303120"/>
              </a:xfrm>
              <a:custGeom>
                <a:avLst/>
                <a:gdLst/>
                <a:ahLst/>
                <a:rect l="l" t="t" r="r" b="b"/>
                <a:pathLst>
                  <a:path w="327" h="191">
                    <a:moveTo>
                      <a:pt x="209" y="0"/>
                    </a:moveTo>
                    <a:cubicBezTo>
                      <a:pt x="274" y="20"/>
                      <a:pt x="286" y="57"/>
                      <a:pt x="306" y="117"/>
                    </a:cubicBezTo>
                    <a:cubicBezTo>
                      <a:pt x="327" y="181"/>
                      <a:pt x="326" y="154"/>
                      <a:pt x="326" y="185"/>
                    </a:cubicBezTo>
                    <a:lnTo>
                      <a:pt x="0" y="191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339640" y="6019560"/>
                <a:ext cx="393840" cy="351000"/>
              </a:xfrm>
              <a:custGeom>
                <a:avLst/>
                <a:gdLst/>
                <a:ahLst/>
                <a:rect l="l" t="t" r="r" b="b"/>
                <a:pathLst>
                  <a:path w="248" h="221">
                    <a:moveTo>
                      <a:pt x="127" y="0"/>
                    </a:moveTo>
                    <a:cubicBezTo>
                      <a:pt x="101" y="3"/>
                      <a:pt x="73" y="0"/>
                      <a:pt x="49" y="10"/>
                    </a:cubicBezTo>
                    <a:cubicBezTo>
                      <a:pt x="34" y="16"/>
                      <a:pt x="23" y="56"/>
                      <a:pt x="20" y="69"/>
                    </a:cubicBezTo>
                    <a:cubicBezTo>
                      <a:pt x="9" y="122"/>
                      <a:pt x="0" y="161"/>
                      <a:pt x="0" y="215"/>
                    </a:cubicBezTo>
                    <a:lnTo>
                      <a:pt x="248" y="221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5940360" y="4148280"/>
            <a:ext cx="2441880" cy="2087280"/>
            <a:chOff x="5940360" y="4148280"/>
            <a:chExt cx="2441880" cy="2087280"/>
          </a:xfrm>
        </p:grpSpPr>
        <p:sp>
          <p:nvSpPr>
            <p:cNvPr id="126" name=""/>
            <p:cNvSpPr/>
            <p:nvPr/>
          </p:nvSpPr>
          <p:spPr>
            <a:xfrm>
              <a:off x="6518160" y="4868640"/>
              <a:ext cx="186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（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AAS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0360" y="4148280"/>
              <a:ext cx="503280" cy="2087280"/>
            </a:xfrm>
            <a:custGeom>
              <a:avLst/>
              <a:gdLst>
                <a:gd name="textAreaLeft" fmla="*/ 0 w 503280"/>
                <a:gd name="textAreaRight" fmla="*/ 181800 w 503280"/>
                <a:gd name="textAreaTop" fmla="*/ 54360 h 2087280"/>
                <a:gd name="textAreaBottom" fmla="*/ 2032920 h 20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838836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57440" y="2225520"/>
            <a:ext cx="4722120" cy="1807560"/>
            <a:chOff x="757440" y="2225520"/>
            <a:chExt cx="4722120" cy="1807560"/>
          </a:xfrm>
        </p:grpSpPr>
        <p:grpSp>
          <p:nvGrpSpPr>
            <p:cNvPr id="130" name=""/>
            <p:cNvGrpSpPr/>
            <p:nvPr/>
          </p:nvGrpSpPr>
          <p:grpSpPr>
            <a:xfrm>
              <a:off x="1042920" y="2492280"/>
              <a:ext cx="1871640" cy="1152360"/>
              <a:chOff x="1042920" y="2492280"/>
              <a:chExt cx="1871640" cy="115236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1042920" y="2492280"/>
                <a:ext cx="1871640" cy="1152360"/>
                <a:chOff x="1042920" y="2492280"/>
                <a:chExt cx="1871640" cy="1152360"/>
              </a:xfrm>
            </p:grpSpPr>
            <p:sp>
              <p:nvSpPr>
                <p:cNvPr id="132" name=""/>
                <p:cNvSpPr/>
                <p:nvPr/>
              </p:nvSpPr>
              <p:spPr>
                <a:xfrm flipH="1">
                  <a:off x="1042920" y="2492280"/>
                  <a:ext cx="1295280" cy="11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042920" y="3644640"/>
                  <a:ext cx="18716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338200" y="2492280"/>
                  <a:ext cx="576000" cy="115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1042920" y="3341520"/>
                <a:ext cx="519120" cy="303120"/>
              </a:xfrm>
              <a:custGeom>
                <a:avLst/>
                <a:gdLst/>
                <a:ahLst/>
                <a:rect l="l" t="t" r="r" b="b"/>
                <a:pathLst>
                  <a:path w="327" h="191">
                    <a:moveTo>
                      <a:pt x="209" y="0"/>
                    </a:moveTo>
                    <a:cubicBezTo>
                      <a:pt x="274" y="20"/>
                      <a:pt x="286" y="57"/>
                      <a:pt x="306" y="117"/>
                    </a:cubicBezTo>
                    <a:cubicBezTo>
                      <a:pt x="327" y="181"/>
                      <a:pt x="326" y="154"/>
                      <a:pt x="326" y="185"/>
                    </a:cubicBezTo>
                    <a:lnTo>
                      <a:pt x="0" y="191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521080" y="3294000"/>
                <a:ext cx="393480" cy="350640"/>
              </a:xfrm>
              <a:custGeom>
                <a:avLst/>
                <a:gdLst/>
                <a:ahLst/>
                <a:rect l="l" t="t" r="r" b="b"/>
                <a:pathLst>
                  <a:path w="248" h="221">
                    <a:moveTo>
                      <a:pt x="127" y="0"/>
                    </a:moveTo>
                    <a:cubicBezTo>
                      <a:pt x="101" y="3"/>
                      <a:pt x="73" y="0"/>
                      <a:pt x="49" y="10"/>
                    </a:cubicBezTo>
                    <a:cubicBezTo>
                      <a:pt x="34" y="16"/>
                      <a:pt x="23" y="56"/>
                      <a:pt x="20" y="69"/>
                    </a:cubicBezTo>
                    <a:cubicBezTo>
                      <a:pt x="9" y="122"/>
                      <a:pt x="0" y="161"/>
                      <a:pt x="0" y="215"/>
                    </a:cubicBezTo>
                    <a:lnTo>
                      <a:pt x="248" y="221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276720" y="2492280"/>
              <a:ext cx="1871640" cy="1166760"/>
              <a:chOff x="3276720" y="2492280"/>
              <a:chExt cx="1871640" cy="116676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3276720" y="2492280"/>
                <a:ext cx="129528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76720" y="3644640"/>
                <a:ext cx="1871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72000" y="2492280"/>
                <a:ext cx="57636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76720" y="3355920"/>
                <a:ext cx="519120" cy="303120"/>
              </a:xfrm>
              <a:custGeom>
                <a:avLst/>
                <a:gdLst/>
                <a:ahLst/>
                <a:rect l="l" t="t" r="r" b="b"/>
                <a:pathLst>
                  <a:path w="327" h="191">
                    <a:moveTo>
                      <a:pt x="209" y="0"/>
                    </a:moveTo>
                    <a:cubicBezTo>
                      <a:pt x="274" y="20"/>
                      <a:pt x="286" y="57"/>
                      <a:pt x="306" y="117"/>
                    </a:cubicBezTo>
                    <a:cubicBezTo>
                      <a:pt x="327" y="181"/>
                      <a:pt x="326" y="154"/>
                      <a:pt x="326" y="185"/>
                    </a:cubicBezTo>
                    <a:lnTo>
                      <a:pt x="0" y="191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716360" y="3284280"/>
                <a:ext cx="393840" cy="351000"/>
              </a:xfrm>
              <a:custGeom>
                <a:avLst/>
                <a:gdLst/>
                <a:ahLst/>
                <a:rect l="l" t="t" r="r" b="b"/>
                <a:pathLst>
                  <a:path w="248" h="221">
                    <a:moveTo>
                      <a:pt x="127" y="0"/>
                    </a:moveTo>
                    <a:cubicBezTo>
                      <a:pt x="101" y="3"/>
                      <a:pt x="73" y="0"/>
                      <a:pt x="49" y="10"/>
                    </a:cubicBezTo>
                    <a:cubicBezTo>
                      <a:pt x="34" y="16"/>
                      <a:pt x="23" y="56"/>
                      <a:pt x="20" y="69"/>
                    </a:cubicBezTo>
                    <a:cubicBezTo>
                      <a:pt x="9" y="122"/>
                      <a:pt x="0" y="161"/>
                      <a:pt x="0" y="215"/>
                    </a:cubicBezTo>
                    <a:lnTo>
                      <a:pt x="248" y="221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837440" y="227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744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2160" y="3573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98000" y="222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33800" y="3213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29640" y="323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36920" y="3594240"/>
            <a:ext cx="4958280" cy="1610640"/>
            <a:chOff x="736920" y="3594240"/>
            <a:chExt cx="4958280" cy="1610640"/>
          </a:xfrm>
        </p:grpSpPr>
        <p:grpSp>
          <p:nvGrpSpPr>
            <p:cNvPr id="150" name=""/>
            <p:cNvGrpSpPr/>
            <p:nvPr/>
          </p:nvGrpSpPr>
          <p:grpSpPr>
            <a:xfrm>
              <a:off x="969480" y="3859200"/>
              <a:ext cx="1872000" cy="1168560"/>
              <a:chOff x="969480" y="3859200"/>
              <a:chExt cx="1872000" cy="1168560"/>
            </a:xfrm>
          </p:grpSpPr>
          <p:sp>
            <p:nvSpPr>
              <p:cNvPr id="151" name=""/>
              <p:cNvSpPr/>
              <p:nvPr/>
            </p:nvSpPr>
            <p:spPr>
              <a:xfrm flipH="1">
                <a:off x="969480" y="3859200"/>
                <a:ext cx="1295640" cy="115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69840" y="5011920"/>
                <a:ext cx="187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65480" y="3859200"/>
                <a:ext cx="576000" cy="1152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69840" y="4724640"/>
                <a:ext cx="519120" cy="303120"/>
              </a:xfrm>
              <a:custGeom>
                <a:avLst/>
                <a:gdLst/>
                <a:ahLst/>
                <a:rect l="l" t="t" r="r" b="b"/>
                <a:pathLst>
                  <a:path w="327" h="191">
                    <a:moveTo>
                      <a:pt x="209" y="0"/>
                    </a:moveTo>
                    <a:cubicBezTo>
                      <a:pt x="274" y="20"/>
                      <a:pt x="286" y="57"/>
                      <a:pt x="306" y="117"/>
                    </a:cubicBezTo>
                    <a:cubicBezTo>
                      <a:pt x="327" y="181"/>
                      <a:pt x="326" y="154"/>
                      <a:pt x="326" y="185"/>
                    </a:cubicBezTo>
                    <a:lnTo>
                      <a:pt x="0" y="191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09840" y="4651560"/>
                <a:ext cx="393480" cy="350640"/>
              </a:xfrm>
              <a:custGeom>
                <a:avLst/>
                <a:gdLst/>
                <a:ahLst/>
                <a:rect l="l" t="t" r="r" b="b"/>
                <a:pathLst>
                  <a:path w="248" h="221">
                    <a:moveTo>
                      <a:pt x="127" y="0"/>
                    </a:moveTo>
                    <a:cubicBezTo>
                      <a:pt x="101" y="3"/>
                      <a:pt x="73" y="0"/>
                      <a:pt x="49" y="10"/>
                    </a:cubicBezTo>
                    <a:cubicBezTo>
                      <a:pt x="34" y="16"/>
                      <a:pt x="23" y="56"/>
                      <a:pt x="20" y="69"/>
                    </a:cubicBezTo>
                    <a:cubicBezTo>
                      <a:pt x="9" y="122"/>
                      <a:pt x="0" y="161"/>
                      <a:pt x="0" y="215"/>
                    </a:cubicBezTo>
                    <a:lnTo>
                      <a:pt x="248" y="221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3419280" y="3859200"/>
              <a:ext cx="1872000" cy="1168560"/>
              <a:chOff x="3419280" y="3859200"/>
              <a:chExt cx="1872000" cy="116856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3419280" y="3859200"/>
                <a:ext cx="1295640" cy="115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419640" y="5011920"/>
                <a:ext cx="187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15280" y="3859200"/>
                <a:ext cx="576000" cy="1152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419640" y="4724640"/>
                <a:ext cx="519120" cy="303120"/>
              </a:xfrm>
              <a:custGeom>
                <a:avLst/>
                <a:gdLst/>
                <a:ahLst/>
                <a:rect l="l" t="t" r="r" b="b"/>
                <a:pathLst>
                  <a:path w="327" h="191">
                    <a:moveTo>
                      <a:pt x="209" y="0"/>
                    </a:moveTo>
                    <a:cubicBezTo>
                      <a:pt x="274" y="20"/>
                      <a:pt x="286" y="57"/>
                      <a:pt x="306" y="117"/>
                    </a:cubicBezTo>
                    <a:cubicBezTo>
                      <a:pt x="327" y="181"/>
                      <a:pt x="326" y="154"/>
                      <a:pt x="326" y="185"/>
                    </a:cubicBezTo>
                    <a:lnTo>
                      <a:pt x="0" y="191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9640" y="4651560"/>
                <a:ext cx="393840" cy="350640"/>
              </a:xfrm>
              <a:custGeom>
                <a:avLst/>
                <a:gdLst/>
                <a:ahLst/>
                <a:rect l="l" t="t" r="r" b="b"/>
                <a:pathLst>
                  <a:path w="248" h="221">
                    <a:moveTo>
                      <a:pt x="127" y="0"/>
                    </a:moveTo>
                    <a:cubicBezTo>
                      <a:pt x="101" y="3"/>
                      <a:pt x="73" y="0"/>
                      <a:pt x="49" y="10"/>
                    </a:cubicBezTo>
                    <a:cubicBezTo>
                      <a:pt x="34" y="16"/>
                      <a:pt x="23" y="56"/>
                      <a:pt x="20" y="69"/>
                    </a:cubicBezTo>
                    <a:cubicBezTo>
                      <a:pt x="9" y="122"/>
                      <a:pt x="0" y="161"/>
                      <a:pt x="0" y="215"/>
                    </a:cubicBezTo>
                    <a:lnTo>
                      <a:pt x="248" y="221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889640" y="366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6920" y="4745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26000" y="4673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53640" y="3594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28920" y="44578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45280" y="4529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79280" y="115920"/>
            <a:ext cx="860436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l-GR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平分线上的一点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B⊥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C⊥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于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B=P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932360" y="3068640"/>
            <a:ext cx="3962520" cy="2590920"/>
            <a:chOff x="4932360" y="3068640"/>
            <a:chExt cx="3962520" cy="2590920"/>
          </a:xfrm>
        </p:grpSpPr>
        <p:grpSp>
          <p:nvGrpSpPr>
            <p:cNvPr id="170" name=""/>
            <p:cNvGrpSpPr/>
            <p:nvPr/>
          </p:nvGrpSpPr>
          <p:grpSpPr>
            <a:xfrm>
              <a:off x="5542200" y="3119040"/>
              <a:ext cx="3352680" cy="2540520"/>
              <a:chOff x="5542200" y="3119040"/>
              <a:chExt cx="3352680" cy="2540520"/>
            </a:xfrm>
          </p:grpSpPr>
          <p:sp>
            <p:nvSpPr>
              <p:cNvPr id="171" name=""/>
              <p:cNvSpPr/>
              <p:nvPr/>
            </p:nvSpPr>
            <p:spPr>
              <a:xfrm flipV="1">
                <a:off x="5542200" y="3119040"/>
                <a:ext cx="2963880" cy="132084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542200" y="3677760"/>
                <a:ext cx="3352680" cy="1981800"/>
                <a:chOff x="5542200" y="3677760"/>
                <a:chExt cx="3352680" cy="19818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542200" y="4440240"/>
                  <a:ext cx="2971800" cy="12193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542200" y="4440240"/>
                  <a:ext cx="33526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7294320" y="4440240"/>
                  <a:ext cx="304920" cy="762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 flipV="1">
                  <a:off x="7294320" y="3677760"/>
                  <a:ext cx="304920" cy="76212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4932360" y="428796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13800" y="30686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13800" y="51260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75560" y="40593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66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066080" y="3787920"/>
              <a:ext cx="287280" cy="144360"/>
              <a:chOff x="7066080" y="3787920"/>
              <a:chExt cx="287280" cy="144360"/>
            </a:xfrm>
          </p:grpSpPr>
          <p:sp>
            <p:nvSpPr>
              <p:cNvPr id="182" name=""/>
              <p:cNvSpPr/>
              <p:nvPr/>
            </p:nvSpPr>
            <p:spPr>
              <a:xfrm>
                <a:off x="7066080" y="3787920"/>
                <a:ext cx="71280" cy="14436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7137360" y="3861000"/>
                <a:ext cx="216000" cy="71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137000" y="4940280"/>
              <a:ext cx="216360" cy="144720"/>
              <a:chOff x="7137000" y="4940280"/>
              <a:chExt cx="216360" cy="144720"/>
            </a:xfrm>
          </p:grpSpPr>
          <p:sp>
            <p:nvSpPr>
              <p:cNvPr id="185" name=""/>
              <p:cNvSpPr/>
              <p:nvPr/>
            </p:nvSpPr>
            <p:spPr>
              <a:xfrm>
                <a:off x="7210440" y="4940280"/>
                <a:ext cx="142920" cy="716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7137000" y="4940280"/>
                <a:ext cx="73080" cy="14472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0" y="1484280"/>
            <a:ext cx="59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证明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∵A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角平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87280" y="4005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AB=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AC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4437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P=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CP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3280" y="501336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P=AP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414972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5013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公共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558972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PB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P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6093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B=PC  (                               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292428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BP=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CP=9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°(                    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720" y="3016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垂线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91628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B=∠PAC(               )            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37080" y="1916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角平分线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3600" y="3573360"/>
            <a:ext cx="28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△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280" y="2421000"/>
            <a:ext cx="45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⊥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⊥AC(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41080" y="242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3800" y="40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25440" y="450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已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70160" y="55897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08360" y="61657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全等三角形对应边相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5840" y="443700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836640"/>
            <a:ext cx="5256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413000"/>
            <a:ext cx="4824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0880" y="98856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平分线上的点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B⊥AB,PC⊥A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B=P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理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715000" y="1981080"/>
            <a:ext cx="3124080" cy="2349360"/>
            <a:chOff x="5715000" y="1981080"/>
            <a:chExt cx="3124080" cy="2349360"/>
          </a:xfrm>
        </p:grpSpPr>
        <p:grpSp>
          <p:nvGrpSpPr>
            <p:cNvPr id="211" name=""/>
            <p:cNvGrpSpPr/>
            <p:nvPr/>
          </p:nvGrpSpPr>
          <p:grpSpPr>
            <a:xfrm>
              <a:off x="6095880" y="2057040"/>
              <a:ext cx="2666880" cy="1828800"/>
              <a:chOff x="6095880" y="2057040"/>
              <a:chExt cx="2666880" cy="1828800"/>
            </a:xfrm>
          </p:grpSpPr>
          <p:sp>
            <p:nvSpPr>
              <p:cNvPr id="212" name=""/>
              <p:cNvSpPr/>
              <p:nvPr/>
            </p:nvSpPr>
            <p:spPr>
              <a:xfrm flipV="1">
                <a:off x="6095880" y="2057040"/>
                <a:ext cx="2057400" cy="1828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95880" y="3885840"/>
                <a:ext cx="25146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6171840" y="2818800"/>
                <a:ext cx="2590920" cy="10666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381880" y="2971440"/>
                <a:ext cx="0" cy="9144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7772040" y="2361600"/>
                <a:ext cx="609840" cy="68580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8229240" y="3733560"/>
                <a:ext cx="15264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229240" y="3733560"/>
                <a:ext cx="0" cy="1522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696080" y="2514240"/>
                <a:ext cx="75960" cy="76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772040" y="2514240"/>
                <a:ext cx="76320" cy="763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5715000" y="1981080"/>
              <a:ext cx="3124080" cy="2349360"/>
              <a:chOff x="5715000" y="1981080"/>
              <a:chExt cx="3124080" cy="2349360"/>
            </a:xfrm>
          </p:grpSpPr>
          <p:sp>
            <p:nvSpPr>
              <p:cNvPr id="222" name=""/>
              <p:cNvSpPr/>
              <p:nvPr/>
            </p:nvSpPr>
            <p:spPr>
              <a:xfrm>
                <a:off x="5715000" y="36576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229600" y="38098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7480" y="198108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381880" y="23623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609480" y="243828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角平分线的性质：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角平分线上的点到角两边的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距离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相等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41148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BA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平分线上的点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B⊥AB,PC⊥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B=P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角平分线上的点到角两边        的距离相等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657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新魏"/>
              </a:rPr>
              <a:t>数学语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049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探究归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020000" y="1484280"/>
            <a:ext cx="50472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04000" y="1989000"/>
            <a:ext cx="720720" cy="43200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73800" y="1700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653440" y="1052640"/>
            <a:ext cx="3274560" cy="2691720"/>
            <a:chOff x="5653440" y="1052640"/>
            <a:chExt cx="3274560" cy="2691720"/>
          </a:xfrm>
        </p:grpSpPr>
        <p:sp>
          <p:nvSpPr>
            <p:cNvPr id="234" name=""/>
            <p:cNvSpPr/>
            <p:nvPr/>
          </p:nvSpPr>
          <p:spPr>
            <a:xfrm>
              <a:off x="6084720" y="3284640"/>
              <a:ext cx="284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524720" y="1483920"/>
              <a:ext cx="0" cy="180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20000" y="1484280"/>
              <a:ext cx="180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084720" y="1483920"/>
              <a:ext cx="935280" cy="1800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084720" y="2420640"/>
              <a:ext cx="144000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13640" y="1073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26880" y="1052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26520" y="213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53800" y="328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53440" y="3068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255680" y="0"/>
            <a:ext cx="6911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AB∥CD,P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别平分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CB,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垂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PA=P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9960" y="1413000"/>
            <a:ext cx="3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2543600">
            <a:off x="6664320" y="1771920"/>
            <a:ext cx="3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9640" y="76500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，已知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=AE,∠B=∠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求证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E=C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1080" y="2205000"/>
            <a:ext cx="3236760" cy="3318120"/>
            <a:chOff x="181080" y="2205000"/>
            <a:chExt cx="3236760" cy="3318120"/>
          </a:xfrm>
        </p:grpSpPr>
        <p:grpSp>
          <p:nvGrpSpPr>
            <p:cNvPr id="249" name=""/>
            <p:cNvGrpSpPr/>
            <p:nvPr/>
          </p:nvGrpSpPr>
          <p:grpSpPr>
            <a:xfrm>
              <a:off x="618840" y="2610000"/>
              <a:ext cx="2384640" cy="2631960"/>
              <a:chOff x="618840" y="2610000"/>
              <a:chExt cx="2384640" cy="2631960"/>
            </a:xfrm>
          </p:grpSpPr>
          <p:sp>
            <p:nvSpPr>
              <p:cNvPr id="250" name=""/>
              <p:cNvSpPr/>
              <p:nvPr/>
            </p:nvSpPr>
            <p:spPr>
              <a:xfrm flipH="1">
                <a:off x="618840" y="2610000"/>
                <a:ext cx="1161720" cy="263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80920" y="2610000"/>
                <a:ext cx="1222560" cy="263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1320" y="3690000"/>
                <a:ext cx="1711800" cy="155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19200" y="3690000"/>
                <a:ext cx="1650960" cy="155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780920" y="2205000"/>
              <a:ext cx="42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1600" y="32162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4600" y="32162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43000" y="48369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1080" y="494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132000" y="1844640"/>
            <a:ext cx="6337440" cy="4195080"/>
            <a:chOff x="3132000" y="1844640"/>
            <a:chExt cx="6337440" cy="4195080"/>
          </a:xfrm>
        </p:grpSpPr>
        <p:sp>
          <p:nvSpPr>
            <p:cNvPr id="260" name=""/>
            <p:cNvSpPr/>
            <p:nvPr/>
          </p:nvSpPr>
          <p:spPr>
            <a:xfrm>
              <a:off x="3132000" y="1844640"/>
              <a:ext cx="6337440" cy="41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证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en-US" sz="3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∵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Arial"/>
                </a:rPr>
                <a:t>在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BE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D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=∠C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已知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∠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= ∠A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公共角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E=AD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已知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∴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BE  ≌△ACD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AS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方正姚体"/>
                  <a:ea typeface="方正姚体"/>
                </a:rPr>
                <a:t> ∴ </a:t>
              </a: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BE=C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（全等三角形对应边相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08360" y="2781360"/>
              <a:ext cx="368280" cy="1655640"/>
            </a:xfrm>
            <a:custGeom>
              <a:avLst/>
              <a:gdLst>
                <a:gd name="textAreaLeft" fmla="*/ 235440 w 368280"/>
                <a:gd name="textAreaRight" fmla="*/ 368640 w 368280"/>
                <a:gd name="textAreaTop" fmla="*/ 42840 h 1655640"/>
                <a:gd name="textAreaBottom" fmla="*/ 1612800 h 16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52720" y="2133720"/>
            <a:ext cx="3057480" cy="3497400"/>
            <a:chOff x="252720" y="2133720"/>
            <a:chExt cx="3057480" cy="3497400"/>
          </a:xfrm>
        </p:grpSpPr>
        <p:sp>
          <p:nvSpPr>
            <p:cNvPr id="263" name=""/>
            <p:cNvSpPr/>
            <p:nvPr/>
          </p:nvSpPr>
          <p:spPr>
            <a:xfrm>
              <a:off x="2194200" y="3718080"/>
              <a:ext cx="696960" cy="16509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30560" y="3789360"/>
              <a:ext cx="1560600" cy="15796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48160" y="2133720"/>
              <a:ext cx="40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6800" y="32115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5200" y="3211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35360" y="49370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720" y="5049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2920" y="4726080"/>
              <a:ext cx="503280" cy="576360"/>
            </a:xfrm>
            <a:custGeom>
              <a:avLst/>
              <a:gdLst/>
              <a:ahLst/>
              <a:rect l="l" t="t" r="r" b="b"/>
              <a:pathLst>
                <a:path w="430" h="515">
                  <a:moveTo>
                    <a:pt x="430" y="78"/>
                  </a:moveTo>
                  <a:cubicBezTo>
                    <a:pt x="367" y="15"/>
                    <a:pt x="292" y="0"/>
                    <a:pt x="205" y="0"/>
                  </a:cubicBezTo>
                  <a:lnTo>
                    <a:pt x="0" y="515"/>
                  </a:lnTo>
                  <a:lnTo>
                    <a:pt x="430" y="7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0200" y="4726080"/>
              <a:ext cx="433440" cy="576360"/>
            </a:xfrm>
            <a:custGeom>
              <a:avLst/>
              <a:gdLst/>
              <a:ahLst/>
              <a:rect l="l" t="t" r="r" b="b"/>
              <a:pathLst>
                <a:path w="346" h="449">
                  <a:moveTo>
                    <a:pt x="157" y="2"/>
                  </a:moveTo>
                  <a:cubicBezTo>
                    <a:pt x="99" y="8"/>
                    <a:pt x="0" y="0"/>
                    <a:pt x="0" y="80"/>
                  </a:cubicBezTo>
                  <a:lnTo>
                    <a:pt x="346" y="449"/>
                  </a:lnTo>
                  <a:lnTo>
                    <a:pt x="157" y="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73560" y="2638440"/>
              <a:ext cx="409320" cy="563760"/>
            </a:xfrm>
            <a:custGeom>
              <a:avLst/>
              <a:gdLst/>
              <a:ahLst/>
              <a:rect l="l" t="t" r="r" b="b"/>
              <a:pathLst>
                <a:path w="258" h="355">
                  <a:moveTo>
                    <a:pt x="0" y="256"/>
                  </a:moveTo>
                  <a:cubicBezTo>
                    <a:pt x="14" y="296"/>
                    <a:pt x="22" y="319"/>
                    <a:pt x="58" y="342"/>
                  </a:cubicBezTo>
                  <a:cubicBezTo>
                    <a:pt x="58" y="342"/>
                    <a:pt x="258" y="355"/>
                    <a:pt x="221" y="285"/>
                  </a:cubicBezTo>
                  <a:lnTo>
                    <a:pt x="119" y="0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62400" y="2565360"/>
              <a:ext cx="1542960" cy="2803680"/>
              <a:chOff x="662400" y="2565360"/>
              <a:chExt cx="1542960" cy="2803680"/>
            </a:xfrm>
          </p:grpSpPr>
          <p:sp>
            <p:nvSpPr>
              <p:cNvPr id="274" name=""/>
              <p:cNvSpPr/>
              <p:nvPr/>
            </p:nvSpPr>
            <p:spPr>
              <a:xfrm flipH="1">
                <a:off x="662400" y="3718080"/>
                <a:ext cx="668160" cy="165096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662400" y="3716280"/>
                <a:ext cx="1542960" cy="1652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762560" y="2565360"/>
                <a:ext cx="431640" cy="1152720"/>
              </a:xfrm>
              <a:prstGeom prst="line">
                <a:avLst/>
              </a:prstGeom>
              <a:ln w="442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330560" y="2565360"/>
                <a:ext cx="432000" cy="1152720"/>
              </a:xfrm>
              <a:prstGeom prst="line">
                <a:avLst/>
              </a:prstGeom>
              <a:ln w="442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817236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16920" y="-48240"/>
            <a:ext cx="3293640" cy="851400"/>
            <a:chOff x="-16920" y="-48240"/>
            <a:chExt cx="3293640" cy="851400"/>
          </a:xfrm>
        </p:grpSpPr>
        <p:sp>
          <p:nvSpPr>
            <p:cNvPr id="280" name=""/>
            <p:cNvSpPr/>
            <p:nvPr/>
          </p:nvSpPr>
          <p:spPr>
            <a:xfrm>
              <a:off x="0" y="381600"/>
              <a:ext cx="3276720" cy="27720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cc99"/>
              </a:solidFill>
              <a:round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-16920" y="-48240"/>
              <a:ext cx="3150720" cy="851400"/>
              <a:chOff x="-16920" y="-48240"/>
              <a:chExt cx="3150720" cy="851400"/>
            </a:xfrm>
          </p:grpSpPr>
          <p:sp>
            <p:nvSpPr>
              <p:cNvPr id="282" name=""/>
              <p:cNvSpPr/>
              <p:nvPr/>
            </p:nvSpPr>
            <p:spPr>
              <a:xfrm rot="158400">
                <a:off x="142200" y="69480"/>
                <a:ext cx="854640" cy="520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7320" y="104400"/>
                <a:ext cx="854640" cy="48564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50000">
                    <a:srgbClr val="cc3300"/>
                  </a:gs>
                  <a:gs pos="100000">
                    <a:srgbClr val="3333cc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961200">
                <a:off x="142200" y="0"/>
                <a:ext cx="427320" cy="55476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cc66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9520" y="360"/>
                <a:ext cx="712440" cy="1386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0920" y="416880"/>
                <a:ext cx="569880" cy="3121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50000">
                    <a:srgbClr val="ff9900"/>
                  </a:gs>
                  <a:gs pos="100000">
                    <a:srgbClr val="ccccff"/>
                  </a:gs>
                </a:gsLst>
                <a:lin ang="13500000"/>
              </a:gra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29000">
                <a:off x="0" y="633240"/>
                <a:ext cx="217800" cy="1270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54640" y="35280"/>
                <a:ext cx="213480" cy="3456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12120" y="34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练习</a:t>
                </a:r>
                <a:r>
                  <a:rPr b="1" lang="en-US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1: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09-22T07:39:02Z</dcterms:modified>
  <cp:revision>107</cp:revision>
  <dc:subject/>
  <dc:title/>
</cp:coreProperties>
</file>