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click.wav" ContentType="audio/x-wav"/>
  <Override PartName="/ppt/media/image4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voltage.wav" ContentType="audio/x-wav"/>
  <Override PartName="/ppt/media/image3.wmf" ContentType="image/x-wmf"/>
  <Override PartName="/ppt/media/image18.gif" ContentType="image/gif"/>
  <Override PartName="/ppt/media/image17.gif" ContentType="image/gif"/>
  <Override PartName="/ppt/media/image2.jpeg" ContentType="image/jpeg"/>
  <Override PartName="/ppt/media/image14.wmf" ContentType="image/x-wmf"/>
  <Override PartName="/ppt/media/image13.wmf" ContentType="image/x-wmf"/>
  <Override PartName="/ppt/media/image12.wmf" ContentType="image/x-wmf"/>
  <Override PartName="/ppt/media/chimes.wav" ContentType="audio/x-wav"/>
  <Override PartName="/ppt/media/image7.wmf" ContentType="image/x-wmf"/>
  <Override PartName="/ppt/media/image11.wmf" ContentType="image/x-wmf"/>
  <Override PartName="/ppt/media/image15.wmf" ContentType="image/x-wmf"/>
  <Override PartName="/ppt/media/image1.jpeg" ContentType="image/jpe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4DF8-F85C-4F93-9954-E9440074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170-B096-49E4-9C3D-49213242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EB8-325B-4E84-A8CB-11E6683D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66D-20EF-4FEA-82DC-1DAA43A7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0456-3669-4424-BB3F-5F178F3A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E0A-E65E-400E-84D2-EF990F07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FA54-F5DC-4C9E-987A-FB100E63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F1BC-F864-4222-A611-C1580254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1F9C-6370-4752-BC92-7CD7484B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EC45-E2A9-451A-B39F-35965622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CCB-B4A2-4B63-9577-A9BD142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084-0290-4696-85E3-A45276EC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F9C8-AAEA-4443-98E7-1DE6EA9A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745-9222-4C4A-9465-7C6FC632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259A-87B9-46D0-AB81-7961BFD5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62BB-A703-4AF6-AEA3-7A9829C9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04A6-43E8-4967-AB5F-CA10FB1F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39B-B5F7-4493-AEB7-02B93004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760F-DC42-4932-BBCC-B85E045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6D3-FF36-4CAD-9D71-93565ADB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5DC-0B86-4733-B25F-AEFBC53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7B0B-CC48-49BF-8DD8-D668905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597A-2A38-4667-BA36-7016286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798-AB73-47C3-AC7C-3527D47A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7E81-8162-4EF5-92F1-506EEB472F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BD99-8F3F-4FEB-A217-B215B14A17E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audio" Target="../media/voltag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8920" y="333360"/>
            <a:ext cx="64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47628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3141720"/>
            <a:ext cx="738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1.5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三角形全等判定（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2</a:t>
            </a:r>
            <a:r>
              <a:rPr b="1" lang="zh-CN" sz="4800" spc="-1" strike="noStrike">
                <a:solidFill>
                  <a:srgbClr val="33ccff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H="1">
            <a:off x="6324480" y="3048120"/>
            <a:ext cx="873360" cy="172872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238880" y="3048120"/>
            <a:ext cx="838440" cy="17524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24480" y="4800600"/>
            <a:ext cx="873360" cy="874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7206840" y="4809960"/>
            <a:ext cx="873000" cy="8748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334200" y="4809960"/>
            <a:ext cx="1746000" cy="1800"/>
          </a:xfrm>
          <a:prstGeom prst="line">
            <a:avLst/>
          </a:prstGeom>
          <a:ln w="381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07200" y="3081240"/>
            <a:ext cx="1800" cy="2603520"/>
          </a:xfrm>
          <a:prstGeom prst="line">
            <a:avLst/>
          </a:prstGeom>
          <a:ln w="38160">
            <a:solidFill>
              <a:srgbClr val="01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3320" y="2782800"/>
            <a:ext cx="195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060240" y="4556160"/>
            <a:ext cx="198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63440" y="4579920"/>
            <a:ext cx="22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90040" y="5638680"/>
            <a:ext cx="19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S Sans Serif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900000" y="2349360"/>
          <a:ext cx="194328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349360"/>
                    <a:ext cx="194328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2050920" y="2997360"/>
                <a:ext cx="2574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916360" y="2421000"/>
                <a:ext cx="1726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2" name=""/>
          <p:cNvGraphicFramePr/>
          <p:nvPr/>
        </p:nvGraphicFramePr>
        <p:xfrm>
          <a:off x="755640" y="5013360"/>
          <a:ext cx="2367000" cy="44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5013360"/>
                    <a:ext cx="236700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3203640" y="4941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S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042920" y="2924280"/>
            <a:ext cx="4032000" cy="459720"/>
            <a:chOff x="1042920" y="2924280"/>
            <a:chExt cx="4032000" cy="459720"/>
          </a:xfrm>
        </p:grpSpPr>
        <p:sp>
          <p:nvSpPr>
            <p:cNvPr id="376" name=""/>
            <p:cNvSpPr/>
            <p:nvPr/>
          </p:nvSpPr>
          <p:spPr>
            <a:xfrm>
              <a:off x="1042920" y="292428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在                   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77" name=""/>
            <p:cNvGraphicFramePr/>
            <p:nvPr/>
          </p:nvGraphicFramePr>
          <p:xfrm>
            <a:off x="1385640" y="2949840"/>
            <a:ext cx="1733760" cy="423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37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85640" y="2949840"/>
                      <a:ext cx="1733760" cy="42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79" name=""/>
          <p:cNvGrpSpPr/>
          <p:nvPr/>
        </p:nvGrpSpPr>
        <p:grpSpPr>
          <a:xfrm>
            <a:off x="755640" y="3429000"/>
            <a:ext cx="3960720" cy="1396440"/>
            <a:chOff x="755640" y="3429000"/>
            <a:chExt cx="3960720" cy="1396440"/>
          </a:xfrm>
        </p:grpSpPr>
        <p:grpSp>
          <p:nvGrpSpPr>
            <p:cNvPr id="380" name=""/>
            <p:cNvGrpSpPr/>
            <p:nvPr/>
          </p:nvGrpSpPr>
          <p:grpSpPr>
            <a:xfrm>
              <a:off x="1333440" y="3429000"/>
              <a:ext cx="3382920" cy="1396440"/>
              <a:chOff x="1333440" y="3429000"/>
              <a:chExt cx="3382920" cy="1396440"/>
            </a:xfrm>
          </p:grpSpPr>
          <p:graphicFrame>
            <p:nvGraphicFramePr>
              <p:cNvPr id="381" name=""/>
              <p:cNvGraphicFramePr/>
              <p:nvPr/>
            </p:nvGraphicFramePr>
            <p:xfrm>
              <a:off x="1476360" y="4415040"/>
              <a:ext cx="1368360" cy="38232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8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476360" y="4415040"/>
                        <a:ext cx="1368360" cy="38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3" name=""/>
              <p:cNvGraphicFramePr/>
              <p:nvPr/>
            </p:nvGraphicFramePr>
            <p:xfrm>
              <a:off x="1479240" y="3500640"/>
              <a:ext cx="1438560" cy="38088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384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479240" y="3500640"/>
                        <a:ext cx="14385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5" name=""/>
              <p:cNvGraphicFramePr/>
              <p:nvPr/>
            </p:nvGraphicFramePr>
            <p:xfrm>
              <a:off x="1476360" y="3989520"/>
              <a:ext cx="1611360" cy="376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386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1476360" y="3989520"/>
                        <a:ext cx="1611360" cy="37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87" name=""/>
              <p:cNvSpPr/>
              <p:nvPr/>
            </p:nvSpPr>
            <p:spPr>
              <a:xfrm>
                <a:off x="2989080" y="3429000"/>
                <a:ext cx="172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已证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237840" y="393372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已证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299400" y="436572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ahoma"/>
                  </a:rPr>
                  <a:t>（公共边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33440" y="3645000"/>
                <a:ext cx="71280" cy="1081080"/>
              </a:xfrm>
              <a:custGeom>
                <a:avLst/>
                <a:gdLst>
                  <a:gd name="textAreaLeft" fmla="*/ 45720 w 71280"/>
                  <a:gd name="textAreaRight" fmla="*/ 71640 w 71280"/>
                  <a:gd name="textAreaTop" fmla="*/ 28080 h 1081080"/>
                  <a:gd name="textAreaBottom" fmla="*/ 1053000 h 108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755640" y="39337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4500720" y="23493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线段垂直平分线的性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0960" y="836640"/>
            <a:ext cx="89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垂直平分线，         与            全等吗？请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588000" y="907920"/>
                <a:ext cx="11494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7818480" y="907920"/>
                <a:ext cx="132552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1116000" y="19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02080" y="1844640"/>
            <a:ext cx="42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线段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的垂直平分线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399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401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plit dir="out" orient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95280" y="1125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两个三角形有两边和一角对应相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的两个三角形一定全等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411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413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1700280"/>
            <a:ext cx="874872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下面的图中，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、②、③三个三角形，根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中条件，三角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等（填序号即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429000" y="3733920"/>
            <a:ext cx="2590920" cy="1828080"/>
            <a:chOff x="3429000" y="3733920"/>
            <a:chExt cx="2590920" cy="1828080"/>
          </a:xfrm>
        </p:grpSpPr>
        <p:grpSp>
          <p:nvGrpSpPr>
            <p:cNvPr id="423" name=""/>
            <p:cNvGrpSpPr/>
            <p:nvPr/>
          </p:nvGrpSpPr>
          <p:grpSpPr>
            <a:xfrm>
              <a:off x="3429000" y="3806640"/>
              <a:ext cx="2590920" cy="1224000"/>
              <a:chOff x="3429000" y="3806640"/>
              <a:chExt cx="2590920" cy="1224000"/>
            </a:xfrm>
          </p:grpSpPr>
          <p:sp>
            <p:nvSpPr>
              <p:cNvPr id="424" name=""/>
              <p:cNvSpPr/>
              <p:nvPr/>
            </p:nvSpPr>
            <p:spPr>
              <a:xfrm flipV="1">
                <a:off x="3429000" y="3806640"/>
                <a:ext cx="93492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29000" y="503064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63920" y="3807000"/>
                <a:ext cx="165600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4149720" y="510228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717720" y="3876120"/>
              <a:ext cx="8636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90" y="16"/>
                  </a:moveTo>
                  <a:arcTo wR="10800" hR="10800" stAng="-5212216" swAng="5212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90" y="16"/>
                  </a:moveTo>
                  <a:arcTo wR="10800" hR="10800" stAng="-5212216" swAng="521221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3720" y="373392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42080" y="4023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45000" y="40230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100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715000" y="4571640"/>
            <a:ext cx="2519280" cy="1899720"/>
            <a:chOff x="5715000" y="4571640"/>
            <a:chExt cx="2519280" cy="1899720"/>
          </a:xfrm>
        </p:grpSpPr>
        <p:grpSp>
          <p:nvGrpSpPr>
            <p:cNvPr id="433" name=""/>
            <p:cNvGrpSpPr/>
            <p:nvPr/>
          </p:nvGrpSpPr>
          <p:grpSpPr>
            <a:xfrm>
              <a:off x="5930640" y="4571640"/>
              <a:ext cx="2232360" cy="1224000"/>
              <a:chOff x="5930640" y="4571640"/>
              <a:chExt cx="2232360" cy="1224000"/>
            </a:xfrm>
          </p:grpSpPr>
          <p:sp>
            <p:nvSpPr>
              <p:cNvPr id="434" name=""/>
              <p:cNvSpPr/>
              <p:nvPr/>
            </p:nvSpPr>
            <p:spPr>
              <a:xfrm flipV="1">
                <a:off x="5930640" y="4571640"/>
                <a:ext cx="80532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30640" y="5795640"/>
                <a:ext cx="223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35960" y="4572000"/>
                <a:ext cx="1426680" cy="1223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796080" y="6011640"/>
              <a:ext cx="107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59360" y="4859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35720" y="579600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02640" y="5580000"/>
              <a:ext cx="145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804080" y="5580000"/>
              <a:ext cx="1418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15000" y="543564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39000" y="53640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14280" y="4028760"/>
            <a:ext cx="4136760" cy="2831760"/>
            <a:chOff x="314280" y="4028760"/>
            <a:chExt cx="4136760" cy="2831760"/>
          </a:xfrm>
        </p:grpSpPr>
        <p:sp>
          <p:nvSpPr>
            <p:cNvPr id="445" name=""/>
            <p:cNvSpPr/>
            <p:nvPr/>
          </p:nvSpPr>
          <p:spPr>
            <a:xfrm>
              <a:off x="1841760" y="6400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675000" y="4943160"/>
              <a:ext cx="2551680" cy="1367640"/>
              <a:chOff x="675000" y="4943160"/>
              <a:chExt cx="2551680" cy="1367640"/>
            </a:xfrm>
          </p:grpSpPr>
          <p:sp>
            <p:nvSpPr>
              <p:cNvPr id="447" name=""/>
              <p:cNvSpPr/>
              <p:nvPr/>
            </p:nvSpPr>
            <p:spPr>
              <a:xfrm flipH="1">
                <a:off x="2518560" y="4943520"/>
                <a:ext cx="708120" cy="136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675000" y="4943160"/>
                <a:ext cx="2551680" cy="45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flipV="1">
                <a:off x="675000" y="5393160"/>
                <a:ext cx="1843560" cy="91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779920" y="5446440"/>
              <a:ext cx="5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22480" y="5806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2895200">
              <a:off x="2855520" y="4299480"/>
              <a:ext cx="135000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94" y="581"/>
                  </a:moveTo>
                  <a:arcTo wR="10800" hR="10800" stAng="-4267538" swAng="16744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94" y="581"/>
                  </a:moveTo>
                  <a:arcTo wR="10800" hR="10800" stAng="-4267538" swAng="1674426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3769200">
              <a:off x="398880" y="4974840"/>
              <a:ext cx="861840" cy="717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422" y="625"/>
                  </a:moveTo>
                  <a:arcTo wR="10800" hR="10800" stAng="-4224334" swAng="2541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422" y="625"/>
                  </a:moveTo>
                  <a:arcTo wR="10800" hR="10800" stAng="-4224334" swAng="2541598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6120" y="50320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48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2120" y="532116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13953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3159000" y="263700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46720" y="25909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26028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拓展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95280" y="2781360"/>
            <a:ext cx="7777080" cy="2879640"/>
          </a:xfrm>
          <a:prstGeom prst="rect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116000" y="3141720"/>
            <a:ext cx="3024360" cy="1942920"/>
          </a:xfrm>
          <a:custGeom>
            <a:avLst/>
            <a:gdLst/>
            <a:ahLst/>
            <a:rect l="l" t="t" r="r" b="b"/>
            <a:pathLst>
              <a:path w="2554" h="1895">
                <a:moveTo>
                  <a:pt x="1523" y="205"/>
                </a:moveTo>
                <a:cubicBezTo>
                  <a:pt x="1634" y="209"/>
                  <a:pt x="1745" y="210"/>
                  <a:pt x="1856" y="218"/>
                </a:cubicBezTo>
                <a:cubicBezTo>
                  <a:pt x="1874" y="219"/>
                  <a:pt x="1893" y="220"/>
                  <a:pt x="1907" y="231"/>
                </a:cubicBezTo>
                <a:cubicBezTo>
                  <a:pt x="1917" y="239"/>
                  <a:pt x="1909" y="262"/>
                  <a:pt x="1920" y="269"/>
                </a:cubicBezTo>
                <a:cubicBezTo>
                  <a:pt x="1949" y="288"/>
                  <a:pt x="1989" y="284"/>
                  <a:pt x="2022" y="295"/>
                </a:cubicBezTo>
                <a:cubicBezTo>
                  <a:pt x="2071" y="367"/>
                  <a:pt x="2159" y="423"/>
                  <a:pt x="2227" y="474"/>
                </a:cubicBezTo>
                <a:cubicBezTo>
                  <a:pt x="2279" y="514"/>
                  <a:pt x="2255" y="514"/>
                  <a:pt x="2304" y="563"/>
                </a:cubicBezTo>
                <a:cubicBezTo>
                  <a:pt x="2336" y="595"/>
                  <a:pt x="2381" y="627"/>
                  <a:pt x="2419" y="653"/>
                </a:cubicBezTo>
                <a:cubicBezTo>
                  <a:pt x="2480" y="830"/>
                  <a:pt x="2554" y="1293"/>
                  <a:pt x="2342" y="1434"/>
                </a:cubicBezTo>
                <a:cubicBezTo>
                  <a:pt x="2276" y="1534"/>
                  <a:pt x="2363" y="1413"/>
                  <a:pt x="2278" y="1498"/>
                </a:cubicBezTo>
                <a:cubicBezTo>
                  <a:pt x="2220" y="1556"/>
                  <a:pt x="2290" y="1524"/>
                  <a:pt x="2214" y="1549"/>
                </a:cubicBezTo>
                <a:cubicBezTo>
                  <a:pt x="2188" y="1566"/>
                  <a:pt x="2166" y="1590"/>
                  <a:pt x="2137" y="1600"/>
                </a:cubicBezTo>
                <a:cubicBezTo>
                  <a:pt x="2124" y="1604"/>
                  <a:pt x="2111" y="1606"/>
                  <a:pt x="2099" y="1613"/>
                </a:cubicBezTo>
                <a:cubicBezTo>
                  <a:pt x="2066" y="1631"/>
                  <a:pt x="2027" y="1672"/>
                  <a:pt x="1984" y="1677"/>
                </a:cubicBezTo>
                <a:cubicBezTo>
                  <a:pt x="1929" y="1684"/>
                  <a:pt x="1873" y="1686"/>
                  <a:pt x="1817" y="1690"/>
                </a:cubicBezTo>
                <a:cubicBezTo>
                  <a:pt x="1725" y="1722"/>
                  <a:pt x="1839" y="1676"/>
                  <a:pt x="1741" y="1741"/>
                </a:cubicBezTo>
                <a:cubicBezTo>
                  <a:pt x="1697" y="1770"/>
                  <a:pt x="1610" y="1776"/>
                  <a:pt x="1561" y="1792"/>
                </a:cubicBezTo>
                <a:cubicBezTo>
                  <a:pt x="1516" y="1806"/>
                  <a:pt x="1468" y="1801"/>
                  <a:pt x="1421" y="1805"/>
                </a:cubicBezTo>
                <a:cubicBezTo>
                  <a:pt x="1098" y="1830"/>
                  <a:pt x="1058" y="1822"/>
                  <a:pt x="614" y="1831"/>
                </a:cubicBezTo>
                <a:cubicBezTo>
                  <a:pt x="521" y="1842"/>
                  <a:pt x="434" y="1865"/>
                  <a:pt x="345" y="1895"/>
                </a:cubicBezTo>
                <a:cubicBezTo>
                  <a:pt x="320" y="1886"/>
                  <a:pt x="294" y="1878"/>
                  <a:pt x="269" y="1869"/>
                </a:cubicBezTo>
                <a:cubicBezTo>
                  <a:pt x="240" y="1859"/>
                  <a:pt x="221" y="1828"/>
                  <a:pt x="192" y="1818"/>
                </a:cubicBezTo>
                <a:cubicBezTo>
                  <a:pt x="179" y="1814"/>
                  <a:pt x="166" y="1809"/>
                  <a:pt x="153" y="1805"/>
                </a:cubicBezTo>
                <a:cubicBezTo>
                  <a:pt x="80" y="1695"/>
                  <a:pt x="43" y="1622"/>
                  <a:pt x="0" y="1498"/>
                </a:cubicBezTo>
                <a:cubicBezTo>
                  <a:pt x="4" y="1451"/>
                  <a:pt x="6" y="1404"/>
                  <a:pt x="13" y="1357"/>
                </a:cubicBezTo>
                <a:cubicBezTo>
                  <a:pt x="18" y="1322"/>
                  <a:pt x="38" y="1255"/>
                  <a:pt x="38" y="1255"/>
                </a:cubicBezTo>
                <a:cubicBezTo>
                  <a:pt x="36" y="1194"/>
                  <a:pt x="10" y="653"/>
                  <a:pt x="38" y="499"/>
                </a:cubicBezTo>
                <a:cubicBezTo>
                  <a:pt x="43" y="469"/>
                  <a:pt x="143" y="456"/>
                  <a:pt x="166" y="448"/>
                </a:cubicBezTo>
                <a:cubicBezTo>
                  <a:pt x="175" y="435"/>
                  <a:pt x="181" y="421"/>
                  <a:pt x="192" y="410"/>
                </a:cubicBezTo>
                <a:cubicBezTo>
                  <a:pt x="203" y="399"/>
                  <a:pt x="220" y="396"/>
                  <a:pt x="230" y="384"/>
                </a:cubicBezTo>
                <a:cubicBezTo>
                  <a:pt x="238" y="374"/>
                  <a:pt x="236" y="358"/>
                  <a:pt x="243" y="346"/>
                </a:cubicBezTo>
                <a:cubicBezTo>
                  <a:pt x="258" y="319"/>
                  <a:pt x="284" y="298"/>
                  <a:pt x="294" y="269"/>
                </a:cubicBezTo>
                <a:cubicBezTo>
                  <a:pt x="312" y="216"/>
                  <a:pt x="300" y="242"/>
                  <a:pt x="333" y="192"/>
                </a:cubicBezTo>
                <a:cubicBezTo>
                  <a:pt x="387" y="21"/>
                  <a:pt x="577" y="71"/>
                  <a:pt x="729" y="64"/>
                </a:cubicBezTo>
                <a:cubicBezTo>
                  <a:pt x="777" y="49"/>
                  <a:pt x="802" y="41"/>
                  <a:pt x="845" y="26"/>
                </a:cubicBezTo>
                <a:cubicBezTo>
                  <a:pt x="858" y="22"/>
                  <a:pt x="870" y="17"/>
                  <a:pt x="883" y="13"/>
                </a:cubicBezTo>
                <a:cubicBezTo>
                  <a:pt x="896" y="9"/>
                  <a:pt x="921" y="0"/>
                  <a:pt x="921" y="0"/>
                </a:cubicBezTo>
                <a:cubicBezTo>
                  <a:pt x="981" y="4"/>
                  <a:pt x="1042" y="2"/>
                  <a:pt x="1101" y="13"/>
                </a:cubicBezTo>
                <a:cubicBezTo>
                  <a:pt x="1150" y="22"/>
                  <a:pt x="1156" y="86"/>
                  <a:pt x="1203" y="103"/>
                </a:cubicBezTo>
                <a:cubicBezTo>
                  <a:pt x="1247" y="119"/>
                  <a:pt x="1267" y="107"/>
                  <a:pt x="1305" y="128"/>
                </a:cubicBezTo>
                <a:cubicBezTo>
                  <a:pt x="1422" y="193"/>
                  <a:pt x="1374" y="186"/>
                  <a:pt x="1523" y="205"/>
                </a:cubicBezTo>
                <a:close/>
              </a:path>
            </a:pathLst>
          </a:custGeom>
          <a:solidFill>
            <a:srgbClr val="3366ff">
              <a:alpha val="84000"/>
            </a:srgbClr>
          </a:solidFill>
          <a:ln w="28440">
            <a:solidFill>
              <a:srgbClr val="33cccc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635280" y="3573360"/>
            <a:ext cx="0" cy="129564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19640" y="3141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51640" y="3141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35280" y="3573360"/>
            <a:ext cx="1368360" cy="79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635280" y="4365720"/>
            <a:ext cx="136836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03640" y="4365720"/>
            <a:ext cx="136872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003640" y="3933720"/>
            <a:ext cx="1368720" cy="4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372360" y="393372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88000" y="3933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27640" y="4869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27640" y="3573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620640"/>
            <a:ext cx="8209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湖的湖岸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呈一段圆弧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的距离不能直接测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用已学过的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方法设计测量方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间的距离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3965400">
            <a:off x="4935240" y="4289400"/>
            <a:ext cx="129960" cy="1364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作业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240" y="2924280"/>
            <a:ext cx="8915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完成作业本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同步练习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预习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</a:rPr>
              <a:t>1.5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角形全等的判定（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7709040" y="0"/>
            <a:ext cx="143496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104040" y="3711240"/>
            <a:ext cx="4975200" cy="2388600"/>
            <a:chOff x="104040" y="3711240"/>
            <a:chExt cx="4975200" cy="2388600"/>
          </a:xfrm>
        </p:grpSpPr>
        <p:sp>
          <p:nvSpPr>
            <p:cNvPr id="104" name=""/>
            <p:cNvSpPr/>
            <p:nvPr/>
          </p:nvSpPr>
          <p:spPr>
            <a:xfrm rot="20081400">
              <a:off x="-15120" y="5431680"/>
              <a:ext cx="28083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0081400">
              <a:off x="2390760" y="4307400"/>
              <a:ext cx="2808000" cy="709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5600" y="4790160"/>
            <a:ext cx="5463720" cy="87840"/>
            <a:chOff x="75600" y="4790160"/>
            <a:chExt cx="5463720" cy="87840"/>
          </a:xfrm>
        </p:grpSpPr>
        <p:sp>
          <p:nvSpPr>
            <p:cNvPr id="107" name=""/>
            <p:cNvSpPr/>
            <p:nvPr/>
          </p:nvSpPr>
          <p:spPr>
            <a:xfrm rot="2400">
              <a:off x="75240" y="4791240"/>
              <a:ext cx="2808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400">
              <a:off x="2730960" y="4805280"/>
              <a:ext cx="2808000" cy="71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0920" y="620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两根木条的一端用螺栓固定在一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组成的三角形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惟一确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00360" y="4869000"/>
            <a:ext cx="2663640" cy="72720"/>
            <a:chOff x="2700360" y="4869000"/>
            <a:chExt cx="2663640" cy="72720"/>
          </a:xfrm>
        </p:grpSpPr>
        <p:sp>
          <p:nvSpPr>
            <p:cNvPr id="111" name=""/>
            <p:cNvSpPr/>
            <p:nvPr/>
          </p:nvSpPr>
          <p:spPr>
            <a:xfrm>
              <a:off x="2700360" y="4869000"/>
              <a:ext cx="2663640" cy="727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68040" y="4869000"/>
              <a:ext cx="67320" cy="727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5219640" y="3716280"/>
            <a:ext cx="144360" cy="1225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2492280"/>
            <a:ext cx="1223640" cy="2448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5445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思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将两木条之间的夹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AC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小固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惟一确定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4724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342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6720" y="47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11640" y="22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484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就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果两个三角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只有两条边对应相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那么这两个三角形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不一定全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看下图中的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与 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是全等三角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-3600" y="-77040"/>
            <a:ext cx="4719600" cy="692640"/>
            <a:chOff x="-3600" y="-77040"/>
            <a:chExt cx="4719600" cy="692640"/>
          </a:xfrm>
        </p:grpSpPr>
        <p:sp>
          <p:nvSpPr>
            <p:cNvPr id="122" name=""/>
            <p:cNvSpPr/>
            <p:nvPr/>
          </p:nvSpPr>
          <p:spPr>
            <a:xfrm>
              <a:off x="0" y="275760"/>
              <a:ext cx="471600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-3600" y="-77040"/>
              <a:ext cx="4514400" cy="692640"/>
              <a:chOff x="-3600" y="-77040"/>
              <a:chExt cx="4514400" cy="692640"/>
            </a:xfrm>
          </p:grpSpPr>
          <p:sp>
            <p:nvSpPr>
              <p:cNvPr id="124" name=""/>
              <p:cNvSpPr/>
              <p:nvPr/>
            </p:nvSpPr>
            <p:spPr>
              <a:xfrm rot="158400">
                <a:off x="204840" y="50400"/>
                <a:ext cx="123012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14880" y="75600"/>
                <a:ext cx="123012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961200">
                <a:off x="204840" y="0"/>
                <a:ext cx="61488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9720" y="360"/>
                <a:ext cx="102528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1880" y="301320"/>
                <a:ext cx="82044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9000">
                <a:off x="0" y="457200"/>
                <a:ext cx="31356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30120" y="25560"/>
                <a:ext cx="30744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44560" y="25560"/>
                <a:ext cx="276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观察与思考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981000"/>
            <a:ext cx="849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我们动手画一画：用量角器和刻度尺画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AB=3cm,BC=4c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77080" y="1052640"/>
                <a:ext cx="1224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24360" y="1700280"/>
                <a:ext cx="2232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50920" y="537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你画出的三角形和其他同学画的三角形进行比较，它们互相重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-6480" y="-62640"/>
            <a:ext cx="3930480" cy="669600"/>
            <a:chOff x="-6480" y="-62640"/>
            <a:chExt cx="3930480" cy="669600"/>
          </a:xfrm>
        </p:grpSpPr>
        <p:sp>
          <p:nvSpPr>
            <p:cNvPr id="137" name=""/>
            <p:cNvSpPr/>
            <p:nvPr/>
          </p:nvSpPr>
          <p:spPr>
            <a:xfrm>
              <a:off x="0" y="275760"/>
              <a:ext cx="392400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-6480" y="-62640"/>
              <a:ext cx="3759840" cy="669600"/>
              <a:chOff x="-6480" y="-62640"/>
              <a:chExt cx="3759840" cy="669600"/>
            </a:xfrm>
          </p:grpSpPr>
          <p:sp>
            <p:nvSpPr>
              <p:cNvPr id="139" name=""/>
              <p:cNvSpPr/>
              <p:nvPr/>
            </p:nvSpPr>
            <p:spPr>
              <a:xfrm rot="158400">
                <a:off x="170280" y="50040"/>
                <a:ext cx="102348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1560" y="75600"/>
                <a:ext cx="102348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961200">
                <a:off x="169920" y="0"/>
                <a:ext cx="51156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82200" y="360"/>
                <a:ext cx="85320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4960" y="301320"/>
                <a:ext cx="68256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629000">
                <a:off x="0" y="457560"/>
                <a:ext cx="2610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23480" y="25560"/>
                <a:ext cx="25560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51520" y="25560"/>
                <a:ext cx="2301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合作学习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395280" y="2276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2276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BN=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29242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= 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3500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射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截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C=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40766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4724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所求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4000" y="260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两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及其夹角对应相等的两个三角形全等（简写成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幼圆"/>
              </a:rPr>
              <a:t>边角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”或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幼圆"/>
              </a:rPr>
              <a:t>ＳＡ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335772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33520" y="4038480"/>
            <a:ext cx="4608360" cy="690840"/>
            <a:chOff x="533520" y="4038480"/>
            <a:chExt cx="4608360" cy="690840"/>
          </a:xfrm>
        </p:grpSpPr>
        <p:sp>
          <p:nvSpPr>
            <p:cNvPr id="156" name=""/>
            <p:cNvSpPr/>
            <p:nvPr/>
          </p:nvSpPr>
          <p:spPr>
            <a:xfrm>
              <a:off x="533520" y="4038480"/>
              <a:ext cx="19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</a:rPr>
                <a:t>数学语言</a:t>
              </a: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973520" y="4254480"/>
                  <a:ext cx="316836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在Δ</m:t>
                      </m:r>
                      <m:r>
                        <m:rPr>
                          <m:lit/>
                          <m:nor/>
                        </m:rPr>
                        <m:t xml:space="preserve">ABC</m:t>
                      </m:r>
                      <m:r>
                        <m:t xml:space="preserve">和Δ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中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58" name=""/>
          <p:cNvGraphicFramePr/>
          <p:nvPr/>
        </p:nvGraphicFramePr>
        <p:xfrm>
          <a:off x="1143000" y="6095880"/>
          <a:ext cx="5040360" cy="4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6095880"/>
                    <a:ext cx="50403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1371600" y="2286000"/>
            <a:ext cx="6121440" cy="1728360"/>
            <a:chOff x="1371600" y="2286000"/>
            <a:chExt cx="6121440" cy="1728360"/>
          </a:xfrm>
        </p:grpSpPr>
        <p:grpSp>
          <p:nvGrpSpPr>
            <p:cNvPr id="161" name=""/>
            <p:cNvGrpSpPr/>
            <p:nvPr/>
          </p:nvGrpSpPr>
          <p:grpSpPr>
            <a:xfrm>
              <a:off x="1371600" y="2286000"/>
              <a:ext cx="3024360" cy="1728360"/>
              <a:chOff x="1371600" y="2286000"/>
              <a:chExt cx="3024360" cy="172836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2019240" y="2717640"/>
                <a:ext cx="1800360" cy="1296720"/>
                <a:chOff x="2019240" y="2717640"/>
                <a:chExt cx="1800360" cy="129672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2019240" y="2717640"/>
                  <a:ext cx="1800360" cy="1081080"/>
                  <a:chOff x="2019240" y="2717640"/>
                  <a:chExt cx="1800360" cy="10810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>
                    <a:off x="2019240" y="2717640"/>
                    <a:ext cx="72072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2019240" y="3798720"/>
                    <a:ext cx="180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739960" y="2717640"/>
                    <a:ext cx="107964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2306880" y="3222360"/>
                  <a:ext cx="14436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82880" y="372564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954520" y="372564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089440" y="3582720"/>
                  <a:ext cx="14544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524320" y="22860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371600" y="3510000"/>
                <a:ext cx="86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603600" y="343692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4900680" y="2286000"/>
              <a:ext cx="2592360" cy="1666800"/>
              <a:chOff x="4900680" y="2286000"/>
              <a:chExt cx="2592360" cy="1666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5261040" y="2656080"/>
                <a:ext cx="1800360" cy="1296720"/>
                <a:chOff x="5261040" y="2656080"/>
                <a:chExt cx="1800360" cy="129672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5261040" y="2656080"/>
                  <a:ext cx="1800360" cy="1081080"/>
                  <a:chOff x="5261040" y="2656080"/>
                  <a:chExt cx="1800360" cy="10810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>
                    <a:off x="5261040" y="2656080"/>
                    <a:ext cx="72072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5261040" y="3737160"/>
                    <a:ext cx="18003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981760" y="2656080"/>
                    <a:ext cx="1079640" cy="1081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5548680" y="3160800"/>
                  <a:ext cx="14436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24680" y="366408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96320" y="3664080"/>
                  <a:ext cx="0" cy="14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331240" y="3521160"/>
                  <a:ext cx="145440" cy="431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6053040" y="2286000"/>
                    <a:ext cx="432000" cy="374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4900680" y="3448080"/>
                    <a:ext cx="433440" cy="37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6" name=""/>
                  <p:cNvSpPr txBox="1"/>
                  <p:nvPr/>
                </p:nvSpPr>
                <p:spPr>
                  <a:xfrm>
                    <a:off x="7061400" y="3448080"/>
                    <a:ext cx="43164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87" name=""/>
          <p:cNvGrpSpPr/>
          <p:nvPr/>
        </p:nvGrpSpPr>
        <p:grpSpPr>
          <a:xfrm>
            <a:off x="838080" y="1752480"/>
            <a:ext cx="7919640" cy="642600"/>
            <a:chOff x="838080" y="1752480"/>
            <a:chExt cx="7919640" cy="642600"/>
          </a:xfrm>
        </p:grpSpPr>
        <p:sp>
          <p:nvSpPr>
            <p:cNvPr id="188" name=""/>
            <p:cNvSpPr/>
            <p:nvPr/>
          </p:nvSpPr>
          <p:spPr>
            <a:xfrm>
              <a:off x="838080" y="1752480"/>
              <a:ext cx="23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</a:t>
              </a:r>
              <a:r>
                <a:rPr b="0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注 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0080" y="1823760"/>
              <a:ext cx="56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这个角一定要是两条边的夹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66800" y="1968480"/>
              <a:ext cx="502920" cy="288720"/>
            </a:xfrm>
            <a:prstGeom prst="rightArrow">
              <a:avLst>
                <a:gd name="adj1" fmla="val 50000"/>
                <a:gd name="adj2" fmla="val 4354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0" y="1413000"/>
            <a:ext cx="9144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036520" y="4653000"/>
            <a:ext cx="2046600" cy="1511280"/>
            <a:chOff x="2036520" y="4653000"/>
            <a:chExt cx="2046600" cy="1511280"/>
          </a:xfrm>
        </p:grpSpPr>
        <p:graphicFrame>
          <p:nvGraphicFramePr>
            <p:cNvPr id="193" name=""/>
            <p:cNvGraphicFramePr/>
            <p:nvPr/>
          </p:nvGraphicFramePr>
          <p:xfrm>
            <a:off x="2463840" y="4653000"/>
            <a:ext cx="1619280" cy="1511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63840" y="4653000"/>
                      <a:ext cx="1619280" cy="151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"/>
            <p:cNvSpPr/>
            <p:nvPr/>
          </p:nvSpPr>
          <p:spPr>
            <a:xfrm>
              <a:off x="2036520" y="5157720"/>
              <a:ext cx="42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ahoma"/>
                </a:rPr>
                <a:t>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395280" y="1484280"/>
          <a:ext cx="7488360" cy="47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84280"/>
                    <a:ext cx="748836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1692360" y="1989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A=OC 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=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975280" y="2438280"/>
            <a:ext cx="3168720" cy="2260080"/>
            <a:chOff x="5975280" y="2438280"/>
            <a:chExt cx="3168720" cy="2260080"/>
          </a:xfrm>
        </p:grpSpPr>
        <p:sp>
          <p:nvSpPr>
            <p:cNvPr id="200" name=""/>
            <p:cNvSpPr/>
            <p:nvPr/>
          </p:nvSpPr>
          <p:spPr>
            <a:xfrm>
              <a:off x="6910200" y="2798640"/>
              <a:ext cx="16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478200" y="2798640"/>
              <a:ext cx="208908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10200" y="2798640"/>
              <a:ext cx="1441440" cy="180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8560" y="4599000"/>
              <a:ext cx="187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6920" y="250992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07280" y="243828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36000" y="4238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75280" y="423864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3446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9" name=""/>
          <p:cNvGraphicFramePr/>
          <p:nvPr/>
        </p:nvGraphicFramePr>
        <p:xfrm>
          <a:off x="1619280" y="3068640"/>
          <a:ext cx="3240000" cy="43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3068640"/>
                    <a:ext cx="3240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3657600"/>
                <a:ext cx="3745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；在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和Δ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  <m:r>
                      <m:t xml:space="preserve">中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6000" y="4267080"/>
                <a:ext cx="277632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OB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D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95280" y="5791320"/>
                <a:ext cx="280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≃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3124080" y="42670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46483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顶角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51055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已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5715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A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11280" y="2421000"/>
            <a:ext cx="6553080" cy="520560"/>
            <a:chOff x="611280" y="2421000"/>
            <a:chExt cx="6553080" cy="520560"/>
          </a:xfrm>
        </p:grpSpPr>
        <p:sp>
          <p:nvSpPr>
            <p:cNvPr id="219" name=""/>
            <p:cNvSpPr/>
            <p:nvPr/>
          </p:nvSpPr>
          <p:spPr>
            <a:xfrm>
              <a:off x="1619280" y="2421000"/>
              <a:ext cx="554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3cc"/>
                  </a:solidFill>
                  <a:latin typeface="Arial"/>
                </a:rPr>
                <a:t>你还能找到什么条件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280" y="2565360"/>
              <a:ext cx="647640" cy="287640"/>
            </a:xfrm>
            <a:custGeom>
              <a:avLst/>
              <a:gdLst>
                <a:gd name="textAreaLeft" fmla="*/ 101160 w 647640"/>
                <a:gd name="textAreaRight" fmla="*/ 567000 w 647640"/>
                <a:gd name="textAreaTop" fmla="*/ 72000 h 287640"/>
                <a:gd name="textAreaBottom" fmla="*/ 21600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934320" y="3124080"/>
            <a:ext cx="1152000" cy="1081080"/>
            <a:chOff x="6934320" y="3124080"/>
            <a:chExt cx="1152000" cy="1081080"/>
          </a:xfrm>
        </p:grpSpPr>
        <p:sp>
          <p:nvSpPr>
            <p:cNvPr id="222" name=""/>
            <p:cNvSpPr/>
            <p:nvPr/>
          </p:nvSpPr>
          <p:spPr>
            <a:xfrm flipV="1">
              <a:off x="7149960" y="3124080"/>
              <a:ext cx="215640" cy="144720"/>
            </a:xfrm>
            <a:prstGeom prst="line">
              <a:avLst/>
            </a:prstGeom>
            <a:ln w="28440">
              <a:solidFill>
                <a:srgbClr val="c91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797600" y="3916080"/>
              <a:ext cx="215640" cy="144360"/>
            </a:xfrm>
            <a:prstGeom prst="line">
              <a:avLst/>
            </a:prstGeom>
            <a:ln w="28440">
              <a:solidFill>
                <a:srgbClr val="c910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4320" y="406080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05600" y="398952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69240" y="3268800"/>
              <a:ext cx="14400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41960" y="3197160"/>
              <a:ext cx="144360" cy="144360"/>
            </a:xfrm>
            <a:prstGeom prst="line">
              <a:avLst/>
            </a:prstGeom>
            <a:ln w="284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179480" y="3429000"/>
            <a:ext cx="576000" cy="362160"/>
            <a:chOff x="7179480" y="3429000"/>
            <a:chExt cx="576000" cy="362160"/>
          </a:xfrm>
        </p:grpSpPr>
        <p:sp>
          <p:nvSpPr>
            <p:cNvPr id="229" name=""/>
            <p:cNvSpPr/>
            <p:nvPr/>
          </p:nvSpPr>
          <p:spPr>
            <a:xfrm>
              <a:off x="7325280" y="3429000"/>
              <a:ext cx="430200" cy="14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163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163864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179480" y="3644280"/>
              <a:ext cx="576000" cy="14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230" y="95"/>
                  </a:moveTo>
                  <a:arcTo wR="10800" hR="10800" stAng="-4943626" swAng="275531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230" y="95"/>
                  </a:moveTo>
                  <a:arcTo wR="10800" hR="10800" stAng="-4943626" swAng="2755315"/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50920" y="260280"/>
            <a:ext cx="8642160" cy="947160"/>
            <a:chOff x="250920" y="260280"/>
            <a:chExt cx="8642160" cy="947160"/>
          </a:xfrm>
        </p:grpSpPr>
        <p:sp>
          <p:nvSpPr>
            <p:cNvPr id="232" name=""/>
            <p:cNvSpPr/>
            <p:nvPr/>
          </p:nvSpPr>
          <p:spPr>
            <a:xfrm>
              <a:off x="250920" y="260280"/>
              <a:ext cx="8642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ＡＣ与ＢＤ相交于点Ｏ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ＯＡ＝ＯＣ，      ＯＢ＝ＯＤ．求证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     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"/>
                <p:cNvSpPr txBox="1"/>
                <p:nvPr/>
              </p:nvSpPr>
              <p:spPr>
                <a:xfrm>
                  <a:off x="3260520" y="765000"/>
                  <a:ext cx="230904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AOB</m:t>
                      </m:r>
                      <m:r>
                        <m:t xml:space="preserve">≃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COD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1840" y="620280"/>
            <a:ext cx="88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已知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一直线上，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=∠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C=D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求证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AB=DB.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4032360" cy="255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50920" y="19162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，把两根钢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A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BB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中点连在一起，  可以做成一个测量工件内槽宽的卡钳。只要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出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ˊBˊ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长就知道内槽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宽。请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4788000" y="3573360"/>
            <a:ext cx="3744720" cy="267984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4932360" y="3645000"/>
            <a:ext cx="3962160" cy="2736000"/>
            <a:chOff x="4932360" y="3645000"/>
            <a:chExt cx="3962160" cy="2736000"/>
          </a:xfrm>
        </p:grpSpPr>
        <p:sp>
          <p:nvSpPr>
            <p:cNvPr id="239" name=""/>
            <p:cNvSpPr/>
            <p:nvPr/>
          </p:nvSpPr>
          <p:spPr>
            <a:xfrm>
              <a:off x="5073840" y="3772080"/>
              <a:ext cx="53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360" y="5675400"/>
              <a:ext cx="531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32880" y="5799600"/>
              <a:ext cx="92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A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74360" y="3645000"/>
              <a:ext cx="92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B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285880" y="4214880"/>
              <a:ext cx="2828880" cy="1523160"/>
              <a:chOff x="5285880" y="4214880"/>
              <a:chExt cx="2828880" cy="1523160"/>
            </a:xfrm>
          </p:grpSpPr>
          <p:sp>
            <p:nvSpPr>
              <p:cNvPr id="244" name=""/>
              <p:cNvSpPr/>
              <p:nvPr/>
            </p:nvSpPr>
            <p:spPr>
              <a:xfrm>
                <a:off x="5427720" y="4215240"/>
                <a:ext cx="2616480" cy="15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286240" y="4214880"/>
                <a:ext cx="2828520" cy="145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8044560" y="4215240"/>
                <a:ext cx="69840" cy="15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285880" y="4215240"/>
                <a:ext cx="141480" cy="1459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6418440" y="5103360"/>
              <a:ext cx="53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宋体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212480" y="573408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36840" y="6237360"/>
            <a:ext cx="10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252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254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练习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1</a:t>
                </a: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62320" y="3276720"/>
            <a:ext cx="5486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A=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OA=∠C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C=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801280" y="2997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"/>
          <p:cNvGrpSpPr/>
          <p:nvPr/>
        </p:nvGrpSpPr>
        <p:grpSpPr>
          <a:xfrm>
            <a:off x="6516720" y="1413000"/>
            <a:ext cx="2626560" cy="2592000"/>
            <a:chOff x="6516720" y="1413000"/>
            <a:chExt cx="2626560" cy="2592000"/>
          </a:xfrm>
        </p:grpSpPr>
        <p:sp>
          <p:nvSpPr>
            <p:cNvPr id="265" name="Line 5"/>
            <p:cNvSpPr/>
            <p:nvPr/>
          </p:nvSpPr>
          <p:spPr>
            <a:xfrm>
              <a:off x="6697440" y="3085200"/>
              <a:ext cx="226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6"/>
            <p:cNvSpPr/>
            <p:nvPr/>
          </p:nvSpPr>
          <p:spPr>
            <a:xfrm flipV="1">
              <a:off x="7875360" y="1413000"/>
              <a:ext cx="0" cy="25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"/>
            <p:cNvSpPr/>
            <p:nvPr/>
          </p:nvSpPr>
          <p:spPr>
            <a:xfrm flipH="1">
              <a:off x="6697440" y="1998360"/>
              <a:ext cx="1177920" cy="108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8"/>
            <p:cNvSpPr/>
            <p:nvPr/>
          </p:nvSpPr>
          <p:spPr>
            <a:xfrm>
              <a:off x="7875360" y="1998360"/>
              <a:ext cx="1086840" cy="108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9"/>
            <p:cNvSpPr/>
            <p:nvPr/>
          </p:nvSpPr>
          <p:spPr>
            <a:xfrm>
              <a:off x="6516720" y="300168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0"/>
            <p:cNvSpPr/>
            <p:nvPr/>
          </p:nvSpPr>
          <p:spPr>
            <a:xfrm>
              <a:off x="7875360" y="158004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1"/>
            <p:cNvSpPr/>
            <p:nvPr/>
          </p:nvSpPr>
          <p:spPr>
            <a:xfrm>
              <a:off x="7422840" y="3001680"/>
              <a:ext cx="126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6"/>
          <p:cNvGrpSpPr/>
          <p:nvPr/>
        </p:nvGrpSpPr>
        <p:grpSpPr>
          <a:xfrm>
            <a:off x="324000" y="1341360"/>
            <a:ext cx="6858000" cy="1587240"/>
            <a:chOff x="324000" y="1341360"/>
            <a:chExt cx="6858000" cy="1587240"/>
          </a:xfrm>
        </p:grpSpPr>
        <p:sp>
          <p:nvSpPr>
            <p:cNvPr id="273" name="Text Box 12"/>
            <p:cNvSpPr/>
            <p:nvPr/>
          </p:nvSpPr>
          <p:spPr>
            <a:xfrm>
              <a:off x="324000" y="1341360"/>
              <a:ext cx="685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A=O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当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与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重合时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显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CA=C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>
              <a:off x="324000" y="2408040"/>
              <a:ext cx="51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当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与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不重合时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14"/>
          <p:cNvSpPr/>
          <p:nvPr/>
        </p:nvSpPr>
        <p:spPr>
          <a:xfrm>
            <a:off x="2666880" y="28954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=∠BOC=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0" y="4038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"/>
          <p:cNvGraphicFramePr/>
          <p:nvPr/>
        </p:nvGraphicFramePr>
        <p:xfrm>
          <a:off x="3492360" y="3284640"/>
          <a:ext cx="1576440" cy="21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3284640"/>
                    <a:ext cx="1576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17"/>
          <p:cNvSpPr/>
          <p:nvPr/>
        </p:nvSpPr>
        <p:spPr>
          <a:xfrm>
            <a:off x="228600" y="53341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A≌△CO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AS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304920" y="5943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A=C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等三角形对应边相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9"/>
          <p:cNvGrpSpPr/>
          <p:nvPr/>
        </p:nvGrpSpPr>
        <p:grpSpPr>
          <a:xfrm>
            <a:off x="228600" y="228600"/>
            <a:ext cx="7772400" cy="1079640"/>
            <a:chOff x="228600" y="228600"/>
            <a:chExt cx="7772400" cy="1079640"/>
          </a:xfrm>
        </p:grpSpPr>
        <p:sp>
          <p:nvSpPr>
            <p:cNvPr id="282" name="Text Box 20"/>
            <p:cNvSpPr/>
            <p:nvPr/>
          </p:nvSpPr>
          <p:spPr>
            <a:xfrm>
              <a:off x="228600" y="304920"/>
              <a:ext cx="7772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如图，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直线   ⊥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垂足为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OA=O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   点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直线   上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任意一点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说明</a:t>
              </a: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CA=C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理由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3" name="Object 4"/>
            <p:cNvGraphicFramePr/>
            <p:nvPr/>
          </p:nvGraphicFramePr>
          <p:xfrm>
            <a:off x="2971800" y="228600"/>
            <a:ext cx="31104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4" name="Object 4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71800" y="228600"/>
                      <a:ext cx="31104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5" name="Object 5"/>
            <p:cNvGraphicFramePr/>
            <p:nvPr/>
          </p:nvGraphicFramePr>
          <p:xfrm>
            <a:off x="2057400" y="685800"/>
            <a:ext cx="311040" cy="622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6" name="Object 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685800"/>
                      <a:ext cx="31104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7" name="Group 23"/>
          <p:cNvGrpSpPr/>
          <p:nvPr/>
        </p:nvGrpSpPr>
        <p:grpSpPr>
          <a:xfrm>
            <a:off x="152280" y="2819520"/>
            <a:ext cx="2438640" cy="622080"/>
            <a:chOff x="152280" y="2819520"/>
            <a:chExt cx="2438640" cy="622080"/>
          </a:xfrm>
        </p:grpSpPr>
        <p:sp>
          <p:nvSpPr>
            <p:cNvPr id="288" name="Text Box 24"/>
            <p:cNvSpPr/>
            <p:nvPr/>
          </p:nvSpPr>
          <p:spPr>
            <a:xfrm>
              <a:off x="152280" y="28954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∵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直线  ⊥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89" name="Object 3"/>
            <p:cNvGraphicFramePr/>
            <p:nvPr/>
          </p:nvGraphicFramePr>
          <p:xfrm>
            <a:off x="1295280" y="2819520"/>
            <a:ext cx="311400" cy="622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90" name="Object 3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2819520"/>
                      <a:ext cx="311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1" name=""/>
          <p:cNvSpPr/>
          <p:nvPr/>
        </p:nvSpPr>
        <p:spPr>
          <a:xfrm>
            <a:off x="395280" y="5445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线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垂直平分线上的特殊的点，还   是任意的点？由此你能得到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23"/>
          <p:cNvGrpSpPr/>
          <p:nvPr/>
        </p:nvGrpSpPr>
        <p:grpSpPr>
          <a:xfrm>
            <a:off x="6705720" y="3645000"/>
            <a:ext cx="2438280" cy="622080"/>
            <a:chOff x="6705720" y="3645000"/>
            <a:chExt cx="2438280" cy="622080"/>
          </a:xfrm>
        </p:grpSpPr>
        <p:sp>
          <p:nvSpPr>
            <p:cNvPr id="293" name="Text Box 24"/>
            <p:cNvSpPr/>
            <p:nvPr/>
          </p:nvSpPr>
          <p:spPr>
            <a:xfrm>
              <a:off x="6705720" y="37209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4" name="Object 3"/>
            <p:cNvGraphicFramePr/>
            <p:nvPr/>
          </p:nvGraphicFramePr>
          <p:xfrm>
            <a:off x="7848360" y="3645000"/>
            <a:ext cx="311040" cy="6220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95" name="Object 3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7848360" y="3645000"/>
                      <a:ext cx="31104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93"/>
          <p:cNvGrpSpPr/>
          <p:nvPr/>
        </p:nvGrpSpPr>
        <p:grpSpPr>
          <a:xfrm>
            <a:off x="0" y="620640"/>
            <a:ext cx="7056000" cy="1944360"/>
            <a:chOff x="0" y="620640"/>
            <a:chExt cx="7056000" cy="1944360"/>
          </a:xfrm>
        </p:grpSpPr>
        <p:sp>
          <p:nvSpPr>
            <p:cNvPr id="297" name="Rectangle 191"/>
            <p:cNvSpPr/>
            <p:nvPr/>
          </p:nvSpPr>
          <p:spPr>
            <a:xfrm>
              <a:off x="0" y="620640"/>
              <a:ext cx="6874200" cy="19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192"/>
            <p:cNvSpPr/>
            <p:nvPr/>
          </p:nvSpPr>
          <p:spPr>
            <a:xfrm>
              <a:off x="0" y="781200"/>
              <a:ext cx="705600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垂直平分线定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垂直于一条线段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并且平分这条线段的直线叫做这条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线段的垂直平分线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,</a:t>
              </a:r>
              <a:r>
                <a:rPr b="1" lang="zh-CN" sz="2800" spc="-1" strike="noStrike">
                  <a:solidFill>
                    <a:srgbClr val="003399"/>
                  </a:solidFill>
                  <a:latin typeface="Calibri"/>
                </a:rPr>
                <a:t>简称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中垂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"/>
          <p:cNvGrpSpPr/>
          <p:nvPr/>
        </p:nvGrpSpPr>
        <p:grpSpPr>
          <a:xfrm>
            <a:off x="6012000" y="1700280"/>
            <a:ext cx="2880720" cy="2707920"/>
            <a:chOff x="6012000" y="1700280"/>
            <a:chExt cx="2880720" cy="2707920"/>
          </a:xfrm>
        </p:grpSpPr>
        <p:sp>
          <p:nvSpPr>
            <p:cNvPr id="300" name="Line 5"/>
            <p:cNvSpPr/>
            <p:nvPr/>
          </p:nvSpPr>
          <p:spPr>
            <a:xfrm>
              <a:off x="6210360" y="3447000"/>
              <a:ext cx="248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6"/>
            <p:cNvSpPr/>
            <p:nvPr/>
          </p:nvSpPr>
          <p:spPr>
            <a:xfrm flipV="1">
              <a:off x="7502040" y="1700280"/>
              <a:ext cx="0" cy="27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"/>
            <p:cNvSpPr/>
            <p:nvPr/>
          </p:nvSpPr>
          <p:spPr>
            <a:xfrm flipH="1">
              <a:off x="6210360" y="2311920"/>
              <a:ext cx="129168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8"/>
            <p:cNvSpPr/>
            <p:nvPr/>
          </p:nvSpPr>
          <p:spPr>
            <a:xfrm>
              <a:off x="7502040" y="2311920"/>
              <a:ext cx="1191960" cy="11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9"/>
            <p:cNvSpPr/>
            <p:nvPr/>
          </p:nvSpPr>
          <p:spPr>
            <a:xfrm>
              <a:off x="6012000" y="33598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10"/>
            <p:cNvSpPr/>
            <p:nvPr/>
          </p:nvSpPr>
          <p:spPr>
            <a:xfrm>
              <a:off x="7502040" y="187452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1"/>
            <p:cNvSpPr/>
            <p:nvPr/>
          </p:nvSpPr>
          <p:spPr>
            <a:xfrm>
              <a:off x="7005600" y="3359880"/>
              <a:ext cx="139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"/>
          <p:cNvSpPr/>
          <p:nvPr/>
        </p:nvSpPr>
        <p:spPr>
          <a:xfrm>
            <a:off x="8458200" y="3429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23"/>
          <p:cNvGrpSpPr/>
          <p:nvPr/>
        </p:nvGrpSpPr>
        <p:grpSpPr>
          <a:xfrm>
            <a:off x="6443640" y="4149720"/>
            <a:ext cx="2438280" cy="622080"/>
            <a:chOff x="6443640" y="4149720"/>
            <a:chExt cx="2438280" cy="622080"/>
          </a:xfrm>
        </p:grpSpPr>
        <p:sp>
          <p:nvSpPr>
            <p:cNvPr id="309" name="Text Box 24"/>
            <p:cNvSpPr/>
            <p:nvPr/>
          </p:nvSpPr>
          <p:spPr>
            <a:xfrm>
              <a:off x="6443640" y="42256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10" name="Object 3"/>
            <p:cNvGraphicFramePr/>
            <p:nvPr/>
          </p:nvGraphicFramePr>
          <p:xfrm>
            <a:off x="7586280" y="4149720"/>
            <a:ext cx="311040" cy="62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11" name="Object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86280" y="4149720"/>
                      <a:ext cx="31104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12" name=""/>
          <p:cNvGrpSpPr/>
          <p:nvPr/>
        </p:nvGrpSpPr>
        <p:grpSpPr>
          <a:xfrm>
            <a:off x="0" y="3284640"/>
            <a:ext cx="6121440" cy="2958840"/>
            <a:chOff x="0" y="3284640"/>
            <a:chExt cx="6121440" cy="2958840"/>
          </a:xfrm>
        </p:grpSpPr>
        <p:sp>
          <p:nvSpPr>
            <p:cNvPr id="313" name="Text Box 190"/>
            <p:cNvSpPr/>
            <p:nvPr/>
          </p:nvSpPr>
          <p:spPr>
            <a:xfrm>
              <a:off x="144720" y="3284640"/>
              <a:ext cx="5976720" cy="2527560"/>
            </a:xfrm>
            <a:prstGeom prst="rect">
              <a:avLst/>
            </a:prstGeom>
            <a:noFill/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Calibri"/>
                </a:rPr>
                <a:t>中垂线的性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Calibri"/>
                </a:rPr>
                <a:t>线段垂直平分线上的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点</a:t>
              </a:r>
              <a:r>
                <a:rPr b="1" lang="zh-CN" sz="2800" spc="-1" strike="noStrike">
                  <a:solidFill>
                    <a:srgbClr val="333399"/>
                  </a:solidFill>
                  <a:latin typeface="Calibri"/>
                </a:rPr>
                <a:t>到线段两端点的距离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 Box 194"/>
            <p:cNvSpPr/>
            <p:nvPr/>
          </p:nvSpPr>
          <p:spPr>
            <a:xfrm>
              <a:off x="660600" y="5227560"/>
              <a:ext cx="4537080" cy="1015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∵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CO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）是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ＡＢ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中垂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∴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ＡＣ＝ＢＣ（中垂线的性质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23"/>
            <p:cNvGrpSpPr/>
            <p:nvPr/>
          </p:nvGrpSpPr>
          <p:grpSpPr>
            <a:xfrm>
              <a:off x="0" y="5084640"/>
              <a:ext cx="2438640" cy="622080"/>
              <a:chOff x="0" y="5084640"/>
              <a:chExt cx="2438640" cy="622080"/>
            </a:xfrm>
          </p:grpSpPr>
          <p:sp>
            <p:nvSpPr>
              <p:cNvPr id="316" name="Text Box 24"/>
              <p:cNvSpPr/>
              <p:nvPr/>
            </p:nvSpPr>
            <p:spPr>
              <a:xfrm>
                <a:off x="0" y="5160600"/>
                <a:ext cx="243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17" name="Object 3"/>
              <p:cNvGraphicFramePr/>
              <p:nvPr/>
            </p:nvGraphicFramePr>
            <p:xfrm>
              <a:off x="1143000" y="5084640"/>
              <a:ext cx="311400" cy="622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8" name="Object 3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143000" y="5084640"/>
                        <a:ext cx="311400" cy="622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p:transition spd="slow">
    <p:pull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468360" y="1268280"/>
            <a:ext cx="7704000" cy="4538520"/>
            <a:chOff x="468360" y="1268280"/>
            <a:chExt cx="7704000" cy="4538520"/>
          </a:xfrm>
        </p:grpSpPr>
        <p:sp>
          <p:nvSpPr>
            <p:cNvPr id="320" name=""/>
            <p:cNvSpPr/>
            <p:nvPr/>
          </p:nvSpPr>
          <p:spPr>
            <a:xfrm>
              <a:off x="468360" y="1268280"/>
              <a:ext cx="496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如图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点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D,E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别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C,AB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上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B=AC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D=AE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求证：</a:t>
              </a: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BD=CE</a:t>
              </a: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填空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9640" y="2622600"/>
              <a:ext cx="45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证明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B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和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中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82560" y="3125880"/>
              <a:ext cx="41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AD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=_____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已知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5280" y="3630600"/>
              <a:ext cx="46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_____=_____(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公共角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8360" y="4135320"/>
              <a:ext cx="41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B=AC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    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8360" y="4638600"/>
              <a:ext cx="64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_______≌______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5286240"/>
              <a:ext cx="770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D=CE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9640" y="3357720"/>
              <a:ext cx="144000" cy="1152360"/>
            </a:xfrm>
            <a:custGeom>
              <a:avLst/>
              <a:gdLst>
                <a:gd name="textAreaLeft" fmla="*/ 92160 w 144000"/>
                <a:gd name="textAreaRight" fmla="*/ 144360 w 144000"/>
                <a:gd name="textAreaTop" fmla="*/ 29880 h 1152360"/>
                <a:gd name="textAreaBottom" fmla="*/ 1122480 h 115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5580000" y="189000"/>
            <a:ext cx="2665440" cy="3268080"/>
            <a:chOff x="5580000" y="189000"/>
            <a:chExt cx="2665440" cy="3268080"/>
          </a:xfrm>
        </p:grpSpPr>
        <p:sp>
          <p:nvSpPr>
            <p:cNvPr id="329" name=""/>
            <p:cNvSpPr/>
            <p:nvPr/>
          </p:nvSpPr>
          <p:spPr>
            <a:xfrm flipH="1">
              <a:off x="5797080" y="693720"/>
              <a:ext cx="100836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5800" y="693720"/>
              <a:ext cx="1008000" cy="230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797440" y="1629000"/>
              <a:ext cx="1440000" cy="136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2360" y="1702080"/>
              <a:ext cx="1441440" cy="129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61080" y="1890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80000" y="299736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69440" y="2997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37440" y="1341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12000" y="134172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2565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63640" y="306864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35733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3573360"/>
            <a:ext cx="12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5800" y="414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已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29080" y="45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87560" y="4580640"/>
            <a:ext cx="11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465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300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等三角形的对应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-9000" y="-51120"/>
            <a:ext cx="3285720" cy="658080"/>
            <a:chOff x="-9000" y="-51120"/>
            <a:chExt cx="3285720" cy="658080"/>
          </a:xfrm>
        </p:grpSpPr>
        <p:sp>
          <p:nvSpPr>
            <p:cNvPr id="348" name=""/>
            <p:cNvSpPr/>
            <p:nvPr/>
          </p:nvSpPr>
          <p:spPr>
            <a:xfrm>
              <a:off x="0" y="275760"/>
              <a:ext cx="3276720" cy="200520"/>
            </a:xfrm>
            <a:custGeom>
              <a:avLst/>
              <a:gdLst/>
              <a:ahLst/>
              <a:rect l="l" t="t" r="r" b="b"/>
              <a:pathLst>
                <a:path w="2208" h="384">
                  <a:moveTo>
                    <a:pt x="432" y="384"/>
                  </a:moveTo>
                  <a:lnTo>
                    <a:pt x="2208" y="384"/>
                  </a:lnTo>
                  <a:lnTo>
                    <a:pt x="1776" y="0"/>
                  </a:lnTo>
                  <a:lnTo>
                    <a:pt x="0" y="0"/>
                  </a:lnTo>
                  <a:lnTo>
                    <a:pt x="432" y="38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19080">
              <a:solidFill>
                <a:srgbClr val="00e4a8"/>
              </a:solidFill>
              <a:round/>
            </a:ln>
            <a:effectLst>
              <a:outerShdw dist="153753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-9000" y="-51120"/>
              <a:ext cx="3142800" cy="658080"/>
              <a:chOff x="-9000" y="-51120"/>
              <a:chExt cx="3142800" cy="658080"/>
            </a:xfrm>
          </p:grpSpPr>
          <p:sp>
            <p:nvSpPr>
              <p:cNvPr id="350" name=""/>
              <p:cNvSpPr/>
              <p:nvPr/>
            </p:nvSpPr>
            <p:spPr>
              <a:xfrm rot="158400">
                <a:off x="141840" y="50400"/>
                <a:ext cx="854640" cy="376200"/>
              </a:xfrm>
              <a:custGeom>
                <a:avLst/>
                <a:gdLst/>
                <a:ahLst/>
                <a:rect l="l" t="t" r="r" b="b"/>
                <a:pathLst>
                  <a:path w="576" h="816">
                    <a:moveTo>
                      <a:pt x="48" y="768"/>
                    </a:moveTo>
                    <a:lnTo>
                      <a:pt x="192" y="816"/>
                    </a:lnTo>
                    <a:lnTo>
                      <a:pt x="576" y="96"/>
                    </a:lnTo>
                    <a:lnTo>
                      <a:pt x="384" y="0"/>
                    </a:lnTo>
                    <a:lnTo>
                      <a:pt x="0" y="720"/>
                    </a:lnTo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100000">
                    <a:srgbClr val="ffcc66"/>
                  </a:gs>
                </a:gsLst>
                <a:lin ang="8100000"/>
              </a:gradFill>
              <a:ln w="3816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27320" y="75600"/>
                <a:ext cx="854640" cy="351000"/>
              </a:xfrm>
              <a:custGeom>
                <a:avLst/>
                <a:gdLst/>
                <a:ahLst/>
                <a:rect l="l" t="t" r="r" b="b"/>
                <a:pathLst>
                  <a:path w="432" h="624">
                    <a:moveTo>
                      <a:pt x="0" y="624"/>
                    </a:moveTo>
                    <a:lnTo>
                      <a:pt x="96" y="624"/>
                    </a:lnTo>
                    <a:lnTo>
                      <a:pt x="432" y="0"/>
                    </a:lnTo>
                    <a:lnTo>
                      <a:pt x="288" y="48"/>
                    </a:lnTo>
                    <a:lnTo>
                      <a:pt x="0" y="6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f01"/>
                  </a:gs>
                  <a:gs pos="50000">
                    <a:srgbClr val="cc3300"/>
                  </a:gs>
                  <a:gs pos="100000">
                    <a:srgbClr val="ffcf01"/>
                  </a:gs>
                </a:gsLst>
                <a:lin ang="13500000"/>
              </a:gradFill>
              <a:ln w="381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961200">
                <a:off x="142200" y="0"/>
                <a:ext cx="427320" cy="401040"/>
              </a:xfrm>
              <a:custGeom>
                <a:avLst/>
                <a:gdLst/>
                <a:ahLst/>
                <a:rect l="l" t="t" r="r" b="b"/>
                <a:pathLst>
                  <a:path w="480" h="720">
                    <a:moveTo>
                      <a:pt x="480" y="96"/>
                    </a:moveTo>
                    <a:lnTo>
                      <a:pt x="192" y="672"/>
                    </a:lnTo>
                    <a:lnTo>
                      <a:pt x="144" y="720"/>
                    </a:lnTo>
                    <a:lnTo>
                      <a:pt x="0" y="624"/>
                    </a:lnTo>
                    <a:lnTo>
                      <a:pt x="144" y="336"/>
                    </a:lnTo>
                    <a:lnTo>
                      <a:pt x="336" y="0"/>
                    </a:lnTo>
                    <a:lnTo>
                      <a:pt x="480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cc66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9520" y="360"/>
                <a:ext cx="712440" cy="100080"/>
              </a:xfrm>
              <a:custGeom>
                <a:avLst/>
                <a:gdLst/>
                <a:ahLst/>
                <a:rect l="l" t="t" r="r" b="b"/>
                <a:pathLst>
                  <a:path w="336" h="240">
                    <a:moveTo>
                      <a:pt x="192" y="240"/>
                    </a:moveTo>
                    <a:lnTo>
                      <a:pt x="48" y="144"/>
                    </a:lnTo>
                    <a:lnTo>
                      <a:pt x="0" y="48"/>
                    </a:lnTo>
                    <a:lnTo>
                      <a:pt x="144" y="0"/>
                    </a:lnTo>
                    <a:lnTo>
                      <a:pt x="288" y="48"/>
                    </a:lnTo>
                    <a:lnTo>
                      <a:pt x="336" y="192"/>
                    </a:lnTo>
                    <a:lnTo>
                      <a:pt x="192" y="2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9933"/>
                  </a:gs>
                  <a:gs pos="100000">
                    <a:srgbClr val="ffcc66"/>
                  </a:gs>
                </a:gsLst>
                <a:lin ang="81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920" y="301320"/>
                <a:ext cx="569880" cy="225720"/>
              </a:xfrm>
              <a:custGeom>
                <a:avLst/>
                <a:gdLst/>
                <a:ahLst/>
                <a:rect l="l" t="t" r="r" b="b"/>
                <a:pathLst>
                  <a:path w="384" h="384">
                    <a:moveTo>
                      <a:pt x="192" y="192"/>
                    </a:moveTo>
                    <a:lnTo>
                      <a:pt x="96" y="144"/>
                    </a:lnTo>
                    <a:lnTo>
                      <a:pt x="48" y="96"/>
                    </a:lnTo>
                    <a:lnTo>
                      <a:pt x="0" y="0"/>
                    </a:lnTo>
                    <a:lnTo>
                      <a:pt x="0" y="384"/>
                    </a:lnTo>
                    <a:lnTo>
                      <a:pt x="384" y="192"/>
                    </a:lnTo>
                    <a:lnTo>
                      <a:pt x="192" y="1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9900"/>
                  </a:gs>
                  <a:gs pos="100000">
                    <a:srgbClr val="ff0000"/>
                  </a:gs>
                </a:gsLst>
                <a:lin ang="13500000"/>
              </a:gradFill>
              <a:ln w="19080">
                <a:solidFill>
                  <a:srgbClr val="ffcf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629000">
                <a:off x="0" y="457200"/>
                <a:ext cx="217800" cy="9180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lnTo>
                      <a:pt x="96" y="0"/>
                    </a:lnTo>
                    <a:lnTo>
                      <a:pt x="48" y="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969696"/>
                  </a:gs>
                  <a:gs pos="100000">
                    <a:srgbClr val="ffffff"/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54640" y="25560"/>
                <a:ext cx="213480" cy="248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12120" y="25560"/>
                <a:ext cx="1921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  <a:ea typeface="黑体"/>
                  </a:rPr>
                  <a:t>课内练习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7:42:09Z</dcterms:created>
  <dc:creator/>
  <dc:description/>
  <dc:language>en-US</dc:language>
  <cp:lastModifiedBy/>
  <dcterms:modified xsi:type="dcterms:W3CDTF">2013-09-16T23:40:31Z</dcterms:modified>
  <cp:revision>180</cp:revision>
  <dc:subject/>
  <dc:title/>
</cp:coreProperties>
</file>