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whoosh.wav" ContentType="audio/x-wav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945-178F-45CA-B719-322A5FC0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736-4132-4D14-B111-35BD2F94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4682-CCEC-45B1-A4B8-36258635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3E6D-DDA9-4CF3-81A2-88BEC9DF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257-F204-40B6-BD67-8003AB3C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63C-7EC2-4668-82A2-5ED103D7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61B4-BA96-4F57-8715-C658C255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B3F-3CFD-429D-87DF-8C462105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23D-32EE-4753-826B-E40C456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BF4-4737-4BC4-888A-93A9A32E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C74-7EF6-4EF3-93FC-94CB182B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E35-36CE-4C12-AD9B-5BCFCD17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0F0-272E-40E7-8575-E597A0373F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35812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116000" y="3068640"/>
            <a:ext cx="73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1.5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三角形全等判定（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2560" y="476280"/>
            <a:ext cx="909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如图，已知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同一条直线上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F.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∠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5040" y="15573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证明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23972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即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0240" y="2828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90520" y="32828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90520" y="41972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90520" y="374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已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43120" y="47736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BC≌△DEF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5200" y="5276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D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全等三角形对应角相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85960" y="343548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572000" y="1916280"/>
            <a:ext cx="4174560" cy="2212200"/>
            <a:chOff x="4572000" y="1916280"/>
            <a:chExt cx="4174560" cy="2212200"/>
          </a:xfrm>
        </p:grpSpPr>
        <p:sp>
          <p:nvSpPr>
            <p:cNvPr id="220" name=""/>
            <p:cNvSpPr/>
            <p:nvPr/>
          </p:nvSpPr>
          <p:spPr>
            <a:xfrm>
              <a:off x="8051040" y="3668760"/>
              <a:ext cx="69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87640" y="3232080"/>
              <a:ext cx="364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8280" y="3592440"/>
              <a:ext cx="347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958280" y="2373480"/>
              <a:ext cx="1469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27440" y="2373480"/>
              <a:ext cx="1082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040800" y="2449080"/>
              <a:ext cx="14691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09960" y="2449440"/>
              <a:ext cx="927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40800" y="1916280"/>
              <a:ext cx="92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51648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08600" y="3668760"/>
              <a:ext cx="54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23320" y="3668760"/>
              <a:ext cx="77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32560" y="1992240"/>
              <a:ext cx="6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14200" y="5950080"/>
            <a:ext cx="84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小结：想说明角相等，先转化为说明三角形全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25440" y="19890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BE+EC=CF+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35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37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2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5003640" y="3573360"/>
            <a:ext cx="100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3573360"/>
            <a:ext cx="935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3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68360" y="33336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 如图，已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AB=AC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E=AD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D=CE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证明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△AEB ≌ △ AD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560" y="1773360"/>
            <a:ext cx="624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解：∵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D=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∴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D-ED=CE-E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E=CD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7360" y="3573360"/>
            <a:ext cx="3985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E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E=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=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  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EB ≌ △ A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651640" y="1773360"/>
            <a:ext cx="2895120" cy="2212200"/>
            <a:chOff x="5651640" y="1773360"/>
            <a:chExt cx="2895120" cy="2212200"/>
          </a:xfrm>
        </p:grpSpPr>
        <p:sp>
          <p:nvSpPr>
            <p:cNvPr id="251" name=""/>
            <p:cNvSpPr/>
            <p:nvPr/>
          </p:nvSpPr>
          <p:spPr>
            <a:xfrm>
              <a:off x="7556400" y="3525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6261120" y="2154240"/>
              <a:ext cx="99000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51480" y="2154240"/>
              <a:ext cx="76176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793920" y="2154240"/>
              <a:ext cx="456840" cy="137160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51480" y="2154240"/>
              <a:ext cx="228240" cy="137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70600" y="17733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1640" y="32972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94280" y="352584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37080" y="35258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61120" y="3525840"/>
              <a:ext cx="121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4280" y="3525840"/>
              <a:ext cx="1218960" cy="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044720" y="4437000"/>
            <a:ext cx="142560" cy="1440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51280" y="5967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SS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47941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41450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11280" y="5373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1360" y="479736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418560" y="184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838080"/>
            <a:ext cx="834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判定方法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三边对应相等的两个三角形全等  简写成“边边边”（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SSS</a:t>
            </a: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242100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定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中所用到的数学方法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证明线段（或角相等）                证明线段（或角）所在的两个三角形全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8000" y="35002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59280" y="2997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501336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说明两个三角形全等所需的条件应按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对应边的顺序书写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结论中所出现的边必须在所证明的两个三角形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4292640"/>
            <a:ext cx="5638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42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说明两个三角形全等需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完成作业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同步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预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.5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全等的判定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979640" y="83664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 rot="21226200">
            <a:off x="34920" y="155160"/>
            <a:ext cx="1905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知识回顾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1111320" y="5589720"/>
            <a:ext cx="6629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B=DE      ② BC=EF     ③ CA=FD    ④ ∠A= ∠D  ⑤ ∠B=∠E ⑥ ∠C= ∠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4360" y="3716280"/>
            <a:ext cx="3352320" cy="1983600"/>
            <a:chOff x="684360" y="3716280"/>
            <a:chExt cx="3352320" cy="1983600"/>
          </a:xfrm>
        </p:grpSpPr>
        <p:sp>
          <p:nvSpPr>
            <p:cNvPr id="47" name=""/>
            <p:cNvSpPr/>
            <p:nvPr/>
          </p:nvSpPr>
          <p:spPr>
            <a:xfrm flipH="1">
              <a:off x="1217520" y="4097160"/>
              <a:ext cx="68544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17520" y="531648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3320" y="4097160"/>
              <a:ext cx="16761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22440" y="371628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4360" y="524016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74920" y="524016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427640" y="3645000"/>
            <a:ext cx="3352320" cy="1983600"/>
            <a:chOff x="4427640" y="3645000"/>
            <a:chExt cx="3352320" cy="1983600"/>
          </a:xfrm>
        </p:grpSpPr>
        <p:sp>
          <p:nvSpPr>
            <p:cNvPr id="54" name=""/>
            <p:cNvSpPr/>
            <p:nvPr/>
          </p:nvSpPr>
          <p:spPr>
            <a:xfrm flipH="1">
              <a:off x="4960800" y="4025880"/>
              <a:ext cx="68544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60800" y="5245200"/>
              <a:ext cx="23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46600" y="4025880"/>
              <a:ext cx="167616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65720" y="36450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27640" y="5168880"/>
              <a:ext cx="91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18200" y="5168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31800" y="183024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什么叫全等三角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2240" y="234936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能够重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两个三角形叫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全等三角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909880"/>
            <a:ext cx="56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全等三角形有什么性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82224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什么叫全等图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9480" y="13255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能够重合的两个图形叫做全等图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321300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全等三角形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对应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相等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对应角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相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95280" y="836640"/>
            <a:ext cx="8748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一个三角形的三条边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你能画出这个三角形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89000"/>
            <a:ext cx="194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学习</a:t>
            </a:r>
            <a:endParaRPr b="0" lang="en-US" sz="24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06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画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2637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画线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3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3141720"/>
            <a:ext cx="763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分别以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为圆心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c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cm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长为半径画两条圆弧，交于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4365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连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49975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就是所求的三角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5516640"/>
            <a:ext cx="813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你画的三角形与同伴画的进行比较，它们一定全等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692360" y="1557360"/>
            <a:ext cx="6624000" cy="1828080"/>
            <a:chOff x="1692360" y="1557360"/>
            <a:chExt cx="6624000" cy="1828080"/>
          </a:xfrm>
        </p:grpSpPr>
        <p:grpSp>
          <p:nvGrpSpPr>
            <p:cNvPr id="75" name=""/>
            <p:cNvGrpSpPr/>
            <p:nvPr/>
          </p:nvGrpSpPr>
          <p:grpSpPr>
            <a:xfrm>
              <a:off x="1692360" y="1628640"/>
              <a:ext cx="3120840" cy="1756800"/>
              <a:chOff x="1692360" y="1628640"/>
              <a:chExt cx="3120840" cy="1756800"/>
            </a:xfrm>
          </p:grpSpPr>
          <p:sp>
            <p:nvSpPr>
              <p:cNvPr id="76" name=""/>
              <p:cNvSpPr/>
              <p:nvPr/>
            </p:nvSpPr>
            <p:spPr>
              <a:xfrm flipH="1">
                <a:off x="2014560" y="1998720"/>
                <a:ext cx="60516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010960" y="3082680"/>
                <a:ext cx="196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15760" y="1989000"/>
                <a:ext cx="136044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392560" y="1628640"/>
                <a:ext cx="57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692360" y="2925720"/>
                <a:ext cx="4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984840" y="2925720"/>
                <a:ext cx="82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5195520" y="1557360"/>
              <a:ext cx="3120840" cy="1756800"/>
              <a:chOff x="5195520" y="1557360"/>
              <a:chExt cx="3120840" cy="175680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5517720" y="1927440"/>
                <a:ext cx="60516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514120" y="3011400"/>
                <a:ext cx="1965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18920" y="1917720"/>
                <a:ext cx="1360440" cy="10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95720" y="1557360"/>
                <a:ext cx="572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95520" y="2854440"/>
                <a:ext cx="4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488000" y="2854440"/>
                <a:ext cx="828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914400" y="5943600"/>
            <a:ext cx="3757680" cy="581400"/>
            <a:chOff x="914400" y="5943600"/>
            <a:chExt cx="3757680" cy="581400"/>
          </a:xfrm>
        </p:grpSpPr>
        <p:sp>
          <p:nvSpPr>
            <p:cNvPr id="90" name=""/>
            <p:cNvSpPr/>
            <p:nvPr/>
          </p:nvSpPr>
          <p:spPr>
            <a:xfrm>
              <a:off x="1222200" y="5943600"/>
              <a:ext cx="344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ABC </a:t>
              </a: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≌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     EF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90640" y="6113520"/>
              <a:ext cx="230400" cy="287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4400" y="6113520"/>
              <a:ext cx="230040" cy="287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878120" y="4375080"/>
            <a:ext cx="125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B=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4964040"/>
            <a:ext cx="14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BC=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557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C=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60368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240" y="5950080"/>
            <a:ext cx="15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2438280"/>
            <a:ext cx="228600" cy="15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2362320"/>
            <a:ext cx="30492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047760" y="22860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123720" y="236232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552720" y="220968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2286000"/>
            <a:ext cx="22860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971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971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97180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895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895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28954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0880"/>
            <a:ext cx="782784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三边对应相等的两个三角形全等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简写成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边边边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SSS”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5480" y="39178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F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华文新魏"/>
                <a:ea typeface="华文新魏"/>
              </a:rPr>
              <a:t>数学语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115920"/>
            <a:ext cx="8820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已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四边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D=C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    求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∠A= ∠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00720" y="836640"/>
            <a:ext cx="5255280" cy="2228040"/>
            <a:chOff x="4500720" y="836640"/>
            <a:chExt cx="5255280" cy="2228040"/>
          </a:xfrm>
        </p:grpSpPr>
        <p:grpSp>
          <p:nvGrpSpPr>
            <p:cNvPr id="115" name=""/>
            <p:cNvGrpSpPr/>
            <p:nvPr/>
          </p:nvGrpSpPr>
          <p:grpSpPr>
            <a:xfrm>
              <a:off x="5084280" y="1425960"/>
              <a:ext cx="3502800" cy="1296720"/>
              <a:chOff x="5084280" y="1425960"/>
              <a:chExt cx="3502800" cy="129672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5084280" y="1425960"/>
                <a:ext cx="3502800" cy="1296360"/>
                <a:chOff x="5084280" y="1425960"/>
                <a:chExt cx="3502800" cy="129636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5084280" y="1425960"/>
                  <a:ext cx="1167840" cy="129636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H="1">
                  <a:off x="7419240" y="1425960"/>
                  <a:ext cx="1167840" cy="129636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252120" y="1425960"/>
                  <a:ext cx="233496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084280" y="2722320"/>
                  <a:ext cx="2334960" cy="0"/>
                </a:xfrm>
                <a:prstGeom prst="line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6252120" y="1425960"/>
                <a:ext cx="1167120" cy="129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500720" y="23695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3680" y="2604960"/>
              <a:ext cx="12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8160" y="954720"/>
              <a:ext cx="11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35480" y="836640"/>
              <a:ext cx="8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79280" y="1844640"/>
            <a:ext cx="15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仿宋_GB2312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1989000"/>
            <a:ext cx="39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在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ABD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和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D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6370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3213000"/>
            <a:ext cx="19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2781360"/>
            <a:ext cx="76320" cy="1600200"/>
          </a:xfrm>
          <a:custGeom>
            <a:avLst/>
            <a:gdLst>
              <a:gd name="textAreaLeft" fmla="*/ 48960 w 76320"/>
              <a:gd name="textAreaRight" fmla="*/ 7632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263700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=CD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3284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D=CB(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91788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D=DB(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39337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公共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47005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 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D ≌ △C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7280" y="458784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SSS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54080" y="53737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∴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= ∠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37048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（                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060640"/>
            <a:ext cx="15264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19890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740720" y="2205000"/>
            <a:ext cx="15228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12000" y="2133720"/>
            <a:ext cx="15264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64360" y="13413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84720" y="25653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39600" y="530064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全等三角形的对应角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8640" y="321300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00" y="3645000"/>
            <a:ext cx="3600000" cy="2169000"/>
            <a:chOff x="324000" y="3645000"/>
            <a:chExt cx="3600000" cy="2169000"/>
          </a:xfrm>
        </p:grpSpPr>
        <p:grpSp>
          <p:nvGrpSpPr>
            <p:cNvPr id="148" name=""/>
            <p:cNvGrpSpPr/>
            <p:nvPr/>
          </p:nvGrpSpPr>
          <p:grpSpPr>
            <a:xfrm>
              <a:off x="324000" y="3645000"/>
              <a:ext cx="3600000" cy="2169000"/>
              <a:chOff x="324000" y="3645000"/>
              <a:chExt cx="3600000" cy="2169000"/>
            </a:xfrm>
          </p:grpSpPr>
          <p:sp>
            <p:nvSpPr>
              <p:cNvPr id="149" name=""/>
              <p:cNvSpPr/>
              <p:nvPr/>
            </p:nvSpPr>
            <p:spPr>
              <a:xfrm>
                <a:off x="611280" y="3961080"/>
                <a:ext cx="3312720" cy="12657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67640" y="3961080"/>
                <a:ext cx="0" cy="12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14720" y="3645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24000" y="5164200"/>
                <a:ext cx="28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8240" y="5354280"/>
                <a:ext cx="27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148120" y="519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179280" y="476280"/>
            <a:ext cx="878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△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个刚架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点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支架，求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△ ABD≌ △ A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132640"/>
            <a:ext cx="8820000" cy="727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已知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AB=DC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C=DB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求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=∠D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500720" y="3357720"/>
            <a:ext cx="4247640" cy="2227320"/>
            <a:chOff x="4500720" y="3357720"/>
            <a:chExt cx="4247640" cy="2227320"/>
          </a:xfrm>
        </p:grpSpPr>
        <p:grpSp>
          <p:nvGrpSpPr>
            <p:cNvPr id="158" name=""/>
            <p:cNvGrpSpPr/>
            <p:nvPr/>
          </p:nvGrpSpPr>
          <p:grpSpPr>
            <a:xfrm>
              <a:off x="5031360" y="3722760"/>
              <a:ext cx="3074760" cy="1586160"/>
              <a:chOff x="5031360" y="3722760"/>
              <a:chExt cx="3074760" cy="158616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5041800" y="3729960"/>
                <a:ext cx="76608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5031360" y="5294160"/>
                <a:ext cx="3053520" cy="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08240" y="3729960"/>
                <a:ext cx="229788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5031360" y="3722760"/>
                <a:ext cx="229824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7329240" y="3722760"/>
                <a:ext cx="765720" cy="157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208840" y="3357720"/>
              <a:ext cx="620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00720" y="5186160"/>
              <a:ext cx="6184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40600" y="5065200"/>
              <a:ext cx="707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32120" y="3478320"/>
              <a:ext cx="7081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470600" y="558972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07680" y="5661000"/>
            <a:ext cx="13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171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173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10954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一些长度适当的木条，用钉子把它们分别钉成三角形和四边形，并拉动它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ShockwaveFlash1"/>
          <p:cNvGraphicFramePr/>
          <p:nvPr/>
        </p:nvGraphicFramePr>
        <p:xfrm>
          <a:off x="1403280" y="3933720"/>
          <a:ext cx="6769080" cy="244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3933720"/>
                    <a:ext cx="6769080" cy="244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04920" y="17510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角形的大小和形状是固定不变的，而四边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形状会改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1676520" y="2513160"/>
            <a:ext cx="95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只要三角形三边的长度确定了，这个三角形的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状和大小就确定，三角形的这个性质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297180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三角形的稳定性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188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190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做一做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85280" y="26028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角形的稳定性在生活中的应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0" y="2362320"/>
            <a:ext cx="4572000" cy="4091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572000" y="2349360"/>
            <a:ext cx="45720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41960" y="685800"/>
            <a:ext cx="599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已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如图）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直尺和圆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平分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并说出该作法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确的理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906560" y="2362320"/>
            <a:ext cx="5789520" cy="3857760"/>
            <a:chOff x="1906560" y="2362320"/>
            <a:chExt cx="5789520" cy="3857760"/>
          </a:xfrm>
        </p:grpSpPr>
        <p:sp>
          <p:nvSpPr>
            <p:cNvPr id="204" name=""/>
            <p:cNvSpPr/>
            <p:nvPr/>
          </p:nvSpPr>
          <p:spPr>
            <a:xfrm flipH="1">
              <a:off x="2361960" y="2666880"/>
              <a:ext cx="2895480" cy="297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62320" y="5638680"/>
              <a:ext cx="533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6560" y="52578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3440" y="2362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400" y="56386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3:33:24Z</dcterms:created>
  <dc:creator/>
  <dc:description/>
  <dc:language>en-US</dc:language>
  <cp:lastModifiedBy/>
  <dcterms:modified xsi:type="dcterms:W3CDTF">2013-09-16T00:22:01Z</dcterms:modified>
  <cp:revision>80</cp:revision>
  <dc:subject/>
  <dc:title/>
</cp:coreProperties>
</file>