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voltage.wav" ContentType="audio/x-wav"/>
  <Override PartName="/ppt/media/image4.jpeg" ContentType="image/jpe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9AF-D8E4-476E-8C37-5E2763A4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B40-616B-41FC-9F69-0F871698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BEBE-400E-4694-8864-F5AEFE5D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8717-AD0B-463E-8C91-238D5B40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B14D-07FD-4FD7-9D49-E16DC42D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1CDD-2481-43D4-9A80-28AB8AC0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E1E39-7CB3-4E70-A7A8-D33B50E7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6D4B-8636-4D2C-86BF-A6F326A3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DD0E-E37B-446E-9D48-3DD34572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1122-37F3-433C-8786-2FF9E5B7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EAB6-810E-4FBF-9BB1-EAC32FCF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0FEE-79F7-495C-A2C1-22E66FDF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69B3-128F-4433-9252-BE6E1BC4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B45F-15A4-4F83-AF23-0FFD1A9C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9B48-61DF-4465-AC03-FE4CA598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6599-9DD5-4503-95C6-8A358676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5377-90CF-4E33-903F-3C59BB7B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394-F15B-43D7-9B24-7F4F2B2D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48D-9C38-4245-9E9A-F5A150D4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5C0-58AC-4907-AD7B-8F030936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A9E-6A41-4DEF-942D-17634367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4BB-1A47-4142-BC67-D118762E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64A5-EC2C-4B4E-B953-2A23AE09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8AD-F37C-41D8-AADF-A82CAD50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9F80-5D3A-4E6A-A61B-CF20292A9843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877A-0073-477E-ADDE-FB6379F89E01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1600200"/>
            <a:ext cx="184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68360" y="1916280"/>
            <a:ext cx="817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1.5  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三角形全等的判定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新宋体"/>
              </a:rPr>
              <a:t>(3)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新宋体"/>
              <a:ea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250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5653800" y="1557360"/>
            <a:ext cx="3198600" cy="2548800"/>
            <a:chOff x="5653800" y="1557360"/>
            <a:chExt cx="3198600" cy="2548800"/>
          </a:xfrm>
        </p:grpSpPr>
        <p:sp>
          <p:nvSpPr>
            <p:cNvPr id="378" name=""/>
            <p:cNvSpPr/>
            <p:nvPr/>
          </p:nvSpPr>
          <p:spPr>
            <a:xfrm flipV="1">
              <a:off x="6011640" y="1988640"/>
              <a:ext cx="2663640" cy="180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11640" y="3789360"/>
              <a:ext cx="151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7522920" y="2709360"/>
              <a:ext cx="7272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7235280" y="1989000"/>
              <a:ext cx="14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7162560" y="1989000"/>
              <a:ext cx="7128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53800" y="3573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32720" y="2709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452080" y="1557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77440" y="1630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453440" y="36464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596000" y="256536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179280" y="189000"/>
            <a:ext cx="95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例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,F,E,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同一条直线上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∥CD,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B=C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=∠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求证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E=DF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98920" y="1989000"/>
            <a:ext cx="464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证明　　∵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∥CD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2560" y="2614680"/>
            <a:ext cx="54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                     ）　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140360" y="198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已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72680" y="2637000"/>
            <a:ext cx="22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两直线平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内错角相等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86680" y="3141720"/>
            <a:ext cx="275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C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93720" y="544500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∴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BE≌△DCF(           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68360" y="602136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E=D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                     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43240" y="551664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29760" y="3645000"/>
            <a:ext cx="4305240" cy="1818000"/>
            <a:chOff x="329760" y="3645000"/>
            <a:chExt cx="4305240" cy="1818000"/>
          </a:xfrm>
        </p:grpSpPr>
        <p:grpSp>
          <p:nvGrpSpPr>
            <p:cNvPr id="399" name=""/>
            <p:cNvGrpSpPr/>
            <p:nvPr/>
          </p:nvGrpSpPr>
          <p:grpSpPr>
            <a:xfrm>
              <a:off x="971640" y="3645000"/>
              <a:ext cx="3663360" cy="1818000"/>
              <a:chOff x="971640" y="3645000"/>
              <a:chExt cx="3663360" cy="1818000"/>
            </a:xfrm>
          </p:grpSpPr>
          <p:sp>
            <p:nvSpPr>
              <p:cNvPr id="400" name=""/>
              <p:cNvSpPr/>
              <p:nvPr/>
            </p:nvSpPr>
            <p:spPr>
              <a:xfrm>
                <a:off x="971640" y="3845160"/>
                <a:ext cx="79560" cy="1600200"/>
              </a:xfrm>
              <a:custGeom>
                <a:avLst/>
                <a:gdLst>
                  <a:gd name="textAreaLeft" fmla="*/ 50760 w 79560"/>
                  <a:gd name="textAreaRight" fmla="*/ 79920 w 7956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046520" y="3645000"/>
                <a:ext cx="3588480" cy="181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∠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A=∠D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（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已知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）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AB=DC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（已知）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∠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B=∠C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（已证）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329760" y="4235400"/>
              <a:ext cx="42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∵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420000" y="60213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全等三角形的对应边相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50920" y="69228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已知，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，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B=A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=∠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求证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D=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270828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证明 ：在△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ADC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和△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AEB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中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187280" y="3500280"/>
            <a:ext cx="3500640" cy="1818000"/>
            <a:chOff x="1187280" y="3500280"/>
            <a:chExt cx="3500640" cy="1818000"/>
          </a:xfrm>
        </p:grpSpPr>
        <p:sp>
          <p:nvSpPr>
            <p:cNvPr id="407" name=""/>
            <p:cNvSpPr/>
            <p:nvPr/>
          </p:nvSpPr>
          <p:spPr>
            <a:xfrm>
              <a:off x="1187280" y="3700440"/>
              <a:ext cx="76320" cy="16002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58920" y="3500280"/>
              <a:ext cx="34290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∠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A=∠A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公共角）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AC=AB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已知）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∠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C=∠B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（已知）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611280" y="587700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AD=AE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全等三角形的对应边相等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6001560" y="1484280"/>
            <a:ext cx="3159360" cy="3913200"/>
            <a:chOff x="6001560" y="1484280"/>
            <a:chExt cx="3159360" cy="3913200"/>
          </a:xfrm>
        </p:grpSpPr>
        <p:grpSp>
          <p:nvGrpSpPr>
            <p:cNvPr id="411" name=""/>
            <p:cNvGrpSpPr/>
            <p:nvPr/>
          </p:nvGrpSpPr>
          <p:grpSpPr>
            <a:xfrm>
              <a:off x="6459120" y="1900080"/>
              <a:ext cx="2190240" cy="3283200"/>
              <a:chOff x="6459120" y="1900080"/>
              <a:chExt cx="2190240" cy="3283200"/>
            </a:xfrm>
          </p:grpSpPr>
          <p:sp>
            <p:nvSpPr>
              <p:cNvPr id="412" name=""/>
              <p:cNvSpPr/>
              <p:nvPr/>
            </p:nvSpPr>
            <p:spPr>
              <a:xfrm flipH="1">
                <a:off x="6459120" y="1900080"/>
                <a:ext cx="989640" cy="3283200"/>
              </a:xfrm>
              <a:prstGeom prst="line">
                <a:avLst/>
              </a:prstGeom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448760" y="1900080"/>
                <a:ext cx="1200600" cy="3147480"/>
              </a:xfrm>
              <a:prstGeom prst="line">
                <a:avLst/>
              </a:prstGeom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flipV="1">
                <a:off x="7030800" y="3286080"/>
                <a:ext cx="1618200" cy="1761120"/>
              </a:xfrm>
              <a:prstGeom prst="line">
                <a:avLst/>
              </a:prstGeom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6459120" y="3258360"/>
                <a:ext cx="1535040" cy="1924920"/>
              </a:xfrm>
              <a:prstGeom prst="line">
                <a:avLst/>
              </a:prstGeom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7093080" y="1484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Times New Roman"/>
                  <a:ea typeface="华文行楷"/>
                </a:rPr>
                <a:t>A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516720" y="29973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Times New Roman"/>
                  <a:ea typeface="华文行楷"/>
                </a:rPr>
                <a:t>E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21457200">
              <a:off x="6012000" y="48690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Times New Roman"/>
                  <a:ea typeface="华文行楷"/>
                </a:rPr>
                <a:t>B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56720" y="29973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Times New Roman"/>
                  <a:ea typeface="华文行楷"/>
                </a:rPr>
                <a:t>D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229800">
              <a:off x="8686800" y="47970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Times New Roman"/>
                  <a:ea typeface="华文行楷"/>
                </a:rPr>
                <a:t>C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802440" y="5300640"/>
            <a:ext cx="42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∴△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ACD≌△ABE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AS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-16920" y="-48240"/>
            <a:ext cx="3293640" cy="851400"/>
            <a:chOff x="-16920" y="-48240"/>
            <a:chExt cx="3293640" cy="851400"/>
          </a:xfrm>
        </p:grpSpPr>
        <p:sp>
          <p:nvSpPr>
            <p:cNvPr id="423" name=""/>
            <p:cNvSpPr/>
            <p:nvPr/>
          </p:nvSpPr>
          <p:spPr>
            <a:xfrm>
              <a:off x="0" y="381600"/>
              <a:ext cx="3276720" cy="27720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edfad2"/>
              </a:solidFill>
              <a:round/>
            </a:ln>
            <a:effectLst>
              <a:outerShdw dist="153753" dir="2700000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-16920" y="-48240"/>
              <a:ext cx="3150720" cy="851400"/>
              <a:chOff x="-16920" y="-48240"/>
              <a:chExt cx="3150720" cy="851400"/>
            </a:xfrm>
          </p:grpSpPr>
          <p:sp>
            <p:nvSpPr>
              <p:cNvPr id="425" name=""/>
              <p:cNvSpPr/>
              <p:nvPr/>
            </p:nvSpPr>
            <p:spPr>
              <a:xfrm rot="158400">
                <a:off x="142200" y="69480"/>
                <a:ext cx="854640" cy="520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ebf7ff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27320" y="104400"/>
                <a:ext cx="854640" cy="48564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f7ff"/>
                  </a:gs>
                  <a:gs pos="50000">
                    <a:srgbClr val="cc3300"/>
                  </a:gs>
                  <a:gs pos="100000">
                    <a:srgbClr val="ebf7ff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961200">
                <a:off x="142200" y="0"/>
                <a:ext cx="427320" cy="55476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50000">
                    <a:srgbClr val="ffcc66"/>
                  </a:gs>
                  <a:gs pos="100000">
                    <a:srgbClr val="cc99ff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69520" y="360"/>
                <a:ext cx="712440" cy="13860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0920" y="416880"/>
                <a:ext cx="569880" cy="3121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50000">
                    <a:srgbClr val="ff9900"/>
                  </a:gs>
                  <a:gs pos="100000">
                    <a:srgbClr val="cc99ff"/>
                  </a:gs>
                </a:gsLst>
                <a:lin ang="13500000"/>
              </a:gradFill>
              <a:ln w="1908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629000">
                <a:off x="0" y="633240"/>
                <a:ext cx="217800" cy="12708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54640" y="35280"/>
                <a:ext cx="213480" cy="345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212120" y="34560"/>
                <a:ext cx="192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课内练习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8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06200" y="692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∥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∥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那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=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吗？为什么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呢？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34920" y="2178000"/>
            <a:ext cx="3563640" cy="2083320"/>
            <a:chOff x="34920" y="2178000"/>
            <a:chExt cx="3563640" cy="2083320"/>
          </a:xfrm>
        </p:grpSpPr>
        <p:grpSp>
          <p:nvGrpSpPr>
            <p:cNvPr id="435" name=""/>
            <p:cNvGrpSpPr/>
            <p:nvPr/>
          </p:nvGrpSpPr>
          <p:grpSpPr>
            <a:xfrm>
              <a:off x="379080" y="2503800"/>
              <a:ext cx="2356200" cy="1367640"/>
              <a:chOff x="379080" y="2503800"/>
              <a:chExt cx="2356200" cy="1367640"/>
            </a:xfrm>
          </p:grpSpPr>
          <p:sp>
            <p:nvSpPr>
              <p:cNvPr id="436" name=""/>
              <p:cNvSpPr/>
              <p:nvPr/>
            </p:nvSpPr>
            <p:spPr>
              <a:xfrm>
                <a:off x="860760" y="2503800"/>
                <a:ext cx="1874520" cy="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9440" y="3871440"/>
                <a:ext cx="1874160" cy="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379080" y="2503800"/>
                <a:ext cx="481320" cy="136764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2253600" y="2503800"/>
                <a:ext cx="481680" cy="1367640"/>
              </a:xfrm>
              <a:prstGeom prst="line">
                <a:avLst/>
              </a:prstGeom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34920" y="3740760"/>
              <a:ext cx="5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75920" y="3674880"/>
              <a:ext cx="63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37080" y="2178000"/>
              <a:ext cx="86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4640" y="2178000"/>
              <a:ext cx="74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99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53080" y="2250360"/>
            <a:ext cx="2593440" cy="1798560"/>
            <a:chOff x="253080" y="2250360"/>
            <a:chExt cx="2593440" cy="1798560"/>
          </a:xfrm>
        </p:grpSpPr>
        <p:grpSp>
          <p:nvGrpSpPr>
            <p:cNvPr id="445" name=""/>
            <p:cNvGrpSpPr/>
            <p:nvPr/>
          </p:nvGrpSpPr>
          <p:grpSpPr>
            <a:xfrm>
              <a:off x="253080" y="2250360"/>
              <a:ext cx="2593440" cy="1798560"/>
              <a:chOff x="253080" y="2250360"/>
              <a:chExt cx="2593440" cy="1798560"/>
            </a:xfrm>
          </p:grpSpPr>
          <p:sp>
            <p:nvSpPr>
              <p:cNvPr id="446" name=""/>
              <p:cNvSpPr/>
              <p:nvPr/>
            </p:nvSpPr>
            <p:spPr>
              <a:xfrm flipV="1">
                <a:off x="379440" y="2503080"/>
                <a:ext cx="2357280" cy="1368360"/>
              </a:xfrm>
              <a:prstGeom prst="line">
                <a:avLst/>
              </a:prstGeom>
              <a:ln w="38160">
                <a:solidFill>
                  <a:srgbClr val="0066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84720" y="3618000"/>
                <a:ext cx="284400" cy="43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3080" y="3402000"/>
                <a:ext cx="573120" cy="43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 flipV="1" rot="2481600">
                <a:off x="2314080" y="2550600"/>
                <a:ext cx="430560" cy="46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38" y="4925"/>
                    </a:moveTo>
                    <a:arcTo wR="10800" hR="10800" stAng="-8822586" swAng="70306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38" y="4925"/>
                    </a:moveTo>
                    <a:arcTo wR="10800" hR="10800" stAng="-8822586" swAng="7030669"/>
                  </a:path>
                </a:pathLst>
              </a:custGeom>
              <a:noFill/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 flipV="1" rot="2481600">
                <a:off x="1954440" y="2333520"/>
                <a:ext cx="430560" cy="470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38" y="4925"/>
                    </a:moveTo>
                    <a:arcTo wR="10800" hR="10800" stAng="-8822586" swAng="70306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38" y="4925"/>
                    </a:moveTo>
                    <a:arcTo wR="10800" hR="10800" stAng="-8822586" swAng="7030669"/>
                  </a:path>
                </a:pathLst>
              </a:custGeom>
              <a:noFill/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971280" y="3473280"/>
              <a:ext cx="5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618920" y="25383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82200" y="3114720"/>
              <a:ext cx="5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50920" y="2897280"/>
              <a:ext cx="5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99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2771640" y="1601640"/>
            <a:ext cx="6227640" cy="4861800"/>
            <a:chOff x="2771640" y="1601640"/>
            <a:chExt cx="6227640" cy="4861800"/>
          </a:xfrm>
        </p:grpSpPr>
        <p:sp>
          <p:nvSpPr>
            <p:cNvPr id="456" name=""/>
            <p:cNvSpPr/>
            <p:nvPr/>
          </p:nvSpPr>
          <p:spPr>
            <a:xfrm>
              <a:off x="2771640" y="1601640"/>
              <a:ext cx="6227640" cy="48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证明：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∵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B∥C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D∥B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已知 ）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  ∴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</a:rPr>
                <a:t>（两直线平行，内错角相等）</a:t>
              </a:r>
              <a:endParaRPr b="0" lang="en-US" sz="22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∴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在△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与△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CD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中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已证）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C=AC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公共边）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∠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已证）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∴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△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BC≌△CD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S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∴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B=CD   BC=AD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全等三角形对应边相等）</a:t>
              </a:r>
              <a:endParaRPr b="0" lang="en-US" sz="20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63640" y="3978360"/>
              <a:ext cx="216000" cy="122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498600" y="115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思考题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66"/>
                </a:solidFill>
                <a:latin typeface="Verdana"/>
              </a:rPr>
              <a:t>作业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8240" y="2924280"/>
            <a:ext cx="891540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隶书"/>
              </a:rPr>
              <a:t>1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、完成作业本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、同步练习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隶书"/>
              </a:rPr>
              <a:t>3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、预习</a:t>
            </a:r>
            <a:r>
              <a:rPr b="1" lang="zh-CN" sz="3600" spc="-1" strike="noStrike">
                <a:solidFill>
                  <a:srgbClr val="006699"/>
                </a:solidFill>
                <a:latin typeface="隶书"/>
              </a:rPr>
              <a:t>1.5 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三角形全等的判定（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7709040" y="0"/>
            <a:ext cx="143496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79280" y="644400"/>
            <a:ext cx="835344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如图：要测量河两岸相对的两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距离，可以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垂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取两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C=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再定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垂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一条直线上，这时测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长就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长，为什么？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9280" y="13500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巩固练习：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400640" y="2637000"/>
            <a:ext cx="4716360" cy="4110480"/>
            <a:chOff x="4400640" y="2637000"/>
            <a:chExt cx="4716360" cy="4110480"/>
          </a:xfrm>
        </p:grpSpPr>
        <p:sp>
          <p:nvSpPr>
            <p:cNvPr id="465" name=""/>
            <p:cNvSpPr/>
            <p:nvPr/>
          </p:nvSpPr>
          <p:spPr>
            <a:xfrm>
              <a:off x="8106840" y="616608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E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466" name=""/>
            <p:cNvGrpSpPr/>
            <p:nvPr/>
          </p:nvGrpSpPr>
          <p:grpSpPr>
            <a:xfrm>
              <a:off x="4400640" y="2637000"/>
              <a:ext cx="4716360" cy="3816360"/>
              <a:chOff x="4400640" y="2637000"/>
              <a:chExt cx="4716360" cy="3816360"/>
            </a:xfrm>
          </p:grpSpPr>
          <p:sp>
            <p:nvSpPr>
              <p:cNvPr id="467" name=""/>
              <p:cNvSpPr/>
              <p:nvPr/>
            </p:nvSpPr>
            <p:spPr>
              <a:xfrm>
                <a:off x="4400640" y="3862440"/>
                <a:ext cx="4103640" cy="574920"/>
              </a:xfrm>
              <a:prstGeom prst="ellipse">
                <a:avLst/>
              </a:prstGeom>
              <a:solidFill>
                <a:srgbClr val="cc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264280" y="4870800"/>
                <a:ext cx="381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5264280" y="4437360"/>
                <a:ext cx="0" cy="433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5264280" y="3862440"/>
                <a:ext cx="0" cy="503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5264280" y="3213360"/>
                <a:ext cx="0" cy="7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264280" y="3286440"/>
                <a:ext cx="2879640" cy="316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769000" y="3862440"/>
                <a:ext cx="503280" cy="574920"/>
              </a:xfrm>
              <a:prstGeom prst="line">
                <a:avLst/>
              </a:prstGeom>
              <a:ln w="3492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8143920" y="4870800"/>
                <a:ext cx="0" cy="158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264280" y="4654800"/>
                <a:ext cx="288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538960" y="4654800"/>
                <a:ext cx="0" cy="21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856640" y="4870800"/>
                <a:ext cx="0" cy="215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856640" y="5086440"/>
                <a:ext cx="287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83920" y="2637000"/>
                <a:ext cx="46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宋体"/>
                  </a:rPr>
                  <a:t>A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944600" y="4870800"/>
                <a:ext cx="453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宋体"/>
                  </a:rPr>
                  <a:t>B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91440" y="4870800"/>
                <a:ext cx="4399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宋体"/>
                  </a:rPr>
                  <a:t>C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54560" y="4365720"/>
                <a:ext cx="48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宋体"/>
                  </a:rPr>
                  <a:t>D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712360" y="429444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宋体"/>
                  </a:rPr>
                  <a:t>F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50920" y="1989000"/>
            <a:ext cx="78278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fcc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三边对应相等的两个三角形全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写成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“边边边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或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SSS”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905120" y="3213000"/>
            <a:ext cx="4484520" cy="2873880"/>
            <a:chOff x="1905120" y="3213000"/>
            <a:chExt cx="4484520" cy="2873880"/>
          </a:xfrm>
        </p:grpSpPr>
        <p:sp>
          <p:nvSpPr>
            <p:cNvPr id="171" name=""/>
            <p:cNvSpPr/>
            <p:nvPr/>
          </p:nvSpPr>
          <p:spPr>
            <a:xfrm>
              <a:off x="4850280" y="5505480"/>
              <a:ext cx="153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SSS</a:t>
              </a:r>
              <a:r>
                <a:rPr b="1" lang="zh-CN" sz="3200" spc="-1" strike="noStrike">
                  <a:solidFill>
                    <a:srgbClr val="0033cc"/>
                  </a:solidFill>
                  <a:latin typeface="Times New Roman"/>
                </a:rPr>
                <a:t>）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905120" y="3213000"/>
              <a:ext cx="3962520" cy="2867400"/>
              <a:chOff x="1905120" y="3213000"/>
              <a:chExt cx="3962520" cy="286740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981440" y="5499000"/>
                <a:ext cx="3757680" cy="581400"/>
                <a:chOff x="1981440" y="5499000"/>
                <a:chExt cx="3757680" cy="5814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289240" y="5499000"/>
                  <a:ext cx="3449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0000"/>
                      </a:solidFill>
                      <a:latin typeface="Arial"/>
                    </a:rPr>
                    <a:t>ABC </a:t>
                  </a:r>
                  <a:r>
                    <a:rPr b="1" lang="en-US" sz="3200" spc="-1" strike="noStrike">
                      <a:solidFill>
                        <a:srgbClr val="cc0000"/>
                      </a:solidFill>
                      <a:latin typeface="宋体"/>
                    </a:rPr>
                    <a:t>≌</a:t>
                  </a:r>
                  <a:r>
                    <a:rPr b="1" lang="en-US" sz="2800" spc="-1" strike="noStrike">
                      <a:solidFill>
                        <a:srgbClr val="cc0000"/>
                      </a:solidFill>
                      <a:latin typeface="Arial"/>
                    </a:rPr>
                    <a:t>     EFG</a:t>
                  </a:r>
                  <a:endParaRPr b="0" lang="en-US" sz="2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757680" y="5668920"/>
                  <a:ext cx="230400" cy="2872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981440" y="5668920"/>
                  <a:ext cx="230040" cy="2872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2949120" y="3767040"/>
                <a:ext cx="1352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Arial"/>
                  </a:rPr>
                  <a:t>AB=EF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975760" y="4356000"/>
                <a:ext cx="139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Arial"/>
                  </a:rPr>
                  <a:t>BC=FG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975400" y="4965480"/>
                <a:ext cx="1412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0000"/>
                    </a:solidFill>
                    <a:latin typeface="Arial"/>
                  </a:rPr>
                  <a:t>AC=EG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743560" y="3975120"/>
                <a:ext cx="152280" cy="1371600"/>
              </a:xfrm>
              <a:custGeom>
                <a:avLst/>
                <a:gdLst>
                  <a:gd name="textAreaLeft" fmla="*/ 97200 w 152280"/>
                  <a:gd name="textAreaRight" fmla="*/ 152640 w 152280"/>
                  <a:gd name="textAreaTop" fmla="*/ 35640 h 1371600"/>
                  <a:gd name="textAreaBottom" fmla="*/ 1335960 h 137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05120" y="3213000"/>
                <a:ext cx="3962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在△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ABC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和△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EFG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中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2195640" y="189000"/>
            <a:ext cx="35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回顾与思考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119700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角形全等的判定方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0920" y="1587600"/>
            <a:ext cx="8137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及其夹角对应相等的两个三角形全等（简写成“边角边”或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SAS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335772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95280" y="3065400"/>
            <a:ext cx="7919640" cy="652680"/>
            <a:chOff x="395280" y="3065400"/>
            <a:chExt cx="7919640" cy="652680"/>
          </a:xfrm>
        </p:grpSpPr>
        <p:sp>
          <p:nvSpPr>
            <p:cNvPr id="187" name=""/>
            <p:cNvSpPr/>
            <p:nvPr/>
          </p:nvSpPr>
          <p:spPr>
            <a:xfrm>
              <a:off x="395280" y="3065400"/>
              <a:ext cx="23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</a:t>
              </a:r>
              <a:r>
                <a:rPr b="0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注 意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27280" y="3136680"/>
              <a:ext cx="568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这个角一定要是两条边的夹角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4000" y="3281400"/>
              <a:ext cx="502920" cy="288720"/>
            </a:xfrm>
            <a:prstGeom prst="rightArrow">
              <a:avLst>
                <a:gd name="adj1" fmla="val 50000"/>
                <a:gd name="adj2" fmla="val 4354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512720" y="4011480"/>
            <a:ext cx="5867640" cy="24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′B′C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=A′B′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C=∠A′B′C′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C=B′C′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 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C≌△A′B′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0" lang="zh-CN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SAS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35280" y="458136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6240" y="90504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角形全等的判定方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66920" y="1461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华文新魏"/>
              </a:rPr>
              <a:t>回顾与思考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50920" y="2781360"/>
            <a:ext cx="6192720" cy="2806200"/>
          </a:xfrm>
          <a:prstGeom prst="rect">
            <a:avLst/>
          </a:prstGeom>
          <a:noFill/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华文行楷"/>
              </a:rPr>
              <a:t>线段垂直平分线上的点到线段两端点的距离相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24000" y="333360"/>
            <a:ext cx="5760360" cy="2274480"/>
            <a:chOff x="324000" y="333360"/>
            <a:chExt cx="5760360" cy="2274480"/>
          </a:xfrm>
        </p:grpSpPr>
        <p:sp>
          <p:nvSpPr>
            <p:cNvPr id="196" name=""/>
            <p:cNvSpPr/>
            <p:nvPr/>
          </p:nvSpPr>
          <p:spPr>
            <a:xfrm>
              <a:off x="324000" y="333360"/>
              <a:ext cx="5612040" cy="227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4000" y="521280"/>
              <a:ext cx="576036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  <a:ea typeface="华文行楷"/>
                </a:rPr>
                <a:t>垂直于一条线段</a:t>
              </a: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  <a:ea typeface="华文行楷"/>
                </a:rPr>
                <a:t>,</a:t>
              </a: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  <a:ea typeface="华文行楷"/>
                </a:rPr>
                <a:t>并且平分这条线段的直线叫做这条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线段的垂直平分线</a:t>
              </a: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  <a:ea typeface="华文行楷"/>
                </a:rPr>
                <a:t>,</a:t>
              </a: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  <a:ea typeface="华文行楷"/>
                </a:rPr>
                <a:t>简称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中垂线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95280" y="2835360"/>
            <a:ext cx="8304120" cy="2793600"/>
            <a:chOff x="395280" y="2835360"/>
            <a:chExt cx="8304120" cy="2793600"/>
          </a:xfrm>
        </p:grpSpPr>
        <p:sp>
          <p:nvSpPr>
            <p:cNvPr id="199" name=""/>
            <p:cNvSpPr/>
            <p:nvPr/>
          </p:nvSpPr>
          <p:spPr>
            <a:xfrm>
              <a:off x="395280" y="4562280"/>
              <a:ext cx="4537080" cy="1015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∵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l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2400" spc="-1" strike="noStrike">
                  <a:solidFill>
                    <a:srgbClr val="ff0066"/>
                  </a:solidFill>
                  <a:latin typeface="宋体"/>
                </a:rPr>
                <a:t>CO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）是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ＡＢ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的中垂线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∴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ＡＣ＝ＢＣ（中垂线的性质）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5651280" y="2835360"/>
              <a:ext cx="3048120" cy="2793600"/>
              <a:chOff x="5651280" y="2835360"/>
              <a:chExt cx="3048120" cy="279360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5651280" y="3267000"/>
                <a:ext cx="3048120" cy="2361960"/>
                <a:chOff x="5651280" y="3267000"/>
                <a:chExt cx="3048120" cy="236196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5651280" y="3267000"/>
                  <a:ext cx="3048120" cy="2361960"/>
                  <a:chOff x="5651280" y="3267000"/>
                  <a:chExt cx="3048120" cy="236196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6108480" y="4790880"/>
                    <a:ext cx="19051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V="1">
                    <a:off x="7099200" y="3267000"/>
                    <a:ext cx="0" cy="23619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>
                    <a:off x="6108480" y="3800520"/>
                    <a:ext cx="990720" cy="990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7099200" y="3800520"/>
                    <a:ext cx="914400" cy="9900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5651280" y="4562280"/>
                    <a:ext cx="10670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2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7099200" y="3419280"/>
                    <a:ext cx="106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C</a:t>
                    </a:r>
                    <a:endParaRPr b="0" lang="en-US" sz="2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718320" y="4714920"/>
                    <a:ext cx="10666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2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8013600" y="4562280"/>
                    <a:ext cx="685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2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 flipV="1">
                  <a:off x="6108480" y="3800520"/>
                  <a:ext cx="990720" cy="990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>
                <a:off x="7080120" y="2835360"/>
                <a:ext cx="28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6699"/>
                    </a:solidFill>
                    <a:latin typeface="Times New Roman"/>
                    <a:ea typeface="华文行楷"/>
                  </a:rPr>
                  <a:t>l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900000" y="549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垂直平分线定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89200" y="2997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中垂线的性质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6000" y="692280"/>
            <a:ext cx="88930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 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C=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中垂线交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中垂线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D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周长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343400" y="1981080"/>
            <a:ext cx="3124080" cy="1815840"/>
            <a:chOff x="4343400" y="1981080"/>
            <a:chExt cx="3124080" cy="1815840"/>
          </a:xfrm>
        </p:grpSpPr>
        <p:sp>
          <p:nvSpPr>
            <p:cNvPr id="217" name=""/>
            <p:cNvSpPr/>
            <p:nvPr/>
          </p:nvSpPr>
          <p:spPr>
            <a:xfrm>
              <a:off x="4724280" y="3352680"/>
              <a:ext cx="22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724280" y="2438280"/>
              <a:ext cx="15238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48160" y="2438280"/>
              <a:ext cx="68580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57800" y="2590560"/>
              <a:ext cx="53316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019200" y="2666880"/>
              <a:ext cx="83844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19560" y="1981080"/>
              <a:ext cx="60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43400" y="32000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58000" y="32000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86400" y="32763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67280" y="32763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24000" y="3716280"/>
            <a:ext cx="8229600" cy="3058920"/>
            <a:chOff x="324000" y="3716280"/>
            <a:chExt cx="8229600" cy="3058920"/>
          </a:xfrm>
        </p:grpSpPr>
        <p:sp>
          <p:nvSpPr>
            <p:cNvPr id="228" name=""/>
            <p:cNvSpPr/>
            <p:nvPr/>
          </p:nvSpPr>
          <p:spPr>
            <a:xfrm>
              <a:off x="324000" y="3716280"/>
              <a:ext cx="8229600" cy="12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②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如图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(2), △ABC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中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,DE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垂直平分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AC,AE=1.5cm, △ABC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周长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9cm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则△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ABD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的周长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_______.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4413240" y="4869000"/>
              <a:ext cx="3581280" cy="1906200"/>
              <a:chOff x="4413240" y="4869000"/>
              <a:chExt cx="3581280" cy="1906200"/>
            </a:xfrm>
          </p:grpSpPr>
          <p:sp>
            <p:nvSpPr>
              <p:cNvPr id="230" name=""/>
              <p:cNvSpPr/>
              <p:nvPr/>
            </p:nvSpPr>
            <p:spPr>
              <a:xfrm>
                <a:off x="4718160" y="6240240"/>
                <a:ext cx="289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4718160" y="5325480"/>
                <a:ext cx="53316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251320" y="5325840"/>
                <a:ext cx="236232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5360" y="5249880"/>
                <a:ext cx="381240" cy="9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51320" y="5325840"/>
                <a:ext cx="914400" cy="914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46760" y="486900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413240" y="625464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385040" y="625464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861160" y="625464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94320" y="5402160"/>
                <a:ext cx="60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"/>
          <p:cNvSpPr/>
          <p:nvPr/>
        </p:nvSpPr>
        <p:spPr>
          <a:xfrm flipH="1">
            <a:off x="5791320" y="243828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019560" y="243828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96360" y="134136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10cm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57800" y="429264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6cm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-9000" y="-51120"/>
            <a:ext cx="3285720" cy="658080"/>
            <a:chOff x="-9000" y="-51120"/>
            <a:chExt cx="3285720" cy="658080"/>
          </a:xfrm>
        </p:grpSpPr>
        <p:sp>
          <p:nvSpPr>
            <p:cNvPr id="245" name=""/>
            <p:cNvSpPr/>
            <p:nvPr/>
          </p:nvSpPr>
          <p:spPr>
            <a:xfrm>
              <a:off x="0" y="275760"/>
              <a:ext cx="327672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edfad2"/>
              </a:solidFill>
              <a:round/>
            </a:ln>
            <a:effectLst>
              <a:outerShdw dist="153753" dir="2700000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-9000" y="-51120"/>
              <a:ext cx="3142800" cy="658080"/>
              <a:chOff x="-9000" y="-51120"/>
              <a:chExt cx="3142800" cy="658080"/>
            </a:xfrm>
          </p:grpSpPr>
          <p:sp>
            <p:nvSpPr>
              <p:cNvPr id="247" name=""/>
              <p:cNvSpPr/>
              <p:nvPr/>
            </p:nvSpPr>
            <p:spPr>
              <a:xfrm rot="158400">
                <a:off x="141840" y="50400"/>
                <a:ext cx="85464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ebf7ff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7320" y="75600"/>
                <a:ext cx="85464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f7ff"/>
                  </a:gs>
                  <a:gs pos="50000">
                    <a:srgbClr val="cc3300"/>
                  </a:gs>
                  <a:gs pos="100000">
                    <a:srgbClr val="ebf7ff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961200">
                <a:off x="142200" y="0"/>
                <a:ext cx="42732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50000">
                    <a:srgbClr val="ffcc66"/>
                  </a:gs>
                  <a:gs pos="100000">
                    <a:srgbClr val="cc99ff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69520" y="360"/>
                <a:ext cx="71244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0920" y="301320"/>
                <a:ext cx="56988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50000">
                    <a:srgbClr val="ff9900"/>
                  </a:gs>
                  <a:gs pos="100000">
                    <a:srgbClr val="cc99ff"/>
                  </a:gs>
                </a:gsLst>
                <a:lin ang="13500000"/>
              </a:gradFill>
              <a:ln w="1908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629000">
                <a:off x="0" y="457200"/>
                <a:ext cx="21780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54640" y="25560"/>
                <a:ext cx="213480" cy="2484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12120" y="25560"/>
                <a:ext cx="192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练一 练：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475240" y="2637000"/>
            <a:ext cx="32004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256" name=""/>
          <p:cNvGrpSpPr/>
          <p:nvPr/>
        </p:nvGrpSpPr>
        <p:grpSpPr>
          <a:xfrm>
            <a:off x="1907640" y="1341000"/>
            <a:ext cx="2449800" cy="1586160"/>
            <a:chOff x="1907640" y="1341000"/>
            <a:chExt cx="2449800" cy="1586160"/>
          </a:xfrm>
        </p:grpSpPr>
        <p:grpSp>
          <p:nvGrpSpPr>
            <p:cNvPr id="257" name=""/>
            <p:cNvGrpSpPr/>
            <p:nvPr/>
          </p:nvGrpSpPr>
          <p:grpSpPr>
            <a:xfrm>
              <a:off x="1907640" y="1341000"/>
              <a:ext cx="2448000" cy="1586160"/>
              <a:chOff x="1907640" y="1341000"/>
              <a:chExt cx="2448000" cy="15861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1907640" y="1774800"/>
                <a:ext cx="1368360" cy="1081080"/>
              </a:xfrm>
              <a:prstGeom prst="line">
                <a:avLst/>
              </a:prstGeom>
              <a:ln w="1908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08000" y="2855880"/>
                <a:ext cx="1726920" cy="71280"/>
              </a:xfrm>
              <a:prstGeom prst="line">
                <a:avLst/>
              </a:prstGeom>
              <a:ln w="1908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3276360" y="1341000"/>
                <a:ext cx="576360" cy="431640"/>
              </a:xfrm>
              <a:prstGeom prst="line">
                <a:avLst/>
              </a:prstGeom>
              <a:ln w="1908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52720" y="1341360"/>
                <a:ext cx="502920" cy="1584360"/>
              </a:xfrm>
              <a:prstGeom prst="line">
                <a:avLst/>
              </a:prstGeom>
              <a:ln w="1908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636720" y="2925720"/>
                <a:ext cx="718920" cy="0"/>
              </a:xfrm>
              <a:prstGeom prst="line">
                <a:avLst/>
              </a:prstGeom>
              <a:ln w="1908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1908000" y="1341360"/>
              <a:ext cx="2449440" cy="1584360"/>
            </a:xfrm>
            <a:custGeom>
              <a:avLst/>
              <a:gdLst/>
              <a:ahLst/>
              <a:rect l="l" t="t" r="r" b="b"/>
              <a:pathLst>
                <a:path w="1543" h="998">
                  <a:moveTo>
                    <a:pt x="1225" y="0"/>
                  </a:moveTo>
                  <a:lnTo>
                    <a:pt x="0" y="952"/>
                  </a:lnTo>
                  <a:lnTo>
                    <a:pt x="1543" y="998"/>
                  </a:lnTo>
                  <a:lnTo>
                    <a:pt x="1225" y="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835280" y="4797360"/>
            <a:ext cx="1873080" cy="1160640"/>
            <a:chOff x="1835280" y="4797360"/>
            <a:chExt cx="1873080" cy="1160640"/>
          </a:xfrm>
        </p:grpSpPr>
        <p:grpSp>
          <p:nvGrpSpPr>
            <p:cNvPr id="265" name=""/>
            <p:cNvGrpSpPr/>
            <p:nvPr/>
          </p:nvGrpSpPr>
          <p:grpSpPr>
            <a:xfrm>
              <a:off x="1835280" y="4797360"/>
              <a:ext cx="1850400" cy="1160640"/>
              <a:chOff x="1835280" y="4797360"/>
              <a:chExt cx="1850400" cy="1160640"/>
            </a:xfrm>
          </p:grpSpPr>
          <p:sp>
            <p:nvSpPr>
              <p:cNvPr id="266" name=""/>
              <p:cNvSpPr/>
              <p:nvPr/>
            </p:nvSpPr>
            <p:spPr>
              <a:xfrm flipH="1">
                <a:off x="1835280" y="4797360"/>
                <a:ext cx="1368000" cy="108108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835280" y="5878440"/>
                <a:ext cx="1728360" cy="7164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203280" y="4797360"/>
                <a:ext cx="482400" cy="1160640"/>
              </a:xfrm>
              <a:custGeom>
                <a:avLst/>
                <a:gdLst/>
                <a:ahLst/>
                <a:rect l="l" t="t" r="r" b="b"/>
                <a:pathLst>
                  <a:path w="304" h="731">
                    <a:moveTo>
                      <a:pt x="0" y="0"/>
                    </a:moveTo>
                    <a:cubicBezTo>
                      <a:pt x="18" y="12"/>
                      <a:pt x="37" y="24"/>
                      <a:pt x="55" y="36"/>
                    </a:cubicBezTo>
                    <a:cubicBezTo>
                      <a:pt x="64" y="42"/>
                      <a:pt x="82" y="54"/>
                      <a:pt x="82" y="54"/>
                    </a:cubicBezTo>
                    <a:cubicBezTo>
                      <a:pt x="85" y="112"/>
                      <a:pt x="53" y="184"/>
                      <a:pt x="91" y="228"/>
                    </a:cubicBezTo>
                    <a:cubicBezTo>
                      <a:pt x="123" y="265"/>
                      <a:pt x="197" y="210"/>
                      <a:pt x="238" y="237"/>
                    </a:cubicBezTo>
                    <a:cubicBezTo>
                      <a:pt x="278" y="264"/>
                      <a:pt x="192" y="374"/>
                      <a:pt x="192" y="374"/>
                    </a:cubicBezTo>
                    <a:cubicBezTo>
                      <a:pt x="181" y="410"/>
                      <a:pt x="157" y="416"/>
                      <a:pt x="137" y="448"/>
                    </a:cubicBezTo>
                    <a:cubicBezTo>
                      <a:pt x="186" y="454"/>
                      <a:pt x="234" y="460"/>
                      <a:pt x="283" y="466"/>
                    </a:cubicBezTo>
                    <a:cubicBezTo>
                      <a:pt x="304" y="469"/>
                      <a:pt x="247" y="490"/>
                      <a:pt x="229" y="502"/>
                    </a:cubicBezTo>
                    <a:cubicBezTo>
                      <a:pt x="200" y="522"/>
                      <a:pt x="206" y="521"/>
                      <a:pt x="174" y="530"/>
                    </a:cubicBezTo>
                    <a:cubicBezTo>
                      <a:pt x="150" y="537"/>
                      <a:pt x="101" y="548"/>
                      <a:pt x="101" y="548"/>
                    </a:cubicBezTo>
                    <a:cubicBezTo>
                      <a:pt x="113" y="584"/>
                      <a:pt x="128" y="593"/>
                      <a:pt x="165" y="603"/>
                    </a:cubicBezTo>
                    <a:cubicBezTo>
                      <a:pt x="189" y="609"/>
                      <a:pt x="238" y="621"/>
                      <a:pt x="238" y="621"/>
                    </a:cubicBezTo>
                    <a:cubicBezTo>
                      <a:pt x="228" y="720"/>
                      <a:pt x="244" y="686"/>
                      <a:pt x="219" y="731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1835280" y="4797360"/>
              <a:ext cx="1873080" cy="1152720"/>
            </a:xfrm>
            <a:custGeom>
              <a:avLst/>
              <a:gdLst/>
              <a:ahLst/>
              <a:rect l="l" t="t" r="r" b="b"/>
              <a:pathLst>
                <a:path w="1180" h="726">
                  <a:moveTo>
                    <a:pt x="862" y="0"/>
                  </a:moveTo>
                  <a:lnTo>
                    <a:pt x="953" y="45"/>
                  </a:lnTo>
                  <a:lnTo>
                    <a:pt x="953" y="136"/>
                  </a:lnTo>
                  <a:lnTo>
                    <a:pt x="953" y="181"/>
                  </a:lnTo>
                  <a:lnTo>
                    <a:pt x="953" y="227"/>
                  </a:lnTo>
                  <a:lnTo>
                    <a:pt x="998" y="227"/>
                  </a:lnTo>
                  <a:lnTo>
                    <a:pt x="1089" y="227"/>
                  </a:lnTo>
                  <a:lnTo>
                    <a:pt x="1134" y="272"/>
                  </a:lnTo>
                  <a:lnTo>
                    <a:pt x="998" y="453"/>
                  </a:lnTo>
                  <a:lnTo>
                    <a:pt x="1134" y="453"/>
                  </a:lnTo>
                  <a:lnTo>
                    <a:pt x="1180" y="453"/>
                  </a:lnTo>
                  <a:lnTo>
                    <a:pt x="998" y="544"/>
                  </a:lnTo>
                  <a:lnTo>
                    <a:pt x="953" y="544"/>
                  </a:lnTo>
                  <a:lnTo>
                    <a:pt x="998" y="590"/>
                  </a:lnTo>
                  <a:lnTo>
                    <a:pt x="1134" y="635"/>
                  </a:lnTo>
                  <a:lnTo>
                    <a:pt x="1089" y="726"/>
                  </a:lnTo>
                  <a:lnTo>
                    <a:pt x="0" y="680"/>
                  </a:lnTo>
                  <a:lnTo>
                    <a:pt x="862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203640" y="4365720"/>
            <a:ext cx="1095480" cy="1593720"/>
            <a:chOff x="3203640" y="4365720"/>
            <a:chExt cx="1095480" cy="1593720"/>
          </a:xfrm>
        </p:grpSpPr>
        <p:grpSp>
          <p:nvGrpSpPr>
            <p:cNvPr id="271" name=""/>
            <p:cNvGrpSpPr/>
            <p:nvPr/>
          </p:nvGrpSpPr>
          <p:grpSpPr>
            <a:xfrm>
              <a:off x="3203640" y="4365720"/>
              <a:ext cx="1095480" cy="1593720"/>
              <a:chOff x="3203640" y="4365720"/>
              <a:chExt cx="1095480" cy="159372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3203640" y="4375080"/>
                <a:ext cx="576360" cy="43128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565800" y="5959440"/>
                <a:ext cx="71892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95840" y="4365720"/>
                <a:ext cx="503280" cy="158400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19480" y="4797360"/>
                <a:ext cx="482760" cy="1159920"/>
              </a:xfrm>
              <a:custGeom>
                <a:avLst/>
                <a:gdLst/>
                <a:ahLst/>
                <a:rect l="l" t="t" r="r" b="b"/>
                <a:pathLst>
                  <a:path w="304" h="731">
                    <a:moveTo>
                      <a:pt x="0" y="0"/>
                    </a:moveTo>
                    <a:cubicBezTo>
                      <a:pt x="18" y="12"/>
                      <a:pt x="37" y="24"/>
                      <a:pt x="55" y="36"/>
                    </a:cubicBezTo>
                    <a:cubicBezTo>
                      <a:pt x="64" y="42"/>
                      <a:pt x="82" y="54"/>
                      <a:pt x="82" y="54"/>
                    </a:cubicBezTo>
                    <a:cubicBezTo>
                      <a:pt x="85" y="112"/>
                      <a:pt x="53" y="184"/>
                      <a:pt x="91" y="228"/>
                    </a:cubicBezTo>
                    <a:cubicBezTo>
                      <a:pt x="123" y="265"/>
                      <a:pt x="197" y="210"/>
                      <a:pt x="238" y="237"/>
                    </a:cubicBezTo>
                    <a:cubicBezTo>
                      <a:pt x="278" y="264"/>
                      <a:pt x="192" y="374"/>
                      <a:pt x="192" y="374"/>
                    </a:cubicBezTo>
                    <a:cubicBezTo>
                      <a:pt x="181" y="410"/>
                      <a:pt x="157" y="416"/>
                      <a:pt x="137" y="448"/>
                    </a:cubicBezTo>
                    <a:cubicBezTo>
                      <a:pt x="186" y="454"/>
                      <a:pt x="234" y="460"/>
                      <a:pt x="283" y="466"/>
                    </a:cubicBezTo>
                    <a:cubicBezTo>
                      <a:pt x="304" y="469"/>
                      <a:pt x="247" y="490"/>
                      <a:pt x="229" y="502"/>
                    </a:cubicBezTo>
                    <a:cubicBezTo>
                      <a:pt x="200" y="522"/>
                      <a:pt x="206" y="521"/>
                      <a:pt x="174" y="530"/>
                    </a:cubicBezTo>
                    <a:cubicBezTo>
                      <a:pt x="150" y="537"/>
                      <a:pt x="101" y="548"/>
                      <a:pt x="101" y="548"/>
                    </a:cubicBezTo>
                    <a:cubicBezTo>
                      <a:pt x="113" y="584"/>
                      <a:pt x="128" y="593"/>
                      <a:pt x="165" y="603"/>
                    </a:cubicBezTo>
                    <a:cubicBezTo>
                      <a:pt x="189" y="609"/>
                      <a:pt x="238" y="621"/>
                      <a:pt x="238" y="621"/>
                    </a:cubicBezTo>
                    <a:cubicBezTo>
                      <a:pt x="228" y="720"/>
                      <a:pt x="244" y="686"/>
                      <a:pt x="219" y="731"/>
                    </a:cubicBezTo>
                  </a:path>
                </a:pathLst>
              </a:custGeom>
              <a:noFill/>
              <a:ln w="936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3203640" y="4365720"/>
              <a:ext cx="1081080" cy="1584360"/>
            </a:xfrm>
            <a:custGeom>
              <a:avLst/>
              <a:gdLst/>
              <a:ahLst/>
              <a:rect l="l" t="t" r="r" b="b"/>
              <a:pathLst>
                <a:path w="681" h="998">
                  <a:moveTo>
                    <a:pt x="0" y="272"/>
                  </a:moveTo>
                  <a:lnTo>
                    <a:pt x="363" y="0"/>
                  </a:lnTo>
                  <a:lnTo>
                    <a:pt x="681" y="998"/>
                  </a:lnTo>
                  <a:lnTo>
                    <a:pt x="227" y="998"/>
                  </a:lnTo>
                  <a:lnTo>
                    <a:pt x="272" y="907"/>
                  </a:lnTo>
                  <a:lnTo>
                    <a:pt x="136" y="862"/>
                  </a:lnTo>
                  <a:lnTo>
                    <a:pt x="91" y="816"/>
                  </a:lnTo>
                  <a:lnTo>
                    <a:pt x="136" y="816"/>
                  </a:lnTo>
                  <a:lnTo>
                    <a:pt x="227" y="771"/>
                  </a:lnTo>
                  <a:lnTo>
                    <a:pt x="318" y="725"/>
                  </a:lnTo>
                  <a:lnTo>
                    <a:pt x="136" y="725"/>
                  </a:lnTo>
                  <a:lnTo>
                    <a:pt x="272" y="544"/>
                  </a:lnTo>
                  <a:lnTo>
                    <a:pt x="227" y="499"/>
                  </a:lnTo>
                  <a:lnTo>
                    <a:pt x="91" y="499"/>
                  </a:lnTo>
                  <a:lnTo>
                    <a:pt x="91" y="317"/>
                  </a:lnTo>
                  <a:lnTo>
                    <a:pt x="0" y="272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95280" y="907920"/>
            <a:ext cx="8424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明不小心将一块三角形模具打碎了，他是否可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只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碎片到商店去，就能配一块与原来一样的三角形模具呢？如果可以，带哪块去合适？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28464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带的这块玻璃里有几个条件已知？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-9000" y="-51120"/>
            <a:ext cx="3285720" cy="658080"/>
            <a:chOff x="-9000" y="-51120"/>
            <a:chExt cx="3285720" cy="658080"/>
          </a:xfrm>
        </p:grpSpPr>
        <p:sp>
          <p:nvSpPr>
            <p:cNvPr id="280" name=""/>
            <p:cNvSpPr/>
            <p:nvPr/>
          </p:nvSpPr>
          <p:spPr>
            <a:xfrm>
              <a:off x="0" y="275760"/>
              <a:ext cx="327672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edfad2"/>
              </a:solidFill>
              <a:round/>
            </a:ln>
            <a:effectLst>
              <a:outerShdw dist="153753" dir="2700000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-9000" y="-51120"/>
              <a:ext cx="3142800" cy="658080"/>
              <a:chOff x="-9000" y="-51120"/>
              <a:chExt cx="3142800" cy="658080"/>
            </a:xfrm>
          </p:grpSpPr>
          <p:sp>
            <p:nvSpPr>
              <p:cNvPr id="282" name=""/>
              <p:cNvSpPr/>
              <p:nvPr/>
            </p:nvSpPr>
            <p:spPr>
              <a:xfrm rot="158400">
                <a:off x="141840" y="50400"/>
                <a:ext cx="85464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ebf7ff"/>
                  </a:gs>
                  <a:gs pos="100000">
                    <a:srgbClr val="ffcc66"/>
                  </a:gs>
                </a:gsLst>
                <a:lin ang="7944000"/>
              </a:gradFill>
              <a:ln w="3816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27320" y="75600"/>
                <a:ext cx="85464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f7ff"/>
                  </a:gs>
                  <a:gs pos="50000">
                    <a:srgbClr val="cc3300"/>
                  </a:gs>
                  <a:gs pos="100000">
                    <a:srgbClr val="ebf7ff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961200">
                <a:off x="142200" y="0"/>
                <a:ext cx="42732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50000">
                    <a:srgbClr val="ffcc66"/>
                  </a:gs>
                  <a:gs pos="100000">
                    <a:srgbClr val="cc99ff"/>
                  </a:gs>
                </a:gsLst>
                <a:lin ang="1254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69520" y="360"/>
                <a:ext cx="71244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0920" y="301320"/>
                <a:ext cx="56988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50000">
                    <a:srgbClr val="ff9900"/>
                  </a:gs>
                  <a:gs pos="100000">
                    <a:srgbClr val="cc99ff"/>
                  </a:gs>
                </a:gsLst>
                <a:lin ang="13500000"/>
              </a:gradFill>
              <a:ln w="1908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29000">
                <a:off x="0" y="457200"/>
                <a:ext cx="21780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9174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54640" y="25560"/>
                <a:ext cx="213480" cy="2484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212120" y="25560"/>
                <a:ext cx="192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议一议：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22222E-006 L -4.72222E-006 0.4412 E">
                                      <p:cBhvr>
                                        <p:cTn id="86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1.38778E-017 L -0.06303 1.38778E-017 E">
                                      <p:cBhvr>
                                        <p:cTn id="96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02361 0.01064 E">
                                      <p:cBhvr>
                                        <p:cTn id="98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64960" y="765000"/>
            <a:ext cx="84106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两个角和这两个角的夹边对应相等的两个三角形一定全等吗？请用量角器和刻度尺画</a:t>
            </a:r>
            <a:r>
              <a:rPr b="1" lang="el-GR" sz="2800" spc="-1" strike="noStrike">
                <a:solidFill>
                  <a:srgbClr val="000000"/>
                </a:solidFill>
                <a:latin typeface="宋体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C=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 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=4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=6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的三角形与其他同学画的三角形比较，你发现了什么？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71640" y="630864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971640" y="4149360"/>
            <a:ext cx="1224000" cy="21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1523520" y="4419360"/>
            <a:ext cx="1824120" cy="188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128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609300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4419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16000" y="59500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60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56000" y="59500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40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63640" y="623736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c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03640" y="3573360"/>
            <a:ext cx="56163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两个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及其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夹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应相等的两个三角形全等。（简写成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角边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或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S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73440" y="6093000"/>
            <a:ext cx="28512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843280" y="6021360"/>
            <a:ext cx="141840" cy="5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-4320" y="-74520"/>
            <a:ext cx="4575960" cy="687960"/>
            <a:chOff x="-4320" y="-74520"/>
            <a:chExt cx="4575960" cy="687960"/>
          </a:xfrm>
        </p:grpSpPr>
        <p:sp>
          <p:nvSpPr>
            <p:cNvPr id="304" name=""/>
            <p:cNvSpPr/>
            <p:nvPr/>
          </p:nvSpPr>
          <p:spPr>
            <a:xfrm>
              <a:off x="0" y="275760"/>
              <a:ext cx="457164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edfad2"/>
              </a:solidFill>
              <a:round/>
            </a:ln>
            <a:effectLst>
              <a:outerShdw dist="153753" dir="2700000" blurRad="0" rotWithShape="0">
                <a:srgbClr val="ff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-4320" y="-74520"/>
              <a:ext cx="4376520" cy="687960"/>
              <a:chOff x="-4320" y="-74520"/>
              <a:chExt cx="4376520" cy="687960"/>
            </a:xfrm>
          </p:grpSpPr>
          <p:sp>
            <p:nvSpPr>
              <p:cNvPr id="306" name=""/>
              <p:cNvSpPr/>
              <p:nvPr/>
            </p:nvSpPr>
            <p:spPr>
              <a:xfrm rot="158400">
                <a:off x="198360" y="50040"/>
                <a:ext cx="119232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ebf7ff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96160" y="75600"/>
                <a:ext cx="119232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bf7ff"/>
                  </a:gs>
                  <a:gs pos="50000">
                    <a:srgbClr val="cc3300"/>
                  </a:gs>
                  <a:gs pos="100000">
                    <a:srgbClr val="ebf7ff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961200">
                <a:off x="198360" y="0"/>
                <a:ext cx="59616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50000">
                    <a:srgbClr val="ffcc66"/>
                  </a:gs>
                  <a:gs pos="100000">
                    <a:srgbClr val="cc99ff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94880" y="360"/>
                <a:ext cx="99396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99000" y="301320"/>
                <a:ext cx="79524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99ff"/>
                  </a:gs>
                  <a:gs pos="50000">
                    <a:srgbClr val="ff9900"/>
                  </a:gs>
                  <a:gs pos="100000">
                    <a:srgbClr val="cc99ff"/>
                  </a:gs>
                </a:gsLst>
                <a:lin ang="13500000"/>
              </a:gradFill>
              <a:ln w="19080">
                <a:solidFill>
                  <a:srgbClr val="ebf7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629000">
                <a:off x="0" y="457200"/>
                <a:ext cx="30420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92320" y="25560"/>
                <a:ext cx="298080" cy="2484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690920" y="25560"/>
                <a:ext cx="2681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合作学习：</a:t>
                </a:r>
                <a:endParaRPr b="0" lang="en-US" sz="32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1042920" y="1341360"/>
            <a:ext cx="6900840" cy="2140920"/>
            <a:chOff x="1042920" y="1341360"/>
            <a:chExt cx="6900840" cy="2140920"/>
          </a:xfrm>
        </p:grpSpPr>
        <p:sp>
          <p:nvSpPr>
            <p:cNvPr id="315" name=""/>
            <p:cNvSpPr/>
            <p:nvPr/>
          </p:nvSpPr>
          <p:spPr>
            <a:xfrm>
              <a:off x="1761840" y="151128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42920" y="29512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30200" y="3022560"/>
              <a:ext cx="11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329840" y="1871640"/>
              <a:ext cx="5893200" cy="1150920"/>
              <a:chOff x="1329840" y="1871640"/>
              <a:chExt cx="5893200" cy="115092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329840" y="1943280"/>
                <a:ext cx="2088000" cy="1079280"/>
                <a:chOff x="1329840" y="1943280"/>
                <a:chExt cx="2088000" cy="107928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1329840" y="1943280"/>
                  <a:ext cx="718920" cy="10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330200" y="3022560"/>
                  <a:ext cx="208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2049120" y="1943280"/>
                  <a:ext cx="1368720" cy="10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5135040" y="1871640"/>
                <a:ext cx="2088000" cy="1079640"/>
                <a:chOff x="5135040" y="1871640"/>
                <a:chExt cx="2088000" cy="1079640"/>
              </a:xfrm>
            </p:grpSpPr>
            <p:sp>
              <p:nvSpPr>
                <p:cNvPr id="324" name=""/>
                <p:cNvSpPr/>
                <p:nvPr/>
              </p:nvSpPr>
              <p:spPr>
                <a:xfrm flipH="1">
                  <a:off x="5135040" y="1871640"/>
                  <a:ext cx="718920" cy="1079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135400" y="2951280"/>
                  <a:ext cx="208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854320" y="1871640"/>
                  <a:ext cx="1368720" cy="1079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7" name=""/>
            <p:cNvSpPr/>
            <p:nvPr/>
          </p:nvSpPr>
          <p:spPr>
            <a:xfrm>
              <a:off x="5568840" y="134136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宋体"/>
                </a:rPr>
                <a:t>A</a:t>
              </a:r>
              <a:r>
                <a:rPr b="1" lang="en-US" sz="2400" spc="-1" strike="noStrike" baseline="30000">
                  <a:solidFill>
                    <a:srgbClr val="ff0066"/>
                  </a:solidFill>
                  <a:latin typeface="宋体"/>
                </a:rPr>
                <a:t>/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76480" y="288000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宋体"/>
                </a:rPr>
                <a:t>B</a:t>
              </a:r>
              <a:r>
                <a:rPr b="1" lang="en-US" sz="2400" spc="-1" strike="noStrike" baseline="30000">
                  <a:solidFill>
                    <a:srgbClr val="ff0066"/>
                  </a:solidFill>
                  <a:latin typeface="宋体"/>
                </a:rPr>
                <a:t>/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224480" y="288000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宋体"/>
                </a:rPr>
                <a:t>C</a:t>
              </a:r>
              <a:r>
                <a:rPr b="1" lang="en-US" sz="2400" spc="-1" strike="noStrike" baseline="30000">
                  <a:solidFill>
                    <a:srgbClr val="ff0066"/>
                  </a:solidFill>
                  <a:latin typeface="宋体"/>
                </a:rPr>
                <a:t>/</a:t>
              </a:r>
              <a:endParaRPr b="0" lang="en-US" sz="24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235240" y="2759040"/>
            <a:ext cx="3908520" cy="360360"/>
            <a:chOff x="2235240" y="2759040"/>
            <a:chExt cx="3908520" cy="360360"/>
          </a:xfrm>
        </p:grpSpPr>
        <p:sp>
          <p:nvSpPr>
            <p:cNvPr id="331" name=""/>
            <p:cNvSpPr/>
            <p:nvPr/>
          </p:nvSpPr>
          <p:spPr>
            <a:xfrm>
              <a:off x="2235240" y="28321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43760" y="2759040"/>
              <a:ext cx="0" cy="2714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1402200" y="2664000"/>
            <a:ext cx="4021920" cy="645480"/>
            <a:chOff x="1402200" y="2664000"/>
            <a:chExt cx="4021920" cy="645480"/>
          </a:xfrm>
        </p:grpSpPr>
        <p:sp>
          <p:nvSpPr>
            <p:cNvPr id="334" name=""/>
            <p:cNvSpPr/>
            <p:nvPr/>
          </p:nvSpPr>
          <p:spPr>
            <a:xfrm>
              <a:off x="1402200" y="2735280"/>
              <a:ext cx="28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81560" y="2664000"/>
              <a:ext cx="14256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843280" y="2637000"/>
            <a:ext cx="4162320" cy="716760"/>
            <a:chOff x="2843280" y="2637000"/>
            <a:chExt cx="4162320" cy="716760"/>
          </a:xfrm>
        </p:grpSpPr>
        <p:grpSp>
          <p:nvGrpSpPr>
            <p:cNvPr id="337" name=""/>
            <p:cNvGrpSpPr/>
            <p:nvPr/>
          </p:nvGrpSpPr>
          <p:grpSpPr>
            <a:xfrm>
              <a:off x="2843280" y="2637000"/>
              <a:ext cx="431640" cy="716760"/>
              <a:chOff x="2843280" y="2637000"/>
              <a:chExt cx="431640" cy="716760"/>
            </a:xfrm>
          </p:grpSpPr>
          <p:sp>
            <p:nvSpPr>
              <p:cNvPr id="338" name=""/>
              <p:cNvSpPr/>
              <p:nvPr/>
            </p:nvSpPr>
            <p:spPr>
              <a:xfrm flipH="1">
                <a:off x="2987640" y="2779920"/>
                <a:ext cx="287280" cy="43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843280" y="2637000"/>
                <a:ext cx="288000" cy="716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792840" y="2637000"/>
              <a:ext cx="212760" cy="574200"/>
              <a:chOff x="6792840" y="2637000"/>
              <a:chExt cx="212760" cy="574200"/>
            </a:xfrm>
          </p:grpSpPr>
          <p:sp>
            <p:nvSpPr>
              <p:cNvPr id="341" name=""/>
              <p:cNvSpPr/>
              <p:nvPr/>
            </p:nvSpPr>
            <p:spPr>
              <a:xfrm flipH="1">
                <a:off x="6792840" y="2637000"/>
                <a:ext cx="141120" cy="57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6863760" y="2708280"/>
                <a:ext cx="141840" cy="431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"/>
          <p:cNvSpPr/>
          <p:nvPr/>
        </p:nvSpPr>
        <p:spPr>
          <a:xfrm>
            <a:off x="1476360" y="60786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C≌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´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ASA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50920" y="44280"/>
            <a:ext cx="8353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两个角及其夹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应相等的两个三角形全等。（简写成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角边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或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S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9280" y="3500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数学语言表示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118320" y="3573360"/>
            <a:ext cx="4549320" cy="2466720"/>
            <a:chOff x="3118320" y="3573360"/>
            <a:chExt cx="4549320" cy="2466720"/>
          </a:xfrm>
        </p:grpSpPr>
        <p:grpSp>
          <p:nvGrpSpPr>
            <p:cNvPr id="347" name=""/>
            <p:cNvGrpSpPr/>
            <p:nvPr/>
          </p:nvGrpSpPr>
          <p:grpSpPr>
            <a:xfrm>
              <a:off x="3165480" y="3573360"/>
              <a:ext cx="4502160" cy="2466720"/>
              <a:chOff x="3165480" y="3573360"/>
              <a:chExt cx="4502160" cy="2466720"/>
            </a:xfrm>
          </p:grpSpPr>
          <p:sp>
            <p:nvSpPr>
              <p:cNvPr id="348" name=""/>
              <p:cNvSpPr/>
              <p:nvPr/>
            </p:nvSpPr>
            <p:spPr>
              <a:xfrm>
                <a:off x="3165480" y="3573360"/>
                <a:ext cx="4502160" cy="246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在△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ABC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和△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A´B´C´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中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　  </a:t>
                </a:r>
                <a:r>
                  <a:rPr b="1" lang="el-GR" sz="2800" spc="-1" strike="noStrike">
                    <a:solidFill>
                      <a:srgbClr val="000000"/>
                    </a:solidFill>
                    <a:latin typeface="宋体"/>
                  </a:rPr>
                  <a:t>∠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B=</a:t>
                </a:r>
                <a:r>
                  <a:rPr b="1" lang="el-GR" sz="2800" spc="-1" strike="noStrike">
                    <a:solidFill>
                      <a:srgbClr val="000000"/>
                    </a:solidFill>
                    <a:latin typeface="宋体"/>
                  </a:rPr>
                  <a:t>∠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宋体"/>
                    <a:ea typeface="Arial"/>
                  </a:rPr>
                  <a:t>´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　　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BC= B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宋体"/>
                  </a:rPr>
                  <a:t>´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宋体"/>
                  </a:rPr>
                  <a:t>´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　　</a:t>
                </a:r>
                <a:r>
                  <a:rPr b="1" lang="el-GR" sz="2800" spc="-1" strike="noStrike">
                    <a:solidFill>
                      <a:srgbClr val="000000"/>
                    </a:solidFill>
                    <a:latin typeface="Arial"/>
                  </a:rPr>
                  <a:t>∠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C=</a:t>
                </a:r>
                <a:r>
                  <a:rPr b="1" lang="el-GR" sz="2800" spc="-1" strike="noStrike">
                    <a:solidFill>
                      <a:srgbClr val="000000"/>
                    </a:solidFill>
                    <a:latin typeface="Arial"/>
                  </a:rPr>
                  <a:t>∠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C´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778560" y="4437000"/>
                <a:ext cx="72720" cy="1512720"/>
              </a:xfrm>
              <a:custGeom>
                <a:avLst/>
                <a:gdLst>
                  <a:gd name="textAreaLeft" fmla="*/ 46440 w 72720"/>
                  <a:gd name="textAreaRight" fmla="*/ 73080 w 72720"/>
                  <a:gd name="textAreaTop" fmla="*/ 39240 h 1512720"/>
                  <a:gd name="textAreaBottom" fmla="*/ 1473480 h 1512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3118320" y="4759200"/>
              <a:ext cx="43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∵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4717800" y="1413000"/>
            <a:ext cx="4060800" cy="2443320"/>
            <a:chOff x="4717800" y="1413000"/>
            <a:chExt cx="4060800" cy="2443320"/>
          </a:xfrm>
        </p:grpSpPr>
        <p:sp>
          <p:nvSpPr>
            <p:cNvPr id="352" name=""/>
            <p:cNvSpPr/>
            <p:nvPr/>
          </p:nvSpPr>
          <p:spPr>
            <a:xfrm>
              <a:off x="5579640" y="1700280"/>
              <a:ext cx="2208240" cy="16520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6372000" y="1628280"/>
              <a:ext cx="2087640" cy="1580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579640" y="1700280"/>
              <a:ext cx="792360" cy="1510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5579640" y="1627200"/>
              <a:ext cx="2880000" cy="72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03640" y="3357360"/>
              <a:ext cx="27604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003640" y="1701720"/>
              <a:ext cx="552240" cy="16524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49440" y="1413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17800" y="32749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62320" y="3213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68720" y="28526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08880" y="1533600"/>
              <a:ext cx="36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64000" y="206064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011640" y="16272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66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0" y="189000"/>
            <a:ext cx="88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，已知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  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证：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C≌△AD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4000" y="3141720"/>
            <a:ext cx="56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DC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　　　　　　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71640" y="580536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 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C≌△AD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00720" y="5661000"/>
            <a:ext cx="39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SA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96760" y="155736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证明　　∵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已知）　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95600" y="2205000"/>
            <a:ext cx="48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31440" y="2781360"/>
            <a:ext cx="25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A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AE</a:t>
            </a:r>
            <a:r>
              <a:rPr b="1" lang="zh-CN" sz="1800" spc="-1" strike="noStrike">
                <a:solidFill>
                  <a:srgbClr val="006699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539640" y="3789360"/>
            <a:ext cx="4895640" cy="1818000"/>
            <a:chOff x="539640" y="3789360"/>
            <a:chExt cx="4895640" cy="1818000"/>
          </a:xfrm>
        </p:grpSpPr>
        <p:grpSp>
          <p:nvGrpSpPr>
            <p:cNvPr id="373" name=""/>
            <p:cNvGrpSpPr/>
            <p:nvPr/>
          </p:nvGrpSpPr>
          <p:grpSpPr>
            <a:xfrm>
              <a:off x="1258920" y="3789360"/>
              <a:ext cx="4176360" cy="1818000"/>
              <a:chOff x="1258920" y="3789360"/>
              <a:chExt cx="4176360" cy="1818000"/>
            </a:xfrm>
          </p:grpSpPr>
          <p:sp>
            <p:nvSpPr>
              <p:cNvPr id="374" name=""/>
              <p:cNvSpPr/>
              <p:nvPr/>
            </p:nvSpPr>
            <p:spPr>
              <a:xfrm>
                <a:off x="1258920" y="3989520"/>
                <a:ext cx="90720" cy="1600200"/>
              </a:xfrm>
              <a:custGeom>
                <a:avLst/>
                <a:gdLst>
                  <a:gd name="textAreaLeft" fmla="*/ 57960 w 90720"/>
                  <a:gd name="textAreaRight" fmla="*/ 91080 w 90720"/>
                  <a:gd name="textAreaTop" fmla="*/ 41400 h 1600200"/>
                  <a:gd name="textAreaBottom" fmla="*/ 1558800 h 160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344240" y="3789360"/>
                <a:ext cx="4091040" cy="181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∠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BAC=∠DAE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（已证）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AC=AE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（已知）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∠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C=∠E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（已知）</a:t>
                </a:r>
                <a:endParaRPr b="0" lang="en-US" sz="2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539640" y="4437000"/>
              <a:ext cx="6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∵</a:t>
              </a:r>
              <a:endParaRPr b="0" lang="en-US" sz="32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12:28:13Z</dcterms:created>
  <dc:creator/>
  <dc:description/>
  <dc:language>en-US</dc:language>
  <cp:lastModifiedBy/>
  <dcterms:modified xsi:type="dcterms:W3CDTF">2013-09-18T01:32:31Z</dcterms:modified>
  <cp:revision>67</cp:revision>
  <dc:subject/>
  <dc:title/>
</cp:coreProperties>
</file>