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chimes.wav" ContentType="audio/x-wav"/>
  <Override PartName="/ppt/media/image5.gif" ContentType="image/gif"/>
  <Override PartName="/ppt/media/image9.png" ContentType="image/png"/>
  <Override PartName="/ppt/media/image6.gif" ContentType="image/gif"/>
  <Override PartName="/ppt/media/image11.gif" ContentType="image/gif"/>
  <Override PartName="/ppt/media/image7.png" ContentType="image/png"/>
  <Override PartName="/ppt/media/image10.wmf" ContentType="image/x-wmf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739-53DF-4507-89E9-CEEF19F8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DE0-74FD-4966-B4ED-E8F14157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5A3-F296-4B45-86D4-B827157D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70C-06DF-4D1D-B90E-E8F34197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E67-F3D6-4F03-9D7A-4A99E9A4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783-EB28-4F13-A5B3-17268A90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2A1-1F7C-4E35-A5AF-EC3A6EB6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DFC-9A6B-4413-AF86-EE2BCCDF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6F4-4779-4579-BDD2-796DF1A4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05C-5C37-43DD-9512-01ABEC36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94F-B8A3-4D48-85B5-10AA93F8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DAA-E083-4775-A1CF-B48C98C5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BA1C-CF3E-49C2-A61A-F14DAF1A38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1844640"/>
            <a:ext cx="666144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1.4 </a:t>
            </a: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有理数的大小比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6845400" y="433404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40720" y="5229360"/>
            <a:ext cx="1008000" cy="988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68360" y="476280"/>
            <a:ext cx="2303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议一议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557360"/>
            <a:ext cx="7632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没有最小的正数？有没有最大的负数？   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没有绝对值最小的有理数？若有，请把它写出来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68360" y="981000"/>
            <a:ext cx="4608360" cy="1801800"/>
          </a:xfrm>
          <a:prstGeom prst="cloudCallout">
            <a:avLst>
              <a:gd name="adj1" fmla="val 75490"/>
              <a:gd name="adj2" fmla="val -1264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6920" y="1197000"/>
            <a:ext cx="388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今天你有什么收获</a:t>
            </a: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?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735280" cy="2708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672280" y="358632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有理数的大小比较有几条法则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2080" y="4233960"/>
            <a:ext cx="30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你觉得什么情况下运用法则比较简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么情况下利用数轴比较简单？说说你的想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0920" y="907920"/>
            <a:ext cx="6912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明在课外上书上看到一道练习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一个有理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比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大小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觉得太简单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上就得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&gt;-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结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小明是根据哪一条法则得出来的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说得有道理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 rot="5400000">
            <a:off x="6838920" y="118116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拓展与应用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5589720"/>
            <a:ext cx="16002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4000" y="404640"/>
            <a:ext cx="8532720" cy="5977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243" name=""/>
          <p:cNvSpPr/>
          <p:nvPr/>
        </p:nvSpPr>
        <p:spPr>
          <a:xfrm>
            <a:off x="2438280" y="149544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19640" y="1268280"/>
            <a:ext cx="3457440" cy="30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业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后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30200" y="344520"/>
            <a:ext cx="8893080" cy="2315160"/>
            <a:chOff x="430200" y="344520"/>
            <a:chExt cx="8893080" cy="2315160"/>
          </a:xfrm>
        </p:grpSpPr>
        <p:pic>
          <p:nvPicPr>
            <p:cNvPr id="44" name="cache" descr=""/>
            <p:cNvPicPr/>
            <p:nvPr/>
          </p:nvPicPr>
          <p:blipFill>
            <a:blip r:embed="rId1"/>
            <a:stretch/>
          </p:blipFill>
          <p:spPr>
            <a:xfrm>
              <a:off x="2087280" y="1036800"/>
              <a:ext cx="16192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cache" descr=""/>
            <p:cNvPicPr/>
            <p:nvPr/>
          </p:nvPicPr>
          <p:blipFill>
            <a:blip r:embed="rId2"/>
            <a:stretch/>
          </p:blipFill>
          <p:spPr>
            <a:xfrm>
              <a:off x="3887640" y="1036800"/>
              <a:ext cx="15238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cache" descr=""/>
            <p:cNvPicPr/>
            <p:nvPr/>
          </p:nvPicPr>
          <p:blipFill>
            <a:blip r:embed="rId3"/>
            <a:stretch/>
          </p:blipFill>
          <p:spPr>
            <a:xfrm>
              <a:off x="430200" y="1036800"/>
              <a:ext cx="14475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cache" descr=""/>
            <p:cNvPicPr/>
            <p:nvPr/>
          </p:nvPicPr>
          <p:blipFill>
            <a:blip r:embed="rId4"/>
            <a:stretch/>
          </p:blipFill>
          <p:spPr>
            <a:xfrm>
              <a:off x="5759280" y="1036800"/>
              <a:ext cx="13143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jr0911" descr=""/>
            <p:cNvPicPr/>
            <p:nvPr/>
          </p:nvPicPr>
          <p:blipFill>
            <a:blip r:embed="rId5"/>
            <a:stretch/>
          </p:blipFill>
          <p:spPr>
            <a:xfrm>
              <a:off x="7272360" y="1109520"/>
              <a:ext cx="14666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38200" y="344520"/>
              <a:ext cx="5759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0200" y="2260800"/>
              <a:ext cx="88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武汉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5 ℃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北京－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0℃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        上海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0℃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广州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10℃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哈尔滨－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20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403280" y="3888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比较两个城市之间气温的高低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01480" y="2708280"/>
          <a:ext cx="1190880" cy="3683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1480" y="2708280"/>
                    <a:ext cx="119088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873080" y="294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将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城市的气温从低到高排起来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6720" y="400536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将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城市气温表示在数轴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160720" y="3357720"/>
            <a:ext cx="5903280" cy="591840"/>
            <a:chOff x="2160720" y="3357720"/>
            <a:chExt cx="5903280" cy="591840"/>
          </a:xfrm>
        </p:grpSpPr>
        <p:sp>
          <p:nvSpPr>
            <p:cNvPr id="57" name=""/>
            <p:cNvSpPr/>
            <p:nvPr/>
          </p:nvSpPr>
          <p:spPr>
            <a:xfrm>
              <a:off x="2160720" y="3429000"/>
              <a:ext cx="12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20℃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&l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76720" y="3357720"/>
              <a:ext cx="20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 ℃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&lt;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97080" y="3429000"/>
              <a:ext cx="115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℃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&l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4360" y="3429000"/>
              <a:ext cx="15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0℃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&l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063880" y="5483160"/>
            <a:ext cx="6327720" cy="507240"/>
            <a:chOff x="2063880" y="5483160"/>
            <a:chExt cx="6327720" cy="507240"/>
          </a:xfrm>
        </p:grpSpPr>
        <p:sp>
          <p:nvSpPr>
            <p:cNvPr id="62" name=""/>
            <p:cNvSpPr/>
            <p:nvPr/>
          </p:nvSpPr>
          <p:spPr>
            <a:xfrm>
              <a:off x="8210520" y="5495760"/>
              <a:ext cx="181080" cy="77760"/>
            </a:xfrm>
            <a:custGeom>
              <a:avLst/>
              <a:gdLst/>
              <a:ahLst/>
              <a:rect l="l" t="t" r="r" b="b"/>
              <a:pathLst>
                <a:path w="114" h="49">
                  <a:moveTo>
                    <a:pt x="114" y="24"/>
                  </a:moveTo>
                  <a:lnTo>
                    <a:pt x="0" y="0"/>
                  </a:lnTo>
                  <a:lnTo>
                    <a:pt x="0" y="49"/>
                  </a:lnTo>
                  <a:lnTo>
                    <a:pt x="1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02360" y="5508720"/>
              <a:ext cx="63360" cy="6480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02360" y="5508720"/>
              <a:ext cx="63360" cy="64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75360" y="56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63880" y="5533920"/>
              <a:ext cx="6327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63880" y="5533920"/>
              <a:ext cx="1058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22640" y="548316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68800" y="548316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2360" y="548316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86320" y="5483160"/>
              <a:ext cx="1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57840" y="548316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67480" y="5599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1120" y="5483160"/>
              <a:ext cx="1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16600" y="5483160"/>
              <a:ext cx="1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32480" y="5483160"/>
              <a:ext cx="1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97280" y="5483160"/>
              <a:ext cx="1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62760" y="5483160"/>
              <a:ext cx="1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27560" y="5508720"/>
              <a:ext cx="65160" cy="64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917440" y="5486400"/>
            <a:ext cx="496080" cy="511560"/>
            <a:chOff x="2917440" y="5486400"/>
            <a:chExt cx="496080" cy="511560"/>
          </a:xfrm>
        </p:grpSpPr>
        <p:sp>
          <p:nvSpPr>
            <p:cNvPr id="81" name=""/>
            <p:cNvSpPr/>
            <p:nvPr/>
          </p:nvSpPr>
          <p:spPr>
            <a:xfrm>
              <a:off x="3076560" y="5486400"/>
              <a:ext cx="71640" cy="71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17440" y="5586120"/>
              <a:ext cx="496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Arial"/>
                </a:rPr>
                <a:t>-2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003200" y="5495760"/>
            <a:ext cx="535680" cy="548640"/>
            <a:chOff x="4003200" y="5495760"/>
            <a:chExt cx="535680" cy="548640"/>
          </a:xfrm>
        </p:grpSpPr>
        <p:sp>
          <p:nvSpPr>
            <p:cNvPr id="84" name=""/>
            <p:cNvSpPr/>
            <p:nvPr/>
          </p:nvSpPr>
          <p:spPr>
            <a:xfrm>
              <a:off x="4157280" y="54957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3200" y="5602320"/>
              <a:ext cx="5356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0000"/>
                  </a:solidFill>
                  <a:latin typeface="Arial"/>
                </a:rPr>
                <a:t>-1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157800" y="5486400"/>
            <a:ext cx="381600" cy="511920"/>
            <a:chOff x="6157800" y="5486400"/>
            <a:chExt cx="381600" cy="511920"/>
          </a:xfrm>
        </p:grpSpPr>
        <p:sp>
          <p:nvSpPr>
            <p:cNvPr id="87" name=""/>
            <p:cNvSpPr/>
            <p:nvPr/>
          </p:nvSpPr>
          <p:spPr>
            <a:xfrm>
              <a:off x="6215040" y="5486400"/>
              <a:ext cx="73080" cy="71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57800" y="5586480"/>
              <a:ext cx="381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653080" y="5486400"/>
            <a:ext cx="191160" cy="511920"/>
            <a:chOff x="5653080" y="5486400"/>
            <a:chExt cx="191160" cy="511920"/>
          </a:xfrm>
        </p:grpSpPr>
        <p:sp>
          <p:nvSpPr>
            <p:cNvPr id="90" name=""/>
            <p:cNvSpPr/>
            <p:nvPr/>
          </p:nvSpPr>
          <p:spPr>
            <a:xfrm>
              <a:off x="5710320" y="5486400"/>
              <a:ext cx="73080" cy="71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53080" y="558648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413080" y="4535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哈尔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5440" y="4535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1080" y="4535640"/>
            <a:ext cx="93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4535640"/>
            <a:ext cx="10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广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4535640"/>
            <a:ext cx="107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武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 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14440" y="1568520"/>
            <a:ext cx="6327360" cy="507240"/>
            <a:chOff x="1414440" y="1568520"/>
            <a:chExt cx="6327360" cy="507240"/>
          </a:xfrm>
        </p:grpSpPr>
        <p:sp>
          <p:nvSpPr>
            <p:cNvPr id="98" name=""/>
            <p:cNvSpPr/>
            <p:nvPr/>
          </p:nvSpPr>
          <p:spPr>
            <a:xfrm>
              <a:off x="7561080" y="1581120"/>
              <a:ext cx="180720" cy="77760"/>
            </a:xfrm>
            <a:custGeom>
              <a:avLst/>
              <a:gdLst/>
              <a:ahLst/>
              <a:rect l="l" t="t" r="r" b="b"/>
              <a:pathLst>
                <a:path w="114" h="49">
                  <a:moveTo>
                    <a:pt x="114" y="24"/>
                  </a:moveTo>
                  <a:lnTo>
                    <a:pt x="0" y="0"/>
                  </a:lnTo>
                  <a:lnTo>
                    <a:pt x="0" y="49"/>
                  </a:lnTo>
                  <a:lnTo>
                    <a:pt x="1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52920" y="1594080"/>
              <a:ext cx="63000" cy="64800"/>
            </a:xfrm>
            <a:prstGeom prst="ellipse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52920" y="1594080"/>
              <a:ext cx="63000" cy="64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5920" y="17096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14440" y="1619280"/>
              <a:ext cx="6327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14440" y="1619280"/>
              <a:ext cx="1058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73200" y="1568520"/>
              <a:ext cx="1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19360" y="1568520"/>
              <a:ext cx="1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42920" y="1568520"/>
              <a:ext cx="1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36880" y="156852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08400" y="1568520"/>
              <a:ext cx="1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8040" y="1684440"/>
              <a:ext cx="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01680" y="156852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67160" y="156852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83040" y="156852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47840" y="156852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13320" y="156852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8120" y="1594080"/>
              <a:ext cx="64800" cy="64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68000" y="1571760"/>
            <a:ext cx="496080" cy="511560"/>
            <a:chOff x="2268000" y="1571760"/>
            <a:chExt cx="496080" cy="511560"/>
          </a:xfrm>
        </p:grpSpPr>
        <p:sp>
          <p:nvSpPr>
            <p:cNvPr id="117" name=""/>
            <p:cNvSpPr/>
            <p:nvPr/>
          </p:nvSpPr>
          <p:spPr>
            <a:xfrm>
              <a:off x="2427120" y="1571760"/>
              <a:ext cx="71640" cy="71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8000" y="1671480"/>
              <a:ext cx="496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Arial"/>
                </a:rPr>
                <a:t>-2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354120" y="1581120"/>
            <a:ext cx="535680" cy="548640"/>
            <a:chOff x="3354120" y="1581120"/>
            <a:chExt cx="535680" cy="548640"/>
          </a:xfrm>
        </p:grpSpPr>
        <p:sp>
          <p:nvSpPr>
            <p:cNvPr id="120" name=""/>
            <p:cNvSpPr/>
            <p:nvPr/>
          </p:nvSpPr>
          <p:spPr>
            <a:xfrm>
              <a:off x="3508200" y="1581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4120" y="1687680"/>
              <a:ext cx="5356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0000"/>
                  </a:solidFill>
                  <a:latin typeface="Arial"/>
                </a:rPr>
                <a:t>-1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508360" y="1571760"/>
            <a:ext cx="381600" cy="511920"/>
            <a:chOff x="5508360" y="1571760"/>
            <a:chExt cx="381600" cy="511920"/>
          </a:xfrm>
        </p:grpSpPr>
        <p:sp>
          <p:nvSpPr>
            <p:cNvPr id="123" name=""/>
            <p:cNvSpPr/>
            <p:nvPr/>
          </p:nvSpPr>
          <p:spPr>
            <a:xfrm>
              <a:off x="5565600" y="1571760"/>
              <a:ext cx="73080" cy="71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8360" y="1671840"/>
              <a:ext cx="381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003640" y="1571760"/>
            <a:ext cx="191160" cy="511920"/>
            <a:chOff x="5003640" y="1571760"/>
            <a:chExt cx="191160" cy="511920"/>
          </a:xfrm>
        </p:grpSpPr>
        <p:sp>
          <p:nvSpPr>
            <p:cNvPr id="126" name=""/>
            <p:cNvSpPr/>
            <p:nvPr/>
          </p:nvSpPr>
          <p:spPr>
            <a:xfrm>
              <a:off x="5060880" y="1571760"/>
              <a:ext cx="73080" cy="71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03640" y="167184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82920" y="882720"/>
            <a:ext cx="3352680" cy="459720"/>
            <a:chOff x="4282920" y="882720"/>
            <a:chExt cx="3352680" cy="459720"/>
          </a:xfrm>
        </p:grpSpPr>
        <p:sp>
          <p:nvSpPr>
            <p:cNvPr id="129" name=""/>
            <p:cNvSpPr/>
            <p:nvPr/>
          </p:nvSpPr>
          <p:spPr>
            <a:xfrm>
              <a:off x="4282920" y="1339920"/>
              <a:ext cx="3352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21000" y="882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越 来 越 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35680" y="2995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06760" y="32846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6040" y="2995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85960" y="3098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76480" y="3098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71560" y="3098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19680" y="3098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48480" y="3098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0600" y="29955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4000" y="1700280"/>
            <a:ext cx="8381880" cy="2086920"/>
            <a:chOff x="324000" y="1700280"/>
            <a:chExt cx="8381880" cy="2086920"/>
          </a:xfrm>
        </p:grpSpPr>
        <p:sp>
          <p:nvSpPr>
            <p:cNvPr id="141" name=""/>
            <p:cNvSpPr/>
            <p:nvPr/>
          </p:nvSpPr>
          <p:spPr>
            <a:xfrm>
              <a:off x="324000" y="1700280"/>
              <a:ext cx="8381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238400" y="3071880"/>
              <a:ext cx="7162560" cy="715320"/>
              <a:chOff x="1238400" y="3071880"/>
              <a:chExt cx="7162560" cy="7153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238400" y="3071880"/>
                <a:ext cx="7162560" cy="715320"/>
                <a:chOff x="1238400" y="3071880"/>
                <a:chExt cx="7162560" cy="715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238400" y="3327480"/>
                  <a:ext cx="7162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-5   -4    -3   -2   -1    </a:t>
                  </a:r>
                  <a:r>
                    <a:rPr b="1" lang="en-US" sz="2400" spc="-1" strike="noStrike">
                      <a:solidFill>
                        <a:srgbClr val="ff3300"/>
                      </a:solidFill>
                      <a:latin typeface="Tahoma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0    1     2     3     4</a:t>
                  </a:r>
                  <a:r>
                    <a:rPr b="1" lang="en-US" sz="2400" spc="-1" strike="noStrike">
                      <a:solidFill>
                        <a:srgbClr val="ff3300"/>
                      </a:solidFill>
                      <a:latin typeface="Tahoma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    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1366560" y="3071880"/>
                  <a:ext cx="6805080" cy="271440"/>
                  <a:chOff x="1366560" y="3071880"/>
                  <a:chExt cx="6805080" cy="2714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389960" y="3251160"/>
                    <a:ext cx="67816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911280" y="30718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438080" y="30988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591640" y="30718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200200" y="31752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809680" y="31752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958560" y="3171960"/>
                    <a:ext cx="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371400" y="31752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761560" y="3175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408000" y="3171960"/>
                    <a:ext cx="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152080" y="3175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152080" y="31752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542600" y="3171960"/>
                    <a:ext cx="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638480" y="31752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847160" y="3175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4895280" y="3175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724080" y="31752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366560" y="30988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"/>
              <p:cNvGrpSpPr/>
              <p:nvPr/>
            </p:nvGrpSpPr>
            <p:grpSpPr>
              <a:xfrm>
                <a:off x="1390320" y="3121200"/>
                <a:ext cx="6781680" cy="103320"/>
                <a:chOff x="1390320" y="3121200"/>
                <a:chExt cx="6781680" cy="1033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390320" y="3224520"/>
                  <a:ext cx="6781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200200" y="31482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809680" y="31482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58560" y="31449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371400" y="31482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408000" y="31449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42600" y="31449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38480" y="31482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761560" y="31212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90360" y="31212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029000" y="31212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2152800" y="2538360"/>
              <a:ext cx="4572000" cy="581400"/>
              <a:chOff x="2152800" y="2538360"/>
              <a:chExt cx="4572000" cy="581400"/>
            </a:xfrm>
          </p:grpSpPr>
          <p:sp>
            <p:nvSpPr>
              <p:cNvPr id="177" name=""/>
              <p:cNvSpPr/>
              <p:nvPr/>
            </p:nvSpPr>
            <p:spPr>
              <a:xfrm>
                <a:off x="2152800" y="2538360"/>
                <a:ext cx="457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小                               大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67200" y="2843280"/>
                <a:ext cx="2971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403200" y="4365720"/>
            <a:ext cx="87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数轴上表示的两个数，右边的数总比左边的数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35640" y="5084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数都大于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4720" y="5157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负数都小于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86040" y="5734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数大于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457200"/>
            <a:ext cx="8210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数轴上表示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并比较它们的大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它们按从小到大的顺序用“＜”连接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468360" y="574560"/>
            <a:ext cx="7696080" cy="1373760"/>
            <a:chOff x="468360" y="574560"/>
            <a:chExt cx="7696080" cy="1373760"/>
          </a:xfrm>
        </p:grpSpPr>
        <p:sp>
          <p:nvSpPr>
            <p:cNvPr id="185" name=""/>
            <p:cNvSpPr/>
            <p:nvPr/>
          </p:nvSpPr>
          <p:spPr>
            <a:xfrm>
              <a:off x="468360" y="57456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比较下列每对数的大小，并说明理由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360" y="136692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；    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0.00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0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40360" y="1150920"/>
                <a:ext cx="14605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与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0160" y="47628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1be3d"/>
                  </a:solidFill>
                  <a:miter/>
                </a:ln>
                <a:solidFill>
                  <a:srgbClr val="fbfb11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一起试一试</a:t>
            </a:r>
            <a:endParaRPr b="0" lang="en-US" sz="1800" spc="1" strike="noStrike">
              <a:ln w="12600">
                <a:solidFill>
                  <a:srgbClr val="f1be3d"/>
                </a:solidFill>
                <a:miter/>
              </a:ln>
              <a:solidFill>
                <a:srgbClr val="fbfb11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9" name=""/>
          <p:cNvSpPr/>
          <p:nvPr/>
        </p:nvSpPr>
        <p:spPr>
          <a:xfrm>
            <a:off x="1303200" y="1413000"/>
            <a:ext cx="26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从小到大的顺序用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号连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7920" y="21337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32040" y="4097160"/>
            <a:ext cx="41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，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180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7&lt;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&lt;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1800" y="4581360"/>
            <a:ext cx="4392720" cy="1028880"/>
            <a:chOff x="361800" y="4581360"/>
            <a:chExt cx="4392720" cy="1028880"/>
          </a:xfrm>
        </p:grpSpPr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765080" y="4581360"/>
                  <a:ext cx="571680" cy="102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5" name=""/>
            <p:cNvSpPr/>
            <p:nvPr/>
          </p:nvSpPr>
          <p:spPr>
            <a:xfrm>
              <a:off x="361800" y="4869000"/>
              <a:ext cx="439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4    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&lt;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0" lang="zh-CN" sz="2800" spc="-1" strike="noStrike">
                  <a:solidFill>
                    <a:srgbClr val="ff3300"/>
                  </a:solidFill>
                  <a:latin typeface="Arial"/>
                </a:rPr>
                <a:t>2&lt;0&lt;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062160" y="3860640"/>
                <a:ext cx="5716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419640" y="1268280"/>
            <a:ext cx="5724360" cy="518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916360" y="333360"/>
            <a:ext cx="792000" cy="644400"/>
            <a:chOff x="2916360" y="333360"/>
            <a:chExt cx="792000" cy="644400"/>
          </a:xfrm>
        </p:grpSpPr>
        <p:sp>
          <p:nvSpPr>
            <p:cNvPr id="199" name=""/>
            <p:cNvSpPr/>
            <p:nvPr/>
          </p:nvSpPr>
          <p:spPr>
            <a:xfrm>
              <a:off x="2916360" y="333360"/>
              <a:ext cx="792000" cy="644400"/>
            </a:xfrm>
            <a:prstGeom prst="ellipse">
              <a:avLst/>
            </a:prstGeom>
            <a:solidFill>
              <a:srgbClr val="ff0000">
                <a:alpha val="45000"/>
              </a:srgbClr>
            </a:solidFill>
            <a:ln w="9360">
              <a:solidFill>
                <a:srgbClr val="fbfb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9080" y="333360"/>
              <a:ext cx="61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395280" y="333360"/>
            <a:ext cx="23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1be3d"/>
                  </a:solidFill>
                  <a:miter/>
                </a:ln>
                <a:solidFill>
                  <a:srgbClr val="fbfb11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过关斩将</a:t>
            </a:r>
            <a:endParaRPr b="0" lang="en-US" sz="1800" spc="1" strike="noStrike">
              <a:ln w="12600">
                <a:solidFill>
                  <a:srgbClr val="f1be3d"/>
                </a:solidFill>
                <a:miter/>
              </a:ln>
              <a:solidFill>
                <a:srgbClr val="fbfb11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2" name=""/>
          <p:cNvSpPr/>
          <p:nvPr/>
        </p:nvSpPr>
        <p:spPr>
          <a:xfrm>
            <a:off x="3995640" y="1341360"/>
            <a:ext cx="3889440" cy="311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   - 8____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924360" y="2637000"/>
            <a:ext cx="3053880" cy="647280"/>
            <a:chOff x="3924360" y="2637000"/>
            <a:chExt cx="3053880" cy="64728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4854960" y="2637000"/>
                  <a:ext cx="2123280" cy="64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____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3924360" y="2673720"/>
              <a:ext cx="74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 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924360" y="4076640"/>
            <a:ext cx="2666880" cy="885600"/>
            <a:chOff x="3924360" y="4076640"/>
            <a:chExt cx="2666880" cy="885600"/>
          </a:xfrm>
        </p:grpSpPr>
        <p:sp>
          <p:nvSpPr>
            <p:cNvPr id="207" name=""/>
            <p:cNvSpPr/>
            <p:nvPr/>
          </p:nvSpPr>
          <p:spPr>
            <a:xfrm>
              <a:off x="3924360" y="42764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3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4762440" y="4076640"/>
                  <a:ext cx="182880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____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9" name=""/>
          <p:cNvSpPr/>
          <p:nvPr/>
        </p:nvSpPr>
        <p:spPr>
          <a:xfrm>
            <a:off x="5364000" y="1268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6000" y="26528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08720" y="407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79280" y="189000"/>
            <a:ext cx="23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1be3d"/>
                  </a:solidFill>
                  <a:miter/>
                </a:ln>
                <a:solidFill>
                  <a:srgbClr val="fbfb11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过关斩将</a:t>
            </a:r>
            <a:endParaRPr b="0" lang="en-US" sz="1800" spc="1" strike="noStrike">
              <a:ln w="12600">
                <a:solidFill>
                  <a:srgbClr val="f1be3d"/>
                </a:solidFill>
                <a:miter/>
              </a:ln>
              <a:solidFill>
                <a:srgbClr val="fbfb11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1773360"/>
            <a:ext cx="633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绝对值最小的有理数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绝对值最小的自然数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绝对值最小的负整数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771640" y="260280"/>
            <a:ext cx="792000" cy="644760"/>
            <a:chOff x="2771640" y="260280"/>
            <a:chExt cx="792000" cy="644760"/>
          </a:xfrm>
        </p:grpSpPr>
        <p:sp>
          <p:nvSpPr>
            <p:cNvPr id="215" name=""/>
            <p:cNvSpPr/>
            <p:nvPr/>
          </p:nvSpPr>
          <p:spPr>
            <a:xfrm>
              <a:off x="2771640" y="260280"/>
              <a:ext cx="792000" cy="644760"/>
            </a:xfrm>
            <a:prstGeom prst="ellipse">
              <a:avLst/>
            </a:prstGeom>
            <a:solidFill>
              <a:srgbClr val="ff0000">
                <a:alpha val="45000"/>
              </a:srgbClr>
            </a:solidFill>
            <a:ln w="9360">
              <a:solidFill>
                <a:srgbClr val="fbfb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44360" y="260280"/>
              <a:ext cx="61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27640" y="1700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2276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2997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68360" y="189000"/>
            <a:ext cx="2303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9933"/>
                  </a:solidFill>
                  <a:miter/>
                </a:ln>
                <a:solidFill>
                  <a:srgbClr val="fbfb11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过关斩将</a:t>
            </a:r>
            <a:endParaRPr b="0" lang="en-US" sz="1800" spc="1" strike="noStrike">
              <a:ln w="12600">
                <a:solidFill>
                  <a:srgbClr val="ff9933"/>
                </a:solidFill>
                <a:miter/>
              </a:ln>
              <a:solidFill>
                <a:srgbClr val="fbfb11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333360"/>
            <a:ext cx="6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1268280"/>
            <a:ext cx="691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大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负整数有几个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43280" y="333360"/>
            <a:ext cx="792000" cy="644400"/>
            <a:chOff x="2843280" y="333360"/>
            <a:chExt cx="792000" cy="644400"/>
          </a:xfrm>
        </p:grpSpPr>
        <p:sp>
          <p:nvSpPr>
            <p:cNvPr id="224" name=""/>
            <p:cNvSpPr/>
            <p:nvPr/>
          </p:nvSpPr>
          <p:spPr>
            <a:xfrm>
              <a:off x="2843280" y="333360"/>
              <a:ext cx="792000" cy="644400"/>
            </a:xfrm>
            <a:prstGeom prst="ellipse">
              <a:avLst/>
            </a:prstGeom>
            <a:solidFill>
              <a:srgbClr val="ff0000">
                <a:alpha val="45000"/>
              </a:srgbClr>
            </a:solidFill>
            <a:ln w="9360">
              <a:solidFill>
                <a:srgbClr val="fbfb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16000" y="333360"/>
              <a:ext cx="61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隶书"/>
                </a:rPr>
                <a:t>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050920" y="371628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1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95640" y="2276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-3,-2,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5445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-3,-2,-1,0,1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1360" y="2924280"/>
            <a:ext cx="34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小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正整数有几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53120" y="4653000"/>
            <a:ext cx="43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大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小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整数有几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02:32:23Z</dcterms:created>
  <dc:creator/>
  <dc:description/>
  <cp:keywords/>
  <dc:language>en-US</dc:language>
  <cp:lastModifiedBy>大地系统</cp:lastModifiedBy>
  <dcterms:modified xsi:type="dcterms:W3CDTF">2015-09-08T15:40:53Z</dcterms:modified>
  <cp:revision>15</cp:revision>
  <dc:subject/>
  <dc:title>幻灯片 1</dc:title>
</cp:coreProperties>
</file>