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  <p:custShowLst>
    <p:custShow name="自定义放映 1" id="0">
      <p:sldLst>
        <p:sld r:id="rId13"/>
      </p:sldLst>
    </p:custShow>
    <p:custShow name="自定义放映 2" id="1">
      <p:sldLst>
        <p:sld r:id="rId14"/>
      </p:sldLst>
    </p:custShow>
    <p:custShow name="自定义放映 3" id="2">
      <p:sldLst>
        <p:sld r:id="rId15"/>
      </p:sldLst>
    </p:custShow>
    <p:custShow name="自定义放映 4" id="3">
      <p:sldLst>
        <p:sld r:id="rId16"/>
      </p:sldLst>
    </p:custShow>
    <p:custShow name="自定义放映 5" id="4">
      <p:sldLst>
        <p:sld r:id="rId17"/>
      </p:sldLst>
    </p:custShow>
    <p:custShow name="自定义放映 6" id="5">
      <p:sldLst>
        <p:sld r:id="rId18"/>
      </p:sldLst>
    </p:custShow>
    <p:custShow name="自定义放映 7" id="6">
      <p:sldLst>
        <p:sld r:id="rId19"/>
      </p:sldLst>
    </p:custShow>
    <p:custShow name="自定义放映 9" id="7">
      <p:sldLst>
        <p:sld r:id="rId12"/>
      </p:sldLst>
    </p:custShow>
    <p:custShow name="自定义放映 10" id="8">
      <p:sldLst>
        <p:sld r:id="rId21"/>
      </p:sldLst>
    </p:custShow>
    <p:custShow name="自定义放映 11" id="9">
      <p:sldLst>
        <p:sld r:id="rId11"/>
      </p:sldLst>
    </p:custShow>
    <p:custShow name="自定义放映 12" id="10">
      <p:sldLst>
        <p:sld r:id="rId6"/>
        <p:sld r:id="rId7"/>
        <p:sld r:id="rId8"/>
        <p:sld r:id="rId9"/>
      </p:sldLst>
    </p:custShow>
    <p:custShow name="自定义放映 13" id="11">
      <p:sldLst>
        <p:sld r:id="rId10"/>
      </p:sldLst>
    </p:custShow>
    <p:custShow name="自定义放映 14" id="12">
      <p:sldLst>
        <p:sld r:id="rId5"/>
      </p:sldLst>
    </p:custShow>
    <p:custShow name="自定义放映 15" id="13">
      <p:sldLst>
        <p:sld r:id="rId12"/>
        <p:sld r:id="rId13"/>
        <p:sld r:id="rId14"/>
        <p:sld r:id="rId15"/>
        <p:sld r:id="rId16"/>
        <p:sld r:id="rId17"/>
        <p:sld r:id="rId18"/>
        <p:sld r:id="rId19"/>
      </p:sldLst>
    </p:custShow>
    <p:custShow name="自定义放映 8" id="14">
      <p:sldLst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</p:sldLst>
    </p:custShow>
    <p:custShow name="自定义放映 16" id="15">
      <p:sldLst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F015-27B9-4097-9B89-4DA5A04B4B2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19320" y="1523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143000" y="3886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胡定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成都盐道街小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ED2-AAA0-4E95-B760-9C7C29C3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2D0-D922-4E4F-9693-0D646D6D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786-9570-41F1-968C-083B7A66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496-8151-4896-A7C9-FFA1E918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CBD-CC6D-4264-8C8D-7299D32D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916-B5D0-4846-BA5F-C1E56B74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C98-41AF-45BF-90B6-8686AA50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325-53A5-4E44-B0F6-1168FE27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900-A565-470D-AAC2-8F55427B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532-9FC9-4F78-B4C1-BA2B752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939-D4BE-4FF6-9A97-C1B1D47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A43-C451-4DBC-94B6-764FF58F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C42F-8728-4B00-8350-AC611833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成都市盐道街小学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6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  </a:t>
            </a: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小学数学 第一册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62320" y="3124080"/>
            <a:ext cx="4305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8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228600"/>
            <a:ext cx="1066680" cy="12193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6203880" y="3625560"/>
            <a:ext cx="420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成都市盐道街小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-1644480" y="3549600"/>
            <a:ext cx="420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成都市盐道街小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9320" y="3124080"/>
            <a:ext cx="4305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8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3048120"/>
            <a:ext cx="4305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8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0120" y="380880"/>
            <a:ext cx="15238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tar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09680" y="990720"/>
            <a:ext cx="762120" cy="838080"/>
            <a:chOff x="2209680" y="990720"/>
            <a:chExt cx="762120" cy="838080"/>
          </a:xfrm>
        </p:grpSpPr>
        <p:sp>
          <p:nvSpPr>
            <p:cNvPr id="155" name=""/>
            <p:cNvSpPr/>
            <p:nvPr/>
          </p:nvSpPr>
          <p:spPr>
            <a:xfrm>
              <a:off x="22096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71600" y="990720"/>
            <a:ext cx="762120" cy="838080"/>
            <a:chOff x="1371600" y="990720"/>
            <a:chExt cx="762120" cy="838080"/>
          </a:xfrm>
        </p:grpSpPr>
        <p:sp>
          <p:nvSpPr>
            <p:cNvPr id="158" name=""/>
            <p:cNvSpPr/>
            <p:nvPr/>
          </p:nvSpPr>
          <p:spPr>
            <a:xfrm>
              <a:off x="13716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" y="990720"/>
            <a:ext cx="762120" cy="838080"/>
            <a:chOff x="457200" y="990720"/>
            <a:chExt cx="762120" cy="838080"/>
          </a:xfrm>
        </p:grpSpPr>
        <p:sp>
          <p:nvSpPr>
            <p:cNvPr id="161" name=""/>
            <p:cNvSpPr/>
            <p:nvPr/>
          </p:nvSpPr>
          <p:spPr>
            <a:xfrm>
              <a:off x="4572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24080" y="990720"/>
            <a:ext cx="762120" cy="838080"/>
            <a:chOff x="3124080" y="990720"/>
            <a:chExt cx="762120" cy="838080"/>
          </a:xfrm>
        </p:grpSpPr>
        <p:sp>
          <p:nvSpPr>
            <p:cNvPr id="164" name=""/>
            <p:cNvSpPr/>
            <p:nvPr/>
          </p:nvSpPr>
          <p:spPr>
            <a:xfrm>
              <a:off x="31240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40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62520" y="990720"/>
            <a:ext cx="761760" cy="838080"/>
            <a:chOff x="3962520" y="990720"/>
            <a:chExt cx="761760" cy="838080"/>
          </a:xfrm>
        </p:grpSpPr>
        <p:sp>
          <p:nvSpPr>
            <p:cNvPr id="167" name=""/>
            <p:cNvSpPr/>
            <p:nvPr/>
          </p:nvSpPr>
          <p:spPr>
            <a:xfrm>
              <a:off x="39625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25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477120" y="990720"/>
            <a:ext cx="761760" cy="838080"/>
            <a:chOff x="6477120" y="990720"/>
            <a:chExt cx="761760" cy="838080"/>
          </a:xfrm>
        </p:grpSpPr>
        <p:sp>
          <p:nvSpPr>
            <p:cNvPr id="170" name=""/>
            <p:cNvSpPr/>
            <p:nvPr/>
          </p:nvSpPr>
          <p:spPr>
            <a:xfrm>
              <a:off x="64771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771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800600" y="990720"/>
            <a:ext cx="762120" cy="838080"/>
            <a:chOff x="4800600" y="990720"/>
            <a:chExt cx="762120" cy="838080"/>
          </a:xfrm>
        </p:grpSpPr>
        <p:sp>
          <p:nvSpPr>
            <p:cNvPr id="173" name=""/>
            <p:cNvSpPr/>
            <p:nvPr/>
          </p:nvSpPr>
          <p:spPr>
            <a:xfrm>
              <a:off x="48006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638680" y="990720"/>
            <a:ext cx="762120" cy="838080"/>
            <a:chOff x="5638680" y="990720"/>
            <a:chExt cx="762120" cy="838080"/>
          </a:xfrm>
        </p:grpSpPr>
        <p:sp>
          <p:nvSpPr>
            <p:cNvPr id="176" name=""/>
            <p:cNvSpPr/>
            <p:nvPr/>
          </p:nvSpPr>
          <p:spPr>
            <a:xfrm>
              <a:off x="56386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48120" y="1905120"/>
            <a:ext cx="2514600" cy="2057400"/>
            <a:chOff x="3048120" y="1905120"/>
            <a:chExt cx="2514600" cy="2057400"/>
          </a:xfrm>
        </p:grpSpPr>
        <p:sp>
          <p:nvSpPr>
            <p:cNvPr id="179" name=""/>
            <p:cNvSpPr txBox="1"/>
            <p:nvPr/>
          </p:nvSpPr>
          <p:spPr>
            <a:xfrm>
              <a:off x="4038840" y="190512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8120" y="28195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28195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2666880" y="40384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257800" y="403848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52680" y="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的组成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"/>
          <p:cNvSpPr/>
          <p:nvPr/>
        </p:nvSpPr>
        <p:spPr>
          <a:xfrm>
            <a:off x="876312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705720" y="990720"/>
            <a:ext cx="761760" cy="838080"/>
            <a:chOff x="6705720" y="990720"/>
            <a:chExt cx="761760" cy="838080"/>
          </a:xfrm>
        </p:grpSpPr>
        <p:sp>
          <p:nvSpPr>
            <p:cNvPr id="187" name=""/>
            <p:cNvSpPr/>
            <p:nvPr/>
          </p:nvSpPr>
          <p:spPr>
            <a:xfrm>
              <a:off x="67057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934320" y="990720"/>
            <a:ext cx="761760" cy="838080"/>
            <a:chOff x="6934320" y="990720"/>
            <a:chExt cx="761760" cy="838080"/>
          </a:xfrm>
        </p:grpSpPr>
        <p:sp>
          <p:nvSpPr>
            <p:cNvPr id="190" name=""/>
            <p:cNvSpPr/>
            <p:nvPr/>
          </p:nvSpPr>
          <p:spPr>
            <a:xfrm>
              <a:off x="69343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162920" y="990720"/>
            <a:ext cx="761760" cy="838080"/>
            <a:chOff x="7162920" y="990720"/>
            <a:chExt cx="761760" cy="838080"/>
          </a:xfrm>
        </p:grpSpPr>
        <p:sp>
          <p:nvSpPr>
            <p:cNvPr id="193" name=""/>
            <p:cNvSpPr/>
            <p:nvPr/>
          </p:nvSpPr>
          <p:spPr>
            <a:xfrm>
              <a:off x="71629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2920" y="10465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467480" y="990720"/>
            <a:ext cx="762120" cy="838080"/>
            <a:chOff x="7467480" y="990720"/>
            <a:chExt cx="762120" cy="838080"/>
          </a:xfrm>
        </p:grpSpPr>
        <p:sp>
          <p:nvSpPr>
            <p:cNvPr id="196" name=""/>
            <p:cNvSpPr/>
            <p:nvPr/>
          </p:nvSpPr>
          <p:spPr>
            <a:xfrm>
              <a:off x="74674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6748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001000" y="990720"/>
            <a:ext cx="762120" cy="838080"/>
            <a:chOff x="8001000" y="990720"/>
            <a:chExt cx="762120" cy="838080"/>
          </a:xfrm>
        </p:grpSpPr>
        <p:sp>
          <p:nvSpPr>
            <p:cNvPr id="199" name=""/>
            <p:cNvSpPr/>
            <p:nvPr/>
          </p:nvSpPr>
          <p:spPr>
            <a:xfrm>
              <a:off x="80010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1000" y="10465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29200" y="3809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391520" y="39625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495680" y="685800"/>
            <a:ext cx="762120" cy="838080"/>
            <a:chOff x="4495680" y="685800"/>
            <a:chExt cx="762120" cy="838080"/>
          </a:xfrm>
        </p:grpSpPr>
        <p:sp>
          <p:nvSpPr>
            <p:cNvPr id="206" name=""/>
            <p:cNvSpPr/>
            <p:nvPr/>
          </p:nvSpPr>
          <p:spPr>
            <a:xfrm>
              <a:off x="4495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657600" y="685800"/>
            <a:ext cx="762120" cy="838080"/>
            <a:chOff x="3657600" y="685800"/>
            <a:chExt cx="762120" cy="838080"/>
          </a:xfrm>
        </p:grpSpPr>
        <p:sp>
          <p:nvSpPr>
            <p:cNvPr id="209" name=""/>
            <p:cNvSpPr/>
            <p:nvPr/>
          </p:nvSpPr>
          <p:spPr>
            <a:xfrm>
              <a:off x="3657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576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743200" y="685800"/>
            <a:ext cx="762120" cy="838080"/>
            <a:chOff x="2743200" y="685800"/>
            <a:chExt cx="762120" cy="838080"/>
          </a:xfrm>
        </p:grpSpPr>
        <p:sp>
          <p:nvSpPr>
            <p:cNvPr id="212" name=""/>
            <p:cNvSpPr/>
            <p:nvPr/>
          </p:nvSpPr>
          <p:spPr>
            <a:xfrm>
              <a:off x="2743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32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10080" y="685800"/>
            <a:ext cx="762120" cy="838080"/>
            <a:chOff x="5410080" y="685800"/>
            <a:chExt cx="762120" cy="838080"/>
          </a:xfrm>
        </p:grpSpPr>
        <p:sp>
          <p:nvSpPr>
            <p:cNvPr id="215" name=""/>
            <p:cNvSpPr/>
            <p:nvPr/>
          </p:nvSpPr>
          <p:spPr>
            <a:xfrm>
              <a:off x="54100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248520" y="685800"/>
            <a:ext cx="761760" cy="838080"/>
            <a:chOff x="6248520" y="685800"/>
            <a:chExt cx="761760" cy="838080"/>
          </a:xfrm>
        </p:grpSpPr>
        <p:sp>
          <p:nvSpPr>
            <p:cNvPr id="218" name=""/>
            <p:cNvSpPr/>
            <p:nvPr/>
          </p:nvSpPr>
          <p:spPr>
            <a:xfrm>
              <a:off x="62485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5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086600" y="685800"/>
            <a:ext cx="762120" cy="838080"/>
            <a:chOff x="7086600" y="685800"/>
            <a:chExt cx="762120" cy="838080"/>
          </a:xfrm>
        </p:grpSpPr>
        <p:sp>
          <p:nvSpPr>
            <p:cNvPr id="221" name=""/>
            <p:cNvSpPr/>
            <p:nvPr/>
          </p:nvSpPr>
          <p:spPr>
            <a:xfrm>
              <a:off x="7086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866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924680" y="685800"/>
            <a:ext cx="762120" cy="838080"/>
            <a:chOff x="7924680" y="685800"/>
            <a:chExt cx="762120" cy="838080"/>
          </a:xfrm>
        </p:grpSpPr>
        <p:sp>
          <p:nvSpPr>
            <p:cNvPr id="224" name=""/>
            <p:cNvSpPr/>
            <p:nvPr/>
          </p:nvSpPr>
          <p:spPr>
            <a:xfrm>
              <a:off x="7924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246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914400" y="685800"/>
            <a:ext cx="762120" cy="838080"/>
            <a:chOff x="914400" y="685800"/>
            <a:chExt cx="762120" cy="838080"/>
          </a:xfrm>
        </p:grpSpPr>
        <p:sp>
          <p:nvSpPr>
            <p:cNvPr id="227" name=""/>
            <p:cNvSpPr/>
            <p:nvPr/>
          </p:nvSpPr>
          <p:spPr>
            <a:xfrm>
              <a:off x="914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44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257800" y="1752480"/>
            <a:ext cx="2514600" cy="2057400"/>
            <a:chOff x="5257800" y="1752480"/>
            <a:chExt cx="2514600" cy="2057400"/>
          </a:xfrm>
        </p:grpSpPr>
        <p:sp>
          <p:nvSpPr>
            <p:cNvPr id="231" name=""/>
            <p:cNvSpPr txBox="1"/>
            <p:nvPr/>
          </p:nvSpPr>
          <p:spPr>
            <a:xfrm>
              <a:off x="6248520" y="17524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257800" y="26668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58000" y="26668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85800" y="1676520"/>
            <a:ext cx="2971800" cy="2895480"/>
            <a:chOff x="685800" y="1676520"/>
            <a:chExt cx="2971800" cy="2895480"/>
          </a:xfrm>
        </p:grpSpPr>
        <p:grpSp>
          <p:nvGrpSpPr>
            <p:cNvPr id="235" name=""/>
            <p:cNvGrpSpPr/>
            <p:nvPr/>
          </p:nvGrpSpPr>
          <p:grpSpPr>
            <a:xfrm>
              <a:off x="914400" y="1676520"/>
              <a:ext cx="2514600" cy="2057400"/>
              <a:chOff x="914400" y="1676520"/>
              <a:chExt cx="2514600" cy="205740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1905120" y="1676520"/>
                <a:ext cx="53316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3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8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914400" y="259092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 txBox="1"/>
            <p:nvPr/>
          </p:nvSpPr>
          <p:spPr>
            <a:xfrm>
              <a:off x="31240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244" name="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752480" y="762120"/>
            <a:ext cx="762120" cy="838080"/>
            <a:chOff x="1752480" y="762120"/>
            <a:chExt cx="762120" cy="838080"/>
          </a:xfrm>
        </p:grpSpPr>
        <p:sp>
          <p:nvSpPr>
            <p:cNvPr id="247" name=""/>
            <p:cNvSpPr/>
            <p:nvPr/>
          </p:nvSpPr>
          <p:spPr>
            <a:xfrm>
              <a:off x="1752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52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514600" y="762120"/>
            <a:ext cx="762120" cy="838080"/>
            <a:chOff x="2514600" y="762120"/>
            <a:chExt cx="762120" cy="838080"/>
          </a:xfrm>
        </p:grpSpPr>
        <p:sp>
          <p:nvSpPr>
            <p:cNvPr id="250" name=""/>
            <p:cNvSpPr/>
            <p:nvPr/>
          </p:nvSpPr>
          <p:spPr>
            <a:xfrm>
              <a:off x="2514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352680" y="762120"/>
            <a:ext cx="762120" cy="838080"/>
            <a:chOff x="3352680" y="762120"/>
            <a:chExt cx="762120" cy="838080"/>
          </a:xfrm>
        </p:grpSpPr>
        <p:sp>
          <p:nvSpPr>
            <p:cNvPr id="253" name=""/>
            <p:cNvSpPr/>
            <p:nvPr/>
          </p:nvSpPr>
          <p:spPr>
            <a:xfrm>
              <a:off x="33526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526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114800" y="762120"/>
            <a:ext cx="762120" cy="838080"/>
            <a:chOff x="4114800" y="762120"/>
            <a:chExt cx="762120" cy="838080"/>
          </a:xfrm>
        </p:grpSpPr>
        <p:sp>
          <p:nvSpPr>
            <p:cNvPr id="256" name=""/>
            <p:cNvSpPr/>
            <p:nvPr/>
          </p:nvSpPr>
          <p:spPr>
            <a:xfrm>
              <a:off x="41148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148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952880" y="762120"/>
            <a:ext cx="762120" cy="838080"/>
            <a:chOff x="4952880" y="762120"/>
            <a:chExt cx="762120" cy="838080"/>
          </a:xfrm>
        </p:grpSpPr>
        <p:sp>
          <p:nvSpPr>
            <p:cNvPr id="259" name=""/>
            <p:cNvSpPr/>
            <p:nvPr/>
          </p:nvSpPr>
          <p:spPr>
            <a:xfrm>
              <a:off x="4952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528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1880" y="762120"/>
            <a:ext cx="762120" cy="838080"/>
            <a:chOff x="8381880" y="762120"/>
            <a:chExt cx="762120" cy="838080"/>
          </a:xfrm>
        </p:grpSpPr>
        <p:sp>
          <p:nvSpPr>
            <p:cNvPr id="263" name=""/>
            <p:cNvSpPr/>
            <p:nvPr/>
          </p:nvSpPr>
          <p:spPr>
            <a:xfrm>
              <a:off x="8381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18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15000" y="762120"/>
            <a:ext cx="762120" cy="838080"/>
            <a:chOff x="5715000" y="762120"/>
            <a:chExt cx="762120" cy="838080"/>
          </a:xfrm>
        </p:grpSpPr>
        <p:sp>
          <p:nvSpPr>
            <p:cNvPr id="266" name=""/>
            <p:cNvSpPr/>
            <p:nvPr/>
          </p:nvSpPr>
          <p:spPr>
            <a:xfrm>
              <a:off x="5715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50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43600" y="762120"/>
            <a:ext cx="762120" cy="838080"/>
            <a:chOff x="5943600" y="762120"/>
            <a:chExt cx="762120" cy="838080"/>
          </a:xfrm>
        </p:grpSpPr>
        <p:sp>
          <p:nvSpPr>
            <p:cNvPr id="269" name=""/>
            <p:cNvSpPr/>
            <p:nvPr/>
          </p:nvSpPr>
          <p:spPr>
            <a:xfrm>
              <a:off x="5943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436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172200" y="762120"/>
            <a:ext cx="762120" cy="838080"/>
            <a:chOff x="6172200" y="762120"/>
            <a:chExt cx="762120" cy="838080"/>
          </a:xfrm>
        </p:grpSpPr>
        <p:sp>
          <p:nvSpPr>
            <p:cNvPr id="272" name=""/>
            <p:cNvSpPr/>
            <p:nvPr/>
          </p:nvSpPr>
          <p:spPr>
            <a:xfrm>
              <a:off x="61722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722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477120" y="762120"/>
            <a:ext cx="761760" cy="838080"/>
            <a:chOff x="6477120" y="762120"/>
            <a:chExt cx="761760" cy="838080"/>
          </a:xfrm>
        </p:grpSpPr>
        <p:sp>
          <p:nvSpPr>
            <p:cNvPr id="275" name=""/>
            <p:cNvSpPr/>
            <p:nvPr/>
          </p:nvSpPr>
          <p:spPr>
            <a:xfrm>
              <a:off x="64771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71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29400" y="762120"/>
            <a:ext cx="762120" cy="838080"/>
            <a:chOff x="6629400" y="762120"/>
            <a:chExt cx="762120" cy="838080"/>
          </a:xfrm>
        </p:grpSpPr>
        <p:sp>
          <p:nvSpPr>
            <p:cNvPr id="278" name=""/>
            <p:cNvSpPr/>
            <p:nvPr/>
          </p:nvSpPr>
          <p:spPr>
            <a:xfrm>
              <a:off x="6629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9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858000" y="762120"/>
            <a:ext cx="762120" cy="838080"/>
            <a:chOff x="6858000" y="762120"/>
            <a:chExt cx="762120" cy="838080"/>
          </a:xfrm>
        </p:grpSpPr>
        <p:sp>
          <p:nvSpPr>
            <p:cNvPr id="281" name=""/>
            <p:cNvSpPr/>
            <p:nvPr/>
          </p:nvSpPr>
          <p:spPr>
            <a:xfrm>
              <a:off x="6858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10280" y="762120"/>
            <a:ext cx="762120" cy="838080"/>
            <a:chOff x="7010280" y="762120"/>
            <a:chExt cx="762120" cy="838080"/>
          </a:xfrm>
        </p:grpSpPr>
        <p:sp>
          <p:nvSpPr>
            <p:cNvPr id="284" name=""/>
            <p:cNvSpPr/>
            <p:nvPr/>
          </p:nvSpPr>
          <p:spPr>
            <a:xfrm>
              <a:off x="70102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102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162920" y="762120"/>
            <a:ext cx="761760" cy="838080"/>
            <a:chOff x="7162920" y="762120"/>
            <a:chExt cx="761760" cy="838080"/>
          </a:xfrm>
        </p:grpSpPr>
        <p:sp>
          <p:nvSpPr>
            <p:cNvPr id="287" name=""/>
            <p:cNvSpPr/>
            <p:nvPr/>
          </p:nvSpPr>
          <p:spPr>
            <a:xfrm>
              <a:off x="71629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29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238880" y="762120"/>
            <a:ext cx="762120" cy="838080"/>
            <a:chOff x="7238880" y="762120"/>
            <a:chExt cx="762120" cy="838080"/>
          </a:xfrm>
        </p:grpSpPr>
        <p:sp>
          <p:nvSpPr>
            <p:cNvPr id="290" name=""/>
            <p:cNvSpPr/>
            <p:nvPr/>
          </p:nvSpPr>
          <p:spPr>
            <a:xfrm>
              <a:off x="7238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88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543800" y="762120"/>
            <a:ext cx="762120" cy="838080"/>
            <a:chOff x="7543800" y="762120"/>
            <a:chExt cx="762120" cy="838080"/>
          </a:xfrm>
        </p:grpSpPr>
        <p:sp>
          <p:nvSpPr>
            <p:cNvPr id="293" name=""/>
            <p:cNvSpPr/>
            <p:nvPr/>
          </p:nvSpPr>
          <p:spPr>
            <a:xfrm>
              <a:off x="75438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38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3048120" y="4724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562720" y="46483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124080" y="1676520"/>
            <a:ext cx="2971800" cy="2895480"/>
            <a:chOff x="3124080" y="1676520"/>
            <a:chExt cx="2971800" cy="2895480"/>
          </a:xfrm>
        </p:grpSpPr>
        <p:grpSp>
          <p:nvGrpSpPr>
            <p:cNvPr id="298" name=""/>
            <p:cNvGrpSpPr/>
            <p:nvPr/>
          </p:nvGrpSpPr>
          <p:grpSpPr>
            <a:xfrm>
              <a:off x="3352680" y="1676520"/>
              <a:ext cx="2514600" cy="2057400"/>
              <a:chOff x="3352680" y="1676520"/>
              <a:chExt cx="2514600" cy="2057400"/>
            </a:xfrm>
          </p:grpSpPr>
          <p:sp>
            <p:nvSpPr>
              <p:cNvPr id="299" name=""/>
              <p:cNvSpPr txBox="1"/>
              <p:nvPr/>
            </p:nvSpPr>
            <p:spPr>
              <a:xfrm>
                <a:off x="4343400" y="1676520"/>
                <a:ext cx="53316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8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352680" y="259092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5288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 txBox="1"/>
            <p:nvPr/>
          </p:nvSpPr>
          <p:spPr>
            <a:xfrm>
              <a:off x="556236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312408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307" name="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52480" y="762120"/>
            <a:ext cx="762120" cy="838080"/>
            <a:chOff x="1752480" y="762120"/>
            <a:chExt cx="762120" cy="838080"/>
          </a:xfrm>
        </p:grpSpPr>
        <p:sp>
          <p:nvSpPr>
            <p:cNvPr id="310" name=""/>
            <p:cNvSpPr/>
            <p:nvPr/>
          </p:nvSpPr>
          <p:spPr>
            <a:xfrm>
              <a:off x="1752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2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486400" y="762120"/>
            <a:ext cx="762120" cy="838080"/>
            <a:chOff x="5486400" y="762120"/>
            <a:chExt cx="762120" cy="838080"/>
          </a:xfrm>
        </p:grpSpPr>
        <p:sp>
          <p:nvSpPr>
            <p:cNvPr id="313" name=""/>
            <p:cNvSpPr/>
            <p:nvPr/>
          </p:nvSpPr>
          <p:spPr>
            <a:xfrm>
              <a:off x="5486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864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316" name="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24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086600" y="762120"/>
            <a:ext cx="762120" cy="838080"/>
            <a:chOff x="7086600" y="762120"/>
            <a:chExt cx="762120" cy="838080"/>
          </a:xfrm>
        </p:grpSpPr>
        <p:sp>
          <p:nvSpPr>
            <p:cNvPr id="319" name=""/>
            <p:cNvSpPr/>
            <p:nvPr/>
          </p:nvSpPr>
          <p:spPr>
            <a:xfrm>
              <a:off x="7086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924680" y="762120"/>
            <a:ext cx="762120" cy="838080"/>
            <a:chOff x="7924680" y="762120"/>
            <a:chExt cx="762120" cy="838080"/>
          </a:xfrm>
        </p:grpSpPr>
        <p:sp>
          <p:nvSpPr>
            <p:cNvPr id="322" name=""/>
            <p:cNvSpPr/>
            <p:nvPr/>
          </p:nvSpPr>
          <p:spPr>
            <a:xfrm>
              <a:off x="79246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809880" y="685800"/>
            <a:ext cx="762120" cy="838080"/>
            <a:chOff x="3809880" y="685800"/>
            <a:chExt cx="762120" cy="838080"/>
          </a:xfrm>
        </p:grpSpPr>
        <p:sp>
          <p:nvSpPr>
            <p:cNvPr id="325" name=""/>
            <p:cNvSpPr/>
            <p:nvPr/>
          </p:nvSpPr>
          <p:spPr>
            <a:xfrm>
              <a:off x="3809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98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648320" y="762120"/>
            <a:ext cx="761760" cy="838080"/>
            <a:chOff x="4648320" y="762120"/>
            <a:chExt cx="761760" cy="838080"/>
          </a:xfrm>
        </p:grpSpPr>
        <p:sp>
          <p:nvSpPr>
            <p:cNvPr id="328" name=""/>
            <p:cNvSpPr/>
            <p:nvPr/>
          </p:nvSpPr>
          <p:spPr>
            <a:xfrm>
              <a:off x="46483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83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 txBox="1"/>
          <p:nvPr/>
        </p:nvSpPr>
        <p:spPr>
          <a:xfrm>
            <a:off x="5029200" y="4724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46748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2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57800" y="1752480"/>
            <a:ext cx="2514600" cy="2057400"/>
            <a:chOff x="5257800" y="1752480"/>
            <a:chExt cx="2514600" cy="2057400"/>
          </a:xfrm>
        </p:grpSpPr>
        <p:sp>
          <p:nvSpPr>
            <p:cNvPr id="334" name=""/>
            <p:cNvSpPr txBox="1"/>
            <p:nvPr/>
          </p:nvSpPr>
          <p:spPr>
            <a:xfrm>
              <a:off x="6248520" y="17524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257800" y="26668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0" y="26668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5800" y="1676520"/>
            <a:ext cx="2971800" cy="3733560"/>
            <a:chOff x="685800" y="1676520"/>
            <a:chExt cx="2971800" cy="3733560"/>
          </a:xfrm>
        </p:grpSpPr>
        <p:sp>
          <p:nvSpPr>
            <p:cNvPr id="338" name=""/>
            <p:cNvSpPr txBox="1"/>
            <p:nvPr/>
          </p:nvSpPr>
          <p:spPr>
            <a:xfrm>
              <a:off x="1905120" y="167652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914400" y="25909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4600" y="25909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31240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312408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685800" y="4724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7467480" y="388620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029200" y="38862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590920" y="685800"/>
            <a:ext cx="761760" cy="838080"/>
            <a:chOff x="2590920" y="685800"/>
            <a:chExt cx="761760" cy="838080"/>
          </a:xfrm>
        </p:grpSpPr>
        <p:sp>
          <p:nvSpPr>
            <p:cNvPr id="350" name=""/>
            <p:cNvSpPr/>
            <p:nvPr/>
          </p:nvSpPr>
          <p:spPr>
            <a:xfrm>
              <a:off x="25909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09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429000" y="685800"/>
            <a:ext cx="762120" cy="838080"/>
            <a:chOff x="3429000" y="685800"/>
            <a:chExt cx="762120" cy="838080"/>
          </a:xfrm>
        </p:grpSpPr>
        <p:sp>
          <p:nvSpPr>
            <p:cNvPr id="353" name=""/>
            <p:cNvSpPr/>
            <p:nvPr/>
          </p:nvSpPr>
          <p:spPr>
            <a:xfrm>
              <a:off x="34290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90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91120" y="685800"/>
            <a:ext cx="761760" cy="838080"/>
            <a:chOff x="4191120" y="685800"/>
            <a:chExt cx="761760" cy="838080"/>
          </a:xfrm>
        </p:grpSpPr>
        <p:sp>
          <p:nvSpPr>
            <p:cNvPr id="356" name=""/>
            <p:cNvSpPr/>
            <p:nvPr/>
          </p:nvSpPr>
          <p:spPr>
            <a:xfrm>
              <a:off x="41911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911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952880" y="685800"/>
            <a:ext cx="762120" cy="838080"/>
            <a:chOff x="4952880" y="685800"/>
            <a:chExt cx="762120" cy="838080"/>
          </a:xfrm>
        </p:grpSpPr>
        <p:sp>
          <p:nvSpPr>
            <p:cNvPr id="359" name=""/>
            <p:cNvSpPr/>
            <p:nvPr/>
          </p:nvSpPr>
          <p:spPr>
            <a:xfrm>
              <a:off x="4952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28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914400" y="685800"/>
            <a:ext cx="762120" cy="838080"/>
            <a:chOff x="914400" y="685800"/>
            <a:chExt cx="762120" cy="838080"/>
          </a:xfrm>
        </p:grpSpPr>
        <p:sp>
          <p:nvSpPr>
            <p:cNvPr id="362" name=""/>
            <p:cNvSpPr/>
            <p:nvPr/>
          </p:nvSpPr>
          <p:spPr>
            <a:xfrm>
              <a:off x="914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44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752480" y="685800"/>
            <a:ext cx="762120" cy="838080"/>
            <a:chOff x="1752480" y="685800"/>
            <a:chExt cx="762120" cy="838080"/>
          </a:xfrm>
        </p:grpSpPr>
        <p:sp>
          <p:nvSpPr>
            <p:cNvPr id="365" name=""/>
            <p:cNvSpPr/>
            <p:nvPr/>
          </p:nvSpPr>
          <p:spPr>
            <a:xfrm>
              <a:off x="17524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524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315200" y="762120"/>
            <a:ext cx="762120" cy="838080"/>
            <a:chOff x="7315200" y="762120"/>
            <a:chExt cx="762120" cy="838080"/>
          </a:xfrm>
        </p:grpSpPr>
        <p:sp>
          <p:nvSpPr>
            <p:cNvPr id="368" name=""/>
            <p:cNvSpPr/>
            <p:nvPr/>
          </p:nvSpPr>
          <p:spPr>
            <a:xfrm>
              <a:off x="73152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762120"/>
            <a:ext cx="761760" cy="838080"/>
            <a:chOff x="8077320" y="762120"/>
            <a:chExt cx="761760" cy="838080"/>
          </a:xfrm>
        </p:grpSpPr>
        <p:sp>
          <p:nvSpPr>
            <p:cNvPr id="371" name=""/>
            <p:cNvSpPr/>
            <p:nvPr/>
          </p:nvSpPr>
          <p:spPr>
            <a:xfrm>
              <a:off x="80773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81792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 txBox="1"/>
          <p:nvPr/>
        </p:nvSpPr>
        <p:spPr>
          <a:xfrm>
            <a:off x="5257800" y="54864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19520" y="54864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5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029200" y="685800"/>
            <a:ext cx="762120" cy="838080"/>
            <a:chOff x="5029200" y="685800"/>
            <a:chExt cx="762120" cy="838080"/>
          </a:xfrm>
        </p:grpSpPr>
        <p:sp>
          <p:nvSpPr>
            <p:cNvPr id="377" name=""/>
            <p:cNvSpPr/>
            <p:nvPr/>
          </p:nvSpPr>
          <p:spPr>
            <a:xfrm>
              <a:off x="5029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92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257800" y="685800"/>
            <a:ext cx="762120" cy="838080"/>
            <a:chOff x="5257800" y="685800"/>
            <a:chExt cx="762120" cy="838080"/>
          </a:xfrm>
        </p:grpSpPr>
        <p:sp>
          <p:nvSpPr>
            <p:cNvPr id="380" name=""/>
            <p:cNvSpPr/>
            <p:nvPr/>
          </p:nvSpPr>
          <p:spPr>
            <a:xfrm>
              <a:off x="52578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578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410080" y="685800"/>
            <a:ext cx="762120" cy="838080"/>
            <a:chOff x="5410080" y="685800"/>
            <a:chExt cx="762120" cy="838080"/>
          </a:xfrm>
        </p:grpSpPr>
        <p:sp>
          <p:nvSpPr>
            <p:cNvPr id="383" name=""/>
            <p:cNvSpPr/>
            <p:nvPr/>
          </p:nvSpPr>
          <p:spPr>
            <a:xfrm>
              <a:off x="54100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100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486400" y="685800"/>
            <a:ext cx="762120" cy="838080"/>
            <a:chOff x="5486400" y="685800"/>
            <a:chExt cx="762120" cy="838080"/>
          </a:xfrm>
        </p:grpSpPr>
        <p:sp>
          <p:nvSpPr>
            <p:cNvPr id="386" name=""/>
            <p:cNvSpPr/>
            <p:nvPr/>
          </p:nvSpPr>
          <p:spPr>
            <a:xfrm>
              <a:off x="5486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864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685800"/>
            <a:ext cx="762120" cy="838080"/>
            <a:chOff x="5638680" y="685800"/>
            <a:chExt cx="762120" cy="838080"/>
          </a:xfrm>
        </p:grpSpPr>
        <p:sp>
          <p:nvSpPr>
            <p:cNvPr id="389" name=""/>
            <p:cNvSpPr/>
            <p:nvPr/>
          </p:nvSpPr>
          <p:spPr>
            <a:xfrm>
              <a:off x="5638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791320" y="685800"/>
            <a:ext cx="761760" cy="838080"/>
            <a:chOff x="5791320" y="685800"/>
            <a:chExt cx="761760" cy="838080"/>
          </a:xfrm>
        </p:grpSpPr>
        <p:sp>
          <p:nvSpPr>
            <p:cNvPr id="392" name=""/>
            <p:cNvSpPr/>
            <p:nvPr/>
          </p:nvSpPr>
          <p:spPr>
            <a:xfrm>
              <a:off x="57913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741600"/>
              <a:ext cx="76176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943600" y="685800"/>
            <a:ext cx="762120" cy="838080"/>
            <a:chOff x="5943600" y="685800"/>
            <a:chExt cx="762120" cy="838080"/>
          </a:xfrm>
        </p:grpSpPr>
        <p:sp>
          <p:nvSpPr>
            <p:cNvPr id="395" name=""/>
            <p:cNvSpPr/>
            <p:nvPr/>
          </p:nvSpPr>
          <p:spPr>
            <a:xfrm>
              <a:off x="5943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36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095880" y="685800"/>
            <a:ext cx="762120" cy="838080"/>
            <a:chOff x="6095880" y="685800"/>
            <a:chExt cx="762120" cy="838080"/>
          </a:xfrm>
        </p:grpSpPr>
        <p:sp>
          <p:nvSpPr>
            <p:cNvPr id="398" name=""/>
            <p:cNvSpPr/>
            <p:nvPr/>
          </p:nvSpPr>
          <p:spPr>
            <a:xfrm>
              <a:off x="6095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588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172200" y="685800"/>
            <a:ext cx="762120" cy="838080"/>
            <a:chOff x="6172200" y="685800"/>
            <a:chExt cx="762120" cy="838080"/>
          </a:xfrm>
        </p:grpSpPr>
        <p:sp>
          <p:nvSpPr>
            <p:cNvPr id="401" name=""/>
            <p:cNvSpPr/>
            <p:nvPr/>
          </p:nvSpPr>
          <p:spPr>
            <a:xfrm>
              <a:off x="6172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72200" y="7416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404" name="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244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553080" y="762120"/>
            <a:ext cx="762120" cy="838080"/>
            <a:chOff x="6553080" y="762120"/>
            <a:chExt cx="762120" cy="838080"/>
          </a:xfrm>
        </p:grpSpPr>
        <p:sp>
          <p:nvSpPr>
            <p:cNvPr id="407" name=""/>
            <p:cNvSpPr/>
            <p:nvPr/>
          </p:nvSpPr>
          <p:spPr>
            <a:xfrm>
              <a:off x="65530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81792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9520" y="1676520"/>
            <a:ext cx="2971800" cy="3733560"/>
            <a:chOff x="2819520" y="1676520"/>
            <a:chExt cx="2971800" cy="3733560"/>
          </a:xfrm>
        </p:grpSpPr>
        <p:sp>
          <p:nvSpPr>
            <p:cNvPr id="410" name=""/>
            <p:cNvSpPr txBox="1"/>
            <p:nvPr/>
          </p:nvSpPr>
          <p:spPr>
            <a:xfrm>
              <a:off x="4038840" y="167652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048120" y="25909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8320" y="25909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525780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281952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525780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819520" y="4724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5715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276720" y="57150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400800" y="609480"/>
            <a:ext cx="762120" cy="838440"/>
            <a:chOff x="6400800" y="609480"/>
            <a:chExt cx="762120" cy="838440"/>
          </a:xfrm>
        </p:grpSpPr>
        <p:sp>
          <p:nvSpPr>
            <p:cNvPr id="422" name=""/>
            <p:cNvSpPr/>
            <p:nvPr/>
          </p:nvSpPr>
          <p:spPr>
            <a:xfrm>
              <a:off x="64008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0080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238880" y="609480"/>
            <a:ext cx="762120" cy="838440"/>
            <a:chOff x="7238880" y="609480"/>
            <a:chExt cx="762120" cy="838440"/>
          </a:xfrm>
        </p:grpSpPr>
        <p:sp>
          <p:nvSpPr>
            <p:cNvPr id="425" name=""/>
            <p:cNvSpPr/>
            <p:nvPr/>
          </p:nvSpPr>
          <p:spPr>
            <a:xfrm>
              <a:off x="72388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3888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001000" y="609480"/>
            <a:ext cx="762120" cy="838440"/>
            <a:chOff x="8001000" y="609480"/>
            <a:chExt cx="762120" cy="838440"/>
          </a:xfrm>
        </p:grpSpPr>
        <p:sp>
          <p:nvSpPr>
            <p:cNvPr id="428" name=""/>
            <p:cNvSpPr/>
            <p:nvPr/>
          </p:nvSpPr>
          <p:spPr>
            <a:xfrm>
              <a:off x="80010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0100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38080" y="609480"/>
            <a:ext cx="762120" cy="838440"/>
            <a:chOff x="838080" y="609480"/>
            <a:chExt cx="762120" cy="838440"/>
          </a:xfrm>
        </p:grpSpPr>
        <p:sp>
          <p:nvSpPr>
            <p:cNvPr id="431" name=""/>
            <p:cNvSpPr/>
            <p:nvPr/>
          </p:nvSpPr>
          <p:spPr>
            <a:xfrm>
              <a:off x="8380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808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24280" y="609480"/>
            <a:ext cx="762120" cy="838440"/>
            <a:chOff x="4724280" y="609480"/>
            <a:chExt cx="762120" cy="838440"/>
          </a:xfrm>
        </p:grpSpPr>
        <p:sp>
          <p:nvSpPr>
            <p:cNvPr id="434" name=""/>
            <p:cNvSpPr/>
            <p:nvPr/>
          </p:nvSpPr>
          <p:spPr>
            <a:xfrm>
              <a:off x="47242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2428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62720" y="609480"/>
            <a:ext cx="761760" cy="838440"/>
            <a:chOff x="5562720" y="609480"/>
            <a:chExt cx="761760" cy="838440"/>
          </a:xfrm>
        </p:grpSpPr>
        <p:sp>
          <p:nvSpPr>
            <p:cNvPr id="437" name=""/>
            <p:cNvSpPr/>
            <p:nvPr/>
          </p:nvSpPr>
          <p:spPr>
            <a:xfrm>
              <a:off x="55627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2720" y="6652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600200" y="609480"/>
            <a:ext cx="762120" cy="838440"/>
            <a:chOff x="1600200" y="609480"/>
            <a:chExt cx="762120" cy="838440"/>
          </a:xfrm>
        </p:grpSpPr>
        <p:sp>
          <p:nvSpPr>
            <p:cNvPr id="440" name=""/>
            <p:cNvSpPr/>
            <p:nvPr/>
          </p:nvSpPr>
          <p:spPr>
            <a:xfrm>
              <a:off x="16002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00200" y="6652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62320" y="609480"/>
            <a:ext cx="761760" cy="838440"/>
            <a:chOff x="2362320" y="609480"/>
            <a:chExt cx="761760" cy="838440"/>
          </a:xfrm>
        </p:grpSpPr>
        <p:sp>
          <p:nvSpPr>
            <p:cNvPr id="443" name=""/>
            <p:cNvSpPr/>
            <p:nvPr/>
          </p:nvSpPr>
          <p:spPr>
            <a:xfrm>
              <a:off x="23623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62320" y="6652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8759880" y="0"/>
            <a:ext cx="3808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867280" y="16765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876920" y="2590920"/>
            <a:ext cx="838080" cy="106668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2590920"/>
            <a:ext cx="914400" cy="114300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724280" y="38862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10280" y="380988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724280" y="4800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010280" y="4648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38080" y="1828800"/>
            <a:ext cx="2971800" cy="3733560"/>
            <a:chOff x="838080" y="1828800"/>
            <a:chExt cx="2971800" cy="3733560"/>
          </a:xfrm>
        </p:grpSpPr>
        <p:sp>
          <p:nvSpPr>
            <p:cNvPr id="454" name=""/>
            <p:cNvSpPr txBox="1"/>
            <p:nvPr/>
          </p:nvSpPr>
          <p:spPr>
            <a:xfrm>
              <a:off x="2057400" y="182880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066680" y="274320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66880" y="274320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3276360" y="40384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838080" y="396216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3276360" y="48765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838080" y="487656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61" name=""/>
          <p:cNvSpPr txBox="1"/>
          <p:nvPr/>
        </p:nvSpPr>
        <p:spPr>
          <a:xfrm>
            <a:off x="716292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48320" y="56386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590920" y="380880"/>
            <a:ext cx="761760" cy="838440"/>
            <a:chOff x="2590920" y="380880"/>
            <a:chExt cx="761760" cy="838440"/>
          </a:xfrm>
        </p:grpSpPr>
        <p:sp>
          <p:nvSpPr>
            <p:cNvPr id="466" name=""/>
            <p:cNvSpPr/>
            <p:nvPr/>
          </p:nvSpPr>
          <p:spPr>
            <a:xfrm>
              <a:off x="25909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429000" y="380880"/>
            <a:ext cx="762120" cy="838440"/>
            <a:chOff x="3429000" y="380880"/>
            <a:chExt cx="762120" cy="838440"/>
          </a:xfrm>
        </p:grpSpPr>
        <p:sp>
          <p:nvSpPr>
            <p:cNvPr id="469" name=""/>
            <p:cNvSpPr/>
            <p:nvPr/>
          </p:nvSpPr>
          <p:spPr>
            <a:xfrm>
              <a:off x="34290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90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191120" y="380880"/>
            <a:ext cx="761760" cy="838440"/>
            <a:chOff x="4191120" y="380880"/>
            <a:chExt cx="761760" cy="838440"/>
          </a:xfrm>
        </p:grpSpPr>
        <p:sp>
          <p:nvSpPr>
            <p:cNvPr id="472" name=""/>
            <p:cNvSpPr/>
            <p:nvPr/>
          </p:nvSpPr>
          <p:spPr>
            <a:xfrm>
              <a:off x="41911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911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324480" y="380880"/>
            <a:ext cx="762120" cy="838440"/>
            <a:chOff x="6324480" y="380880"/>
            <a:chExt cx="762120" cy="838440"/>
          </a:xfrm>
        </p:grpSpPr>
        <p:sp>
          <p:nvSpPr>
            <p:cNvPr id="475" name=""/>
            <p:cNvSpPr/>
            <p:nvPr/>
          </p:nvSpPr>
          <p:spPr>
            <a:xfrm>
              <a:off x="63244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244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914400" y="380880"/>
            <a:ext cx="762120" cy="838440"/>
            <a:chOff x="914400" y="380880"/>
            <a:chExt cx="762120" cy="838440"/>
          </a:xfrm>
        </p:grpSpPr>
        <p:sp>
          <p:nvSpPr>
            <p:cNvPr id="478" name=""/>
            <p:cNvSpPr/>
            <p:nvPr/>
          </p:nvSpPr>
          <p:spPr>
            <a:xfrm>
              <a:off x="9144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144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752480" y="380880"/>
            <a:ext cx="762120" cy="838440"/>
            <a:chOff x="1752480" y="380880"/>
            <a:chExt cx="762120" cy="838440"/>
          </a:xfrm>
        </p:grpSpPr>
        <p:sp>
          <p:nvSpPr>
            <p:cNvPr id="481" name=""/>
            <p:cNvSpPr/>
            <p:nvPr/>
          </p:nvSpPr>
          <p:spPr>
            <a:xfrm>
              <a:off x="17524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524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086600" y="380880"/>
            <a:ext cx="762120" cy="838440"/>
            <a:chOff x="7086600" y="380880"/>
            <a:chExt cx="762120" cy="838440"/>
          </a:xfrm>
        </p:grpSpPr>
        <p:sp>
          <p:nvSpPr>
            <p:cNvPr id="484" name=""/>
            <p:cNvSpPr/>
            <p:nvPr/>
          </p:nvSpPr>
          <p:spPr>
            <a:xfrm>
              <a:off x="70866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66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848720" y="380880"/>
            <a:ext cx="761760" cy="838440"/>
            <a:chOff x="7848720" y="380880"/>
            <a:chExt cx="761760" cy="838440"/>
          </a:xfrm>
        </p:grpSpPr>
        <p:sp>
          <p:nvSpPr>
            <p:cNvPr id="487" name=""/>
            <p:cNvSpPr/>
            <p:nvPr/>
          </p:nvSpPr>
          <p:spPr>
            <a:xfrm>
              <a:off x="78487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487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 txBox="1"/>
          <p:nvPr/>
        </p:nvSpPr>
        <p:spPr>
          <a:xfrm>
            <a:off x="2895480" y="60958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257800" y="60958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343400" y="380880"/>
            <a:ext cx="762120" cy="838440"/>
            <a:chOff x="4343400" y="380880"/>
            <a:chExt cx="762120" cy="838440"/>
          </a:xfrm>
        </p:grpSpPr>
        <p:sp>
          <p:nvSpPr>
            <p:cNvPr id="492" name=""/>
            <p:cNvSpPr/>
            <p:nvPr/>
          </p:nvSpPr>
          <p:spPr>
            <a:xfrm>
              <a:off x="43434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434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572000" y="457200"/>
            <a:ext cx="762120" cy="838080"/>
            <a:chOff x="4572000" y="457200"/>
            <a:chExt cx="762120" cy="838080"/>
          </a:xfrm>
        </p:grpSpPr>
        <p:sp>
          <p:nvSpPr>
            <p:cNvPr id="495" name=""/>
            <p:cNvSpPr/>
            <p:nvPr/>
          </p:nvSpPr>
          <p:spPr>
            <a:xfrm>
              <a:off x="4572000" y="4572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0" y="513000"/>
              <a:ext cx="762120" cy="670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724280" y="380880"/>
            <a:ext cx="762120" cy="838440"/>
            <a:chOff x="4724280" y="380880"/>
            <a:chExt cx="762120" cy="838440"/>
          </a:xfrm>
        </p:grpSpPr>
        <p:sp>
          <p:nvSpPr>
            <p:cNvPr id="498" name=""/>
            <p:cNvSpPr/>
            <p:nvPr/>
          </p:nvSpPr>
          <p:spPr>
            <a:xfrm>
              <a:off x="47242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242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952880" y="380880"/>
            <a:ext cx="762120" cy="838440"/>
            <a:chOff x="4952880" y="380880"/>
            <a:chExt cx="762120" cy="838440"/>
          </a:xfrm>
        </p:grpSpPr>
        <p:sp>
          <p:nvSpPr>
            <p:cNvPr id="501" name=""/>
            <p:cNvSpPr/>
            <p:nvPr/>
          </p:nvSpPr>
          <p:spPr>
            <a:xfrm>
              <a:off x="49528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528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029200" y="380880"/>
            <a:ext cx="762120" cy="838440"/>
            <a:chOff x="5029200" y="380880"/>
            <a:chExt cx="762120" cy="838440"/>
          </a:xfrm>
        </p:grpSpPr>
        <p:sp>
          <p:nvSpPr>
            <p:cNvPr id="504" name=""/>
            <p:cNvSpPr/>
            <p:nvPr/>
          </p:nvSpPr>
          <p:spPr>
            <a:xfrm>
              <a:off x="502920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2920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05520" y="380880"/>
            <a:ext cx="761760" cy="838440"/>
            <a:chOff x="5105520" y="380880"/>
            <a:chExt cx="761760" cy="838440"/>
          </a:xfrm>
        </p:grpSpPr>
        <p:sp>
          <p:nvSpPr>
            <p:cNvPr id="507" name=""/>
            <p:cNvSpPr/>
            <p:nvPr/>
          </p:nvSpPr>
          <p:spPr>
            <a:xfrm>
              <a:off x="51055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055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181480" y="380880"/>
            <a:ext cx="762120" cy="838440"/>
            <a:chOff x="5181480" y="380880"/>
            <a:chExt cx="762120" cy="838440"/>
          </a:xfrm>
        </p:grpSpPr>
        <p:sp>
          <p:nvSpPr>
            <p:cNvPr id="510" name=""/>
            <p:cNvSpPr/>
            <p:nvPr/>
          </p:nvSpPr>
          <p:spPr>
            <a:xfrm>
              <a:off x="5181480" y="3808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81480" y="436680"/>
              <a:ext cx="76212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562720" y="380880"/>
            <a:ext cx="761760" cy="838440"/>
            <a:chOff x="5562720" y="380880"/>
            <a:chExt cx="761760" cy="838440"/>
          </a:xfrm>
        </p:grpSpPr>
        <p:sp>
          <p:nvSpPr>
            <p:cNvPr id="513" name=""/>
            <p:cNvSpPr/>
            <p:nvPr/>
          </p:nvSpPr>
          <p:spPr>
            <a:xfrm>
              <a:off x="5562720" y="3808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62720" y="436680"/>
              <a:ext cx="761760" cy="6706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895480" y="1295280"/>
            <a:ext cx="2971800" cy="3733560"/>
            <a:chOff x="2895480" y="1295280"/>
            <a:chExt cx="2971800" cy="3733560"/>
          </a:xfrm>
        </p:grpSpPr>
        <p:sp>
          <p:nvSpPr>
            <p:cNvPr id="516" name=""/>
            <p:cNvSpPr txBox="1"/>
            <p:nvPr/>
          </p:nvSpPr>
          <p:spPr>
            <a:xfrm>
              <a:off x="4114800" y="129528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124080" y="22096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24280" y="22096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333760" y="350496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2895480" y="342864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333760" y="434304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2895480" y="434304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23" name=""/>
          <p:cNvSpPr txBox="1"/>
          <p:nvPr/>
        </p:nvSpPr>
        <p:spPr>
          <a:xfrm>
            <a:off x="2971800" y="51814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34120" y="51814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62120" y="5638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276720" y="55627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133720" y="4572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143000" y="1371600"/>
            <a:ext cx="838080" cy="106668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371600"/>
            <a:ext cx="914400" cy="114300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352680" y="2666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5909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3526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914400" y="3657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14400" y="46483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352680" y="45720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914400" y="25909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3657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14400" y="46483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38080" y="56386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34120" y="380880"/>
            <a:ext cx="2971800" cy="4876920"/>
            <a:chOff x="5334120" y="380880"/>
            <a:chExt cx="2971800" cy="4876920"/>
          </a:xfrm>
        </p:grpSpPr>
        <p:sp>
          <p:nvSpPr>
            <p:cNvPr id="547" name=""/>
            <p:cNvSpPr txBox="1"/>
            <p:nvPr/>
          </p:nvSpPr>
          <p:spPr>
            <a:xfrm>
              <a:off x="6477120" y="380880"/>
              <a:ext cx="533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486760" y="12952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86960" y="12952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5334120" y="259056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7696440" y="259056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5334120" y="35049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7696440" y="3581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784872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5334120" y="45720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3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752480" y="3505320"/>
            <a:ext cx="5257800" cy="609480"/>
            <a:chOff x="1752480" y="3505320"/>
            <a:chExt cx="5257800" cy="609480"/>
          </a:xfrm>
        </p:grpSpPr>
        <p:sp>
          <p:nvSpPr>
            <p:cNvPr id="558" name=""/>
            <p:cNvSpPr/>
            <p:nvPr/>
          </p:nvSpPr>
          <p:spPr>
            <a:xfrm>
              <a:off x="6781680" y="3505320"/>
              <a:ext cx="7632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913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625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76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66880" y="3505320"/>
              <a:ext cx="3049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2480" y="3505320"/>
              <a:ext cx="228600" cy="60948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295280" y="4876920"/>
            <a:ext cx="4218120" cy="1571400"/>
          </a:xfrm>
          <a:custGeom>
            <a:avLst/>
            <a:gdLst/>
            <a:ahLst/>
            <a:rect l="l" t="t" r="r" b="b"/>
            <a:pathLst>
              <a:path w="2657" h="990">
                <a:moveTo>
                  <a:pt x="562" y="23"/>
                </a:moveTo>
                <a:cubicBezTo>
                  <a:pt x="1006" y="28"/>
                  <a:pt x="1388" y="10"/>
                  <a:pt x="1808" y="68"/>
                </a:cubicBezTo>
                <a:cubicBezTo>
                  <a:pt x="2091" y="56"/>
                  <a:pt x="2373" y="0"/>
                  <a:pt x="2657" y="0"/>
                </a:cubicBezTo>
                <a:lnTo>
                  <a:pt x="2160" y="990"/>
                </a:lnTo>
                <a:lnTo>
                  <a:pt x="0" y="894"/>
                </a:lnTo>
                <a:lnTo>
                  <a:pt x="562" y="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3600" y="51055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133720" y="52578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905120" y="51814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648320" y="1981080"/>
          <a:ext cx="2278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2278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"/>
          <p:cNvSpPr/>
          <p:nvPr/>
        </p:nvSpPr>
        <p:spPr>
          <a:xfrm>
            <a:off x="2362320" y="198108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0" y="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14394"/>
                </a:moveTo>
                <a:lnTo>
                  <a:pt x="17806" y="7388"/>
                </a:lnTo>
                <a:lnTo>
                  <a:pt x="17806" y="21401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57200" y="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7388"/>
                </a:moveTo>
                <a:lnTo>
                  <a:pt x="17806" y="14394"/>
                </a:lnTo>
                <a:lnTo>
                  <a:pt x="3794" y="21401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1905120"/>
            <a:ext cx="76212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989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898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581280" y="1295280"/>
            <a:ext cx="1447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8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800600"/>
            <a:ext cx="2819520" cy="1371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09680" y="4724280"/>
          <a:ext cx="2819520" cy="140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724280"/>
                    <a:ext cx="2819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09680" y="4800600"/>
            <a:ext cx="2819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4800600"/>
          <a:ext cx="2819520" cy="140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819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590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733920" y="2057400"/>
          <a:ext cx="53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3657600" y="2057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733920" y="205740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3657600" y="2057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48320" y="2133720"/>
            <a:ext cx="0" cy="3886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8320" y="220968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2209680"/>
            <a:ext cx="0" cy="3886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213372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48320" y="2057400"/>
            <a:ext cx="0" cy="3886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15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6" name=""/>
          <p:cNvGraphicFramePr/>
          <p:nvPr/>
        </p:nvGraphicFramePr>
        <p:xfrm>
          <a:off x="3276720" y="1981080"/>
          <a:ext cx="9810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981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31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2" name=""/>
          <p:cNvGraphicFramePr/>
          <p:nvPr/>
        </p:nvGraphicFramePr>
        <p:xfrm>
          <a:off x="2743200" y="1981080"/>
          <a:ext cx="15238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1523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47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8" name=""/>
          <p:cNvGraphicFramePr/>
          <p:nvPr/>
        </p:nvGraphicFramePr>
        <p:xfrm>
          <a:off x="2438280" y="1981080"/>
          <a:ext cx="180972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180972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63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4" name=""/>
          <p:cNvGraphicFramePr/>
          <p:nvPr/>
        </p:nvGraphicFramePr>
        <p:xfrm>
          <a:off x="2438280" y="1981080"/>
          <a:ext cx="1838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1838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79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0" name=""/>
          <p:cNvGraphicFramePr/>
          <p:nvPr/>
        </p:nvGraphicFramePr>
        <p:xfrm>
          <a:off x="2438280" y="1981080"/>
          <a:ext cx="18478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18478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695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6" name=""/>
          <p:cNvGraphicFramePr/>
          <p:nvPr/>
        </p:nvGraphicFramePr>
        <p:xfrm>
          <a:off x="2514600" y="2057400"/>
          <a:ext cx="211464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211464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11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2" name=""/>
          <p:cNvGraphicFramePr/>
          <p:nvPr/>
        </p:nvGraphicFramePr>
        <p:xfrm>
          <a:off x="2438280" y="1981080"/>
          <a:ext cx="213372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21337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27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2362320" y="1981080"/>
          <a:ext cx="22478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2247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2362320" y="1981080"/>
          <a:ext cx="224784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981080"/>
                    <a:ext cx="2247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352680" y="685800"/>
          <a:ext cx="2248200" cy="388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685800"/>
                    <a:ext cx="2248200" cy="3886200"/>
                  </a:xfrm>
                  <a:prstGeom prst="rect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3352680" y="685800"/>
          <a:ext cx="2248200" cy="388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685800"/>
                    <a:ext cx="2248200" cy="3886200"/>
                  </a:xfrm>
                  <a:prstGeom prst="rect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49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0" name=""/>
          <p:cNvGraphicFramePr/>
          <p:nvPr/>
        </p:nvGraphicFramePr>
        <p:xfrm>
          <a:off x="2362320" y="1981080"/>
          <a:ext cx="227628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22762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276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62520" y="152388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276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3276720"/>
            <a:ext cx="99036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3276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4197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65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6" name=""/>
          <p:cNvGraphicFramePr/>
          <p:nvPr/>
        </p:nvGraphicFramePr>
        <p:xfrm>
          <a:off x="2362320" y="2057400"/>
          <a:ext cx="22572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22572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781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92" name=""/>
          <p:cNvGraphicFramePr/>
          <p:nvPr/>
        </p:nvGraphicFramePr>
        <p:xfrm>
          <a:off x="2362320" y="2057400"/>
          <a:ext cx="227628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227628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4728000">
            <a:off x="4076280" y="2628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362320" y="1981080"/>
            <a:ext cx="4572000" cy="3962520"/>
            <a:chOff x="2362320" y="1981080"/>
            <a:chExt cx="4572000" cy="3962520"/>
          </a:xfrm>
        </p:grpSpPr>
        <p:sp>
          <p:nvSpPr>
            <p:cNvPr id="804" name=""/>
            <p:cNvSpPr/>
            <p:nvPr/>
          </p:nvSpPr>
          <p:spPr>
            <a:xfrm>
              <a:off x="2362320" y="1981080"/>
              <a:ext cx="4572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48320" y="2057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48320" y="2971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483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48320" y="5105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00600" y="388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386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77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1907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3623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2000" y="38098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5" name=""/>
          <p:cNvGraphicFramePr/>
          <p:nvPr/>
        </p:nvGraphicFramePr>
        <p:xfrm>
          <a:off x="2362320" y="2057400"/>
          <a:ext cx="225720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225720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175248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990720" y="1295280"/>
            <a:ext cx="8380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33720" y="1295280"/>
            <a:ext cx="53316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533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0" y="2362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486400" y="1295280"/>
            <a:ext cx="8380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29400" y="1295280"/>
            <a:ext cx="53352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105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523880" y="3657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62120" y="4572000"/>
            <a:ext cx="838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05120" y="4572000"/>
            <a:ext cx="53316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1337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" y="5638680"/>
            <a:ext cx="762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95880" y="3049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858000" y="2438280"/>
            <a:ext cx="533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248520" y="37339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486400" y="4648320"/>
            <a:ext cx="838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629400" y="4648320"/>
            <a:ext cx="53352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58000" y="5791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6" name=""/>
          <p:cNvSpPr/>
          <p:nvPr/>
        </p:nvSpPr>
        <p:spPr>
          <a:xfrm>
            <a:off x="5181480" y="571500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362320" y="2362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24852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335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5334120" y="5791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4290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505320"/>
            <a:ext cx="99036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505320"/>
            <a:ext cx="99036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3505320"/>
            <a:ext cx="99072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62520" y="152388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438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62520" y="91440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43828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438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581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581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65760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4724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724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8006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62520" y="114300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8954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8862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8862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97180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472428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00600"/>
            <a:ext cx="99036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971800"/>
            <a:ext cx="990720" cy="99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2590920"/>
            <a:ext cx="1676520" cy="1676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191120"/>
            <a:ext cx="1600200" cy="1676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52880" y="31240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分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38680" y="4876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写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267080"/>
            <a:ext cx="167616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743200"/>
            <a:ext cx="1600200" cy="160020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0" y="4724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摆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19520" y="30481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拨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1143000"/>
            <a:ext cx="1676520" cy="16765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14800" y="1752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主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191120"/>
            <a:ext cx="1600200" cy="16761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38480" y="464832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732840"/>
            <a:ext cx="7010280" cy="360"/>
          </a:xfrm>
          <a:prstGeom prst="line">
            <a:avLst/>
          </a:prstGeom>
          <a:noFill/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3500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32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172200"/>
            <a:ext cx="2819520" cy="45720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133720"/>
            <a:ext cx="685800" cy="4343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3152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52680" y="4495680"/>
            <a:ext cx="1371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cc"/>
                </a:solidFill>
                <a:latin typeface="宋体"/>
              </a:rPr>
              <a:t>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cc"/>
              </a:solidFill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4419720"/>
            <a:ext cx="12956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cc"/>
                </a:solidFill>
                <a:latin typeface="宋体"/>
              </a:rPr>
              <a:t>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cc"/>
              </a:solidFill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5c5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472428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62320" y="3505320"/>
            <a:ext cx="1066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525780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400" y="320040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43600" y="4724280"/>
            <a:ext cx="838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705720" y="34290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6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96080" y="4419720"/>
            <a:ext cx="990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81280" y="533520"/>
            <a:ext cx="17528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8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5:55:34Z</dcterms:created>
  <dc:creator>YDJ</dc:creator>
  <dc:description/>
  <dc:language>en-US</dc:language>
  <cp:lastModifiedBy>ydj</cp:lastModifiedBy>
  <dcterms:modified xsi:type="dcterms:W3CDTF">1998-10-20T07:33:07Z</dcterms:modified>
  <cp:revision>31</cp:revision>
  <dc:subject/>
  <dc:title>制作人:胡定坤                                        盐道街小学</dc:title>
</cp:coreProperties>
</file>