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type.wav" ContentType="audio/x-wav"/>
  <Override PartName="/ppt/media/image21.wmf" ContentType="image/x-wmf"/>
  <Override PartName="/ppt/media/image12.png" ContentType="image/png"/>
  <Override PartName="/ppt/media/image17.wmf" ContentType="image/x-wmf"/>
  <Override PartName="/ppt/media/image9.png" ContentType="image/png"/>
  <Override PartName="/ppt/media/image8.jpeg" ContentType="image/jpeg"/>
  <Override PartName="/ppt/media/image13.wmf" ContentType="image/x-wmf"/>
  <Override PartName="/ppt/media/image5.png" ContentType="image/png"/>
  <Override PartName="/ppt/media/image35.png" ContentType="image/png"/>
  <Override PartName="/ppt/media/image20.wmf" ContentType="image/x-wmf"/>
  <Override PartName="/ppt/media/image10.gif" ContentType="image/gif"/>
  <Override PartName="/ppt/media/image33.wmf" ContentType="image/x-wmf"/>
  <Override PartName="/ppt/media/image30.wmf" ContentType="image/x-wmf"/>
  <Override PartName="/ppt/media/image31.wmf" ContentType="image/x-wmf"/>
  <Override PartName="/ppt/media/image11.png" ContentType="image/png"/>
  <Override PartName="/ppt/media/image32.png" ContentType="image/png"/>
  <Override PartName="/ppt/media/image7.png" ContentType="image/png"/>
  <Override PartName="/ppt/media/image15.wmf" ContentType="image/x-wmf"/>
  <Override PartName="/ppt/media/image36.wmf" ContentType="image/x-wmf"/>
  <Override PartName="/ppt/media/image6.png" ContentType="image/png"/>
  <Override PartName="/ppt/media/image14.wmf" ContentType="image/x-wmf"/>
  <Override PartName="/ppt/media/image34.png" ContentType="image/png"/>
  <Override PartName="/ppt/media/image4.png" ContentType="image/png"/>
  <Override PartName="/ppt/media/image3.png" ContentType="image/png"/>
  <Override PartName="/ppt/media/image25.wmf" ContentType="image/x-wmf"/>
  <Override PartName="/ppt/media/image18.wmf" ContentType="image/x-wmf"/>
  <Override PartName="/ppt/media/image2.jpeg" ContentType="image/jpeg"/>
  <Override PartName="/ppt/media/image29.wmf" ContentType="image/x-wmf"/>
  <Override PartName="/ppt/media/image1.png" ContentType="image/png"/>
  <Override PartName="/ppt/media/image16.wmf" ContentType="image/x-wmf"/>
  <Override PartName="/ppt/media/image1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F5AE-A4E1-49FF-89D2-9FB104C9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B2E9-38BB-433A-AC11-4FD1FCE4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437A-49C8-4A9F-A772-FF24D402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40E-8271-456D-A21D-D1C4E683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FA89-9504-492F-B179-5CF95C90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0985-0388-459B-9AB4-23C0E740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F7B5-1358-4DC5-B2A8-30211EB6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CB3C-6862-4549-8754-0B37C148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A646-9374-4869-805B-E92EC1FA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30EC-ED38-4BCD-A7FE-2529316C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5313-7E13-4D62-87FF-0B5C824C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11FE-6A5B-4B59-90F1-8362B0E2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BC0F-563D-46A7-B9DC-BD1A732C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30CA-3A12-4E3B-93AB-177375AE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1148-064F-4FF7-A29C-B86AFE59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EB64-8EBA-4581-ACD1-BBD09DC2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8283-BF54-457F-BCD3-18A1F1C5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3445E-4556-4645-A6FF-84DD2158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029AB-6879-4583-9C8F-CC29044C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92838-38A8-4008-9C2D-2329CF46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DD926-0876-467D-90C8-51C5EB05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D6EE1-3D09-4666-8B4F-B3201885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397-A987-442F-B110-5038502B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7E5A1-B110-46BF-B7C8-6D1FA9B1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AD22D-C186-4060-98E7-EF709D1B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F49CC-8C6B-47B7-8E56-5CDAD02D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A3A08-6FCA-444C-88D8-6576F523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47495-757F-4F87-B824-7D201F8A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7AD7A-898D-4286-A507-C594DDE8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2FC1A-173C-43D2-AB50-A79A8B03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0E055-14B1-4608-B869-C792B9B4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95E9E-5324-48D3-9F73-F29D3B63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49D00-CAB3-48CF-B358-C6764B77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BB7D-8B09-4119-85B3-13B9C8BE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5FA5B-D715-42E4-8742-7266BBBE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708C3-0A2C-4DB5-8816-D7A330C1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074AC-CD37-4136-B7A9-B4340E20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619E2-3E56-4A84-9C77-E748C026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2F103-54EA-40B2-B69A-48AA1791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FD66B-8E7A-49E5-8851-D6994416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79744-1D5C-43A7-A714-04A15C4C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3BC24-C659-40B1-84CA-C5220932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30C2B-7D9E-40DF-AF5C-C3FA65D1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38E1A-28E8-41D5-8D55-E45B8A85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C272-2823-49B8-8B4D-73DA0BAD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86861-5886-448E-BAA9-A294DAF9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FF27D-10FD-4BD0-9F73-354E042E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6620C-E423-4400-A4E8-5786038E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2BA1B-6AC3-4D5E-96F1-D6AA2E6A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ACBF6-2484-4258-B519-9EC81208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B86EA-887D-4608-B4AF-D126CED1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11FD7-5B3E-4D93-A2D3-5F997650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45E52-05D7-4AAE-BFF0-31336566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CFB37-953A-4CA8-A893-5FEB57E5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5FAFC-4E6B-4F70-8D75-F9779560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FBAF-529A-4C1B-83BB-99EF6DB5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405A9-8D98-49D5-8BDF-A2678C7C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9AC66-2973-48DF-86E8-051DEBA6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16D5D-7E48-446E-8AEC-55AFD41B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974A0-0012-497F-85E5-279B29AC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16A68-2D1F-4815-8C34-534805C8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C86D2-2B34-4FA0-8FEE-40C7E5A1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B1D72-E3E3-4D1F-8985-86C28667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B95A2-4FA3-454A-897B-B528CFD6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AED2F-5893-445E-988D-7EF300EE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227C2-2602-4178-AA36-30F9C33C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FCE-C86F-4BF7-BA9D-B2BA8DC4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D174C-8653-48E2-847D-5E6C846A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E2902-8625-478C-B28D-491BE656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99642-345B-453F-9561-2F58747F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EC65C-C8AA-4CFB-BE39-4878E16E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A7A94-4F6C-4403-B078-BB1951E6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E9FAB-A399-4ECA-B290-9DFA5190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6C936-50A9-4275-9357-C6A4D234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154E5-3400-471A-9A7B-7D5B2560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ADF0D-27D7-486F-B7D1-DA5D9D53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590F5-1914-4FFF-A1AE-390F99B3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A677-81FE-4103-8D03-8F96F1AA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2272A-2375-4CE8-BC08-47F566CF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800F4-FF19-42AF-BE79-B730C204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02E3C-F8A1-42F7-B5DD-ED1D5954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E2094-488E-47CB-8434-81356F30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DA5D1-072C-46FD-90E7-3A80C591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EDE8-1554-4C53-A607-1FE4503D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DDE5-E325-4307-897A-D37428FAF98B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1659-FA9F-4A80-80BA-C6FDAE216D03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01f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7201f"/>
                </a:solidFill>
                <a:latin typeface="Corbe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7201f"/>
                </a:solidFill>
                <a:latin typeface="Corbe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7201f"/>
                </a:solidFill>
                <a:latin typeface="Corbe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4AC7-E5AA-47B6-9860-3EB14CC80FE5}" type="slidenum">
              <a:rPr b="0" lang="zh-CN" sz="1200" spc="-1" strike="noStrike">
                <a:solidFill>
                  <a:srgbClr val="57201f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01f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7201f"/>
                </a:solidFill>
                <a:latin typeface="Corbe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7201f"/>
                </a:solidFill>
                <a:latin typeface="Corbe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7201f"/>
                </a:solidFill>
                <a:latin typeface="Corbe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0E96-9BA5-47BA-9D08-062483DE441D}" type="slidenum">
              <a:rPr b="0" lang="zh-CN" sz="1200" spc="-1" strike="noStrike">
                <a:solidFill>
                  <a:srgbClr val="57201f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64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0808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7FB4-EFC7-4CC0-831F-C2ACEFCEE5B4}" type="slidenum">
              <a:rPr b="0" lang="zh-CN" sz="1000" spc="-1" strike="noStrike">
                <a:solidFill>
                  <a:srgbClr val="80808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230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0808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F581-2A43-4FAE-A590-A5EFCA7ACD9D}" type="slidenum">
              <a:rPr b="0" lang="zh-CN" sz="1000" spc="-1" strike="noStrike">
                <a:solidFill>
                  <a:srgbClr val="80808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296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0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0808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6809-E4A9-4F40-A3F3-A87503312E92}" type="slidenum">
              <a:rPr b="0" lang="zh-CN" sz="1000" spc="-1" strike="noStrike">
                <a:solidFill>
                  <a:srgbClr val="80808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7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8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9.wmf"/><Relationship Id="rId2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slide" Target="slide24.xml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6697800" y="4508640"/>
            <a:ext cx="2446920" cy="2428920"/>
            <a:chOff x="6697800" y="4508640"/>
            <a:chExt cx="2446920" cy="2428920"/>
          </a:xfrm>
        </p:grpSpPr>
        <p:sp>
          <p:nvSpPr>
            <p:cNvPr id="362" name=""/>
            <p:cNvSpPr/>
            <p:nvPr/>
          </p:nvSpPr>
          <p:spPr>
            <a:xfrm flipH="1" rot="1501200">
              <a:off x="7204320" y="4663440"/>
              <a:ext cx="990000" cy="1165680"/>
            </a:xfrm>
            <a:custGeom>
              <a:avLst/>
              <a:gdLst/>
              <a:ahLst/>
              <a:rect l="l" t="t" r="r" b="b"/>
              <a:pathLst>
                <a:path w="1089" h="1179">
                  <a:moveTo>
                    <a:pt x="0" y="0"/>
                  </a:moveTo>
                  <a:lnTo>
                    <a:pt x="182" y="681"/>
                  </a:lnTo>
                  <a:lnTo>
                    <a:pt x="1089" y="117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99ff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6697800" y="4521960"/>
              <a:ext cx="2446920" cy="2415600"/>
              <a:chOff x="6697800" y="4521960"/>
              <a:chExt cx="2446920" cy="2415600"/>
            </a:xfrm>
          </p:grpSpPr>
          <p:sp>
            <p:nvSpPr>
              <p:cNvPr id="364" name=""/>
              <p:cNvSpPr/>
              <p:nvPr/>
            </p:nvSpPr>
            <p:spPr>
              <a:xfrm rot="1501800">
                <a:off x="7949520" y="5019840"/>
                <a:ext cx="1028160" cy="1017360"/>
              </a:xfrm>
              <a:custGeom>
                <a:avLst/>
                <a:gdLst/>
                <a:ahLst/>
                <a:rect l="l" t="t" r="r" b="b"/>
                <a:pathLst>
                  <a:path w="1131" h="1029">
                    <a:moveTo>
                      <a:pt x="1131" y="1029"/>
                    </a:moveTo>
                    <a:lnTo>
                      <a:pt x="0" y="675"/>
                    </a:lnTo>
                    <a:lnTo>
                      <a:pt x="173" y="0"/>
                    </a:lnTo>
                    <a:lnTo>
                      <a:pt x="1131" y="102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100000">
                    <a:srgbClr val="ccff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6697800" y="4521960"/>
                <a:ext cx="2165040" cy="2415600"/>
                <a:chOff x="6697800" y="4521960"/>
                <a:chExt cx="2165040" cy="2415600"/>
              </a:xfrm>
            </p:grpSpPr>
            <p:sp>
              <p:nvSpPr>
                <p:cNvPr id="366" name=""/>
                <p:cNvSpPr/>
                <p:nvPr/>
              </p:nvSpPr>
              <p:spPr>
                <a:xfrm flipH="1" rot="1501200">
                  <a:off x="6857640" y="5436000"/>
                  <a:ext cx="1845000" cy="1165680"/>
                </a:xfrm>
                <a:custGeom>
                  <a:avLst/>
                  <a:gdLst/>
                  <a:ahLst/>
                  <a:rect l="l" t="t" r="r" b="b"/>
                  <a:pathLst>
                    <a:path w="2030" h="1179">
                      <a:moveTo>
                        <a:pt x="0" y="362"/>
                      </a:moveTo>
                      <a:lnTo>
                        <a:pt x="816" y="1179"/>
                      </a:lnTo>
                      <a:lnTo>
                        <a:pt x="2030" y="489"/>
                      </a:lnTo>
                      <a:lnTo>
                        <a:pt x="1134" y="0"/>
                      </a:lnTo>
                      <a:lnTo>
                        <a:pt x="0" y="36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cc33"/>
                    </a:gs>
                    <a:gs pos="100000">
                      <a:srgbClr val="ccff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1501800">
                  <a:off x="7050240" y="4665600"/>
                  <a:ext cx="1079640" cy="1800360"/>
                </a:xfrm>
                <a:custGeom>
                  <a:avLst/>
                  <a:gdLst/>
                  <a:ahLst/>
                  <a:rect l="l" t="t" r="r" b="b"/>
                  <a:pathLst>
                    <a:path w="1188" h="1821">
                      <a:moveTo>
                        <a:pt x="1059" y="0"/>
                      </a:moveTo>
                      <a:lnTo>
                        <a:pt x="0" y="1143"/>
                      </a:lnTo>
                      <a:lnTo>
                        <a:pt x="1188" y="1821"/>
                      </a:lnTo>
                      <a:lnTo>
                        <a:pt x="1059" y="0"/>
                      </a:lnTo>
                      <a:close/>
                    </a:path>
                  </a:pathLst>
                </a:custGeom>
                <a:solidFill>
                  <a:srgbClr val="ffffff">
                    <a:alpha val="20000"/>
                  </a:srgbClr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68400" y="5648400"/>
            <a:ext cx="1068120" cy="10634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68400" y="4573440"/>
            <a:ext cx="1068120" cy="10638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-236520" y="1581120"/>
            <a:ext cx="94647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汉真广标"/>
                <a:ea typeface="汉真广标"/>
              </a:rPr>
              <a:t>2.1.2</a:t>
            </a:r>
            <a:r>
              <a:rPr b="1" lang="zh-CN" sz="6000" spc="-1" strike="noStrike">
                <a:solidFill>
                  <a:srgbClr val="ff0000"/>
                </a:solidFill>
                <a:latin typeface="汉真广标"/>
                <a:ea typeface="汉真广标"/>
              </a:rPr>
              <a:t>空间中直线与直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汉真广标"/>
                <a:ea typeface="汉真广标"/>
              </a:rPr>
              <a:t>之间的位置关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35280" y="4797360"/>
            <a:ext cx="54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永州市第四中学   伍达志制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2013.4.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677880" y="1484280"/>
            <a:ext cx="528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从有无公共点的角度分类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13160" y="200016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且仅有一个公共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-------------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相交直线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17560" y="4775040"/>
            <a:ext cx="26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面直线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87760" y="4645080"/>
            <a:ext cx="139680" cy="1036440"/>
          </a:xfrm>
          <a:custGeom>
            <a:avLst/>
            <a:gdLst>
              <a:gd name="textAreaLeft" fmla="*/ 89280 w 139680"/>
              <a:gd name="textAreaRight" fmla="*/ 140040 w 139680"/>
              <a:gd name="textAreaTop" fmla="*/ 27000 h 1036440"/>
              <a:gd name="textAreaBottom" fmla="*/ 1009440 h 103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76720" y="452916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相交直线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355400" y="3957480"/>
            <a:ext cx="35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从是否共面的角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类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66960" y="296856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没有公共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------------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213080" y="2711520"/>
            <a:ext cx="277920" cy="1100160"/>
          </a:xfrm>
          <a:custGeom>
            <a:avLst/>
            <a:gdLst>
              <a:gd name="textAreaLeft" fmla="*/ 177480 w 277920"/>
              <a:gd name="textAreaRight" fmla="*/ 277920 w 277920"/>
              <a:gd name="textAreaTop" fmla="*/ 28440 h 1100160"/>
              <a:gd name="textAreaBottom" fmla="*/ 1071720 h 11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06880" y="264492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平行直线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018760" y="3484440"/>
            <a:ext cx="159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异面直 线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33040" y="5937120"/>
            <a:ext cx="52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异面直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同在任何一个平面内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76000" y="522756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平行直线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47628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空间直线位置关系分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468360" y="98100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异面直线的画法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844640"/>
            <a:ext cx="7850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常用一个或两个平面来衬托异面直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同在任何一个平面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539640" y="3573360"/>
            <a:ext cx="8220240" cy="2141280"/>
            <a:chOff x="539640" y="3573360"/>
            <a:chExt cx="8220240" cy="2141280"/>
          </a:xfrm>
        </p:grpSpPr>
        <p:grpSp>
          <p:nvGrpSpPr>
            <p:cNvPr id="456" name=""/>
            <p:cNvGrpSpPr/>
            <p:nvPr/>
          </p:nvGrpSpPr>
          <p:grpSpPr>
            <a:xfrm>
              <a:off x="539640" y="3573360"/>
              <a:ext cx="2664000" cy="2141280"/>
              <a:chOff x="539640" y="3573360"/>
              <a:chExt cx="2664000" cy="2141280"/>
            </a:xfrm>
          </p:grpSpPr>
          <p:sp>
            <p:nvSpPr>
              <p:cNvPr id="457" name=""/>
              <p:cNvSpPr/>
              <p:nvPr/>
            </p:nvSpPr>
            <p:spPr>
              <a:xfrm>
                <a:off x="539640" y="4466160"/>
                <a:ext cx="2664000" cy="624240"/>
              </a:xfrm>
              <a:prstGeom prst="parallelogram">
                <a:avLst>
                  <a:gd name="adj" fmla="val 10669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740960" y="3672000"/>
                <a:ext cx="312840" cy="906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054160" y="4578840"/>
                <a:ext cx="156600" cy="397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210760" y="4976640"/>
                <a:ext cx="261360" cy="738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114200" y="4862880"/>
                <a:ext cx="130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62" name=""/>
              <p:cNvGraphicFramePr/>
              <p:nvPr/>
            </p:nvGraphicFramePr>
            <p:xfrm>
              <a:off x="747720" y="4805280"/>
              <a:ext cx="313200" cy="311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463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47720" y="4805280"/>
                        <a:ext cx="313200" cy="311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64" name=""/>
              <p:cNvGraphicFramePr/>
              <p:nvPr/>
            </p:nvGraphicFramePr>
            <p:xfrm>
              <a:off x="1818000" y="3573360"/>
              <a:ext cx="261360" cy="3114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465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818000" y="3573360"/>
                        <a:ext cx="261360" cy="311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66" name=""/>
              <p:cNvGraphicFramePr/>
              <p:nvPr/>
            </p:nvGraphicFramePr>
            <p:xfrm>
              <a:off x="1374480" y="4480200"/>
              <a:ext cx="261360" cy="39600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467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374480" y="4480200"/>
                        <a:ext cx="261360" cy="396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68" name=""/>
            <p:cNvGrpSpPr/>
            <p:nvPr/>
          </p:nvGrpSpPr>
          <p:grpSpPr>
            <a:xfrm>
              <a:off x="3276720" y="3933720"/>
              <a:ext cx="2592360" cy="1224000"/>
              <a:chOff x="3276720" y="3933720"/>
              <a:chExt cx="2592360" cy="1224000"/>
            </a:xfrm>
          </p:grpSpPr>
          <p:sp>
            <p:nvSpPr>
              <p:cNvPr id="469" name=""/>
              <p:cNvSpPr/>
              <p:nvPr/>
            </p:nvSpPr>
            <p:spPr>
              <a:xfrm>
                <a:off x="3276720" y="3982320"/>
                <a:ext cx="2592360" cy="635400"/>
              </a:xfrm>
              <a:prstGeom prst="parallelogram">
                <a:avLst>
                  <a:gd name="adj" fmla="val 10199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276720" y="4619160"/>
                <a:ext cx="506880" cy="53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248800" y="4619160"/>
                <a:ext cx="508320" cy="53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3783600" y="5157720"/>
                <a:ext cx="197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3952800" y="4128840"/>
                <a:ext cx="732960" cy="4899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459680" y="4619160"/>
                <a:ext cx="1015200" cy="343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75" name=""/>
              <p:cNvGraphicFramePr/>
              <p:nvPr/>
            </p:nvGraphicFramePr>
            <p:xfrm>
              <a:off x="3727440" y="4864320"/>
              <a:ext cx="338040" cy="2685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476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3727440" y="4864320"/>
                        <a:ext cx="338040" cy="26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7" name=""/>
              <p:cNvGraphicFramePr/>
              <p:nvPr/>
            </p:nvGraphicFramePr>
            <p:xfrm>
              <a:off x="3783600" y="3933720"/>
              <a:ext cx="337680" cy="39168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478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3783600" y="3933720"/>
                        <a:ext cx="337680" cy="391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9" name=""/>
              <p:cNvGraphicFramePr/>
              <p:nvPr/>
            </p:nvGraphicFramePr>
            <p:xfrm>
              <a:off x="4741920" y="4080240"/>
              <a:ext cx="281880" cy="26856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480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4741920" y="4080240"/>
                        <a:ext cx="281880" cy="26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81" name=""/>
              <p:cNvGraphicFramePr/>
              <p:nvPr/>
            </p:nvGraphicFramePr>
            <p:xfrm>
              <a:off x="4854960" y="4815360"/>
              <a:ext cx="281880" cy="34200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482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4854960" y="4815360"/>
                        <a:ext cx="281880" cy="342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83" name=""/>
            <p:cNvGrpSpPr/>
            <p:nvPr/>
          </p:nvGrpSpPr>
          <p:grpSpPr>
            <a:xfrm>
              <a:off x="6084720" y="3573360"/>
              <a:ext cx="2675160" cy="1484280"/>
              <a:chOff x="6084720" y="3573360"/>
              <a:chExt cx="2675160" cy="1484280"/>
            </a:xfrm>
          </p:grpSpPr>
          <p:sp>
            <p:nvSpPr>
              <p:cNvPr id="484" name=""/>
              <p:cNvSpPr/>
              <p:nvPr/>
            </p:nvSpPr>
            <p:spPr>
              <a:xfrm>
                <a:off x="6084720" y="4481640"/>
                <a:ext cx="2627640" cy="576000"/>
              </a:xfrm>
              <a:prstGeom prst="parallelogram">
                <a:avLst>
                  <a:gd name="adj" fmla="val 11404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6948360" y="4554360"/>
                <a:ext cx="1008360" cy="36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948360" y="3834000"/>
                <a:ext cx="1440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87" name=""/>
              <p:cNvGraphicFramePr/>
              <p:nvPr/>
            </p:nvGraphicFramePr>
            <p:xfrm>
              <a:off x="6372360" y="4708440"/>
              <a:ext cx="360360" cy="33048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488" name="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6372360" y="4708440"/>
                        <a:ext cx="360360" cy="330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89" name=""/>
              <p:cNvGraphicFramePr/>
              <p:nvPr/>
            </p:nvGraphicFramePr>
            <p:xfrm>
              <a:off x="7915320" y="4626000"/>
              <a:ext cx="299880" cy="33012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490" name="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7915320" y="4626000"/>
                        <a:ext cx="299880" cy="33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91" name=""/>
              <p:cNvGraphicFramePr/>
              <p:nvPr/>
            </p:nvGraphicFramePr>
            <p:xfrm>
              <a:off x="8459640" y="3573360"/>
              <a:ext cx="300240" cy="42084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492" name="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8459640" y="3573360"/>
                        <a:ext cx="300240" cy="420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7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-48,-2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7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-48,-2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684360" y="2492280"/>
            <a:ext cx="3600360" cy="2907720"/>
            <a:chOff x="684360" y="2492280"/>
            <a:chExt cx="3600360" cy="2907720"/>
          </a:xfrm>
        </p:grpSpPr>
        <p:sp>
          <p:nvSpPr>
            <p:cNvPr id="494" name=""/>
            <p:cNvSpPr/>
            <p:nvPr/>
          </p:nvSpPr>
          <p:spPr>
            <a:xfrm>
              <a:off x="2197440" y="24922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18160" y="24922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684360" y="2924280"/>
              <a:ext cx="3600360" cy="2475720"/>
              <a:chOff x="684360" y="2924280"/>
              <a:chExt cx="3600360" cy="2475720"/>
            </a:xfrm>
          </p:grpSpPr>
          <p:sp>
            <p:nvSpPr>
              <p:cNvPr id="497" name=""/>
              <p:cNvSpPr/>
              <p:nvPr/>
            </p:nvSpPr>
            <p:spPr>
              <a:xfrm>
                <a:off x="973440" y="3645000"/>
                <a:ext cx="718920" cy="718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692360" y="3645000"/>
                <a:ext cx="719280" cy="718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413080" y="2924280"/>
                <a:ext cx="719280" cy="718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413080" y="3645000"/>
                <a:ext cx="719280" cy="718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133800" y="2924280"/>
                <a:ext cx="719280" cy="718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92360" y="4363920"/>
                <a:ext cx="719280" cy="719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973440" y="3644640"/>
                <a:ext cx="718920" cy="718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692360" y="4363920"/>
                <a:ext cx="720720" cy="720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13080" y="2924280"/>
                <a:ext cx="720720" cy="720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133800" y="2924280"/>
                <a:ext cx="720720" cy="720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84360" y="443700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33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405080" y="3213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33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133800" y="357192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33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853080" y="357192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33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260720" y="436392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33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413080" y="494028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33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3" name=""/>
          <p:cNvGrpSpPr/>
          <p:nvPr/>
        </p:nvGrpSpPr>
        <p:grpSpPr>
          <a:xfrm>
            <a:off x="5651640" y="2997360"/>
            <a:ext cx="2735280" cy="2404080"/>
            <a:chOff x="5651640" y="2997360"/>
            <a:chExt cx="2735280" cy="2404080"/>
          </a:xfrm>
        </p:grpSpPr>
        <p:sp>
          <p:nvSpPr>
            <p:cNvPr id="514" name=""/>
            <p:cNvSpPr/>
            <p:nvPr/>
          </p:nvSpPr>
          <p:spPr>
            <a:xfrm>
              <a:off x="6156360" y="3428640"/>
              <a:ext cx="1655640" cy="504360"/>
            </a:xfrm>
            <a:prstGeom prst="parallelogram">
              <a:avLst>
                <a:gd name="adj" fmla="val 67978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156360" y="3933360"/>
              <a:ext cx="1295280" cy="1150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15280" y="3428640"/>
              <a:ext cx="0" cy="11523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812000" y="3428640"/>
              <a:ext cx="0" cy="115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6156000" y="3428640"/>
              <a:ext cx="358920" cy="504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6156000" y="4581360"/>
              <a:ext cx="358920" cy="5043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7451280" y="4581360"/>
              <a:ext cx="360360" cy="50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15280" y="4581360"/>
              <a:ext cx="12967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56360" y="4149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651640" y="378900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flipV="1">
              <a:off x="6156000" y="3933000"/>
              <a:ext cx="358920" cy="64764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722920" y="49417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307280" y="378900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Times New Roman"/>
                </a:rPr>
                <a:t>F(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6156360" y="3933360"/>
              <a:ext cx="1295280" cy="1150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72360" y="41493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Times New Roman"/>
                </a:rPr>
                <a:t>(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12000" y="32126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6515280" y="3428640"/>
              <a:ext cx="1295280" cy="115056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299280" y="2997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15280" y="3428640"/>
              <a:ext cx="936360" cy="504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468360" y="189000"/>
            <a:ext cx="8893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探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图是一个正方体的展开图，若还原成正方体，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,CD,EF,G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四条线段所在的直线是异面直线的有几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03280" y="57340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３对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CD;    A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GH;    EF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324000" y="907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一试：取一块长方形纸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别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中点，将纸片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折起，在空间中直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位置关系如何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0" y="3068640"/>
            <a:ext cx="4710240" cy="2092320"/>
            <a:chOff x="0" y="3068640"/>
            <a:chExt cx="4710240" cy="2092320"/>
          </a:xfrm>
        </p:grpSpPr>
        <p:sp>
          <p:nvSpPr>
            <p:cNvPr id="538" name=""/>
            <p:cNvSpPr/>
            <p:nvPr/>
          </p:nvSpPr>
          <p:spPr>
            <a:xfrm>
              <a:off x="1495440" y="3529080"/>
              <a:ext cx="248292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66840" y="4570560"/>
              <a:ext cx="248292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366480" y="3529080"/>
              <a:ext cx="1128600" cy="104148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2849400" y="3529080"/>
              <a:ext cx="1128600" cy="104148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1531800" y="3529080"/>
              <a:ext cx="1128600" cy="104148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671920" y="4583160"/>
              <a:ext cx="81432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55920" y="3068640"/>
              <a:ext cx="81432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58840" y="4583160"/>
              <a:ext cx="8146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95920" y="3143160"/>
              <a:ext cx="81432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087560" y="3071880"/>
              <a:ext cx="81432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0" y="4511520"/>
              <a:ext cx="8143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4788000" y="5084640"/>
            <a:ext cx="8143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948360" y="2852640"/>
            <a:ext cx="81468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076720" y="2565360"/>
            <a:ext cx="3376800" cy="2827080"/>
            <a:chOff x="5076720" y="2565360"/>
            <a:chExt cx="3376800" cy="2827080"/>
          </a:xfrm>
        </p:grpSpPr>
        <p:sp>
          <p:nvSpPr>
            <p:cNvPr id="552" name=""/>
            <p:cNvSpPr/>
            <p:nvPr/>
          </p:nvSpPr>
          <p:spPr>
            <a:xfrm>
              <a:off x="6332400" y="3601800"/>
              <a:ext cx="1319400" cy="9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6720" y="4910040"/>
              <a:ext cx="1319400" cy="9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51440" y="3601800"/>
              <a:ext cx="482760" cy="507960"/>
            </a:xfrm>
            <a:custGeom>
              <a:avLst/>
              <a:gdLst/>
              <a:ahLst/>
              <a:rect l="l" t="t" r="r" b="b"/>
              <a:pathLst>
                <a:path w="346" h="303">
                  <a:moveTo>
                    <a:pt x="346" y="0"/>
                  </a:moveTo>
                  <a:lnTo>
                    <a:pt x="0" y="303"/>
                  </a:lnTo>
                </a:path>
              </a:pathLst>
            </a:custGeom>
            <a:noFill/>
            <a:ln w="4428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5641920" y="2565360"/>
              <a:ext cx="1255680" cy="13078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6373800" y="3601800"/>
              <a:ext cx="1257120" cy="13082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97600" y="2565360"/>
              <a:ext cx="754200" cy="10461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641920" y="3873240"/>
              <a:ext cx="754200" cy="10461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5097600" y="4109400"/>
              <a:ext cx="753840" cy="7858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13160" y="3590640"/>
              <a:ext cx="4334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149880" y="3590640"/>
              <a:ext cx="81432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27560" y="4814640"/>
              <a:ext cx="8146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39200" y="3373200"/>
              <a:ext cx="81432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1450440" y="-36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二）直观感知，操作确认，灵活运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395280" y="619920"/>
            <a:ext cx="31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1692360" y="619920"/>
            <a:ext cx="6555240" cy="1208160"/>
            <a:chOff x="1692360" y="619920"/>
            <a:chExt cx="6555240" cy="1208160"/>
          </a:xfrm>
        </p:grpSpPr>
        <mc:AlternateContent>
          <mc:Choice xmlns:a14="http://schemas.microsoft.com/office/drawing/2010/main" Requires="a14">
            <p:sp>
              <p:nvSpPr>
                <p:cNvPr id="567" name=""/>
                <p:cNvSpPr txBox="1"/>
                <p:nvPr/>
              </p:nvSpPr>
              <p:spPr>
                <a:xfrm>
                  <a:off x="1692360" y="620640"/>
                  <a:ext cx="427320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长方体</m:t>
                      </m:r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中，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8" name=""/>
                <p:cNvSpPr txBox="1"/>
                <p:nvPr/>
              </p:nvSpPr>
              <p:spPr>
                <a:xfrm>
                  <a:off x="6084720" y="620640"/>
                  <a:ext cx="165528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//</m:t>
                      </m:r>
                      <m:r>
                        <m:t xml:space="preserve">A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1765080" y="1268280"/>
                  <a:ext cx="151092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//</m:t>
                      </m:r>
                      <m:r>
                        <m:t xml:space="preserve">A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0" name=""/>
                <p:cNvSpPr txBox="1"/>
                <p:nvPr/>
              </p:nvSpPr>
              <p:spPr>
                <a:xfrm>
                  <a:off x="3636720" y="1268280"/>
                  <a:ext cx="107928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则B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1" name=""/>
                <p:cNvSpPr txBox="1"/>
                <p:nvPr/>
              </p:nvSpPr>
              <p:spPr>
                <a:xfrm>
                  <a:off x="5076720" y="1268280"/>
                  <a:ext cx="72036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72" name=""/>
            <p:cNvSpPr/>
            <p:nvPr/>
          </p:nvSpPr>
          <p:spPr>
            <a:xfrm>
              <a:off x="7823160" y="6199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247560" y="1124640"/>
              <a:ext cx="733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73800" y="1196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158520" y="11962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什么关系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2195640" y="2133720"/>
            <a:ext cx="4033800" cy="2581200"/>
            <a:chOff x="2195640" y="2133720"/>
            <a:chExt cx="4033800" cy="2581200"/>
          </a:xfrm>
        </p:grpSpPr>
        <p:sp>
          <p:nvSpPr>
            <p:cNvPr id="577" name=""/>
            <p:cNvSpPr/>
            <p:nvPr/>
          </p:nvSpPr>
          <p:spPr>
            <a:xfrm>
              <a:off x="3379680" y="3633840"/>
              <a:ext cx="2187720" cy="0"/>
            </a:xfrm>
            <a:prstGeom prst="line">
              <a:avLst/>
            </a:prstGeom>
            <a:ln w="414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652840" y="4248360"/>
              <a:ext cx="218592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4838760" y="3633480"/>
              <a:ext cx="728640" cy="6145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2652840" y="3633480"/>
              <a:ext cx="726840" cy="614520"/>
            </a:xfrm>
            <a:prstGeom prst="line">
              <a:avLst/>
            </a:prstGeom>
            <a:ln w="414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2652840" y="3171960"/>
              <a:ext cx="0" cy="107640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838760" y="3171960"/>
              <a:ext cx="0" cy="107640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5567400" y="2558880"/>
              <a:ext cx="0" cy="107460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3379680" y="2558880"/>
              <a:ext cx="0" cy="1074600"/>
            </a:xfrm>
            <a:prstGeom prst="line">
              <a:avLst/>
            </a:prstGeom>
            <a:ln w="414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652840" y="3171960"/>
              <a:ext cx="218592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379680" y="2559240"/>
              <a:ext cx="218772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4838760" y="2559240"/>
              <a:ext cx="728640" cy="6127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2652840" y="2559240"/>
              <a:ext cx="726840" cy="6127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562720" y="3324600"/>
              <a:ext cx="30636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705560" y="4096080"/>
              <a:ext cx="30636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340000" y="4038840"/>
              <a:ext cx="43020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49560" y="3252960"/>
              <a:ext cx="4287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521240" y="2692440"/>
              <a:ext cx="6127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11480" y="2133720"/>
              <a:ext cx="6127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508720" y="2133720"/>
              <a:ext cx="720720" cy="6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195640" y="2854440"/>
              <a:ext cx="720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324000" y="4724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问题：能否再举出生活中与此相关的实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由此归纳结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324000" y="4046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公理４　平行同一条直线的两条直线互相平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838080" y="1413000"/>
            <a:ext cx="3662280" cy="1373760"/>
            <a:chOff x="838080" y="1413000"/>
            <a:chExt cx="3662280" cy="1373760"/>
          </a:xfrm>
        </p:grpSpPr>
        <p:sp>
          <p:nvSpPr>
            <p:cNvPr id="600" name=""/>
            <p:cNvSpPr/>
            <p:nvPr/>
          </p:nvSpPr>
          <p:spPr>
            <a:xfrm>
              <a:off x="838080" y="1413000"/>
              <a:ext cx="1117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ahoma"/>
                </a:rPr>
                <a:t>a∥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ahoma"/>
                </a:rPr>
                <a:t>c∥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92080" y="1491480"/>
              <a:ext cx="554040" cy="1193760"/>
            </a:xfrm>
            <a:custGeom>
              <a:avLst/>
              <a:gdLst>
                <a:gd name="textAreaLeft" fmla="*/ 0 w 554040"/>
                <a:gd name="textAreaRight" fmla="*/ 200160 w 554040"/>
                <a:gd name="textAreaTop" fmla="*/ 30960 h 1193760"/>
                <a:gd name="textAreaBottom" fmla="*/ 1162800 h 119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68520" y="1809360"/>
              <a:ext cx="632880" cy="513720"/>
            </a:xfrm>
            <a:prstGeom prst="rightArrow">
              <a:avLst>
                <a:gd name="adj1" fmla="val 50000"/>
                <a:gd name="adj2" fmla="val 30799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39280" y="1712520"/>
              <a:ext cx="12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ahoma"/>
                </a:rPr>
                <a:t>a ∥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24000" y="400536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讨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公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明空间平行直线具有传递性，在逻辑推理中公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何理论作用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9280" y="522936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判断空间两条直线平行的依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4858920" y="1413000"/>
            <a:ext cx="4073760" cy="1848600"/>
            <a:chOff x="4858920" y="1413000"/>
            <a:chExt cx="4073760" cy="1848600"/>
          </a:xfrm>
        </p:grpSpPr>
        <p:grpSp>
          <p:nvGrpSpPr>
            <p:cNvPr id="607" name=""/>
            <p:cNvGrpSpPr/>
            <p:nvPr/>
          </p:nvGrpSpPr>
          <p:grpSpPr>
            <a:xfrm>
              <a:off x="7319880" y="1413000"/>
              <a:ext cx="478080" cy="451800"/>
              <a:chOff x="7319880" y="1413000"/>
              <a:chExt cx="478080" cy="451800"/>
            </a:xfrm>
          </p:grpSpPr>
          <p:sp>
            <p:nvSpPr>
              <p:cNvPr id="608" name=""/>
              <p:cNvSpPr/>
              <p:nvPr/>
            </p:nvSpPr>
            <p:spPr>
              <a:xfrm flipH="1">
                <a:off x="7319880" y="1428120"/>
                <a:ext cx="478080" cy="43668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319880" y="1413000"/>
                <a:ext cx="27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5793840" y="1755720"/>
              <a:ext cx="466920" cy="411120"/>
              <a:chOff x="5793840" y="1755720"/>
              <a:chExt cx="466920" cy="411120"/>
            </a:xfrm>
          </p:grpSpPr>
          <p:sp>
            <p:nvSpPr>
              <p:cNvPr id="611" name=""/>
              <p:cNvSpPr/>
              <p:nvPr/>
            </p:nvSpPr>
            <p:spPr>
              <a:xfrm flipH="1">
                <a:off x="5793840" y="1755720"/>
                <a:ext cx="466920" cy="411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794200" y="1755720"/>
                <a:ext cx="3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6814800" y="2513160"/>
              <a:ext cx="468360" cy="412560"/>
              <a:chOff x="6814800" y="2513160"/>
              <a:chExt cx="468360" cy="412560"/>
            </a:xfrm>
          </p:grpSpPr>
          <p:sp>
            <p:nvSpPr>
              <p:cNvPr id="614" name=""/>
              <p:cNvSpPr/>
              <p:nvPr/>
            </p:nvSpPr>
            <p:spPr>
              <a:xfrm flipH="1">
                <a:off x="6814800" y="2513160"/>
                <a:ext cx="468360" cy="41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815160" y="2513160"/>
                <a:ext cx="33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5794200" y="1755720"/>
              <a:ext cx="1468080" cy="1164960"/>
              <a:chOff x="5794200" y="1755720"/>
              <a:chExt cx="1468080" cy="1164960"/>
            </a:xfrm>
          </p:grpSpPr>
          <p:sp>
            <p:nvSpPr>
              <p:cNvPr id="617" name=""/>
              <p:cNvSpPr/>
              <p:nvPr/>
            </p:nvSpPr>
            <p:spPr>
              <a:xfrm>
                <a:off x="6261120" y="1755720"/>
                <a:ext cx="1001160" cy="75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794200" y="2166840"/>
                <a:ext cx="1001160" cy="75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6814800" y="1413000"/>
              <a:ext cx="1001520" cy="1507680"/>
              <a:chOff x="6814800" y="1413000"/>
              <a:chExt cx="1001520" cy="1507680"/>
            </a:xfrm>
          </p:grpSpPr>
          <p:sp>
            <p:nvSpPr>
              <p:cNvPr id="620" name=""/>
              <p:cNvSpPr/>
              <p:nvPr/>
            </p:nvSpPr>
            <p:spPr>
              <a:xfrm flipH="1">
                <a:off x="6814800" y="1824120"/>
                <a:ext cx="533880" cy="10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7282080" y="1413000"/>
                <a:ext cx="534240" cy="10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5794200" y="1413000"/>
              <a:ext cx="2003400" cy="753480"/>
              <a:chOff x="5794200" y="1413000"/>
              <a:chExt cx="2003400" cy="753480"/>
            </a:xfrm>
          </p:grpSpPr>
          <p:sp>
            <p:nvSpPr>
              <p:cNvPr id="623" name=""/>
              <p:cNvSpPr/>
              <p:nvPr/>
            </p:nvSpPr>
            <p:spPr>
              <a:xfrm flipV="1">
                <a:off x="5794200" y="1823760"/>
                <a:ext cx="153612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6261480" y="1413000"/>
                <a:ext cx="153612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4858920" y="2303640"/>
              <a:ext cx="4073760" cy="957960"/>
              <a:chOff x="4858920" y="2303640"/>
              <a:chExt cx="4073760" cy="957960"/>
            </a:xfrm>
          </p:grpSpPr>
          <p:grpSp>
            <p:nvGrpSpPr>
              <p:cNvPr id="626" name=""/>
              <p:cNvGrpSpPr/>
              <p:nvPr/>
            </p:nvGrpSpPr>
            <p:grpSpPr>
              <a:xfrm>
                <a:off x="4858920" y="2303640"/>
                <a:ext cx="4073760" cy="891000"/>
                <a:chOff x="4858920" y="2303640"/>
                <a:chExt cx="4073760" cy="891000"/>
              </a:xfrm>
            </p:grpSpPr>
            <p:sp>
              <p:nvSpPr>
                <p:cNvPr id="627" name=""/>
                <p:cNvSpPr/>
                <p:nvPr/>
              </p:nvSpPr>
              <p:spPr>
                <a:xfrm flipH="1">
                  <a:off x="4858920" y="2303640"/>
                  <a:ext cx="934920" cy="89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859280" y="3194640"/>
                  <a:ext cx="3138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5794200" y="2303640"/>
                  <a:ext cx="313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H="1">
                  <a:off x="7998120" y="2303640"/>
                  <a:ext cx="934560" cy="89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1" name=""/>
              <p:cNvSpPr/>
              <p:nvPr/>
            </p:nvSpPr>
            <p:spPr>
              <a:xfrm>
                <a:off x="5118840" y="280188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α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5994360" y="2303640"/>
              <a:ext cx="1001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062840" y="2303640"/>
              <a:ext cx="296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3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395280" y="54936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四个顶点不在同一个平面内的空间四边形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别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中点，连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G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求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FG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个平行四边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41080" y="2276640"/>
            <a:ext cx="5132160" cy="3023280"/>
            <a:chOff x="541080" y="2276640"/>
            <a:chExt cx="5132160" cy="3023280"/>
          </a:xfrm>
        </p:grpSpPr>
        <p:grpSp>
          <p:nvGrpSpPr>
            <p:cNvPr id="636" name=""/>
            <p:cNvGrpSpPr/>
            <p:nvPr/>
          </p:nvGrpSpPr>
          <p:grpSpPr>
            <a:xfrm>
              <a:off x="541080" y="2276640"/>
              <a:ext cx="5132160" cy="3023280"/>
              <a:chOff x="541080" y="2276640"/>
              <a:chExt cx="5132160" cy="3023280"/>
            </a:xfrm>
          </p:grpSpPr>
          <p:sp>
            <p:nvSpPr>
              <p:cNvPr id="637" name=""/>
              <p:cNvSpPr/>
              <p:nvPr/>
            </p:nvSpPr>
            <p:spPr>
              <a:xfrm>
                <a:off x="1177920" y="2820600"/>
                <a:ext cx="396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∵ 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EH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是△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ABD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的中位线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101600" y="3238200"/>
                <a:ext cx="396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∴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EH ∥BD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且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EH =      B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177920" y="3725640"/>
                <a:ext cx="449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同理，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FG ∥BD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且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FG =     B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177920" y="4286160"/>
                <a:ext cx="365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∴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EH ∥FG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且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EH =F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177920" y="4840200"/>
                <a:ext cx="39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∴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EFGH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是一个平行四边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41080" y="227664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</a:rPr>
                  <a:t>证明：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800360" y="2379240"/>
                <a:ext cx="104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连结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B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44" name=""/>
                <p:cNvSpPr txBox="1"/>
                <p:nvPr/>
              </p:nvSpPr>
              <p:spPr>
                <a:xfrm>
                  <a:off x="4378320" y="3552480"/>
                  <a:ext cx="41400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645" name=""/>
            <p:cNvGraphicFramePr/>
            <p:nvPr/>
          </p:nvGraphicFramePr>
          <p:xfrm>
            <a:off x="3844800" y="3146040"/>
            <a:ext cx="371160" cy="657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4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44800" y="3146040"/>
                      <a:ext cx="371160" cy="6570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647" name=""/>
          <p:cNvGrpSpPr/>
          <p:nvPr/>
        </p:nvGrpSpPr>
        <p:grpSpPr>
          <a:xfrm>
            <a:off x="6443640" y="2421000"/>
            <a:ext cx="2289960" cy="2898000"/>
            <a:chOff x="6443640" y="2421000"/>
            <a:chExt cx="2289960" cy="2898000"/>
          </a:xfrm>
        </p:grpSpPr>
        <p:sp>
          <p:nvSpPr>
            <p:cNvPr id="648" name=""/>
            <p:cNvSpPr/>
            <p:nvPr/>
          </p:nvSpPr>
          <p:spPr>
            <a:xfrm>
              <a:off x="7586640" y="2801880"/>
              <a:ext cx="180720" cy="1551960"/>
            </a:xfrm>
            <a:custGeom>
              <a:avLst/>
              <a:gdLst/>
              <a:ahLst/>
              <a:rect l="l" t="t" r="r" b="b"/>
              <a:pathLst>
                <a:path w="114" h="978">
                  <a:moveTo>
                    <a:pt x="0" y="0"/>
                  </a:moveTo>
                  <a:lnTo>
                    <a:pt x="114" y="978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758000" y="4316400"/>
              <a:ext cx="743040" cy="618480"/>
            </a:xfrm>
            <a:custGeom>
              <a:avLst/>
              <a:gdLst/>
              <a:ahLst/>
              <a:rect l="l" t="t" r="r" b="b"/>
              <a:pathLst>
                <a:path w="468" h="390">
                  <a:moveTo>
                    <a:pt x="0" y="0"/>
                  </a:moveTo>
                  <a:lnTo>
                    <a:pt x="468" y="39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6443640" y="2421000"/>
              <a:ext cx="2289960" cy="2898000"/>
              <a:chOff x="6443640" y="2421000"/>
              <a:chExt cx="2289960" cy="2898000"/>
            </a:xfrm>
          </p:grpSpPr>
          <p:sp>
            <p:nvSpPr>
              <p:cNvPr id="651" name=""/>
              <p:cNvSpPr/>
              <p:nvPr/>
            </p:nvSpPr>
            <p:spPr>
              <a:xfrm>
                <a:off x="7576920" y="4902120"/>
                <a:ext cx="33480" cy="32760"/>
              </a:xfrm>
              <a:prstGeom prst="ellipse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653240" y="3563640"/>
                <a:ext cx="33120" cy="31680"/>
              </a:xfrm>
              <a:prstGeom prst="ellipse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110440" y="4630680"/>
                <a:ext cx="33120" cy="32760"/>
              </a:xfrm>
              <a:prstGeom prst="ellipse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358040" y="2421000"/>
                <a:ext cx="49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443640" y="48592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586640" y="40208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24520" y="3639960"/>
                <a:ext cx="384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434000" y="4859280"/>
                <a:ext cx="76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119800" y="432576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662600" y="3259080"/>
                <a:ext cx="56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105680" y="3868560"/>
                <a:ext cx="23760" cy="34560"/>
              </a:xfrm>
              <a:prstGeom prst="ellipse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6672240" y="2801880"/>
                <a:ext cx="914400" cy="213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672240" y="4935240"/>
                <a:ext cx="182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586640" y="2801880"/>
                <a:ext cx="95040" cy="780480"/>
              </a:xfrm>
              <a:custGeom>
                <a:avLst/>
                <a:gdLst/>
                <a:ahLst/>
                <a:rect l="l" t="t" r="r" b="b"/>
                <a:pathLst>
                  <a:path w="60" h="492">
                    <a:moveTo>
                      <a:pt x="0" y="0"/>
                    </a:moveTo>
                    <a:lnTo>
                      <a:pt x="60" y="49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8148600" y="4649760"/>
                <a:ext cx="371520" cy="294840"/>
              </a:xfrm>
              <a:custGeom>
                <a:avLst/>
                <a:gdLst/>
                <a:ahLst/>
                <a:rect l="l" t="t" r="r" b="b"/>
                <a:pathLst>
                  <a:path w="234" h="186">
                    <a:moveTo>
                      <a:pt x="0" y="0"/>
                    </a:moveTo>
                    <a:lnTo>
                      <a:pt x="234" y="18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350200" y="48592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7" name=""/>
          <p:cNvGrpSpPr/>
          <p:nvPr/>
        </p:nvGrpSpPr>
        <p:grpSpPr>
          <a:xfrm>
            <a:off x="7093080" y="3589200"/>
            <a:ext cx="1009440" cy="1352520"/>
            <a:chOff x="7093080" y="3589200"/>
            <a:chExt cx="1009440" cy="1352520"/>
          </a:xfrm>
        </p:grpSpPr>
        <p:sp>
          <p:nvSpPr>
            <p:cNvPr id="668" name=""/>
            <p:cNvSpPr/>
            <p:nvPr/>
          </p:nvSpPr>
          <p:spPr>
            <a:xfrm>
              <a:off x="7102440" y="3589200"/>
              <a:ext cx="561960" cy="303120"/>
            </a:xfrm>
            <a:custGeom>
              <a:avLst/>
              <a:gdLst/>
              <a:ahLst/>
              <a:rect l="l" t="t" r="r" b="b"/>
              <a:pathLst>
                <a:path w="354" h="186">
                  <a:moveTo>
                    <a:pt x="0" y="186"/>
                  </a:moveTo>
                  <a:lnTo>
                    <a:pt x="35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569000" y="4655880"/>
              <a:ext cx="514440" cy="285840"/>
            </a:xfrm>
            <a:custGeom>
              <a:avLst/>
              <a:gdLst/>
              <a:ahLst/>
              <a:rect l="l" t="t" r="r" b="b"/>
              <a:pathLst>
                <a:path w="324" h="180">
                  <a:moveTo>
                    <a:pt x="0" y="180"/>
                  </a:moveTo>
                  <a:lnTo>
                    <a:pt x="32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093080" y="3903480"/>
              <a:ext cx="485640" cy="1028880"/>
            </a:xfrm>
            <a:custGeom>
              <a:avLst/>
              <a:gdLst/>
              <a:ahLst/>
              <a:rect l="l" t="t" r="r" b="b"/>
              <a:pathLst>
                <a:path w="306" h="648">
                  <a:moveTo>
                    <a:pt x="0" y="0"/>
                  </a:moveTo>
                  <a:lnTo>
                    <a:pt x="306" y="6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45320" y="3608280"/>
              <a:ext cx="457200" cy="1057320"/>
            </a:xfrm>
            <a:custGeom>
              <a:avLst/>
              <a:gdLst/>
              <a:ahLst/>
              <a:rect l="l" t="t" r="r" b="b"/>
              <a:pathLst>
                <a:path w="288" h="666">
                  <a:moveTo>
                    <a:pt x="0" y="0"/>
                  </a:moveTo>
                  <a:lnTo>
                    <a:pt x="288" y="66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6732720" y="4292640"/>
            <a:ext cx="1066680" cy="609120"/>
            <a:chOff x="6732720" y="4292640"/>
            <a:chExt cx="1066680" cy="609120"/>
          </a:xfrm>
        </p:grpSpPr>
        <p:sp>
          <p:nvSpPr>
            <p:cNvPr id="673" name=""/>
            <p:cNvSpPr/>
            <p:nvPr/>
          </p:nvSpPr>
          <p:spPr>
            <a:xfrm>
              <a:off x="6732720" y="4292640"/>
              <a:ext cx="1066680" cy="609120"/>
            </a:xfrm>
            <a:custGeom>
              <a:avLst/>
              <a:gdLst/>
              <a:ahLst/>
              <a:rect l="l" t="t" r="r" b="b"/>
              <a:pathLst>
                <a:path w="702" h="378">
                  <a:moveTo>
                    <a:pt x="0" y="378"/>
                  </a:moveTo>
                  <a:lnTo>
                    <a:pt x="702" y="0"/>
                  </a:lnTo>
                </a:path>
              </a:pathLst>
            </a:custGeom>
            <a:noFill/>
            <a:ln cap="rnd" w="2844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744960" y="4518000"/>
              <a:ext cx="661320" cy="369360"/>
            </a:xfrm>
            <a:custGeom>
              <a:avLst/>
              <a:gdLst/>
              <a:ahLst/>
              <a:rect l="l" t="t" r="r" b="b"/>
              <a:pathLst>
                <a:path w="424" h="231">
                  <a:moveTo>
                    <a:pt x="0" y="231"/>
                  </a:moveTo>
                  <a:lnTo>
                    <a:pt x="42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1221840" y="5516640"/>
            <a:ext cx="60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探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再加条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C=BD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会是怎样的四边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2050920" y="6021360"/>
            <a:ext cx="6116760" cy="662040"/>
            <a:chOff x="2050920" y="6021360"/>
            <a:chExt cx="6116760" cy="662040"/>
          </a:xfrm>
        </p:grpSpPr>
        <p:sp>
          <p:nvSpPr>
            <p:cNvPr id="677" name=""/>
            <p:cNvSpPr/>
            <p:nvPr/>
          </p:nvSpPr>
          <p:spPr>
            <a:xfrm>
              <a:off x="2050920" y="6075360"/>
              <a:ext cx="611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2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若更换条件    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会是怎样的四边形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8" name=""/>
            <p:cNvGraphicFramePr/>
            <p:nvPr/>
          </p:nvGraphicFramePr>
          <p:xfrm>
            <a:off x="3827520" y="6021360"/>
            <a:ext cx="1536840" cy="662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7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27520" y="6021360"/>
                      <a:ext cx="1536840" cy="66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80" name=""/>
          <p:cNvSpPr/>
          <p:nvPr/>
        </p:nvSpPr>
        <p:spPr>
          <a:xfrm>
            <a:off x="688680" y="-107280"/>
            <a:ext cx="178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公理应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0" y="76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提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平面上，如果一个角的两边与另一个角的两边分别平行，那么这两个角的大小有什么关系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空间又如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324000" y="2923920"/>
            <a:ext cx="7947000" cy="3297240"/>
            <a:chOff x="324000" y="2923920"/>
            <a:chExt cx="7947000" cy="3297240"/>
          </a:xfrm>
        </p:grpSpPr>
        <p:sp>
          <p:nvSpPr>
            <p:cNvPr id="683" name=""/>
            <p:cNvSpPr/>
            <p:nvPr/>
          </p:nvSpPr>
          <p:spPr>
            <a:xfrm>
              <a:off x="2411280" y="3889440"/>
              <a:ext cx="251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2440080" y="2923920"/>
              <a:ext cx="2232000" cy="93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751360" y="4881600"/>
              <a:ext cx="2519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3564000" y="4867200"/>
              <a:ext cx="2232000" cy="935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4000" y="5761080"/>
              <a:ext cx="2519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352440" y="4795560"/>
              <a:ext cx="2232000" cy="93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842200" y="3485880"/>
              <a:ext cx="722880" cy="86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592" y="367"/>
                  </a:moveTo>
                  <a:arcTo wR="10800" hR="10800" stAng="-4501053" swAng="42118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592" y="367"/>
                  </a:moveTo>
                  <a:arcTo wR="10800" hR="10800" stAng="-4501053" swAng="421181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3000" y="5357880"/>
              <a:ext cx="722880" cy="86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592" y="367"/>
                  </a:moveTo>
                  <a:arcTo wR="10800" hR="10800" stAng="-4501053" swAng="42118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592" y="367"/>
                  </a:moveTo>
                  <a:arcTo wR="10800" hR="10800" stAng="-4501053" swAng="421181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4824000">
              <a:off x="5266800" y="4473360"/>
              <a:ext cx="723960" cy="86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592" y="367"/>
                  </a:moveTo>
                  <a:arcTo wR="10800" hR="10800" stAng="-4501053" swAng="86544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592" y="367"/>
                  </a:moveTo>
                  <a:arcTo wR="10800" hR="10800" stAng="-4501053" swAng="8654485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601560" cy="64764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989280" y="-3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三）类比推广，探究应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0" y="189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棱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CD--A′B′C′D′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底面是平行四边形，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′D′C′,       ∠AD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′A′D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两边分别对应平行，这两组角的大小关系如何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635280" y="2852640"/>
            <a:ext cx="72072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3614760"/>
            <a:ext cx="7207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158320" y="3011400"/>
            <a:ext cx="72072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15920" y="2852640"/>
            <a:ext cx="4148280" cy="2652840"/>
            <a:chOff x="115920" y="2852640"/>
            <a:chExt cx="4148280" cy="2652840"/>
          </a:xfrm>
        </p:grpSpPr>
        <p:sp>
          <p:nvSpPr>
            <p:cNvPr id="699" name=""/>
            <p:cNvSpPr/>
            <p:nvPr/>
          </p:nvSpPr>
          <p:spPr>
            <a:xfrm>
              <a:off x="1338120" y="4394160"/>
              <a:ext cx="2571840" cy="0"/>
            </a:xfrm>
            <a:prstGeom prst="line">
              <a:avLst/>
            </a:prstGeom>
            <a:ln w="414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2760" y="5025960"/>
              <a:ext cx="2570040" cy="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3052800" y="4393800"/>
              <a:ext cx="857160" cy="63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482760" y="4393800"/>
              <a:ext cx="855360" cy="631800"/>
            </a:xfrm>
            <a:prstGeom prst="line">
              <a:avLst/>
            </a:prstGeom>
            <a:ln w="414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482760" y="3919320"/>
              <a:ext cx="0" cy="11062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3052800" y="3919320"/>
              <a:ext cx="0" cy="11062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3909960" y="3288960"/>
              <a:ext cx="0" cy="11048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1338120" y="3288960"/>
              <a:ext cx="0" cy="1104840"/>
            </a:xfrm>
            <a:prstGeom prst="line">
              <a:avLst/>
            </a:prstGeom>
            <a:ln w="414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82760" y="3919680"/>
              <a:ext cx="2570040" cy="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38120" y="3289320"/>
              <a:ext cx="257184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3052800" y="3288960"/>
              <a:ext cx="857160" cy="6303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482760" y="3288960"/>
              <a:ext cx="855360" cy="63036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903840" y="4076640"/>
              <a:ext cx="36036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895480" y="4869000"/>
              <a:ext cx="36036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5920" y="4809960"/>
              <a:ext cx="504720" cy="6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950760" y="4003560"/>
              <a:ext cx="503280" cy="6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79840" y="3427560"/>
              <a:ext cx="7207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022400" y="2852640"/>
              <a:ext cx="720720" cy="6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755640" y="3645000"/>
              <a:ext cx="215640" cy="1596600"/>
              <a:chOff x="755640" y="3645000"/>
              <a:chExt cx="215640" cy="1596600"/>
            </a:xfrm>
          </p:grpSpPr>
          <p:sp>
            <p:nvSpPr>
              <p:cNvPr id="718" name=""/>
              <p:cNvSpPr/>
              <p:nvPr/>
            </p:nvSpPr>
            <p:spPr>
              <a:xfrm>
                <a:off x="828720" y="3645000"/>
                <a:ext cx="142560" cy="43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55640" y="4809960"/>
                <a:ext cx="142560" cy="43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0" name=""/>
          <p:cNvGrpSpPr/>
          <p:nvPr/>
        </p:nvGrpSpPr>
        <p:grpSpPr>
          <a:xfrm>
            <a:off x="4427640" y="2997360"/>
            <a:ext cx="4263840" cy="2652480"/>
            <a:chOff x="4427640" y="2997360"/>
            <a:chExt cx="4263840" cy="2652480"/>
          </a:xfrm>
        </p:grpSpPr>
        <p:sp>
          <p:nvSpPr>
            <p:cNvPr id="721" name=""/>
            <p:cNvSpPr/>
            <p:nvPr/>
          </p:nvSpPr>
          <p:spPr>
            <a:xfrm>
              <a:off x="5765760" y="4538520"/>
              <a:ext cx="2571840" cy="0"/>
            </a:xfrm>
            <a:prstGeom prst="line">
              <a:avLst/>
            </a:prstGeom>
            <a:ln w="414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910040" y="5170320"/>
              <a:ext cx="257040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7480440" y="4538160"/>
              <a:ext cx="857160" cy="63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4910040" y="4538160"/>
              <a:ext cx="855720" cy="631800"/>
            </a:xfrm>
            <a:prstGeom prst="line">
              <a:avLst/>
            </a:prstGeom>
            <a:ln w="414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4910040" y="4063680"/>
              <a:ext cx="0" cy="11062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7480440" y="4063680"/>
              <a:ext cx="0" cy="11062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8337600" y="3433320"/>
              <a:ext cx="0" cy="11048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5765760" y="3433320"/>
              <a:ext cx="0" cy="1104840"/>
            </a:xfrm>
            <a:prstGeom prst="line">
              <a:avLst/>
            </a:prstGeom>
            <a:ln w="414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910040" y="4064040"/>
              <a:ext cx="257040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765760" y="3433680"/>
              <a:ext cx="257184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7480440" y="3433320"/>
              <a:ext cx="857160" cy="63036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910040" y="3433320"/>
              <a:ext cx="855720" cy="6303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331120" y="4221000"/>
              <a:ext cx="360360" cy="6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23120" y="5013360"/>
              <a:ext cx="36036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43560" y="4954680"/>
              <a:ext cx="5047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78400" y="4148280"/>
              <a:ext cx="50328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107120" y="3571920"/>
              <a:ext cx="7207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427640" y="3759120"/>
              <a:ext cx="720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450040" y="2997360"/>
              <a:ext cx="7207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5148360" y="3715200"/>
              <a:ext cx="3092760" cy="1658160"/>
              <a:chOff x="5148360" y="3715200"/>
              <a:chExt cx="3092760" cy="1658160"/>
            </a:xfrm>
          </p:grpSpPr>
          <p:sp>
            <p:nvSpPr>
              <p:cNvPr id="741" name=""/>
              <p:cNvSpPr/>
              <p:nvPr/>
            </p:nvSpPr>
            <p:spPr>
              <a:xfrm>
                <a:off x="5148360" y="4941720"/>
                <a:ext cx="142560" cy="43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 flipV="1" rot="6597000">
                <a:off x="7340400" y="3777120"/>
                <a:ext cx="737640" cy="86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5746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574669"/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3" name=""/>
          <p:cNvSpPr/>
          <p:nvPr/>
        </p:nvSpPr>
        <p:spPr>
          <a:xfrm>
            <a:off x="179280" y="5661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过观察分析，我们可以得到什么结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396720" y="74556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124000" y="1773360"/>
            <a:ext cx="6408720" cy="2198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1403280" y="4437000"/>
                <a:ext cx="51847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rPr>
                            <m:lit/>
                            <m:nor/>
                          </m:rPr>
                          <m:t xml:space="preserve">// {</m:t>
                        </m:r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AB</m:t>
                    </m:r>
                    <m:r>
                      <m:rPr>
                        <m:lit/>
                        <m:nor/>
                      </m:rPr>
                      <m:t xml:space="preserve">// {</m:t>
                    </m:r>
                    <m:r>
                      <m:t xml:space="preserve">A</m:t>
                    </m:r>
                    <m:sSup>
                      <m:e/>
                      <m:sup>
                        <m:r>
                          <m:t xml:space="preserve">'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1187280" y="5373720"/>
                <a:ext cx="32418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CAB</m:t>
                        </m:r>
                        <m:r>
                          <m:rPr>
                            <m:lit/>
                            <m:nor/>
                          </m:rPr>
                          <m:t xml:space="preserve">=∠ {</m:t>
                        </m:r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656240" y="5229360"/>
                <a:ext cx="4487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或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CAB</m:t>
                        </m:r>
                        <m:r>
                          <m:rPr>
                            <m:lit/>
                            <m:nor/>
                          </m:rPr>
                          <m:t xml:space="preserve">+∠ {</m:t>
                        </m:r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9" name=""/>
          <p:cNvSpPr/>
          <p:nvPr/>
        </p:nvSpPr>
        <p:spPr>
          <a:xfrm>
            <a:off x="1440" y="292644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1320" y="38570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39640" y="549360"/>
            <a:ext cx="806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角定理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空间中如果有两个角的两边分别对应平行，那么这两个角相等或互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11280" y="2060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9640" y="378936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符号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11280" y="2205000"/>
            <a:ext cx="731520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平面内，两条不重合的直线之间有几种位置关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空间中，两直线有几种位置关系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01800" y="3141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601920" cy="6476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79280" y="549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一）创设情境  形成概念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94520" y="141192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．提出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7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-48,-2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7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-48,-2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7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-48,-2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7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-48,-2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6229440" y="2905200"/>
            <a:ext cx="1009440" cy="1743120"/>
          </a:xfrm>
          <a:custGeom>
            <a:avLst/>
            <a:gdLst/>
            <a:ahLst/>
            <a:rect l="l" t="t" r="r" b="b"/>
            <a:pathLst>
              <a:path w="726" h="1242">
                <a:moveTo>
                  <a:pt x="0" y="0"/>
                </a:moveTo>
                <a:lnTo>
                  <a:pt x="726" y="124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924520" y="3960720"/>
            <a:ext cx="1847880" cy="1800"/>
          </a:xfrm>
          <a:custGeom>
            <a:avLst/>
            <a:gdLst/>
            <a:ahLst/>
            <a:rect l="l" t="t" r="r" b="b"/>
            <a:pathLst>
              <a:path w="1164" h="1">
                <a:moveTo>
                  <a:pt x="0" y="0"/>
                </a:moveTo>
                <a:lnTo>
                  <a:pt x="116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0920" y="1125360"/>
            <a:ext cx="58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talic"/>
              </a:rPr>
              <a:t>如图所示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两条</a:t>
            </a:r>
            <a:r>
              <a:rPr b="1" lang="zh-CN" sz="2800" spc="-1" strike="noStrike">
                <a:solidFill>
                  <a:srgbClr val="000000"/>
                </a:solidFill>
                <a:latin typeface="Italic"/>
              </a:rPr>
              <a:t>异面直线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148360" y="105264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Italic"/>
              </a:rPr>
              <a:t>在空间中任选一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24000" y="170028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Italic"/>
              </a:rPr>
              <a:t>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分别作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行线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295280" y="2743200"/>
            <a:ext cx="3657600" cy="1905120"/>
            <a:chOff x="1295280" y="2743200"/>
            <a:chExt cx="3657600" cy="1905120"/>
          </a:xfrm>
        </p:grpSpPr>
        <p:grpSp>
          <p:nvGrpSpPr>
            <p:cNvPr id="760" name=""/>
            <p:cNvGrpSpPr/>
            <p:nvPr/>
          </p:nvGrpSpPr>
          <p:grpSpPr>
            <a:xfrm>
              <a:off x="1295280" y="2743200"/>
              <a:ext cx="3657600" cy="1905120"/>
              <a:chOff x="1295280" y="2743200"/>
              <a:chExt cx="3657600" cy="1905120"/>
            </a:xfrm>
          </p:grpSpPr>
          <p:sp>
            <p:nvSpPr>
              <p:cNvPr id="761" name=""/>
              <p:cNvSpPr/>
              <p:nvPr/>
            </p:nvSpPr>
            <p:spPr>
              <a:xfrm>
                <a:off x="1295280" y="3352680"/>
                <a:ext cx="3657600" cy="914400"/>
              </a:xfrm>
              <a:prstGeom prst="parallelogram">
                <a:avLst>
                  <a:gd name="adj" fmla="val 10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057400" y="3962520"/>
                <a:ext cx="18288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590920" y="2895480"/>
                <a:ext cx="457200" cy="76212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352680" y="4267080"/>
                <a:ext cx="228600" cy="38124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52480" y="365760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666880" y="274320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7" name=""/>
            <p:cNvSpPr/>
            <p:nvPr/>
          </p:nvSpPr>
          <p:spPr>
            <a:xfrm>
              <a:off x="2971800" y="3581280"/>
              <a:ext cx="76320" cy="7632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048120" y="3276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a2bf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5638680" y="3571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a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91320" y="27338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6781680" y="3505320"/>
            <a:ext cx="457200" cy="459720"/>
            <a:chOff x="6781680" y="3505320"/>
            <a:chExt cx="457200" cy="459720"/>
          </a:xfrm>
        </p:grpSpPr>
        <p:sp>
          <p:nvSpPr>
            <p:cNvPr id="772" name=""/>
            <p:cNvSpPr/>
            <p:nvPr/>
          </p:nvSpPr>
          <p:spPr>
            <a:xfrm>
              <a:off x="6781680" y="3886560"/>
              <a:ext cx="76320" cy="7596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816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5943600" y="1752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9af58"/>
                </a:solidFill>
                <a:latin typeface="Italic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Italic"/>
              </a:rPr>
              <a:t>则这两条线所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4000" y="2205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Italic"/>
              </a:rPr>
              <a:t>的锐角</a:t>
            </a:r>
            <a:r>
              <a:rPr b="1" lang="zh-CN" sz="2800" spc="-1" strike="noStrike">
                <a:solidFill>
                  <a:srgbClr val="000000"/>
                </a:solidFill>
                <a:latin typeface="Italic"/>
              </a:rPr>
              <a:t>θ</a:t>
            </a:r>
            <a:r>
              <a:rPr b="1" lang="zh-CN" sz="2800" spc="-1" strike="noStrike">
                <a:solidFill>
                  <a:srgbClr val="000000"/>
                </a:solidFill>
                <a:latin typeface="Italic"/>
              </a:rPr>
              <a:t>（或直角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172200" y="3343320"/>
            <a:ext cx="304920" cy="60948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240" y="0"/>
                </a:moveTo>
                <a:cubicBezTo>
                  <a:pt x="188" y="40"/>
                  <a:pt x="136" y="80"/>
                  <a:pt x="96" y="144"/>
                </a:cubicBezTo>
                <a:cubicBezTo>
                  <a:pt x="56" y="208"/>
                  <a:pt x="28" y="296"/>
                  <a:pt x="0" y="384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248520" y="3495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alic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492360" y="2205000"/>
            <a:ext cx="47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talic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Italic"/>
              </a:rPr>
              <a:t>称为</a:t>
            </a:r>
            <a:r>
              <a:rPr b="1" lang="zh-CN" sz="2800" spc="-1" strike="noStrike">
                <a:solidFill>
                  <a:srgbClr val="0000ff"/>
                </a:solidFill>
                <a:latin typeface="Italic"/>
              </a:rPr>
              <a:t>异面直线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所成的角</a:t>
            </a:r>
            <a:r>
              <a:rPr b="1" lang="zh-CN" sz="2800" spc="-1" strike="noStrike">
                <a:solidFill>
                  <a:srgbClr val="ff7c8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666880" y="3352680"/>
            <a:ext cx="228600" cy="30492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240" y="0"/>
                </a:moveTo>
                <a:cubicBezTo>
                  <a:pt x="188" y="40"/>
                  <a:pt x="136" y="80"/>
                  <a:pt x="96" y="144"/>
                </a:cubicBezTo>
                <a:cubicBezTo>
                  <a:pt x="56" y="208"/>
                  <a:pt x="28" y="296"/>
                  <a:pt x="0" y="38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4382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Italic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971800" y="3581280"/>
            <a:ext cx="76320" cy="763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2971800" y="3276720"/>
            <a:ext cx="457200" cy="459720"/>
            <a:chOff x="2971800" y="3276720"/>
            <a:chExt cx="457200" cy="459720"/>
          </a:xfrm>
        </p:grpSpPr>
        <p:sp>
          <p:nvSpPr>
            <p:cNvPr id="783" name=""/>
            <p:cNvSpPr/>
            <p:nvPr/>
          </p:nvSpPr>
          <p:spPr>
            <a:xfrm>
              <a:off x="3048120" y="3394080"/>
              <a:ext cx="315720" cy="20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7180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2114640" y="3276720"/>
            <a:ext cx="1847880" cy="459720"/>
            <a:chOff x="2114640" y="3276720"/>
            <a:chExt cx="1847880" cy="459720"/>
          </a:xfrm>
        </p:grpSpPr>
        <p:sp>
          <p:nvSpPr>
            <p:cNvPr id="786" name=""/>
            <p:cNvSpPr/>
            <p:nvPr/>
          </p:nvSpPr>
          <p:spPr>
            <a:xfrm>
              <a:off x="2114640" y="3657600"/>
              <a:ext cx="1847880" cy="1440"/>
            </a:xfrm>
            <a:custGeom>
              <a:avLst/>
              <a:gdLst/>
              <a:ahLst/>
              <a:rect l="l" t="t" r="r" b="b"/>
              <a:pathLst>
                <a:path w="1164" h="1">
                  <a:moveTo>
                    <a:pt x="0" y="0"/>
                  </a:moveTo>
                  <a:lnTo>
                    <a:pt x="116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177640" y="3276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a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8028000" y="270828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平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087920" y="4724280"/>
            <a:ext cx="57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注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选取无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 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空间角转化为平面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9640" y="260280"/>
            <a:ext cx="7274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两条异面直线所成的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997920" y="5296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异面直线夹角的求解过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324000" y="5805360"/>
            <a:ext cx="6821280" cy="720720"/>
            <a:chOff x="324000" y="5805360"/>
            <a:chExt cx="6821280" cy="720720"/>
          </a:xfrm>
        </p:grpSpPr>
        <p:grpSp>
          <p:nvGrpSpPr>
            <p:cNvPr id="793" name=""/>
            <p:cNvGrpSpPr/>
            <p:nvPr/>
          </p:nvGrpSpPr>
          <p:grpSpPr>
            <a:xfrm>
              <a:off x="324000" y="5805360"/>
              <a:ext cx="6821280" cy="720720"/>
              <a:chOff x="324000" y="5805360"/>
              <a:chExt cx="6821280" cy="720720"/>
            </a:xfrm>
          </p:grpSpPr>
          <p:sp>
            <p:nvSpPr>
              <p:cNvPr id="794" name=""/>
              <p:cNvSpPr/>
              <p:nvPr/>
            </p:nvSpPr>
            <p:spPr>
              <a:xfrm>
                <a:off x="324000" y="5877000"/>
                <a:ext cx="15429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异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直线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484360" y="5805360"/>
                <a:ext cx="15429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相交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直线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500720" y="5805360"/>
                <a:ext cx="26445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异面直线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所成的角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476360" y="6237360"/>
                <a:ext cx="936720" cy="288720"/>
              </a:xfrm>
              <a:prstGeom prst="rightArrow">
                <a:avLst>
                  <a:gd name="adj1" fmla="val 50000"/>
                  <a:gd name="adj2" fmla="val 8111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492360" y="6237360"/>
                <a:ext cx="935280" cy="287280"/>
              </a:xfrm>
              <a:prstGeom prst="rightArrow">
                <a:avLst>
                  <a:gd name="adj1" fmla="val 50000"/>
                  <a:gd name="adj2" fmla="val 8139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403280" y="5805360"/>
                <a:ext cx="15429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平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75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75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75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75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75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75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324000" y="141300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两条异面直线所成角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则称它们互相垂直（异面垂直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364000" y="299736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记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⊥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533240" y="5084640"/>
            <a:ext cx="40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Italic"/>
              </a:rPr>
              <a:t>归纳：异面直线所成角</a:t>
            </a:r>
            <a:r>
              <a:rPr b="1" lang="zh-CN" sz="2800" spc="-1" strike="noStrike">
                <a:solidFill>
                  <a:srgbClr val="000000"/>
                </a:solidFill>
                <a:latin typeface="Italic"/>
              </a:rPr>
              <a:t>θ</a:t>
            </a:r>
            <a:r>
              <a:rPr b="1" lang="zh-CN" sz="2800" spc="-1" strike="noStrike">
                <a:solidFill>
                  <a:srgbClr val="000000"/>
                </a:solidFill>
                <a:latin typeface="Italic"/>
              </a:rPr>
              <a:t>的取值范围：</a:t>
            </a:r>
            <a:r>
              <a:rPr b="1" lang="zh-CN" sz="2400" spc="-1" strike="noStrike">
                <a:solidFill>
                  <a:srgbClr val="49af58"/>
                </a:solidFill>
                <a:latin typeface="Ital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6443640" y="5084640"/>
          <a:ext cx="1584360" cy="61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43640" y="5084640"/>
                    <a:ext cx="158436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"/>
          <p:cNvSpPr/>
          <p:nvPr/>
        </p:nvSpPr>
        <p:spPr>
          <a:xfrm>
            <a:off x="1748520" y="244080"/>
            <a:ext cx="539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提出问题：由平面中两条直线垂直的定义，能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类比得到异面直线垂直的定义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1403280" y="2060640"/>
            <a:ext cx="31687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775080" y="300960"/>
            <a:ext cx="12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探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8" name=""/>
              <p:cNvSpPr txBox="1"/>
              <p:nvPr/>
            </p:nvSpPr>
            <p:spPr>
              <a:xfrm>
                <a:off x="1187280" y="765000"/>
                <a:ext cx="47181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在长方体</m:t>
                    </m:r>
                    <m:r>
                      <m:rPr>
                        <m:lit/>
                        <m:nor/>
                      </m:rPr>
                      <m:t xml:space="preserve">ABCD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中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9" name=""/>
          <p:cNvSpPr/>
          <p:nvPr/>
        </p:nvSpPr>
        <p:spPr>
          <a:xfrm>
            <a:off x="1757160" y="1268280"/>
            <a:ext cx="588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没有两条棱所在的直线是相互垂直的异面直线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如果两条平行直线中的一条与某一条直线垂直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那么，另一条直线是否也与这条直线垂直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垂直于同一条直线的两条直线是否平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55400" y="76500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979640" y="3363840"/>
            <a:ext cx="39607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395280" y="549360"/>
            <a:ext cx="784692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正方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CD—A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指出下列各对线段所成的角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55640" y="2133720"/>
            <a:ext cx="309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11280" y="2924280"/>
            <a:ext cx="3313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4320" y="3645000"/>
            <a:ext cx="2955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 baseline="-25000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8305920" y="2362320"/>
            <a:ext cx="8571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492360" y="2205000"/>
            <a:ext cx="26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9 0</a:t>
            </a:r>
            <a:r>
              <a:rPr b="1" lang="en-US" sz="3600" spc="-1" strike="noStrike">
                <a:solidFill>
                  <a:srgbClr val="ff0000"/>
                </a:solidFill>
                <a:latin typeface="Italic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708360" y="2852640"/>
            <a:ext cx="26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 5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635280" y="3716280"/>
            <a:ext cx="27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 0</a:t>
            </a:r>
            <a:r>
              <a:rPr b="1" lang="en-US" sz="3600" spc="-1" strike="noStrike">
                <a:solidFill>
                  <a:srgbClr val="ff0000"/>
                </a:solidFill>
                <a:latin typeface="Italic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5724360" y="1413000"/>
            <a:ext cx="2819520" cy="3038760"/>
            <a:chOff x="5724360" y="1413000"/>
            <a:chExt cx="2819520" cy="3038760"/>
          </a:xfrm>
        </p:grpSpPr>
        <p:sp>
          <p:nvSpPr>
            <p:cNvPr id="821" name=""/>
            <p:cNvSpPr/>
            <p:nvPr/>
          </p:nvSpPr>
          <p:spPr>
            <a:xfrm flipV="1">
              <a:off x="6094080" y="1796400"/>
              <a:ext cx="2051280" cy="368280"/>
            </a:xfrm>
            <a:custGeom>
              <a:avLst/>
              <a:gdLst/>
              <a:ahLst/>
              <a:rect l="l" t="t" r="r" b="b"/>
              <a:pathLst>
                <a:path w="332" h="776">
                  <a:moveTo>
                    <a:pt x="0" y="0"/>
                  </a:moveTo>
                  <a:lnTo>
                    <a:pt x="332" y="776"/>
                  </a:lnTo>
                </a:path>
              </a:pathLst>
            </a:custGeom>
            <a:noFill/>
            <a:ln w="284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2" name=""/>
            <p:cNvGrpSpPr/>
            <p:nvPr/>
          </p:nvGrpSpPr>
          <p:grpSpPr>
            <a:xfrm>
              <a:off x="5724360" y="1413000"/>
              <a:ext cx="2819520" cy="2730240"/>
              <a:chOff x="5724360" y="1413000"/>
              <a:chExt cx="2819520" cy="2730240"/>
            </a:xfrm>
          </p:grpSpPr>
          <p:grpSp>
            <p:nvGrpSpPr>
              <p:cNvPr id="823" name=""/>
              <p:cNvGrpSpPr/>
              <p:nvPr/>
            </p:nvGrpSpPr>
            <p:grpSpPr>
              <a:xfrm>
                <a:off x="5724360" y="1413000"/>
                <a:ext cx="2819520" cy="2730240"/>
                <a:chOff x="5724360" y="1413000"/>
                <a:chExt cx="2819520" cy="273024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38760" y="1779480"/>
                  <a:ext cx="1600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7696080" y="1779480"/>
                  <a:ext cx="542880" cy="385920"/>
                </a:xfrm>
                <a:custGeom>
                  <a:avLst/>
                  <a:gdLst/>
                  <a:ahLst/>
                  <a:rect l="l" t="t" r="r" b="b"/>
                  <a:pathLst>
                    <a:path w="342" h="243">
                      <a:moveTo>
                        <a:pt x="342" y="0"/>
                      </a:moveTo>
                      <a:lnTo>
                        <a:pt x="0" y="243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H="1">
                  <a:off x="7705440" y="3379680"/>
                  <a:ext cx="533520" cy="3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7705440" y="2098800"/>
                  <a:ext cx="4572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858080" y="301320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8086680" y="1413000"/>
                  <a:ext cx="4572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105240" y="2160720"/>
                  <a:ext cx="1600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105240" y="2160720"/>
                  <a:ext cx="0" cy="160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105240" y="3760920"/>
                  <a:ext cx="1600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8238960" y="1779480"/>
                  <a:ext cx="0" cy="160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H="1">
                  <a:off x="6105240" y="1779480"/>
                  <a:ext cx="533520" cy="3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H="1">
                  <a:off x="6105240" y="3379680"/>
                  <a:ext cx="533520" cy="3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6029280" y="377496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324560" y="377496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6638760" y="301320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724360" y="2008080"/>
                  <a:ext cx="4572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6257880" y="1413000"/>
                  <a:ext cx="4572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696080" y="2155680"/>
                  <a:ext cx="1440" cy="1590840"/>
                </a:xfrm>
                <a:custGeom>
                  <a:avLst/>
                  <a:gdLst/>
                  <a:ahLst/>
                  <a:rect l="l" t="t" r="r" b="b"/>
                  <a:pathLst>
                    <a:path w="1" h="1002">
                      <a:moveTo>
                        <a:pt x="0" y="0"/>
                      </a:moveTo>
                      <a:lnTo>
                        <a:pt x="0" y="1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6562440" y="3394080"/>
                  <a:ext cx="16002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3" name=""/>
              <p:cNvSpPr/>
              <p:nvPr/>
            </p:nvSpPr>
            <p:spPr>
              <a:xfrm>
                <a:off x="7705440" y="2160720"/>
                <a:ext cx="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>
              <a:off x="6638760" y="17794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638760" y="33796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238960" y="1793880"/>
              <a:ext cx="0" cy="1600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05440" y="2174760"/>
              <a:ext cx="0" cy="1600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105240" y="2163600"/>
              <a:ext cx="1609920" cy="1800"/>
            </a:xfrm>
            <a:custGeom>
              <a:avLst/>
              <a:gdLst/>
              <a:ahLst/>
              <a:rect l="l" t="t" r="r" b="b"/>
              <a:pathLst>
                <a:path w="1014" h="1">
                  <a:moveTo>
                    <a:pt x="0" y="0"/>
                  </a:moveTo>
                  <a:lnTo>
                    <a:pt x="1014" y="1"/>
                  </a:lnTo>
                </a:path>
              </a:pathLst>
            </a:custGeom>
            <a:noFill/>
            <a:ln w="284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17611200">
              <a:off x="6618960" y="2675520"/>
              <a:ext cx="1196640" cy="1754280"/>
            </a:xfrm>
            <a:custGeom>
              <a:avLst/>
              <a:gdLst/>
              <a:ahLst/>
              <a:rect l="l" t="t" r="r" b="b"/>
              <a:pathLst>
                <a:path w="301" h="744">
                  <a:moveTo>
                    <a:pt x="0" y="0"/>
                  </a:moveTo>
                  <a:lnTo>
                    <a:pt x="301" y="744"/>
                  </a:lnTo>
                </a:path>
              </a:pathLst>
            </a:custGeom>
            <a:noFill/>
            <a:ln cap="rnd" w="28440">
              <a:solidFill>
                <a:srgbClr val="80008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105240" y="377496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105240" y="2174760"/>
              <a:ext cx="1600200" cy="16002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669000" y="1797120"/>
              <a:ext cx="1066680" cy="3808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669000" y="3381480"/>
              <a:ext cx="1066680" cy="3808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17894400">
              <a:off x="6949440" y="31748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⌒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094080" y="2157480"/>
              <a:ext cx="574920" cy="1224000"/>
            </a:xfrm>
            <a:prstGeom prst="line">
              <a:avLst/>
            </a:prstGeom>
            <a:ln w="349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314280" y="4797360"/>
            <a:ext cx="8280360" cy="1403280"/>
            <a:chOff x="314280" y="4797360"/>
            <a:chExt cx="8280360" cy="1403280"/>
          </a:xfrm>
        </p:grpSpPr>
        <p:sp>
          <p:nvSpPr>
            <p:cNvPr id="857" name=""/>
            <p:cNvSpPr/>
            <p:nvPr/>
          </p:nvSpPr>
          <p:spPr>
            <a:xfrm>
              <a:off x="314280" y="4797360"/>
              <a:ext cx="8280360" cy="13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Italic"/>
                </a:rPr>
                <a:t>练习：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求直线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与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所成的夹角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与直线　　垂直的棱有多少条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8" name=""/>
            <p:cNvGraphicFramePr/>
            <p:nvPr/>
          </p:nvGraphicFramePr>
          <p:xfrm>
            <a:off x="3492360" y="5589720"/>
            <a:ext cx="863640" cy="610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92360" y="5589720"/>
                      <a:ext cx="863640" cy="61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60" name="">
            <a:hlinkClick r:id="rId4" action="ppaction://hlinksldjump"/>
          </p:cNvPr>
          <p:cNvSpPr/>
          <p:nvPr/>
        </p:nvSpPr>
        <p:spPr>
          <a:xfrm>
            <a:off x="7812000" y="6308640"/>
            <a:ext cx="792360" cy="289080"/>
          </a:xfrm>
          <a:custGeom>
            <a:avLst/>
            <a:gdLst>
              <a:gd name="textAreaLeft" fmla="*/ 264240 w 792360"/>
              <a:gd name="textAreaRight" fmla="*/ 678600 w 792360"/>
              <a:gd name="textAreaTop" fmla="*/ 166680 h 289080"/>
              <a:gd name="textAreaBottom" fmla="*/ 2476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75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75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75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684360" y="1197000"/>
            <a:ext cx="727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汉真广标"/>
                <a:ea typeface="汉真广标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汉真广标"/>
                <a:ea typeface="汉真广标"/>
              </a:rPr>
              <a:t>、异面直线的概念及画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汉真广标"/>
                <a:ea typeface="汉真广标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汉真广标"/>
                <a:ea typeface="汉真广标"/>
              </a:rPr>
              <a:t>、空间直线的平行关系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汉真广标"/>
                <a:ea typeface="汉真广标"/>
              </a:rPr>
              <a:t>3.</a:t>
            </a:r>
            <a:r>
              <a:rPr b="0" lang="zh-CN" sz="3200" spc="-1" strike="noStrike">
                <a:solidFill>
                  <a:srgbClr val="0000ff"/>
                </a:solidFill>
                <a:latin typeface="汉真广标"/>
                <a:ea typeface="汉真广标"/>
              </a:rPr>
              <a:t>等角定理定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汉真广标"/>
                <a:ea typeface="汉真广标"/>
              </a:rPr>
              <a:t>4.</a:t>
            </a:r>
            <a:r>
              <a:rPr b="0" lang="zh-CN" sz="3200" spc="-1" strike="noStrike">
                <a:solidFill>
                  <a:srgbClr val="0000ff"/>
                </a:solidFill>
                <a:latin typeface="汉真广标"/>
                <a:ea typeface="汉真广标"/>
              </a:rPr>
              <a:t>异面直线所成的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11280" y="18900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汉真广标"/>
              </a:rPr>
              <a:t>猛回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11280" y="486900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汉真广标"/>
                <a:ea typeface="汉真广标"/>
              </a:rPr>
              <a:t>平面图形的结论，对于立体图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汉真广标"/>
                <a:ea typeface="汉真广标"/>
              </a:rPr>
              <a:t>有些适用，有些 不适用，注意验证</a:t>
            </a:r>
            <a:r>
              <a:rPr b="1" lang="zh-CN" sz="3200" spc="-1" strike="noStrike">
                <a:solidFill>
                  <a:srgbClr val="0000ff"/>
                </a:solidFill>
                <a:latin typeface="汉真广标"/>
                <a:ea typeface="汉真广标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051560" y="3933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汉真广标"/>
              </a:rPr>
              <a:t>警世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600480" y="404640"/>
            <a:ext cx="6990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课后思考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异面直线，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∥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定（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异面 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相交 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平行  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不平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正方体一条对角线与正方体的棱可组成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异面直线的对数是（    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一条直线和两条异面直线都相交，则它们可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确定（    ） 平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一个 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两个   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三个   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四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0" y="450864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画两个相交平面，在这两个平面内各画一条直线使它们成为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平行直线；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相交直线；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异面直线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1547640" y="1413000"/>
            <a:ext cx="540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作业设计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教材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P51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A 6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B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2565360"/>
            <a:ext cx="936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汉真广标"/>
              </a:rPr>
              <a:t>数学是对现实世界的抽象与概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汉真广标"/>
              </a:rPr>
              <a:t>学会用数学的眼光观察周围世界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95640" y="981000"/>
            <a:ext cx="31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汉真广标"/>
              </a:rPr>
              <a:t>醒“士”恒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544500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请同学们观察生活中的“直线”及其关系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3492360" y="981000"/>
            <a:ext cx="142920" cy="5877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716360" y="0"/>
            <a:ext cx="287280" cy="6858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43280" y="1989000"/>
            <a:ext cx="73080" cy="4869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2"/>
          <a:srcRect l="0" t="5903" r="0" b="114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 flipV="1">
            <a:off x="0" y="4365360"/>
            <a:ext cx="9144000" cy="13669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0" y="3573360"/>
            <a:ext cx="6588000" cy="71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20000" y="260280"/>
            <a:ext cx="73080" cy="4032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635280" y="1268280"/>
            <a:ext cx="73080" cy="2089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24000" y="230040"/>
            <a:ext cx="83041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观察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模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如图所示的长方体中，棱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C</a:t>
            </a:r>
            <a:r>
              <a:rPr b="1" lang="zh-CN" sz="36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在的直线与直线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</a:t>
            </a:r>
            <a:r>
              <a:rPr b="1" lang="zh-CN" sz="40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置关系如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909880" y="2741760"/>
            <a:ext cx="2817720" cy="24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2398680" y="2276640"/>
            <a:ext cx="447840" cy="6062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5826240" y="2347920"/>
            <a:ext cx="414360" cy="6062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4643280" y="3573360"/>
            <a:ext cx="411480" cy="609840"/>
          </a:xfrm>
          <a:prstGeom prst="rect">
            <a:avLst/>
          </a:prstGeom>
          <a:ln w="0">
            <a:noFill/>
          </a:ln>
        </p:spPr>
      </p:pic>
      <p:grpSp>
        <p:nvGrpSpPr>
          <p:cNvPr id="394" name=""/>
          <p:cNvGrpSpPr/>
          <p:nvPr/>
        </p:nvGrpSpPr>
        <p:grpSpPr>
          <a:xfrm>
            <a:off x="1692360" y="3247920"/>
            <a:ext cx="4486320" cy="2963880"/>
            <a:chOff x="1692360" y="3247920"/>
            <a:chExt cx="4486320" cy="2963880"/>
          </a:xfrm>
        </p:grpSpPr>
        <p:pic>
          <p:nvPicPr>
            <p:cNvPr id="395" name="" descr=""/>
            <p:cNvPicPr/>
            <p:nvPr/>
          </p:nvPicPr>
          <p:blipFill>
            <a:blip r:embed="rId5"/>
            <a:stretch/>
          </p:blipFill>
          <p:spPr>
            <a:xfrm>
              <a:off x="1720800" y="5748480"/>
              <a:ext cx="351000" cy="4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6"/>
            <a:stretch/>
          </p:blipFill>
          <p:spPr>
            <a:xfrm>
              <a:off x="5264280" y="5748480"/>
              <a:ext cx="352440" cy="46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7"/>
            <a:stretch/>
          </p:blipFill>
          <p:spPr>
            <a:xfrm>
              <a:off x="5826240" y="4680000"/>
              <a:ext cx="35244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8"/>
            <a:stretch/>
          </p:blipFill>
          <p:spPr>
            <a:xfrm>
              <a:off x="1692360" y="3247920"/>
              <a:ext cx="41256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" descr=""/>
            <p:cNvPicPr/>
            <p:nvPr/>
          </p:nvPicPr>
          <p:blipFill>
            <a:blip r:embed="rId9"/>
            <a:stretch/>
          </p:blipFill>
          <p:spPr>
            <a:xfrm>
              <a:off x="2448000" y="4622760"/>
              <a:ext cx="384120" cy="46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0" name=""/>
          <p:cNvSpPr/>
          <p:nvPr/>
        </p:nvSpPr>
        <p:spPr>
          <a:xfrm>
            <a:off x="2914560" y="2706840"/>
            <a:ext cx="0" cy="2496960"/>
          </a:xfrm>
          <a:prstGeom prst="line">
            <a:avLst/>
          </a:prstGeom>
          <a:ln w="57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14560" y="2706840"/>
            <a:ext cx="28321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5746680" y="2706480"/>
            <a:ext cx="0" cy="25621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09880" y="5203800"/>
            <a:ext cx="2822760" cy="0"/>
          </a:xfrm>
          <a:prstGeom prst="line">
            <a:avLst/>
          </a:prstGeom>
          <a:ln w="57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151600" y="5268960"/>
            <a:ext cx="576000" cy="7318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300040" y="2741760"/>
            <a:ext cx="577800" cy="731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2268360" y="5268960"/>
            <a:ext cx="625680" cy="731880"/>
          </a:xfrm>
          <a:prstGeom prst="line">
            <a:avLst/>
          </a:prstGeom>
          <a:ln w="5724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5116680" y="2706840"/>
            <a:ext cx="591840" cy="730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909880" y="2708280"/>
            <a:ext cx="0" cy="251784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5103360" y="2724120"/>
            <a:ext cx="592200" cy="7318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43440" y="2741760"/>
            <a:ext cx="0" cy="243360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909880" y="5203800"/>
            <a:ext cx="2817720" cy="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92600" y="2708280"/>
            <a:ext cx="28191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2252520" y="5237280"/>
            <a:ext cx="657360" cy="7808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333520" y="3524400"/>
            <a:ext cx="2801880" cy="24606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84560" y="3473280"/>
            <a:ext cx="28191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268360" y="3473280"/>
            <a:ext cx="2883240" cy="2527560"/>
            <a:chOff x="2268360" y="3473280"/>
            <a:chExt cx="2883240" cy="2527560"/>
          </a:xfrm>
        </p:grpSpPr>
        <p:sp>
          <p:nvSpPr>
            <p:cNvPr id="417" name=""/>
            <p:cNvSpPr/>
            <p:nvPr/>
          </p:nvSpPr>
          <p:spPr>
            <a:xfrm>
              <a:off x="2268360" y="6000840"/>
              <a:ext cx="2883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2284200" y="3483000"/>
              <a:ext cx="1080" cy="2517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332440" y="3473280"/>
              <a:ext cx="28188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18120" y="3483000"/>
              <a:ext cx="1080" cy="2517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Corbel"/>
              </a:rPr>
              <a:t>A</a:t>
            </a:r>
            <a:r>
              <a:rPr b="1" lang="zh-CN" sz="3200" spc="-1" strike="noStrike">
                <a:solidFill>
                  <a:srgbClr val="0d0d0d"/>
                </a:solidFill>
                <a:latin typeface="Corbel"/>
              </a:rPr>
              <a:t>、空间中不相交的两条直线；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Corbel"/>
              </a:rPr>
              <a:t>B</a:t>
            </a:r>
            <a:r>
              <a:rPr b="1" lang="zh-CN" sz="3200" spc="-1" strike="noStrike">
                <a:solidFill>
                  <a:srgbClr val="0d0d0d"/>
                </a:solidFill>
                <a:latin typeface="Corbel"/>
              </a:rPr>
              <a:t>、某平面内的一条直线和这平面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Corbel"/>
              </a:rPr>
              <a:t>       </a:t>
            </a:r>
            <a:r>
              <a:rPr b="1" lang="zh-CN" sz="3200" spc="-1" strike="noStrike">
                <a:solidFill>
                  <a:srgbClr val="0d0d0d"/>
                </a:solidFill>
                <a:latin typeface="Corbel"/>
              </a:rPr>
              <a:t>外的直线；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Corbel"/>
              </a:rPr>
              <a:t>C</a:t>
            </a:r>
            <a:r>
              <a:rPr b="1" lang="zh-CN" sz="3200" spc="-1" strike="noStrike">
                <a:solidFill>
                  <a:srgbClr val="0d0d0d"/>
                </a:solidFill>
                <a:latin typeface="Corbel"/>
              </a:rPr>
              <a:t>、分别在不同平面内的两条直线；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Corbel"/>
              </a:rPr>
              <a:t>D</a:t>
            </a:r>
            <a:r>
              <a:rPr b="1" lang="zh-CN" sz="3200" spc="-1" strike="noStrike">
                <a:solidFill>
                  <a:srgbClr val="0d0d0d"/>
                </a:solidFill>
                <a:latin typeface="Corbel"/>
              </a:rPr>
              <a:t>、不在同一平面内的两条直线。 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Corbel"/>
              </a:rPr>
              <a:t>E</a:t>
            </a:r>
            <a:r>
              <a:rPr b="1" lang="zh-CN" sz="3200" spc="-1" strike="noStrike">
                <a:solidFill>
                  <a:srgbClr val="0d0d0d"/>
                </a:solidFill>
                <a:latin typeface="Corbel"/>
              </a:rPr>
              <a:t>、不同在任何一个平面内的两条直线；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32400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rbel"/>
              </a:rPr>
              <a:t>请你为异面直线选择合适的定义！</a:t>
            </a:r>
            <a:endParaRPr b="1" lang="en-US" sz="32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423" name=""/>
          <p:cNvSpPr/>
          <p:nvPr/>
        </p:nvSpPr>
        <p:spPr>
          <a:xfrm>
            <a:off x="2700360" y="4292640"/>
            <a:ext cx="865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8"/>
          <a:stretch/>
        </p:blipFill>
        <p:spPr>
          <a:xfrm>
            <a:off x="179280" y="189000"/>
            <a:ext cx="601920" cy="6476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971640" y="2602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概念形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79280" y="2637720"/>
            <a:ext cx="896472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没有公共点的两条直线是异面直线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平面内一点与平面外一点的连线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平面内的直 线一定是异面直线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分别在两个平面内的两条直线是异面直线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空间既不平行也不相交的直线是异面直线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和同一直线都是异面直线的两条直线是异面直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不在平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内的两条直线是异面直线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）不可能在同一平面内的两条直线是异面直线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2282760" y="3662280"/>
                <a:ext cx="15264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8" name=""/>
          <p:cNvSpPr/>
          <p:nvPr/>
        </p:nvSpPr>
        <p:spPr>
          <a:xfrm>
            <a:off x="890640" y="529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79280" y="40464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定义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不同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任何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一个平面内的两条      直线 叫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异面直线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6920" y="2133720"/>
            <a:ext cx="599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．完成下面的判断题，巩固概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7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-48,-2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7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-48,-2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468360" y="1844640"/>
            <a:ext cx="3128760" cy="2514240"/>
            <a:chOff x="468360" y="1844640"/>
            <a:chExt cx="3128760" cy="2514240"/>
          </a:xfrm>
        </p:grpSpPr>
        <p:sp>
          <p:nvSpPr>
            <p:cNvPr id="432" name=""/>
            <p:cNvSpPr/>
            <p:nvPr/>
          </p:nvSpPr>
          <p:spPr>
            <a:xfrm>
              <a:off x="468360" y="1844640"/>
              <a:ext cx="312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相交直线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8360" y="2852640"/>
              <a:ext cx="312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平行直线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8360" y="3716280"/>
              <a:ext cx="25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③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异面直线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059280" y="1916280"/>
            <a:ext cx="532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且仅有一个公共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32000" y="2852640"/>
            <a:ext cx="60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同一平面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没有公共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203640" y="3716280"/>
            <a:ext cx="72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同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任何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个平面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没有公共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9280" y="53737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你试着从不同角度对空间直线位置关系分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4000" y="6922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空间两条直线的位置关系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12:32:32Z</dcterms:created>
  <dc:creator>ok</dc:creator>
  <dc:description/>
  <dc:language>en-US</dc:language>
  <cp:lastModifiedBy>X551CA</cp:lastModifiedBy>
  <dcterms:modified xsi:type="dcterms:W3CDTF">2013-10-23T13:29:20Z</dcterms:modified>
  <cp:revision>420</cp:revision>
  <dc:subject/>
  <dc:title>PowerPoint 演示文稿</dc:title>
</cp:coreProperties>
</file>