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chimes.wav" ContentType="audio/x-wav"/>
  <Override PartName="/ppt/media/TYPE.WAV" ContentType="audio/x-wav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56DE-0162-4D70-9DA6-C18F9BED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3CF-BDF7-4D84-B9FC-2D7C8AA8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E5B4-7D57-4CC0-A6BE-9FE34727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4EE-DE76-4B0D-B12B-1F7192CC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DC9-4D3E-47B5-AA7A-F873D4B4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83D-B0E9-410C-8D7D-A8FE84AE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804-D900-413B-8374-7C604C8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21E-CF3F-462F-A022-54CDD0C3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DBE-3B9C-470B-9464-B6B5C659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8E7-E514-478E-B6B1-CDFB3B5A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62C-74B9-474C-9263-0CA0A74A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B6D-5E2E-4119-B75E-732A9678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A836-0B59-4B12-BD56-1F1E59B62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77336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用函数的观点看一元二次方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574560" y="5805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河北黄骅新世纪中学初三数学组王秀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010·11·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89000"/>
            <a:ext cx="7336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5" name=""/>
          <p:cNvSpPr/>
          <p:nvPr/>
        </p:nvSpPr>
        <p:spPr>
          <a:xfrm>
            <a:off x="51120" y="2021040"/>
            <a:ext cx="530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法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 (1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作出图象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出交点的坐标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.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、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出方程的解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 =-1.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 =2.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836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二次函数的图象求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-3=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数根（精确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369280" y="316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13280" y="172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38280" y="3754440"/>
                <a:ext cx="763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276720" y="4149720"/>
                <a:ext cx="269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403280" y="3933720"/>
                <a:ext cx="3049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720800" y="501336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用你学过的一元二次方程的解法来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准确答案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00360" y="2614680"/>
                <a:ext cx="12240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 txBox="1"/>
          <p:nvPr/>
        </p:nvSpPr>
        <p:spPr>
          <a:xfrm>
            <a:off x="3419640" y="189000"/>
            <a:ext cx="17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试一试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5280" y="1052640"/>
                <a:ext cx="8209080" cy="49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抛物线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与x</m:t>
                        </m:r>
                        <m:r>
                          <m:rPr>
                            <m:lit/>
                            <m:nor/>
                          </m:rPr>
                          <m:t xml:space="preserve">轴的交点个数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　　　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个　　　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个　　　Ｃ．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个　　　Ｄ．</m:t>
                        </m:r>
                        <m:r>
                          <m:t xml:space="preserve">3</m:t>
                        </m:r>
                        <m:r>
                          <m:t xml:space="preserve">个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抛物线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经过原点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则其顶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顶点坐标为</m:t>
                        </m:r>
                        <m:r>
                          <m:rPr>
                            <m:lit/>
                            <m:nor/>
                          </m:rPr>
                          <m:t xml:space="preserve">__________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关于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的一元二次方程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没有实数根</m:t>
                        </m:r>
                        <m:r>
                          <m:t xml:space="preserve">,</m:t>
                        </m:r>
                        <m:r>
                          <m:t xml:space="preserve">则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抛物线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的顶点在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　　　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第一象限　　　　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第二象限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第三象限　　　　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第四象限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745308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416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76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720" y="662040"/>
            <a:ext cx="8194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二次函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+bx+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如图所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二次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x+bx+c=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481400">
            <a:off x="6375240" y="2633040"/>
            <a:ext cx="1293480" cy="129996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0"/>
                </a:moveTo>
                <a:cubicBezTo>
                  <a:pt x="576" y="108"/>
                  <a:pt x="1152" y="216"/>
                  <a:pt x="1152" y="384"/>
                </a:cubicBezTo>
                <a:cubicBezTo>
                  <a:pt x="1152" y="552"/>
                  <a:pt x="184" y="904"/>
                  <a:pt x="0" y="100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72360" y="2204640"/>
            <a:ext cx="0" cy="2133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3716280"/>
            <a:ext cx="2496960" cy="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58160" y="37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216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3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220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616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6108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076640"/>
            <a:ext cx="6985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抛物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x+c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&gt;0,c&lt;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象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交点情况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交点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一个交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两个交点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4508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60320" y="1628640"/>
            <a:ext cx="175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zh-CN" sz="24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=0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zh-CN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189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关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元二次方程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x+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两个相等的实数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=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＿＿＿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抛物线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x+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有＿＿＿＿个交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628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7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抛物线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– 8x +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顶点在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=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＿＿＿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49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05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206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397080" y="2923920"/>
            <a:ext cx="9289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8)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二次方程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x</a:t>
            </a:r>
            <a:r>
              <a:rPr b="1" lang="zh-CN" sz="37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x-10=0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根是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7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-2 ,x</a:t>
            </a:r>
            <a:r>
              <a:rPr b="1" lang="zh-CN" sz="37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5/3,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二次函数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 3 x</a:t>
            </a:r>
            <a:r>
              <a:rPr b="1" lang="zh-CN" sz="37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x-10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的交点坐标是＿＿＿＿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573408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03480" y="4149720"/>
            <a:ext cx="28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5/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280" y="692280"/>
            <a:ext cx="828036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根据下列表格的对应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方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x+c=0 (a≠0,a,b,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常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范围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 3&lt; X &lt; 3.23           B   3.23  &lt; X &lt; 3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 3.24 &lt;X&lt; 3.25       D   3.25 &lt;X&lt; 3.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1484280"/>
          <a:ext cx="7920000" cy="1440000"/>
        </p:xfrm>
        <a:graphic>
          <a:graphicData uri="http://schemas.openxmlformats.org/drawingml/2006/table">
            <a:tbl>
              <a:tblPr/>
              <a:tblGrid>
                <a:gridCol w="2594160"/>
                <a:gridCol w="1206360"/>
                <a:gridCol w="1373400"/>
                <a:gridCol w="1373040"/>
                <a:gridCol w="13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.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y=ax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+bx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-0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-0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2124000" y="3645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52600" y="228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800" y="963720"/>
            <a:ext cx="74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抛物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+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有两个交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取值范围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79360" y="2335320"/>
            <a:ext cx="607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关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x+m=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两个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数根，此时抛物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x+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交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4149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抛物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kx+k-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交点个数为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法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1484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I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465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已知二次函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-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x+k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的公共点有两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k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取值范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当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k=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求抛物线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的公共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坐标及顶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坐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观察图象，当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取何值时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0,y&gt;0,y&lt;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下方的抛物线上是否存在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使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楷体_GB2312"/>
                <a:ea typeface="楷体_GB2312"/>
              </a:rPr>
              <a:t>⊿ABP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楷体_GB2312"/>
                <a:ea typeface="楷体_GB2312"/>
              </a:rPr>
              <a:t>⊿A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一半，若存在，求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的坐标，若不存在，请说明理由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84720" y="404640"/>
            <a:ext cx="2876760" cy="2524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786360" y="20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513640" y="27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9280" y="83664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已知二次函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mx-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求证：对于任意实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该二次函数的图像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总有公共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该二次函数的图像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有两个公共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坐标为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坐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19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知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数式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a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方程的根起着关键的作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098720" y="2133720"/>
                <a:ext cx="30794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14280" y="1676520"/>
                <a:ext cx="86011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当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方程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有两个不相等的实数根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93840" y="3095640"/>
                <a:ext cx="85215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当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方程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有两个相等的实数根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30320" y="3505320"/>
                <a:ext cx="1719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" y="4314960"/>
                <a:ext cx="73836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当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方程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没有实数根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0880" y="5124600"/>
                <a:ext cx="79250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我们把代数式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叫做方程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的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根的判别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用</m:t>
                        </m:r>
                        <m:r>
                          <m:rPr>
                            <m:lit/>
                            <m:nor/>
                          </m:rP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来表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即Δ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515400" y="47628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二次方程根的情况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²-4a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9000"/>
            <a:ext cx="8964720" cy="91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  如图，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m/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速度将小球沿与地面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的方向击出时，球的飞行路线将是一条抛物线，如果不考虑空气的阻力，球的飞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单位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与飞行时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单位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之间具有关系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=20t-5t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考虑以下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球的飞行高度能否达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如果能，需要多少飞行时间？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球的飞行高度能否达到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m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如果能，需要多少飞行时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4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球的飞行高度能否达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.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如果能，需要多少飞行时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58920" y="4437000"/>
            <a:ext cx="5715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4581360"/>
            <a:ext cx="820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58920" y="404640"/>
            <a:ext cx="0" cy="518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58920" y="2924280"/>
          <a:ext cx="664992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24280"/>
                    <a:ext cx="66499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8532720" y="4653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0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3357720"/>
            <a:ext cx="0" cy="1223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3357720"/>
            <a:ext cx="0" cy="1223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258920" y="3357720"/>
            <a:ext cx="4968720" cy="72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2924280"/>
            <a:ext cx="331308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924280"/>
            <a:ext cx="0" cy="165708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70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47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53128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4581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465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2492280"/>
            <a:ext cx="35290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2205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·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5=20t-5t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²-4t+3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   =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  =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球飞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的高度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5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26920" y="1413000"/>
                <a:ext cx="1969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124000" y="1413000"/>
                <a:ext cx="260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80580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84920" y="3952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4400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565360"/>
            <a:ext cx="41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=20t-5t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²-4t+4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   =  t   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球飞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的高度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140360" y="3573360"/>
                <a:ext cx="253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435640" y="3645000"/>
                <a:ext cx="271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19280" y="3860640"/>
                <a:ext cx="27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348000" y="2421000"/>
            <a:ext cx="42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=20t-5t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²-4t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   =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  =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球飞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的高度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飞出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落回地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0"/>
            <a:ext cx="432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.5=20t-5t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²-4t+4.1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²-4*4.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方程无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00000" y="3860640"/>
                <a:ext cx="127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5622840"/>
            <a:ext cx="65880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1628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184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二次函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-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4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自变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92428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是求方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=-X</a:t>
            </a:r>
            <a:r>
              <a:rPr b="1" lang="zh-CN" sz="32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4x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解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57336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x+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1497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是已知二次函数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4x+3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值为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,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求自变量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值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229360"/>
            <a:ext cx="86407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二次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x+c=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根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抛物线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x+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的交点坐标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0),(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5638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二次函数的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有公共点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共点横坐标是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公共点的横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值是多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得出相应的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二次方程的解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6x+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5157720"/>
            <a:ext cx="878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二次函数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y=ax</a:t>
            </a:r>
            <a:r>
              <a:rPr b="1" lang="zh-CN" sz="3600" spc="-1" strike="noStrike" baseline="30000">
                <a:solidFill>
                  <a:srgbClr val="ff0000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+bx+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的图象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轴交点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横坐标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与一元二次方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ax</a:t>
            </a:r>
            <a:r>
              <a:rPr b="1" lang="zh-CN" sz="3600" spc="-1" strike="noStrike" baseline="30000">
                <a:solidFill>
                  <a:srgbClr val="ff0000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+bx+c=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根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有什么关系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600360" cy="4321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081640" y="6397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y=x²-6x+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57280" y="8571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=x²+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76560" y="3524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Y=x²-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69280" y="200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2920" y="6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3600360" cy="432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0"/>
            <a:ext cx="6227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设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x-2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抛物线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x-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有两个公共点，公共点的横坐标分别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当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取公共的的横坐标的值时，函数的值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65360"/>
            <a:ext cx="63374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设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y=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6x+9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x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抛物线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y=x</a:t>
            </a:r>
            <a:r>
              <a:rPr b="1" lang="zh-CN" sz="28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6x+9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轴有一个公共点，公共点的横坐标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取公共点的横坐标的值时，函数的值为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724280"/>
            <a:ext cx="66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+1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ac=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*1*1=-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+1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抛物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+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没有公共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080" y="22766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=x²+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3080" y="15573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Y=x²-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45200" y="19890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y=x²-6x+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34160" y="270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5440" y="692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21200" y="287352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-2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18280" y="2944800"/>
            <a:ext cx="10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29973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29242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72360" y="29973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04920" y="228600"/>
          <a:ext cx="8686800" cy="632448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1974600"/>
                <a:gridCol w="236880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判别式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b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4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二次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y=ax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+bx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≠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图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元二次方程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x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+bx+c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≠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的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平面几何--抛物线1"/>
          <p:cNvSpPr/>
          <p:nvPr/>
        </p:nvSpPr>
        <p:spPr>
          <a:xfrm>
            <a:off x="5029200" y="2209680"/>
            <a:ext cx="879480" cy="965160"/>
          </a:xfrm>
          <a:custGeom>
            <a:avLst/>
            <a:gdLst/>
            <a:ahLst/>
            <a:rect l="l" t="t" r="r" b="b"/>
            <a:pathLst>
              <a:path w="1265" h="1998">
                <a:moveTo>
                  <a:pt x="0" y="0"/>
                </a:moveTo>
                <a:cubicBezTo>
                  <a:pt x="5" y="31"/>
                  <a:pt x="10" y="63"/>
                  <a:pt x="15" y="94"/>
                </a:cubicBezTo>
                <a:cubicBezTo>
                  <a:pt x="20" y="124"/>
                  <a:pt x="25" y="155"/>
                  <a:pt x="30" y="185"/>
                </a:cubicBezTo>
                <a:cubicBezTo>
                  <a:pt x="35" y="215"/>
                  <a:pt x="40" y="245"/>
                  <a:pt x="45" y="274"/>
                </a:cubicBezTo>
                <a:cubicBezTo>
                  <a:pt x="50" y="303"/>
                  <a:pt x="55" y="332"/>
                  <a:pt x="60" y="361"/>
                </a:cubicBezTo>
                <a:cubicBezTo>
                  <a:pt x="65" y="390"/>
                  <a:pt x="70" y="418"/>
                  <a:pt x="75" y="446"/>
                </a:cubicBezTo>
                <a:cubicBezTo>
                  <a:pt x="80" y="473"/>
                  <a:pt x="85" y="501"/>
                  <a:pt x="90" y="528"/>
                </a:cubicBezTo>
                <a:cubicBezTo>
                  <a:pt x="95" y="555"/>
                  <a:pt x="100" y="582"/>
                  <a:pt x="105" y="608"/>
                </a:cubicBezTo>
                <a:cubicBezTo>
                  <a:pt x="110" y="635"/>
                  <a:pt x="115" y="661"/>
                  <a:pt x="120" y="686"/>
                </a:cubicBezTo>
                <a:cubicBezTo>
                  <a:pt x="125" y="712"/>
                  <a:pt x="130" y="737"/>
                  <a:pt x="135" y="762"/>
                </a:cubicBezTo>
                <a:cubicBezTo>
                  <a:pt x="140" y="787"/>
                  <a:pt x="145" y="811"/>
                  <a:pt x="150" y="835"/>
                </a:cubicBezTo>
                <a:cubicBezTo>
                  <a:pt x="155" y="859"/>
                  <a:pt x="160" y="883"/>
                  <a:pt x="165" y="907"/>
                </a:cubicBezTo>
                <a:cubicBezTo>
                  <a:pt x="170" y="930"/>
                  <a:pt x="175" y="953"/>
                  <a:pt x="180" y="975"/>
                </a:cubicBezTo>
                <a:cubicBezTo>
                  <a:pt x="185" y="998"/>
                  <a:pt x="190" y="1020"/>
                  <a:pt x="195" y="1042"/>
                </a:cubicBezTo>
                <a:cubicBezTo>
                  <a:pt x="200" y="1064"/>
                  <a:pt x="205" y="1085"/>
                  <a:pt x="210" y="1107"/>
                </a:cubicBezTo>
                <a:cubicBezTo>
                  <a:pt x="215" y="1128"/>
                  <a:pt x="220" y="1148"/>
                  <a:pt x="225" y="1169"/>
                </a:cubicBezTo>
                <a:cubicBezTo>
                  <a:pt x="230" y="1189"/>
                  <a:pt x="235" y="1209"/>
                  <a:pt x="240" y="1229"/>
                </a:cubicBezTo>
                <a:cubicBezTo>
                  <a:pt x="245" y="1248"/>
                  <a:pt x="250" y="1267"/>
                  <a:pt x="255" y="1286"/>
                </a:cubicBezTo>
                <a:cubicBezTo>
                  <a:pt x="260" y="1305"/>
                  <a:pt x="265" y="1324"/>
                  <a:pt x="270" y="1342"/>
                </a:cubicBezTo>
                <a:cubicBezTo>
                  <a:pt x="275" y="1360"/>
                  <a:pt x="280" y="1377"/>
                  <a:pt x="285" y="1395"/>
                </a:cubicBezTo>
                <a:cubicBezTo>
                  <a:pt x="290" y="1412"/>
                  <a:pt x="295" y="1429"/>
                  <a:pt x="300" y="1446"/>
                </a:cubicBezTo>
                <a:cubicBezTo>
                  <a:pt x="305" y="1462"/>
                  <a:pt x="310" y="1479"/>
                  <a:pt x="315" y="1495"/>
                </a:cubicBezTo>
                <a:cubicBezTo>
                  <a:pt x="320" y="1510"/>
                  <a:pt x="325" y="1526"/>
                  <a:pt x="330" y="1541"/>
                </a:cubicBezTo>
                <a:cubicBezTo>
                  <a:pt x="335" y="1556"/>
                  <a:pt x="340" y="1571"/>
                  <a:pt x="345" y="1585"/>
                </a:cubicBezTo>
                <a:cubicBezTo>
                  <a:pt x="350" y="1599"/>
                  <a:pt x="355" y="1613"/>
                  <a:pt x="360" y="1627"/>
                </a:cubicBezTo>
                <a:cubicBezTo>
                  <a:pt x="365" y="1641"/>
                  <a:pt x="370" y="1654"/>
                  <a:pt x="375" y="1667"/>
                </a:cubicBezTo>
                <a:cubicBezTo>
                  <a:pt x="380" y="1679"/>
                  <a:pt x="385" y="1692"/>
                  <a:pt x="390" y="1704"/>
                </a:cubicBezTo>
                <a:cubicBezTo>
                  <a:pt x="395" y="1716"/>
                  <a:pt x="400" y="1728"/>
                  <a:pt x="405" y="1739"/>
                </a:cubicBezTo>
                <a:cubicBezTo>
                  <a:pt x="410" y="1751"/>
                  <a:pt x="415" y="1762"/>
                  <a:pt x="420" y="1772"/>
                </a:cubicBezTo>
                <a:cubicBezTo>
                  <a:pt x="425" y="1783"/>
                  <a:pt x="430" y="1793"/>
                  <a:pt x="435" y="1803"/>
                </a:cubicBezTo>
                <a:cubicBezTo>
                  <a:pt x="440" y="1813"/>
                  <a:pt x="445" y="1822"/>
                  <a:pt x="450" y="1831"/>
                </a:cubicBezTo>
                <a:cubicBezTo>
                  <a:pt x="455" y="1840"/>
                  <a:pt x="460" y="1849"/>
                  <a:pt x="465" y="1858"/>
                </a:cubicBezTo>
                <a:cubicBezTo>
                  <a:pt x="470" y="1866"/>
                  <a:pt x="475" y="1874"/>
                  <a:pt x="480" y="1881"/>
                </a:cubicBezTo>
                <a:cubicBezTo>
                  <a:pt x="485" y="1889"/>
                  <a:pt x="490" y="1896"/>
                  <a:pt x="495" y="1903"/>
                </a:cubicBezTo>
                <a:cubicBezTo>
                  <a:pt x="500" y="1910"/>
                  <a:pt x="505" y="1916"/>
                  <a:pt x="510" y="1923"/>
                </a:cubicBezTo>
                <a:cubicBezTo>
                  <a:pt x="515" y="1929"/>
                  <a:pt x="520" y="1934"/>
                  <a:pt x="525" y="1940"/>
                </a:cubicBezTo>
                <a:cubicBezTo>
                  <a:pt x="530" y="1945"/>
                  <a:pt x="535" y="1950"/>
                  <a:pt x="540" y="1955"/>
                </a:cubicBezTo>
                <a:cubicBezTo>
                  <a:pt x="545" y="1959"/>
                  <a:pt x="550" y="1963"/>
                  <a:pt x="555" y="1967"/>
                </a:cubicBezTo>
                <a:cubicBezTo>
                  <a:pt x="560" y="1971"/>
                  <a:pt x="565" y="1975"/>
                  <a:pt x="570" y="1978"/>
                </a:cubicBezTo>
                <a:cubicBezTo>
                  <a:pt x="575" y="1981"/>
                  <a:pt x="580" y="1983"/>
                  <a:pt x="585" y="1986"/>
                </a:cubicBezTo>
                <a:cubicBezTo>
                  <a:pt x="590" y="1988"/>
                  <a:pt x="595" y="1990"/>
                  <a:pt x="600" y="1992"/>
                </a:cubicBezTo>
                <a:cubicBezTo>
                  <a:pt x="605" y="1993"/>
                  <a:pt x="610" y="1995"/>
                  <a:pt x="615" y="1996"/>
                </a:cubicBezTo>
                <a:cubicBezTo>
                  <a:pt x="620" y="1996"/>
                  <a:pt x="625" y="1997"/>
                  <a:pt x="630" y="1997"/>
                </a:cubicBezTo>
                <a:cubicBezTo>
                  <a:pt x="635" y="1997"/>
                  <a:pt x="640" y="1997"/>
                  <a:pt x="645" y="1996"/>
                </a:cubicBezTo>
                <a:cubicBezTo>
                  <a:pt x="650" y="1995"/>
                  <a:pt x="655" y="1994"/>
                  <a:pt x="660" y="1993"/>
                </a:cubicBezTo>
                <a:cubicBezTo>
                  <a:pt x="665" y="1992"/>
                  <a:pt x="670" y="1990"/>
                  <a:pt x="675" y="1988"/>
                </a:cubicBezTo>
                <a:cubicBezTo>
                  <a:pt x="680" y="1985"/>
                  <a:pt x="685" y="1983"/>
                  <a:pt x="690" y="1980"/>
                </a:cubicBezTo>
                <a:cubicBezTo>
                  <a:pt x="695" y="1977"/>
                  <a:pt x="700" y="1974"/>
                  <a:pt x="705" y="1970"/>
                </a:cubicBezTo>
                <a:cubicBezTo>
                  <a:pt x="710" y="1967"/>
                  <a:pt x="715" y="1963"/>
                  <a:pt x="720" y="1958"/>
                </a:cubicBezTo>
                <a:cubicBezTo>
                  <a:pt x="725" y="1954"/>
                  <a:pt x="730" y="1949"/>
                  <a:pt x="735" y="1944"/>
                </a:cubicBezTo>
                <a:cubicBezTo>
                  <a:pt x="740" y="1939"/>
                  <a:pt x="745" y="1933"/>
                  <a:pt x="750" y="1927"/>
                </a:cubicBezTo>
                <a:cubicBezTo>
                  <a:pt x="755" y="1921"/>
                  <a:pt x="760" y="1915"/>
                  <a:pt x="765" y="1909"/>
                </a:cubicBezTo>
                <a:cubicBezTo>
                  <a:pt x="770" y="1902"/>
                  <a:pt x="775" y="1895"/>
                  <a:pt x="780" y="1887"/>
                </a:cubicBezTo>
                <a:cubicBezTo>
                  <a:pt x="785" y="1880"/>
                  <a:pt x="790" y="1872"/>
                  <a:pt x="795" y="1864"/>
                </a:cubicBezTo>
                <a:cubicBezTo>
                  <a:pt x="800" y="1856"/>
                  <a:pt x="805" y="1847"/>
                  <a:pt x="810" y="1839"/>
                </a:cubicBezTo>
                <a:cubicBezTo>
                  <a:pt x="815" y="1830"/>
                  <a:pt x="820" y="1820"/>
                  <a:pt x="825" y="1811"/>
                </a:cubicBezTo>
                <a:cubicBezTo>
                  <a:pt x="830" y="1801"/>
                  <a:pt x="835" y="1791"/>
                  <a:pt x="840" y="1781"/>
                </a:cubicBezTo>
                <a:cubicBezTo>
                  <a:pt x="845" y="1770"/>
                  <a:pt x="850" y="1759"/>
                  <a:pt x="855" y="1748"/>
                </a:cubicBezTo>
                <a:cubicBezTo>
                  <a:pt x="860" y="1737"/>
                  <a:pt x="865" y="1726"/>
                  <a:pt x="870" y="1714"/>
                </a:cubicBezTo>
                <a:cubicBezTo>
                  <a:pt x="875" y="1702"/>
                  <a:pt x="880" y="1689"/>
                  <a:pt x="885" y="1677"/>
                </a:cubicBezTo>
                <a:cubicBezTo>
                  <a:pt x="890" y="1664"/>
                  <a:pt x="895" y="1651"/>
                  <a:pt x="900" y="1638"/>
                </a:cubicBezTo>
                <a:cubicBezTo>
                  <a:pt x="905" y="1624"/>
                  <a:pt x="910" y="1611"/>
                  <a:pt x="915" y="1597"/>
                </a:cubicBezTo>
                <a:cubicBezTo>
                  <a:pt x="920" y="1582"/>
                  <a:pt x="925" y="1568"/>
                  <a:pt x="930" y="1553"/>
                </a:cubicBezTo>
                <a:cubicBezTo>
                  <a:pt x="935" y="1538"/>
                  <a:pt x="940" y="1523"/>
                  <a:pt x="945" y="1507"/>
                </a:cubicBezTo>
                <a:cubicBezTo>
                  <a:pt x="950" y="1491"/>
                  <a:pt x="955" y="1475"/>
                  <a:pt x="960" y="1459"/>
                </a:cubicBezTo>
                <a:cubicBezTo>
                  <a:pt x="965" y="1443"/>
                  <a:pt x="970" y="1426"/>
                  <a:pt x="975" y="1409"/>
                </a:cubicBezTo>
                <a:cubicBezTo>
                  <a:pt x="980" y="1391"/>
                  <a:pt x="985" y="1374"/>
                  <a:pt x="990" y="1356"/>
                </a:cubicBezTo>
                <a:cubicBezTo>
                  <a:pt x="995" y="1338"/>
                  <a:pt x="1000" y="1320"/>
                  <a:pt x="1005" y="1301"/>
                </a:cubicBezTo>
                <a:cubicBezTo>
                  <a:pt x="1010" y="1283"/>
                  <a:pt x="1015" y="1264"/>
                  <a:pt x="1020" y="1244"/>
                </a:cubicBezTo>
                <a:cubicBezTo>
                  <a:pt x="1025" y="1225"/>
                  <a:pt x="1030" y="1205"/>
                  <a:pt x="1035" y="1185"/>
                </a:cubicBezTo>
                <a:cubicBezTo>
                  <a:pt x="1040" y="1165"/>
                  <a:pt x="1045" y="1144"/>
                  <a:pt x="1050" y="1123"/>
                </a:cubicBezTo>
                <a:cubicBezTo>
                  <a:pt x="1055" y="1102"/>
                  <a:pt x="1060" y="1081"/>
                  <a:pt x="1065" y="1060"/>
                </a:cubicBezTo>
                <a:cubicBezTo>
                  <a:pt x="1070" y="1038"/>
                  <a:pt x="1075" y="1016"/>
                  <a:pt x="1080" y="993"/>
                </a:cubicBezTo>
                <a:cubicBezTo>
                  <a:pt x="1085" y="971"/>
                  <a:pt x="1090" y="948"/>
                  <a:pt x="1095" y="925"/>
                </a:cubicBezTo>
                <a:cubicBezTo>
                  <a:pt x="1100" y="902"/>
                  <a:pt x="1105" y="878"/>
                  <a:pt x="1110" y="855"/>
                </a:cubicBezTo>
                <a:cubicBezTo>
                  <a:pt x="1115" y="831"/>
                  <a:pt x="1120" y="806"/>
                  <a:pt x="1125" y="782"/>
                </a:cubicBezTo>
                <a:cubicBezTo>
                  <a:pt x="1130" y="757"/>
                  <a:pt x="1135" y="732"/>
                  <a:pt x="1140" y="707"/>
                </a:cubicBezTo>
                <a:cubicBezTo>
                  <a:pt x="1145" y="681"/>
                  <a:pt x="1150" y="655"/>
                  <a:pt x="1155" y="629"/>
                </a:cubicBezTo>
                <a:cubicBezTo>
                  <a:pt x="1160" y="603"/>
                  <a:pt x="1165" y="577"/>
                  <a:pt x="1170" y="550"/>
                </a:cubicBezTo>
                <a:cubicBezTo>
                  <a:pt x="1175" y="523"/>
                  <a:pt x="1180" y="495"/>
                  <a:pt x="1185" y="468"/>
                </a:cubicBezTo>
                <a:cubicBezTo>
                  <a:pt x="1190" y="440"/>
                  <a:pt x="1195" y="412"/>
                  <a:pt x="1200" y="384"/>
                </a:cubicBezTo>
                <a:cubicBezTo>
                  <a:pt x="1205" y="355"/>
                  <a:pt x="1210" y="327"/>
                  <a:pt x="1215" y="298"/>
                </a:cubicBezTo>
                <a:cubicBezTo>
                  <a:pt x="1220" y="268"/>
                  <a:pt x="1225" y="239"/>
                  <a:pt x="1230" y="209"/>
                </a:cubicBezTo>
                <a:cubicBezTo>
                  <a:pt x="1235" y="179"/>
                  <a:pt x="1240" y="149"/>
                  <a:pt x="1245" y="118"/>
                </a:cubicBezTo>
                <a:cubicBezTo>
                  <a:pt x="1250" y="87"/>
                  <a:pt x="1255" y="56"/>
                  <a:pt x="1260" y="25"/>
                </a:cubicBezTo>
                <a:cubicBezTo>
                  <a:pt x="1264" y="0"/>
                  <a:pt x="1264" y="0"/>
                  <a:pt x="1264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76920" y="1655640"/>
            <a:ext cx="1441440" cy="1772640"/>
            <a:chOff x="4876920" y="1655640"/>
            <a:chExt cx="1441440" cy="1772640"/>
          </a:xfrm>
        </p:grpSpPr>
        <p:sp>
          <p:nvSpPr>
            <p:cNvPr id="124" name=""/>
            <p:cNvSpPr/>
            <p:nvPr/>
          </p:nvSpPr>
          <p:spPr>
            <a:xfrm>
              <a:off x="5931000" y="2722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94400" y="165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25120" y="2498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281916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638680" y="182808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799360" y="1808280"/>
            <a:ext cx="16070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有两个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的交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2057400"/>
            <a:ext cx="2286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两个不同的解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x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x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a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029200" y="3255840"/>
            <a:ext cx="1441440" cy="1772640"/>
            <a:chOff x="5029200" y="3255840"/>
            <a:chExt cx="1441440" cy="1772640"/>
          </a:xfrm>
        </p:grpSpPr>
        <p:sp>
          <p:nvSpPr>
            <p:cNvPr id="133" name=""/>
            <p:cNvSpPr/>
            <p:nvPr/>
          </p:nvSpPr>
          <p:spPr>
            <a:xfrm>
              <a:off x="6083280" y="4322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46680" y="3255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77400" y="40986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29200" y="441936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790960" y="342828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平面几何--抛物线1"/>
          <p:cNvSpPr/>
          <p:nvPr/>
        </p:nvSpPr>
        <p:spPr>
          <a:xfrm>
            <a:off x="4952880" y="3454560"/>
            <a:ext cx="879480" cy="965160"/>
          </a:xfrm>
          <a:custGeom>
            <a:avLst/>
            <a:gdLst/>
            <a:ahLst/>
            <a:rect l="l" t="t" r="r" b="b"/>
            <a:pathLst>
              <a:path w="1265" h="1998">
                <a:moveTo>
                  <a:pt x="0" y="0"/>
                </a:moveTo>
                <a:cubicBezTo>
                  <a:pt x="5" y="31"/>
                  <a:pt x="10" y="63"/>
                  <a:pt x="15" y="94"/>
                </a:cubicBezTo>
                <a:cubicBezTo>
                  <a:pt x="20" y="124"/>
                  <a:pt x="25" y="155"/>
                  <a:pt x="30" y="185"/>
                </a:cubicBezTo>
                <a:cubicBezTo>
                  <a:pt x="35" y="215"/>
                  <a:pt x="40" y="245"/>
                  <a:pt x="45" y="274"/>
                </a:cubicBezTo>
                <a:cubicBezTo>
                  <a:pt x="50" y="303"/>
                  <a:pt x="55" y="332"/>
                  <a:pt x="60" y="361"/>
                </a:cubicBezTo>
                <a:cubicBezTo>
                  <a:pt x="65" y="390"/>
                  <a:pt x="70" y="418"/>
                  <a:pt x="75" y="446"/>
                </a:cubicBezTo>
                <a:cubicBezTo>
                  <a:pt x="80" y="473"/>
                  <a:pt x="85" y="501"/>
                  <a:pt x="90" y="528"/>
                </a:cubicBezTo>
                <a:cubicBezTo>
                  <a:pt x="95" y="555"/>
                  <a:pt x="100" y="582"/>
                  <a:pt x="105" y="608"/>
                </a:cubicBezTo>
                <a:cubicBezTo>
                  <a:pt x="110" y="635"/>
                  <a:pt x="115" y="661"/>
                  <a:pt x="120" y="686"/>
                </a:cubicBezTo>
                <a:cubicBezTo>
                  <a:pt x="125" y="712"/>
                  <a:pt x="130" y="737"/>
                  <a:pt x="135" y="762"/>
                </a:cubicBezTo>
                <a:cubicBezTo>
                  <a:pt x="140" y="787"/>
                  <a:pt x="145" y="811"/>
                  <a:pt x="150" y="835"/>
                </a:cubicBezTo>
                <a:cubicBezTo>
                  <a:pt x="155" y="859"/>
                  <a:pt x="160" y="883"/>
                  <a:pt x="165" y="907"/>
                </a:cubicBezTo>
                <a:cubicBezTo>
                  <a:pt x="170" y="930"/>
                  <a:pt x="175" y="953"/>
                  <a:pt x="180" y="975"/>
                </a:cubicBezTo>
                <a:cubicBezTo>
                  <a:pt x="185" y="998"/>
                  <a:pt x="190" y="1020"/>
                  <a:pt x="195" y="1042"/>
                </a:cubicBezTo>
                <a:cubicBezTo>
                  <a:pt x="200" y="1064"/>
                  <a:pt x="205" y="1085"/>
                  <a:pt x="210" y="1107"/>
                </a:cubicBezTo>
                <a:cubicBezTo>
                  <a:pt x="215" y="1128"/>
                  <a:pt x="220" y="1148"/>
                  <a:pt x="225" y="1169"/>
                </a:cubicBezTo>
                <a:cubicBezTo>
                  <a:pt x="230" y="1189"/>
                  <a:pt x="235" y="1209"/>
                  <a:pt x="240" y="1229"/>
                </a:cubicBezTo>
                <a:cubicBezTo>
                  <a:pt x="245" y="1248"/>
                  <a:pt x="250" y="1267"/>
                  <a:pt x="255" y="1286"/>
                </a:cubicBezTo>
                <a:cubicBezTo>
                  <a:pt x="260" y="1305"/>
                  <a:pt x="265" y="1324"/>
                  <a:pt x="270" y="1342"/>
                </a:cubicBezTo>
                <a:cubicBezTo>
                  <a:pt x="275" y="1360"/>
                  <a:pt x="280" y="1377"/>
                  <a:pt x="285" y="1395"/>
                </a:cubicBezTo>
                <a:cubicBezTo>
                  <a:pt x="290" y="1412"/>
                  <a:pt x="295" y="1429"/>
                  <a:pt x="300" y="1446"/>
                </a:cubicBezTo>
                <a:cubicBezTo>
                  <a:pt x="305" y="1462"/>
                  <a:pt x="310" y="1479"/>
                  <a:pt x="315" y="1495"/>
                </a:cubicBezTo>
                <a:cubicBezTo>
                  <a:pt x="320" y="1510"/>
                  <a:pt x="325" y="1526"/>
                  <a:pt x="330" y="1541"/>
                </a:cubicBezTo>
                <a:cubicBezTo>
                  <a:pt x="335" y="1556"/>
                  <a:pt x="340" y="1571"/>
                  <a:pt x="345" y="1585"/>
                </a:cubicBezTo>
                <a:cubicBezTo>
                  <a:pt x="350" y="1599"/>
                  <a:pt x="355" y="1613"/>
                  <a:pt x="360" y="1627"/>
                </a:cubicBezTo>
                <a:cubicBezTo>
                  <a:pt x="365" y="1641"/>
                  <a:pt x="370" y="1654"/>
                  <a:pt x="375" y="1667"/>
                </a:cubicBezTo>
                <a:cubicBezTo>
                  <a:pt x="380" y="1679"/>
                  <a:pt x="385" y="1692"/>
                  <a:pt x="390" y="1704"/>
                </a:cubicBezTo>
                <a:cubicBezTo>
                  <a:pt x="395" y="1716"/>
                  <a:pt x="400" y="1728"/>
                  <a:pt x="405" y="1739"/>
                </a:cubicBezTo>
                <a:cubicBezTo>
                  <a:pt x="410" y="1751"/>
                  <a:pt x="415" y="1762"/>
                  <a:pt x="420" y="1772"/>
                </a:cubicBezTo>
                <a:cubicBezTo>
                  <a:pt x="425" y="1783"/>
                  <a:pt x="430" y="1793"/>
                  <a:pt x="435" y="1803"/>
                </a:cubicBezTo>
                <a:cubicBezTo>
                  <a:pt x="440" y="1813"/>
                  <a:pt x="445" y="1822"/>
                  <a:pt x="450" y="1831"/>
                </a:cubicBezTo>
                <a:cubicBezTo>
                  <a:pt x="455" y="1840"/>
                  <a:pt x="460" y="1849"/>
                  <a:pt x="465" y="1858"/>
                </a:cubicBezTo>
                <a:cubicBezTo>
                  <a:pt x="470" y="1866"/>
                  <a:pt x="475" y="1874"/>
                  <a:pt x="480" y="1881"/>
                </a:cubicBezTo>
                <a:cubicBezTo>
                  <a:pt x="485" y="1889"/>
                  <a:pt x="490" y="1896"/>
                  <a:pt x="495" y="1903"/>
                </a:cubicBezTo>
                <a:cubicBezTo>
                  <a:pt x="500" y="1910"/>
                  <a:pt x="505" y="1916"/>
                  <a:pt x="510" y="1923"/>
                </a:cubicBezTo>
                <a:cubicBezTo>
                  <a:pt x="515" y="1929"/>
                  <a:pt x="520" y="1934"/>
                  <a:pt x="525" y="1940"/>
                </a:cubicBezTo>
                <a:cubicBezTo>
                  <a:pt x="530" y="1945"/>
                  <a:pt x="535" y="1950"/>
                  <a:pt x="540" y="1955"/>
                </a:cubicBezTo>
                <a:cubicBezTo>
                  <a:pt x="545" y="1959"/>
                  <a:pt x="550" y="1963"/>
                  <a:pt x="555" y="1967"/>
                </a:cubicBezTo>
                <a:cubicBezTo>
                  <a:pt x="560" y="1971"/>
                  <a:pt x="565" y="1975"/>
                  <a:pt x="570" y="1978"/>
                </a:cubicBezTo>
                <a:cubicBezTo>
                  <a:pt x="575" y="1981"/>
                  <a:pt x="580" y="1983"/>
                  <a:pt x="585" y="1986"/>
                </a:cubicBezTo>
                <a:cubicBezTo>
                  <a:pt x="590" y="1988"/>
                  <a:pt x="595" y="1990"/>
                  <a:pt x="600" y="1992"/>
                </a:cubicBezTo>
                <a:cubicBezTo>
                  <a:pt x="605" y="1993"/>
                  <a:pt x="610" y="1995"/>
                  <a:pt x="615" y="1996"/>
                </a:cubicBezTo>
                <a:cubicBezTo>
                  <a:pt x="620" y="1996"/>
                  <a:pt x="625" y="1997"/>
                  <a:pt x="630" y="1997"/>
                </a:cubicBezTo>
                <a:cubicBezTo>
                  <a:pt x="635" y="1997"/>
                  <a:pt x="640" y="1997"/>
                  <a:pt x="645" y="1996"/>
                </a:cubicBezTo>
                <a:cubicBezTo>
                  <a:pt x="650" y="1995"/>
                  <a:pt x="655" y="1994"/>
                  <a:pt x="660" y="1993"/>
                </a:cubicBezTo>
                <a:cubicBezTo>
                  <a:pt x="665" y="1992"/>
                  <a:pt x="670" y="1990"/>
                  <a:pt x="675" y="1988"/>
                </a:cubicBezTo>
                <a:cubicBezTo>
                  <a:pt x="680" y="1985"/>
                  <a:pt x="685" y="1983"/>
                  <a:pt x="690" y="1980"/>
                </a:cubicBezTo>
                <a:cubicBezTo>
                  <a:pt x="695" y="1977"/>
                  <a:pt x="700" y="1974"/>
                  <a:pt x="705" y="1970"/>
                </a:cubicBezTo>
                <a:cubicBezTo>
                  <a:pt x="710" y="1967"/>
                  <a:pt x="715" y="1963"/>
                  <a:pt x="720" y="1958"/>
                </a:cubicBezTo>
                <a:cubicBezTo>
                  <a:pt x="725" y="1954"/>
                  <a:pt x="730" y="1949"/>
                  <a:pt x="735" y="1944"/>
                </a:cubicBezTo>
                <a:cubicBezTo>
                  <a:pt x="740" y="1939"/>
                  <a:pt x="745" y="1933"/>
                  <a:pt x="750" y="1927"/>
                </a:cubicBezTo>
                <a:cubicBezTo>
                  <a:pt x="755" y="1921"/>
                  <a:pt x="760" y="1915"/>
                  <a:pt x="765" y="1909"/>
                </a:cubicBezTo>
                <a:cubicBezTo>
                  <a:pt x="770" y="1902"/>
                  <a:pt x="775" y="1895"/>
                  <a:pt x="780" y="1887"/>
                </a:cubicBezTo>
                <a:cubicBezTo>
                  <a:pt x="785" y="1880"/>
                  <a:pt x="790" y="1872"/>
                  <a:pt x="795" y="1864"/>
                </a:cubicBezTo>
                <a:cubicBezTo>
                  <a:pt x="800" y="1856"/>
                  <a:pt x="805" y="1847"/>
                  <a:pt x="810" y="1839"/>
                </a:cubicBezTo>
                <a:cubicBezTo>
                  <a:pt x="815" y="1830"/>
                  <a:pt x="820" y="1820"/>
                  <a:pt x="825" y="1811"/>
                </a:cubicBezTo>
                <a:cubicBezTo>
                  <a:pt x="830" y="1801"/>
                  <a:pt x="835" y="1791"/>
                  <a:pt x="840" y="1781"/>
                </a:cubicBezTo>
                <a:cubicBezTo>
                  <a:pt x="845" y="1770"/>
                  <a:pt x="850" y="1759"/>
                  <a:pt x="855" y="1748"/>
                </a:cubicBezTo>
                <a:cubicBezTo>
                  <a:pt x="860" y="1737"/>
                  <a:pt x="865" y="1726"/>
                  <a:pt x="870" y="1714"/>
                </a:cubicBezTo>
                <a:cubicBezTo>
                  <a:pt x="875" y="1702"/>
                  <a:pt x="880" y="1689"/>
                  <a:pt x="885" y="1677"/>
                </a:cubicBezTo>
                <a:cubicBezTo>
                  <a:pt x="890" y="1664"/>
                  <a:pt x="895" y="1651"/>
                  <a:pt x="900" y="1638"/>
                </a:cubicBezTo>
                <a:cubicBezTo>
                  <a:pt x="905" y="1624"/>
                  <a:pt x="910" y="1611"/>
                  <a:pt x="915" y="1597"/>
                </a:cubicBezTo>
                <a:cubicBezTo>
                  <a:pt x="920" y="1582"/>
                  <a:pt x="925" y="1568"/>
                  <a:pt x="930" y="1553"/>
                </a:cubicBezTo>
                <a:cubicBezTo>
                  <a:pt x="935" y="1538"/>
                  <a:pt x="940" y="1523"/>
                  <a:pt x="945" y="1507"/>
                </a:cubicBezTo>
                <a:cubicBezTo>
                  <a:pt x="950" y="1491"/>
                  <a:pt x="955" y="1475"/>
                  <a:pt x="960" y="1459"/>
                </a:cubicBezTo>
                <a:cubicBezTo>
                  <a:pt x="965" y="1443"/>
                  <a:pt x="970" y="1426"/>
                  <a:pt x="975" y="1409"/>
                </a:cubicBezTo>
                <a:cubicBezTo>
                  <a:pt x="980" y="1391"/>
                  <a:pt x="985" y="1374"/>
                  <a:pt x="990" y="1356"/>
                </a:cubicBezTo>
                <a:cubicBezTo>
                  <a:pt x="995" y="1338"/>
                  <a:pt x="1000" y="1320"/>
                  <a:pt x="1005" y="1301"/>
                </a:cubicBezTo>
                <a:cubicBezTo>
                  <a:pt x="1010" y="1283"/>
                  <a:pt x="1015" y="1264"/>
                  <a:pt x="1020" y="1244"/>
                </a:cubicBezTo>
                <a:cubicBezTo>
                  <a:pt x="1025" y="1225"/>
                  <a:pt x="1030" y="1205"/>
                  <a:pt x="1035" y="1185"/>
                </a:cubicBezTo>
                <a:cubicBezTo>
                  <a:pt x="1040" y="1165"/>
                  <a:pt x="1045" y="1144"/>
                  <a:pt x="1050" y="1123"/>
                </a:cubicBezTo>
                <a:cubicBezTo>
                  <a:pt x="1055" y="1102"/>
                  <a:pt x="1060" y="1081"/>
                  <a:pt x="1065" y="1060"/>
                </a:cubicBezTo>
                <a:cubicBezTo>
                  <a:pt x="1070" y="1038"/>
                  <a:pt x="1075" y="1016"/>
                  <a:pt x="1080" y="993"/>
                </a:cubicBezTo>
                <a:cubicBezTo>
                  <a:pt x="1085" y="971"/>
                  <a:pt x="1090" y="948"/>
                  <a:pt x="1095" y="925"/>
                </a:cubicBezTo>
                <a:cubicBezTo>
                  <a:pt x="1100" y="902"/>
                  <a:pt x="1105" y="878"/>
                  <a:pt x="1110" y="855"/>
                </a:cubicBezTo>
                <a:cubicBezTo>
                  <a:pt x="1115" y="831"/>
                  <a:pt x="1120" y="806"/>
                  <a:pt x="1125" y="782"/>
                </a:cubicBezTo>
                <a:cubicBezTo>
                  <a:pt x="1130" y="757"/>
                  <a:pt x="1135" y="732"/>
                  <a:pt x="1140" y="707"/>
                </a:cubicBezTo>
                <a:cubicBezTo>
                  <a:pt x="1145" y="681"/>
                  <a:pt x="1150" y="655"/>
                  <a:pt x="1155" y="629"/>
                </a:cubicBezTo>
                <a:cubicBezTo>
                  <a:pt x="1160" y="603"/>
                  <a:pt x="1165" y="577"/>
                  <a:pt x="1170" y="550"/>
                </a:cubicBezTo>
                <a:cubicBezTo>
                  <a:pt x="1175" y="523"/>
                  <a:pt x="1180" y="495"/>
                  <a:pt x="1185" y="468"/>
                </a:cubicBezTo>
                <a:cubicBezTo>
                  <a:pt x="1190" y="440"/>
                  <a:pt x="1195" y="412"/>
                  <a:pt x="1200" y="384"/>
                </a:cubicBezTo>
                <a:cubicBezTo>
                  <a:pt x="1205" y="355"/>
                  <a:pt x="1210" y="327"/>
                  <a:pt x="1215" y="298"/>
                </a:cubicBezTo>
                <a:cubicBezTo>
                  <a:pt x="1220" y="268"/>
                  <a:pt x="1225" y="239"/>
                  <a:pt x="1230" y="209"/>
                </a:cubicBezTo>
                <a:cubicBezTo>
                  <a:pt x="1235" y="179"/>
                  <a:pt x="1240" y="149"/>
                  <a:pt x="1245" y="118"/>
                </a:cubicBezTo>
                <a:cubicBezTo>
                  <a:pt x="1250" y="87"/>
                  <a:pt x="1255" y="56"/>
                  <a:pt x="1260" y="25"/>
                </a:cubicBezTo>
                <a:cubicBezTo>
                  <a:pt x="1264" y="0"/>
                  <a:pt x="1264" y="0"/>
                  <a:pt x="1264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99360" y="340848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有唯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76720" y="3733920"/>
                <a:ext cx="12952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659640" y="3573360"/>
            <a:ext cx="22860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个相等的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667640" y="4149720"/>
                <a:ext cx="7779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15800" y="378792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ac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105520" y="4952880"/>
            <a:ext cx="1441440" cy="1752120"/>
            <a:chOff x="5105520" y="4952880"/>
            <a:chExt cx="1441440" cy="1752120"/>
          </a:xfrm>
        </p:grpSpPr>
        <p:sp>
          <p:nvSpPr>
            <p:cNvPr id="145" name=""/>
            <p:cNvSpPr/>
            <p:nvPr/>
          </p:nvSpPr>
          <p:spPr>
            <a:xfrm>
              <a:off x="6174000" y="60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37400" y="495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4520" y="5790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05520" y="609588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67280" y="510480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平面几何--抛物线1"/>
          <p:cNvSpPr/>
          <p:nvPr/>
        </p:nvSpPr>
        <p:spPr>
          <a:xfrm>
            <a:off x="4952880" y="4978440"/>
            <a:ext cx="879480" cy="965160"/>
          </a:xfrm>
          <a:custGeom>
            <a:avLst/>
            <a:gdLst/>
            <a:ahLst/>
            <a:rect l="l" t="t" r="r" b="b"/>
            <a:pathLst>
              <a:path w="1265" h="1998">
                <a:moveTo>
                  <a:pt x="0" y="0"/>
                </a:moveTo>
                <a:cubicBezTo>
                  <a:pt x="5" y="31"/>
                  <a:pt x="10" y="63"/>
                  <a:pt x="15" y="94"/>
                </a:cubicBezTo>
                <a:cubicBezTo>
                  <a:pt x="20" y="124"/>
                  <a:pt x="25" y="155"/>
                  <a:pt x="30" y="185"/>
                </a:cubicBezTo>
                <a:cubicBezTo>
                  <a:pt x="35" y="215"/>
                  <a:pt x="40" y="245"/>
                  <a:pt x="45" y="274"/>
                </a:cubicBezTo>
                <a:cubicBezTo>
                  <a:pt x="50" y="303"/>
                  <a:pt x="55" y="332"/>
                  <a:pt x="60" y="361"/>
                </a:cubicBezTo>
                <a:cubicBezTo>
                  <a:pt x="65" y="390"/>
                  <a:pt x="70" y="418"/>
                  <a:pt x="75" y="446"/>
                </a:cubicBezTo>
                <a:cubicBezTo>
                  <a:pt x="80" y="473"/>
                  <a:pt x="85" y="501"/>
                  <a:pt x="90" y="528"/>
                </a:cubicBezTo>
                <a:cubicBezTo>
                  <a:pt x="95" y="555"/>
                  <a:pt x="100" y="582"/>
                  <a:pt x="105" y="608"/>
                </a:cubicBezTo>
                <a:cubicBezTo>
                  <a:pt x="110" y="635"/>
                  <a:pt x="115" y="661"/>
                  <a:pt x="120" y="686"/>
                </a:cubicBezTo>
                <a:cubicBezTo>
                  <a:pt x="125" y="712"/>
                  <a:pt x="130" y="737"/>
                  <a:pt x="135" y="762"/>
                </a:cubicBezTo>
                <a:cubicBezTo>
                  <a:pt x="140" y="787"/>
                  <a:pt x="145" y="811"/>
                  <a:pt x="150" y="835"/>
                </a:cubicBezTo>
                <a:cubicBezTo>
                  <a:pt x="155" y="859"/>
                  <a:pt x="160" y="883"/>
                  <a:pt x="165" y="907"/>
                </a:cubicBezTo>
                <a:cubicBezTo>
                  <a:pt x="170" y="930"/>
                  <a:pt x="175" y="953"/>
                  <a:pt x="180" y="975"/>
                </a:cubicBezTo>
                <a:cubicBezTo>
                  <a:pt x="185" y="998"/>
                  <a:pt x="190" y="1020"/>
                  <a:pt x="195" y="1042"/>
                </a:cubicBezTo>
                <a:cubicBezTo>
                  <a:pt x="200" y="1064"/>
                  <a:pt x="205" y="1085"/>
                  <a:pt x="210" y="1107"/>
                </a:cubicBezTo>
                <a:cubicBezTo>
                  <a:pt x="215" y="1128"/>
                  <a:pt x="220" y="1148"/>
                  <a:pt x="225" y="1169"/>
                </a:cubicBezTo>
                <a:cubicBezTo>
                  <a:pt x="230" y="1189"/>
                  <a:pt x="235" y="1209"/>
                  <a:pt x="240" y="1229"/>
                </a:cubicBezTo>
                <a:cubicBezTo>
                  <a:pt x="245" y="1248"/>
                  <a:pt x="250" y="1267"/>
                  <a:pt x="255" y="1286"/>
                </a:cubicBezTo>
                <a:cubicBezTo>
                  <a:pt x="260" y="1305"/>
                  <a:pt x="265" y="1324"/>
                  <a:pt x="270" y="1342"/>
                </a:cubicBezTo>
                <a:cubicBezTo>
                  <a:pt x="275" y="1360"/>
                  <a:pt x="280" y="1377"/>
                  <a:pt x="285" y="1395"/>
                </a:cubicBezTo>
                <a:cubicBezTo>
                  <a:pt x="290" y="1412"/>
                  <a:pt x="295" y="1429"/>
                  <a:pt x="300" y="1446"/>
                </a:cubicBezTo>
                <a:cubicBezTo>
                  <a:pt x="305" y="1462"/>
                  <a:pt x="310" y="1479"/>
                  <a:pt x="315" y="1495"/>
                </a:cubicBezTo>
                <a:cubicBezTo>
                  <a:pt x="320" y="1510"/>
                  <a:pt x="325" y="1526"/>
                  <a:pt x="330" y="1541"/>
                </a:cubicBezTo>
                <a:cubicBezTo>
                  <a:pt x="335" y="1556"/>
                  <a:pt x="340" y="1571"/>
                  <a:pt x="345" y="1585"/>
                </a:cubicBezTo>
                <a:cubicBezTo>
                  <a:pt x="350" y="1599"/>
                  <a:pt x="355" y="1613"/>
                  <a:pt x="360" y="1627"/>
                </a:cubicBezTo>
                <a:cubicBezTo>
                  <a:pt x="365" y="1641"/>
                  <a:pt x="370" y="1654"/>
                  <a:pt x="375" y="1667"/>
                </a:cubicBezTo>
                <a:cubicBezTo>
                  <a:pt x="380" y="1679"/>
                  <a:pt x="385" y="1692"/>
                  <a:pt x="390" y="1704"/>
                </a:cubicBezTo>
                <a:cubicBezTo>
                  <a:pt x="395" y="1716"/>
                  <a:pt x="400" y="1728"/>
                  <a:pt x="405" y="1739"/>
                </a:cubicBezTo>
                <a:cubicBezTo>
                  <a:pt x="410" y="1751"/>
                  <a:pt x="415" y="1762"/>
                  <a:pt x="420" y="1772"/>
                </a:cubicBezTo>
                <a:cubicBezTo>
                  <a:pt x="425" y="1783"/>
                  <a:pt x="430" y="1793"/>
                  <a:pt x="435" y="1803"/>
                </a:cubicBezTo>
                <a:cubicBezTo>
                  <a:pt x="440" y="1813"/>
                  <a:pt x="445" y="1822"/>
                  <a:pt x="450" y="1831"/>
                </a:cubicBezTo>
                <a:cubicBezTo>
                  <a:pt x="455" y="1840"/>
                  <a:pt x="460" y="1849"/>
                  <a:pt x="465" y="1858"/>
                </a:cubicBezTo>
                <a:cubicBezTo>
                  <a:pt x="470" y="1866"/>
                  <a:pt x="475" y="1874"/>
                  <a:pt x="480" y="1881"/>
                </a:cubicBezTo>
                <a:cubicBezTo>
                  <a:pt x="485" y="1889"/>
                  <a:pt x="490" y="1896"/>
                  <a:pt x="495" y="1903"/>
                </a:cubicBezTo>
                <a:cubicBezTo>
                  <a:pt x="500" y="1910"/>
                  <a:pt x="505" y="1916"/>
                  <a:pt x="510" y="1923"/>
                </a:cubicBezTo>
                <a:cubicBezTo>
                  <a:pt x="515" y="1929"/>
                  <a:pt x="520" y="1934"/>
                  <a:pt x="525" y="1940"/>
                </a:cubicBezTo>
                <a:cubicBezTo>
                  <a:pt x="530" y="1945"/>
                  <a:pt x="535" y="1950"/>
                  <a:pt x="540" y="1955"/>
                </a:cubicBezTo>
                <a:cubicBezTo>
                  <a:pt x="545" y="1959"/>
                  <a:pt x="550" y="1963"/>
                  <a:pt x="555" y="1967"/>
                </a:cubicBezTo>
                <a:cubicBezTo>
                  <a:pt x="560" y="1971"/>
                  <a:pt x="565" y="1975"/>
                  <a:pt x="570" y="1978"/>
                </a:cubicBezTo>
                <a:cubicBezTo>
                  <a:pt x="575" y="1981"/>
                  <a:pt x="580" y="1983"/>
                  <a:pt x="585" y="1986"/>
                </a:cubicBezTo>
                <a:cubicBezTo>
                  <a:pt x="590" y="1988"/>
                  <a:pt x="595" y="1990"/>
                  <a:pt x="600" y="1992"/>
                </a:cubicBezTo>
                <a:cubicBezTo>
                  <a:pt x="605" y="1993"/>
                  <a:pt x="610" y="1995"/>
                  <a:pt x="615" y="1996"/>
                </a:cubicBezTo>
                <a:cubicBezTo>
                  <a:pt x="620" y="1996"/>
                  <a:pt x="625" y="1997"/>
                  <a:pt x="630" y="1997"/>
                </a:cubicBezTo>
                <a:cubicBezTo>
                  <a:pt x="635" y="1997"/>
                  <a:pt x="640" y="1997"/>
                  <a:pt x="645" y="1996"/>
                </a:cubicBezTo>
                <a:cubicBezTo>
                  <a:pt x="650" y="1995"/>
                  <a:pt x="655" y="1994"/>
                  <a:pt x="660" y="1993"/>
                </a:cubicBezTo>
                <a:cubicBezTo>
                  <a:pt x="665" y="1992"/>
                  <a:pt x="670" y="1990"/>
                  <a:pt x="675" y="1988"/>
                </a:cubicBezTo>
                <a:cubicBezTo>
                  <a:pt x="680" y="1985"/>
                  <a:pt x="685" y="1983"/>
                  <a:pt x="690" y="1980"/>
                </a:cubicBezTo>
                <a:cubicBezTo>
                  <a:pt x="695" y="1977"/>
                  <a:pt x="700" y="1974"/>
                  <a:pt x="705" y="1970"/>
                </a:cubicBezTo>
                <a:cubicBezTo>
                  <a:pt x="710" y="1967"/>
                  <a:pt x="715" y="1963"/>
                  <a:pt x="720" y="1958"/>
                </a:cubicBezTo>
                <a:cubicBezTo>
                  <a:pt x="725" y="1954"/>
                  <a:pt x="730" y="1949"/>
                  <a:pt x="735" y="1944"/>
                </a:cubicBezTo>
                <a:cubicBezTo>
                  <a:pt x="740" y="1939"/>
                  <a:pt x="745" y="1933"/>
                  <a:pt x="750" y="1927"/>
                </a:cubicBezTo>
                <a:cubicBezTo>
                  <a:pt x="755" y="1921"/>
                  <a:pt x="760" y="1915"/>
                  <a:pt x="765" y="1909"/>
                </a:cubicBezTo>
                <a:cubicBezTo>
                  <a:pt x="770" y="1902"/>
                  <a:pt x="775" y="1895"/>
                  <a:pt x="780" y="1887"/>
                </a:cubicBezTo>
                <a:cubicBezTo>
                  <a:pt x="785" y="1880"/>
                  <a:pt x="790" y="1872"/>
                  <a:pt x="795" y="1864"/>
                </a:cubicBezTo>
                <a:cubicBezTo>
                  <a:pt x="800" y="1856"/>
                  <a:pt x="805" y="1847"/>
                  <a:pt x="810" y="1839"/>
                </a:cubicBezTo>
                <a:cubicBezTo>
                  <a:pt x="815" y="1830"/>
                  <a:pt x="820" y="1820"/>
                  <a:pt x="825" y="1811"/>
                </a:cubicBezTo>
                <a:cubicBezTo>
                  <a:pt x="830" y="1801"/>
                  <a:pt x="835" y="1791"/>
                  <a:pt x="840" y="1781"/>
                </a:cubicBezTo>
                <a:cubicBezTo>
                  <a:pt x="845" y="1770"/>
                  <a:pt x="850" y="1759"/>
                  <a:pt x="855" y="1748"/>
                </a:cubicBezTo>
                <a:cubicBezTo>
                  <a:pt x="860" y="1737"/>
                  <a:pt x="865" y="1726"/>
                  <a:pt x="870" y="1714"/>
                </a:cubicBezTo>
                <a:cubicBezTo>
                  <a:pt x="875" y="1702"/>
                  <a:pt x="880" y="1689"/>
                  <a:pt x="885" y="1677"/>
                </a:cubicBezTo>
                <a:cubicBezTo>
                  <a:pt x="890" y="1664"/>
                  <a:pt x="895" y="1651"/>
                  <a:pt x="900" y="1638"/>
                </a:cubicBezTo>
                <a:cubicBezTo>
                  <a:pt x="905" y="1624"/>
                  <a:pt x="910" y="1611"/>
                  <a:pt x="915" y="1597"/>
                </a:cubicBezTo>
                <a:cubicBezTo>
                  <a:pt x="920" y="1582"/>
                  <a:pt x="925" y="1568"/>
                  <a:pt x="930" y="1553"/>
                </a:cubicBezTo>
                <a:cubicBezTo>
                  <a:pt x="935" y="1538"/>
                  <a:pt x="940" y="1523"/>
                  <a:pt x="945" y="1507"/>
                </a:cubicBezTo>
                <a:cubicBezTo>
                  <a:pt x="950" y="1491"/>
                  <a:pt x="955" y="1475"/>
                  <a:pt x="960" y="1459"/>
                </a:cubicBezTo>
                <a:cubicBezTo>
                  <a:pt x="965" y="1443"/>
                  <a:pt x="970" y="1426"/>
                  <a:pt x="975" y="1409"/>
                </a:cubicBezTo>
                <a:cubicBezTo>
                  <a:pt x="980" y="1391"/>
                  <a:pt x="985" y="1374"/>
                  <a:pt x="990" y="1356"/>
                </a:cubicBezTo>
                <a:cubicBezTo>
                  <a:pt x="995" y="1338"/>
                  <a:pt x="1000" y="1320"/>
                  <a:pt x="1005" y="1301"/>
                </a:cubicBezTo>
                <a:cubicBezTo>
                  <a:pt x="1010" y="1283"/>
                  <a:pt x="1015" y="1264"/>
                  <a:pt x="1020" y="1244"/>
                </a:cubicBezTo>
                <a:cubicBezTo>
                  <a:pt x="1025" y="1225"/>
                  <a:pt x="1030" y="1205"/>
                  <a:pt x="1035" y="1185"/>
                </a:cubicBezTo>
                <a:cubicBezTo>
                  <a:pt x="1040" y="1165"/>
                  <a:pt x="1045" y="1144"/>
                  <a:pt x="1050" y="1123"/>
                </a:cubicBezTo>
                <a:cubicBezTo>
                  <a:pt x="1055" y="1102"/>
                  <a:pt x="1060" y="1081"/>
                  <a:pt x="1065" y="1060"/>
                </a:cubicBezTo>
                <a:cubicBezTo>
                  <a:pt x="1070" y="1038"/>
                  <a:pt x="1075" y="1016"/>
                  <a:pt x="1080" y="993"/>
                </a:cubicBezTo>
                <a:cubicBezTo>
                  <a:pt x="1085" y="971"/>
                  <a:pt x="1090" y="948"/>
                  <a:pt x="1095" y="925"/>
                </a:cubicBezTo>
                <a:cubicBezTo>
                  <a:pt x="1100" y="902"/>
                  <a:pt x="1105" y="878"/>
                  <a:pt x="1110" y="855"/>
                </a:cubicBezTo>
                <a:cubicBezTo>
                  <a:pt x="1115" y="831"/>
                  <a:pt x="1120" y="806"/>
                  <a:pt x="1125" y="782"/>
                </a:cubicBezTo>
                <a:cubicBezTo>
                  <a:pt x="1130" y="757"/>
                  <a:pt x="1135" y="732"/>
                  <a:pt x="1140" y="707"/>
                </a:cubicBezTo>
                <a:cubicBezTo>
                  <a:pt x="1145" y="681"/>
                  <a:pt x="1150" y="655"/>
                  <a:pt x="1155" y="629"/>
                </a:cubicBezTo>
                <a:cubicBezTo>
                  <a:pt x="1160" y="603"/>
                  <a:pt x="1165" y="577"/>
                  <a:pt x="1170" y="550"/>
                </a:cubicBezTo>
                <a:cubicBezTo>
                  <a:pt x="1175" y="523"/>
                  <a:pt x="1180" y="495"/>
                  <a:pt x="1185" y="468"/>
                </a:cubicBezTo>
                <a:cubicBezTo>
                  <a:pt x="1190" y="440"/>
                  <a:pt x="1195" y="412"/>
                  <a:pt x="1200" y="384"/>
                </a:cubicBezTo>
                <a:cubicBezTo>
                  <a:pt x="1205" y="355"/>
                  <a:pt x="1210" y="327"/>
                  <a:pt x="1215" y="298"/>
                </a:cubicBezTo>
                <a:cubicBezTo>
                  <a:pt x="1220" y="268"/>
                  <a:pt x="1225" y="239"/>
                  <a:pt x="1230" y="209"/>
                </a:cubicBezTo>
                <a:cubicBezTo>
                  <a:pt x="1235" y="179"/>
                  <a:pt x="1240" y="149"/>
                  <a:pt x="1245" y="118"/>
                </a:cubicBezTo>
                <a:cubicBezTo>
                  <a:pt x="1250" y="87"/>
                  <a:pt x="1255" y="56"/>
                  <a:pt x="1260" y="25"/>
                </a:cubicBezTo>
                <a:cubicBezTo>
                  <a:pt x="1264" y="0"/>
                  <a:pt x="1264" y="0"/>
                  <a:pt x="1264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51840" y="500868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实数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410080"/>
            <a:ext cx="20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a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1:44:12Z</dcterms:created>
  <dc:creator>乐中强</dc:creator>
  <dc:description/>
  <dc:language>en-US</dc:language>
  <cp:lastModifiedBy>Sky123.Org</cp:lastModifiedBy>
  <dcterms:modified xsi:type="dcterms:W3CDTF">2010-11-18T12:17:39Z</dcterms:modified>
  <cp:revision>12</cp:revision>
  <dc:subject/>
  <dc:title>26.2用函数的观点看一二次元方程</dc:title>
</cp:coreProperties>
</file>